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9.png" ContentType="image/png"/>
  <Override PartName="/ppt/media/image34.png" ContentType="image/png"/>
  <Override PartName="/ppt/media/image12.png" ContentType="image/png"/>
  <Override PartName="/ppt/media/image13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33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D6DE-6C18-4883-8F3A-6A811903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DE31-DE09-433D-9313-5B45691F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25AF7-7B5D-47A4-AA5E-5754096D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C2281-F88E-43CF-BC95-DB1641E0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E0486-152B-4AF1-9BFC-BA21E4F8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38504-AD39-47D8-A75B-6C1A8C1C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FC7F3-EFBA-475A-97BF-6A3DC6D3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588C0-E1A1-4083-889D-33533F59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D50F4-546E-4F98-BD0C-AF9F97B1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A5BB8-FDC2-4507-9C77-85B9FFED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4B685-83F9-4073-9B96-BAB539A6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61F9B-69CE-4B64-A94E-AD799D51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B53D-FA2C-47AB-B13A-4641EE42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18B46-DEA9-41D9-9485-FB8ABC04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0F231-E9F5-4D56-90CE-E67EAA64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31711-5876-49B8-9EC2-3EFB3506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E3A1A-483E-49B0-8217-2D3DED13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E3C78-78C3-4517-8D7E-5CD5E951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0BCBE-2CE1-4BCC-9475-4E5EFB47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A8717-F2FF-41C5-B3BA-8E9F7047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CB300-D4F3-4598-B7F6-C240C7DC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29F98-E5F9-4B34-B39E-F10E0156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1A96C-6B19-4AEA-A11D-EE57EB85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841D-8032-436B-A906-9DBA34E7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9D787-35CE-444E-A772-B5A662C2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D0146-00C7-4AE4-8A7F-2E111531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AD141-7A4E-47DE-9D5E-F615DDCA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18E74-CF48-4050-9437-F5651A6E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0BD03-EF47-4839-94B3-96EC2D5B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0A3D2-7B8E-4B93-BF6D-82037248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E22B4-CFE5-4964-AFE7-F769BA5F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A9B3E-7E4D-4896-97D8-3D1D38C8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812E9-0CFD-4102-A8EE-0278D95A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FEC6F-C8F1-4406-85A3-0925006D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33D2-CCAD-4B0D-B25E-27A7986B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EBF46-48A5-442F-ADD6-F844C4D6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51295-EA02-4FA6-A709-2AA0E4EE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782D1-70AB-4B1B-A7C5-F0B24976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88866-9B8E-4AAA-B3DF-E94CBC8F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73423-37E5-4F47-99AB-32A95779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A8D6E-61FA-4DA8-996F-00D3C158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0AA64-D994-4854-AD6B-8D60F8E7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98F8E-8F84-4091-B084-4EE8F8D1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92466-FE70-4CA2-A045-072B9960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083F6-0C3E-4115-ADC8-08541D0A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45AC-AC9E-447B-B78E-CD2DA194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F71D2-D015-44F6-8FA4-2643C143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D426F-3042-4C60-BC9A-50F31C56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2BF7B-C2B0-4DC9-91F4-E33C0BFC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8EB24-A165-44B7-A124-FBD0F302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4CD73-8C04-4179-B152-E889A1E7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257432-9A46-4921-92F9-80CBCB14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A2A3D-2C25-4A20-B28B-4997BCF7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F4BE4D-D5E8-4EB7-B245-70C7C6DC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1F223-2F93-4762-96F1-39DA57A6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E950E2-55C4-45F9-97A8-706C92FC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7287-2383-4287-B8EF-893011BB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E55E6-F478-4D4A-8B65-4066F567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2B338-91F3-48C9-9BDB-A256FAAD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D5BD5F-D058-4D3F-995F-B8B24D39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8A2FF-C674-426E-98AA-A1AD3702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4FBC3B-EDDC-43C2-8DF5-5D089BE8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A4953-4D6E-4E79-BA48-14EF1C34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97CE50-1FD1-4CD8-B6C0-BFC734AA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3CFEF8-5068-439F-873B-0D74BE96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81D2C7-3FEC-43E7-8D14-5CDC3D56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7AD2B8-C7FC-4EE2-9068-2CFE4559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8BD6-1CC6-4968-8A07-4F13FF08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DB1B3A-B4E8-4830-875E-C7623A4E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6EB37-FEBE-4832-B2C9-53C4CFFB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2B4EC-1A98-45C5-BF76-E77FE226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655967-944E-4200-9E9E-2345F9D4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63BFD3-CA36-4014-AE2F-716FCE2A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E08D66-CA88-494E-8136-F415C9BC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B584FB-E890-4B41-976E-519BDAD3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FF1CF6-34AC-4812-8A2A-5D8D845A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73D58-922D-4B3E-83E2-6C124471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195B49-C956-4DCA-92FA-1BDEA715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DBB4-1159-4DE5-9A27-D85C9A7B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699D5A-6F71-48E0-92FC-25E1CFF6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F9E4F1-94F1-447E-A3BB-8FFFE2D8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6552FE-BBA5-43EA-AEA0-EEFF6D6C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7EED5B-46D9-4B60-8ADE-36161CC3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8B9D15-083E-4F3F-B8C3-BBAED3C3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D28D46-307D-47B9-BC72-F6827E33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54B038-B7EE-4F3F-907C-AD09333A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D915B0-AF22-4EEF-A6C2-3A582110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9DF34E-C31E-4CD9-B44C-F37B077E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44C4F2-FC45-4ECD-8476-1148E142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84D4-C328-4051-997F-87F1BD42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C3D311-5B5B-49AD-BCCB-4F3A25BF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A0618D-D64C-4EBA-AD0B-B3478EF6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28BD87-7AC2-49A5-85B5-BA4F2EE8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621F59-0CDB-4455-BBDA-1FD438BD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A3D331-062D-444B-8523-EB8026A0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C20678-E4DF-4B27-81CF-5D522A5D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6D78A-582E-451F-9887-05CB0991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51151B-AA9F-45CE-AD53-082CA3E2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F7F1D8-E0C0-4BDC-A8A4-E9BCE487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A806BE-5077-4B04-8A91-A799AF56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DBC3-1FDD-47CF-8B0D-434B4264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EADC3F-C059-40F5-B299-A2B10419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353046-C306-4610-856A-54E69E7E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62CD49-40A0-4A05-962F-265D7966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BE5A6B-2ADC-4BEB-BE07-BE7FD64B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B641AA-8637-470D-9B77-8C6C1F32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BC87F0-6804-48A2-A2D6-5E6A5796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18F0FF-3CDC-4C96-AA80-D655B44A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996A8F-24D2-4BF4-99F6-3F766AF1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AD1365-DDCE-4F61-970D-126B9D69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C3B74F-809D-4D2E-B624-55073793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622C-9F57-49D7-979F-FDAD0D9B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60D0-A333-493E-94FE-8F9B8199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4ED7C5-BB84-416E-A367-B28E43D3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FB66E4-9716-437E-B836-469630C9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7F3E9C-1F6F-4DC1-A182-76788B86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975676-8D05-485D-8DCF-FF328788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E901CA-087B-4891-A2AB-96D3705B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C813-B5EA-44ED-9C9F-69CA9741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049D-F594-49EE-84D4-970C135E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907F-0F2C-46AA-BEEF-36803B38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4F18-71AB-4C5E-8350-1A6BE93F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70392-B595-4B95-B66D-859F54A9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42325-0051-45C7-973C-56554E58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DC2BC-1C77-45E1-9D99-E73F5CE4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2D84C-CD94-40B0-BB83-9BD660DE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CC9E5-57B3-4635-A7CA-6685F0E4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36FB-5F70-4BFB-A42B-3024C163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E9882-C49F-4392-8209-E15FACBF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9627E-120E-426F-B704-BE881799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ADFC6-8E10-4BF0-9D6D-330B23F5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E8BC2-66EB-424C-BAB2-38F7B777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F2273-2DDB-4141-B6EB-E4D73883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B615B-1D7C-45A8-BB39-738B412D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843B8-8F7F-4204-A559-B03451B5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F279D-983E-41F9-8447-203FB46D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024D7-CF82-4879-A43A-2CE1659C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1B314-D6CD-4514-A63A-B02CEBAA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FD6-1677-4EA3-9C9B-F4CE05DB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ECD3D-3382-4565-8232-232AB154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E825F-4418-4D2B-914A-5715A96D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900D7-5A47-4EA9-87AC-A0A61C4B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B8FBE-1726-42F9-BC99-63EF3026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09862-70C4-471A-AE29-8961D2D9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34DF0-95B9-467E-9871-AFB2C32F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BD26E-5D6E-40F8-BE09-1EC36AAD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8FEA0-65BE-49AD-94D2-FD1319D7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32584-A841-4322-AACF-C44108B5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DBABB-FA01-4884-918F-6565CA3B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7AC-AA5B-4961-A7B0-6AB134D5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AA8D3-E6A5-4F24-A509-2276F2A4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3634E-CA8B-4DDD-9EAD-751E3E64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E0B6A-9659-4129-B334-FCD68063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D1652-77A3-49AD-AF29-8F0DF31A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4ABFB-C4B2-47F5-9C6A-DD2D9B49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B82AB-9F00-4C7C-8C10-65C25001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173A8-53DC-4170-9D77-EA16356C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ED3DC-56A7-4E23-8330-B3EEFCC8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A23DF-21C3-4DE9-8B20-924E4010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08041-1200-4521-B339-690B08BF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E682-5ED3-4760-8B84-3CA8819E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B455F-6FBE-4807-AEF9-E0F4F751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55510-179D-4751-9C9D-23A36885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4DB07-A232-436A-9CCF-66CC6C4D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BD026-8007-4AED-ADB5-A083C487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BCF74-F601-4CE2-994B-323160B9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3F994-7C66-4ED3-B485-A4001BE5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54D82-BC25-469C-B5FF-CDFA3597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ED374-7F9B-4897-BEA2-15220E86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112C9-A6C0-4B51-AAF1-4F109A30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6BBCA-91AB-482B-A97D-A0119660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6C30-FC4C-410D-BAED-B89B90CB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5A970-29C5-4EA0-BEC0-0EC72DC6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0661A-D775-4A75-9022-02A9693F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F8024-C7F4-4192-9A46-793C4107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2A9D4-4FFC-4C96-A5C4-989768DE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FC271-0DEC-4D2A-B28B-41F31DCB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6ABE9-1FC8-480E-A4A3-E94B1474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719BC-7B76-4AD1-81E9-726E0AD0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3237D-286D-49EE-BFD3-0DBB6407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7F8AD-FECC-40A1-871E-B2EAA034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A7779-6F38-48A2-A9B5-0B9BBA68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AE7-8AE6-43B1-9A67-DFBAA270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22ED4-3111-4A28-AAB4-91B1A0BD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A7915-4D49-4423-BFF1-EA4DC38E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04941-3FFD-4925-B481-B4917E9F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4DA81-93BB-4C91-8C82-31B5FE88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425ED-597C-45B1-850F-85065C6F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DC4A1-DC88-4FF8-9095-247E3497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14B53-5ED3-4027-8885-64F79206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6D80F-16D3-42C6-9D15-B54279C7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40C60-7971-4E22-A8B9-0C057856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65706-CFBC-4AEC-AAF6-33FD4D97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1FC8-0130-400B-85F0-1384DDDF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0BE8D-786B-4D0C-9176-D5DD1EBB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DC4BB-0EA3-4B20-B7A2-D6C26B94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6CB5E-FE7C-4500-B9CC-4A7F5E77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574AC-717F-4169-91C8-65D42BC2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52899-8F3A-45A7-84A2-0C304303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0D3A2-E800-4611-8EAA-F3012081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26E0D-CE39-415D-9ABE-72819DB4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687ED-875D-40C5-BAB5-B303F798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6D728-60C1-4E65-837C-D96713AB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94B15-1279-433A-BAC9-2613117E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DD11-BFC1-4036-9FC8-0AF2785FB5F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3622-3B94-478C-83CA-6976D8FB827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F65E-2636-40C0-AA52-D0C249B9450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6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F51A-D269-481E-81B7-161EDFB7CE5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69F3-891F-4288-8FB3-58AB768EECA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0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3526-799F-457F-BBA8-28A9530F9F3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F1FE-A92E-4316-88DB-08190F0CF3D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4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55EE-ACC8-47C4-985D-74C4A53973E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1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3EBB-63A6-432A-99F4-E47BEE85600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4F43-C7BE-47AF-BCCE-F657843E7CA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D163-1F85-4E2E-8D9A-2C86EE84638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4DCA-E9BE-4E80-8EBE-E876F5A62FE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5E04-44F7-4AE6-BECF-D2E9228F741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7039-61C7-4FDB-BFD4-B1AB907B336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C3C1-7825-4B70-8830-C94CCEBABDD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Рисунок 3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Прямоугольник 62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solidFill>
            <a:srgbClr val="f9cfc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5"/>
          <p:cNvSpPr/>
          <p:nvPr/>
        </p:nvSpPr>
        <p:spPr>
          <a:xfrm>
            <a:off x="472680" y="6573960"/>
            <a:ext cx="20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c6d9f1"/>
                </a:solidFill>
                <a:latin typeface="Georgia"/>
              </a:rPr>
              <a:t>Устинова Валентина Иванов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2133-07B9-4DE7-9A64-B31D8F2168B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099C-F1DF-422F-B0BD-B0F2F4861F1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image" Target="../media/image30.png"/><Relationship Id="rId21" Type="http://schemas.openxmlformats.org/officeDocument/2006/relationships/image" Target="../media/image31.png"/><Relationship Id="rId22" Type="http://schemas.openxmlformats.org/officeDocument/2006/relationships/image" Target="../media/image32.png"/><Relationship Id="rId23" Type="http://schemas.openxmlformats.org/officeDocument/2006/relationships/image" Target="../media/image33.png"/><Relationship Id="rId24" Type="http://schemas.openxmlformats.org/officeDocument/2006/relationships/image" Target="../media/image34.png"/><Relationship Id="rId2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TextBox 2"/>
          <p:cNvSpPr/>
          <p:nvPr/>
        </p:nvSpPr>
        <p:spPr>
          <a:xfrm>
            <a:off x="2351520" y="5229360"/>
            <a:ext cx="457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Georgia"/>
              </a:rPr>
              <a:t>  </a:t>
            </a:r>
            <a:r>
              <a:rPr b="1" lang="ru-RU" sz="1600" spc="-1" strike="noStrike">
                <a:solidFill>
                  <a:srgbClr val="0033cc"/>
                </a:solidFill>
                <a:latin typeface="Georgia"/>
              </a:rPr>
              <a:t>Автор: Лубсанова Цыпилма Цыден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Управляющая кнопка: сведения 4">
            <a:hlinkClick r:id="" action="ppaction://hlinkshowjump?jump=lastslide"/>
          </p:cNvPr>
          <p:cNvSpPr/>
          <p:nvPr/>
        </p:nvSpPr>
        <p:spPr>
          <a:xfrm>
            <a:off x="8172360" y="5734080"/>
            <a:ext cx="395280" cy="368280"/>
          </a:xfrm>
          <a:custGeom>
            <a:avLst/>
            <a:gdLst>
              <a:gd name="textAreaLeft" fmla="*/ 23760 w 395280"/>
              <a:gd name="textAreaRight" fmla="*/ 371520 w 39528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3182" h="21600">
                <a:moveTo>
                  <a:pt x="0" y="0"/>
                </a:moveTo>
                <a:lnTo>
                  <a:pt x="23182" y="0"/>
                </a:lnTo>
                <a:lnTo>
                  <a:pt x="23182" y="21600"/>
                </a:lnTo>
                <a:lnTo>
                  <a:pt x="0" y="21600"/>
                </a:lnTo>
                <a:close/>
              </a:path>
              <a:path fill="lightenLess" w="23182" h="21600">
                <a:moveTo>
                  <a:pt x="0" y="0"/>
                </a:moveTo>
                <a:lnTo>
                  <a:pt x="23182" y="0"/>
                </a:lnTo>
                <a:lnTo>
                  <a:pt x="21782" y="1400"/>
                </a:lnTo>
                <a:lnTo>
                  <a:pt x="1400" y="1400"/>
                </a:lnTo>
                <a:close/>
              </a:path>
              <a:path fill="darken" w="23182" h="21600">
                <a:moveTo>
                  <a:pt x="23182" y="0"/>
                </a:moveTo>
                <a:lnTo>
                  <a:pt x="23182" y="21600"/>
                </a:lnTo>
                <a:lnTo>
                  <a:pt x="21782" y="20200"/>
                </a:lnTo>
                <a:lnTo>
                  <a:pt x="21782" y="1400"/>
                </a:lnTo>
                <a:close/>
              </a:path>
              <a:path fill="darkenLess" w="23182" h="21600">
                <a:moveTo>
                  <a:pt x="23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2" y="20200"/>
                </a:lnTo>
                <a:close/>
              </a:path>
              <a:path fill="lighten" w="23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2" h="21600">
                <a:moveTo>
                  <a:pt x="1159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182" h="21600">
                <a:moveTo>
                  <a:pt x="1159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182" h="21600">
                <a:moveTo>
                  <a:pt x="9015" y="8224"/>
                </a:moveTo>
                <a:lnTo>
                  <a:pt x="12879" y="8224"/>
                </a:lnTo>
                <a:lnTo>
                  <a:pt x="12879" y="15221"/>
                </a:lnTo>
                <a:lnTo>
                  <a:pt x="14167" y="15221"/>
                </a:lnTo>
                <a:lnTo>
                  <a:pt x="14167" y="16144"/>
                </a:lnTo>
                <a:lnTo>
                  <a:pt x="9015" y="16144"/>
                </a:lnTo>
                <a:lnTo>
                  <a:pt x="9015" y="15221"/>
                </a:lnTo>
                <a:lnTo>
                  <a:pt x="10303" y="15221"/>
                </a:lnTo>
                <a:lnTo>
                  <a:pt x="10303" y="9129"/>
                </a:lnTo>
                <a:lnTo>
                  <a:pt x="9015" y="9129"/>
                </a:lnTo>
                <a:close/>
              </a:path>
            </a:pathLst>
          </a:cu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8"/>
          <p:cNvSpPr/>
          <p:nvPr/>
        </p:nvSpPr>
        <p:spPr>
          <a:xfrm>
            <a:off x="1258920" y="981000"/>
            <a:ext cx="6553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Georgia"/>
              </a:rPr>
              <a:t>Технологический при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Georgia"/>
              </a:rPr>
              <a:t>«Анимированная сорбон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Georgia"/>
              </a:rPr>
              <a:t>в </a:t>
            </a:r>
            <a:r>
              <a:rPr b="1" lang="en-US" sz="3200" spc="-1" strike="noStrike">
                <a:solidFill>
                  <a:srgbClr val="0033cc"/>
                </a:solidFill>
                <a:latin typeface="Georgia"/>
              </a:rPr>
              <a:t>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WordArt 10"/>
          <p:cNvSpPr txBox="1"/>
          <p:nvPr/>
        </p:nvSpPr>
        <p:spPr>
          <a:xfrm>
            <a:off x="3203640" y="3357720"/>
            <a:ext cx="2771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Impact"/>
              </a:rPr>
              <a:t>Мастер-класс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Impact"/>
              <a:ea typeface="Impact"/>
            </a:endParaRPr>
          </a:p>
        </p:txBody>
      </p:sp>
      <p:sp>
        <p:nvSpPr>
          <p:cNvPr id="1183" name="Стрелка вправо 7">
            <a:hlinkClick r:id="" action="ppaction://hlinkshowjump?jump=nextslide"/>
          </p:cNvPr>
          <p:cNvSpPr/>
          <p:nvPr/>
        </p:nvSpPr>
        <p:spPr>
          <a:xfrm>
            <a:off x="8172360" y="6381720"/>
            <a:ext cx="576360" cy="20484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Стрелка вправо 7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2048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Стрелка вправо 8">
            <a:hlinkClick r:id="" action="ppaction://hlinkshowjump?jump=previousslide"/>
          </p:cNvPr>
          <p:cNvSpPr/>
          <p:nvPr/>
        </p:nvSpPr>
        <p:spPr>
          <a:xfrm rot="10800000">
            <a:off x="5315040" y="658944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6824520" y="6362640"/>
            <a:ext cx="347760" cy="4320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6827">
                <a:moveTo>
                  <a:pt x="0" y="0"/>
                </a:moveTo>
                <a:lnTo>
                  <a:pt x="21600" y="0"/>
                </a:lnTo>
                <a:lnTo>
                  <a:pt x="21600" y="26827"/>
                </a:lnTo>
                <a:lnTo>
                  <a:pt x="0" y="26827"/>
                </a:lnTo>
                <a:close/>
              </a:path>
              <a:path fill="lightenLess" w="21600" h="268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27">
                <a:moveTo>
                  <a:pt x="21600" y="0"/>
                </a:moveTo>
                <a:lnTo>
                  <a:pt x="21600" y="26827"/>
                </a:lnTo>
                <a:lnTo>
                  <a:pt x="20200" y="25427"/>
                </a:lnTo>
                <a:lnTo>
                  <a:pt x="20200" y="1400"/>
                </a:lnTo>
                <a:close/>
              </a:path>
              <a:path fill="darkenLess" w="21600" h="26827">
                <a:moveTo>
                  <a:pt x="21600" y="26827"/>
                </a:moveTo>
                <a:lnTo>
                  <a:pt x="0" y="26827"/>
                </a:lnTo>
                <a:lnTo>
                  <a:pt x="1400" y="25427"/>
                </a:lnTo>
                <a:lnTo>
                  <a:pt x="20200" y="25427"/>
                </a:lnTo>
                <a:close/>
              </a:path>
              <a:path fill="lighten" w="21600" h="26827">
                <a:moveTo>
                  <a:pt x="0" y="268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27"/>
                </a:lnTo>
                <a:close/>
              </a:path>
              <a:path fill="darken" w="21600" h="26827">
                <a:moveTo>
                  <a:pt x="10800" y="6450"/>
                </a:moveTo>
                <a:lnTo>
                  <a:pt x="13376" y="9062"/>
                </a:ln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lnTo>
                  <a:pt x="17763" y="13413"/>
                </a:lnTo>
                <a:lnTo>
                  <a:pt x="16109" y="13413"/>
                </a:lnTo>
                <a:lnTo>
                  <a:pt x="16109" y="20603"/>
                </a:lnTo>
                <a:lnTo>
                  <a:pt x="5491" y="20603"/>
                </a:lnTo>
                <a:lnTo>
                  <a:pt x="5491" y="13413"/>
                </a:lnTo>
                <a:lnTo>
                  <a:pt x="3837" y="13413"/>
                </a:lnTo>
                <a:close/>
              </a:path>
              <a:path fill="darkenLess" w="21600" h="26827">
                <a:moveTo>
                  <a:pt x="13376" y="9062"/>
                </a:move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close/>
              </a:path>
              <a:path fill="darkenLess" w="21600" h="26827">
                <a:moveTo>
                  <a:pt x="9877" y="16912"/>
                </a:moveTo>
                <a:lnTo>
                  <a:pt x="11723" y="16912"/>
                </a:lnTo>
                <a:lnTo>
                  <a:pt x="11723" y="20603"/>
                </a:lnTo>
                <a:lnTo>
                  <a:pt x="16109" y="20603"/>
                </a:lnTo>
                <a:lnTo>
                  <a:pt x="16109" y="13413"/>
                </a:lnTo>
                <a:lnTo>
                  <a:pt x="5491" y="13413"/>
                </a:lnTo>
                <a:lnTo>
                  <a:pt x="5491" y="20603"/>
                </a:lnTo>
                <a:lnTo>
                  <a:pt x="9877" y="20603"/>
                </a:lnTo>
                <a:close/>
              </a:path>
            </a:pathLst>
          </a:cu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5"/>
          <p:cNvSpPr/>
          <p:nvPr/>
        </p:nvSpPr>
        <p:spPr>
          <a:xfrm>
            <a:off x="611280" y="333360"/>
            <a:ext cx="7921440" cy="61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ШАГ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Выделим первый квадрат (Ответ). Добавим на него эффект анимации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входа —Вращение.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 Настройка анимации — Добавить эффект — Вход — Другие эффекты — Вращение — О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В области Настройка анимации рядом с надписью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 «Ответ» </a:t>
            </a: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раскроем список и выберем в нем 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Врем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Установим следующие параметры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Начало — С предыдущи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Скорость — Очень быстр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Повторение — 2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Переключатели — Начать выполнение эффекта при щелчке — в раскрывающемся списке выбираем Триггер и нажимаем 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О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Стрелка вправо 7">
            <a:hlinkClick r:id="" action="ppaction://hlinkshowjump?jump=nextslide"/>
          </p:cNvPr>
          <p:cNvSpPr/>
          <p:nvPr/>
        </p:nvSpPr>
        <p:spPr>
          <a:xfrm>
            <a:off x="8023320" y="6620040"/>
            <a:ext cx="576000" cy="20448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Стрелка вправо 8">
            <a:hlinkClick r:id="" action="ppaction://hlinkshowjump?jump=previousslide"/>
          </p:cNvPr>
          <p:cNvSpPr/>
          <p:nvPr/>
        </p:nvSpPr>
        <p:spPr>
          <a:xfrm rot="10800000">
            <a:off x="5315040" y="658944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6824520" y="6362640"/>
            <a:ext cx="347760" cy="4320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6827">
                <a:moveTo>
                  <a:pt x="0" y="0"/>
                </a:moveTo>
                <a:lnTo>
                  <a:pt x="21600" y="0"/>
                </a:lnTo>
                <a:lnTo>
                  <a:pt x="21600" y="26827"/>
                </a:lnTo>
                <a:lnTo>
                  <a:pt x="0" y="26827"/>
                </a:lnTo>
                <a:close/>
              </a:path>
              <a:path fill="lightenLess" w="21600" h="268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27">
                <a:moveTo>
                  <a:pt x="21600" y="0"/>
                </a:moveTo>
                <a:lnTo>
                  <a:pt x="21600" y="26827"/>
                </a:lnTo>
                <a:lnTo>
                  <a:pt x="20200" y="25427"/>
                </a:lnTo>
                <a:lnTo>
                  <a:pt x="20200" y="1400"/>
                </a:lnTo>
                <a:close/>
              </a:path>
              <a:path fill="darkenLess" w="21600" h="26827">
                <a:moveTo>
                  <a:pt x="21600" y="26827"/>
                </a:moveTo>
                <a:lnTo>
                  <a:pt x="0" y="26827"/>
                </a:lnTo>
                <a:lnTo>
                  <a:pt x="1400" y="25427"/>
                </a:lnTo>
                <a:lnTo>
                  <a:pt x="20200" y="25427"/>
                </a:lnTo>
                <a:close/>
              </a:path>
              <a:path fill="lighten" w="21600" h="26827">
                <a:moveTo>
                  <a:pt x="0" y="268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27"/>
                </a:lnTo>
                <a:close/>
              </a:path>
              <a:path fill="darken" w="21600" h="26827">
                <a:moveTo>
                  <a:pt x="10800" y="6450"/>
                </a:moveTo>
                <a:lnTo>
                  <a:pt x="13376" y="9062"/>
                </a:ln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lnTo>
                  <a:pt x="17763" y="13413"/>
                </a:lnTo>
                <a:lnTo>
                  <a:pt x="16109" y="13413"/>
                </a:lnTo>
                <a:lnTo>
                  <a:pt x="16109" y="20603"/>
                </a:lnTo>
                <a:lnTo>
                  <a:pt x="5491" y="20603"/>
                </a:lnTo>
                <a:lnTo>
                  <a:pt x="5491" y="13413"/>
                </a:lnTo>
                <a:lnTo>
                  <a:pt x="3837" y="13413"/>
                </a:lnTo>
                <a:close/>
              </a:path>
              <a:path fill="darkenLess" w="21600" h="26827">
                <a:moveTo>
                  <a:pt x="13376" y="9062"/>
                </a:move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close/>
              </a:path>
              <a:path fill="darkenLess" w="21600" h="26827">
                <a:moveTo>
                  <a:pt x="9877" y="16912"/>
                </a:moveTo>
                <a:lnTo>
                  <a:pt x="11723" y="16912"/>
                </a:lnTo>
                <a:lnTo>
                  <a:pt x="11723" y="20603"/>
                </a:lnTo>
                <a:lnTo>
                  <a:pt x="16109" y="20603"/>
                </a:lnTo>
                <a:lnTo>
                  <a:pt x="16109" y="13413"/>
                </a:lnTo>
                <a:lnTo>
                  <a:pt x="5491" y="13413"/>
                </a:lnTo>
                <a:lnTo>
                  <a:pt x="5491" y="20603"/>
                </a:lnTo>
                <a:lnTo>
                  <a:pt x="9877" y="20603"/>
                </a:lnTo>
                <a:close/>
              </a:path>
            </a:pathLst>
          </a:cu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5"/>
          <p:cNvSpPr/>
          <p:nvPr/>
        </p:nvSpPr>
        <p:spPr>
          <a:xfrm>
            <a:off x="539640" y="330120"/>
            <a:ext cx="7489800" cy="65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ШАГ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Выделим второй квадрат (Вопрос). Откроем область 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Настройка анимации </a:t>
            </a: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и выберем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 Добавить эффект — Вход — Другие эффекты — Вращение — О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В области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 Настройка анимации </a:t>
            </a: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рядом с надписью 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«Вопрос»</a:t>
            </a: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 раскроем список и выберем в нем 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Врем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Установим следующие параметры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Начало — По щелчк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Скорость — Очень быстр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Повторение — 2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Переключатели — Начать выполнение эффекта при щелчке — в раскрывающемся списке выбираем Триггер и нажимаем 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О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Стрелка вправо 7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2048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Стрелка вправо 8">
            <a:hlinkClick r:id="" action="ppaction://hlinkshowjump?jump=previousslide"/>
          </p:cNvPr>
          <p:cNvSpPr/>
          <p:nvPr/>
        </p:nvSpPr>
        <p:spPr>
          <a:xfrm rot="10800000">
            <a:off x="5315040" y="658944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6824520" y="6362640"/>
            <a:ext cx="347760" cy="4320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6827">
                <a:moveTo>
                  <a:pt x="0" y="0"/>
                </a:moveTo>
                <a:lnTo>
                  <a:pt x="21600" y="0"/>
                </a:lnTo>
                <a:lnTo>
                  <a:pt x="21600" y="26827"/>
                </a:lnTo>
                <a:lnTo>
                  <a:pt x="0" y="26827"/>
                </a:lnTo>
                <a:close/>
              </a:path>
              <a:path fill="lightenLess" w="21600" h="268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27">
                <a:moveTo>
                  <a:pt x="21600" y="0"/>
                </a:moveTo>
                <a:lnTo>
                  <a:pt x="21600" y="26827"/>
                </a:lnTo>
                <a:lnTo>
                  <a:pt x="20200" y="25427"/>
                </a:lnTo>
                <a:lnTo>
                  <a:pt x="20200" y="1400"/>
                </a:lnTo>
                <a:close/>
              </a:path>
              <a:path fill="darkenLess" w="21600" h="26827">
                <a:moveTo>
                  <a:pt x="21600" y="26827"/>
                </a:moveTo>
                <a:lnTo>
                  <a:pt x="0" y="26827"/>
                </a:lnTo>
                <a:lnTo>
                  <a:pt x="1400" y="25427"/>
                </a:lnTo>
                <a:lnTo>
                  <a:pt x="20200" y="25427"/>
                </a:lnTo>
                <a:close/>
              </a:path>
              <a:path fill="lighten" w="21600" h="26827">
                <a:moveTo>
                  <a:pt x="0" y="268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27"/>
                </a:lnTo>
                <a:close/>
              </a:path>
              <a:path fill="darken" w="21600" h="26827">
                <a:moveTo>
                  <a:pt x="10800" y="6450"/>
                </a:moveTo>
                <a:lnTo>
                  <a:pt x="13376" y="9062"/>
                </a:ln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lnTo>
                  <a:pt x="17763" y="13413"/>
                </a:lnTo>
                <a:lnTo>
                  <a:pt x="16109" y="13413"/>
                </a:lnTo>
                <a:lnTo>
                  <a:pt x="16109" y="20603"/>
                </a:lnTo>
                <a:lnTo>
                  <a:pt x="5491" y="20603"/>
                </a:lnTo>
                <a:lnTo>
                  <a:pt x="5491" y="13413"/>
                </a:lnTo>
                <a:lnTo>
                  <a:pt x="3837" y="13413"/>
                </a:lnTo>
                <a:close/>
              </a:path>
              <a:path fill="darkenLess" w="21600" h="26827">
                <a:moveTo>
                  <a:pt x="13376" y="9062"/>
                </a:move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close/>
              </a:path>
              <a:path fill="darkenLess" w="21600" h="26827">
                <a:moveTo>
                  <a:pt x="9877" y="16912"/>
                </a:moveTo>
                <a:lnTo>
                  <a:pt x="11723" y="16912"/>
                </a:lnTo>
                <a:lnTo>
                  <a:pt x="11723" y="20603"/>
                </a:lnTo>
                <a:lnTo>
                  <a:pt x="16109" y="20603"/>
                </a:lnTo>
                <a:lnTo>
                  <a:pt x="16109" y="13413"/>
                </a:lnTo>
                <a:lnTo>
                  <a:pt x="5491" y="13413"/>
                </a:lnTo>
                <a:lnTo>
                  <a:pt x="5491" y="20603"/>
                </a:lnTo>
                <a:lnTo>
                  <a:pt x="9877" y="20603"/>
                </a:lnTo>
                <a:close/>
              </a:path>
            </a:pathLst>
          </a:cu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5"/>
          <p:cNvSpPr/>
          <p:nvPr/>
        </p:nvSpPr>
        <p:spPr>
          <a:xfrm>
            <a:off x="539640" y="404640"/>
            <a:ext cx="7993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 области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астройка анимации</a:t>
            </a: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 мы получили следующие эфф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7" name="Picture 6" descr="75850564"/>
          <p:cNvPicPr/>
          <p:nvPr/>
        </p:nvPicPr>
        <p:blipFill>
          <a:blip r:embed="rId1"/>
          <a:stretch/>
        </p:blipFill>
        <p:spPr>
          <a:xfrm>
            <a:off x="2700360" y="2060640"/>
            <a:ext cx="370512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Стрелка вправо 1">
            <a:hlinkClick r:id="" action="ppaction://hlinkshowjump?jump=previousslide"/>
          </p:cNvPr>
          <p:cNvSpPr/>
          <p:nvPr/>
        </p:nvSpPr>
        <p:spPr>
          <a:xfrm rot="10800000">
            <a:off x="5940000" y="6589440"/>
            <a:ext cx="576360" cy="20484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Управляющая кнопка: домой 2">
            <a:hlinkClick r:id="" action="ppaction://hlinkshowjump?jump=firstslide"/>
          </p:cNvPr>
          <p:cNvSpPr/>
          <p:nvPr/>
        </p:nvSpPr>
        <p:spPr>
          <a:xfrm>
            <a:off x="7132680" y="6373800"/>
            <a:ext cx="345960" cy="431640"/>
          </a:xfrm>
          <a:custGeom>
            <a:avLst/>
            <a:gdLst>
              <a:gd name="textAreaLeft" fmla="*/ 22320 w 345960"/>
              <a:gd name="textAreaRight" fmla="*/ 323640 w 345960"/>
              <a:gd name="textAreaTop" fmla="*/ 22320 h 431640"/>
              <a:gd name="textAreaBottom" fmla="*/ 409320 h 431640"/>
            </a:gdLst>
            <a:ahLst/>
            <a:rect l="textAreaLeft" t="textAreaTop" r="textAreaRight" b="textAreaBottom"/>
            <a:pathLst>
              <a:path w="21600" h="26944">
                <a:moveTo>
                  <a:pt x="0" y="0"/>
                </a:moveTo>
                <a:lnTo>
                  <a:pt x="21600" y="0"/>
                </a:lnTo>
                <a:lnTo>
                  <a:pt x="21600" y="26944"/>
                </a:lnTo>
                <a:lnTo>
                  <a:pt x="0" y="26944"/>
                </a:lnTo>
                <a:close/>
              </a:path>
              <a:path fill="lightenLess" w="21600" h="269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44">
                <a:moveTo>
                  <a:pt x="21600" y="0"/>
                </a:moveTo>
                <a:lnTo>
                  <a:pt x="21600" y="26944"/>
                </a:lnTo>
                <a:lnTo>
                  <a:pt x="20200" y="25544"/>
                </a:lnTo>
                <a:lnTo>
                  <a:pt x="20200" y="1400"/>
                </a:lnTo>
                <a:close/>
              </a:path>
              <a:path fill="darkenLess" w="21600" h="26944">
                <a:moveTo>
                  <a:pt x="21600" y="26944"/>
                </a:moveTo>
                <a:lnTo>
                  <a:pt x="0" y="26944"/>
                </a:lnTo>
                <a:lnTo>
                  <a:pt x="1400" y="25544"/>
                </a:lnTo>
                <a:lnTo>
                  <a:pt x="20200" y="25544"/>
                </a:lnTo>
                <a:close/>
              </a:path>
              <a:path fill="lighten" w="21600" h="26944">
                <a:moveTo>
                  <a:pt x="0" y="269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44"/>
                </a:lnTo>
                <a:close/>
              </a:path>
              <a:path fill="darken" w="21600" h="26944">
                <a:moveTo>
                  <a:pt x="10800" y="6509"/>
                </a:moveTo>
                <a:lnTo>
                  <a:pt x="13376" y="9120"/>
                </a:lnTo>
                <a:lnTo>
                  <a:pt x="13376" y="7379"/>
                </a:lnTo>
                <a:lnTo>
                  <a:pt x="15152" y="7379"/>
                </a:lnTo>
                <a:lnTo>
                  <a:pt x="15152" y="10896"/>
                </a:lnTo>
                <a:lnTo>
                  <a:pt x="17763" y="13472"/>
                </a:lnTo>
                <a:lnTo>
                  <a:pt x="16109" y="13472"/>
                </a:lnTo>
                <a:lnTo>
                  <a:pt x="16109" y="20661"/>
                </a:lnTo>
                <a:lnTo>
                  <a:pt x="5491" y="20661"/>
                </a:lnTo>
                <a:lnTo>
                  <a:pt x="5491" y="13472"/>
                </a:lnTo>
                <a:lnTo>
                  <a:pt x="3837" y="13472"/>
                </a:lnTo>
                <a:close/>
              </a:path>
              <a:path fill="darkenLess" w="21600" h="26944">
                <a:moveTo>
                  <a:pt x="13376" y="9120"/>
                </a:moveTo>
                <a:lnTo>
                  <a:pt x="13376" y="7379"/>
                </a:lnTo>
                <a:lnTo>
                  <a:pt x="15152" y="7379"/>
                </a:lnTo>
                <a:lnTo>
                  <a:pt x="15152" y="10896"/>
                </a:lnTo>
                <a:close/>
              </a:path>
              <a:path fill="darkenLess" w="21600" h="26944">
                <a:moveTo>
                  <a:pt x="9877" y="16971"/>
                </a:moveTo>
                <a:lnTo>
                  <a:pt x="11723" y="16971"/>
                </a:lnTo>
                <a:lnTo>
                  <a:pt x="11723" y="20661"/>
                </a:lnTo>
                <a:lnTo>
                  <a:pt x="16109" y="20661"/>
                </a:lnTo>
                <a:lnTo>
                  <a:pt x="16109" y="13472"/>
                </a:lnTo>
                <a:lnTo>
                  <a:pt x="5491" y="13472"/>
                </a:lnTo>
                <a:lnTo>
                  <a:pt x="5491" y="20661"/>
                </a:lnTo>
                <a:lnTo>
                  <a:pt x="9877" y="20661"/>
                </a:lnTo>
                <a:close/>
              </a:path>
            </a:pathLst>
          </a:cu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Стрелка вправо 3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193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ответ"/>
          <p:cNvSpPr/>
          <p:nvPr/>
        </p:nvSpPr>
        <p:spPr>
          <a:xfrm>
            <a:off x="1973160" y="2708280"/>
            <a:ext cx="4989600" cy="2592360"/>
          </a:xfrm>
          <a:prstGeom prst="roundRect">
            <a:avLst>
              <a:gd name="adj" fmla="val 16667"/>
            </a:avLst>
          </a:prstGeom>
          <a:solidFill>
            <a:srgbClr val="f9cfc3"/>
          </a:solidFill>
          <a:ln cap="rnd"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33f"/>
                </a:solidFill>
                <a:latin typeface="Georgia"/>
              </a:rPr>
              <a:t>Оборот речи, особое сочетание слов, синтаксическое построение, используемое для усиления выразительности высказывания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33f"/>
                </a:solidFill>
                <a:latin typeface="Georgia"/>
              </a:rPr>
              <a:t>Толковый переводоведческий слова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2" name="вопрос" descr=""/>
          <p:cNvPicPr/>
          <p:nvPr/>
        </p:nvPicPr>
        <p:blipFill>
          <a:blip r:embed="rId1"/>
          <a:stretch/>
        </p:blipFill>
        <p:spPr>
          <a:xfrm>
            <a:off x="1944720" y="2670120"/>
            <a:ext cx="5065560" cy="2676600"/>
          </a:xfrm>
          <a:prstGeom prst="rect">
            <a:avLst/>
          </a:prstGeom>
          <a:ln w="0">
            <a:noFill/>
          </a:ln>
        </p:spPr>
      </p:pic>
      <p:sp>
        <p:nvSpPr>
          <p:cNvPr id="1243" name="триггер"/>
          <p:cNvSpPr/>
          <p:nvPr/>
        </p:nvSpPr>
        <p:spPr>
          <a:xfrm>
            <a:off x="1940040" y="2689200"/>
            <a:ext cx="4989240" cy="259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evt="onClick">
                          <p:tgtEl>
                            <p:spTgt spid="1243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Стрелка вправо 1">
            <a:hlinkClick r:id="" action="ppaction://hlinkshowjump?jump=previousslide"/>
          </p:cNvPr>
          <p:cNvSpPr/>
          <p:nvPr/>
        </p:nvSpPr>
        <p:spPr>
          <a:xfrm rot="10800000">
            <a:off x="6012000" y="665280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Управляющая кнопка: домой 2">
            <a:hlinkClick r:id="" action="ppaction://hlinkshowjump?jump=firstslide"/>
          </p:cNvPr>
          <p:cNvSpPr/>
          <p:nvPr/>
        </p:nvSpPr>
        <p:spPr>
          <a:xfrm>
            <a:off x="7132680" y="6373800"/>
            <a:ext cx="345960" cy="431640"/>
          </a:xfrm>
          <a:custGeom>
            <a:avLst/>
            <a:gdLst>
              <a:gd name="textAreaLeft" fmla="*/ 22320 w 345960"/>
              <a:gd name="textAreaRight" fmla="*/ 323640 w 345960"/>
              <a:gd name="textAreaTop" fmla="*/ 22320 h 431640"/>
              <a:gd name="textAreaBottom" fmla="*/ 409320 h 431640"/>
            </a:gdLst>
            <a:ahLst/>
            <a:rect l="textAreaLeft" t="textAreaTop" r="textAreaRight" b="textAreaBottom"/>
            <a:pathLst>
              <a:path w="21600" h="26944">
                <a:moveTo>
                  <a:pt x="0" y="0"/>
                </a:moveTo>
                <a:lnTo>
                  <a:pt x="21600" y="0"/>
                </a:lnTo>
                <a:lnTo>
                  <a:pt x="21600" y="26944"/>
                </a:lnTo>
                <a:lnTo>
                  <a:pt x="0" y="26944"/>
                </a:lnTo>
                <a:close/>
              </a:path>
              <a:path fill="lightenLess" w="21600" h="269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44">
                <a:moveTo>
                  <a:pt x="21600" y="0"/>
                </a:moveTo>
                <a:lnTo>
                  <a:pt x="21600" y="26944"/>
                </a:lnTo>
                <a:lnTo>
                  <a:pt x="20200" y="25544"/>
                </a:lnTo>
                <a:lnTo>
                  <a:pt x="20200" y="1400"/>
                </a:lnTo>
                <a:close/>
              </a:path>
              <a:path fill="darkenLess" w="21600" h="26944">
                <a:moveTo>
                  <a:pt x="21600" y="26944"/>
                </a:moveTo>
                <a:lnTo>
                  <a:pt x="0" y="26944"/>
                </a:lnTo>
                <a:lnTo>
                  <a:pt x="1400" y="25544"/>
                </a:lnTo>
                <a:lnTo>
                  <a:pt x="20200" y="25544"/>
                </a:lnTo>
                <a:close/>
              </a:path>
              <a:path fill="lighten" w="21600" h="26944">
                <a:moveTo>
                  <a:pt x="0" y="269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44"/>
                </a:lnTo>
                <a:close/>
              </a:path>
              <a:path fill="darken" w="21600" h="26944">
                <a:moveTo>
                  <a:pt x="10800" y="6509"/>
                </a:moveTo>
                <a:lnTo>
                  <a:pt x="13376" y="9120"/>
                </a:lnTo>
                <a:lnTo>
                  <a:pt x="13376" y="7379"/>
                </a:lnTo>
                <a:lnTo>
                  <a:pt x="15152" y="7379"/>
                </a:lnTo>
                <a:lnTo>
                  <a:pt x="15152" y="10896"/>
                </a:lnTo>
                <a:lnTo>
                  <a:pt x="17763" y="13472"/>
                </a:lnTo>
                <a:lnTo>
                  <a:pt x="16109" y="13472"/>
                </a:lnTo>
                <a:lnTo>
                  <a:pt x="16109" y="20661"/>
                </a:lnTo>
                <a:lnTo>
                  <a:pt x="5491" y="20661"/>
                </a:lnTo>
                <a:lnTo>
                  <a:pt x="5491" y="13472"/>
                </a:lnTo>
                <a:lnTo>
                  <a:pt x="3837" y="13472"/>
                </a:lnTo>
                <a:close/>
              </a:path>
              <a:path fill="darkenLess" w="21600" h="26944">
                <a:moveTo>
                  <a:pt x="13376" y="9120"/>
                </a:moveTo>
                <a:lnTo>
                  <a:pt x="13376" y="7379"/>
                </a:lnTo>
                <a:lnTo>
                  <a:pt x="15152" y="7379"/>
                </a:lnTo>
                <a:lnTo>
                  <a:pt x="15152" y="10896"/>
                </a:lnTo>
                <a:close/>
              </a:path>
              <a:path fill="darkenLess" w="21600" h="26944">
                <a:moveTo>
                  <a:pt x="9877" y="16971"/>
                </a:moveTo>
                <a:lnTo>
                  <a:pt x="11723" y="16971"/>
                </a:lnTo>
                <a:lnTo>
                  <a:pt x="11723" y="20661"/>
                </a:lnTo>
                <a:lnTo>
                  <a:pt x="16109" y="20661"/>
                </a:lnTo>
                <a:lnTo>
                  <a:pt x="16109" y="13472"/>
                </a:lnTo>
                <a:lnTo>
                  <a:pt x="5491" y="13472"/>
                </a:lnTo>
                <a:lnTo>
                  <a:pt x="5491" y="20661"/>
                </a:lnTo>
                <a:lnTo>
                  <a:pt x="9877" y="20661"/>
                </a:lnTo>
                <a:close/>
              </a:path>
            </a:pathLst>
          </a:cu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Стрелка вправо 3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193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ответ"/>
          <p:cNvSpPr/>
          <p:nvPr/>
        </p:nvSpPr>
        <p:spPr>
          <a:xfrm>
            <a:off x="1987560" y="2565360"/>
            <a:ext cx="4989600" cy="2592360"/>
          </a:xfrm>
          <a:prstGeom prst="roundRect">
            <a:avLst>
              <a:gd name="adj" fmla="val 16667"/>
            </a:avLst>
          </a:prstGeom>
          <a:solidFill>
            <a:srgbClr val="f9cfc3"/>
          </a:solidFill>
          <a:ln cap="rnd"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33f"/>
                </a:solidFill>
                <a:latin typeface="Times New Roman"/>
              </a:rPr>
              <a:t>Одинаковое начало нескольких соседних предло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Georgia"/>
              </a:rPr>
              <a:t>Берегите друг друга,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Georgia"/>
              </a:rPr>
              <a:t>Добротой согревайте.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Georgia"/>
              </a:rPr>
              <a:t>Берегите друг друга,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Georgia"/>
              </a:rPr>
              <a:t>Обижать не давайте. 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Georgia"/>
              </a:rPr>
              <a:t>                               </a:t>
            </a:r>
            <a:r>
              <a:rPr b="0" lang="ru-RU" sz="1800" spc="-1" strike="noStrike">
                <a:solidFill>
                  <a:srgbClr val="0033cc"/>
                </a:solidFill>
                <a:latin typeface="Georgia"/>
              </a:rPr>
              <a:t>(О. Высотск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8" name="вопрос" descr=""/>
          <p:cNvPicPr/>
          <p:nvPr/>
        </p:nvPicPr>
        <p:blipFill>
          <a:blip r:embed="rId1"/>
          <a:stretch/>
        </p:blipFill>
        <p:spPr>
          <a:xfrm>
            <a:off x="1951200" y="2530440"/>
            <a:ext cx="5065560" cy="2670120"/>
          </a:xfrm>
          <a:prstGeom prst="rect">
            <a:avLst/>
          </a:prstGeom>
          <a:ln w="0">
            <a:noFill/>
          </a:ln>
        </p:spPr>
      </p:pic>
      <p:sp>
        <p:nvSpPr>
          <p:cNvPr id="1249" name="триггер"/>
          <p:cNvSpPr/>
          <p:nvPr/>
        </p:nvSpPr>
        <p:spPr>
          <a:xfrm>
            <a:off x="1987560" y="2565360"/>
            <a:ext cx="4989600" cy="259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249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249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evt="onClick">
                          <p:tgtEl>
                            <p:spTgt spid="1249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0" name="Скругленный прямоугольник 2"/>
          <p:cNvGrpSpPr/>
          <p:nvPr/>
        </p:nvGrpSpPr>
        <p:grpSpPr>
          <a:xfrm>
            <a:off x="438120" y="244440"/>
            <a:ext cx="1409760" cy="1413000"/>
            <a:chOff x="438120" y="244440"/>
            <a:chExt cx="1409760" cy="1413000"/>
          </a:xfrm>
        </p:grpSpPr>
        <p:pic>
          <p:nvPicPr>
            <p:cNvPr id="1251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438120" y="244440"/>
              <a:ext cx="1409760" cy="14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2" name=""/>
            <p:cNvSpPr/>
            <p:nvPr/>
          </p:nvSpPr>
          <p:spPr>
            <a:xfrm>
              <a:off x="563400" y="349200"/>
              <a:ext cx="11592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Скругленный прямоугольник 1"/>
          <p:cNvGrpSpPr/>
          <p:nvPr/>
        </p:nvGrpSpPr>
        <p:grpSpPr>
          <a:xfrm>
            <a:off x="244440" y="96840"/>
            <a:ext cx="1792440" cy="1987560"/>
            <a:chOff x="244440" y="96840"/>
            <a:chExt cx="1792440" cy="1987560"/>
          </a:xfrm>
        </p:grpSpPr>
        <p:pic>
          <p:nvPicPr>
            <p:cNvPr id="1254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244440" y="96840"/>
              <a:ext cx="17924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5" name=""/>
            <p:cNvSpPr/>
            <p:nvPr/>
          </p:nvSpPr>
          <p:spPr>
            <a:xfrm>
              <a:off x="563400" y="349200"/>
              <a:ext cx="11592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А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Скругленный прямоугольник 3"/>
          <p:cNvSpPr/>
          <p:nvPr/>
        </p:nvSpPr>
        <p:spPr>
          <a:xfrm>
            <a:off x="468360" y="260280"/>
            <a:ext cx="128592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Скругленный прямоугольник 4"/>
          <p:cNvGrpSpPr/>
          <p:nvPr/>
        </p:nvGrpSpPr>
        <p:grpSpPr>
          <a:xfrm>
            <a:off x="1798560" y="244440"/>
            <a:ext cx="1408320" cy="1413000"/>
            <a:chOff x="1798560" y="244440"/>
            <a:chExt cx="1408320" cy="1413000"/>
          </a:xfrm>
        </p:grpSpPr>
        <p:pic>
          <p:nvPicPr>
            <p:cNvPr id="1258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798560" y="244440"/>
              <a:ext cx="1408320" cy="14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9" name=""/>
            <p:cNvSpPr/>
            <p:nvPr/>
          </p:nvSpPr>
          <p:spPr>
            <a:xfrm>
              <a:off x="1920960" y="3492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Скругленный прямоугольник 5"/>
          <p:cNvGrpSpPr/>
          <p:nvPr/>
        </p:nvGrpSpPr>
        <p:grpSpPr>
          <a:xfrm>
            <a:off x="1579680" y="96840"/>
            <a:ext cx="1839960" cy="1987560"/>
            <a:chOff x="1579680" y="96840"/>
            <a:chExt cx="1839960" cy="1987560"/>
          </a:xfrm>
        </p:grpSpPr>
        <p:pic>
          <p:nvPicPr>
            <p:cNvPr id="1261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579680" y="96840"/>
              <a:ext cx="18399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1920960" y="3492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Б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3" name="Скругленный прямоугольник 6"/>
          <p:cNvSpPr/>
          <p:nvPr/>
        </p:nvSpPr>
        <p:spPr>
          <a:xfrm>
            <a:off x="1857240" y="285840"/>
            <a:ext cx="128592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4" name="Скругленный прямоугольник 8"/>
          <p:cNvGrpSpPr/>
          <p:nvPr/>
        </p:nvGrpSpPr>
        <p:grpSpPr>
          <a:xfrm>
            <a:off x="3151080" y="244440"/>
            <a:ext cx="1408320" cy="1413000"/>
            <a:chOff x="3151080" y="244440"/>
            <a:chExt cx="1408320" cy="1413000"/>
          </a:xfrm>
        </p:grpSpPr>
        <p:pic>
          <p:nvPicPr>
            <p:cNvPr id="1265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3151080" y="244440"/>
              <a:ext cx="1408320" cy="14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"/>
            <p:cNvSpPr/>
            <p:nvPr/>
          </p:nvSpPr>
          <p:spPr>
            <a:xfrm>
              <a:off x="3278160" y="3492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7" name="Скругленный прямоугольник 9"/>
          <p:cNvGrpSpPr/>
          <p:nvPr/>
        </p:nvGrpSpPr>
        <p:grpSpPr>
          <a:xfrm>
            <a:off x="2932200" y="96840"/>
            <a:ext cx="1847880" cy="1987560"/>
            <a:chOff x="2932200" y="96840"/>
            <a:chExt cx="1847880" cy="1987560"/>
          </a:xfrm>
        </p:grpSpPr>
        <p:pic>
          <p:nvPicPr>
            <p:cNvPr id="1268" name="Скругленный 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2932200" y="96840"/>
              <a:ext cx="1847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9" name=""/>
            <p:cNvSpPr/>
            <p:nvPr/>
          </p:nvSpPr>
          <p:spPr>
            <a:xfrm>
              <a:off x="3278160" y="3492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В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Скругленный прямоугольник 10"/>
          <p:cNvSpPr/>
          <p:nvPr/>
        </p:nvSpPr>
        <p:spPr>
          <a:xfrm>
            <a:off x="3214800" y="285840"/>
            <a:ext cx="128592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1" name="Скругленный прямоугольник 11"/>
          <p:cNvGrpSpPr/>
          <p:nvPr/>
        </p:nvGrpSpPr>
        <p:grpSpPr>
          <a:xfrm>
            <a:off x="4511520" y="244440"/>
            <a:ext cx="1408320" cy="1413000"/>
            <a:chOff x="4511520" y="244440"/>
            <a:chExt cx="1408320" cy="1413000"/>
          </a:xfrm>
        </p:grpSpPr>
        <p:pic>
          <p:nvPicPr>
            <p:cNvPr id="1272" name="Скругленный прямоугольник 11" descr=""/>
            <p:cNvPicPr/>
            <p:nvPr/>
          </p:nvPicPr>
          <p:blipFill>
            <a:blip r:embed="rId7"/>
            <a:stretch/>
          </p:blipFill>
          <p:spPr>
            <a:xfrm>
              <a:off x="4511520" y="244440"/>
              <a:ext cx="1408320" cy="14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3" name=""/>
            <p:cNvSpPr/>
            <p:nvPr/>
          </p:nvSpPr>
          <p:spPr>
            <a:xfrm>
              <a:off x="4635360" y="3492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Скругленный прямоугольник 12"/>
          <p:cNvGrpSpPr/>
          <p:nvPr/>
        </p:nvGrpSpPr>
        <p:grpSpPr>
          <a:xfrm>
            <a:off x="4359240" y="96840"/>
            <a:ext cx="1706760" cy="1987560"/>
            <a:chOff x="4359240" y="96840"/>
            <a:chExt cx="1706760" cy="1987560"/>
          </a:xfrm>
        </p:grpSpPr>
        <p:pic>
          <p:nvPicPr>
            <p:cNvPr id="1275" name="Скругленный 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4359240" y="96840"/>
              <a:ext cx="17067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6" name=""/>
            <p:cNvSpPr/>
            <p:nvPr/>
          </p:nvSpPr>
          <p:spPr>
            <a:xfrm>
              <a:off x="4635360" y="3492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Г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Скругленный прямоугольник 13"/>
          <p:cNvGrpSpPr/>
          <p:nvPr/>
        </p:nvGrpSpPr>
        <p:grpSpPr>
          <a:xfrm>
            <a:off x="5870520" y="244440"/>
            <a:ext cx="1408320" cy="1413000"/>
            <a:chOff x="5870520" y="244440"/>
            <a:chExt cx="1408320" cy="1413000"/>
          </a:xfrm>
        </p:grpSpPr>
        <p:pic>
          <p:nvPicPr>
            <p:cNvPr id="1278" name="Скругленный 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5870520" y="244440"/>
              <a:ext cx="1408320" cy="14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9" name=""/>
            <p:cNvSpPr/>
            <p:nvPr/>
          </p:nvSpPr>
          <p:spPr>
            <a:xfrm>
              <a:off x="5992920" y="3492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Скругленный прямоугольник 14"/>
          <p:cNvGrpSpPr/>
          <p:nvPr/>
        </p:nvGrpSpPr>
        <p:grpSpPr>
          <a:xfrm>
            <a:off x="5638680" y="96840"/>
            <a:ext cx="1859040" cy="1987560"/>
            <a:chOff x="5638680" y="96840"/>
            <a:chExt cx="1859040" cy="1987560"/>
          </a:xfrm>
        </p:grpSpPr>
        <p:pic>
          <p:nvPicPr>
            <p:cNvPr id="1281" name="Скругленный прямоугольник 14" descr=""/>
            <p:cNvPicPr/>
            <p:nvPr/>
          </p:nvPicPr>
          <p:blipFill>
            <a:blip r:embed="rId10"/>
            <a:stretch/>
          </p:blipFill>
          <p:spPr>
            <a:xfrm>
              <a:off x="5638680" y="96840"/>
              <a:ext cx="18590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2" name=""/>
            <p:cNvSpPr/>
            <p:nvPr/>
          </p:nvSpPr>
          <p:spPr>
            <a:xfrm>
              <a:off x="5992920" y="3492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Д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3" name="Скругленный прямоугольник 16"/>
          <p:cNvSpPr/>
          <p:nvPr/>
        </p:nvSpPr>
        <p:spPr>
          <a:xfrm>
            <a:off x="4572000" y="285840"/>
            <a:ext cx="128592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Скругленный прямоугольник 17"/>
          <p:cNvSpPr/>
          <p:nvPr/>
        </p:nvSpPr>
        <p:spPr>
          <a:xfrm>
            <a:off x="5929200" y="285840"/>
            <a:ext cx="128592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Скругленный прямоугольник 18"/>
          <p:cNvGrpSpPr/>
          <p:nvPr/>
        </p:nvGrpSpPr>
        <p:grpSpPr>
          <a:xfrm>
            <a:off x="7223040" y="244440"/>
            <a:ext cx="1408320" cy="1413000"/>
            <a:chOff x="7223040" y="244440"/>
            <a:chExt cx="1408320" cy="1413000"/>
          </a:xfrm>
        </p:grpSpPr>
        <p:pic>
          <p:nvPicPr>
            <p:cNvPr id="1286" name="Скругленный прямоугольник 18" descr=""/>
            <p:cNvPicPr/>
            <p:nvPr/>
          </p:nvPicPr>
          <p:blipFill>
            <a:blip r:embed="rId11"/>
            <a:stretch/>
          </p:blipFill>
          <p:spPr>
            <a:xfrm>
              <a:off x="7223040" y="244440"/>
              <a:ext cx="1408320" cy="14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7" name=""/>
            <p:cNvSpPr/>
            <p:nvPr/>
          </p:nvSpPr>
          <p:spPr>
            <a:xfrm>
              <a:off x="7350120" y="3492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Скругленный прямоугольник 19"/>
          <p:cNvGrpSpPr/>
          <p:nvPr/>
        </p:nvGrpSpPr>
        <p:grpSpPr>
          <a:xfrm>
            <a:off x="7010280" y="96840"/>
            <a:ext cx="1828800" cy="1987560"/>
            <a:chOff x="7010280" y="96840"/>
            <a:chExt cx="1828800" cy="1987560"/>
          </a:xfrm>
        </p:grpSpPr>
        <p:pic>
          <p:nvPicPr>
            <p:cNvPr id="1289" name="Скругленный прямоугольник 19" descr=""/>
            <p:cNvPicPr/>
            <p:nvPr/>
          </p:nvPicPr>
          <p:blipFill>
            <a:blip r:embed="rId12"/>
            <a:stretch/>
          </p:blipFill>
          <p:spPr>
            <a:xfrm>
              <a:off x="7010280" y="96840"/>
              <a:ext cx="182880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0" name=""/>
            <p:cNvSpPr/>
            <p:nvPr/>
          </p:nvSpPr>
          <p:spPr>
            <a:xfrm>
              <a:off x="7350120" y="3492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Е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1" name="Скругленный прямоугольник 20"/>
          <p:cNvSpPr/>
          <p:nvPr/>
        </p:nvSpPr>
        <p:spPr>
          <a:xfrm>
            <a:off x="7286760" y="285840"/>
            <a:ext cx="128592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Скругленный прямоугольник 27"/>
          <p:cNvGrpSpPr/>
          <p:nvPr/>
        </p:nvGrpSpPr>
        <p:grpSpPr>
          <a:xfrm>
            <a:off x="438120" y="2176560"/>
            <a:ext cx="1409760" cy="1407960"/>
            <a:chOff x="438120" y="2176560"/>
            <a:chExt cx="1409760" cy="1407960"/>
          </a:xfrm>
        </p:grpSpPr>
        <p:pic>
          <p:nvPicPr>
            <p:cNvPr id="1293" name="Скругленный прямоугольник 27" descr=""/>
            <p:cNvPicPr/>
            <p:nvPr/>
          </p:nvPicPr>
          <p:blipFill>
            <a:blip r:embed="rId13"/>
            <a:stretch/>
          </p:blipFill>
          <p:spPr>
            <a:xfrm>
              <a:off x="438120" y="2176560"/>
              <a:ext cx="14097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4" name=""/>
            <p:cNvSpPr/>
            <p:nvPr/>
          </p:nvSpPr>
          <p:spPr>
            <a:xfrm>
              <a:off x="561960" y="2278080"/>
              <a:ext cx="11606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Скругленный прямоугольник 28"/>
          <p:cNvGrpSpPr/>
          <p:nvPr/>
        </p:nvGrpSpPr>
        <p:grpSpPr>
          <a:xfrm>
            <a:off x="225360" y="2023920"/>
            <a:ext cx="1828800" cy="1987560"/>
            <a:chOff x="225360" y="2023920"/>
            <a:chExt cx="1828800" cy="1987560"/>
          </a:xfrm>
        </p:grpSpPr>
        <p:pic>
          <p:nvPicPr>
            <p:cNvPr id="1296" name="Скругленный прямоугольник 28" descr=""/>
            <p:cNvPicPr/>
            <p:nvPr/>
          </p:nvPicPr>
          <p:blipFill>
            <a:blip r:embed="rId14"/>
            <a:stretch/>
          </p:blipFill>
          <p:spPr>
            <a:xfrm>
              <a:off x="225360" y="2023920"/>
              <a:ext cx="182880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7" name=""/>
            <p:cNvSpPr/>
            <p:nvPr/>
          </p:nvSpPr>
          <p:spPr>
            <a:xfrm>
              <a:off x="563400" y="2278080"/>
              <a:ext cx="11592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Ё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8" name="Скругленный прямоугольник 29"/>
          <p:cNvSpPr/>
          <p:nvPr/>
        </p:nvSpPr>
        <p:spPr>
          <a:xfrm>
            <a:off x="500040" y="1989000"/>
            <a:ext cx="128592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Скругленный прямоугольник 30"/>
          <p:cNvGrpSpPr/>
          <p:nvPr/>
        </p:nvGrpSpPr>
        <p:grpSpPr>
          <a:xfrm>
            <a:off x="1798560" y="2176560"/>
            <a:ext cx="1408320" cy="1407960"/>
            <a:chOff x="1798560" y="2176560"/>
            <a:chExt cx="1408320" cy="1407960"/>
          </a:xfrm>
        </p:grpSpPr>
        <p:pic>
          <p:nvPicPr>
            <p:cNvPr id="1300" name="Скругленный прямоугольник 30" descr=""/>
            <p:cNvPicPr/>
            <p:nvPr/>
          </p:nvPicPr>
          <p:blipFill>
            <a:blip r:embed="rId15"/>
            <a:stretch/>
          </p:blipFill>
          <p:spPr>
            <a:xfrm>
              <a:off x="1798560" y="2176560"/>
              <a:ext cx="14083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1920960" y="2278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Скругленный прямоугольник 31"/>
          <p:cNvGrpSpPr/>
          <p:nvPr/>
        </p:nvGrpSpPr>
        <p:grpSpPr>
          <a:xfrm>
            <a:off x="1450800" y="2023920"/>
            <a:ext cx="2097360" cy="1987560"/>
            <a:chOff x="1450800" y="2023920"/>
            <a:chExt cx="2097360" cy="1987560"/>
          </a:xfrm>
        </p:grpSpPr>
        <p:pic>
          <p:nvPicPr>
            <p:cNvPr id="1303" name="Скругленный прямоугольник 31" descr=""/>
            <p:cNvPicPr/>
            <p:nvPr/>
          </p:nvPicPr>
          <p:blipFill>
            <a:blip r:embed="rId16"/>
            <a:stretch/>
          </p:blipFill>
          <p:spPr>
            <a:xfrm>
              <a:off x="1450800" y="2023920"/>
              <a:ext cx="20973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1920960" y="2278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Ж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Скругленный прямоугольник 32"/>
          <p:cNvSpPr/>
          <p:nvPr/>
        </p:nvSpPr>
        <p:spPr>
          <a:xfrm>
            <a:off x="1857240" y="2214720"/>
            <a:ext cx="1285920" cy="128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Скругленный прямоугольник 33"/>
          <p:cNvGrpSpPr/>
          <p:nvPr/>
        </p:nvGrpSpPr>
        <p:grpSpPr>
          <a:xfrm>
            <a:off x="3151080" y="2176560"/>
            <a:ext cx="1408320" cy="1407960"/>
            <a:chOff x="3151080" y="2176560"/>
            <a:chExt cx="1408320" cy="1407960"/>
          </a:xfrm>
        </p:grpSpPr>
        <p:pic>
          <p:nvPicPr>
            <p:cNvPr id="1307" name="Скругленный прямоугольник 33" descr=""/>
            <p:cNvPicPr/>
            <p:nvPr/>
          </p:nvPicPr>
          <p:blipFill>
            <a:blip r:embed="rId17"/>
            <a:stretch/>
          </p:blipFill>
          <p:spPr>
            <a:xfrm>
              <a:off x="3151080" y="2176560"/>
              <a:ext cx="14083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8" name=""/>
            <p:cNvSpPr/>
            <p:nvPr/>
          </p:nvSpPr>
          <p:spPr>
            <a:xfrm>
              <a:off x="3278160" y="2278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9" name="Скругленный прямоугольник 34"/>
          <p:cNvGrpSpPr/>
          <p:nvPr/>
        </p:nvGrpSpPr>
        <p:grpSpPr>
          <a:xfrm>
            <a:off x="2968560" y="2023920"/>
            <a:ext cx="1774800" cy="1987560"/>
            <a:chOff x="2968560" y="2023920"/>
            <a:chExt cx="1774800" cy="1987560"/>
          </a:xfrm>
        </p:grpSpPr>
        <p:pic>
          <p:nvPicPr>
            <p:cNvPr id="1310" name="Скругленный прямоугольник 34" descr=""/>
            <p:cNvPicPr/>
            <p:nvPr/>
          </p:nvPicPr>
          <p:blipFill>
            <a:blip r:embed="rId18"/>
            <a:stretch/>
          </p:blipFill>
          <p:spPr>
            <a:xfrm>
              <a:off x="2968560" y="2023920"/>
              <a:ext cx="177480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1" name=""/>
            <p:cNvSpPr/>
            <p:nvPr/>
          </p:nvSpPr>
          <p:spPr>
            <a:xfrm>
              <a:off x="3278160" y="2278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З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Скругленный прямоугольник 35"/>
          <p:cNvSpPr/>
          <p:nvPr/>
        </p:nvSpPr>
        <p:spPr>
          <a:xfrm>
            <a:off x="3214800" y="2214720"/>
            <a:ext cx="1285920" cy="128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Скругленный прямоугольник 36"/>
          <p:cNvGrpSpPr/>
          <p:nvPr/>
        </p:nvGrpSpPr>
        <p:grpSpPr>
          <a:xfrm>
            <a:off x="4511520" y="2176560"/>
            <a:ext cx="1408320" cy="1407960"/>
            <a:chOff x="4511520" y="2176560"/>
            <a:chExt cx="1408320" cy="1407960"/>
          </a:xfrm>
        </p:grpSpPr>
        <p:pic>
          <p:nvPicPr>
            <p:cNvPr id="1314" name="Скругленный прямоугольник 36" descr=""/>
            <p:cNvPicPr/>
            <p:nvPr/>
          </p:nvPicPr>
          <p:blipFill>
            <a:blip r:embed="rId19"/>
            <a:stretch/>
          </p:blipFill>
          <p:spPr>
            <a:xfrm>
              <a:off x="4511520" y="2176560"/>
              <a:ext cx="14083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5" name=""/>
            <p:cNvSpPr/>
            <p:nvPr/>
          </p:nvSpPr>
          <p:spPr>
            <a:xfrm>
              <a:off x="4635360" y="2278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6" name="Скругленный прямоугольник 37"/>
          <p:cNvGrpSpPr/>
          <p:nvPr/>
        </p:nvGrpSpPr>
        <p:grpSpPr>
          <a:xfrm>
            <a:off x="4260960" y="2023920"/>
            <a:ext cx="1901880" cy="1987560"/>
            <a:chOff x="4260960" y="2023920"/>
            <a:chExt cx="1901880" cy="1987560"/>
          </a:xfrm>
        </p:grpSpPr>
        <p:pic>
          <p:nvPicPr>
            <p:cNvPr id="1317" name="Скругленный прямоугольник 37" descr=""/>
            <p:cNvPicPr/>
            <p:nvPr/>
          </p:nvPicPr>
          <p:blipFill>
            <a:blip r:embed="rId20"/>
            <a:stretch/>
          </p:blipFill>
          <p:spPr>
            <a:xfrm>
              <a:off x="4260960" y="2023920"/>
              <a:ext cx="1901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8" name=""/>
            <p:cNvSpPr/>
            <p:nvPr/>
          </p:nvSpPr>
          <p:spPr>
            <a:xfrm>
              <a:off x="4635360" y="2278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И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9" name="Скругленный прямоугольник 38"/>
          <p:cNvSpPr/>
          <p:nvPr/>
        </p:nvSpPr>
        <p:spPr>
          <a:xfrm>
            <a:off x="4572000" y="2214720"/>
            <a:ext cx="1285920" cy="128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0" name="Скругленный прямоугольник 39"/>
          <p:cNvGrpSpPr/>
          <p:nvPr/>
        </p:nvGrpSpPr>
        <p:grpSpPr>
          <a:xfrm>
            <a:off x="5870520" y="2176560"/>
            <a:ext cx="1401840" cy="1407960"/>
            <a:chOff x="5870520" y="2176560"/>
            <a:chExt cx="1401840" cy="1407960"/>
          </a:xfrm>
        </p:grpSpPr>
        <p:pic>
          <p:nvPicPr>
            <p:cNvPr id="1321" name="Скругленный прямоугольник 39" descr=""/>
            <p:cNvPicPr/>
            <p:nvPr/>
          </p:nvPicPr>
          <p:blipFill>
            <a:blip r:embed="rId21"/>
            <a:stretch/>
          </p:blipFill>
          <p:spPr>
            <a:xfrm>
              <a:off x="5870520" y="2176560"/>
              <a:ext cx="14018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2" name=""/>
            <p:cNvSpPr/>
            <p:nvPr/>
          </p:nvSpPr>
          <p:spPr>
            <a:xfrm>
              <a:off x="5992920" y="2278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3" name="Скругленный прямоугольник 40"/>
          <p:cNvGrpSpPr/>
          <p:nvPr/>
        </p:nvGrpSpPr>
        <p:grpSpPr>
          <a:xfrm>
            <a:off x="5657760" y="2023920"/>
            <a:ext cx="1822680" cy="1987560"/>
            <a:chOff x="5657760" y="2023920"/>
            <a:chExt cx="1822680" cy="1987560"/>
          </a:xfrm>
        </p:grpSpPr>
        <p:pic>
          <p:nvPicPr>
            <p:cNvPr id="1324" name="Скругленный прямоугольник 40" descr=""/>
            <p:cNvPicPr/>
            <p:nvPr/>
          </p:nvPicPr>
          <p:blipFill>
            <a:blip r:embed="rId22"/>
            <a:stretch/>
          </p:blipFill>
          <p:spPr>
            <a:xfrm>
              <a:off x="5657760" y="2023920"/>
              <a:ext cx="18226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5" name=""/>
            <p:cNvSpPr/>
            <p:nvPr/>
          </p:nvSpPr>
          <p:spPr>
            <a:xfrm>
              <a:off x="5992920" y="2278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К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6" name="Скругленный прямоугольник 41"/>
          <p:cNvSpPr/>
          <p:nvPr/>
        </p:nvSpPr>
        <p:spPr>
          <a:xfrm>
            <a:off x="5929200" y="2214720"/>
            <a:ext cx="1285920" cy="128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Скругленный прямоугольник 42"/>
          <p:cNvGrpSpPr/>
          <p:nvPr/>
        </p:nvGrpSpPr>
        <p:grpSpPr>
          <a:xfrm>
            <a:off x="7223040" y="2176560"/>
            <a:ext cx="1408320" cy="1407960"/>
            <a:chOff x="7223040" y="2176560"/>
            <a:chExt cx="1408320" cy="1407960"/>
          </a:xfrm>
        </p:grpSpPr>
        <p:pic>
          <p:nvPicPr>
            <p:cNvPr id="1328" name="Скругленный прямоугольник 42" descr=""/>
            <p:cNvPicPr/>
            <p:nvPr/>
          </p:nvPicPr>
          <p:blipFill>
            <a:blip r:embed="rId23"/>
            <a:stretch/>
          </p:blipFill>
          <p:spPr>
            <a:xfrm>
              <a:off x="7223040" y="2176560"/>
              <a:ext cx="14083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9" name=""/>
            <p:cNvSpPr/>
            <p:nvPr/>
          </p:nvSpPr>
          <p:spPr>
            <a:xfrm>
              <a:off x="7348680" y="2278080"/>
              <a:ext cx="1160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Скругленный прямоугольник 43"/>
          <p:cNvGrpSpPr/>
          <p:nvPr/>
        </p:nvGrpSpPr>
        <p:grpSpPr>
          <a:xfrm>
            <a:off x="7029360" y="2023920"/>
            <a:ext cx="1790640" cy="1987560"/>
            <a:chOff x="7029360" y="2023920"/>
            <a:chExt cx="1790640" cy="1987560"/>
          </a:xfrm>
        </p:grpSpPr>
        <p:pic>
          <p:nvPicPr>
            <p:cNvPr id="1331" name="Скругленный прямоугольник 43" descr=""/>
            <p:cNvPicPr/>
            <p:nvPr/>
          </p:nvPicPr>
          <p:blipFill>
            <a:blip r:embed="rId24"/>
            <a:stretch/>
          </p:blipFill>
          <p:spPr>
            <a:xfrm>
              <a:off x="7029360" y="2023920"/>
              <a:ext cx="17906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2" name=""/>
            <p:cNvSpPr/>
            <p:nvPr/>
          </p:nvSpPr>
          <p:spPr>
            <a:xfrm>
              <a:off x="7350120" y="2278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Л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3" name="Скругленный прямоугольник 44"/>
          <p:cNvSpPr/>
          <p:nvPr/>
        </p:nvSpPr>
        <p:spPr>
          <a:xfrm>
            <a:off x="7286760" y="2214720"/>
            <a:ext cx="1285920" cy="128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Box 45"/>
          <p:cNvSpPr/>
          <p:nvPr/>
        </p:nvSpPr>
        <p:spPr>
          <a:xfrm>
            <a:off x="1214280" y="4500720"/>
            <a:ext cx="73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Фрагмент анимированной азб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Прямоугольник 46">
            <a:hlinkClick r:id="" action="ppaction://hlinkshowjump?jump=endshow"/>
          </p:cNvPr>
          <p:cNvSpPr/>
          <p:nvPr/>
        </p:nvSpPr>
        <p:spPr>
          <a:xfrm>
            <a:off x="7164360" y="6000840"/>
            <a:ext cx="1622520" cy="571320"/>
          </a:xfrm>
          <a:prstGeom prst="rect">
            <a:avLst/>
          </a:prstGeom>
          <a:solidFill>
            <a:srgbClr val="e3eacf"/>
          </a:solidFill>
          <a:ln w="507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Завершить по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Стрелка вправо 1">
            <a:hlinkClick r:id="" action="ppaction://hlinkshowjump?jump=previousslide"/>
          </p:cNvPr>
          <p:cNvSpPr/>
          <p:nvPr/>
        </p:nvSpPr>
        <p:spPr>
          <a:xfrm rot="10800000">
            <a:off x="6372360" y="623700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1256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1256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evt="onClick">
                          <p:tgtEl>
                            <p:spTgt spid="1256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263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263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evt="onClick">
                          <p:tgtEl>
                            <p:spTgt spid="1263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270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270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evt="onClick">
                          <p:tgtEl>
                            <p:spTgt spid="1270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83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283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evt="onClick">
                          <p:tgtEl>
                            <p:spTgt spid="1283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284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1284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evt="onClick">
                          <p:tgtEl>
                            <p:spTgt spid="1284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291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291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evt="onClick">
                          <p:tgtEl>
                            <p:spTgt spid="1291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298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1298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129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305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1305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evt="onClick">
                          <p:tgtEl>
                            <p:spTgt spid="1305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312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312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evt="onClick">
                          <p:tgtEl>
                            <p:spTgt spid="1312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319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1319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evt="onClick">
                          <p:tgtEl>
                            <p:spTgt spid="1319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326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1326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evt="onClick">
                          <p:tgtEl>
                            <p:spTgt spid="1326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333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1333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evt="onClick">
                          <p:tgtEl>
                            <p:spTgt spid="1333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TextBox 1" descr=""/>
          <p:cNvPicPr/>
          <p:nvPr/>
        </p:nvPicPr>
        <p:blipFill>
          <a:blip r:embed="rId1"/>
          <a:stretch/>
        </p:blipFill>
        <p:spPr>
          <a:xfrm>
            <a:off x="835200" y="212760"/>
            <a:ext cx="7589520" cy="1305000"/>
          </a:xfrm>
          <a:prstGeom prst="rect">
            <a:avLst/>
          </a:prstGeom>
          <a:ln w="0">
            <a:noFill/>
          </a:ln>
        </p:spPr>
      </p:pic>
      <p:sp>
        <p:nvSpPr>
          <p:cNvPr id="1338" name="Стрелка вправо 8">
            <a:hlinkClick r:id="" action="ppaction://hlinkshowjump?jump=previousslide"/>
          </p:cNvPr>
          <p:cNvSpPr/>
          <p:nvPr/>
        </p:nvSpPr>
        <p:spPr>
          <a:xfrm rot="10800000">
            <a:off x="5315040" y="658944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6824520" y="6362640"/>
            <a:ext cx="347760" cy="4320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6827">
                <a:moveTo>
                  <a:pt x="0" y="0"/>
                </a:moveTo>
                <a:lnTo>
                  <a:pt x="21600" y="0"/>
                </a:lnTo>
                <a:lnTo>
                  <a:pt x="21600" y="26827"/>
                </a:lnTo>
                <a:lnTo>
                  <a:pt x="0" y="26827"/>
                </a:lnTo>
                <a:close/>
              </a:path>
              <a:path fill="lightenLess" w="21600" h="268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27">
                <a:moveTo>
                  <a:pt x="21600" y="0"/>
                </a:moveTo>
                <a:lnTo>
                  <a:pt x="21600" y="26827"/>
                </a:lnTo>
                <a:lnTo>
                  <a:pt x="20200" y="25427"/>
                </a:lnTo>
                <a:lnTo>
                  <a:pt x="20200" y="1400"/>
                </a:lnTo>
                <a:close/>
              </a:path>
              <a:path fill="darkenLess" w="21600" h="26827">
                <a:moveTo>
                  <a:pt x="21600" y="26827"/>
                </a:moveTo>
                <a:lnTo>
                  <a:pt x="0" y="26827"/>
                </a:lnTo>
                <a:lnTo>
                  <a:pt x="1400" y="25427"/>
                </a:lnTo>
                <a:lnTo>
                  <a:pt x="20200" y="25427"/>
                </a:lnTo>
                <a:close/>
              </a:path>
              <a:path fill="lighten" w="21600" h="26827">
                <a:moveTo>
                  <a:pt x="0" y="268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27"/>
                </a:lnTo>
                <a:close/>
              </a:path>
              <a:path fill="darken" w="21600" h="26827">
                <a:moveTo>
                  <a:pt x="10800" y="6450"/>
                </a:moveTo>
                <a:lnTo>
                  <a:pt x="13376" y="9062"/>
                </a:ln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lnTo>
                  <a:pt x="17763" y="13413"/>
                </a:lnTo>
                <a:lnTo>
                  <a:pt x="16109" y="13413"/>
                </a:lnTo>
                <a:lnTo>
                  <a:pt x="16109" y="20603"/>
                </a:lnTo>
                <a:lnTo>
                  <a:pt x="5491" y="20603"/>
                </a:lnTo>
                <a:lnTo>
                  <a:pt x="5491" y="13413"/>
                </a:lnTo>
                <a:lnTo>
                  <a:pt x="3837" y="13413"/>
                </a:lnTo>
                <a:close/>
              </a:path>
              <a:path fill="darkenLess" w="21600" h="26827">
                <a:moveTo>
                  <a:pt x="13376" y="9062"/>
                </a:move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close/>
              </a:path>
              <a:path fill="darkenLess" w="21600" h="26827">
                <a:moveTo>
                  <a:pt x="9877" y="16912"/>
                </a:moveTo>
                <a:lnTo>
                  <a:pt x="11723" y="16912"/>
                </a:lnTo>
                <a:lnTo>
                  <a:pt x="11723" y="20603"/>
                </a:lnTo>
                <a:lnTo>
                  <a:pt x="16109" y="20603"/>
                </a:lnTo>
                <a:lnTo>
                  <a:pt x="16109" y="13413"/>
                </a:lnTo>
                <a:lnTo>
                  <a:pt x="5491" y="13413"/>
                </a:lnTo>
                <a:lnTo>
                  <a:pt x="5491" y="20603"/>
                </a:lnTo>
                <a:lnTo>
                  <a:pt x="9877" y="20603"/>
                </a:lnTo>
                <a:close/>
              </a:path>
            </a:pathLst>
          </a:cu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Прямоугольник 2"/>
          <p:cNvSpPr/>
          <p:nvPr/>
        </p:nvSpPr>
        <p:spPr>
          <a:xfrm>
            <a:off x="539640" y="1557360"/>
            <a:ext cx="806472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b4a18"/>
                </a:solidFill>
                <a:latin typeface="Georgia"/>
              </a:rPr>
              <a:t>http://literatura5.narod.ru/teory_rech_tabl.htm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b4a18"/>
                </a:solidFill>
                <a:latin typeface="Georgia"/>
              </a:rPr>
              <a:t>http://xn--80aff1fya.xn--p1ai/news/b8/2012-04-28-10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b4a18"/>
                </a:solidFill>
                <a:latin typeface="Georgia"/>
              </a:rPr>
              <a:t>http://russkiy-na-5.ru/articles/99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Georgia"/>
              </a:rPr>
              <a:t>Аствацатуров Г.О. Технологический прием «Анимированная сорбонка»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900" spc="-1" strike="noStrike">
                <a:solidFill>
                  <a:srgbClr val="ff0000"/>
                </a:solidFill>
                <a:latin typeface="Georgia"/>
              </a:rPr>
              <a:t>(фрагмент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b4a18"/>
                </a:solidFill>
                <a:latin typeface="Georgia"/>
              </a:rPr>
              <a:t>http://www.it-n.ru/communities.aspx?cat_no=13748&amp;d_no=222265&amp;ext=Attachment.aspx?Id=97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Georgia"/>
              </a:rPr>
              <a:t>Шамарина Т.Н. Интерактивный прием "Анимированная сорбонка" в PowerPoint. Подробная инструкц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b4a18"/>
                </a:solidFill>
                <a:latin typeface="Georgia"/>
              </a:rPr>
              <a:t>http://pedsovet.su/powerpoint/5677_kak_sdelat_animirovannuyu_sorbon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Georgia"/>
              </a:rPr>
              <a:t>фон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b4a18"/>
                </a:solidFill>
                <a:latin typeface="Georgia"/>
              </a:rPr>
              <a:t>http://www.atribytikavityaz.ru/pages/imgs/5631bcfecf778.jp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Стрелка вправо 7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2048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Стрелка вправо 8">
            <a:hlinkClick r:id="" action="ppaction://hlinkshowjump?jump=previousslide"/>
          </p:cNvPr>
          <p:cNvSpPr/>
          <p:nvPr/>
        </p:nvSpPr>
        <p:spPr>
          <a:xfrm rot="10800000">
            <a:off x="5315040" y="658944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6824520" y="6362640"/>
            <a:ext cx="347760" cy="4320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6827">
                <a:moveTo>
                  <a:pt x="0" y="0"/>
                </a:moveTo>
                <a:lnTo>
                  <a:pt x="21600" y="0"/>
                </a:lnTo>
                <a:lnTo>
                  <a:pt x="21600" y="26827"/>
                </a:lnTo>
                <a:lnTo>
                  <a:pt x="0" y="26827"/>
                </a:lnTo>
                <a:close/>
              </a:path>
              <a:path fill="lightenLess" w="21600" h="268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27">
                <a:moveTo>
                  <a:pt x="21600" y="0"/>
                </a:moveTo>
                <a:lnTo>
                  <a:pt x="21600" y="26827"/>
                </a:lnTo>
                <a:lnTo>
                  <a:pt x="20200" y="25427"/>
                </a:lnTo>
                <a:lnTo>
                  <a:pt x="20200" y="1400"/>
                </a:lnTo>
                <a:close/>
              </a:path>
              <a:path fill="darkenLess" w="21600" h="26827">
                <a:moveTo>
                  <a:pt x="21600" y="26827"/>
                </a:moveTo>
                <a:lnTo>
                  <a:pt x="0" y="26827"/>
                </a:lnTo>
                <a:lnTo>
                  <a:pt x="1400" y="25427"/>
                </a:lnTo>
                <a:lnTo>
                  <a:pt x="20200" y="25427"/>
                </a:lnTo>
                <a:close/>
              </a:path>
              <a:path fill="lighten" w="21600" h="26827">
                <a:moveTo>
                  <a:pt x="0" y="268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27"/>
                </a:lnTo>
                <a:close/>
              </a:path>
              <a:path fill="darken" w="21600" h="26827">
                <a:moveTo>
                  <a:pt x="10800" y="6450"/>
                </a:moveTo>
                <a:lnTo>
                  <a:pt x="13376" y="9062"/>
                </a:ln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lnTo>
                  <a:pt x="17763" y="13413"/>
                </a:lnTo>
                <a:lnTo>
                  <a:pt x="16109" y="13413"/>
                </a:lnTo>
                <a:lnTo>
                  <a:pt x="16109" y="20603"/>
                </a:lnTo>
                <a:lnTo>
                  <a:pt x="5491" y="20603"/>
                </a:lnTo>
                <a:lnTo>
                  <a:pt x="5491" y="13413"/>
                </a:lnTo>
                <a:lnTo>
                  <a:pt x="3837" y="13413"/>
                </a:lnTo>
                <a:close/>
              </a:path>
              <a:path fill="darkenLess" w="21600" h="26827">
                <a:moveTo>
                  <a:pt x="13376" y="9062"/>
                </a:move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close/>
              </a:path>
              <a:path fill="darkenLess" w="21600" h="26827">
                <a:moveTo>
                  <a:pt x="9877" y="16912"/>
                </a:moveTo>
                <a:lnTo>
                  <a:pt x="11723" y="16912"/>
                </a:lnTo>
                <a:lnTo>
                  <a:pt x="11723" y="20603"/>
                </a:lnTo>
                <a:lnTo>
                  <a:pt x="16109" y="20603"/>
                </a:lnTo>
                <a:lnTo>
                  <a:pt x="16109" y="13413"/>
                </a:lnTo>
                <a:lnTo>
                  <a:pt x="5491" y="13413"/>
                </a:lnTo>
                <a:lnTo>
                  <a:pt x="5491" y="20603"/>
                </a:lnTo>
                <a:lnTo>
                  <a:pt x="9877" y="20603"/>
                </a:lnTo>
                <a:close/>
              </a:path>
            </a:pathLst>
          </a:cu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10"/>
          <p:cNvSpPr/>
          <p:nvPr/>
        </p:nvSpPr>
        <p:spPr>
          <a:xfrm>
            <a:off x="684360" y="1341360"/>
            <a:ext cx="79930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Сорбонка - это двусторонняя карт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С одной стороны карточки записывается вопрос, а с другой  -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Таким образом ученик отвечает на вопрос и тут же проверяет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Анимированную сорбонку можно использовать для заучивания определений, понятий, падежей, д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Стрелка вправо 7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2048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Стрелка вправо 8">
            <a:hlinkClick r:id="" action="ppaction://hlinkshowjump?jump=previousslide"/>
          </p:cNvPr>
          <p:cNvSpPr/>
          <p:nvPr/>
        </p:nvSpPr>
        <p:spPr>
          <a:xfrm rot="10800000">
            <a:off x="5315040" y="6589440"/>
            <a:ext cx="576000" cy="2048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6824520" y="6362640"/>
            <a:ext cx="347760" cy="4320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6827">
                <a:moveTo>
                  <a:pt x="0" y="0"/>
                </a:moveTo>
                <a:lnTo>
                  <a:pt x="21600" y="0"/>
                </a:lnTo>
                <a:lnTo>
                  <a:pt x="21600" y="26827"/>
                </a:lnTo>
                <a:lnTo>
                  <a:pt x="0" y="26827"/>
                </a:lnTo>
                <a:close/>
              </a:path>
              <a:path fill="lightenLess" w="21600" h="268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27">
                <a:moveTo>
                  <a:pt x="21600" y="0"/>
                </a:moveTo>
                <a:lnTo>
                  <a:pt x="21600" y="26827"/>
                </a:lnTo>
                <a:lnTo>
                  <a:pt x="20200" y="25427"/>
                </a:lnTo>
                <a:lnTo>
                  <a:pt x="20200" y="1400"/>
                </a:lnTo>
                <a:close/>
              </a:path>
              <a:path fill="darkenLess" w="21600" h="26827">
                <a:moveTo>
                  <a:pt x="21600" y="26827"/>
                </a:moveTo>
                <a:lnTo>
                  <a:pt x="0" y="26827"/>
                </a:lnTo>
                <a:lnTo>
                  <a:pt x="1400" y="25427"/>
                </a:lnTo>
                <a:lnTo>
                  <a:pt x="20200" y="25427"/>
                </a:lnTo>
                <a:close/>
              </a:path>
              <a:path fill="lighten" w="21600" h="26827">
                <a:moveTo>
                  <a:pt x="0" y="268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27"/>
                </a:lnTo>
                <a:close/>
              </a:path>
              <a:path fill="darken" w="21600" h="26827">
                <a:moveTo>
                  <a:pt x="10800" y="6450"/>
                </a:moveTo>
                <a:lnTo>
                  <a:pt x="13376" y="9062"/>
                </a:ln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lnTo>
                  <a:pt x="17763" y="13413"/>
                </a:lnTo>
                <a:lnTo>
                  <a:pt x="16109" y="13413"/>
                </a:lnTo>
                <a:lnTo>
                  <a:pt x="16109" y="20603"/>
                </a:lnTo>
                <a:lnTo>
                  <a:pt x="5491" y="20603"/>
                </a:lnTo>
                <a:lnTo>
                  <a:pt x="5491" y="13413"/>
                </a:lnTo>
                <a:lnTo>
                  <a:pt x="3837" y="13413"/>
                </a:lnTo>
                <a:close/>
              </a:path>
              <a:path fill="darkenLess" w="21600" h="26827">
                <a:moveTo>
                  <a:pt x="13376" y="9062"/>
                </a:move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close/>
              </a:path>
              <a:path fill="darkenLess" w="21600" h="26827">
                <a:moveTo>
                  <a:pt x="9877" y="16912"/>
                </a:moveTo>
                <a:lnTo>
                  <a:pt x="11723" y="16912"/>
                </a:lnTo>
                <a:lnTo>
                  <a:pt x="11723" y="20603"/>
                </a:lnTo>
                <a:lnTo>
                  <a:pt x="16109" y="20603"/>
                </a:lnTo>
                <a:lnTo>
                  <a:pt x="16109" y="13413"/>
                </a:lnTo>
                <a:lnTo>
                  <a:pt x="5491" y="13413"/>
                </a:lnTo>
                <a:lnTo>
                  <a:pt x="5491" y="20603"/>
                </a:lnTo>
                <a:lnTo>
                  <a:pt x="9877" y="20603"/>
                </a:lnTo>
                <a:close/>
              </a:path>
            </a:pathLst>
          </a:cu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5"/>
          <p:cNvSpPr/>
          <p:nvPr/>
        </p:nvSpPr>
        <p:spPr>
          <a:xfrm>
            <a:off x="684360" y="47628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Этап 1. Подготовите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Создадим на слайде скругленный прямоугольник — сорбонку. Для этого откроем вкладку</a:t>
            </a:r>
            <a:r>
              <a:rPr b="0" lang="ru-RU" sz="2400" spc="-1" strike="noStrike">
                <a:solidFill>
                  <a:srgbClr val="0033cc"/>
                </a:solidFill>
                <a:latin typeface="Georgia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Вставка 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—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 Фигуры 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—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рямоугольники 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—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 Скругленный прямоугольник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2" name="Picture 6" descr="03857172"/>
          <p:cNvPicPr/>
          <p:nvPr/>
        </p:nvPicPr>
        <p:blipFill>
          <a:blip r:embed="rId1"/>
          <a:stretch/>
        </p:blipFill>
        <p:spPr>
          <a:xfrm>
            <a:off x="1908000" y="2789280"/>
            <a:ext cx="5472360" cy="34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Стрелка вправо 7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2048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Стрелка вправо 8">
            <a:hlinkClick r:id="" action="ppaction://hlinkshowjump?jump=previousslide"/>
          </p:cNvPr>
          <p:cNvSpPr/>
          <p:nvPr/>
        </p:nvSpPr>
        <p:spPr>
          <a:xfrm rot="10800000">
            <a:off x="5315040" y="658944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6824520" y="6362640"/>
            <a:ext cx="347760" cy="4320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6827">
                <a:moveTo>
                  <a:pt x="0" y="0"/>
                </a:moveTo>
                <a:lnTo>
                  <a:pt x="21600" y="0"/>
                </a:lnTo>
                <a:lnTo>
                  <a:pt x="21600" y="26827"/>
                </a:lnTo>
                <a:lnTo>
                  <a:pt x="0" y="26827"/>
                </a:lnTo>
                <a:close/>
              </a:path>
              <a:path fill="lightenLess" w="21600" h="268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27">
                <a:moveTo>
                  <a:pt x="21600" y="0"/>
                </a:moveTo>
                <a:lnTo>
                  <a:pt x="21600" y="26827"/>
                </a:lnTo>
                <a:lnTo>
                  <a:pt x="20200" y="25427"/>
                </a:lnTo>
                <a:lnTo>
                  <a:pt x="20200" y="1400"/>
                </a:lnTo>
                <a:close/>
              </a:path>
              <a:path fill="darkenLess" w="21600" h="26827">
                <a:moveTo>
                  <a:pt x="21600" y="26827"/>
                </a:moveTo>
                <a:lnTo>
                  <a:pt x="0" y="26827"/>
                </a:lnTo>
                <a:lnTo>
                  <a:pt x="1400" y="25427"/>
                </a:lnTo>
                <a:lnTo>
                  <a:pt x="20200" y="25427"/>
                </a:lnTo>
                <a:close/>
              </a:path>
              <a:path fill="lighten" w="21600" h="26827">
                <a:moveTo>
                  <a:pt x="0" y="268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27"/>
                </a:lnTo>
                <a:close/>
              </a:path>
              <a:path fill="darken" w="21600" h="26827">
                <a:moveTo>
                  <a:pt x="10800" y="6450"/>
                </a:moveTo>
                <a:lnTo>
                  <a:pt x="13376" y="9062"/>
                </a:ln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lnTo>
                  <a:pt x="17763" y="13413"/>
                </a:lnTo>
                <a:lnTo>
                  <a:pt x="16109" y="13413"/>
                </a:lnTo>
                <a:lnTo>
                  <a:pt x="16109" y="20603"/>
                </a:lnTo>
                <a:lnTo>
                  <a:pt x="5491" y="20603"/>
                </a:lnTo>
                <a:lnTo>
                  <a:pt x="5491" y="13413"/>
                </a:lnTo>
                <a:lnTo>
                  <a:pt x="3837" y="13413"/>
                </a:lnTo>
                <a:close/>
              </a:path>
              <a:path fill="darkenLess" w="21600" h="26827">
                <a:moveTo>
                  <a:pt x="13376" y="9062"/>
                </a:move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close/>
              </a:path>
              <a:path fill="darkenLess" w="21600" h="26827">
                <a:moveTo>
                  <a:pt x="9877" y="16912"/>
                </a:moveTo>
                <a:lnTo>
                  <a:pt x="11723" y="16912"/>
                </a:lnTo>
                <a:lnTo>
                  <a:pt x="11723" y="20603"/>
                </a:lnTo>
                <a:lnTo>
                  <a:pt x="16109" y="20603"/>
                </a:lnTo>
                <a:lnTo>
                  <a:pt x="16109" y="13413"/>
                </a:lnTo>
                <a:lnTo>
                  <a:pt x="5491" y="13413"/>
                </a:lnTo>
                <a:lnTo>
                  <a:pt x="5491" y="20603"/>
                </a:lnTo>
                <a:lnTo>
                  <a:pt x="9877" y="20603"/>
                </a:lnTo>
                <a:close/>
              </a:path>
            </a:pathLst>
          </a:cu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5"/>
          <p:cNvSpPr/>
          <p:nvPr/>
        </p:nvSpPr>
        <p:spPr>
          <a:xfrm>
            <a:off x="611280" y="40464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Скопируем этот квадрат и вставим его 2 раза. Всего получится три квадр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первый квадрат — ответ (обратная сторона сорбон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торой квадрат — вопрос (первая сторона сорбонк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третий квадрат — тригг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ажно помнить последовательность, в которой мы создали объе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7" name="Picture 6" descr="04946219"/>
          <p:cNvPicPr/>
          <p:nvPr/>
        </p:nvPicPr>
        <p:blipFill>
          <a:blip r:embed="rId1"/>
          <a:stretch/>
        </p:blipFill>
        <p:spPr>
          <a:xfrm>
            <a:off x="2050920" y="4221000"/>
            <a:ext cx="52387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Стрелка вправо 7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2048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Стрелка вправо 8">
            <a:hlinkClick r:id="" action="ppaction://hlinkshowjump?jump=previousslide"/>
          </p:cNvPr>
          <p:cNvSpPr/>
          <p:nvPr/>
        </p:nvSpPr>
        <p:spPr>
          <a:xfrm rot="10800000">
            <a:off x="5315040" y="6589440"/>
            <a:ext cx="576000" cy="2048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6824520" y="6362640"/>
            <a:ext cx="347760" cy="4320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6827">
                <a:moveTo>
                  <a:pt x="0" y="0"/>
                </a:moveTo>
                <a:lnTo>
                  <a:pt x="21600" y="0"/>
                </a:lnTo>
                <a:lnTo>
                  <a:pt x="21600" y="26827"/>
                </a:lnTo>
                <a:lnTo>
                  <a:pt x="0" y="26827"/>
                </a:lnTo>
                <a:close/>
              </a:path>
              <a:path fill="lightenLess" w="21600" h="268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27">
                <a:moveTo>
                  <a:pt x="21600" y="0"/>
                </a:moveTo>
                <a:lnTo>
                  <a:pt x="21600" y="26827"/>
                </a:lnTo>
                <a:lnTo>
                  <a:pt x="20200" y="25427"/>
                </a:lnTo>
                <a:lnTo>
                  <a:pt x="20200" y="1400"/>
                </a:lnTo>
                <a:close/>
              </a:path>
              <a:path fill="darkenLess" w="21600" h="26827">
                <a:moveTo>
                  <a:pt x="21600" y="26827"/>
                </a:moveTo>
                <a:lnTo>
                  <a:pt x="0" y="26827"/>
                </a:lnTo>
                <a:lnTo>
                  <a:pt x="1400" y="25427"/>
                </a:lnTo>
                <a:lnTo>
                  <a:pt x="20200" y="25427"/>
                </a:lnTo>
                <a:close/>
              </a:path>
              <a:path fill="lighten" w="21600" h="26827">
                <a:moveTo>
                  <a:pt x="0" y="268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27"/>
                </a:lnTo>
                <a:close/>
              </a:path>
              <a:path fill="darken" w="21600" h="26827">
                <a:moveTo>
                  <a:pt x="10800" y="6450"/>
                </a:moveTo>
                <a:lnTo>
                  <a:pt x="13376" y="9062"/>
                </a:ln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lnTo>
                  <a:pt x="17763" y="13413"/>
                </a:lnTo>
                <a:lnTo>
                  <a:pt x="16109" y="13413"/>
                </a:lnTo>
                <a:lnTo>
                  <a:pt x="16109" y="20603"/>
                </a:lnTo>
                <a:lnTo>
                  <a:pt x="5491" y="20603"/>
                </a:lnTo>
                <a:lnTo>
                  <a:pt x="5491" y="13413"/>
                </a:lnTo>
                <a:lnTo>
                  <a:pt x="3837" y="13413"/>
                </a:lnTo>
                <a:close/>
              </a:path>
              <a:path fill="darkenLess" w="21600" h="26827">
                <a:moveTo>
                  <a:pt x="13376" y="9062"/>
                </a:move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close/>
              </a:path>
              <a:path fill="darkenLess" w="21600" h="26827">
                <a:moveTo>
                  <a:pt x="9877" y="16912"/>
                </a:moveTo>
                <a:lnTo>
                  <a:pt x="11723" y="16912"/>
                </a:lnTo>
                <a:lnTo>
                  <a:pt x="11723" y="20603"/>
                </a:lnTo>
                <a:lnTo>
                  <a:pt x="16109" y="20603"/>
                </a:lnTo>
                <a:lnTo>
                  <a:pt x="16109" y="13413"/>
                </a:lnTo>
                <a:lnTo>
                  <a:pt x="5491" y="13413"/>
                </a:lnTo>
                <a:lnTo>
                  <a:pt x="5491" y="20603"/>
                </a:lnTo>
                <a:lnTo>
                  <a:pt x="9877" y="20603"/>
                </a:lnTo>
                <a:close/>
              </a:path>
            </a:pathLst>
          </a:cu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5"/>
          <p:cNvSpPr/>
          <p:nvPr/>
        </p:nvSpPr>
        <p:spPr>
          <a:xfrm>
            <a:off x="611280" y="62064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Триггер –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управляющая кнопка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Щелкая по кнопке, мы будем запускать вращение объектов. Обратите внимание, что эта кнопка –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розрачная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. </a:t>
            </a: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о время демонстрации её не видно. Она находится на переднем плане и задаёт движение другим объекта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AutoShape 3"/>
          <p:cNvSpPr/>
          <p:nvPr/>
        </p:nvSpPr>
        <p:spPr>
          <a:xfrm>
            <a:off x="3635280" y="4149720"/>
            <a:ext cx="2016360" cy="934920"/>
          </a:xfrm>
          <a:prstGeom prst="roundRect">
            <a:avLst>
              <a:gd name="adj" fmla="val 16667"/>
            </a:avLst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ригг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2"/>
          <p:cNvSpPr/>
          <p:nvPr/>
        </p:nvSpPr>
        <p:spPr>
          <a:xfrm>
            <a:off x="324000" y="404640"/>
            <a:ext cx="85690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ff"/>
                </a:solidFill>
                <a:latin typeface="Georgia"/>
              </a:rPr>
              <a:t>Кнопку «Триггер» нельзя делать прозрачной командой 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“нет заливки”</a:t>
            </a:r>
            <a:r>
              <a:rPr b="1" lang="ru-RU" sz="2300" spc="-1" strike="noStrike">
                <a:solidFill>
                  <a:srgbClr val="0000ff"/>
                </a:solidFill>
                <a:latin typeface="Georgia"/>
              </a:rPr>
              <a:t>. В таком случае триггер будет работать только по контуру. В формате рисунка устанавливаем</a:t>
            </a:r>
            <a:r>
              <a:rPr b="1" i="1" lang="ru-RU" sz="2300" spc="-1" strike="noStrike">
                <a:solidFill>
                  <a:srgbClr val="0000ff"/>
                </a:solidFill>
                <a:latin typeface="Georgia"/>
              </a:rPr>
              <a:t> 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“движок”</a:t>
            </a:r>
            <a:r>
              <a:rPr b="1" lang="ru-RU" sz="2300" spc="-1" strike="noStrike">
                <a:solidFill>
                  <a:srgbClr val="0000ff"/>
                </a:solidFill>
                <a:latin typeface="Georgia"/>
              </a:rPr>
              <a:t> в  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300" spc="-1" strike="noStrike">
                <a:solidFill>
                  <a:srgbClr val="0000ff"/>
                </a:solidFill>
                <a:latin typeface="Georgia"/>
              </a:rPr>
              <a:t>и кнопка будет срабатывать по всей поверхнос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Рисунок 2" descr="00ad8172.jpg"/>
          <p:cNvPicPr/>
          <p:nvPr/>
        </p:nvPicPr>
        <p:blipFill>
          <a:blip r:embed="rId1"/>
          <a:stretch/>
        </p:blipFill>
        <p:spPr>
          <a:xfrm>
            <a:off x="2195640" y="2421000"/>
            <a:ext cx="4824360" cy="4044960"/>
          </a:xfrm>
          <a:prstGeom prst="rect">
            <a:avLst/>
          </a:prstGeom>
          <a:ln w="0">
            <a:noFill/>
          </a:ln>
        </p:spPr>
      </p:pic>
      <p:sp>
        <p:nvSpPr>
          <p:cNvPr id="1205" name="AutoShape 4"/>
          <p:cNvSpPr/>
          <p:nvPr/>
        </p:nvSpPr>
        <p:spPr>
          <a:xfrm flipH="1" rot="19481400">
            <a:off x="5219640" y="3357720"/>
            <a:ext cx="1944720" cy="195120"/>
          </a:xfrm>
          <a:prstGeom prst="rightArrow">
            <a:avLst>
              <a:gd name="adj1" fmla="val 50000"/>
              <a:gd name="adj2" fmla="val 249170"/>
            </a:avLst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Стрелка вправо 8">
            <a:hlinkClick r:id="" action="ppaction://hlinkshowjump?jump=previousslide"/>
          </p:cNvPr>
          <p:cNvSpPr/>
          <p:nvPr/>
        </p:nvSpPr>
        <p:spPr>
          <a:xfrm rot="10800000">
            <a:off x="5315040" y="658944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6824520" y="6362640"/>
            <a:ext cx="347760" cy="4320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6827">
                <a:moveTo>
                  <a:pt x="0" y="0"/>
                </a:moveTo>
                <a:lnTo>
                  <a:pt x="21600" y="0"/>
                </a:lnTo>
                <a:lnTo>
                  <a:pt x="21600" y="26827"/>
                </a:lnTo>
                <a:lnTo>
                  <a:pt x="0" y="26827"/>
                </a:lnTo>
                <a:close/>
              </a:path>
              <a:path fill="lightenLess" w="21600" h="268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27">
                <a:moveTo>
                  <a:pt x="21600" y="0"/>
                </a:moveTo>
                <a:lnTo>
                  <a:pt x="21600" y="26827"/>
                </a:lnTo>
                <a:lnTo>
                  <a:pt x="20200" y="25427"/>
                </a:lnTo>
                <a:lnTo>
                  <a:pt x="20200" y="1400"/>
                </a:lnTo>
                <a:close/>
              </a:path>
              <a:path fill="darkenLess" w="21600" h="26827">
                <a:moveTo>
                  <a:pt x="21600" y="26827"/>
                </a:moveTo>
                <a:lnTo>
                  <a:pt x="0" y="26827"/>
                </a:lnTo>
                <a:lnTo>
                  <a:pt x="1400" y="25427"/>
                </a:lnTo>
                <a:lnTo>
                  <a:pt x="20200" y="25427"/>
                </a:lnTo>
                <a:close/>
              </a:path>
              <a:path fill="lighten" w="21600" h="26827">
                <a:moveTo>
                  <a:pt x="0" y="268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27"/>
                </a:lnTo>
                <a:close/>
              </a:path>
              <a:path fill="darken" w="21600" h="26827">
                <a:moveTo>
                  <a:pt x="10800" y="6450"/>
                </a:moveTo>
                <a:lnTo>
                  <a:pt x="13376" y="9062"/>
                </a:ln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lnTo>
                  <a:pt x="17763" y="13413"/>
                </a:lnTo>
                <a:lnTo>
                  <a:pt x="16109" y="13413"/>
                </a:lnTo>
                <a:lnTo>
                  <a:pt x="16109" y="20603"/>
                </a:lnTo>
                <a:lnTo>
                  <a:pt x="5491" y="20603"/>
                </a:lnTo>
                <a:lnTo>
                  <a:pt x="5491" y="13413"/>
                </a:lnTo>
                <a:lnTo>
                  <a:pt x="3837" y="13413"/>
                </a:lnTo>
                <a:close/>
              </a:path>
              <a:path fill="darkenLess" w="21600" h="26827">
                <a:moveTo>
                  <a:pt x="13376" y="9062"/>
                </a:move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close/>
              </a:path>
              <a:path fill="darkenLess" w="21600" h="26827">
                <a:moveTo>
                  <a:pt x="9877" y="16912"/>
                </a:moveTo>
                <a:lnTo>
                  <a:pt x="11723" y="16912"/>
                </a:lnTo>
                <a:lnTo>
                  <a:pt x="11723" y="20603"/>
                </a:lnTo>
                <a:lnTo>
                  <a:pt x="16109" y="20603"/>
                </a:lnTo>
                <a:lnTo>
                  <a:pt x="16109" y="13413"/>
                </a:lnTo>
                <a:lnTo>
                  <a:pt x="5491" y="13413"/>
                </a:lnTo>
                <a:lnTo>
                  <a:pt x="5491" y="20603"/>
                </a:lnTo>
                <a:lnTo>
                  <a:pt x="9877" y="20603"/>
                </a:lnTo>
                <a:close/>
              </a:path>
            </a:pathLst>
          </a:cu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Стрелка вправо 7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2048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Стрелка вправо 1">
            <a:hlinkClick r:id="" action="ppaction://hlinkshowjump?jump=previousslide"/>
          </p:cNvPr>
          <p:cNvSpPr/>
          <p:nvPr/>
        </p:nvSpPr>
        <p:spPr>
          <a:xfrm rot="10800000">
            <a:off x="6004080" y="657828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Управляющая кнопка: домой 2">
            <a:hlinkClick r:id="" action="ppaction://hlinkshowjump?jump=firstslide"/>
          </p:cNvPr>
          <p:cNvSpPr/>
          <p:nvPr/>
        </p:nvSpPr>
        <p:spPr>
          <a:xfrm>
            <a:off x="7132680" y="6373800"/>
            <a:ext cx="345960" cy="431640"/>
          </a:xfrm>
          <a:custGeom>
            <a:avLst/>
            <a:gdLst>
              <a:gd name="textAreaLeft" fmla="*/ 22320 w 345960"/>
              <a:gd name="textAreaRight" fmla="*/ 323640 w 345960"/>
              <a:gd name="textAreaTop" fmla="*/ 22320 h 431640"/>
              <a:gd name="textAreaBottom" fmla="*/ 409320 h 431640"/>
            </a:gdLst>
            <a:ahLst/>
            <a:rect l="textAreaLeft" t="textAreaTop" r="textAreaRight" b="textAreaBottom"/>
            <a:pathLst>
              <a:path w="21600" h="26944">
                <a:moveTo>
                  <a:pt x="0" y="0"/>
                </a:moveTo>
                <a:lnTo>
                  <a:pt x="21600" y="0"/>
                </a:lnTo>
                <a:lnTo>
                  <a:pt x="21600" y="26944"/>
                </a:lnTo>
                <a:lnTo>
                  <a:pt x="0" y="26944"/>
                </a:lnTo>
                <a:close/>
              </a:path>
              <a:path fill="lightenLess" w="21600" h="269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44">
                <a:moveTo>
                  <a:pt x="21600" y="0"/>
                </a:moveTo>
                <a:lnTo>
                  <a:pt x="21600" y="26944"/>
                </a:lnTo>
                <a:lnTo>
                  <a:pt x="20200" y="25544"/>
                </a:lnTo>
                <a:lnTo>
                  <a:pt x="20200" y="1400"/>
                </a:lnTo>
                <a:close/>
              </a:path>
              <a:path fill="darkenLess" w="21600" h="26944">
                <a:moveTo>
                  <a:pt x="21600" y="26944"/>
                </a:moveTo>
                <a:lnTo>
                  <a:pt x="0" y="26944"/>
                </a:lnTo>
                <a:lnTo>
                  <a:pt x="1400" y="25544"/>
                </a:lnTo>
                <a:lnTo>
                  <a:pt x="20200" y="25544"/>
                </a:lnTo>
                <a:close/>
              </a:path>
              <a:path fill="lighten" w="21600" h="26944">
                <a:moveTo>
                  <a:pt x="0" y="269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44"/>
                </a:lnTo>
                <a:close/>
              </a:path>
              <a:path fill="darken" w="21600" h="26944">
                <a:moveTo>
                  <a:pt x="10800" y="6509"/>
                </a:moveTo>
                <a:lnTo>
                  <a:pt x="13376" y="9120"/>
                </a:lnTo>
                <a:lnTo>
                  <a:pt x="13376" y="7379"/>
                </a:lnTo>
                <a:lnTo>
                  <a:pt x="15152" y="7379"/>
                </a:lnTo>
                <a:lnTo>
                  <a:pt x="15152" y="10896"/>
                </a:lnTo>
                <a:lnTo>
                  <a:pt x="17763" y="13472"/>
                </a:lnTo>
                <a:lnTo>
                  <a:pt x="16109" y="13472"/>
                </a:lnTo>
                <a:lnTo>
                  <a:pt x="16109" y="20661"/>
                </a:lnTo>
                <a:lnTo>
                  <a:pt x="5491" y="20661"/>
                </a:lnTo>
                <a:lnTo>
                  <a:pt x="5491" y="13472"/>
                </a:lnTo>
                <a:lnTo>
                  <a:pt x="3837" y="13472"/>
                </a:lnTo>
                <a:close/>
              </a:path>
              <a:path fill="darkenLess" w="21600" h="26944">
                <a:moveTo>
                  <a:pt x="13376" y="9120"/>
                </a:moveTo>
                <a:lnTo>
                  <a:pt x="13376" y="7379"/>
                </a:lnTo>
                <a:lnTo>
                  <a:pt x="15152" y="7379"/>
                </a:lnTo>
                <a:lnTo>
                  <a:pt x="15152" y="10896"/>
                </a:lnTo>
                <a:close/>
              </a:path>
              <a:path fill="darkenLess" w="21600" h="26944">
                <a:moveTo>
                  <a:pt x="9877" y="16971"/>
                </a:moveTo>
                <a:lnTo>
                  <a:pt x="11723" y="16971"/>
                </a:lnTo>
                <a:lnTo>
                  <a:pt x="11723" y="20661"/>
                </a:lnTo>
                <a:lnTo>
                  <a:pt x="16109" y="20661"/>
                </a:lnTo>
                <a:lnTo>
                  <a:pt x="16109" y="13472"/>
                </a:lnTo>
                <a:lnTo>
                  <a:pt x="5491" y="13472"/>
                </a:lnTo>
                <a:lnTo>
                  <a:pt x="5491" y="20661"/>
                </a:lnTo>
                <a:lnTo>
                  <a:pt x="9877" y="20661"/>
                </a:lnTo>
                <a:close/>
              </a:path>
            </a:pathLst>
          </a:cu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Стрелка вправо 3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193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ответ"/>
          <p:cNvSpPr/>
          <p:nvPr/>
        </p:nvSpPr>
        <p:spPr>
          <a:xfrm>
            <a:off x="539640" y="1268280"/>
            <a:ext cx="3889440" cy="1944720"/>
          </a:xfrm>
          <a:prstGeom prst="roundRect">
            <a:avLst>
              <a:gd name="adj" fmla="val 16667"/>
            </a:avLst>
          </a:prstGeom>
          <a:solidFill>
            <a:srgbClr val="f9cfc3"/>
          </a:solidFill>
          <a:ln cap="rnd"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Georgia"/>
              </a:rPr>
              <a:t>Оборот речи, особое сочетание слов, синтаксическое построение, используемое для усиления выразительности высказывания 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Georgia"/>
              </a:rPr>
              <a:t>Толковый переводоведческий слова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3" name="вопрос" descr=""/>
          <p:cNvPicPr/>
          <p:nvPr/>
        </p:nvPicPr>
        <p:blipFill>
          <a:blip r:embed="rId1"/>
          <a:stretch/>
        </p:blipFill>
        <p:spPr>
          <a:xfrm>
            <a:off x="4638600" y="1195560"/>
            <a:ext cx="3969000" cy="2054160"/>
          </a:xfrm>
          <a:prstGeom prst="rect">
            <a:avLst/>
          </a:prstGeom>
          <a:ln w="0">
            <a:noFill/>
          </a:ln>
        </p:spPr>
      </p:pic>
      <p:sp>
        <p:nvSpPr>
          <p:cNvPr id="1214" name="триггер"/>
          <p:cNvSpPr/>
          <p:nvPr/>
        </p:nvSpPr>
        <p:spPr>
          <a:xfrm>
            <a:off x="2556000" y="3500280"/>
            <a:ext cx="4033800" cy="21607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10"/>
          <p:cNvSpPr/>
          <p:nvPr/>
        </p:nvSpPr>
        <p:spPr>
          <a:xfrm>
            <a:off x="82692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У нас получилось 3 квад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Стрелка вправо 7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2048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Стрелка вправо 8">
            <a:hlinkClick r:id="" action="ppaction://hlinkshowjump?jump=previousslide"/>
          </p:cNvPr>
          <p:cNvSpPr/>
          <p:nvPr/>
        </p:nvSpPr>
        <p:spPr>
          <a:xfrm rot="10800000">
            <a:off x="5315040" y="658944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6824520" y="6362640"/>
            <a:ext cx="347760" cy="4320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6827">
                <a:moveTo>
                  <a:pt x="0" y="0"/>
                </a:moveTo>
                <a:lnTo>
                  <a:pt x="21600" y="0"/>
                </a:lnTo>
                <a:lnTo>
                  <a:pt x="21600" y="26827"/>
                </a:lnTo>
                <a:lnTo>
                  <a:pt x="0" y="26827"/>
                </a:lnTo>
                <a:close/>
              </a:path>
              <a:path fill="lightenLess" w="21600" h="268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27">
                <a:moveTo>
                  <a:pt x="21600" y="0"/>
                </a:moveTo>
                <a:lnTo>
                  <a:pt x="21600" y="26827"/>
                </a:lnTo>
                <a:lnTo>
                  <a:pt x="20200" y="25427"/>
                </a:lnTo>
                <a:lnTo>
                  <a:pt x="20200" y="1400"/>
                </a:lnTo>
                <a:close/>
              </a:path>
              <a:path fill="darkenLess" w="21600" h="26827">
                <a:moveTo>
                  <a:pt x="21600" y="26827"/>
                </a:moveTo>
                <a:lnTo>
                  <a:pt x="0" y="26827"/>
                </a:lnTo>
                <a:lnTo>
                  <a:pt x="1400" y="25427"/>
                </a:lnTo>
                <a:lnTo>
                  <a:pt x="20200" y="25427"/>
                </a:lnTo>
                <a:close/>
              </a:path>
              <a:path fill="lighten" w="21600" h="26827">
                <a:moveTo>
                  <a:pt x="0" y="268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27"/>
                </a:lnTo>
                <a:close/>
              </a:path>
              <a:path fill="darken" w="21600" h="26827">
                <a:moveTo>
                  <a:pt x="10800" y="6450"/>
                </a:moveTo>
                <a:lnTo>
                  <a:pt x="13376" y="9062"/>
                </a:ln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lnTo>
                  <a:pt x="17763" y="13413"/>
                </a:lnTo>
                <a:lnTo>
                  <a:pt x="16109" y="13413"/>
                </a:lnTo>
                <a:lnTo>
                  <a:pt x="16109" y="20603"/>
                </a:lnTo>
                <a:lnTo>
                  <a:pt x="5491" y="20603"/>
                </a:lnTo>
                <a:lnTo>
                  <a:pt x="5491" y="13413"/>
                </a:lnTo>
                <a:lnTo>
                  <a:pt x="3837" y="13413"/>
                </a:lnTo>
                <a:close/>
              </a:path>
              <a:path fill="darkenLess" w="21600" h="26827">
                <a:moveTo>
                  <a:pt x="13376" y="9062"/>
                </a:move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close/>
              </a:path>
              <a:path fill="darkenLess" w="21600" h="26827">
                <a:moveTo>
                  <a:pt x="9877" y="16912"/>
                </a:moveTo>
                <a:lnTo>
                  <a:pt x="11723" y="16912"/>
                </a:lnTo>
                <a:lnTo>
                  <a:pt x="11723" y="20603"/>
                </a:lnTo>
                <a:lnTo>
                  <a:pt x="16109" y="20603"/>
                </a:lnTo>
                <a:lnTo>
                  <a:pt x="16109" y="13413"/>
                </a:lnTo>
                <a:lnTo>
                  <a:pt x="5491" y="13413"/>
                </a:lnTo>
                <a:lnTo>
                  <a:pt x="5491" y="20603"/>
                </a:lnTo>
                <a:lnTo>
                  <a:pt x="9877" y="20603"/>
                </a:lnTo>
                <a:close/>
              </a:path>
            </a:pathLst>
          </a:cu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5"/>
          <p:cNvSpPr/>
          <p:nvPr/>
        </p:nvSpPr>
        <p:spPr>
          <a:xfrm>
            <a:off x="971640" y="333360"/>
            <a:ext cx="727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Этап 2. Добавляем анимацию к объек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ШАГ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ыделим второй квадрат (Вопрос)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Откроем область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астройка аним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ыберем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Добавить эффект — Выход — Другие эффекты — Вращение —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0" name="Picture 6" descr="18526322"/>
          <p:cNvPicPr/>
          <p:nvPr/>
        </p:nvPicPr>
        <p:blipFill>
          <a:blip r:embed="rId1"/>
          <a:stretch/>
        </p:blipFill>
        <p:spPr>
          <a:xfrm>
            <a:off x="2771640" y="3141720"/>
            <a:ext cx="396108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Стрелка вправо 7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2048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Стрелка вправо 8">
            <a:hlinkClick r:id="" action="ppaction://hlinkshowjump?jump=previousslide"/>
          </p:cNvPr>
          <p:cNvSpPr/>
          <p:nvPr/>
        </p:nvSpPr>
        <p:spPr>
          <a:xfrm rot="10800000">
            <a:off x="5315040" y="658944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6824520" y="6362640"/>
            <a:ext cx="347760" cy="4320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6827">
                <a:moveTo>
                  <a:pt x="0" y="0"/>
                </a:moveTo>
                <a:lnTo>
                  <a:pt x="21600" y="0"/>
                </a:lnTo>
                <a:lnTo>
                  <a:pt x="21600" y="26827"/>
                </a:lnTo>
                <a:lnTo>
                  <a:pt x="0" y="26827"/>
                </a:lnTo>
                <a:close/>
              </a:path>
              <a:path fill="lightenLess" w="21600" h="268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27">
                <a:moveTo>
                  <a:pt x="21600" y="0"/>
                </a:moveTo>
                <a:lnTo>
                  <a:pt x="21600" y="26827"/>
                </a:lnTo>
                <a:lnTo>
                  <a:pt x="20200" y="25427"/>
                </a:lnTo>
                <a:lnTo>
                  <a:pt x="20200" y="1400"/>
                </a:lnTo>
                <a:close/>
              </a:path>
              <a:path fill="darkenLess" w="21600" h="26827">
                <a:moveTo>
                  <a:pt x="21600" y="26827"/>
                </a:moveTo>
                <a:lnTo>
                  <a:pt x="0" y="26827"/>
                </a:lnTo>
                <a:lnTo>
                  <a:pt x="1400" y="25427"/>
                </a:lnTo>
                <a:lnTo>
                  <a:pt x="20200" y="25427"/>
                </a:lnTo>
                <a:close/>
              </a:path>
              <a:path fill="lighten" w="21600" h="26827">
                <a:moveTo>
                  <a:pt x="0" y="268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27"/>
                </a:lnTo>
                <a:close/>
              </a:path>
              <a:path fill="darken" w="21600" h="26827">
                <a:moveTo>
                  <a:pt x="10800" y="6450"/>
                </a:moveTo>
                <a:lnTo>
                  <a:pt x="13376" y="9062"/>
                </a:ln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lnTo>
                  <a:pt x="17763" y="13413"/>
                </a:lnTo>
                <a:lnTo>
                  <a:pt x="16109" y="13413"/>
                </a:lnTo>
                <a:lnTo>
                  <a:pt x="16109" y="20603"/>
                </a:lnTo>
                <a:lnTo>
                  <a:pt x="5491" y="20603"/>
                </a:lnTo>
                <a:lnTo>
                  <a:pt x="5491" y="13413"/>
                </a:lnTo>
                <a:lnTo>
                  <a:pt x="3837" y="13413"/>
                </a:lnTo>
                <a:close/>
              </a:path>
              <a:path fill="darkenLess" w="21600" h="26827">
                <a:moveTo>
                  <a:pt x="13376" y="9062"/>
                </a:move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close/>
              </a:path>
              <a:path fill="darkenLess" w="21600" h="26827">
                <a:moveTo>
                  <a:pt x="9877" y="16912"/>
                </a:moveTo>
                <a:lnTo>
                  <a:pt x="11723" y="16912"/>
                </a:lnTo>
                <a:lnTo>
                  <a:pt x="11723" y="20603"/>
                </a:lnTo>
                <a:lnTo>
                  <a:pt x="16109" y="20603"/>
                </a:lnTo>
                <a:lnTo>
                  <a:pt x="16109" y="13413"/>
                </a:lnTo>
                <a:lnTo>
                  <a:pt x="5491" y="13413"/>
                </a:lnTo>
                <a:lnTo>
                  <a:pt x="5491" y="20603"/>
                </a:lnTo>
                <a:lnTo>
                  <a:pt x="9877" y="20603"/>
                </a:lnTo>
                <a:close/>
              </a:path>
            </a:pathLst>
          </a:custGeom>
          <a:solidFill>
            <a:srgbClr val="f9cfc3"/>
          </a:solidFill>
          <a:ln cap="rnd" w="158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5"/>
          <p:cNvSpPr/>
          <p:nvPr/>
        </p:nvSpPr>
        <p:spPr>
          <a:xfrm>
            <a:off x="539640" y="1125360"/>
            <a:ext cx="7993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 диалоговом окне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 Вращение </a:t>
            </a: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на вкладке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 Время </a:t>
            </a: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установим следующие парамет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Начало — По щел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Скорость — Очень быст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Повторение — 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Переключатели — Начать выполнение эффекта при щелчке — в раскрывающемся списке выбираем Триггер и нажимаем 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8T05:34:25Z</dcterms:created>
  <dc:creator>Устинова В.И.</dc:creator>
  <dc:description/>
  <cp:keywords>создание сорбонки</cp:keywords>
  <dc:language>en-US</dc:language>
  <cp:lastModifiedBy>1</cp:lastModifiedBy>
  <dcterms:modified xsi:type="dcterms:W3CDTF">2020-01-03T12:20:18Z</dcterms:modified>
  <cp:revision>32</cp:revision>
  <dc:subject>Мастер-класс "Анимированная сорбонка"</dc:subject>
  <dc:title>Презентация PowerPoint</dc:title>
</cp:coreProperties>
</file>