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14C-761A-439C-A0AE-C9DDAE82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719-D139-474A-917A-174AA3D3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2FF-E3A6-448B-9A16-E53DD9A2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9E5-8352-4CD9-B456-9CDFF4DE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07A-7AAF-4FF5-82B7-237A6F88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5D0-65FF-41E1-803F-9BE57E7C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FE7-12DD-4096-BD24-166DD2C6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EE2-F0A8-4981-907E-B00B3647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F79-500A-4701-9814-2DD8A812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1BB-1CD1-40B3-B618-5EF73B0F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B93-0E67-4F33-BF64-26B4DC0D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8A4-5C1F-4923-A643-9BA325B8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728A-BC80-463A-9EB7-DA88F61BE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ed-kopilka.ru/blogs/jakovleva-olga/igrovye-i-problemnye-situaci-dlja-detei-5-7-let.html" TargetMode="External"/><Relationship Id="rId3" Type="http://schemas.openxmlformats.org/officeDocument/2006/relationships/hyperlink" Target="http://rodnaya-tropinka.ru/sotsial-noe-razvitie-doshkol-nikov-zhiznenny-e-golovolomki-dlya-detej/" TargetMode="External"/><Relationship Id="rId4" Type="http://schemas.openxmlformats.org/officeDocument/2006/relationships/hyperlink" Target="http://rodnaya-tropinka.ru/sotsial-noe-razvitie-doshkol-nikov-zhiznenny-e-golovolomki-dlya-detej/" TargetMode="External"/><Relationship Id="rId5" Type="http://schemas.openxmlformats.org/officeDocument/2006/relationships/hyperlink" Target="http://dohcolonoc.ru/cons/7778-igrovye-zadaniya-problemnye-situatsii.html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ДетСад\Desktop\malchik_i_devochka_zanimajutsja.jpg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5334120" y="810000"/>
            <a:ext cx="34290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Использование технологии проблемно-поискового обучения в работе логопеда ДО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04920" y="518148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МДОУ «Аленький цветочек» г.Нады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учитель-логопед: Сулимова Наталья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D:\ДетСад\Desktop\103214680__46972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2895480" y="798840"/>
            <a:ext cx="60199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Использование игровых технологий, проблемно-поискового обучения в логопедической практике дает неоспоримое превосходство в создании нестандартных условий для принятия детьми самостоятельных решений и умозаключ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*Проблемно-поисковая ситуация – это то направление работы с детьми, которое помогает детям научиться нестандартно дум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педагогам дает новые инновационные формы организованной коррекционной образовательн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66680" y="306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04920" y="320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418"/>
                </a:solidFill>
                <a:latin typeface="Times New Roman"/>
                <a:ea typeface="Calibri"/>
              </a:rPr>
              <a:t>Технология «Проблемно-поискового обучения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D:\ДетСад\Desktop\103214680__46972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3124080" y="1767960"/>
            <a:ext cx="4267440" cy="4293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54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://ped-kopilka.ru/blogs/jakovleva-olga/igrovye-i-problemnye-situaci-dlja-detei-5-7-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1d10"/>
                </a:solidFill>
                <a:latin typeface="Times New Roman"/>
                <a:ea typeface="Calibri"/>
              </a:rPr>
              <a:t>Игровые и проблемные ситуации для детей 5-7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http://rodnaya-tropinka.ru/sotsial-noe-razvitie-doshkol-nikov-zhiznenny-e-golovolomki-dlya-detej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4"/>
              </a:rPr>
              <a:t>Социальное развитие дошкольников: жизненные головоломки для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5"/>
              </a:rPr>
              <a:t>http://dohcolonoc.ru/cons/7778-igrovye-zadaniya-problemnye-situatsi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овые задания, проблемные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nsportal.ru/detskiy-sad/raznoe/2013/01/07/kartoteka-problemnykh-situatsiy-dlya-detey-starshego-doshkoln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Картотека проблемных ситуаций для детей старшего дошкольного возра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nataljyakuryshova.jimdo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Картотека проблемных ситуаций для детей старшего дошкольного возра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nsportal.ru/nachalnaya-shkola/logopediya/2011/12/10/problemnoe-obuchenie-i-organizatsiya-proektnoy-deyatel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Проблемное обучение и организация проектной деятельности в логопедической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nsportal.ru/nachalnaya-shkola/logopediya/2012/05/11/ispolzovanie-igrovykh-tekhnologiy-problemnogo-obucheniya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игровых технологий, проблемного обучения и организация проектной деятельности в логопедической практ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14400" y="306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418"/>
                </a:solidFill>
                <a:latin typeface="Times New Roman"/>
                <a:ea typeface="Calibri"/>
              </a:rPr>
              <a:t>Литература и интернет ресур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133720" y="458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www.xxlbook.ru/img64399.png"/>
          <p:cNvPicPr/>
          <p:nvPr/>
        </p:nvPicPr>
        <p:blipFill>
          <a:blip r:embed="rId6"/>
          <a:stretch/>
        </p:blipFill>
        <p:spPr>
          <a:xfrm>
            <a:off x="7467480" y="1066680"/>
            <a:ext cx="114300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www.intelkot.ru/upload/8136.jpg"/>
          <p:cNvPicPr/>
          <p:nvPr/>
        </p:nvPicPr>
        <p:blipFill>
          <a:blip r:embed="rId7"/>
          <a:stretch/>
        </p:blipFill>
        <p:spPr>
          <a:xfrm>
            <a:off x="7467480" y="2971800"/>
            <a:ext cx="11430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robinzoniya.ru/upload/iblock/97b/97b176f0e589006d35f89b3ac0c36966.jpg"/>
          <p:cNvPicPr/>
          <p:nvPr/>
        </p:nvPicPr>
        <p:blipFill>
          <a:blip r:embed="rId8"/>
          <a:stretch/>
        </p:blipFill>
        <p:spPr>
          <a:xfrm>
            <a:off x="7543800" y="4876920"/>
            <a:ext cx="10666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ДетСад\Desktop\logopedicheskie_deti.png"/>
          <p:cNvPicPr/>
          <p:nvPr/>
        </p:nvPicPr>
        <p:blipFill>
          <a:blip r:embed="rId1"/>
          <a:stretch/>
        </p:blipFill>
        <p:spPr>
          <a:xfrm>
            <a:off x="762120" y="685800"/>
            <a:ext cx="7405560" cy="59054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457200" y="2286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СПАСИБО 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D:\ДетСад\Desktop\103214680__46972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762120" y="382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418"/>
                </a:solidFill>
                <a:latin typeface="Times New Roman"/>
                <a:ea typeface="Times New Roman"/>
              </a:rPr>
              <a:t>Проблемно-поисковое об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048120" y="131040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нный учителем – логопедом детского сада, способ активного взаимодействия с воспитанником, в рамках проблемно-поискового обучения, строится на основе своего опы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учится мыслить, экспериментировать познавая, творчески усваивать знания о уже знакомых и незнакомых предметах и их свойств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:\ДетСад\Desktop\103214680__46972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533520" y="1083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418"/>
                </a:solidFill>
                <a:latin typeface="Times New Roman"/>
                <a:ea typeface="Calibri"/>
              </a:rPr>
              <a:t>Что же такое проблемно-поисковая ситуац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429000" y="758520"/>
            <a:ext cx="4952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но-поисковая ситуация – это познавательная задача, которая характеризуется противоречием между имеющимися знаниями, умениями, отношениями и представляемыми требованиями  учителем – логопедом ДОУ, а так же активная самостоятельная поисковая деятельность учащихся по разрешению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D:\ДетСад\Desktop\103214680__46972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533520" y="1137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418"/>
                </a:solidFill>
                <a:latin typeface="Times New Roman"/>
                <a:ea typeface="Calibri"/>
              </a:rPr>
              <a:t>Основные психологические условия для успешного применения    методов и приемов проблемно-поискового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124080" y="2257920"/>
            <a:ext cx="525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*Проблемно-поисковая ситуация в рамках образовательного процесса должна отвечать целям формирования системы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*Проблемно-поисковые ситуации должны быть доступными для воспитанников и соответствовать возрастным требованиям к объему и содержанию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*Должны вызывать у детей собственную познавательную 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*Задания должны быть конкретными и опираться на уже имеющиеся знания, навыки и ум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D:\ДетСад\Desktop\103214680__46972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533520" y="1112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418"/>
                </a:solidFill>
                <a:latin typeface="Times New Roman"/>
                <a:ea typeface="Calibri"/>
              </a:rPr>
              <a:t>Достоинства использования технологии проблемно-поискового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352680" y="1849320"/>
            <a:ext cx="487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Высокая самостоятельность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Формирование познавательного интереса или личной мотиваци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Использование уже имеющихся знаний и навыков, на основе опыта (учимся  предполагать - сравнивать - экспериментировать - получать новый опыт и результат - делать вы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ДетСад\Desktop\103214680__46972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533520" y="1112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418"/>
                </a:solidFill>
                <a:latin typeface="Times New Roman"/>
                <a:ea typeface="Calibri"/>
              </a:rPr>
              <a:t>Суть проблемно-поискового обучения в детском саду в практике учителя - логоп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2743200" y="1479600"/>
            <a:ext cx="61722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*Педагог создает познавательную задачу или ситуацию, и предлагает детям изыскать средства ее решения, используя раннее усвоенные знания, умения, т.е. личный опы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*Проблемно-поисковое обучение активизирует мыслительную деятельность и придает ей критичность, приучает к самостоятельности принятия решения и высказыванию выводов и предположен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*Основа проблемно-поискового обучения и развития – это вопросы и задания, которые предлагает детям учитель – логопед. Результативнее использовать вопросы, которые побуждают детей к сравнению, к установлению сходства и различ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*Среди проблемных вопросов которые выбирает учитель – логопед, особое место занимают те, которые побуждают вскрыть противоречие между сложившимся у детей опытом и вновь получаемыми знаниями и умения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D:\ДетСад\Desktop\103214680__46972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533520" y="385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418"/>
                </a:solidFill>
                <a:latin typeface="Times New Roman"/>
                <a:ea typeface="Calibri"/>
              </a:rPr>
              <a:t>Примеры  ситуативных задач на развитие грамматических категор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048120" y="1845360"/>
            <a:ext cx="5715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ак правильнее назвать предмет для подметания пола: подметалка, уборщик, чистюльник, веник.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 называется гриб, который растет в осиновой роще: осиновик, осиновый, подосиновик. Какое слово подходит и почему? (аналогично со словом подберезовы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Бабушка просила принести ей клубки ниток для вязания, но внучка забыла, какие именно. Она помнит только, что бабушка просила принести …самый  большой…самые пушистые…самые ярки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D:\ДетСад\Desktop\103214680__46972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533520" y="3880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418"/>
                </a:solidFill>
                <a:latin typeface="Times New Roman"/>
                <a:ea typeface="Calibri"/>
              </a:rPr>
              <a:t>Примеры  ситуативных задач на формирование фонематического слуха с элементами обучения грам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743200" y="2153880"/>
            <a:ext cx="6172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читель – логопед показывает незнакомую букву и предлагает детям опираясь на иллюстрационный ряд назвать слова – названия изображения, далее предлагает назвать букву с которой начинается каждое наз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итель – логопед предлагает назвать, что изображено на картинках и записать эти названия. Далее спрашивает детей о том, как можно без умения писать буквы записать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задания связанные с графическим изображением слов – схема слова (штрихи, разноцветные точки- квадраты…синий, зеленый, красный). Далее по мере знакомства с написанием печатных букв, начинается звуко - буквенный анализ и печатание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D:\ДетСад\Desktop\103214680__46972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533520" y="385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5418"/>
                </a:solidFill>
                <a:latin typeface="Times New Roman"/>
                <a:ea typeface="Calibri"/>
              </a:rPr>
              <a:t>Примеры  ситуативных задач на развитие связн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743200" y="1550880"/>
            <a:ext cx="624852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логопед предлагает послушать предложения – ситуац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«У тебя зазвонил телефон, что ты скажешь, если возьмешь трубку?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ы пошел в лес за грибами с папой и немного заблудился, что ты будешь делать? Почему и для чего? Как ты будешь это делать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На прогулке по зоопарку, ты потерялся. Что ты предпримешь? Поясни, почему ты будешь делать именно так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 полу стоит машина у нее нет одного колеса. Почему нет одного колеса у машины? Как это могло произойти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от наловил много рыбы и нанизал ее на прутик…шел он через лесок и зацепился за ракитовый кусток, прутик сломался, как теперь ему донести свою рыбу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обирали дети ягоды в лесу…но разбилась баночка и ягоды рассыпались. Как донести ягоды домой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5T09:06:56Z</dcterms:created>
  <dc:creator>ДетСад</dc:creator>
  <dc:description/>
  <dc:language>en-US</dc:language>
  <cp:lastModifiedBy>User</cp:lastModifiedBy>
  <dcterms:modified xsi:type="dcterms:W3CDTF">2019-04-12T04:02:23Z</dcterms:modified>
  <cp:revision>39</cp:revision>
  <dc:subject/>
  <dc:title>Слайд 1</dc:title>
</cp:coreProperties>
</file>