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68A-3776-449B-A910-F256749D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3B9-B02F-4713-9E43-5B1BC939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CA0-C0B3-417B-9F45-09F71766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E54-9F4D-43F1-85E6-7D4EBF42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F239-7ADB-44C6-B0F7-F4072F3D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D1C1-A865-4FCC-9C71-42E76366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221-375A-459C-B4DE-23B61666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FEB8-BA98-4D31-9A3D-E6FAF03C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7250-0A4A-44BD-B69E-F1C82667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C59A-D188-44A2-A6F9-BCF19A52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002F-2F4A-4F61-949C-00AD9B2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9A8-7CAF-4375-AA6B-F2393507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02AF-B9E3-4516-BB39-B1D10A32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1881-51BA-421C-8733-D454EF5C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00C5-B098-46CF-B70A-106BBB15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2CAA-BF96-4DDC-860A-F4139F31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C48A-8B73-4C63-ADE5-BF1931D1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FFB-F19A-4FD0-B5F7-8FCBF0D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DE8-1D5A-498D-AE20-3DF51F89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5C4-E92E-4D6D-B0B0-88A7BDF3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675-8E0C-41EF-B861-A99D480D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9C2-AA04-420E-BC8F-AB0CB10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48E-7B7E-4974-A1FB-496EA24D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D59-43EF-402B-8FAA-0CCFE11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FBB3-6827-4163-B24C-249C3784B5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03B3-9917-455E-B341-8BDC84F0D3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Идея Раскольникова о праве сильной личност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4" descr="prnak3"/>
          <p:cNvPicPr/>
          <p:nvPr/>
        </p:nvPicPr>
        <p:blipFill>
          <a:blip r:embed="rId1"/>
          <a:stretch/>
        </p:blipFill>
        <p:spPr>
          <a:xfrm>
            <a:off x="2895480" y="2438280"/>
            <a:ext cx="2971800" cy="42674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6553080" y="5181480"/>
            <a:ext cx="22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ентацию подготовила учитель литерату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селова И.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пиграфы к уро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Лучше быть жертвой, чем палачом» (А.П.Чех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ет величия там, где нет простоты, добра и правды» (Л.Н.Толсто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Я не старушонку, я принцип убил…» (Ф.М.Достоевск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учу вас о сверхчеловеке…» (Ф.Ницш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Не для того, чтобы матери помочь я убил - вздор! Не для того, я убил, чтобы, получив средства и власть, сделаться благодетелем человечества. Вздор!...не столько деньги мне нужны были, как другое...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. Гегель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.Шопенгауэр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 Гегелю, ближайшими проводниками Мирового разума, который определяет судьбы народов и государств, являются великие люди, которые первыми угадывают то, что дано понять только им и не дано понять людской массе. Великие люди у Гегеля всегда опережают своё время, а потому оказываются гениальными одиночками, вынужденными деспотически подчинять себе большинств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является большим преступлением: теория или убийство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м опасность теории Раскольников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20-01-03T10:47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