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gif" ContentType="image/gif"/>
  <Override PartName="/ppt/media/image4.gif" ContentType="image/gif"/>
  <Override PartName="/ppt/media/image6.png" ContentType="image/png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81FB-0CD2-4EDB-AF89-11B193EEE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D446-9715-40B3-84A0-1E23D2796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A64C-EBC0-46F8-8A22-24DBBB506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9482-A561-4DA6-9020-9863F49A4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1785-7A55-4FAE-8145-1F46810B3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E097-4A86-4BD5-AE90-5FFD823CA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5001-F0BA-4738-BB7F-5B13DAD73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D4A7-A1EE-4A42-9372-B8FB7D186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7505-EC9E-4A7C-9D9E-FAE4C7032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9DB1-57C6-48F6-81B0-DE277A8F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B643-6C5A-4427-B125-36B42D6E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3862-64D8-426D-B5E8-862B7B25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023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97A36-62F0-4C80-A8EE-72FD91FC8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3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3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1.gif"/><Relationship Id="rId10" Type="http://schemas.openxmlformats.org/officeDocument/2006/relationships/image" Target="../media/image4.gif"/><Relationship Id="rId11" Type="http://schemas.openxmlformats.org/officeDocument/2006/relationships/image" Target="../media/image7.gif"/><Relationship Id="rId12" Type="http://schemas.openxmlformats.org/officeDocument/2006/relationships/image" Target="../media/image7.gi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image" Target="../media/image1.gif"/><Relationship Id="rId1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1.gif"/><Relationship Id="rId10" Type="http://schemas.openxmlformats.org/officeDocument/2006/relationships/image" Target="../media/image4.gif"/><Relationship Id="rId11" Type="http://schemas.openxmlformats.org/officeDocument/2006/relationships/image" Target="../media/image7.gif"/><Relationship Id="rId12" Type="http://schemas.openxmlformats.org/officeDocument/2006/relationships/image" Target="../media/image7.gi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image" Target="../media/image1.gif"/><Relationship Id="rId1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1.gif"/><Relationship Id="rId11" Type="http://schemas.openxmlformats.org/officeDocument/2006/relationships/image" Target="../media/image4.gif"/><Relationship Id="rId12" Type="http://schemas.openxmlformats.org/officeDocument/2006/relationships/image" Target="../media/image7.gif"/><Relationship Id="rId13" Type="http://schemas.openxmlformats.org/officeDocument/2006/relationships/image" Target="../media/image7.gif"/><Relationship Id="rId14" Type="http://schemas.openxmlformats.org/officeDocument/2006/relationships/image" Target="../media/image3.gif"/><Relationship Id="rId15" Type="http://schemas.openxmlformats.org/officeDocument/2006/relationships/image" Target="../media/image3.gif"/><Relationship Id="rId1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023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19640" y="549360"/>
            <a:ext cx="1296720" cy="115236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189000"/>
            <a:ext cx="2808360" cy="244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ree"/>
          <p:cNvSpPr/>
          <p:nvPr/>
        </p:nvSpPr>
        <p:spPr>
          <a:xfrm>
            <a:off x="0" y="260280"/>
            <a:ext cx="1116000" cy="1152720"/>
          </a:xfrm>
          <a:solidFill>
            <a:srgbClr val="008000"/>
          </a:solidFill>
          <a:ln w="0">
            <a:noFill/>
          </a:ln>
          <a:effectLst>
            <a:outerShdw dist="107932" dir="18900000" blurRad="0" rotWithShape="0">
              <a:srgbClr val="008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56360" y="333360"/>
            <a:ext cx="323640" cy="314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68360" y="59500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50920" y="63086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Лепим снегов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956720" y="836640"/>
            <a:ext cx="323640" cy="314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900000" y="189000"/>
            <a:ext cx="324000" cy="314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асько Л.Г.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104 -3.7037E-007 C 0.18351 -3.7037E-007 0.29149 0.13866 0.29149 0.30949 C 0.29149 0.48032 0.18351 0.61944 0.05104 0.61944 C -0.08125 0.61944 -0.18889 0.48032 -0.18889 0.30949 C -0.18889 0.13866 -0.08125 -3.7037E-007 0.05104 -3.7037E-007 Z">
                                      <p:cBhvr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6000"/>
                            </p:stCondLst>
                            <p:childTnLst>
                              <p:par>
                                <p:cTn id="11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6500"/>
                            </p:stCondLst>
                            <p:childTnLst>
                              <p:par>
                                <p:cTn id="15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104 -3.7037E-007 C 0.19011 -3.7037E-007 0.30399 0.13843 0.30399 0.30972 C 0.30399 0.48032 0.19011 0.61944 0.05104 0.61944 C -0.08854 0.61944 -0.20173 0.48032 -0.20173 0.30972 C -0.20173 0.13843 -0.08854 -3.7037E-007 0.05104 -3.7037E-007 Z">
                                      <p:cBhvr>
                                        <p:cTn id="1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023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9640" y="2565360"/>
            <a:ext cx="1297080" cy="115272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172360" y="476280"/>
            <a:ext cx="714600" cy="714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rot="9751800">
            <a:off x="8388000" y="189000"/>
            <a:ext cx="503280" cy="72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ff00"/>
              </a:gs>
              <a:gs pos="100000">
                <a:srgbClr val="ffffff"/>
              </a:gs>
            </a:gsLst>
            <a:lin ang="1725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700360" y="907920"/>
            <a:ext cx="324000" cy="314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211640" y="333360"/>
            <a:ext cx="324000" cy="314280"/>
          </a:xfrm>
          <a:prstGeom prst="rect">
            <a:avLst/>
          </a:prstGeom>
          <a:ln w="0">
            <a:noFill/>
          </a:ln>
        </p:spPr>
      </p:pic>
      <p:sp>
        <p:nvSpPr>
          <p:cNvPr id="54" name="Tree"/>
          <p:cNvSpPr/>
          <p:nvPr/>
        </p:nvSpPr>
        <p:spPr>
          <a:xfrm>
            <a:off x="0" y="260280"/>
            <a:ext cx="1116000" cy="1152720"/>
          </a:xfrm>
          <a:solidFill>
            <a:srgbClr val="008000"/>
          </a:solidFill>
          <a:ln w="0">
            <a:noFill/>
          </a:ln>
          <a:effectLst>
            <a:outerShdw dist="107932" dir="13500000" blurRad="0" rotWithShape="0">
              <a:srgbClr val="008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1844640"/>
            <a:ext cx="2808360" cy="244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476360" y="333360"/>
            <a:ext cx="324000" cy="314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5724360" y="1052640"/>
            <a:ext cx="324000" cy="314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7020000" y="907920"/>
            <a:ext cx="323640" cy="314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асько Л.Г.</a:t>
            </a: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path" presetID="63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-1.85185E-006 L 0.7559 -1.85185E-006 E">
                                      <p:cBhvr>
                                        <p:cTn id="29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6000"/>
                            </p:stCondLst>
                            <p:childTnLst>
                              <p:par>
                                <p:cTn id="31" nodeType="afterEffect" fill="hold" presetClass="path" presetID="63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85185E-006 L 0.74809 -1.85185E-006 E">
                                      <p:cBhvr>
                                        <p:cTn id="32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023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68360" y="907920"/>
            <a:ext cx="1297080" cy="115272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4941720"/>
            <a:ext cx="1296720" cy="115272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77080" y="981000"/>
            <a:ext cx="1297080" cy="115272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ree"/>
          <p:cNvSpPr/>
          <p:nvPr/>
        </p:nvSpPr>
        <p:spPr>
          <a:xfrm>
            <a:off x="0" y="404640"/>
            <a:ext cx="1943280" cy="2087640"/>
          </a:xfrm>
          <a:blipFill rotWithShape="0">
            <a:blip r:embed="rId1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008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659640" y="4941720"/>
            <a:ext cx="1441440" cy="129564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9751800">
            <a:off x="8388000" y="189000"/>
            <a:ext cx="503280" cy="72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ff00"/>
              </a:gs>
              <a:gs pos="100000">
                <a:srgbClr val="ffffff"/>
              </a:gs>
            </a:gsLst>
            <a:lin ang="1725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8172360" y="47628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276720" y="333360"/>
            <a:ext cx="323640" cy="314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3708360" y="1125360"/>
            <a:ext cx="324000" cy="314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5508720" y="836640"/>
            <a:ext cx="323640" cy="3142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539640" y="333360"/>
            <a:ext cx="324000" cy="314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асько Л.Г.</a:t>
            </a: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4.81481E-006 L 0.33073 0.28356 E">
                                      <p:cBhvr>
                                        <p:cTn id="44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000"/>
                            </p:stCondLst>
                            <p:childTnLst>
                              <p:par>
                                <p:cTn id="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33333E-006 L -0.37014 0.28334 E">
                                      <p:cBhvr>
                                        <p:cTn id="51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3.33333E-006 L 0.29913 -0.31505 E">
                                      <p:cBhvr>
                                        <p:cTn id="54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8000"/>
                            </p:stCondLst>
                            <p:childTnLst>
                              <p:par>
                                <p:cTn id="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3.7037E-006 L -0.35434 -0.31505 E">
                                      <p:cBhvr>
                                        <p:cTn id="57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023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ree"/>
          <p:cNvSpPr/>
          <p:nvPr/>
        </p:nvSpPr>
        <p:spPr>
          <a:xfrm>
            <a:off x="0" y="260280"/>
            <a:ext cx="1116000" cy="1152720"/>
          </a:xfrm>
          <a:solidFill>
            <a:srgbClr val="008000"/>
          </a:solidFill>
          <a:ln w="0">
            <a:noFill/>
          </a:ln>
          <a:effectLst>
            <a:outerShdw dist="107932" dir="13500000" blurRad="0" rotWithShape="0">
              <a:srgbClr val="008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ree"/>
          <p:cNvSpPr/>
          <p:nvPr/>
        </p:nvSpPr>
        <p:spPr>
          <a:xfrm>
            <a:off x="395280" y="692280"/>
            <a:ext cx="1943280" cy="2087280"/>
          </a:xfrm>
          <a:blipFill rotWithShape="0">
            <a:blip r:embed="rId1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008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9751800">
            <a:off x="8388000" y="189000"/>
            <a:ext cx="503280" cy="72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ff00"/>
              </a:gs>
              <a:gs pos="100000">
                <a:srgbClr val="ffffff"/>
              </a:gs>
            </a:gsLst>
            <a:lin ang="1725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8172360" y="47628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3276720" y="333360"/>
            <a:ext cx="323640" cy="3142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5292720" y="620640"/>
            <a:ext cx="324000" cy="314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24000" y="3860640"/>
            <a:ext cx="1296720" cy="115272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6443640" y="1268280"/>
            <a:ext cx="2303280" cy="2519280"/>
            <a:chOff x="6443640" y="1268280"/>
            <a:chExt cx="2303280" cy="2519280"/>
          </a:xfrm>
        </p:grpSpPr>
        <p:grpSp>
          <p:nvGrpSpPr>
            <p:cNvPr id="78" name=""/>
            <p:cNvGrpSpPr/>
            <p:nvPr/>
          </p:nvGrpSpPr>
          <p:grpSpPr>
            <a:xfrm>
              <a:off x="6730920" y="1412640"/>
              <a:ext cx="1728720" cy="2374920"/>
              <a:chOff x="6730920" y="1412640"/>
              <a:chExt cx="1728720" cy="2374920"/>
            </a:xfrm>
          </p:grpSpPr>
          <p:sp>
            <p:nvSpPr>
              <p:cNvPr id="79" name=""/>
              <p:cNvSpPr/>
              <p:nvPr/>
            </p:nvSpPr>
            <p:spPr>
              <a:xfrm>
                <a:off x="7307280" y="1412640"/>
                <a:ext cx="1079280" cy="792360"/>
              </a:xfrm>
              <a:prstGeom prst="cloudCallout">
                <a:avLst>
                  <a:gd name="adj1" fmla="val -43750"/>
                  <a:gd name="adj2" fmla="val 70000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107932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738920" y="1771560"/>
                <a:ext cx="324000" cy="314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" name=""/>
              <p:cNvSpPr/>
              <p:nvPr/>
            </p:nvSpPr>
            <p:spPr>
              <a:xfrm>
                <a:off x="6730920" y="2779560"/>
                <a:ext cx="1728720" cy="100800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  <a:effectLst>
                <a:outerShdw dist="107932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7090560" y="2995560"/>
                <a:ext cx="360360" cy="288720"/>
              </a:xfrm>
              <a:prstGeom prst="bevel">
                <a:avLst>
                  <a:gd name="adj" fmla="val 125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738920" y="2995560"/>
                <a:ext cx="360360" cy="288720"/>
              </a:xfrm>
              <a:prstGeom prst="bevel">
                <a:avLst>
                  <a:gd name="adj" fmla="val 125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6443640" y="1268280"/>
              <a:ext cx="2303280" cy="1511280"/>
            </a:xfrm>
            <a:prstGeom prst="triangle">
              <a:avLst>
                <a:gd name="adj" fmla="val 50000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" descr=""/>
          <p:cNvPicPr/>
          <p:nvPr/>
        </p:nvPicPr>
        <p:blipFill>
          <a:blip r:embed="rId8"/>
          <a:stretch/>
        </p:blipFill>
        <p:spPr>
          <a:xfrm>
            <a:off x="250920" y="260280"/>
            <a:ext cx="323640" cy="314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9"/>
          <a:stretch/>
        </p:blipFill>
        <p:spPr>
          <a:xfrm>
            <a:off x="3924360" y="1484280"/>
            <a:ext cx="323640" cy="314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асько Л.Г.</a:t>
            </a: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path" presetID="22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69 -0.00023 C -0.00156 -0.10625 0.08819 -0.19421 0.19618 -0.19421 C 0.32361 -0.19421 0.36979 -0.09676 0.38941 -0.03843 L 0.40885 0.03796 C 0.42899 0.09769 0.47813 0.19421 0.62222 0.19421 C 0.71458 0.19421 0.81875 0.10695 0.81875 0.00093 C 0.81875 -0.10625 0.71458 -0.19352 0.62222 -0.19421 C 0.47813 -0.19421 0.42899 -0.09745 0.40885 -0.03773 L 0.38941 0.03912 C 0.36979 0.09769 0.32361 0.19421 0.19618 0.19421 C 0.08819 0.19421 -0.00156 0.10648 -0.00069 -0.00023 Z">
                                      <p:cBhvr>
                                        <p:cTn id="63" dur="5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0"/>
                            </p:stCondLst>
                            <p:childTnLst>
                              <p:par>
                                <p:cTn id="65" nodeType="afterEffect" fill="hold" presetClass="path" presetID="22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1788 -0.00602 C 0.81858 0.09468 0.72969 0.17778 0.6217 0.17778 C 0.49427 0.17708 0.44809 0.08542 0.42882 0.03056 L 0.40903 -0.04259 C 0.38889 -0.09768 0.3401 -0.18889 0.19635 -0.18889 C 0.10434 -0.18889 1.38777878078145E-017 -0.10694 0.00052 -0.00602 C 0.00017 0.09468 0.10434 0.17778 0.19635 0.17778 C 0.3401 0.17778 0.38906 0.08542 0.40903 0.03056 L 0.42865 -0.04259 C 0.44809 -0.09768 0.49427 -0.18889 0.62153 -0.18889 C 0.72969 -0.18889 0.81823 -0.10694 0.81788 -0.00602 Z">
                                      <p:cBhvr>
                                        <p:cTn id="66" dur="5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0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023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020000" y="333360"/>
            <a:ext cx="323640" cy="314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84360" y="836640"/>
            <a:ext cx="323640" cy="314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324000" y="1341360"/>
            <a:ext cx="323640" cy="314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4067280" y="1341360"/>
            <a:ext cx="323640" cy="314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2771640" y="333360"/>
            <a:ext cx="324000" cy="314280"/>
          </a:xfrm>
          <a:prstGeom prst="rect">
            <a:avLst/>
          </a:prstGeom>
          <a:ln w="0">
            <a:noFill/>
          </a:ln>
        </p:spPr>
      </p:pic>
      <p:grpSp>
        <p:nvGrpSpPr>
          <p:cNvPr id="92" name=""/>
          <p:cNvGrpSpPr/>
          <p:nvPr/>
        </p:nvGrpSpPr>
        <p:grpSpPr>
          <a:xfrm>
            <a:off x="6443640" y="1268280"/>
            <a:ext cx="2303280" cy="2519280"/>
            <a:chOff x="6443640" y="1268280"/>
            <a:chExt cx="2303280" cy="2519280"/>
          </a:xfrm>
        </p:grpSpPr>
        <p:grpSp>
          <p:nvGrpSpPr>
            <p:cNvPr id="93" name=""/>
            <p:cNvGrpSpPr/>
            <p:nvPr/>
          </p:nvGrpSpPr>
          <p:grpSpPr>
            <a:xfrm>
              <a:off x="6730920" y="1412640"/>
              <a:ext cx="1728720" cy="2374920"/>
              <a:chOff x="6730920" y="1412640"/>
              <a:chExt cx="1728720" cy="2374920"/>
            </a:xfrm>
          </p:grpSpPr>
          <p:sp>
            <p:nvSpPr>
              <p:cNvPr id="94" name=""/>
              <p:cNvSpPr/>
              <p:nvPr/>
            </p:nvSpPr>
            <p:spPr>
              <a:xfrm>
                <a:off x="7307280" y="1412640"/>
                <a:ext cx="1079280" cy="792360"/>
              </a:xfrm>
              <a:prstGeom prst="cloudCallout">
                <a:avLst>
                  <a:gd name="adj1" fmla="val -43750"/>
                  <a:gd name="adj2" fmla="val 70000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107932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5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738920" y="1771560"/>
                <a:ext cx="324000" cy="314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>
                <a:off x="6730920" y="2779560"/>
                <a:ext cx="1728720" cy="100800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  <a:effectLst>
                <a:outerShdw dist="107932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7090560" y="2995560"/>
                <a:ext cx="360360" cy="288720"/>
              </a:xfrm>
              <a:prstGeom prst="bevel">
                <a:avLst>
                  <a:gd name="adj" fmla="val 125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738920" y="2995560"/>
                <a:ext cx="360360" cy="288720"/>
              </a:xfrm>
              <a:prstGeom prst="bevel">
                <a:avLst>
                  <a:gd name="adj" fmla="val 125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6443640" y="1268280"/>
              <a:ext cx="2303280" cy="1511280"/>
            </a:xfrm>
            <a:prstGeom prst="triangle">
              <a:avLst>
                <a:gd name="adj" fmla="val 50000"/>
              </a:avLst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Tree"/>
          <p:cNvSpPr/>
          <p:nvPr/>
        </p:nvSpPr>
        <p:spPr>
          <a:xfrm>
            <a:off x="0" y="260280"/>
            <a:ext cx="1116000" cy="1152720"/>
          </a:xfrm>
          <a:solidFill>
            <a:srgbClr val="008000"/>
          </a:solidFill>
          <a:ln w="0">
            <a:noFill/>
          </a:ln>
          <a:effectLst>
            <a:outerShdw dist="107932" dir="13500000" blurRad="0" rotWithShape="0">
              <a:srgbClr val="008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9"/>
          <a:stretch/>
        </p:blipFill>
        <p:spPr>
          <a:xfrm>
            <a:off x="4788000" y="404640"/>
            <a:ext cx="323640" cy="314640"/>
          </a:xfrm>
          <a:prstGeom prst="rect">
            <a:avLst/>
          </a:prstGeom>
          <a:ln w="0">
            <a:noFill/>
          </a:ln>
        </p:spPr>
      </p:pic>
      <p:sp>
        <p:nvSpPr>
          <p:cNvPr id="102" name="Tree"/>
          <p:cNvSpPr/>
          <p:nvPr/>
        </p:nvSpPr>
        <p:spPr>
          <a:xfrm>
            <a:off x="250920" y="620640"/>
            <a:ext cx="1942920" cy="2087640"/>
          </a:xfrm>
          <a:blipFill rotWithShape="0">
            <a:blip r:embed="rId10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008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1"/>
          <a:stretch/>
        </p:blipFill>
        <p:spPr>
          <a:xfrm>
            <a:off x="250920" y="1773360"/>
            <a:ext cx="495360" cy="4381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rot="9751800">
            <a:off x="8243640" y="189000"/>
            <a:ext cx="503280" cy="72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ff00"/>
              </a:gs>
              <a:gs pos="100000">
                <a:srgbClr val="ffffff"/>
              </a:gs>
            </a:gsLst>
            <a:lin ang="1725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2"/>
          <a:stretch/>
        </p:blipFill>
        <p:spPr>
          <a:xfrm>
            <a:off x="6300720" y="476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3"/>
          <a:stretch/>
        </p:blipFill>
        <p:spPr>
          <a:xfrm>
            <a:off x="8244000" y="33336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4"/>
          <a:stretch/>
        </p:blipFill>
        <p:spPr>
          <a:xfrm>
            <a:off x="8101080" y="620640"/>
            <a:ext cx="714240" cy="7146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348000" y="5157720"/>
            <a:ext cx="1297080" cy="115272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5"/>
          <a:stretch/>
        </p:blipFill>
        <p:spPr>
          <a:xfrm>
            <a:off x="468360" y="189000"/>
            <a:ext cx="323640" cy="314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асько Л.Г.</a:t>
            </a: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path" presetID="64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11111E-006 L 8.33333E-007 -0.64051 E">
                                      <p:cBhvr>
                                        <p:cTn id="76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6000"/>
                            </p:stCondLst>
                            <p:childTnLst>
                              <p:par>
                                <p:cTn id="78" nodeType="afterEffect" fill="hold" presetClass="path" presetID="42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0.64051 L 8.33333E-007 -0.01065 E">
                                      <p:cBhvr>
                                        <p:cTn id="79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023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020000" y="333360"/>
            <a:ext cx="323640" cy="314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84360" y="836640"/>
            <a:ext cx="323640" cy="314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324000" y="1341360"/>
            <a:ext cx="323640" cy="314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4067280" y="1341360"/>
            <a:ext cx="323640" cy="3142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2771640" y="333360"/>
            <a:ext cx="324000" cy="31428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6443640" y="1268280"/>
            <a:ext cx="2303280" cy="2807640"/>
            <a:chOff x="6443640" y="1268280"/>
            <a:chExt cx="2303280" cy="2807640"/>
          </a:xfrm>
        </p:grpSpPr>
        <p:grpSp>
          <p:nvGrpSpPr>
            <p:cNvPr id="116" name=""/>
            <p:cNvGrpSpPr/>
            <p:nvPr/>
          </p:nvGrpSpPr>
          <p:grpSpPr>
            <a:xfrm>
              <a:off x="6730920" y="1429200"/>
              <a:ext cx="1728720" cy="2646720"/>
              <a:chOff x="6730920" y="1429200"/>
              <a:chExt cx="1728720" cy="2646720"/>
            </a:xfrm>
          </p:grpSpPr>
          <p:sp>
            <p:nvSpPr>
              <p:cNvPr id="117" name=""/>
              <p:cNvSpPr/>
              <p:nvPr/>
            </p:nvSpPr>
            <p:spPr>
              <a:xfrm>
                <a:off x="7307280" y="1429200"/>
                <a:ext cx="1079280" cy="883080"/>
              </a:xfrm>
              <a:prstGeom prst="cloudCallout">
                <a:avLst>
                  <a:gd name="adj1" fmla="val -43750"/>
                  <a:gd name="adj2" fmla="val 70000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107932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738920" y="1829160"/>
                <a:ext cx="324000" cy="35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6730920" y="2952720"/>
                <a:ext cx="1728720" cy="112320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  <a:effectLst>
                <a:outerShdw dist="107932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7090560" y="3193200"/>
                <a:ext cx="360360" cy="321480"/>
              </a:xfrm>
              <a:prstGeom prst="bevel">
                <a:avLst>
                  <a:gd name="adj" fmla="val 125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738920" y="3193200"/>
                <a:ext cx="360360" cy="321480"/>
              </a:xfrm>
              <a:prstGeom prst="bevel">
                <a:avLst>
                  <a:gd name="adj" fmla="val 125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6443640" y="1268280"/>
              <a:ext cx="2303280" cy="1684440"/>
            </a:xfrm>
            <a:prstGeom prst="triangle">
              <a:avLst>
                <a:gd name="adj" fmla="val 50000"/>
              </a:avLst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Tree"/>
          <p:cNvSpPr/>
          <p:nvPr/>
        </p:nvSpPr>
        <p:spPr>
          <a:xfrm>
            <a:off x="0" y="260280"/>
            <a:ext cx="1116000" cy="1152720"/>
          </a:xfrm>
          <a:solidFill>
            <a:srgbClr val="008000"/>
          </a:solidFill>
          <a:ln w="0">
            <a:noFill/>
          </a:ln>
          <a:effectLst>
            <a:outerShdw dist="107932" dir="13500000" blurRad="0" rotWithShape="0">
              <a:srgbClr val="008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9"/>
          <a:stretch/>
        </p:blipFill>
        <p:spPr>
          <a:xfrm>
            <a:off x="4788000" y="404640"/>
            <a:ext cx="323640" cy="314640"/>
          </a:xfrm>
          <a:prstGeom prst="rect">
            <a:avLst/>
          </a:prstGeom>
          <a:ln w="0">
            <a:noFill/>
          </a:ln>
        </p:spPr>
      </p:pic>
      <p:sp>
        <p:nvSpPr>
          <p:cNvPr id="125" name="Tree"/>
          <p:cNvSpPr/>
          <p:nvPr/>
        </p:nvSpPr>
        <p:spPr>
          <a:xfrm>
            <a:off x="250920" y="620640"/>
            <a:ext cx="1942920" cy="2087640"/>
          </a:xfrm>
          <a:blipFill rotWithShape="0">
            <a:blip r:embed="rId10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008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1"/>
          <a:stretch/>
        </p:blipFill>
        <p:spPr>
          <a:xfrm>
            <a:off x="250920" y="1773360"/>
            <a:ext cx="495360" cy="438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 rot="9751800">
            <a:off x="8243640" y="189000"/>
            <a:ext cx="503280" cy="72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ff00"/>
              </a:gs>
              <a:gs pos="100000">
                <a:srgbClr val="ffffff"/>
              </a:gs>
            </a:gsLst>
            <a:lin ang="1725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2"/>
          <a:stretch/>
        </p:blipFill>
        <p:spPr>
          <a:xfrm>
            <a:off x="6300720" y="476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3"/>
          <a:stretch/>
        </p:blipFill>
        <p:spPr>
          <a:xfrm>
            <a:off x="8244000" y="33336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4"/>
          <a:stretch/>
        </p:blipFill>
        <p:spPr>
          <a:xfrm>
            <a:off x="8101080" y="620640"/>
            <a:ext cx="714240" cy="7146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916360" y="1052640"/>
            <a:ext cx="1657080" cy="158436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843280" y="2565360"/>
            <a:ext cx="2808360" cy="244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24000" y="2637000"/>
            <a:ext cx="865440" cy="115236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08720" y="3933720"/>
            <a:ext cx="863640" cy="115272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47640" y="4149720"/>
            <a:ext cx="1802160" cy="165564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95640" y="5013360"/>
            <a:ext cx="1297080" cy="115236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219640" y="2060640"/>
            <a:ext cx="1297080" cy="115236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5"/>
          <a:stretch/>
        </p:blipFill>
        <p:spPr>
          <a:xfrm>
            <a:off x="395280" y="260280"/>
            <a:ext cx="324000" cy="314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асько Л.Г.</a:t>
            </a: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6000"/>
                            </p:stCondLst>
                            <p:childTnLst>
                              <p:par>
                                <p:cTn id="93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8000"/>
                            </p:stCondLst>
                            <p:childTnLst>
                              <p:par>
                                <p:cTn id="96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0"/>
                            </p:stCondLst>
                            <p:childTnLst>
                              <p:par>
                                <p:cTn id="99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2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023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020000" y="333360"/>
            <a:ext cx="323640" cy="3142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323640" cy="314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684360" y="836640"/>
            <a:ext cx="323640" cy="314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324000" y="1341360"/>
            <a:ext cx="323640" cy="3142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5508720" y="1052640"/>
            <a:ext cx="323640" cy="3142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3276720" y="333360"/>
            <a:ext cx="323640" cy="31428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6443640" y="1268280"/>
            <a:ext cx="2303280" cy="2519280"/>
            <a:chOff x="6443640" y="1268280"/>
            <a:chExt cx="2303280" cy="2519280"/>
          </a:xfrm>
        </p:grpSpPr>
        <p:grpSp>
          <p:nvGrpSpPr>
            <p:cNvPr id="146" name=""/>
            <p:cNvGrpSpPr/>
            <p:nvPr/>
          </p:nvGrpSpPr>
          <p:grpSpPr>
            <a:xfrm>
              <a:off x="6730920" y="1412640"/>
              <a:ext cx="1728720" cy="2374920"/>
              <a:chOff x="6730920" y="1412640"/>
              <a:chExt cx="1728720" cy="2374920"/>
            </a:xfrm>
          </p:grpSpPr>
          <p:sp>
            <p:nvSpPr>
              <p:cNvPr id="147" name=""/>
              <p:cNvSpPr/>
              <p:nvPr/>
            </p:nvSpPr>
            <p:spPr>
              <a:xfrm>
                <a:off x="7307280" y="1412640"/>
                <a:ext cx="1079280" cy="792360"/>
              </a:xfrm>
              <a:prstGeom prst="cloudCallout">
                <a:avLst>
                  <a:gd name="adj1" fmla="val -43750"/>
                  <a:gd name="adj2" fmla="val 70000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107932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8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738920" y="1771560"/>
                <a:ext cx="324000" cy="314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"/>
              <p:cNvSpPr/>
              <p:nvPr/>
            </p:nvSpPr>
            <p:spPr>
              <a:xfrm>
                <a:off x="6730920" y="2779560"/>
                <a:ext cx="1728720" cy="100800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  <a:effectLst>
                <a:outerShdw dist="107932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>
                <a:off x="7090560" y="2995560"/>
                <a:ext cx="360360" cy="288720"/>
              </a:xfrm>
              <a:prstGeom prst="bevel">
                <a:avLst>
                  <a:gd name="adj" fmla="val 125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738920" y="2995560"/>
                <a:ext cx="360360" cy="288720"/>
              </a:xfrm>
              <a:prstGeom prst="bevel">
                <a:avLst>
                  <a:gd name="adj" fmla="val 125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6443640" y="1268280"/>
              <a:ext cx="2303280" cy="1511280"/>
            </a:xfrm>
            <a:prstGeom prst="triangle">
              <a:avLst>
                <a:gd name="adj" fmla="val 50000"/>
              </a:avLst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Tree"/>
          <p:cNvSpPr/>
          <p:nvPr/>
        </p:nvSpPr>
        <p:spPr>
          <a:xfrm>
            <a:off x="0" y="260280"/>
            <a:ext cx="1116000" cy="1152720"/>
          </a:xfrm>
          <a:solidFill>
            <a:srgbClr val="008000"/>
          </a:solidFill>
          <a:ln w="0">
            <a:noFill/>
          </a:ln>
          <a:effectLst>
            <a:outerShdw dist="107932" dir="13500000" blurRad="0" rotWithShape="0">
              <a:srgbClr val="008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0"/>
          <a:stretch/>
        </p:blipFill>
        <p:spPr>
          <a:xfrm>
            <a:off x="1332000" y="333360"/>
            <a:ext cx="323640" cy="314280"/>
          </a:xfrm>
          <a:prstGeom prst="rect">
            <a:avLst/>
          </a:prstGeom>
          <a:ln w="0">
            <a:noFill/>
          </a:ln>
        </p:spPr>
      </p:pic>
      <p:sp>
        <p:nvSpPr>
          <p:cNvPr id="155" name="Tree"/>
          <p:cNvSpPr/>
          <p:nvPr/>
        </p:nvSpPr>
        <p:spPr>
          <a:xfrm>
            <a:off x="250920" y="620640"/>
            <a:ext cx="1942920" cy="2087640"/>
          </a:xfrm>
          <a:blipFill rotWithShape="0">
            <a:blip r:embed="rId11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008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2"/>
          <a:stretch/>
        </p:blipFill>
        <p:spPr>
          <a:xfrm>
            <a:off x="250920" y="1773360"/>
            <a:ext cx="495360" cy="4381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 rot="9751800">
            <a:off x="8243640" y="189000"/>
            <a:ext cx="503280" cy="72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ff00"/>
              </a:gs>
              <a:gs pos="100000">
                <a:srgbClr val="ffffff"/>
              </a:gs>
            </a:gsLst>
            <a:lin ang="1725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3"/>
          <a:stretch/>
        </p:blipFill>
        <p:spPr>
          <a:xfrm>
            <a:off x="6300720" y="476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4"/>
          <a:stretch/>
        </p:blipFill>
        <p:spPr>
          <a:xfrm>
            <a:off x="8244000" y="333360"/>
            <a:ext cx="714240" cy="714240"/>
          </a:xfrm>
          <a:prstGeom prst="rect">
            <a:avLst/>
          </a:prstGeom>
          <a:ln w="0">
            <a:noFill/>
          </a:ln>
        </p:spPr>
      </p:pic>
      <p:grpSp>
        <p:nvGrpSpPr>
          <p:cNvPr id="160" name=""/>
          <p:cNvGrpSpPr/>
          <p:nvPr/>
        </p:nvGrpSpPr>
        <p:grpSpPr>
          <a:xfrm>
            <a:off x="2517480" y="1197000"/>
            <a:ext cx="3511440" cy="5573520"/>
            <a:chOff x="2517480" y="1197000"/>
            <a:chExt cx="3511440" cy="5573520"/>
          </a:xfrm>
        </p:grpSpPr>
        <p:sp>
          <p:nvSpPr>
            <p:cNvPr id="161" name=""/>
            <p:cNvSpPr/>
            <p:nvPr/>
          </p:nvSpPr>
          <p:spPr>
            <a:xfrm>
              <a:off x="3492360" y="1197000"/>
              <a:ext cx="1584360" cy="1368720"/>
            </a:xfrm>
            <a:prstGeom prst="ellipse">
              <a:avLst/>
            </a:prstGeom>
            <a:gradFill rotWithShape="0">
              <a:gsLst>
                <a:gs pos="0">
                  <a:srgbClr val="ffebfa"/>
                </a:gs>
                <a:gs pos="5000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17238000">
              <a:off x="3439800" y="2314440"/>
              <a:ext cx="1562400" cy="176868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07932" dir="189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16200000">
              <a:off x="4104360" y="1809000"/>
              <a:ext cx="287280" cy="647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4763" y="1422"/>
                    <a:pt x="7925" y="5080"/>
                    <a:pt x="7925" y="10800"/>
                  </a:cubicBezTo>
                  <a:cubicBezTo>
                    <a:pt x="7925" y="16520"/>
                    <a:pt x="14763" y="201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7238000">
              <a:off x="2922480" y="3711240"/>
              <a:ext cx="2625840" cy="278136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07932" dir="135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7662600">
              <a:off x="2877120" y="2747160"/>
              <a:ext cx="911160" cy="97632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50000">
                  <a:srgbClr val="ffebfa"/>
                </a:gs>
                <a:gs pos="100000">
                  <a:srgbClr val="5e9eff"/>
                </a:gs>
              </a:gsLst>
              <a:lin ang="19338000"/>
            </a:gradFill>
            <a:ln w="0">
              <a:noFill/>
            </a:ln>
            <a:effectLst>
              <a:outerShdw dist="107932" dir="135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7662600">
              <a:off x="4820400" y="2747160"/>
              <a:ext cx="911160" cy="97632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50000">
                  <a:srgbClr val="ffebfa"/>
                </a:gs>
                <a:gs pos="100000">
                  <a:srgbClr val="5e9eff"/>
                </a:gs>
              </a:gsLst>
              <a:lin ang="19338000"/>
            </a:gradFill>
            <a:ln w="0">
              <a:noFill/>
            </a:ln>
            <a:effectLst>
              <a:outerShdw dist="107932" dir="189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24360" y="162900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19254000">
              <a:off x="4140360" y="1700280"/>
              <a:ext cx="576000" cy="432000"/>
            </a:xfrm>
            <a:prstGeom prst="lightningBol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427640" y="162900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1130000">
              <a:off x="4788000" y="6167160"/>
              <a:ext cx="1217520" cy="54612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50000">
                  <a:srgbClr val="ffebfa"/>
                </a:gs>
                <a:gs pos="100000">
                  <a:srgbClr val="5e9eff"/>
                </a:gs>
              </a:gsLst>
              <a:lin ang="15870000"/>
            </a:gradFill>
            <a:ln w="0">
              <a:noFill/>
            </a:ln>
            <a:effectLst>
              <a:outerShdw dist="107932" dir="189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1130000">
              <a:off x="2700360" y="6167160"/>
              <a:ext cx="1217520" cy="54612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50000">
                  <a:srgbClr val="ffebfa"/>
                </a:gs>
                <a:gs pos="100000">
                  <a:srgbClr val="5e9eff"/>
                </a:gs>
              </a:gsLst>
              <a:lin ang="15870000"/>
            </a:gradFill>
            <a:ln w="0">
              <a:noFill/>
            </a:ln>
            <a:effectLst>
              <a:outerShdw dist="107932" dir="135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708360" y="1197000"/>
              <a:ext cx="1187640" cy="444600"/>
            </a:xfrm>
            <a:custGeom>
              <a:avLst/>
              <a:gdLst/>
              <a:ahLst/>
              <a:rect l="l" t="t" r="r" b="b"/>
              <a:pathLst>
                <a:path w="748" h="280">
                  <a:moveTo>
                    <a:pt x="748" y="136"/>
                  </a:moveTo>
                  <a:cubicBezTo>
                    <a:pt x="737" y="185"/>
                    <a:pt x="722" y="233"/>
                    <a:pt x="705" y="280"/>
                  </a:cubicBezTo>
                  <a:cubicBezTo>
                    <a:pt x="690" y="234"/>
                    <a:pt x="705" y="65"/>
                    <a:pt x="680" y="170"/>
                  </a:cubicBezTo>
                  <a:cubicBezTo>
                    <a:pt x="677" y="161"/>
                    <a:pt x="674" y="153"/>
                    <a:pt x="671" y="144"/>
                  </a:cubicBezTo>
                  <a:cubicBezTo>
                    <a:pt x="668" y="133"/>
                    <a:pt x="673" y="106"/>
                    <a:pt x="663" y="111"/>
                  </a:cubicBezTo>
                  <a:cubicBezTo>
                    <a:pt x="650" y="118"/>
                    <a:pt x="658" y="139"/>
                    <a:pt x="654" y="153"/>
                  </a:cubicBezTo>
                  <a:cubicBezTo>
                    <a:pt x="649" y="170"/>
                    <a:pt x="638" y="204"/>
                    <a:pt x="638" y="204"/>
                  </a:cubicBezTo>
                  <a:cubicBezTo>
                    <a:pt x="607" y="157"/>
                    <a:pt x="600" y="105"/>
                    <a:pt x="587" y="51"/>
                  </a:cubicBezTo>
                  <a:cubicBezTo>
                    <a:pt x="585" y="57"/>
                    <a:pt x="572" y="102"/>
                    <a:pt x="561" y="102"/>
                  </a:cubicBezTo>
                  <a:cubicBezTo>
                    <a:pt x="552" y="102"/>
                    <a:pt x="557" y="85"/>
                    <a:pt x="553" y="77"/>
                  </a:cubicBezTo>
                  <a:cubicBezTo>
                    <a:pt x="516" y="2"/>
                    <a:pt x="552" y="97"/>
                    <a:pt x="527" y="26"/>
                  </a:cubicBezTo>
                  <a:cubicBezTo>
                    <a:pt x="521" y="43"/>
                    <a:pt x="516" y="60"/>
                    <a:pt x="510" y="77"/>
                  </a:cubicBezTo>
                  <a:cubicBezTo>
                    <a:pt x="507" y="85"/>
                    <a:pt x="502" y="102"/>
                    <a:pt x="502" y="102"/>
                  </a:cubicBezTo>
                  <a:cubicBezTo>
                    <a:pt x="499" y="122"/>
                    <a:pt x="503" y="143"/>
                    <a:pt x="494" y="161"/>
                  </a:cubicBezTo>
                  <a:cubicBezTo>
                    <a:pt x="490" y="169"/>
                    <a:pt x="486" y="145"/>
                    <a:pt x="485" y="136"/>
                  </a:cubicBezTo>
                  <a:cubicBezTo>
                    <a:pt x="474" y="67"/>
                    <a:pt x="484" y="51"/>
                    <a:pt x="451" y="0"/>
                  </a:cubicBezTo>
                  <a:cubicBezTo>
                    <a:pt x="411" y="60"/>
                    <a:pt x="415" y="134"/>
                    <a:pt x="409" y="204"/>
                  </a:cubicBezTo>
                  <a:cubicBezTo>
                    <a:pt x="406" y="173"/>
                    <a:pt x="417" y="137"/>
                    <a:pt x="400" y="111"/>
                  </a:cubicBezTo>
                  <a:cubicBezTo>
                    <a:pt x="388" y="92"/>
                    <a:pt x="402" y="158"/>
                    <a:pt x="392" y="178"/>
                  </a:cubicBezTo>
                  <a:cubicBezTo>
                    <a:pt x="387" y="188"/>
                    <a:pt x="386" y="155"/>
                    <a:pt x="383" y="144"/>
                  </a:cubicBezTo>
                  <a:cubicBezTo>
                    <a:pt x="375" y="107"/>
                    <a:pt x="365" y="71"/>
                    <a:pt x="358" y="34"/>
                  </a:cubicBezTo>
                  <a:cubicBezTo>
                    <a:pt x="339" y="95"/>
                    <a:pt x="351" y="52"/>
                    <a:pt x="333" y="170"/>
                  </a:cubicBezTo>
                  <a:cubicBezTo>
                    <a:pt x="330" y="190"/>
                    <a:pt x="324" y="229"/>
                    <a:pt x="324" y="229"/>
                  </a:cubicBezTo>
                  <a:cubicBezTo>
                    <a:pt x="301" y="160"/>
                    <a:pt x="297" y="101"/>
                    <a:pt x="290" y="26"/>
                  </a:cubicBezTo>
                  <a:cubicBezTo>
                    <a:pt x="280" y="57"/>
                    <a:pt x="275" y="88"/>
                    <a:pt x="265" y="119"/>
                  </a:cubicBezTo>
                  <a:cubicBezTo>
                    <a:pt x="262" y="111"/>
                    <a:pt x="258" y="103"/>
                    <a:pt x="256" y="94"/>
                  </a:cubicBezTo>
                  <a:cubicBezTo>
                    <a:pt x="253" y="83"/>
                    <a:pt x="258" y="65"/>
                    <a:pt x="248" y="60"/>
                  </a:cubicBezTo>
                  <a:cubicBezTo>
                    <a:pt x="240" y="56"/>
                    <a:pt x="242" y="77"/>
                    <a:pt x="239" y="85"/>
                  </a:cubicBezTo>
                  <a:cubicBezTo>
                    <a:pt x="236" y="94"/>
                    <a:pt x="234" y="102"/>
                    <a:pt x="231" y="111"/>
                  </a:cubicBezTo>
                  <a:cubicBezTo>
                    <a:pt x="211" y="50"/>
                    <a:pt x="224" y="75"/>
                    <a:pt x="197" y="34"/>
                  </a:cubicBezTo>
                  <a:cubicBezTo>
                    <a:pt x="188" y="62"/>
                    <a:pt x="181" y="91"/>
                    <a:pt x="172" y="119"/>
                  </a:cubicBezTo>
                  <a:cubicBezTo>
                    <a:pt x="169" y="111"/>
                    <a:pt x="171" y="90"/>
                    <a:pt x="163" y="94"/>
                  </a:cubicBezTo>
                  <a:cubicBezTo>
                    <a:pt x="153" y="99"/>
                    <a:pt x="158" y="117"/>
                    <a:pt x="155" y="128"/>
                  </a:cubicBezTo>
                  <a:cubicBezTo>
                    <a:pt x="144" y="167"/>
                    <a:pt x="133" y="207"/>
                    <a:pt x="121" y="246"/>
                  </a:cubicBezTo>
                  <a:cubicBezTo>
                    <a:pt x="102" y="194"/>
                    <a:pt x="96" y="139"/>
                    <a:pt x="87" y="85"/>
                  </a:cubicBezTo>
                  <a:cubicBezTo>
                    <a:pt x="72" y="262"/>
                    <a:pt x="75" y="198"/>
                    <a:pt x="62" y="128"/>
                  </a:cubicBezTo>
                  <a:cubicBezTo>
                    <a:pt x="59" y="142"/>
                    <a:pt x="63" y="160"/>
                    <a:pt x="53" y="170"/>
                  </a:cubicBezTo>
                  <a:cubicBezTo>
                    <a:pt x="46" y="176"/>
                    <a:pt x="54" y="144"/>
                    <a:pt x="45" y="144"/>
                  </a:cubicBezTo>
                  <a:cubicBezTo>
                    <a:pt x="36" y="144"/>
                    <a:pt x="39" y="161"/>
                    <a:pt x="36" y="170"/>
                  </a:cubicBezTo>
                  <a:cubicBezTo>
                    <a:pt x="28" y="164"/>
                    <a:pt x="17" y="161"/>
                    <a:pt x="11" y="153"/>
                  </a:cubicBezTo>
                  <a:cubicBezTo>
                    <a:pt x="0" y="140"/>
                    <a:pt x="2" y="109"/>
                    <a:pt x="2" y="144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3" name="" descr=""/>
          <p:cNvPicPr/>
          <p:nvPr/>
        </p:nvPicPr>
        <p:blipFill>
          <a:blip r:embed="rId15"/>
          <a:stretch/>
        </p:blipFill>
        <p:spPr>
          <a:xfrm>
            <a:off x="8101080" y="620640"/>
            <a:ext cx="714240" cy="714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асько Л.Г.</a:t>
            </a: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" nodeType="afterEffect" fill="hold" presetClass="emph" presetID="3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3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7" dur="3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8" dur="3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0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1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2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9000"/>
                            </p:stCondLst>
                            <p:childTnLst>
                              <p:par>
                                <p:cTn id="130" nodeType="afterEffect" fill="hold" presetClass="pat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31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3000"/>
                            </p:stCondLst>
                            <p:childTnLst>
                              <p:par>
                                <p:cTn id="133" nodeType="afterEffect" fill="hold" presetClass="path" presetID="63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34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023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5030280" y="750600"/>
            <a:ext cx="2113920" cy="2477880"/>
            <a:chOff x="5030280" y="750600"/>
            <a:chExt cx="2113920" cy="2477880"/>
          </a:xfrm>
        </p:grpSpPr>
        <p:sp>
          <p:nvSpPr>
            <p:cNvPr id="175" name=""/>
            <p:cNvSpPr/>
            <p:nvPr/>
          </p:nvSpPr>
          <p:spPr>
            <a:xfrm>
              <a:off x="6146280" y="1611000"/>
              <a:ext cx="627840" cy="161748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20326800">
              <a:off x="5042520" y="1112760"/>
              <a:ext cx="2089080" cy="459720"/>
            </a:xfrm>
            <a:prstGeom prst="rect">
              <a:avLst/>
            </a:prstGeom>
            <a:noFill/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БЕРЕГИТ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395000" y="285840"/>
            <a:ext cx="1719000" cy="2300760"/>
            <a:chOff x="1395000" y="285840"/>
            <a:chExt cx="1719000" cy="2300760"/>
          </a:xfrm>
        </p:grpSpPr>
        <p:sp>
          <p:nvSpPr>
            <p:cNvPr id="178" name=""/>
            <p:cNvSpPr/>
            <p:nvPr/>
          </p:nvSpPr>
          <p:spPr>
            <a:xfrm flipH="1">
              <a:off x="1653120" y="978480"/>
              <a:ext cx="492480" cy="160812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1021800">
              <a:off x="1425960" y="518400"/>
              <a:ext cx="1657080" cy="459720"/>
            </a:xfrm>
            <a:prstGeom prst="rect">
              <a:avLst/>
            </a:prstGeom>
            <a:noFill/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РЕБЯТА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2824200" y="1989000"/>
            <a:ext cx="2774880" cy="4652640"/>
            <a:chOff x="2824200" y="1989000"/>
            <a:chExt cx="2774880" cy="4652640"/>
          </a:xfrm>
        </p:grpSpPr>
        <p:sp>
          <p:nvSpPr>
            <p:cNvPr id="181" name=""/>
            <p:cNvSpPr/>
            <p:nvPr/>
          </p:nvSpPr>
          <p:spPr>
            <a:xfrm>
              <a:off x="3608640" y="1989000"/>
              <a:ext cx="1242360" cy="1143360"/>
            </a:xfrm>
            <a:prstGeom prst="ellipse">
              <a:avLst/>
            </a:prstGeom>
            <a:gradFill rotWithShape="0">
              <a:gsLst>
                <a:gs pos="0">
                  <a:srgbClr val="ffebfa"/>
                </a:gs>
                <a:gs pos="5000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17238000">
              <a:off x="3527280" y="2967120"/>
              <a:ext cx="1305000" cy="138708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07932" dir="189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16200000">
              <a:off x="4081320" y="2516400"/>
              <a:ext cx="239760" cy="507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4763" y="1422"/>
                    <a:pt x="7925" y="5080"/>
                    <a:pt x="7925" y="10800"/>
                  </a:cubicBezTo>
                  <a:cubicBezTo>
                    <a:pt x="7925" y="16520"/>
                    <a:pt x="14763" y="201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17238000">
              <a:off x="3094560" y="4160160"/>
              <a:ext cx="2193480" cy="218124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07932" dir="135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7662600">
              <a:off x="3102480" y="3308760"/>
              <a:ext cx="761040" cy="76572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50000">
                  <a:srgbClr val="ffebfa"/>
                </a:gs>
                <a:gs pos="100000">
                  <a:srgbClr val="5e9eff"/>
                </a:gs>
              </a:gsLst>
              <a:lin ang="19338000"/>
            </a:gradFill>
            <a:ln w="0">
              <a:noFill/>
            </a:ln>
            <a:effectLst>
              <a:outerShdw dist="107932" dir="135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7662600">
              <a:off x="4626720" y="3308760"/>
              <a:ext cx="761040" cy="76572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50000">
                  <a:srgbClr val="ffebfa"/>
                </a:gs>
                <a:gs pos="100000">
                  <a:srgbClr val="5e9eff"/>
                </a:gs>
              </a:gsLst>
              <a:lin ang="19338000"/>
            </a:gradFill>
            <a:ln w="0">
              <a:noFill/>
            </a:ln>
            <a:effectLst>
              <a:outerShdw dist="107932" dir="189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947400" y="2349720"/>
              <a:ext cx="113040" cy="120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19254000">
              <a:off x="4116600" y="2409120"/>
              <a:ext cx="451440" cy="360720"/>
            </a:xfrm>
            <a:prstGeom prst="lightningBol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342320" y="2349720"/>
              <a:ext cx="113040" cy="120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11130000">
              <a:off x="4624560" y="6140520"/>
              <a:ext cx="954720" cy="45612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50000">
                  <a:srgbClr val="ffebfa"/>
                </a:gs>
                <a:gs pos="100000">
                  <a:srgbClr val="5e9eff"/>
                </a:gs>
              </a:gsLst>
              <a:lin ang="15870000"/>
            </a:gradFill>
            <a:ln w="0">
              <a:noFill/>
            </a:ln>
            <a:effectLst>
              <a:outerShdw dist="107932" dir="189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11130000">
              <a:off x="2987280" y="6140520"/>
              <a:ext cx="954720" cy="45612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50000">
                  <a:srgbClr val="ffebfa"/>
                </a:gs>
                <a:gs pos="100000">
                  <a:srgbClr val="5e9eff"/>
                </a:gs>
              </a:gsLst>
              <a:lin ang="15870000"/>
            </a:gradFill>
            <a:ln w="0">
              <a:noFill/>
            </a:ln>
            <a:effectLst>
              <a:outerShdw dist="107932" dir="135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778200" y="1989000"/>
              <a:ext cx="931320" cy="371160"/>
            </a:xfrm>
            <a:custGeom>
              <a:avLst/>
              <a:gdLst/>
              <a:ahLst/>
              <a:rect l="l" t="t" r="r" b="b"/>
              <a:pathLst>
                <a:path w="748" h="280">
                  <a:moveTo>
                    <a:pt x="748" y="136"/>
                  </a:moveTo>
                  <a:cubicBezTo>
                    <a:pt x="737" y="185"/>
                    <a:pt x="722" y="233"/>
                    <a:pt x="705" y="280"/>
                  </a:cubicBezTo>
                  <a:cubicBezTo>
                    <a:pt x="690" y="234"/>
                    <a:pt x="705" y="65"/>
                    <a:pt x="680" y="170"/>
                  </a:cubicBezTo>
                  <a:cubicBezTo>
                    <a:pt x="677" y="161"/>
                    <a:pt x="674" y="153"/>
                    <a:pt x="671" y="144"/>
                  </a:cubicBezTo>
                  <a:cubicBezTo>
                    <a:pt x="668" y="133"/>
                    <a:pt x="673" y="106"/>
                    <a:pt x="663" y="111"/>
                  </a:cubicBezTo>
                  <a:cubicBezTo>
                    <a:pt x="650" y="118"/>
                    <a:pt x="658" y="139"/>
                    <a:pt x="654" y="153"/>
                  </a:cubicBezTo>
                  <a:cubicBezTo>
                    <a:pt x="649" y="170"/>
                    <a:pt x="638" y="204"/>
                    <a:pt x="638" y="204"/>
                  </a:cubicBezTo>
                  <a:cubicBezTo>
                    <a:pt x="607" y="157"/>
                    <a:pt x="600" y="105"/>
                    <a:pt x="587" y="51"/>
                  </a:cubicBezTo>
                  <a:cubicBezTo>
                    <a:pt x="585" y="57"/>
                    <a:pt x="572" y="102"/>
                    <a:pt x="561" y="102"/>
                  </a:cubicBezTo>
                  <a:cubicBezTo>
                    <a:pt x="552" y="102"/>
                    <a:pt x="557" y="85"/>
                    <a:pt x="553" y="77"/>
                  </a:cubicBezTo>
                  <a:cubicBezTo>
                    <a:pt x="516" y="2"/>
                    <a:pt x="552" y="97"/>
                    <a:pt x="527" y="26"/>
                  </a:cubicBezTo>
                  <a:cubicBezTo>
                    <a:pt x="521" y="43"/>
                    <a:pt x="516" y="60"/>
                    <a:pt x="510" y="77"/>
                  </a:cubicBezTo>
                  <a:cubicBezTo>
                    <a:pt x="507" y="85"/>
                    <a:pt x="502" y="102"/>
                    <a:pt x="502" y="102"/>
                  </a:cubicBezTo>
                  <a:cubicBezTo>
                    <a:pt x="499" y="122"/>
                    <a:pt x="503" y="143"/>
                    <a:pt x="494" y="161"/>
                  </a:cubicBezTo>
                  <a:cubicBezTo>
                    <a:pt x="490" y="169"/>
                    <a:pt x="486" y="145"/>
                    <a:pt x="485" y="136"/>
                  </a:cubicBezTo>
                  <a:cubicBezTo>
                    <a:pt x="474" y="67"/>
                    <a:pt x="484" y="51"/>
                    <a:pt x="451" y="0"/>
                  </a:cubicBezTo>
                  <a:cubicBezTo>
                    <a:pt x="411" y="60"/>
                    <a:pt x="415" y="134"/>
                    <a:pt x="409" y="204"/>
                  </a:cubicBezTo>
                  <a:cubicBezTo>
                    <a:pt x="406" y="173"/>
                    <a:pt x="417" y="137"/>
                    <a:pt x="400" y="111"/>
                  </a:cubicBezTo>
                  <a:cubicBezTo>
                    <a:pt x="388" y="92"/>
                    <a:pt x="402" y="158"/>
                    <a:pt x="392" y="178"/>
                  </a:cubicBezTo>
                  <a:cubicBezTo>
                    <a:pt x="387" y="188"/>
                    <a:pt x="386" y="155"/>
                    <a:pt x="383" y="144"/>
                  </a:cubicBezTo>
                  <a:cubicBezTo>
                    <a:pt x="375" y="107"/>
                    <a:pt x="365" y="71"/>
                    <a:pt x="358" y="34"/>
                  </a:cubicBezTo>
                  <a:cubicBezTo>
                    <a:pt x="339" y="95"/>
                    <a:pt x="351" y="52"/>
                    <a:pt x="333" y="170"/>
                  </a:cubicBezTo>
                  <a:cubicBezTo>
                    <a:pt x="330" y="190"/>
                    <a:pt x="324" y="229"/>
                    <a:pt x="324" y="229"/>
                  </a:cubicBezTo>
                  <a:cubicBezTo>
                    <a:pt x="301" y="160"/>
                    <a:pt x="297" y="101"/>
                    <a:pt x="290" y="26"/>
                  </a:cubicBezTo>
                  <a:cubicBezTo>
                    <a:pt x="280" y="57"/>
                    <a:pt x="275" y="88"/>
                    <a:pt x="265" y="119"/>
                  </a:cubicBezTo>
                  <a:cubicBezTo>
                    <a:pt x="262" y="111"/>
                    <a:pt x="258" y="103"/>
                    <a:pt x="256" y="94"/>
                  </a:cubicBezTo>
                  <a:cubicBezTo>
                    <a:pt x="253" y="83"/>
                    <a:pt x="258" y="65"/>
                    <a:pt x="248" y="60"/>
                  </a:cubicBezTo>
                  <a:cubicBezTo>
                    <a:pt x="240" y="56"/>
                    <a:pt x="242" y="77"/>
                    <a:pt x="239" y="85"/>
                  </a:cubicBezTo>
                  <a:cubicBezTo>
                    <a:pt x="236" y="94"/>
                    <a:pt x="234" y="102"/>
                    <a:pt x="231" y="111"/>
                  </a:cubicBezTo>
                  <a:cubicBezTo>
                    <a:pt x="211" y="50"/>
                    <a:pt x="224" y="75"/>
                    <a:pt x="197" y="34"/>
                  </a:cubicBezTo>
                  <a:cubicBezTo>
                    <a:pt x="188" y="62"/>
                    <a:pt x="181" y="91"/>
                    <a:pt x="172" y="119"/>
                  </a:cubicBezTo>
                  <a:cubicBezTo>
                    <a:pt x="169" y="111"/>
                    <a:pt x="171" y="90"/>
                    <a:pt x="163" y="94"/>
                  </a:cubicBezTo>
                  <a:cubicBezTo>
                    <a:pt x="153" y="99"/>
                    <a:pt x="158" y="117"/>
                    <a:pt x="155" y="128"/>
                  </a:cubicBezTo>
                  <a:cubicBezTo>
                    <a:pt x="144" y="167"/>
                    <a:pt x="133" y="207"/>
                    <a:pt x="121" y="246"/>
                  </a:cubicBezTo>
                  <a:cubicBezTo>
                    <a:pt x="102" y="194"/>
                    <a:pt x="96" y="139"/>
                    <a:pt x="87" y="85"/>
                  </a:cubicBezTo>
                  <a:cubicBezTo>
                    <a:pt x="72" y="262"/>
                    <a:pt x="75" y="198"/>
                    <a:pt x="62" y="128"/>
                  </a:cubicBezTo>
                  <a:cubicBezTo>
                    <a:pt x="59" y="142"/>
                    <a:pt x="63" y="160"/>
                    <a:pt x="53" y="170"/>
                  </a:cubicBezTo>
                  <a:cubicBezTo>
                    <a:pt x="46" y="176"/>
                    <a:pt x="54" y="144"/>
                    <a:pt x="45" y="144"/>
                  </a:cubicBezTo>
                  <a:cubicBezTo>
                    <a:pt x="36" y="144"/>
                    <a:pt x="39" y="161"/>
                    <a:pt x="36" y="170"/>
                  </a:cubicBezTo>
                  <a:cubicBezTo>
                    <a:pt x="28" y="164"/>
                    <a:pt x="17" y="161"/>
                    <a:pt x="11" y="153"/>
                  </a:cubicBezTo>
                  <a:cubicBezTo>
                    <a:pt x="0" y="140"/>
                    <a:pt x="2" y="109"/>
                    <a:pt x="2" y="144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715680" y="1268280"/>
            <a:ext cx="1198440" cy="1625400"/>
            <a:chOff x="715680" y="1268280"/>
            <a:chExt cx="1198440" cy="1625400"/>
          </a:xfrm>
        </p:grpSpPr>
        <p:sp>
          <p:nvSpPr>
            <p:cNvPr id="194" name=""/>
            <p:cNvSpPr/>
            <p:nvPr/>
          </p:nvSpPr>
          <p:spPr>
            <a:xfrm>
              <a:off x="1031760" y="1268280"/>
              <a:ext cx="552240" cy="393120"/>
            </a:xfrm>
            <a:prstGeom prst="ellipse">
              <a:avLst/>
            </a:prstGeom>
            <a:gradFill rotWithShape="0">
              <a:gsLst>
                <a:gs pos="0">
                  <a:srgbClr val="ffebfa"/>
                </a:gs>
                <a:gs pos="5000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7238000">
              <a:off x="1061280" y="1534680"/>
              <a:ext cx="448560" cy="61668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07932" dir="189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6200000">
              <a:off x="1253880" y="1423800"/>
              <a:ext cx="82440" cy="225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4763" y="1422"/>
                    <a:pt x="7925" y="5080"/>
                    <a:pt x="7925" y="10800"/>
                  </a:cubicBezTo>
                  <a:cubicBezTo>
                    <a:pt x="7925" y="16520"/>
                    <a:pt x="14763" y="201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7238000">
              <a:off x="913320" y="1904400"/>
              <a:ext cx="754200" cy="96984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07932" dir="135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7662600">
              <a:off x="844200" y="1683720"/>
              <a:ext cx="261720" cy="3402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50000">
                  <a:srgbClr val="ffebfa"/>
                </a:gs>
                <a:gs pos="100000">
                  <a:srgbClr val="5e9eff"/>
                </a:gs>
              </a:gsLst>
              <a:lin ang="19338000"/>
            </a:gradFill>
            <a:ln w="0">
              <a:noFill/>
            </a:ln>
            <a:effectLst>
              <a:outerShdw dist="107932" dir="135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7662600">
              <a:off x="1522080" y="1683720"/>
              <a:ext cx="261720" cy="3402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50000">
                  <a:srgbClr val="ffebfa"/>
                </a:gs>
                <a:gs pos="100000">
                  <a:srgbClr val="5e9eff"/>
                </a:gs>
              </a:gsLst>
              <a:lin ang="19338000"/>
            </a:gradFill>
            <a:ln w="0">
              <a:noFill/>
            </a:ln>
            <a:effectLst>
              <a:outerShdw dist="107932" dir="189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82240" y="1392120"/>
              <a:ext cx="50040" cy="41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9254000">
              <a:off x="1257480" y="1412280"/>
              <a:ext cx="200520" cy="123840"/>
            </a:xfrm>
            <a:prstGeom prst="lightningBol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357920" y="1392120"/>
              <a:ext cx="50040" cy="41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11130000">
              <a:off x="1482840" y="2694960"/>
              <a:ext cx="424440" cy="156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50000">
                  <a:srgbClr val="ffebfa"/>
                </a:gs>
                <a:gs pos="100000">
                  <a:srgbClr val="5e9eff"/>
                </a:gs>
              </a:gsLst>
              <a:lin ang="15870000"/>
            </a:gradFill>
            <a:ln w="0">
              <a:noFill/>
            </a:ln>
            <a:effectLst>
              <a:outerShdw dist="107932" dir="189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11130000">
              <a:off x="754920" y="2694960"/>
              <a:ext cx="424440" cy="156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50000">
                  <a:srgbClr val="ffebfa"/>
                </a:gs>
                <a:gs pos="100000">
                  <a:srgbClr val="5e9eff"/>
                </a:gs>
              </a:gsLst>
              <a:lin ang="15870000"/>
            </a:gradFill>
            <a:ln w="0">
              <a:noFill/>
            </a:ln>
            <a:effectLst>
              <a:outerShdw dist="107932" dir="135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07000" y="1268280"/>
              <a:ext cx="414000" cy="127440"/>
            </a:xfrm>
            <a:custGeom>
              <a:avLst/>
              <a:gdLst/>
              <a:ahLst/>
              <a:rect l="l" t="t" r="r" b="b"/>
              <a:pathLst>
                <a:path w="748" h="280">
                  <a:moveTo>
                    <a:pt x="748" y="136"/>
                  </a:moveTo>
                  <a:cubicBezTo>
                    <a:pt x="737" y="185"/>
                    <a:pt x="722" y="233"/>
                    <a:pt x="705" y="280"/>
                  </a:cubicBezTo>
                  <a:cubicBezTo>
                    <a:pt x="690" y="234"/>
                    <a:pt x="705" y="65"/>
                    <a:pt x="680" y="170"/>
                  </a:cubicBezTo>
                  <a:cubicBezTo>
                    <a:pt x="677" y="161"/>
                    <a:pt x="674" y="153"/>
                    <a:pt x="671" y="144"/>
                  </a:cubicBezTo>
                  <a:cubicBezTo>
                    <a:pt x="668" y="133"/>
                    <a:pt x="673" y="106"/>
                    <a:pt x="663" y="111"/>
                  </a:cubicBezTo>
                  <a:cubicBezTo>
                    <a:pt x="650" y="118"/>
                    <a:pt x="658" y="139"/>
                    <a:pt x="654" y="153"/>
                  </a:cubicBezTo>
                  <a:cubicBezTo>
                    <a:pt x="649" y="170"/>
                    <a:pt x="638" y="204"/>
                    <a:pt x="638" y="204"/>
                  </a:cubicBezTo>
                  <a:cubicBezTo>
                    <a:pt x="607" y="157"/>
                    <a:pt x="600" y="105"/>
                    <a:pt x="587" y="51"/>
                  </a:cubicBezTo>
                  <a:cubicBezTo>
                    <a:pt x="585" y="57"/>
                    <a:pt x="572" y="102"/>
                    <a:pt x="561" y="102"/>
                  </a:cubicBezTo>
                  <a:cubicBezTo>
                    <a:pt x="552" y="102"/>
                    <a:pt x="557" y="85"/>
                    <a:pt x="553" y="77"/>
                  </a:cubicBezTo>
                  <a:cubicBezTo>
                    <a:pt x="516" y="2"/>
                    <a:pt x="552" y="97"/>
                    <a:pt x="527" y="26"/>
                  </a:cubicBezTo>
                  <a:cubicBezTo>
                    <a:pt x="521" y="43"/>
                    <a:pt x="516" y="60"/>
                    <a:pt x="510" y="77"/>
                  </a:cubicBezTo>
                  <a:cubicBezTo>
                    <a:pt x="507" y="85"/>
                    <a:pt x="502" y="102"/>
                    <a:pt x="502" y="102"/>
                  </a:cubicBezTo>
                  <a:cubicBezTo>
                    <a:pt x="499" y="122"/>
                    <a:pt x="503" y="143"/>
                    <a:pt x="494" y="161"/>
                  </a:cubicBezTo>
                  <a:cubicBezTo>
                    <a:pt x="490" y="169"/>
                    <a:pt x="486" y="145"/>
                    <a:pt x="485" y="136"/>
                  </a:cubicBezTo>
                  <a:cubicBezTo>
                    <a:pt x="474" y="67"/>
                    <a:pt x="484" y="51"/>
                    <a:pt x="451" y="0"/>
                  </a:cubicBezTo>
                  <a:cubicBezTo>
                    <a:pt x="411" y="60"/>
                    <a:pt x="415" y="134"/>
                    <a:pt x="409" y="204"/>
                  </a:cubicBezTo>
                  <a:cubicBezTo>
                    <a:pt x="406" y="173"/>
                    <a:pt x="417" y="137"/>
                    <a:pt x="400" y="111"/>
                  </a:cubicBezTo>
                  <a:cubicBezTo>
                    <a:pt x="388" y="92"/>
                    <a:pt x="402" y="158"/>
                    <a:pt x="392" y="178"/>
                  </a:cubicBezTo>
                  <a:cubicBezTo>
                    <a:pt x="387" y="188"/>
                    <a:pt x="386" y="155"/>
                    <a:pt x="383" y="144"/>
                  </a:cubicBezTo>
                  <a:cubicBezTo>
                    <a:pt x="375" y="107"/>
                    <a:pt x="365" y="71"/>
                    <a:pt x="358" y="34"/>
                  </a:cubicBezTo>
                  <a:cubicBezTo>
                    <a:pt x="339" y="95"/>
                    <a:pt x="351" y="52"/>
                    <a:pt x="333" y="170"/>
                  </a:cubicBezTo>
                  <a:cubicBezTo>
                    <a:pt x="330" y="190"/>
                    <a:pt x="324" y="229"/>
                    <a:pt x="324" y="229"/>
                  </a:cubicBezTo>
                  <a:cubicBezTo>
                    <a:pt x="301" y="160"/>
                    <a:pt x="297" y="101"/>
                    <a:pt x="290" y="26"/>
                  </a:cubicBezTo>
                  <a:cubicBezTo>
                    <a:pt x="280" y="57"/>
                    <a:pt x="275" y="88"/>
                    <a:pt x="265" y="119"/>
                  </a:cubicBezTo>
                  <a:cubicBezTo>
                    <a:pt x="262" y="111"/>
                    <a:pt x="258" y="103"/>
                    <a:pt x="256" y="94"/>
                  </a:cubicBezTo>
                  <a:cubicBezTo>
                    <a:pt x="253" y="83"/>
                    <a:pt x="258" y="65"/>
                    <a:pt x="248" y="60"/>
                  </a:cubicBezTo>
                  <a:cubicBezTo>
                    <a:pt x="240" y="56"/>
                    <a:pt x="242" y="77"/>
                    <a:pt x="239" y="85"/>
                  </a:cubicBezTo>
                  <a:cubicBezTo>
                    <a:pt x="236" y="94"/>
                    <a:pt x="234" y="102"/>
                    <a:pt x="231" y="111"/>
                  </a:cubicBezTo>
                  <a:cubicBezTo>
                    <a:pt x="211" y="50"/>
                    <a:pt x="224" y="75"/>
                    <a:pt x="197" y="34"/>
                  </a:cubicBezTo>
                  <a:cubicBezTo>
                    <a:pt x="188" y="62"/>
                    <a:pt x="181" y="91"/>
                    <a:pt x="172" y="119"/>
                  </a:cubicBezTo>
                  <a:cubicBezTo>
                    <a:pt x="169" y="111"/>
                    <a:pt x="171" y="90"/>
                    <a:pt x="163" y="94"/>
                  </a:cubicBezTo>
                  <a:cubicBezTo>
                    <a:pt x="153" y="99"/>
                    <a:pt x="158" y="117"/>
                    <a:pt x="155" y="128"/>
                  </a:cubicBezTo>
                  <a:cubicBezTo>
                    <a:pt x="144" y="167"/>
                    <a:pt x="133" y="207"/>
                    <a:pt x="121" y="246"/>
                  </a:cubicBezTo>
                  <a:cubicBezTo>
                    <a:pt x="102" y="194"/>
                    <a:pt x="96" y="139"/>
                    <a:pt x="87" y="85"/>
                  </a:cubicBezTo>
                  <a:cubicBezTo>
                    <a:pt x="72" y="262"/>
                    <a:pt x="75" y="198"/>
                    <a:pt x="62" y="128"/>
                  </a:cubicBezTo>
                  <a:cubicBezTo>
                    <a:pt x="59" y="142"/>
                    <a:pt x="63" y="160"/>
                    <a:pt x="53" y="170"/>
                  </a:cubicBezTo>
                  <a:cubicBezTo>
                    <a:pt x="46" y="176"/>
                    <a:pt x="54" y="144"/>
                    <a:pt x="45" y="144"/>
                  </a:cubicBezTo>
                  <a:cubicBezTo>
                    <a:pt x="36" y="144"/>
                    <a:pt x="39" y="161"/>
                    <a:pt x="36" y="170"/>
                  </a:cubicBezTo>
                  <a:cubicBezTo>
                    <a:pt x="28" y="164"/>
                    <a:pt x="17" y="161"/>
                    <a:pt x="11" y="153"/>
                  </a:cubicBezTo>
                  <a:cubicBezTo>
                    <a:pt x="0" y="140"/>
                    <a:pt x="2" y="109"/>
                    <a:pt x="2" y="144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6394680" y="1700280"/>
            <a:ext cx="2007720" cy="3416400"/>
            <a:chOff x="6394680" y="1700280"/>
            <a:chExt cx="2007720" cy="3416400"/>
          </a:xfrm>
        </p:grpSpPr>
        <p:sp>
          <p:nvSpPr>
            <p:cNvPr id="207" name=""/>
            <p:cNvSpPr/>
            <p:nvPr/>
          </p:nvSpPr>
          <p:spPr>
            <a:xfrm>
              <a:off x="6964920" y="1700280"/>
              <a:ext cx="897120" cy="839520"/>
            </a:xfrm>
            <a:prstGeom prst="ellipse">
              <a:avLst/>
            </a:prstGeom>
            <a:gradFill rotWithShape="0">
              <a:gsLst>
                <a:gs pos="0">
                  <a:srgbClr val="ffebfa"/>
                </a:gs>
                <a:gs pos="5000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17238000">
              <a:off x="6898320" y="2427120"/>
              <a:ext cx="958320" cy="100152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07932" dir="189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16200000">
              <a:off x="7304760" y="2090520"/>
              <a:ext cx="176040" cy="366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4763" y="1422"/>
                    <a:pt x="7925" y="5080"/>
                    <a:pt x="7925" y="10800"/>
                  </a:cubicBezTo>
                  <a:cubicBezTo>
                    <a:pt x="7925" y="16520"/>
                    <a:pt x="14763" y="201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7238000">
              <a:off x="6580440" y="3308040"/>
              <a:ext cx="1610640" cy="15750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07932" dir="189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7662600">
              <a:off x="6594840" y="2673720"/>
              <a:ext cx="558720" cy="552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50000">
                  <a:srgbClr val="ffebfa"/>
                </a:gs>
                <a:gs pos="100000">
                  <a:srgbClr val="5e9eff"/>
                </a:gs>
              </a:gsLst>
              <a:lin ang="19338000"/>
            </a:gradFill>
            <a:ln w="0">
              <a:noFill/>
            </a:ln>
            <a:effectLst>
              <a:outerShdw dist="107932" dir="135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7662600">
              <a:off x="7695360" y="2673720"/>
              <a:ext cx="558720" cy="552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50000">
                  <a:srgbClr val="ffebfa"/>
                </a:gs>
                <a:gs pos="100000">
                  <a:srgbClr val="5e9eff"/>
                </a:gs>
              </a:gsLst>
              <a:lin ang="19338000"/>
            </a:gradFill>
            <a:ln w="0">
              <a:noFill/>
            </a:ln>
            <a:effectLst>
              <a:outerShdw dist="107932" dir="189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209720" y="1965240"/>
              <a:ext cx="817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19254000">
              <a:off x="7331760" y="2008440"/>
              <a:ext cx="326160" cy="264960"/>
            </a:xfrm>
            <a:prstGeom prst="lightningBol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494840" y="1965240"/>
              <a:ext cx="817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11130000">
              <a:off x="7698240" y="4749480"/>
              <a:ext cx="689400" cy="3348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50000">
                  <a:srgbClr val="ffebfa"/>
                </a:gs>
                <a:gs pos="100000">
                  <a:srgbClr val="5e9eff"/>
                </a:gs>
              </a:gsLst>
              <a:lin ang="15870000"/>
            </a:gradFill>
            <a:ln w="0">
              <a:noFill/>
            </a:ln>
            <a:effectLst>
              <a:outerShdw dist="107932" dir="189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11130000">
              <a:off x="6516000" y="4749480"/>
              <a:ext cx="689400" cy="3348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50000">
                  <a:srgbClr val="ffebfa"/>
                </a:gs>
                <a:gs pos="100000">
                  <a:srgbClr val="5e9eff"/>
                </a:gs>
              </a:gsLst>
              <a:lin ang="15870000"/>
            </a:gradFill>
            <a:ln w="0">
              <a:noFill/>
            </a:ln>
            <a:effectLst>
              <a:outerShdw dist="107932" dir="135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087320" y="1700280"/>
              <a:ext cx="672480" cy="272520"/>
            </a:xfrm>
            <a:custGeom>
              <a:avLst/>
              <a:gdLst/>
              <a:ahLst/>
              <a:rect l="l" t="t" r="r" b="b"/>
              <a:pathLst>
                <a:path w="748" h="280">
                  <a:moveTo>
                    <a:pt x="748" y="136"/>
                  </a:moveTo>
                  <a:cubicBezTo>
                    <a:pt x="737" y="185"/>
                    <a:pt x="722" y="233"/>
                    <a:pt x="705" y="280"/>
                  </a:cubicBezTo>
                  <a:cubicBezTo>
                    <a:pt x="690" y="234"/>
                    <a:pt x="705" y="65"/>
                    <a:pt x="680" y="170"/>
                  </a:cubicBezTo>
                  <a:cubicBezTo>
                    <a:pt x="677" y="161"/>
                    <a:pt x="674" y="153"/>
                    <a:pt x="671" y="144"/>
                  </a:cubicBezTo>
                  <a:cubicBezTo>
                    <a:pt x="668" y="133"/>
                    <a:pt x="673" y="106"/>
                    <a:pt x="663" y="111"/>
                  </a:cubicBezTo>
                  <a:cubicBezTo>
                    <a:pt x="650" y="118"/>
                    <a:pt x="658" y="139"/>
                    <a:pt x="654" y="153"/>
                  </a:cubicBezTo>
                  <a:cubicBezTo>
                    <a:pt x="649" y="170"/>
                    <a:pt x="638" y="204"/>
                    <a:pt x="638" y="204"/>
                  </a:cubicBezTo>
                  <a:cubicBezTo>
                    <a:pt x="607" y="157"/>
                    <a:pt x="600" y="105"/>
                    <a:pt x="587" y="51"/>
                  </a:cubicBezTo>
                  <a:cubicBezTo>
                    <a:pt x="585" y="57"/>
                    <a:pt x="572" y="102"/>
                    <a:pt x="561" y="102"/>
                  </a:cubicBezTo>
                  <a:cubicBezTo>
                    <a:pt x="552" y="102"/>
                    <a:pt x="557" y="85"/>
                    <a:pt x="553" y="77"/>
                  </a:cubicBezTo>
                  <a:cubicBezTo>
                    <a:pt x="516" y="2"/>
                    <a:pt x="552" y="97"/>
                    <a:pt x="527" y="26"/>
                  </a:cubicBezTo>
                  <a:cubicBezTo>
                    <a:pt x="521" y="43"/>
                    <a:pt x="516" y="60"/>
                    <a:pt x="510" y="77"/>
                  </a:cubicBezTo>
                  <a:cubicBezTo>
                    <a:pt x="507" y="85"/>
                    <a:pt x="502" y="102"/>
                    <a:pt x="502" y="102"/>
                  </a:cubicBezTo>
                  <a:cubicBezTo>
                    <a:pt x="499" y="122"/>
                    <a:pt x="503" y="143"/>
                    <a:pt x="494" y="161"/>
                  </a:cubicBezTo>
                  <a:cubicBezTo>
                    <a:pt x="490" y="169"/>
                    <a:pt x="486" y="145"/>
                    <a:pt x="485" y="136"/>
                  </a:cubicBezTo>
                  <a:cubicBezTo>
                    <a:pt x="474" y="67"/>
                    <a:pt x="484" y="51"/>
                    <a:pt x="451" y="0"/>
                  </a:cubicBezTo>
                  <a:cubicBezTo>
                    <a:pt x="411" y="60"/>
                    <a:pt x="415" y="134"/>
                    <a:pt x="409" y="204"/>
                  </a:cubicBezTo>
                  <a:cubicBezTo>
                    <a:pt x="406" y="173"/>
                    <a:pt x="417" y="137"/>
                    <a:pt x="400" y="111"/>
                  </a:cubicBezTo>
                  <a:cubicBezTo>
                    <a:pt x="388" y="92"/>
                    <a:pt x="402" y="158"/>
                    <a:pt x="392" y="178"/>
                  </a:cubicBezTo>
                  <a:cubicBezTo>
                    <a:pt x="387" y="188"/>
                    <a:pt x="386" y="155"/>
                    <a:pt x="383" y="144"/>
                  </a:cubicBezTo>
                  <a:cubicBezTo>
                    <a:pt x="375" y="107"/>
                    <a:pt x="365" y="71"/>
                    <a:pt x="358" y="34"/>
                  </a:cubicBezTo>
                  <a:cubicBezTo>
                    <a:pt x="339" y="95"/>
                    <a:pt x="351" y="52"/>
                    <a:pt x="333" y="170"/>
                  </a:cubicBezTo>
                  <a:cubicBezTo>
                    <a:pt x="330" y="190"/>
                    <a:pt x="324" y="229"/>
                    <a:pt x="324" y="229"/>
                  </a:cubicBezTo>
                  <a:cubicBezTo>
                    <a:pt x="301" y="160"/>
                    <a:pt x="297" y="101"/>
                    <a:pt x="290" y="26"/>
                  </a:cubicBezTo>
                  <a:cubicBezTo>
                    <a:pt x="280" y="57"/>
                    <a:pt x="275" y="88"/>
                    <a:pt x="265" y="119"/>
                  </a:cubicBezTo>
                  <a:cubicBezTo>
                    <a:pt x="262" y="111"/>
                    <a:pt x="258" y="103"/>
                    <a:pt x="256" y="94"/>
                  </a:cubicBezTo>
                  <a:cubicBezTo>
                    <a:pt x="253" y="83"/>
                    <a:pt x="258" y="65"/>
                    <a:pt x="248" y="60"/>
                  </a:cubicBezTo>
                  <a:cubicBezTo>
                    <a:pt x="240" y="56"/>
                    <a:pt x="242" y="77"/>
                    <a:pt x="239" y="85"/>
                  </a:cubicBezTo>
                  <a:cubicBezTo>
                    <a:pt x="236" y="94"/>
                    <a:pt x="234" y="102"/>
                    <a:pt x="231" y="111"/>
                  </a:cubicBezTo>
                  <a:cubicBezTo>
                    <a:pt x="211" y="50"/>
                    <a:pt x="224" y="75"/>
                    <a:pt x="197" y="34"/>
                  </a:cubicBezTo>
                  <a:cubicBezTo>
                    <a:pt x="188" y="62"/>
                    <a:pt x="181" y="91"/>
                    <a:pt x="172" y="119"/>
                  </a:cubicBezTo>
                  <a:cubicBezTo>
                    <a:pt x="169" y="111"/>
                    <a:pt x="171" y="90"/>
                    <a:pt x="163" y="94"/>
                  </a:cubicBezTo>
                  <a:cubicBezTo>
                    <a:pt x="153" y="99"/>
                    <a:pt x="158" y="117"/>
                    <a:pt x="155" y="128"/>
                  </a:cubicBezTo>
                  <a:cubicBezTo>
                    <a:pt x="144" y="167"/>
                    <a:pt x="133" y="207"/>
                    <a:pt x="121" y="246"/>
                  </a:cubicBezTo>
                  <a:cubicBezTo>
                    <a:pt x="102" y="194"/>
                    <a:pt x="96" y="139"/>
                    <a:pt x="87" y="85"/>
                  </a:cubicBezTo>
                  <a:cubicBezTo>
                    <a:pt x="72" y="262"/>
                    <a:pt x="75" y="198"/>
                    <a:pt x="62" y="128"/>
                  </a:cubicBezTo>
                  <a:cubicBezTo>
                    <a:pt x="59" y="142"/>
                    <a:pt x="63" y="160"/>
                    <a:pt x="53" y="170"/>
                  </a:cubicBezTo>
                  <a:cubicBezTo>
                    <a:pt x="46" y="176"/>
                    <a:pt x="54" y="144"/>
                    <a:pt x="45" y="144"/>
                  </a:cubicBezTo>
                  <a:cubicBezTo>
                    <a:pt x="36" y="144"/>
                    <a:pt x="39" y="161"/>
                    <a:pt x="36" y="170"/>
                  </a:cubicBezTo>
                  <a:cubicBezTo>
                    <a:pt x="28" y="164"/>
                    <a:pt x="17" y="161"/>
                    <a:pt x="11" y="153"/>
                  </a:cubicBezTo>
                  <a:cubicBezTo>
                    <a:pt x="0" y="140"/>
                    <a:pt x="2" y="109"/>
                    <a:pt x="2" y="144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6877080" y="278136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7308720" y="33336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2411280" y="3860640"/>
            <a:ext cx="714600" cy="714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3492360" y="260280"/>
            <a:ext cx="714600" cy="7146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5"/>
          <a:stretch/>
        </p:blipFill>
        <p:spPr>
          <a:xfrm>
            <a:off x="1116000" y="595008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6"/>
          <a:stretch/>
        </p:blipFill>
        <p:spPr>
          <a:xfrm>
            <a:off x="5076720" y="1268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7"/>
          <a:stretch/>
        </p:blipFill>
        <p:spPr>
          <a:xfrm>
            <a:off x="5364000" y="2565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8"/>
          <a:stretch/>
        </p:blipFill>
        <p:spPr>
          <a:xfrm>
            <a:off x="1692360" y="2997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9"/>
          <a:stretch/>
        </p:blipFill>
        <p:spPr>
          <a:xfrm>
            <a:off x="539640" y="314172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10"/>
          <a:stretch/>
        </p:blipFill>
        <p:spPr>
          <a:xfrm>
            <a:off x="5724360" y="4797360"/>
            <a:ext cx="714600" cy="7146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11"/>
          <a:stretch/>
        </p:blipFill>
        <p:spPr>
          <a:xfrm>
            <a:off x="7451640" y="5805360"/>
            <a:ext cx="714600" cy="714600"/>
          </a:xfrm>
          <a:prstGeom prst="rect">
            <a:avLst/>
          </a:prstGeom>
          <a:ln w="0">
            <a:noFill/>
          </a:ln>
        </p:spPr>
      </p:pic>
      <p:grpSp>
        <p:nvGrpSpPr>
          <p:cNvPr id="230" name=""/>
          <p:cNvGrpSpPr/>
          <p:nvPr/>
        </p:nvGrpSpPr>
        <p:grpSpPr>
          <a:xfrm>
            <a:off x="3004920" y="1958400"/>
            <a:ext cx="3215160" cy="4001400"/>
            <a:chOff x="3004920" y="1958400"/>
            <a:chExt cx="3215160" cy="4001400"/>
          </a:xfrm>
        </p:grpSpPr>
        <p:pic>
          <p:nvPicPr>
            <p:cNvPr id="231" name="" descr=""/>
            <p:cNvPicPr/>
            <p:nvPr/>
          </p:nvPicPr>
          <p:blipFill>
            <a:blip r:embed="rId12"/>
            <a:stretch/>
          </p:blipFill>
          <p:spPr>
            <a:xfrm rot="1331400">
              <a:off x="4101480" y="4618080"/>
              <a:ext cx="714600" cy="123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Tree"/>
            <p:cNvSpPr/>
            <p:nvPr/>
          </p:nvSpPr>
          <p:spPr>
            <a:xfrm rot="1331400">
              <a:off x="3587040" y="2216520"/>
              <a:ext cx="2050920" cy="3484800"/>
            </a:xfrm>
            <a:solidFill>
              <a:srgbClr val="008000"/>
            </a:solidFill>
            <a:ln w="0">
              <a:noFill/>
            </a:ln>
            <a:effectLst>
              <a:outerShdw dist="107932" dir="13500000" blurRad="0" rotWithShape="0">
                <a:srgbClr val="008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331400">
              <a:off x="3430080" y="3926520"/>
              <a:ext cx="2160360" cy="459720"/>
            </a:xfrm>
            <a:prstGeom prst="rect">
              <a:avLst/>
            </a:prstGeom>
            <a:solidFill>
              <a:srgbClr val="060234"/>
            </a:solidFill>
            <a:ln w="76320">
              <a:solidFill>
                <a:srgbClr val="0000ff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ЗРЕНИЕ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асько Л.Г.</a:t>
            </a: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4T07:45:26Z</dcterms:created>
  <dc:creator>Масько</dc:creator>
  <dc:description/>
  <dc:language>en-US</dc:language>
  <cp:lastModifiedBy>Масько</cp:lastModifiedBy>
  <dcterms:modified xsi:type="dcterms:W3CDTF">2009-11-16T14:17:27Z</dcterms:modified>
  <cp:revision>15</cp:revision>
  <dc:subject/>
  <dc:title>Слайд 1</dc:title>
</cp:coreProperties>
</file>