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8C4-386A-459A-819F-8A2B1611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5DB-3C0E-4060-B3E0-6EA231CB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E39-5366-4382-B891-D75FD58D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2B7-9776-4F73-B07C-D7445ED9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784-2EB7-4707-A4F8-53D5A985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DCD-7C6E-4935-BD69-50B136F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BDB-D354-4229-878D-9F24BFDD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1E3-D7CA-4F5D-8CCC-5418E84F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E3A-BB41-452F-B7AA-A9FA2106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DE8-8814-4988-9B2B-4FE98D3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80D-7332-45CA-8E85-A1D75CA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0A6-F6F8-4A65-A99B-F537325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4ACC-C1BD-456A-8600-721F352786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13440" y="3644640"/>
            <a:ext cx="55432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Автор: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Бадлуева Сэлмэг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ученица 6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МБОУ «Улюнханская СОШ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уководитель: Раднаева С.Р., учитель биологии МБОУ «УСОШ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584360" y="2852640"/>
            <a:ext cx="619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584360" y="907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Зависимость интенсивности испарения от площади поверхности ли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C:\Users\1234\Documents\МБОУ ДОД ЦДТ\НПК 2\испарение воды\IMG_7295.JPG"/>
          <p:cNvPicPr/>
          <p:nvPr/>
        </p:nvPicPr>
        <p:blipFill>
          <a:blip r:embed="rId1"/>
          <a:stretch/>
        </p:blipFill>
        <p:spPr>
          <a:xfrm>
            <a:off x="2951280" y="384120"/>
            <a:ext cx="3601800" cy="1962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"/>
          <p:cNvSpPr/>
          <p:nvPr/>
        </p:nvSpPr>
        <p:spPr>
          <a:xfrm>
            <a:off x="36360" y="4724280"/>
            <a:ext cx="1029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Вывод: между площадью листа и интенсивностью испарения есть  прямая зависимость-  чем больше площадь листа растения, тем интенсивнее идет испа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2000" y="5373360"/>
            <a:ext cx="865836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пособление листьев к влажному и сухому клима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TextBox 3" descr=""/>
          <p:cNvPicPr/>
          <p:nvPr/>
        </p:nvPicPr>
        <p:blipFill>
          <a:blip r:embed="rId1"/>
          <a:stretch/>
        </p:blipFill>
        <p:spPr>
          <a:xfrm>
            <a:off x="1249200" y="755640"/>
            <a:ext cx="3335400" cy="42800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480000" y="981000"/>
            <a:ext cx="30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ухой 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alibri"/>
              </a:rPr>
              <a:t>Листья маленькие, приспособлены к замедленному испар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87640" y="2781360"/>
            <a:ext cx="1009440" cy="259236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2592360"/>
              <a:gd name="textAreaBottom" fmla="*/ 2592720 h 2592360"/>
            </a:gdLst>
            <a:ahLst/>
            <a:rect l="textAreaLeft" t="textAreaTop" r="textAreaRight" b="textAreaBottom"/>
            <a:pathLst>
              <a:path w="377" h="1092">
                <a:moveTo>
                  <a:pt x="159" y="0"/>
                </a:moveTo>
                <a:cubicBezTo>
                  <a:pt x="162" y="14"/>
                  <a:pt x="160" y="31"/>
                  <a:pt x="168" y="43"/>
                </a:cubicBezTo>
                <a:cubicBezTo>
                  <a:pt x="173" y="51"/>
                  <a:pt x="188" y="45"/>
                  <a:pt x="194" y="52"/>
                </a:cubicBezTo>
                <a:cubicBezTo>
                  <a:pt x="200" y="59"/>
                  <a:pt x="199" y="69"/>
                  <a:pt x="202" y="78"/>
                </a:cubicBezTo>
                <a:cubicBezTo>
                  <a:pt x="205" y="98"/>
                  <a:pt x="202" y="120"/>
                  <a:pt x="211" y="138"/>
                </a:cubicBezTo>
                <a:cubicBezTo>
                  <a:pt x="215" y="146"/>
                  <a:pt x="230" y="140"/>
                  <a:pt x="237" y="146"/>
                </a:cubicBezTo>
                <a:cubicBezTo>
                  <a:pt x="245" y="152"/>
                  <a:pt x="248" y="163"/>
                  <a:pt x="254" y="172"/>
                </a:cubicBezTo>
                <a:cubicBezTo>
                  <a:pt x="266" y="211"/>
                  <a:pt x="259" y="254"/>
                  <a:pt x="271" y="293"/>
                </a:cubicBezTo>
                <a:cubicBezTo>
                  <a:pt x="274" y="303"/>
                  <a:pt x="289" y="303"/>
                  <a:pt x="297" y="310"/>
                </a:cubicBezTo>
                <a:cubicBezTo>
                  <a:pt x="306" y="318"/>
                  <a:pt x="314" y="327"/>
                  <a:pt x="323" y="336"/>
                </a:cubicBezTo>
                <a:cubicBezTo>
                  <a:pt x="326" y="370"/>
                  <a:pt x="321" y="406"/>
                  <a:pt x="331" y="439"/>
                </a:cubicBezTo>
                <a:cubicBezTo>
                  <a:pt x="334" y="448"/>
                  <a:pt x="356" y="438"/>
                  <a:pt x="357" y="447"/>
                </a:cubicBezTo>
                <a:cubicBezTo>
                  <a:pt x="364" y="558"/>
                  <a:pt x="377" y="731"/>
                  <a:pt x="288" y="826"/>
                </a:cubicBezTo>
                <a:cubicBezTo>
                  <a:pt x="266" y="894"/>
                  <a:pt x="297" y="811"/>
                  <a:pt x="262" y="869"/>
                </a:cubicBezTo>
                <a:cubicBezTo>
                  <a:pt x="225" y="929"/>
                  <a:pt x="285" y="862"/>
                  <a:pt x="237" y="912"/>
                </a:cubicBezTo>
                <a:cubicBezTo>
                  <a:pt x="216" y="973"/>
                  <a:pt x="229" y="948"/>
                  <a:pt x="202" y="989"/>
                </a:cubicBezTo>
                <a:cubicBezTo>
                  <a:pt x="191" y="1024"/>
                  <a:pt x="179" y="1057"/>
                  <a:pt x="168" y="1092"/>
                </a:cubicBezTo>
                <a:cubicBezTo>
                  <a:pt x="145" y="1023"/>
                  <a:pt x="129" y="955"/>
                  <a:pt x="108" y="886"/>
                </a:cubicBezTo>
                <a:cubicBezTo>
                  <a:pt x="89" y="823"/>
                  <a:pt x="64" y="761"/>
                  <a:pt x="47" y="697"/>
                </a:cubicBezTo>
                <a:cubicBezTo>
                  <a:pt x="50" y="557"/>
                  <a:pt x="0" y="306"/>
                  <a:pt x="99" y="155"/>
                </a:cubicBezTo>
                <a:cubicBezTo>
                  <a:pt x="102" y="141"/>
                  <a:pt x="101" y="125"/>
                  <a:pt x="108" y="112"/>
                </a:cubicBezTo>
                <a:cubicBezTo>
                  <a:pt x="114" y="102"/>
                  <a:pt x="147" y="92"/>
                  <a:pt x="151" y="78"/>
                </a:cubicBezTo>
                <a:cubicBezTo>
                  <a:pt x="158" y="53"/>
                  <a:pt x="156" y="26"/>
                  <a:pt x="159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629400" y="1015920"/>
            <a:ext cx="2658960" cy="1765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797040" y="1009800"/>
            <a:ext cx="359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Лист является  важнейшим органом растений, и выполняет много функций:  фотосинтез –запасание веществ, испарени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2021040" y="387828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арение воды осуществляется через усть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открытые устьичные щели происходит испарение вл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1"/>
          <p:cNvGrpSpPr/>
          <p:nvPr/>
        </p:nvGrpSpPr>
        <p:grpSpPr>
          <a:xfrm>
            <a:off x="4127400" y="5106960"/>
            <a:ext cx="1560600" cy="1209600"/>
            <a:chOff x="4127400" y="5106960"/>
            <a:chExt cx="1560600" cy="1209600"/>
          </a:xfrm>
        </p:grpSpPr>
        <p:pic>
          <p:nvPicPr>
            <p:cNvPr id="49" name="Picture 38" descr="Копия (4) Scan0001"/>
            <p:cNvPicPr/>
            <p:nvPr/>
          </p:nvPicPr>
          <p:blipFill>
            <a:blip r:embed="rId2"/>
            <a:stretch/>
          </p:blipFill>
          <p:spPr>
            <a:xfrm>
              <a:off x="4127400" y="5106960"/>
              <a:ext cx="156060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Freeform 39"/>
            <p:cNvSpPr/>
            <p:nvPr/>
          </p:nvSpPr>
          <p:spPr>
            <a:xfrm>
              <a:off x="4825080" y="5420160"/>
              <a:ext cx="319680" cy="56700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377" h="1092">
                  <a:moveTo>
                    <a:pt x="159" y="0"/>
                  </a:moveTo>
                  <a:cubicBezTo>
                    <a:pt x="162" y="14"/>
                    <a:pt x="160" y="31"/>
                    <a:pt x="168" y="43"/>
                  </a:cubicBezTo>
                  <a:cubicBezTo>
                    <a:pt x="173" y="51"/>
                    <a:pt x="188" y="45"/>
                    <a:pt x="194" y="52"/>
                  </a:cubicBezTo>
                  <a:cubicBezTo>
                    <a:pt x="200" y="59"/>
                    <a:pt x="199" y="69"/>
                    <a:pt x="202" y="78"/>
                  </a:cubicBezTo>
                  <a:cubicBezTo>
                    <a:pt x="205" y="98"/>
                    <a:pt x="202" y="120"/>
                    <a:pt x="211" y="138"/>
                  </a:cubicBezTo>
                  <a:cubicBezTo>
                    <a:pt x="215" y="146"/>
                    <a:pt x="230" y="140"/>
                    <a:pt x="237" y="146"/>
                  </a:cubicBezTo>
                  <a:cubicBezTo>
                    <a:pt x="245" y="152"/>
                    <a:pt x="248" y="163"/>
                    <a:pt x="254" y="172"/>
                  </a:cubicBezTo>
                  <a:cubicBezTo>
                    <a:pt x="266" y="211"/>
                    <a:pt x="259" y="254"/>
                    <a:pt x="271" y="293"/>
                  </a:cubicBezTo>
                  <a:cubicBezTo>
                    <a:pt x="274" y="303"/>
                    <a:pt x="289" y="303"/>
                    <a:pt x="297" y="310"/>
                  </a:cubicBezTo>
                  <a:cubicBezTo>
                    <a:pt x="306" y="318"/>
                    <a:pt x="314" y="327"/>
                    <a:pt x="323" y="336"/>
                  </a:cubicBezTo>
                  <a:cubicBezTo>
                    <a:pt x="326" y="370"/>
                    <a:pt x="321" y="406"/>
                    <a:pt x="331" y="439"/>
                  </a:cubicBezTo>
                  <a:cubicBezTo>
                    <a:pt x="334" y="448"/>
                    <a:pt x="356" y="438"/>
                    <a:pt x="357" y="447"/>
                  </a:cubicBezTo>
                  <a:cubicBezTo>
                    <a:pt x="364" y="558"/>
                    <a:pt x="377" y="731"/>
                    <a:pt x="288" y="826"/>
                  </a:cubicBezTo>
                  <a:cubicBezTo>
                    <a:pt x="266" y="894"/>
                    <a:pt x="297" y="811"/>
                    <a:pt x="262" y="869"/>
                  </a:cubicBezTo>
                  <a:cubicBezTo>
                    <a:pt x="225" y="929"/>
                    <a:pt x="285" y="862"/>
                    <a:pt x="237" y="912"/>
                  </a:cubicBezTo>
                  <a:cubicBezTo>
                    <a:pt x="216" y="973"/>
                    <a:pt x="229" y="948"/>
                    <a:pt x="202" y="989"/>
                  </a:cubicBezTo>
                  <a:cubicBezTo>
                    <a:pt x="191" y="1024"/>
                    <a:pt x="179" y="1057"/>
                    <a:pt x="168" y="1092"/>
                  </a:cubicBezTo>
                  <a:cubicBezTo>
                    <a:pt x="145" y="1023"/>
                    <a:pt x="129" y="955"/>
                    <a:pt x="108" y="886"/>
                  </a:cubicBezTo>
                  <a:cubicBezTo>
                    <a:pt x="89" y="823"/>
                    <a:pt x="64" y="761"/>
                    <a:pt x="47" y="697"/>
                  </a:cubicBezTo>
                  <a:cubicBezTo>
                    <a:pt x="50" y="557"/>
                    <a:pt x="0" y="306"/>
                    <a:pt x="99" y="155"/>
                  </a:cubicBezTo>
                  <a:cubicBezTo>
                    <a:pt x="102" y="141"/>
                    <a:pt x="101" y="125"/>
                    <a:pt x="108" y="112"/>
                  </a:cubicBezTo>
                  <a:cubicBezTo>
                    <a:pt x="114" y="102"/>
                    <a:pt x="147" y="92"/>
                    <a:pt x="151" y="78"/>
                  </a:cubicBezTo>
                  <a:cubicBezTo>
                    <a:pt x="158" y="53"/>
                    <a:pt x="156" y="26"/>
                    <a:pt x="159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16000" y="1125360"/>
            <a:ext cx="993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моей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, что между площадью листа и интенсивностью испарения есть зависим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больше площадь листа растения, тем интенсивнее идет испа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остижения данной цели работы выполнены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а литература, проведены опыты, произведен рас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3"/>
          <p:cNvGrpSpPr/>
          <p:nvPr/>
        </p:nvGrpSpPr>
        <p:grpSpPr>
          <a:xfrm>
            <a:off x="4824360" y="3429000"/>
            <a:ext cx="792360" cy="2811240"/>
            <a:chOff x="4824360" y="3429000"/>
            <a:chExt cx="792360" cy="2811240"/>
          </a:xfrm>
        </p:grpSpPr>
        <p:sp>
          <p:nvSpPr>
            <p:cNvPr id="53" name="Rectangle 104"/>
            <p:cNvSpPr/>
            <p:nvPr/>
          </p:nvSpPr>
          <p:spPr>
            <a:xfrm>
              <a:off x="4896000" y="3573360"/>
              <a:ext cx="649080" cy="2305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05"/>
            <p:cNvSpPr/>
            <p:nvPr/>
          </p:nvSpPr>
          <p:spPr>
            <a:xfrm>
              <a:off x="4896000" y="5590800"/>
              <a:ext cx="649080" cy="649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06"/>
            <p:cNvSpPr/>
            <p:nvPr/>
          </p:nvSpPr>
          <p:spPr>
            <a:xfrm>
              <a:off x="4824360" y="3429000"/>
              <a:ext cx="79236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07"/>
          <p:cNvGrpSpPr/>
          <p:nvPr/>
        </p:nvGrpSpPr>
        <p:grpSpPr>
          <a:xfrm>
            <a:off x="8064360" y="3429000"/>
            <a:ext cx="792360" cy="2811240"/>
            <a:chOff x="8064360" y="3429000"/>
            <a:chExt cx="792360" cy="2811240"/>
          </a:xfrm>
        </p:grpSpPr>
        <p:sp>
          <p:nvSpPr>
            <p:cNvPr id="57" name="Rectangle 108"/>
            <p:cNvSpPr/>
            <p:nvPr/>
          </p:nvSpPr>
          <p:spPr>
            <a:xfrm>
              <a:off x="8136000" y="3573360"/>
              <a:ext cx="649080" cy="2305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09"/>
            <p:cNvSpPr/>
            <p:nvPr/>
          </p:nvSpPr>
          <p:spPr>
            <a:xfrm>
              <a:off x="8136000" y="5590800"/>
              <a:ext cx="649080" cy="649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0"/>
            <p:cNvSpPr/>
            <p:nvPr/>
          </p:nvSpPr>
          <p:spPr>
            <a:xfrm>
              <a:off x="8064360" y="3429000"/>
              <a:ext cx="79236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01"/>
          <p:cNvGrpSpPr/>
          <p:nvPr/>
        </p:nvGrpSpPr>
        <p:grpSpPr>
          <a:xfrm>
            <a:off x="1655640" y="3429000"/>
            <a:ext cx="792360" cy="2809800"/>
            <a:chOff x="1655640" y="3429000"/>
            <a:chExt cx="792360" cy="2809800"/>
          </a:xfrm>
        </p:grpSpPr>
        <p:sp>
          <p:nvSpPr>
            <p:cNvPr id="61" name="Rectangle 97"/>
            <p:cNvSpPr/>
            <p:nvPr/>
          </p:nvSpPr>
          <p:spPr>
            <a:xfrm>
              <a:off x="1727280" y="3573360"/>
              <a:ext cx="649080" cy="23036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9"/>
            <p:cNvSpPr/>
            <p:nvPr/>
          </p:nvSpPr>
          <p:spPr>
            <a:xfrm>
              <a:off x="1727280" y="5589720"/>
              <a:ext cx="649080" cy="6490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00"/>
            <p:cNvSpPr/>
            <p:nvPr/>
          </p:nvSpPr>
          <p:spPr>
            <a:xfrm>
              <a:off x="1655640" y="3429000"/>
              <a:ext cx="79236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2"/>
          <p:cNvSpPr/>
          <p:nvPr/>
        </p:nvSpPr>
        <p:spPr>
          <a:xfrm>
            <a:off x="431640" y="333360"/>
            <a:ext cx="2881440" cy="863640"/>
          </a:xfrm>
          <a:prstGeom prst="roundRect">
            <a:avLst>
              <a:gd name="adj" fmla="val 25981"/>
            </a:avLst>
          </a:prstGeom>
          <a:solidFill>
            <a:srgbClr val="4f81b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13"/>
          <p:cNvGrpSpPr/>
          <p:nvPr/>
        </p:nvGrpSpPr>
        <p:grpSpPr>
          <a:xfrm>
            <a:off x="1728720" y="4869000"/>
            <a:ext cx="647640" cy="1366560"/>
            <a:chOff x="1728720" y="4869000"/>
            <a:chExt cx="647640" cy="1366560"/>
          </a:xfrm>
        </p:grpSpPr>
        <p:sp>
          <p:nvSpPr>
            <p:cNvPr id="66" name="Oval 111"/>
            <p:cNvSpPr/>
            <p:nvPr/>
          </p:nvSpPr>
          <p:spPr>
            <a:xfrm>
              <a:off x="172872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2"/>
            <p:cNvSpPr/>
            <p:nvPr/>
          </p:nvSpPr>
          <p:spPr>
            <a:xfrm>
              <a:off x="172872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114"/>
          <p:cNvSpPr/>
          <p:nvPr/>
        </p:nvSpPr>
        <p:spPr>
          <a:xfrm>
            <a:off x="216000" y="1484280"/>
            <a:ext cx="5113080" cy="86364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ую пробирку добавим немного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5"/>
          <p:cNvSpPr/>
          <p:nvPr/>
        </p:nvSpPr>
        <p:spPr>
          <a:xfrm>
            <a:off x="216000" y="1484280"/>
            <a:ext cx="5113080" cy="86364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торую пробирку добавим воды и прильём немного 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16"/>
          <p:cNvGrpSpPr/>
          <p:nvPr/>
        </p:nvGrpSpPr>
        <p:grpSpPr>
          <a:xfrm>
            <a:off x="4896000" y="4869000"/>
            <a:ext cx="647640" cy="1366560"/>
            <a:chOff x="4896000" y="4869000"/>
            <a:chExt cx="647640" cy="1366560"/>
          </a:xfrm>
        </p:grpSpPr>
        <p:sp>
          <p:nvSpPr>
            <p:cNvPr id="71" name="Oval 117"/>
            <p:cNvSpPr/>
            <p:nvPr/>
          </p:nvSpPr>
          <p:spPr>
            <a:xfrm>
              <a:off x="489600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8"/>
            <p:cNvSpPr/>
            <p:nvPr/>
          </p:nvSpPr>
          <p:spPr>
            <a:xfrm>
              <a:off x="489600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19"/>
          <p:cNvSpPr/>
          <p:nvPr/>
        </p:nvSpPr>
        <p:spPr>
          <a:xfrm>
            <a:off x="4896000" y="4724280"/>
            <a:ext cx="64908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0"/>
          <p:cNvSpPr/>
          <p:nvPr/>
        </p:nvSpPr>
        <p:spPr>
          <a:xfrm>
            <a:off x="144360" y="1413000"/>
            <a:ext cx="5256360" cy="11523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ретью пробирку помещаем веточку с листьями, добавляем воды и приливаем немного 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42"/>
          <p:cNvGrpSpPr/>
          <p:nvPr/>
        </p:nvGrpSpPr>
        <p:grpSpPr>
          <a:xfrm>
            <a:off x="7861680" y="1763640"/>
            <a:ext cx="1697760" cy="3105000"/>
            <a:chOff x="7861680" y="1763640"/>
            <a:chExt cx="1697760" cy="3105000"/>
          </a:xfrm>
        </p:grpSpPr>
        <p:sp>
          <p:nvSpPr>
            <p:cNvPr id="76" name="Freeform 121"/>
            <p:cNvSpPr/>
            <p:nvPr/>
          </p:nvSpPr>
          <p:spPr>
            <a:xfrm>
              <a:off x="8280360" y="2377080"/>
              <a:ext cx="239760" cy="24915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491560"/>
                <a:gd name="textAreaBottom" fmla="*/ 2491560 h 2491560"/>
              </a:gdLst>
              <a:ahLst/>
              <a:rect l="textAreaLeft" t="textAreaTop" r="textAreaRight" b="textAreaBottom"/>
              <a:pathLst>
                <a:path w="151" h="1497">
                  <a:moveTo>
                    <a:pt x="91" y="1497"/>
                  </a:moveTo>
                  <a:cubicBezTo>
                    <a:pt x="87" y="1300"/>
                    <a:pt x="84" y="1103"/>
                    <a:pt x="91" y="952"/>
                  </a:cubicBezTo>
                  <a:cubicBezTo>
                    <a:pt x="98" y="801"/>
                    <a:pt x="151" y="748"/>
                    <a:pt x="136" y="589"/>
                  </a:cubicBezTo>
                  <a:cubicBezTo>
                    <a:pt x="121" y="430"/>
                    <a:pt x="60" y="215"/>
                    <a:pt x="0" y="0"/>
                  </a:cubicBezTo>
                </a:path>
              </a:pathLst>
            </a:custGeom>
            <a:noFill/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22"/>
            <p:cNvGrpSpPr/>
            <p:nvPr/>
          </p:nvGrpSpPr>
          <p:grpSpPr>
            <a:xfrm>
              <a:off x="7861680" y="1939680"/>
              <a:ext cx="601560" cy="634320"/>
              <a:chOff x="7861680" y="1939680"/>
              <a:chExt cx="601560" cy="634320"/>
            </a:xfrm>
          </p:grpSpPr>
          <p:sp>
            <p:nvSpPr>
              <p:cNvPr id="78" name="Freeform 123"/>
              <p:cNvSpPr/>
              <p:nvPr/>
            </p:nvSpPr>
            <p:spPr>
              <a:xfrm rot="7787400">
                <a:off x="8046000" y="1933920"/>
                <a:ext cx="246960" cy="55800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558000"/>
                  <a:gd name="textAreaBottom" fmla="*/ 558360 h 55800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24"/>
              <p:cNvSpPr/>
              <p:nvPr/>
            </p:nvSpPr>
            <p:spPr>
              <a:xfrm flipH="1" rot="9007200">
                <a:off x="7986600" y="2001240"/>
                <a:ext cx="205920" cy="55836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125"/>
            <p:cNvGrpSpPr/>
            <p:nvPr/>
          </p:nvGrpSpPr>
          <p:grpSpPr>
            <a:xfrm>
              <a:off x="7903800" y="2736360"/>
              <a:ext cx="635760" cy="578520"/>
              <a:chOff x="7903800" y="2736360"/>
              <a:chExt cx="635760" cy="578520"/>
            </a:xfrm>
          </p:grpSpPr>
          <p:sp>
            <p:nvSpPr>
              <p:cNvPr id="81" name="Freeform 126"/>
              <p:cNvSpPr/>
              <p:nvPr/>
            </p:nvSpPr>
            <p:spPr>
              <a:xfrm rot="6801600">
                <a:off x="8110800" y="2681280"/>
                <a:ext cx="246960" cy="55800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558000"/>
                  <a:gd name="textAreaBottom" fmla="*/ 558360 h 55800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7"/>
              <p:cNvSpPr/>
              <p:nvPr/>
            </p:nvSpPr>
            <p:spPr>
              <a:xfrm flipH="1" rot="8021400">
                <a:off x="8073360" y="2768400"/>
                <a:ext cx="205920" cy="55836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Freeform 129"/>
            <p:cNvSpPr/>
            <p:nvPr/>
          </p:nvSpPr>
          <p:spPr>
            <a:xfrm>
              <a:off x="8496360" y="2300760"/>
              <a:ext cx="649080" cy="1359360"/>
            </a:xfrm>
            <a:custGeom>
              <a:avLst/>
              <a:gdLst>
                <a:gd name="textAreaLeft" fmla="*/ 0 w 649080"/>
                <a:gd name="textAreaRight" fmla="*/ 649080 w 649080"/>
                <a:gd name="textAreaTop" fmla="*/ 0 h 1359360"/>
                <a:gd name="textAreaBottom" fmla="*/ 1359720 h 1359360"/>
              </a:gdLst>
              <a:ahLst/>
              <a:rect l="textAreaLeft" t="textAreaTop" r="textAreaRight" b="textAreaBottom"/>
              <a:pathLst>
                <a:path w="409" h="817">
                  <a:moveTo>
                    <a:pt x="0" y="817"/>
                  </a:moveTo>
                  <a:cubicBezTo>
                    <a:pt x="106" y="741"/>
                    <a:pt x="213" y="666"/>
                    <a:pt x="273" y="545"/>
                  </a:cubicBezTo>
                  <a:cubicBezTo>
                    <a:pt x="333" y="424"/>
                    <a:pt x="340" y="182"/>
                    <a:pt x="363" y="91"/>
                  </a:cubicBezTo>
                  <a:cubicBezTo>
                    <a:pt x="386" y="0"/>
                    <a:pt x="397" y="0"/>
                    <a:pt x="409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130"/>
            <p:cNvGrpSpPr/>
            <p:nvPr/>
          </p:nvGrpSpPr>
          <p:grpSpPr>
            <a:xfrm>
              <a:off x="8258760" y="2141280"/>
              <a:ext cx="579960" cy="650880"/>
              <a:chOff x="8258760" y="2141280"/>
              <a:chExt cx="579960" cy="650880"/>
            </a:xfrm>
          </p:grpSpPr>
          <p:sp>
            <p:nvSpPr>
              <p:cNvPr id="85" name="Freeform 131"/>
              <p:cNvSpPr/>
              <p:nvPr/>
            </p:nvSpPr>
            <p:spPr>
              <a:xfrm rot="12202200">
                <a:off x="8496360" y="2184480"/>
                <a:ext cx="235800" cy="58464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"/>
              <p:cNvSpPr/>
              <p:nvPr/>
            </p:nvSpPr>
            <p:spPr>
              <a:xfrm flipH="1" rot="13421400">
                <a:off x="8433000" y="2128320"/>
                <a:ext cx="196560" cy="58464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33"/>
            <p:cNvGrpSpPr/>
            <p:nvPr/>
          </p:nvGrpSpPr>
          <p:grpSpPr>
            <a:xfrm>
              <a:off x="8979480" y="1763640"/>
              <a:ext cx="579960" cy="650880"/>
              <a:chOff x="8979480" y="1763640"/>
              <a:chExt cx="579960" cy="650880"/>
            </a:xfrm>
          </p:grpSpPr>
          <p:sp>
            <p:nvSpPr>
              <p:cNvPr id="88" name="Freeform 134"/>
              <p:cNvSpPr/>
              <p:nvPr/>
            </p:nvSpPr>
            <p:spPr>
              <a:xfrm rot="12202200">
                <a:off x="9217080" y="1806840"/>
                <a:ext cx="235800" cy="58464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5"/>
              <p:cNvSpPr/>
              <p:nvPr/>
            </p:nvSpPr>
            <p:spPr>
              <a:xfrm flipH="1" rot="13421400">
                <a:off x="9153720" y="1750680"/>
                <a:ext cx="196560" cy="58464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36"/>
            <p:cNvGrpSpPr/>
            <p:nvPr/>
          </p:nvGrpSpPr>
          <p:grpSpPr>
            <a:xfrm>
              <a:off x="8465760" y="2791800"/>
              <a:ext cx="504000" cy="480960"/>
              <a:chOff x="8465760" y="2791800"/>
              <a:chExt cx="504000" cy="480960"/>
            </a:xfrm>
          </p:grpSpPr>
          <p:sp>
            <p:nvSpPr>
              <p:cNvPr id="91" name="Freeform 137"/>
              <p:cNvSpPr/>
              <p:nvPr/>
            </p:nvSpPr>
            <p:spPr>
              <a:xfrm rot="6801600">
                <a:off x="8619480" y="2768400"/>
                <a:ext cx="225360" cy="4197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38"/>
              <p:cNvSpPr/>
              <p:nvPr/>
            </p:nvSpPr>
            <p:spPr>
              <a:xfrm flipH="1" rot="8021400">
                <a:off x="8587800" y="2849400"/>
                <a:ext cx="188280" cy="420120"/>
              </a:xfrm>
              <a:custGeom>
                <a:avLst/>
                <a:gdLst>
                  <a:gd name="textAreaLeft" fmla="*/ -360 w 188280"/>
                  <a:gd name="textAreaRight" fmla="*/ 188280 w 18828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139"/>
            <p:cNvGrpSpPr/>
            <p:nvPr/>
          </p:nvGrpSpPr>
          <p:grpSpPr>
            <a:xfrm>
              <a:off x="8971920" y="2530800"/>
              <a:ext cx="475920" cy="383400"/>
              <a:chOff x="8971920" y="2530800"/>
              <a:chExt cx="475920" cy="383400"/>
            </a:xfrm>
          </p:grpSpPr>
          <p:sp>
            <p:nvSpPr>
              <p:cNvPr id="94" name="Freeform 140"/>
              <p:cNvSpPr/>
              <p:nvPr/>
            </p:nvSpPr>
            <p:spPr>
              <a:xfrm rot="4020000">
                <a:off x="9095760" y="2507040"/>
                <a:ext cx="226800" cy="4197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41"/>
              <p:cNvSpPr/>
              <p:nvPr/>
            </p:nvSpPr>
            <p:spPr>
              <a:xfrm flipH="1" rot="5239200">
                <a:off x="9138240" y="2599560"/>
                <a:ext cx="189360" cy="420120"/>
              </a:xfrm>
              <a:custGeom>
                <a:avLst/>
                <a:gdLst>
                  <a:gd name="textAreaLeft" fmla="*/ 360 w 189360"/>
                  <a:gd name="textAreaRight" fmla="*/ 190080 w 18936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Group 93"/>
          <p:cNvGrpSpPr/>
          <p:nvPr/>
        </p:nvGrpSpPr>
        <p:grpSpPr>
          <a:xfrm>
            <a:off x="863640" y="3933720"/>
            <a:ext cx="9000720" cy="2735280"/>
            <a:chOff x="863640" y="3933720"/>
            <a:chExt cx="9000720" cy="2735280"/>
          </a:xfrm>
        </p:grpSpPr>
        <p:sp>
          <p:nvSpPr>
            <p:cNvPr id="97" name="Rectangle 81"/>
            <p:cNvSpPr/>
            <p:nvPr/>
          </p:nvSpPr>
          <p:spPr>
            <a:xfrm>
              <a:off x="863640" y="3933720"/>
              <a:ext cx="262080" cy="27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2"/>
            <p:cNvSpPr/>
            <p:nvPr/>
          </p:nvSpPr>
          <p:spPr>
            <a:xfrm>
              <a:off x="9602280" y="3933720"/>
              <a:ext cx="262080" cy="27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4"/>
            <p:cNvSpPr/>
            <p:nvPr/>
          </p:nvSpPr>
          <p:spPr>
            <a:xfrm>
              <a:off x="928440" y="4149720"/>
              <a:ext cx="880380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5"/>
            <p:cNvSpPr/>
            <p:nvPr/>
          </p:nvSpPr>
          <p:spPr>
            <a:xfrm>
              <a:off x="928440" y="6237360"/>
              <a:ext cx="880380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43"/>
          <p:cNvGrpSpPr/>
          <p:nvPr/>
        </p:nvGrpSpPr>
        <p:grpSpPr>
          <a:xfrm>
            <a:off x="8137440" y="4869000"/>
            <a:ext cx="647640" cy="1366560"/>
            <a:chOff x="8137440" y="4869000"/>
            <a:chExt cx="647640" cy="1366560"/>
          </a:xfrm>
        </p:grpSpPr>
        <p:sp>
          <p:nvSpPr>
            <p:cNvPr id="102" name="Oval 144"/>
            <p:cNvSpPr/>
            <p:nvPr/>
          </p:nvSpPr>
          <p:spPr>
            <a:xfrm>
              <a:off x="813744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5"/>
            <p:cNvSpPr/>
            <p:nvPr/>
          </p:nvSpPr>
          <p:spPr>
            <a:xfrm>
              <a:off x="813744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46"/>
          <p:cNvSpPr/>
          <p:nvPr/>
        </p:nvSpPr>
        <p:spPr>
          <a:xfrm>
            <a:off x="8137440" y="4724280"/>
            <a:ext cx="64944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404640" y="333360"/>
            <a:ext cx="2881440" cy="863640"/>
          </a:xfrm>
          <a:prstGeom prst="roundRect">
            <a:avLst>
              <a:gd name="adj" fmla="val 25981"/>
            </a:avLst>
          </a:prstGeom>
          <a:solidFill>
            <a:srgbClr val="4f81b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03"/>
          <p:cNvGrpSpPr/>
          <p:nvPr/>
        </p:nvGrpSpPr>
        <p:grpSpPr>
          <a:xfrm>
            <a:off x="4753080" y="3429000"/>
            <a:ext cx="792000" cy="2811240"/>
            <a:chOff x="4753080" y="3429000"/>
            <a:chExt cx="792000" cy="2811240"/>
          </a:xfrm>
        </p:grpSpPr>
        <p:sp>
          <p:nvSpPr>
            <p:cNvPr id="107" name="Rectangle 104"/>
            <p:cNvSpPr/>
            <p:nvPr/>
          </p:nvSpPr>
          <p:spPr>
            <a:xfrm>
              <a:off x="4824360" y="3573360"/>
              <a:ext cx="648720" cy="2305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05"/>
            <p:cNvSpPr/>
            <p:nvPr/>
          </p:nvSpPr>
          <p:spPr>
            <a:xfrm>
              <a:off x="4824360" y="5590800"/>
              <a:ext cx="648720" cy="649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6"/>
            <p:cNvSpPr/>
            <p:nvPr/>
          </p:nvSpPr>
          <p:spPr>
            <a:xfrm>
              <a:off x="4753080" y="3429000"/>
              <a:ext cx="79200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07"/>
          <p:cNvGrpSpPr/>
          <p:nvPr/>
        </p:nvGrpSpPr>
        <p:grpSpPr>
          <a:xfrm>
            <a:off x="7993080" y="3429000"/>
            <a:ext cx="792000" cy="2811240"/>
            <a:chOff x="7993080" y="3429000"/>
            <a:chExt cx="792000" cy="2811240"/>
          </a:xfrm>
        </p:grpSpPr>
        <p:sp>
          <p:nvSpPr>
            <p:cNvPr id="111" name="Rectangle 108"/>
            <p:cNvSpPr/>
            <p:nvPr/>
          </p:nvSpPr>
          <p:spPr>
            <a:xfrm>
              <a:off x="8064360" y="3573360"/>
              <a:ext cx="648720" cy="2305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9"/>
            <p:cNvSpPr/>
            <p:nvPr/>
          </p:nvSpPr>
          <p:spPr>
            <a:xfrm>
              <a:off x="8064360" y="5590800"/>
              <a:ext cx="648720" cy="649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0"/>
            <p:cNvSpPr/>
            <p:nvPr/>
          </p:nvSpPr>
          <p:spPr>
            <a:xfrm>
              <a:off x="7993080" y="3429000"/>
              <a:ext cx="79200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01"/>
          <p:cNvGrpSpPr/>
          <p:nvPr/>
        </p:nvGrpSpPr>
        <p:grpSpPr>
          <a:xfrm>
            <a:off x="1584360" y="3429000"/>
            <a:ext cx="792000" cy="2809800"/>
            <a:chOff x="1584360" y="3429000"/>
            <a:chExt cx="792000" cy="2809800"/>
          </a:xfrm>
        </p:grpSpPr>
        <p:sp>
          <p:nvSpPr>
            <p:cNvPr id="115" name="Rectangle 97"/>
            <p:cNvSpPr/>
            <p:nvPr/>
          </p:nvSpPr>
          <p:spPr>
            <a:xfrm>
              <a:off x="1655640" y="3573360"/>
              <a:ext cx="648720" cy="23036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99"/>
            <p:cNvSpPr/>
            <p:nvPr/>
          </p:nvSpPr>
          <p:spPr>
            <a:xfrm>
              <a:off x="1655640" y="5589720"/>
              <a:ext cx="648720" cy="6490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00"/>
            <p:cNvSpPr/>
            <p:nvPr/>
          </p:nvSpPr>
          <p:spPr>
            <a:xfrm>
              <a:off x="1584360" y="3429000"/>
              <a:ext cx="79200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3"/>
          <p:cNvGrpSpPr/>
          <p:nvPr/>
        </p:nvGrpSpPr>
        <p:grpSpPr>
          <a:xfrm>
            <a:off x="1657440" y="4869000"/>
            <a:ext cx="647640" cy="1366560"/>
            <a:chOff x="1657440" y="4869000"/>
            <a:chExt cx="647640" cy="1366560"/>
          </a:xfrm>
        </p:grpSpPr>
        <p:sp>
          <p:nvSpPr>
            <p:cNvPr id="119" name="Oval 111"/>
            <p:cNvSpPr/>
            <p:nvPr/>
          </p:nvSpPr>
          <p:spPr>
            <a:xfrm>
              <a:off x="165744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12"/>
            <p:cNvSpPr/>
            <p:nvPr/>
          </p:nvSpPr>
          <p:spPr>
            <a:xfrm>
              <a:off x="165744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16"/>
          <p:cNvGrpSpPr/>
          <p:nvPr/>
        </p:nvGrpSpPr>
        <p:grpSpPr>
          <a:xfrm>
            <a:off x="4824360" y="4869000"/>
            <a:ext cx="647640" cy="1366560"/>
            <a:chOff x="4824360" y="4869000"/>
            <a:chExt cx="647640" cy="1366560"/>
          </a:xfrm>
        </p:grpSpPr>
        <p:sp>
          <p:nvSpPr>
            <p:cNvPr id="122" name="Oval 117"/>
            <p:cNvSpPr/>
            <p:nvPr/>
          </p:nvSpPr>
          <p:spPr>
            <a:xfrm>
              <a:off x="482436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482436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19"/>
          <p:cNvSpPr/>
          <p:nvPr/>
        </p:nvSpPr>
        <p:spPr>
          <a:xfrm>
            <a:off x="4824360" y="4724280"/>
            <a:ext cx="64944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42"/>
          <p:cNvGrpSpPr/>
          <p:nvPr/>
        </p:nvGrpSpPr>
        <p:grpSpPr>
          <a:xfrm>
            <a:off x="7790040" y="1763640"/>
            <a:ext cx="1697760" cy="3105000"/>
            <a:chOff x="7790040" y="1763640"/>
            <a:chExt cx="1697760" cy="3105000"/>
          </a:xfrm>
        </p:grpSpPr>
        <p:sp>
          <p:nvSpPr>
            <p:cNvPr id="126" name="Freeform 121"/>
            <p:cNvSpPr/>
            <p:nvPr/>
          </p:nvSpPr>
          <p:spPr>
            <a:xfrm>
              <a:off x="8208720" y="2377080"/>
              <a:ext cx="239760" cy="24915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491560"/>
                <a:gd name="textAreaBottom" fmla="*/ 2491560 h 2491560"/>
              </a:gdLst>
              <a:ahLst/>
              <a:rect l="textAreaLeft" t="textAreaTop" r="textAreaRight" b="textAreaBottom"/>
              <a:pathLst>
                <a:path w="151" h="1497">
                  <a:moveTo>
                    <a:pt x="91" y="1497"/>
                  </a:moveTo>
                  <a:cubicBezTo>
                    <a:pt x="87" y="1300"/>
                    <a:pt x="84" y="1103"/>
                    <a:pt x="91" y="952"/>
                  </a:cubicBezTo>
                  <a:cubicBezTo>
                    <a:pt x="98" y="801"/>
                    <a:pt x="151" y="748"/>
                    <a:pt x="136" y="589"/>
                  </a:cubicBezTo>
                  <a:cubicBezTo>
                    <a:pt x="121" y="430"/>
                    <a:pt x="60" y="215"/>
                    <a:pt x="0" y="0"/>
                  </a:cubicBezTo>
                </a:path>
              </a:pathLst>
            </a:custGeom>
            <a:noFill/>
            <a:ln w="76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22"/>
            <p:cNvGrpSpPr/>
            <p:nvPr/>
          </p:nvGrpSpPr>
          <p:grpSpPr>
            <a:xfrm>
              <a:off x="7790040" y="1939680"/>
              <a:ext cx="601560" cy="634320"/>
              <a:chOff x="7790040" y="1939680"/>
              <a:chExt cx="601560" cy="634320"/>
            </a:xfrm>
          </p:grpSpPr>
          <p:sp>
            <p:nvSpPr>
              <p:cNvPr id="128" name="Freeform 123"/>
              <p:cNvSpPr/>
              <p:nvPr/>
            </p:nvSpPr>
            <p:spPr>
              <a:xfrm rot="7787400">
                <a:off x="7974360" y="1933920"/>
                <a:ext cx="246960" cy="55800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558000"/>
                  <a:gd name="textAreaBottom" fmla="*/ 558360 h 55800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24"/>
              <p:cNvSpPr/>
              <p:nvPr/>
            </p:nvSpPr>
            <p:spPr>
              <a:xfrm flipH="1" rot="9007200">
                <a:off x="7914960" y="2001240"/>
                <a:ext cx="205920" cy="55836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25"/>
            <p:cNvGrpSpPr/>
            <p:nvPr/>
          </p:nvGrpSpPr>
          <p:grpSpPr>
            <a:xfrm>
              <a:off x="7832160" y="2736360"/>
              <a:ext cx="635760" cy="578520"/>
              <a:chOff x="7832160" y="2736360"/>
              <a:chExt cx="635760" cy="578520"/>
            </a:xfrm>
          </p:grpSpPr>
          <p:sp>
            <p:nvSpPr>
              <p:cNvPr id="131" name="Freeform 126"/>
              <p:cNvSpPr/>
              <p:nvPr/>
            </p:nvSpPr>
            <p:spPr>
              <a:xfrm rot="6801600">
                <a:off x="8039160" y="2681280"/>
                <a:ext cx="246960" cy="55800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558000"/>
                  <a:gd name="textAreaBottom" fmla="*/ 558360 h 55800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7"/>
              <p:cNvSpPr/>
              <p:nvPr/>
            </p:nvSpPr>
            <p:spPr>
              <a:xfrm flipH="1" rot="8021400">
                <a:off x="8001720" y="2768400"/>
                <a:ext cx="205920" cy="55836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Freeform 129"/>
            <p:cNvSpPr/>
            <p:nvPr/>
          </p:nvSpPr>
          <p:spPr>
            <a:xfrm>
              <a:off x="8424720" y="2300760"/>
              <a:ext cx="649080" cy="1359360"/>
            </a:xfrm>
            <a:custGeom>
              <a:avLst/>
              <a:gdLst>
                <a:gd name="textAreaLeft" fmla="*/ 0 w 649080"/>
                <a:gd name="textAreaRight" fmla="*/ 649080 w 649080"/>
                <a:gd name="textAreaTop" fmla="*/ 0 h 1359360"/>
                <a:gd name="textAreaBottom" fmla="*/ 1359720 h 1359360"/>
              </a:gdLst>
              <a:ahLst/>
              <a:rect l="textAreaLeft" t="textAreaTop" r="textAreaRight" b="textAreaBottom"/>
              <a:pathLst>
                <a:path w="409" h="817">
                  <a:moveTo>
                    <a:pt x="0" y="817"/>
                  </a:moveTo>
                  <a:cubicBezTo>
                    <a:pt x="106" y="741"/>
                    <a:pt x="213" y="666"/>
                    <a:pt x="273" y="545"/>
                  </a:cubicBezTo>
                  <a:cubicBezTo>
                    <a:pt x="333" y="424"/>
                    <a:pt x="340" y="182"/>
                    <a:pt x="363" y="91"/>
                  </a:cubicBezTo>
                  <a:cubicBezTo>
                    <a:pt x="386" y="0"/>
                    <a:pt x="397" y="0"/>
                    <a:pt x="409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30"/>
            <p:cNvGrpSpPr/>
            <p:nvPr/>
          </p:nvGrpSpPr>
          <p:grpSpPr>
            <a:xfrm>
              <a:off x="8187120" y="2141280"/>
              <a:ext cx="579960" cy="650880"/>
              <a:chOff x="8187120" y="2141280"/>
              <a:chExt cx="579960" cy="650880"/>
            </a:xfrm>
          </p:grpSpPr>
          <p:sp>
            <p:nvSpPr>
              <p:cNvPr id="135" name="Freeform 131"/>
              <p:cNvSpPr/>
              <p:nvPr/>
            </p:nvSpPr>
            <p:spPr>
              <a:xfrm rot="12202200">
                <a:off x="8424720" y="2184480"/>
                <a:ext cx="235800" cy="58464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32"/>
              <p:cNvSpPr/>
              <p:nvPr/>
            </p:nvSpPr>
            <p:spPr>
              <a:xfrm flipH="1" rot="13421400">
                <a:off x="8361360" y="2128320"/>
                <a:ext cx="196560" cy="58464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33"/>
            <p:cNvGrpSpPr/>
            <p:nvPr/>
          </p:nvGrpSpPr>
          <p:grpSpPr>
            <a:xfrm>
              <a:off x="8907840" y="1763640"/>
              <a:ext cx="579960" cy="650880"/>
              <a:chOff x="8907840" y="1763640"/>
              <a:chExt cx="579960" cy="650880"/>
            </a:xfrm>
          </p:grpSpPr>
          <p:sp>
            <p:nvSpPr>
              <p:cNvPr id="138" name="Freeform 134"/>
              <p:cNvSpPr/>
              <p:nvPr/>
            </p:nvSpPr>
            <p:spPr>
              <a:xfrm rot="12202200">
                <a:off x="9145440" y="1806840"/>
                <a:ext cx="235800" cy="58464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5"/>
              <p:cNvSpPr/>
              <p:nvPr/>
            </p:nvSpPr>
            <p:spPr>
              <a:xfrm flipH="1" rot="13421400">
                <a:off x="9082080" y="1750680"/>
                <a:ext cx="196560" cy="58464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136"/>
            <p:cNvGrpSpPr/>
            <p:nvPr/>
          </p:nvGrpSpPr>
          <p:grpSpPr>
            <a:xfrm>
              <a:off x="8394120" y="2791800"/>
              <a:ext cx="504000" cy="480960"/>
              <a:chOff x="8394120" y="2791800"/>
              <a:chExt cx="504000" cy="480960"/>
            </a:xfrm>
          </p:grpSpPr>
          <p:sp>
            <p:nvSpPr>
              <p:cNvPr id="141" name="Freeform 137"/>
              <p:cNvSpPr/>
              <p:nvPr/>
            </p:nvSpPr>
            <p:spPr>
              <a:xfrm rot="6801600">
                <a:off x="8547840" y="2768400"/>
                <a:ext cx="225360" cy="4197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38"/>
              <p:cNvSpPr/>
              <p:nvPr/>
            </p:nvSpPr>
            <p:spPr>
              <a:xfrm flipH="1" rot="8021400">
                <a:off x="8516160" y="2849400"/>
                <a:ext cx="188280" cy="420120"/>
              </a:xfrm>
              <a:custGeom>
                <a:avLst/>
                <a:gdLst>
                  <a:gd name="textAreaLeft" fmla="*/ -360 w 188280"/>
                  <a:gd name="textAreaRight" fmla="*/ 188280 w 18828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39"/>
            <p:cNvGrpSpPr/>
            <p:nvPr/>
          </p:nvGrpSpPr>
          <p:grpSpPr>
            <a:xfrm>
              <a:off x="8900280" y="2530800"/>
              <a:ext cx="475920" cy="383400"/>
              <a:chOff x="8900280" y="2530800"/>
              <a:chExt cx="475920" cy="383400"/>
            </a:xfrm>
          </p:grpSpPr>
          <p:sp>
            <p:nvSpPr>
              <p:cNvPr id="144" name="Freeform 140"/>
              <p:cNvSpPr/>
              <p:nvPr/>
            </p:nvSpPr>
            <p:spPr>
              <a:xfrm rot="4020000">
                <a:off x="9024120" y="2507040"/>
                <a:ext cx="226800" cy="4197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41"/>
              <p:cNvSpPr/>
              <p:nvPr/>
            </p:nvSpPr>
            <p:spPr>
              <a:xfrm flipH="1" rot="5239200">
                <a:off x="9066600" y="2599560"/>
                <a:ext cx="189360" cy="420120"/>
              </a:xfrm>
              <a:custGeom>
                <a:avLst/>
                <a:gdLst>
                  <a:gd name="textAreaLeft" fmla="*/ 360 w 189360"/>
                  <a:gd name="textAreaRight" fmla="*/ 190080 w 18936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544" h="1406">
                    <a:moveTo>
                      <a:pt x="272" y="1406"/>
                    </a:moveTo>
                    <a:cubicBezTo>
                      <a:pt x="136" y="1137"/>
                      <a:pt x="0" y="869"/>
                      <a:pt x="45" y="635"/>
                    </a:cubicBezTo>
                    <a:cubicBezTo>
                      <a:pt x="90" y="401"/>
                      <a:pt x="317" y="200"/>
                      <a:pt x="544" y="0"/>
                    </a:cubicBezTo>
                  </a:path>
                </a:pathLst>
              </a:custGeom>
              <a:solidFill>
                <a:srgbClr val="009900"/>
              </a:solidFill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93"/>
          <p:cNvGrpSpPr/>
          <p:nvPr/>
        </p:nvGrpSpPr>
        <p:grpSpPr>
          <a:xfrm>
            <a:off x="792000" y="3933720"/>
            <a:ext cx="9001080" cy="2735280"/>
            <a:chOff x="792000" y="3933720"/>
            <a:chExt cx="9001080" cy="2735280"/>
          </a:xfrm>
        </p:grpSpPr>
        <p:sp>
          <p:nvSpPr>
            <p:cNvPr id="147" name="Rectangle 81"/>
            <p:cNvSpPr/>
            <p:nvPr/>
          </p:nvSpPr>
          <p:spPr>
            <a:xfrm>
              <a:off x="792000" y="3933720"/>
              <a:ext cx="262080" cy="27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2"/>
            <p:cNvSpPr/>
            <p:nvPr/>
          </p:nvSpPr>
          <p:spPr>
            <a:xfrm>
              <a:off x="9531000" y="3933720"/>
              <a:ext cx="262080" cy="27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4"/>
            <p:cNvSpPr/>
            <p:nvPr/>
          </p:nvSpPr>
          <p:spPr>
            <a:xfrm>
              <a:off x="856800" y="4149720"/>
              <a:ext cx="880416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5"/>
            <p:cNvSpPr/>
            <p:nvPr/>
          </p:nvSpPr>
          <p:spPr>
            <a:xfrm>
              <a:off x="856800" y="6237360"/>
              <a:ext cx="880416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3"/>
          <p:cNvGrpSpPr/>
          <p:nvPr/>
        </p:nvGrpSpPr>
        <p:grpSpPr>
          <a:xfrm>
            <a:off x="8066160" y="4869000"/>
            <a:ext cx="647640" cy="1366560"/>
            <a:chOff x="8066160" y="4869000"/>
            <a:chExt cx="647640" cy="1366560"/>
          </a:xfrm>
        </p:grpSpPr>
        <p:sp>
          <p:nvSpPr>
            <p:cNvPr id="152" name="Oval 144"/>
            <p:cNvSpPr/>
            <p:nvPr/>
          </p:nvSpPr>
          <p:spPr>
            <a:xfrm>
              <a:off x="806616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45"/>
            <p:cNvSpPr/>
            <p:nvPr/>
          </p:nvSpPr>
          <p:spPr>
            <a:xfrm>
              <a:off x="806616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46"/>
          <p:cNvSpPr/>
          <p:nvPr/>
        </p:nvSpPr>
        <p:spPr>
          <a:xfrm>
            <a:off x="8066160" y="4724280"/>
            <a:ext cx="64908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4824360" y="3429000"/>
            <a:ext cx="792360" cy="2811240"/>
            <a:chOff x="4824360" y="3429000"/>
            <a:chExt cx="792360" cy="2811240"/>
          </a:xfrm>
        </p:grpSpPr>
        <p:sp>
          <p:nvSpPr>
            <p:cNvPr id="156" name="Rectangle 3"/>
            <p:cNvSpPr/>
            <p:nvPr/>
          </p:nvSpPr>
          <p:spPr>
            <a:xfrm>
              <a:off x="4896000" y="3573360"/>
              <a:ext cx="649080" cy="2305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4896000" y="5590800"/>
              <a:ext cx="649080" cy="649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>
              <a:off x="4824360" y="3429000"/>
              <a:ext cx="79236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0"/>
          <p:cNvGrpSpPr/>
          <p:nvPr/>
        </p:nvGrpSpPr>
        <p:grpSpPr>
          <a:xfrm>
            <a:off x="1655640" y="3429000"/>
            <a:ext cx="792360" cy="2809800"/>
            <a:chOff x="1655640" y="3429000"/>
            <a:chExt cx="792360" cy="2809800"/>
          </a:xfrm>
        </p:grpSpPr>
        <p:sp>
          <p:nvSpPr>
            <p:cNvPr id="160" name="Rectangle 11"/>
            <p:cNvSpPr/>
            <p:nvPr/>
          </p:nvSpPr>
          <p:spPr>
            <a:xfrm>
              <a:off x="1727280" y="3573360"/>
              <a:ext cx="649080" cy="23036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1727280" y="5589720"/>
              <a:ext cx="649080" cy="6490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>
              <a:off x="1655640" y="3429000"/>
              <a:ext cx="792360" cy="144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1728720" y="4869000"/>
            <a:ext cx="647640" cy="1366560"/>
            <a:chOff x="1728720" y="4869000"/>
            <a:chExt cx="647640" cy="1366560"/>
          </a:xfrm>
        </p:grpSpPr>
        <p:sp>
          <p:nvSpPr>
            <p:cNvPr id="164" name="Oval 16"/>
            <p:cNvSpPr/>
            <p:nvPr/>
          </p:nvSpPr>
          <p:spPr>
            <a:xfrm>
              <a:off x="172872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172872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0"/>
          <p:cNvGrpSpPr/>
          <p:nvPr/>
        </p:nvGrpSpPr>
        <p:grpSpPr>
          <a:xfrm>
            <a:off x="4896000" y="4869000"/>
            <a:ext cx="647640" cy="1366560"/>
            <a:chOff x="4896000" y="4869000"/>
            <a:chExt cx="647640" cy="1366560"/>
          </a:xfrm>
        </p:grpSpPr>
        <p:sp>
          <p:nvSpPr>
            <p:cNvPr id="167" name="Oval 21"/>
            <p:cNvSpPr/>
            <p:nvPr/>
          </p:nvSpPr>
          <p:spPr>
            <a:xfrm>
              <a:off x="4896000" y="5587920"/>
              <a:ext cx="647640" cy="6476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4896000" y="4869000"/>
              <a:ext cx="647640" cy="100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3"/>
          <p:cNvSpPr/>
          <p:nvPr/>
        </p:nvSpPr>
        <p:spPr>
          <a:xfrm>
            <a:off x="4896000" y="4724280"/>
            <a:ext cx="649080" cy="1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91"/>
          <p:cNvGrpSpPr/>
          <p:nvPr/>
        </p:nvGrpSpPr>
        <p:grpSpPr>
          <a:xfrm>
            <a:off x="7850160" y="1770840"/>
            <a:ext cx="1719720" cy="4469400"/>
            <a:chOff x="7850160" y="1770840"/>
            <a:chExt cx="1719720" cy="4469400"/>
          </a:xfrm>
        </p:grpSpPr>
        <p:grpSp>
          <p:nvGrpSpPr>
            <p:cNvPr id="171" name="Group 6"/>
            <p:cNvGrpSpPr/>
            <p:nvPr/>
          </p:nvGrpSpPr>
          <p:grpSpPr>
            <a:xfrm>
              <a:off x="8064360" y="3429000"/>
              <a:ext cx="792360" cy="2811240"/>
              <a:chOff x="8064360" y="3429000"/>
              <a:chExt cx="792360" cy="2811240"/>
            </a:xfrm>
          </p:grpSpPr>
          <p:sp>
            <p:nvSpPr>
              <p:cNvPr id="172" name="Rectangle 7"/>
              <p:cNvSpPr/>
              <p:nvPr/>
            </p:nvSpPr>
            <p:spPr>
              <a:xfrm>
                <a:off x="8136000" y="3573360"/>
                <a:ext cx="649080" cy="230508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8"/>
              <p:cNvSpPr/>
              <p:nvPr/>
            </p:nvSpPr>
            <p:spPr>
              <a:xfrm>
                <a:off x="8136000" y="5590800"/>
                <a:ext cx="649080" cy="64944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9"/>
              <p:cNvSpPr/>
              <p:nvPr/>
            </p:nvSpPr>
            <p:spPr>
              <a:xfrm>
                <a:off x="8064360" y="3429000"/>
                <a:ext cx="792360" cy="14436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5"/>
            <p:cNvGrpSpPr/>
            <p:nvPr/>
          </p:nvGrpSpPr>
          <p:grpSpPr>
            <a:xfrm>
              <a:off x="7850160" y="1770840"/>
              <a:ext cx="1719720" cy="3386160"/>
              <a:chOff x="7850160" y="1770840"/>
              <a:chExt cx="1719720" cy="3386160"/>
            </a:xfrm>
          </p:grpSpPr>
          <p:sp>
            <p:nvSpPr>
              <p:cNvPr id="176" name="Freeform 26"/>
              <p:cNvSpPr/>
              <p:nvPr/>
            </p:nvSpPr>
            <p:spPr>
              <a:xfrm>
                <a:off x="8280360" y="2433240"/>
                <a:ext cx="239760" cy="27237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723760"/>
                  <a:gd name="textAreaBottom" fmla="*/ 2724120 h 2723760"/>
                </a:gdLst>
                <a:ahLst/>
                <a:rect l="textAreaLeft" t="textAreaTop" r="textAreaRight" b="textAreaBottom"/>
                <a:pathLst>
                  <a:path w="151" h="1497">
                    <a:moveTo>
                      <a:pt x="91" y="1497"/>
                    </a:moveTo>
                    <a:cubicBezTo>
                      <a:pt x="87" y="1300"/>
                      <a:pt x="84" y="1103"/>
                      <a:pt x="91" y="952"/>
                    </a:cubicBezTo>
                    <a:cubicBezTo>
                      <a:pt x="98" y="801"/>
                      <a:pt x="151" y="748"/>
                      <a:pt x="136" y="589"/>
                    </a:cubicBezTo>
                    <a:cubicBezTo>
                      <a:pt x="121" y="430"/>
                      <a:pt x="60" y="215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Group 27"/>
              <p:cNvGrpSpPr/>
              <p:nvPr/>
            </p:nvGrpSpPr>
            <p:grpSpPr>
              <a:xfrm>
                <a:off x="7850160" y="1971360"/>
                <a:ext cx="623160" cy="654840"/>
                <a:chOff x="7850160" y="1971360"/>
                <a:chExt cx="623160" cy="654840"/>
              </a:xfrm>
            </p:grpSpPr>
            <p:sp>
              <p:nvSpPr>
                <p:cNvPr id="178" name="Freeform 28"/>
                <p:cNvSpPr/>
                <p:nvPr/>
              </p:nvSpPr>
              <p:spPr>
                <a:xfrm rot="7787400">
                  <a:off x="8037720" y="1974240"/>
                  <a:ext cx="269640" cy="55800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 flipH="1" rot="9007200">
                  <a:off x="7974000" y="2049120"/>
                  <a:ext cx="225000" cy="558000"/>
                </a:xfrm>
                <a:custGeom>
                  <a:avLst/>
                  <a:gdLst>
                    <a:gd name="textAreaLeft" fmla="*/ -360 w 225000"/>
                    <a:gd name="textAreaRight" fmla="*/ 225000 w 22500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30"/>
              <p:cNvGrpSpPr/>
              <p:nvPr/>
            </p:nvGrpSpPr>
            <p:grpSpPr>
              <a:xfrm>
                <a:off x="7895160" y="2836080"/>
                <a:ext cx="650520" cy="604800"/>
                <a:chOff x="7895160" y="2836080"/>
                <a:chExt cx="650520" cy="604800"/>
              </a:xfrm>
            </p:grpSpPr>
            <p:sp>
              <p:nvSpPr>
                <p:cNvPr id="181" name="Freeform 31"/>
                <p:cNvSpPr/>
                <p:nvPr/>
              </p:nvSpPr>
              <p:spPr>
                <a:xfrm rot="6801600">
                  <a:off x="8101080" y="2791440"/>
                  <a:ext cx="269640" cy="55800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32"/>
                <p:cNvSpPr/>
                <p:nvPr/>
              </p:nvSpPr>
              <p:spPr>
                <a:xfrm flipH="1" rot="8021400">
                  <a:off x="8061840" y="2887560"/>
                  <a:ext cx="225000" cy="558000"/>
                </a:xfrm>
                <a:custGeom>
                  <a:avLst/>
                  <a:gdLst>
                    <a:gd name="textAreaLeft" fmla="*/ -360 w 225000"/>
                    <a:gd name="textAreaRight" fmla="*/ 225000 w 22500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Freeform 33"/>
              <p:cNvSpPr/>
              <p:nvPr/>
            </p:nvSpPr>
            <p:spPr>
              <a:xfrm>
                <a:off x="8496360" y="2350080"/>
                <a:ext cx="649080" cy="1486080"/>
              </a:xfrm>
              <a:custGeom>
                <a:avLst/>
                <a:gdLst>
                  <a:gd name="textAreaLeft" fmla="*/ 0 w 649080"/>
                  <a:gd name="textAreaRight" fmla="*/ 649080 w 649080"/>
                  <a:gd name="textAreaTop" fmla="*/ 0 h 1486080"/>
                  <a:gd name="textAreaBottom" fmla="*/ 1486440 h 1486080"/>
                </a:gdLst>
                <a:ahLst/>
                <a:rect l="textAreaLeft" t="textAreaTop" r="textAreaRight" b="textAreaBottom"/>
                <a:pathLst>
                  <a:path w="409" h="817">
                    <a:moveTo>
                      <a:pt x="0" y="817"/>
                    </a:moveTo>
                    <a:cubicBezTo>
                      <a:pt x="106" y="741"/>
                      <a:pt x="213" y="666"/>
                      <a:pt x="273" y="545"/>
                    </a:cubicBezTo>
                    <a:cubicBezTo>
                      <a:pt x="333" y="424"/>
                      <a:pt x="340" y="182"/>
                      <a:pt x="363" y="91"/>
                    </a:cubicBezTo>
                    <a:cubicBezTo>
                      <a:pt x="386" y="0"/>
                      <a:pt x="397" y="0"/>
                      <a:pt x="409" y="0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34"/>
              <p:cNvGrpSpPr/>
              <p:nvPr/>
            </p:nvGrpSpPr>
            <p:grpSpPr>
              <a:xfrm>
                <a:off x="8240760" y="2183760"/>
                <a:ext cx="608400" cy="697320"/>
                <a:chOff x="8240760" y="2183760"/>
                <a:chExt cx="608400" cy="697320"/>
              </a:xfrm>
            </p:grpSpPr>
            <p:sp>
              <p:nvSpPr>
                <p:cNvPr id="185" name="Freeform 35"/>
                <p:cNvSpPr/>
                <p:nvPr/>
              </p:nvSpPr>
              <p:spPr>
                <a:xfrm rot="12202200">
                  <a:off x="8496000" y="2221200"/>
                  <a:ext cx="235800" cy="63900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639000"/>
                    <a:gd name="textAreaBottom" fmla="*/ 639360 h 639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6"/>
                <p:cNvSpPr/>
                <p:nvPr/>
              </p:nvSpPr>
              <p:spPr>
                <a:xfrm flipH="1" rot="13421400">
                  <a:off x="8434440" y="2163240"/>
                  <a:ext cx="196560" cy="639360"/>
                </a:xfrm>
                <a:custGeom>
                  <a:avLst/>
                  <a:gdLst>
                    <a:gd name="textAreaLeft" fmla="*/ 360 w 196560"/>
                    <a:gd name="textAreaRight" fmla="*/ 197280 w 196560"/>
                    <a:gd name="textAreaTop" fmla="*/ 0 h 639360"/>
                    <a:gd name="textAreaBottom" fmla="*/ 639720 h 6393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37"/>
              <p:cNvGrpSpPr/>
              <p:nvPr/>
            </p:nvGrpSpPr>
            <p:grpSpPr>
              <a:xfrm>
                <a:off x="8961480" y="1770840"/>
                <a:ext cx="608400" cy="697320"/>
                <a:chOff x="8961480" y="1770840"/>
                <a:chExt cx="608400" cy="697320"/>
              </a:xfrm>
            </p:grpSpPr>
            <p:sp>
              <p:nvSpPr>
                <p:cNvPr id="188" name="Freeform 38"/>
                <p:cNvSpPr/>
                <p:nvPr/>
              </p:nvSpPr>
              <p:spPr>
                <a:xfrm rot="12202200">
                  <a:off x="9216720" y="1808280"/>
                  <a:ext cx="235800" cy="63900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639000"/>
                    <a:gd name="textAreaBottom" fmla="*/ 639360 h 639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9"/>
                <p:cNvSpPr/>
                <p:nvPr/>
              </p:nvSpPr>
              <p:spPr>
                <a:xfrm flipH="1" rot="13421400">
                  <a:off x="9155160" y="1750320"/>
                  <a:ext cx="196560" cy="639360"/>
                </a:xfrm>
                <a:custGeom>
                  <a:avLst/>
                  <a:gdLst>
                    <a:gd name="textAreaLeft" fmla="*/ 360 w 196560"/>
                    <a:gd name="textAreaRight" fmla="*/ 197280 w 196560"/>
                    <a:gd name="textAreaTop" fmla="*/ 0 h 639360"/>
                    <a:gd name="textAreaBottom" fmla="*/ 639720 h 6393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40"/>
              <p:cNvGrpSpPr/>
              <p:nvPr/>
            </p:nvGrpSpPr>
            <p:grpSpPr>
              <a:xfrm>
                <a:off x="8458200" y="2894040"/>
                <a:ext cx="517320" cy="504000"/>
                <a:chOff x="8458200" y="2894040"/>
                <a:chExt cx="517320" cy="504000"/>
              </a:xfrm>
            </p:grpSpPr>
            <p:sp>
              <p:nvSpPr>
                <p:cNvPr id="191" name="Freeform 41"/>
                <p:cNvSpPr/>
                <p:nvPr/>
              </p:nvSpPr>
              <p:spPr>
                <a:xfrm rot="6801600">
                  <a:off x="8610480" y="2880360"/>
                  <a:ext cx="246600" cy="419760"/>
                </a:xfrm>
                <a:custGeom>
                  <a:avLst/>
                  <a:gdLst>
                    <a:gd name="textAreaLeft" fmla="*/ 0 w 246600"/>
                    <a:gd name="textAreaRight" fmla="*/ 246960 w 246600"/>
                    <a:gd name="textAreaTop" fmla="*/ 0 h 419760"/>
                    <a:gd name="textAreaBottom" fmla="*/ 420120 h 4197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2"/>
                <p:cNvSpPr/>
                <p:nvPr/>
              </p:nvSpPr>
              <p:spPr>
                <a:xfrm flipH="1" rot="8021400">
                  <a:off x="8577720" y="2968920"/>
                  <a:ext cx="205200" cy="419760"/>
                </a:xfrm>
                <a:custGeom>
                  <a:avLst/>
                  <a:gdLst>
                    <a:gd name="textAreaLeft" fmla="*/ 360 w 205200"/>
                    <a:gd name="textAreaRight" fmla="*/ 205920 w 205200"/>
                    <a:gd name="textAreaTop" fmla="*/ 0 h 419760"/>
                    <a:gd name="textAreaBottom" fmla="*/ 420120 h 4197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3"/>
              <p:cNvGrpSpPr/>
              <p:nvPr/>
            </p:nvGrpSpPr>
            <p:grpSpPr>
              <a:xfrm>
                <a:off x="8966160" y="2609280"/>
                <a:ext cx="484200" cy="410040"/>
                <a:chOff x="8966160" y="2609280"/>
                <a:chExt cx="484200" cy="410040"/>
              </a:xfrm>
            </p:grpSpPr>
            <p:sp>
              <p:nvSpPr>
                <p:cNvPr id="194" name="Freeform 44"/>
                <p:cNvSpPr/>
                <p:nvPr/>
              </p:nvSpPr>
              <p:spPr>
                <a:xfrm rot="4020000">
                  <a:off x="9083520" y="2595240"/>
                  <a:ext cx="248040" cy="419760"/>
                </a:xfrm>
                <a:custGeom>
                  <a:avLst/>
                  <a:gdLst>
                    <a:gd name="textAreaLeft" fmla="*/ 0 w 248040"/>
                    <a:gd name="textAreaRight" fmla="*/ 248400 w 248040"/>
                    <a:gd name="textAreaTop" fmla="*/ 0 h 419760"/>
                    <a:gd name="textAreaBottom" fmla="*/ 420120 h 4197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5"/>
                <p:cNvSpPr/>
                <p:nvPr/>
              </p:nvSpPr>
              <p:spPr>
                <a:xfrm flipH="1" rot="5239200">
                  <a:off x="9131400" y="2695680"/>
                  <a:ext cx="207000" cy="420120"/>
                </a:xfrm>
                <a:custGeom>
                  <a:avLst/>
                  <a:gdLst>
                    <a:gd name="textAreaLeft" fmla="*/ -360 w 207000"/>
                    <a:gd name="textAreaRight" fmla="*/ 207000 w 20700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Group 60"/>
            <p:cNvGrpSpPr/>
            <p:nvPr/>
          </p:nvGrpSpPr>
          <p:grpSpPr>
            <a:xfrm>
              <a:off x="8137440" y="4724280"/>
              <a:ext cx="649440" cy="1511280"/>
              <a:chOff x="8137440" y="4724280"/>
              <a:chExt cx="649440" cy="1511280"/>
            </a:xfrm>
          </p:grpSpPr>
          <p:sp>
            <p:nvSpPr>
              <p:cNvPr id="197" name="Oval 52"/>
              <p:cNvSpPr/>
              <p:nvPr/>
            </p:nvSpPr>
            <p:spPr>
              <a:xfrm>
                <a:off x="8137440" y="5587920"/>
                <a:ext cx="647640" cy="64764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53"/>
              <p:cNvSpPr/>
              <p:nvPr/>
            </p:nvSpPr>
            <p:spPr>
              <a:xfrm>
                <a:off x="8137440" y="4869000"/>
                <a:ext cx="647640" cy="100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54"/>
              <p:cNvSpPr/>
              <p:nvPr/>
            </p:nvSpPr>
            <p:spPr>
              <a:xfrm>
                <a:off x="8137440" y="4724280"/>
                <a:ext cx="649440" cy="14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AutoShape 55"/>
          <p:cNvSpPr/>
          <p:nvPr/>
        </p:nvSpPr>
        <p:spPr>
          <a:xfrm>
            <a:off x="360360" y="1413000"/>
            <a:ext cx="3745080" cy="64764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1728720" y="4724280"/>
            <a:ext cx="647640" cy="433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936720" y="242100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ь воды испар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887640" y="2421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арению воды помешало 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6696000" y="620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ды стало меньше (шёл процесс испарения воды листья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90"/>
          <p:cNvGrpSpPr/>
          <p:nvPr/>
        </p:nvGrpSpPr>
        <p:grpSpPr>
          <a:xfrm>
            <a:off x="7853760" y="1770480"/>
            <a:ext cx="1713600" cy="4469760"/>
            <a:chOff x="7853760" y="1770480"/>
            <a:chExt cx="1713600" cy="4469760"/>
          </a:xfrm>
        </p:grpSpPr>
        <p:grpSp>
          <p:nvGrpSpPr>
            <p:cNvPr id="206" name="Group 61"/>
            <p:cNvGrpSpPr/>
            <p:nvPr/>
          </p:nvGrpSpPr>
          <p:grpSpPr>
            <a:xfrm>
              <a:off x="8064720" y="3429000"/>
              <a:ext cx="792360" cy="2811240"/>
              <a:chOff x="8064720" y="3429000"/>
              <a:chExt cx="792360" cy="2811240"/>
            </a:xfrm>
          </p:grpSpPr>
          <p:sp>
            <p:nvSpPr>
              <p:cNvPr id="207" name="Rectangle 62"/>
              <p:cNvSpPr/>
              <p:nvPr/>
            </p:nvSpPr>
            <p:spPr>
              <a:xfrm>
                <a:off x="8136360" y="3573360"/>
                <a:ext cx="649080" cy="230508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63"/>
              <p:cNvSpPr/>
              <p:nvPr/>
            </p:nvSpPr>
            <p:spPr>
              <a:xfrm>
                <a:off x="8136360" y="5590800"/>
                <a:ext cx="649080" cy="64944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64"/>
              <p:cNvSpPr/>
              <p:nvPr/>
            </p:nvSpPr>
            <p:spPr>
              <a:xfrm>
                <a:off x="8064720" y="3429000"/>
                <a:ext cx="792360" cy="14436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65"/>
            <p:cNvGrpSpPr/>
            <p:nvPr/>
          </p:nvGrpSpPr>
          <p:grpSpPr>
            <a:xfrm>
              <a:off x="7853760" y="1770480"/>
              <a:ext cx="1713600" cy="3313800"/>
              <a:chOff x="7853760" y="1770480"/>
              <a:chExt cx="1713600" cy="3313800"/>
            </a:xfrm>
          </p:grpSpPr>
          <p:sp>
            <p:nvSpPr>
              <p:cNvPr id="211" name="Freeform 66"/>
              <p:cNvSpPr/>
              <p:nvPr/>
            </p:nvSpPr>
            <p:spPr>
              <a:xfrm>
                <a:off x="8280360" y="2419200"/>
                <a:ext cx="239760" cy="266508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65080"/>
                  <a:gd name="textAreaBottom" fmla="*/ 2665440 h 2665080"/>
                </a:gdLst>
                <a:ahLst/>
                <a:rect l="textAreaLeft" t="textAreaTop" r="textAreaRight" b="textAreaBottom"/>
                <a:pathLst>
                  <a:path w="151" h="1497">
                    <a:moveTo>
                      <a:pt x="91" y="1497"/>
                    </a:moveTo>
                    <a:cubicBezTo>
                      <a:pt x="87" y="1300"/>
                      <a:pt x="84" y="1103"/>
                      <a:pt x="91" y="952"/>
                    </a:cubicBezTo>
                    <a:cubicBezTo>
                      <a:pt x="98" y="801"/>
                      <a:pt x="151" y="748"/>
                      <a:pt x="136" y="589"/>
                    </a:cubicBezTo>
                    <a:cubicBezTo>
                      <a:pt x="121" y="430"/>
                      <a:pt x="60" y="215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7"/>
              <p:cNvGrpSpPr/>
              <p:nvPr/>
            </p:nvGrpSpPr>
            <p:grpSpPr>
              <a:xfrm>
                <a:off x="7853760" y="1963080"/>
                <a:ext cx="617040" cy="649080"/>
                <a:chOff x="7853760" y="1963080"/>
                <a:chExt cx="617040" cy="649080"/>
              </a:xfrm>
            </p:grpSpPr>
            <p:sp>
              <p:nvSpPr>
                <p:cNvPr id="213" name="Freeform 68"/>
                <p:cNvSpPr/>
                <p:nvPr/>
              </p:nvSpPr>
              <p:spPr>
                <a:xfrm rot="7787400">
                  <a:off x="8039880" y="1963800"/>
                  <a:ext cx="263880" cy="558000"/>
                </a:xfrm>
                <a:custGeom>
                  <a:avLst/>
                  <a:gdLst>
                    <a:gd name="textAreaLeft" fmla="*/ 0 w 263880"/>
                    <a:gd name="textAreaRight" fmla="*/ 264240 w 26388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9"/>
                <p:cNvSpPr/>
                <p:nvPr/>
              </p:nvSpPr>
              <p:spPr>
                <a:xfrm flipH="1" rot="9007200">
                  <a:off x="7977960" y="2036520"/>
                  <a:ext cx="219960" cy="557640"/>
                </a:xfrm>
                <a:custGeom>
                  <a:avLst/>
                  <a:gdLst>
                    <a:gd name="textAreaLeft" fmla="*/ -360 w 219960"/>
                    <a:gd name="textAreaRight" fmla="*/ 219960 w 21996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70"/>
              <p:cNvGrpSpPr/>
              <p:nvPr/>
            </p:nvGrpSpPr>
            <p:grpSpPr>
              <a:xfrm>
                <a:off x="7898400" y="2810520"/>
                <a:ext cx="645480" cy="597600"/>
                <a:chOff x="7898400" y="2810520"/>
                <a:chExt cx="645480" cy="597600"/>
              </a:xfrm>
            </p:grpSpPr>
            <p:sp>
              <p:nvSpPr>
                <p:cNvPr id="216" name="Freeform 71"/>
                <p:cNvSpPr/>
                <p:nvPr/>
              </p:nvSpPr>
              <p:spPr>
                <a:xfrm rot="6801600">
                  <a:off x="8103240" y="2763360"/>
                  <a:ext cx="263880" cy="558000"/>
                </a:xfrm>
                <a:custGeom>
                  <a:avLst/>
                  <a:gdLst>
                    <a:gd name="textAreaLeft" fmla="*/ 0 w 263880"/>
                    <a:gd name="textAreaRight" fmla="*/ 264240 w 263880"/>
                    <a:gd name="textAreaTop" fmla="*/ 0 h 558000"/>
                    <a:gd name="textAreaBottom" fmla="*/ 558360 h 55800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72"/>
                <p:cNvSpPr/>
                <p:nvPr/>
              </p:nvSpPr>
              <p:spPr>
                <a:xfrm flipH="1" rot="8021400">
                  <a:off x="8065800" y="2856960"/>
                  <a:ext cx="219960" cy="557640"/>
                </a:xfrm>
                <a:custGeom>
                  <a:avLst/>
                  <a:gdLst>
                    <a:gd name="textAreaLeft" fmla="*/ -360 w 219960"/>
                    <a:gd name="textAreaRight" fmla="*/ 219960 w 21996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Freeform 73"/>
              <p:cNvSpPr/>
              <p:nvPr/>
            </p:nvSpPr>
            <p:spPr>
              <a:xfrm>
                <a:off x="8496360" y="2337480"/>
                <a:ext cx="649080" cy="1454040"/>
              </a:xfrm>
              <a:custGeom>
                <a:avLst/>
                <a:gdLst/>
                <a:ahLst/>
                <a:rect l="l" t="t" r="r" b="b"/>
                <a:pathLst>
                  <a:path w="409" h="817">
                    <a:moveTo>
                      <a:pt x="0" y="817"/>
                    </a:moveTo>
                    <a:cubicBezTo>
                      <a:pt x="106" y="741"/>
                      <a:pt x="213" y="666"/>
                      <a:pt x="273" y="545"/>
                    </a:cubicBezTo>
                    <a:cubicBezTo>
                      <a:pt x="333" y="424"/>
                      <a:pt x="340" y="182"/>
                      <a:pt x="363" y="91"/>
                    </a:cubicBezTo>
                    <a:cubicBezTo>
                      <a:pt x="386" y="0"/>
                      <a:pt x="397" y="0"/>
                      <a:pt x="409" y="0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Group 74"/>
              <p:cNvGrpSpPr/>
              <p:nvPr/>
            </p:nvGrpSpPr>
            <p:grpSpPr>
              <a:xfrm>
                <a:off x="8245440" y="2174400"/>
                <a:ext cx="601200" cy="684720"/>
                <a:chOff x="8245440" y="2174400"/>
                <a:chExt cx="601200" cy="684720"/>
              </a:xfrm>
            </p:grpSpPr>
            <p:sp>
              <p:nvSpPr>
                <p:cNvPr id="220" name="Freeform 75"/>
                <p:cNvSpPr/>
                <p:nvPr/>
              </p:nvSpPr>
              <p:spPr>
                <a:xfrm rot="12202200">
                  <a:off x="8496360" y="2212560"/>
                  <a:ext cx="235800" cy="62532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625320"/>
                    <a:gd name="textAreaBottom" fmla="*/ 625680 h 62532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6"/>
                <p:cNvSpPr/>
                <p:nvPr/>
              </p:nvSpPr>
              <p:spPr>
                <a:xfrm flipH="1" rot="13421400">
                  <a:off x="8433720" y="2155320"/>
                  <a:ext cx="196560" cy="625320"/>
                </a:xfrm>
                <a:custGeom>
                  <a:avLst/>
                  <a:gdLst>
                    <a:gd name="textAreaLeft" fmla="*/ 360 w 196560"/>
                    <a:gd name="textAreaRight" fmla="*/ 197280 w 196560"/>
                    <a:gd name="textAreaTop" fmla="*/ 0 h 625320"/>
                    <a:gd name="textAreaBottom" fmla="*/ 625680 h 62532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77"/>
              <p:cNvGrpSpPr/>
              <p:nvPr/>
            </p:nvGrpSpPr>
            <p:grpSpPr>
              <a:xfrm>
                <a:off x="8966160" y="1770480"/>
                <a:ext cx="601200" cy="684720"/>
                <a:chOff x="8966160" y="1770480"/>
                <a:chExt cx="601200" cy="684720"/>
              </a:xfrm>
            </p:grpSpPr>
            <p:sp>
              <p:nvSpPr>
                <p:cNvPr id="223" name="Freeform 78"/>
                <p:cNvSpPr/>
                <p:nvPr/>
              </p:nvSpPr>
              <p:spPr>
                <a:xfrm rot="12202200">
                  <a:off x="9217080" y="1808640"/>
                  <a:ext cx="235800" cy="62532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625320"/>
                    <a:gd name="textAreaBottom" fmla="*/ 625680 h 62532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9"/>
                <p:cNvSpPr/>
                <p:nvPr/>
              </p:nvSpPr>
              <p:spPr>
                <a:xfrm flipH="1" rot="13421400">
                  <a:off x="9154440" y="1751400"/>
                  <a:ext cx="196560" cy="625320"/>
                </a:xfrm>
                <a:custGeom>
                  <a:avLst/>
                  <a:gdLst>
                    <a:gd name="textAreaLeft" fmla="*/ 360 w 196560"/>
                    <a:gd name="textAreaRight" fmla="*/ 197280 w 196560"/>
                    <a:gd name="textAreaTop" fmla="*/ 0 h 625320"/>
                    <a:gd name="textAreaBottom" fmla="*/ 625680 h 62532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80"/>
              <p:cNvGrpSpPr/>
              <p:nvPr/>
            </p:nvGrpSpPr>
            <p:grpSpPr>
              <a:xfrm>
                <a:off x="8460000" y="2868120"/>
                <a:ext cx="514080" cy="498240"/>
                <a:chOff x="8460000" y="2868120"/>
                <a:chExt cx="514080" cy="498240"/>
              </a:xfrm>
            </p:grpSpPr>
            <p:sp>
              <p:nvSpPr>
                <p:cNvPr id="226" name="Freeform 81"/>
                <p:cNvSpPr/>
                <p:nvPr/>
              </p:nvSpPr>
              <p:spPr>
                <a:xfrm rot="6801600">
                  <a:off x="8612640" y="2851920"/>
                  <a:ext cx="241200" cy="41976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419760"/>
                    <a:gd name="textAreaBottom" fmla="*/ 420120 h 4197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82"/>
                <p:cNvSpPr/>
                <p:nvPr/>
              </p:nvSpPr>
              <p:spPr>
                <a:xfrm flipH="1" rot="8021400">
                  <a:off x="8580240" y="2938680"/>
                  <a:ext cx="201240" cy="419760"/>
                </a:xfrm>
                <a:custGeom>
                  <a:avLst/>
                  <a:gdLst>
                    <a:gd name="textAreaLeft" fmla="*/ -360 w 201240"/>
                    <a:gd name="textAreaRight" fmla="*/ 201240 w 201240"/>
                    <a:gd name="textAreaTop" fmla="*/ 0 h 419760"/>
                    <a:gd name="textAreaBottom" fmla="*/ 420120 h 4197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83"/>
              <p:cNvGrpSpPr/>
              <p:nvPr/>
            </p:nvGrpSpPr>
            <p:grpSpPr>
              <a:xfrm>
                <a:off x="8967600" y="2589840"/>
                <a:ext cx="482040" cy="402840"/>
                <a:chOff x="8967600" y="2589840"/>
                <a:chExt cx="482040" cy="402840"/>
              </a:xfrm>
            </p:grpSpPr>
            <p:sp>
              <p:nvSpPr>
                <p:cNvPr id="229" name="Freeform 84"/>
                <p:cNvSpPr/>
                <p:nvPr/>
              </p:nvSpPr>
              <p:spPr>
                <a:xfrm rot="4020000">
                  <a:off x="9086760" y="2573640"/>
                  <a:ext cx="242640" cy="41976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419760"/>
                    <a:gd name="textAreaBottom" fmla="*/ 420120 h 41976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5"/>
                <p:cNvSpPr/>
                <p:nvPr/>
              </p:nvSpPr>
              <p:spPr>
                <a:xfrm flipH="1" rot="5239200">
                  <a:off x="9133560" y="2671200"/>
                  <a:ext cx="202680" cy="420120"/>
                </a:xfrm>
                <a:custGeom>
                  <a:avLst/>
                  <a:gdLst>
                    <a:gd name="textAreaLeft" fmla="*/ -360 w 202680"/>
                    <a:gd name="textAreaRight" fmla="*/ 202680 w 20268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544" h="1406">
                      <a:moveTo>
                        <a:pt x="272" y="1406"/>
                      </a:moveTo>
                      <a:cubicBezTo>
                        <a:pt x="136" y="1137"/>
                        <a:pt x="0" y="869"/>
                        <a:pt x="45" y="635"/>
                      </a:cubicBezTo>
                      <a:cubicBezTo>
                        <a:pt x="90" y="401"/>
                        <a:pt x="317" y="200"/>
                        <a:pt x="544" y="0"/>
                      </a:cubicBezTo>
                    </a:path>
                  </a:pathLst>
                </a:custGeom>
                <a:solidFill>
                  <a:srgbClr val="009900"/>
                </a:solidFill>
                <a:ln w="381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" name="Group 86"/>
            <p:cNvGrpSpPr/>
            <p:nvPr/>
          </p:nvGrpSpPr>
          <p:grpSpPr>
            <a:xfrm>
              <a:off x="8137800" y="5084640"/>
              <a:ext cx="649440" cy="1077840"/>
              <a:chOff x="8137800" y="5084640"/>
              <a:chExt cx="649440" cy="1077840"/>
            </a:xfrm>
          </p:grpSpPr>
          <p:sp>
            <p:nvSpPr>
              <p:cNvPr id="232" name="Oval 87"/>
              <p:cNvSpPr/>
              <p:nvPr/>
            </p:nvSpPr>
            <p:spPr>
              <a:xfrm>
                <a:off x="8137800" y="5700600"/>
                <a:ext cx="647640" cy="4618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88"/>
              <p:cNvSpPr/>
              <p:nvPr/>
            </p:nvSpPr>
            <p:spPr>
              <a:xfrm>
                <a:off x="8137800" y="5187600"/>
                <a:ext cx="647640" cy="7189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89"/>
              <p:cNvSpPr/>
              <p:nvPr/>
            </p:nvSpPr>
            <p:spPr>
              <a:xfrm>
                <a:off x="8137800" y="5084640"/>
                <a:ext cx="649440" cy="102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6"/>
          <p:cNvGrpSpPr/>
          <p:nvPr/>
        </p:nvGrpSpPr>
        <p:grpSpPr>
          <a:xfrm>
            <a:off x="863640" y="3933720"/>
            <a:ext cx="9000720" cy="2735280"/>
            <a:chOff x="863640" y="3933720"/>
            <a:chExt cx="9000720" cy="2735280"/>
          </a:xfrm>
        </p:grpSpPr>
        <p:sp>
          <p:nvSpPr>
            <p:cNvPr id="236" name="Rectangle 47"/>
            <p:cNvSpPr/>
            <p:nvPr/>
          </p:nvSpPr>
          <p:spPr>
            <a:xfrm>
              <a:off x="863640" y="3933720"/>
              <a:ext cx="262080" cy="27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9602280" y="3933720"/>
              <a:ext cx="262080" cy="27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9"/>
            <p:cNvSpPr/>
            <p:nvPr/>
          </p:nvSpPr>
          <p:spPr>
            <a:xfrm>
              <a:off x="928440" y="4149720"/>
              <a:ext cx="880380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0"/>
            <p:cNvSpPr/>
            <p:nvPr/>
          </p:nvSpPr>
          <p:spPr>
            <a:xfrm>
              <a:off x="928440" y="6237360"/>
              <a:ext cx="880380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63440" y="1916280"/>
            <a:ext cx="1080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чало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зя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ленькие листья (традесканция приречная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ние (пеларгония зональная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упный лист (бегония королевская) и положили в стакан с водой объемом 50мл, отметили уровень воды. Чтобы исключить испарение, залили растительное ма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1234\Documents\МБОУ ДОД ЦДТ\НПК 2\испарение воды\IMG_7288.JPG"/>
          <p:cNvPicPr/>
          <p:nvPr/>
        </p:nvPicPr>
        <p:blipFill>
          <a:blip r:embed="rId1"/>
          <a:stretch/>
        </p:blipFill>
        <p:spPr>
          <a:xfrm>
            <a:off x="3432240" y="360360"/>
            <a:ext cx="3840120" cy="2876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Users\1234\Documents\МБОУ ДОД ЦДТ\НПК 2\испарение воды\IMG_7289.JPG"/>
          <p:cNvPicPr/>
          <p:nvPr/>
        </p:nvPicPr>
        <p:blipFill>
          <a:blip r:embed="rId2"/>
          <a:stretch/>
        </p:blipFill>
        <p:spPr>
          <a:xfrm>
            <a:off x="426960" y="3524400"/>
            <a:ext cx="3706920" cy="2998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Users\1234\Documents\МБОУ ДОД ЦДТ\НПК 2\испарение воды\IMG_7290.JPG"/>
          <p:cNvPicPr/>
          <p:nvPr/>
        </p:nvPicPr>
        <p:blipFill>
          <a:blip r:embed="rId3"/>
          <a:stretch/>
        </p:blipFill>
        <p:spPr>
          <a:xfrm>
            <a:off x="6046920" y="3151080"/>
            <a:ext cx="3835440" cy="3372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3097080" y="32162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гония короле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2736720" y="54244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ларгония  з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6048360" y="6308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адеск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1234\Documents\МБОУ ДОД ЦДТ\НПК 2\черенкование нпк\Новая папка\IMG_7600.JPG"/>
          <p:cNvPicPr/>
          <p:nvPr/>
        </p:nvPicPr>
        <p:blipFill>
          <a:blip r:embed="rId1"/>
          <a:stretch/>
        </p:blipFill>
        <p:spPr>
          <a:xfrm>
            <a:off x="3024360" y="781200"/>
            <a:ext cx="4608360" cy="2286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44360" y="4352760"/>
            <a:ext cx="1000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5 дней сделали новую отметку, произошло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испар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Измерили объем испарившейся воды, вычислили площади листьев. Данные занесли в таблицу: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4360" y="2349360"/>
          <a:ext cx="9936360" cy="3687840"/>
        </p:xfrm>
        <a:graphic>
          <a:graphicData uri="http://schemas.openxmlformats.org/drawingml/2006/table">
            <a:tbl>
              <a:tblPr/>
              <a:tblGrid>
                <a:gridCol w="2016360"/>
                <a:gridCol w="2609640"/>
                <a:gridCol w="2314800"/>
                <a:gridCol w="29955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дескан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е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ларгония зона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гония королев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,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9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испарив-шейся воды, м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6:06:56Z</dcterms:created>
  <dc:creator>Admin</dc:creator>
  <dc:description/>
  <dc:language>en-US</dc:language>
  <cp:lastModifiedBy>snow</cp:lastModifiedBy>
  <dcterms:modified xsi:type="dcterms:W3CDTF">2020-01-03T13:20:02Z</dcterms:modified>
  <cp:revision>36</cp:revision>
  <dc:subject/>
  <dc:title>Испарение воды листьями</dc:title>
</cp:coreProperties>
</file>