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293-687F-45CB-8AA3-97AB8F11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F72-B06A-4387-B2EB-4FAEB73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ABB-134E-44CC-AEA2-AA43DBCC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B7D-B00B-430A-920C-2921E218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90F-F60B-405D-AE8D-6325B0D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5E4-405F-4912-B6C1-D8159CF8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4A6-548A-455E-BE1C-35A20E39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27B-4B2F-4032-9B5A-BA64DBB8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717-FBA4-4D34-818B-CB5413E0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F42-2BB7-4E26-B7BD-B77C897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BE0-4AEA-418C-960B-A2505E2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F51-0066-4504-9585-9A927EA8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7465-7962-44AE-B443-9E0B66FE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Как хлеб попал на сто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спитатель: Торлопова Инна Алексее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6T14:27:44Z</dcterms:created>
  <dc:creator>Даша</dc:creator>
  <dc:description/>
  <dc:language>en-US</dc:language>
  <cp:lastModifiedBy>Даша</cp:lastModifiedBy>
  <dcterms:modified xsi:type="dcterms:W3CDTF">2017-12-02T09:22:56Z</dcterms:modified>
  <cp:revision>4</cp:revision>
  <dc:subject/>
  <dc:title>Как хлеб попал на стол</dc:title>
</cp:coreProperties>
</file>