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gif" ContentType="image/gif"/>
  <Override PartName="/ppt/media/image8.jpeg" ContentType="image/jpeg"/>
  <Override PartName="/ppt/media/image10.jpeg" ContentType="image/jpeg"/>
  <Override PartName="/ppt/media/image25.gif" ContentType="image/gif"/>
  <Override PartName="/ppt/media/image12.jpeg" ContentType="image/jpeg"/>
  <Override PartName="/ppt/media/image13.png" ContentType="image/png"/>
  <Override PartName="/ppt/media/image7.jpeg" ContentType="image/jpeg"/>
  <Override PartName="/ppt/media/image15.gif" ContentType="image/gif"/>
  <Override PartName="/ppt/media/image11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0.jpeg" ContentType="image/jpeg"/>
  <Override PartName="/ppt/media/image19.jpeg" ContentType="image/jpeg"/>
  <Override PartName="/ppt/media/image18.gif" ContentType="image/gif"/>
  <Override PartName="/ppt/media/image16.png" ContentType="image/png"/>
  <Override PartName="/ppt/media/image21.jpeg" ContentType="image/jpeg"/>
  <Override PartName="/ppt/media/image17.gif" ContentType="image/gif"/>
  <Override PartName="/ppt/media/image14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23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5419-821E-4BC6-9DC1-0A5C80F7A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6595-3D95-4448-847E-27DC31D74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1AB8-9403-43EC-A69F-08D8E7831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88AD-5F64-4D46-B7A9-9A459BCDA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6CC8F-10F4-487A-B5C4-06E3D882C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401C8-16BE-4055-86BB-7AA567AF4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E45CF-4467-4DFB-B975-2125161BF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AE945-40F6-46A7-A2F9-E755AA1EA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19535-9D16-4182-9C0A-E83301BF5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E9005-97FB-4A0D-84C8-3C22A3B49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0AC9C-5F23-4C38-96F5-BE7583D2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2623-690E-4A8C-9DEA-F38B55A67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4C725-FBEC-4AD3-8277-8CB4C4CC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55E38-578D-4CC6-9840-346A0F662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4E8D4-4D29-4C4A-BBCE-0BAA47067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AD7CC-1F3C-4AB5-97AD-9647C53EE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C04D8-CCD0-49F7-A7C2-A1CBFE24D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69C8B-BDAC-47CB-94AF-1EAAAE5A2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C794F-E10C-4F9A-AAB1-088D7133D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45850-3B1B-4078-A589-8747BEA0D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8EF14-256A-4AAD-A0F2-B8F2940CC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270CE-9F5C-4F17-A2D0-671224D44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7DDA-FE21-41C1-B38B-2C9AEB874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D8798-3F7C-41B4-B7EF-29AB08FEE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3BF8B-C38E-4DF7-8B1A-88F2345C9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4FD1F-05F9-40D4-B40E-AC0FEBB7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72672-3E10-4E7C-9DD8-E4F7E2C36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29432-D822-43E7-9ED6-BC7CB3972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A52C8-63A5-4662-9572-45C4CE072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A277E-C3AA-4589-93B2-6B45DC172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0BEA-9DA2-45FA-84BD-BF251A466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56C8-5A23-4616-9715-AF67D78EF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F37A-D8DA-4AD4-A6E1-9713B0A60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6A04-384F-4773-9058-8016A508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B57A-CED9-4FFC-AB56-8CB14E5C0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E3CD-04CB-4BDE-861A-6BCF5B66B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4080" y="-21240"/>
            <a:ext cx="2869560" cy="3275280"/>
            <a:chOff x="6274080" y="-21240"/>
            <a:chExt cx="286956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4080" y="-21240"/>
              <a:ext cx="2869560" cy="2268720"/>
              <a:chOff x="6274080" y="-21240"/>
              <a:chExt cx="2869560" cy="226872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6600"/>
                    </a:gs>
                    <a:gs pos="100000">
                      <a:srgbClr val="003366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54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ff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54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4080" y="-21240"/>
                <a:ext cx="2866320" cy="2268720"/>
                <a:chOff x="6274080" y="-21240"/>
                <a:chExt cx="2866320" cy="226872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2160" y="843840"/>
                  <a:ext cx="1063440" cy="1140840"/>
                  <a:chOff x="7832160" y="843840"/>
                  <a:chExt cx="1063440" cy="114084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57280" y="1136160"/>
                    <a:ext cx="89136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54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9600" y="1606320"/>
                    <a:ext cx="465840" cy="24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54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54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54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54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54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6480" y="695880"/>
                  <a:ext cx="1303920" cy="668880"/>
                  <a:chOff x="7836480" y="695880"/>
                  <a:chExt cx="1303920" cy="66888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960" y="824400"/>
                    <a:ext cx="86148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54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53680" y="1037160"/>
                    <a:ext cx="456840" cy="26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54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1960" y="657720"/>
                  <a:ext cx="1223640" cy="417600"/>
                  <a:chOff x="7851960" y="657720"/>
                  <a:chExt cx="122364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000" cy="170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54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680" y="801000"/>
                    <a:ext cx="425160" cy="246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54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3200" y="655200"/>
                    <a:ext cx="720360" cy="106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54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54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840" y="420120"/>
                  <a:ext cx="984240" cy="325800"/>
                  <a:chOff x="7845840" y="420120"/>
                  <a:chExt cx="984240" cy="32580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7360"/>
                    <a:ext cx="630000" cy="106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54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8000" y="456480"/>
                    <a:ext cx="335880" cy="177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54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9760" y="907200"/>
                  <a:ext cx="1061640" cy="1141560"/>
                  <a:chOff x="6539760" y="907200"/>
                  <a:chExt cx="1061640" cy="114156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5720" y="1196640"/>
                    <a:ext cx="880200" cy="154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54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60280" y="1664640"/>
                    <a:ext cx="471600" cy="254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54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840"/>
                  <a:ext cx="1266480" cy="1052280"/>
                  <a:chOff x="6303960" y="861840"/>
                  <a:chExt cx="1266480" cy="105228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5120" y="1112040"/>
                    <a:ext cx="928440" cy="178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54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54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7040" y="827280"/>
                  <a:ext cx="1287720" cy="828720"/>
                  <a:chOff x="6287040" y="827280"/>
                  <a:chExt cx="128772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80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54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23000"/>
                    <a:ext cx="477360" cy="2390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54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4080" y="787320"/>
                  <a:ext cx="1302120" cy="668520"/>
                  <a:chOff x="6274080" y="787320"/>
                  <a:chExt cx="13021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54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4280"/>
                    <a:ext cx="461520" cy="266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54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920" cy="416160"/>
                  <a:chOff x="6338880" y="749520"/>
                  <a:chExt cx="122292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600" y="801720"/>
                    <a:ext cx="792000" cy="156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54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93520"/>
                    <a:ext cx="425160" cy="244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54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1280" y="745200"/>
                    <a:ext cx="720360" cy="106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54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54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54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54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54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54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880" y="221400"/>
                  <a:ext cx="900720" cy="628560"/>
                  <a:chOff x="6752880" y="221400"/>
                  <a:chExt cx="900720" cy="62856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54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69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54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54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54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54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54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5480" cy="809280"/>
                  <a:chOff x="7287480" y="-21240"/>
                  <a:chExt cx="465480" cy="80928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3560" y="461160"/>
                    <a:ext cx="54036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54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3800" y="61200"/>
                    <a:ext cx="29592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54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3600"/>
                  <a:ext cx="964080" cy="461160"/>
                  <a:chOff x="7792920" y="273600"/>
                  <a:chExt cx="964080" cy="4611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400"/>
                    <a:ext cx="63036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54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404920" y="329760"/>
                    <a:ext cx="33156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54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7520"/>
                  <a:ext cx="916560" cy="604440"/>
                  <a:chOff x="7737840" y="137520"/>
                  <a:chExt cx="916560" cy="60444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612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54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8720" y="212760"/>
                    <a:ext cx="33480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54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9966"/>
                    </a:gs>
                    <a:gs pos="100000">
                      <a:srgbClr val="ffff99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54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366"/>
                    </a:gs>
                    <a:gs pos="100000">
                      <a:srgbClr val="ff9966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54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6200" y="-11160"/>
                  <a:ext cx="497520" cy="790560"/>
                  <a:chOff x="7666200" y="-11160"/>
                  <a:chExt cx="497520" cy="79056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5320" y="467280"/>
                    <a:ext cx="541800" cy="950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54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160" y="79200"/>
                    <a:ext cx="294120" cy="147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54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54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54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54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54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0760" y="930960"/>
                  <a:ext cx="917640" cy="1247760"/>
                  <a:chOff x="6710760" y="930960"/>
                  <a:chExt cx="917640" cy="124776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1160" y="1262520"/>
                    <a:ext cx="89892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54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2920" y="1787040"/>
                    <a:ext cx="475920" cy="25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54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5320" y="979560"/>
                  <a:ext cx="618480" cy="1248120"/>
                  <a:chOff x="7015320" y="979560"/>
                  <a:chExt cx="618480" cy="124812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85080" y="1314360"/>
                    <a:ext cx="831960" cy="16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54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6960" y="1853640"/>
                    <a:ext cx="43416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54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320" y="1001160"/>
                  <a:ext cx="364320" cy="1217160"/>
                  <a:chOff x="7312320" y="1001160"/>
                  <a:chExt cx="364320" cy="121716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4480" y="1328760"/>
                    <a:ext cx="788400" cy="145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54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1480" y="1877400"/>
                    <a:ext cx="422280" cy="223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54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54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54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2160"/>
                  <a:chOff x="7786800" y="956160"/>
                  <a:chExt cx="732600" cy="126216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680" y="1289160"/>
                    <a:ext cx="84528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54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79480" y="1839960"/>
                    <a:ext cx="45504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54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200" y="1005120"/>
                  <a:ext cx="511560" cy="1242360"/>
                  <a:chOff x="7756200" y="1005120"/>
                  <a:chExt cx="51156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3360" y="1354680"/>
                    <a:ext cx="828000" cy="125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54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1120" y="1906560"/>
                    <a:ext cx="44352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54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600"/>
                  <a:chOff x="7733880" y="1058760"/>
                  <a:chExt cx="290160" cy="115560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5400" y="1375920"/>
                    <a:ext cx="75060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54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1760" y="1898640"/>
                    <a:ext cx="408960" cy="197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54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499880" y="1077840"/>
                  <a:ext cx="277920" cy="1131120"/>
                  <a:chOff x="7499880" y="1077840"/>
                  <a:chExt cx="277920" cy="113112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17000" y="1406880"/>
                    <a:ext cx="748800" cy="95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54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5480" y="1925640"/>
                    <a:ext cx="401040" cy="151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54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88640" cy="117792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464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0080" cy="122112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prstGeom prst="pie">
                <a:avLst/>
              </a:pr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7648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88800" cy="1179000"/>
              </a:xfrm>
              <a:prstGeom prst="pie">
                <a:avLst/>
              </a:pr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prstGeom prst="pie">
                <a:avLst/>
              </a:pr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prstGeom prst="pie">
                <a:avLst/>
              </a:pr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99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5125A-AE31-4637-B5E1-832034845A5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FB4F6-F4AE-4DE6-A0D2-6842BEA98F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Group 2"/>
          <p:cNvGrpSpPr/>
          <p:nvPr/>
        </p:nvGrpSpPr>
        <p:grpSpPr>
          <a:xfrm>
            <a:off x="2010960" y="245520"/>
            <a:ext cx="6896160" cy="5452560"/>
            <a:chOff x="2010960" y="245520"/>
            <a:chExt cx="6896160" cy="5452560"/>
          </a:xfrm>
        </p:grpSpPr>
        <p:grpSp>
          <p:nvGrpSpPr>
            <p:cNvPr id="218" name="Group 3"/>
            <p:cNvGrpSpPr/>
            <p:nvPr/>
          </p:nvGrpSpPr>
          <p:grpSpPr>
            <a:xfrm>
              <a:off x="3484080" y="976320"/>
              <a:ext cx="945720" cy="709560"/>
              <a:chOff x="3484080" y="976320"/>
              <a:chExt cx="945720" cy="709560"/>
            </a:xfrm>
          </p:grpSpPr>
          <p:sp>
            <p:nvSpPr>
              <p:cNvPr id="219" name="Oval 4"/>
              <p:cNvSpPr/>
              <p:nvPr/>
            </p:nvSpPr>
            <p:spPr>
              <a:xfrm>
                <a:off x="3484080" y="97632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20" name="Oval 5"/>
              <p:cNvSpPr/>
              <p:nvPr/>
            </p:nvSpPr>
            <p:spPr>
              <a:xfrm>
                <a:off x="3823920" y="128808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grpSp>
          <p:nvGrpSpPr>
            <p:cNvPr id="221" name="Group 6"/>
            <p:cNvGrpSpPr/>
            <p:nvPr/>
          </p:nvGrpSpPr>
          <p:grpSpPr>
            <a:xfrm>
              <a:off x="2010960" y="245520"/>
              <a:ext cx="6896160" cy="5452560"/>
              <a:chOff x="2010960" y="245520"/>
              <a:chExt cx="6896160" cy="5452560"/>
            </a:xfrm>
          </p:grpSpPr>
          <p:grpSp>
            <p:nvGrpSpPr>
              <p:cNvPr id="222" name="Group 7"/>
              <p:cNvGrpSpPr/>
              <p:nvPr/>
            </p:nvGrpSpPr>
            <p:grpSpPr>
              <a:xfrm>
                <a:off x="2010960" y="245520"/>
                <a:ext cx="6891120" cy="5452560"/>
                <a:chOff x="2010960" y="245520"/>
                <a:chExt cx="6891120" cy="5452560"/>
              </a:xfrm>
            </p:grpSpPr>
            <p:grpSp>
              <p:nvGrpSpPr>
                <p:cNvPr id="223" name="Group 8"/>
                <p:cNvGrpSpPr/>
                <p:nvPr/>
              </p:nvGrpSpPr>
              <p:grpSpPr>
                <a:xfrm>
                  <a:off x="3735720" y="1265040"/>
                  <a:ext cx="3599280" cy="2654280"/>
                  <a:chOff x="3735720" y="1265040"/>
                  <a:chExt cx="3599280" cy="2654280"/>
                </a:xfrm>
              </p:grpSpPr>
              <p:sp>
                <p:nvSpPr>
                  <p:cNvPr id="224" name="Oval 9"/>
                  <p:cNvSpPr/>
                  <p:nvPr/>
                </p:nvSpPr>
                <p:spPr>
                  <a:xfrm>
                    <a:off x="3735720" y="1265040"/>
                    <a:ext cx="3599280" cy="2654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6600"/>
                      </a:gs>
                      <a:gs pos="100000">
                        <a:srgbClr val="003366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54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25" name="Oval 10"/>
                  <p:cNvSpPr/>
                  <p:nvPr/>
                </p:nvSpPr>
                <p:spPr>
                  <a:xfrm>
                    <a:off x="5109480" y="2236680"/>
                    <a:ext cx="712440" cy="498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66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54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26" name="Group 11"/>
                <p:cNvGrpSpPr/>
                <p:nvPr/>
              </p:nvGrpSpPr>
              <p:grpSpPr>
                <a:xfrm>
                  <a:off x="2010960" y="245520"/>
                  <a:ext cx="6891120" cy="5452560"/>
                  <a:chOff x="2010960" y="245520"/>
                  <a:chExt cx="6891120" cy="5452560"/>
                </a:xfrm>
              </p:grpSpPr>
              <p:grpSp>
                <p:nvGrpSpPr>
                  <p:cNvPr id="227" name="Group 12"/>
                  <p:cNvGrpSpPr/>
                  <p:nvPr/>
                </p:nvGrpSpPr>
                <p:grpSpPr>
                  <a:xfrm>
                    <a:off x="5760000" y="2323080"/>
                    <a:ext cx="2560320" cy="2741400"/>
                    <a:chOff x="5760000" y="2323080"/>
                    <a:chExt cx="2560320" cy="2741400"/>
                  </a:xfrm>
                </p:grpSpPr>
                <p:sp>
                  <p:nvSpPr>
                    <p:cNvPr id="228" name="Freeform 13"/>
                    <p:cNvSpPr/>
                    <p:nvPr/>
                  </p:nvSpPr>
                  <p:spPr>
                    <a:xfrm rot="2711400">
                      <a:off x="5582520" y="3021120"/>
                      <a:ext cx="212868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9" name="Freeform 14"/>
                    <p:cNvSpPr/>
                    <p:nvPr/>
                  </p:nvSpPr>
                  <p:spPr>
                    <a:xfrm rot="2711400">
                      <a:off x="7134480" y="4145040"/>
                      <a:ext cx="113976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0" name="Group 15"/>
                  <p:cNvGrpSpPr/>
                  <p:nvPr/>
                </p:nvGrpSpPr>
                <p:grpSpPr>
                  <a:xfrm>
                    <a:off x="5787360" y="2146320"/>
                    <a:ext cx="3040200" cy="2527200"/>
                    <a:chOff x="5787360" y="2146320"/>
                    <a:chExt cx="3040200" cy="2527200"/>
                  </a:xfrm>
                </p:grpSpPr>
                <p:sp>
                  <p:nvSpPr>
                    <p:cNvPr id="231" name="Freeform 16"/>
                    <p:cNvSpPr/>
                    <p:nvPr/>
                  </p:nvSpPr>
                  <p:spPr>
                    <a:xfrm rot="2103600">
                      <a:off x="5707080" y="2749320"/>
                      <a:ext cx="2235600" cy="427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2" name="Freeform 17"/>
                    <p:cNvSpPr/>
                    <p:nvPr/>
                  </p:nvSpPr>
                  <p:spPr>
                    <a:xfrm rot="2103600">
                      <a:off x="7542360" y="3717360"/>
                      <a:ext cx="1200960" cy="671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3" name="Group 18"/>
                  <p:cNvGrpSpPr/>
                  <p:nvPr/>
                </p:nvGrpSpPr>
                <p:grpSpPr>
                  <a:xfrm>
                    <a:off x="5774400" y="2058840"/>
                    <a:ext cx="3098520" cy="1995480"/>
                    <a:chOff x="5774400" y="2058840"/>
                    <a:chExt cx="3098520" cy="1995480"/>
                  </a:xfrm>
                </p:grpSpPr>
                <p:sp>
                  <p:nvSpPr>
                    <p:cNvPr id="234" name="Freeform 19"/>
                    <p:cNvSpPr/>
                    <p:nvPr/>
                  </p:nvSpPr>
                  <p:spPr>
                    <a:xfrm rot="1582800">
                      <a:off x="5746680" y="2514600"/>
                      <a:ext cx="2140560" cy="376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5" name="Freeform 20"/>
                    <p:cNvSpPr/>
                    <p:nvPr/>
                  </p:nvSpPr>
                  <p:spPr>
                    <a:xfrm rot="1582800">
                      <a:off x="7652880" y="3242160"/>
                      <a:ext cx="1149120" cy="587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6" name="Group 21"/>
                  <p:cNvGrpSpPr/>
                  <p:nvPr/>
                </p:nvGrpSpPr>
                <p:grpSpPr>
                  <a:xfrm>
                    <a:off x="5767920" y="1968480"/>
                    <a:ext cx="3134160" cy="1608480"/>
                    <a:chOff x="5767920" y="1968480"/>
                    <a:chExt cx="3134160" cy="1608480"/>
                  </a:xfrm>
                </p:grpSpPr>
                <p:sp>
                  <p:nvSpPr>
                    <p:cNvPr id="237" name="Freeform 22"/>
                    <p:cNvSpPr/>
                    <p:nvPr/>
                  </p:nvSpPr>
                  <p:spPr>
                    <a:xfrm rot="1080000">
                      <a:off x="5781240" y="2277720"/>
                      <a:ext cx="2067480" cy="414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8" name="Freeform 23"/>
                    <p:cNvSpPr/>
                    <p:nvPr/>
                  </p:nvSpPr>
                  <p:spPr>
                    <a:xfrm rot="1080000">
                      <a:off x="7718400" y="2772720"/>
                      <a:ext cx="1110600" cy="648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9" name="Group 24"/>
                  <p:cNvGrpSpPr/>
                  <p:nvPr/>
                </p:nvGrpSpPr>
                <p:grpSpPr>
                  <a:xfrm>
                    <a:off x="5805720" y="1876680"/>
                    <a:ext cx="2939040" cy="1001880"/>
                    <a:chOff x="5805720" y="1876680"/>
                    <a:chExt cx="2939040" cy="1001880"/>
                  </a:xfrm>
                </p:grpSpPr>
                <p:sp>
                  <p:nvSpPr>
                    <p:cNvPr id="240" name="Freeform 25"/>
                    <p:cNvSpPr/>
                    <p:nvPr/>
                  </p:nvSpPr>
                  <p:spPr>
                    <a:xfrm rot="463200">
                      <a:off x="5823000" y="2002680"/>
                      <a:ext cx="1903680" cy="3852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1" name="Freeform 26"/>
                    <p:cNvSpPr/>
                    <p:nvPr/>
                  </p:nvSpPr>
                  <p:spPr>
                    <a:xfrm rot="463200">
                      <a:off x="7685640" y="2208960"/>
                      <a:ext cx="1023120" cy="603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2" name="Group 27"/>
                  <p:cNvGrpSpPr/>
                  <p:nvPr/>
                </p:nvGrpSpPr>
                <p:grpSpPr>
                  <a:xfrm>
                    <a:off x="5851080" y="1811880"/>
                    <a:ext cx="2658960" cy="444240"/>
                    <a:chOff x="5851080" y="1811880"/>
                    <a:chExt cx="2658960" cy="444240"/>
                  </a:xfrm>
                </p:grpSpPr>
                <p:sp>
                  <p:nvSpPr>
                    <p:cNvPr id="243" name="Freeform 28"/>
                    <p:cNvSpPr/>
                    <p:nvPr/>
                  </p:nvSpPr>
                  <p:spPr>
                    <a:xfrm rot="21515400">
                      <a:off x="5853960" y="1847520"/>
                      <a:ext cx="1730880" cy="271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4" name="Freeform 29"/>
                    <p:cNvSpPr/>
                    <p:nvPr/>
                  </p:nvSpPr>
                  <p:spPr>
                    <a:xfrm rot="21515400">
                      <a:off x="7575480" y="1823400"/>
                      <a:ext cx="929520" cy="4212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5" name="Group 30"/>
                  <p:cNvGrpSpPr/>
                  <p:nvPr/>
                </p:nvGrpSpPr>
                <p:grpSpPr>
                  <a:xfrm>
                    <a:off x="5788440" y="1301040"/>
                    <a:ext cx="2364120" cy="786960"/>
                    <a:chOff x="5788440" y="1301040"/>
                    <a:chExt cx="2364120" cy="786960"/>
                  </a:xfrm>
                </p:grpSpPr>
                <p:sp>
                  <p:nvSpPr>
                    <p:cNvPr id="246" name="Freeform 31"/>
                    <p:cNvSpPr/>
                    <p:nvPr/>
                  </p:nvSpPr>
                  <p:spPr>
                    <a:xfrm rot="20797200">
                      <a:off x="5798160" y="1650240"/>
                      <a:ext cx="1520280" cy="265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7" name="Freeform 32"/>
                    <p:cNvSpPr/>
                    <p:nvPr/>
                  </p:nvSpPr>
                  <p:spPr>
                    <a:xfrm rot="20797200">
                      <a:off x="7298640" y="1389600"/>
                      <a:ext cx="816480" cy="415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8" name="Group 33"/>
                  <p:cNvGrpSpPr/>
                  <p:nvPr/>
                </p:nvGrpSpPr>
                <p:grpSpPr>
                  <a:xfrm>
                    <a:off x="2646000" y="2474280"/>
                    <a:ext cx="2556000" cy="2739600"/>
                    <a:chOff x="2646000" y="2474280"/>
                    <a:chExt cx="2556000" cy="2739600"/>
                  </a:xfrm>
                </p:grpSpPr>
                <p:sp>
                  <p:nvSpPr>
                    <p:cNvPr id="249" name="Freeform 34"/>
                    <p:cNvSpPr/>
                    <p:nvPr/>
                  </p:nvSpPr>
                  <p:spPr>
                    <a:xfrm flipH="1" rot="18888600">
                      <a:off x="3252240" y="3171600"/>
                      <a:ext cx="2126520" cy="38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0" name="Freeform 35"/>
                    <p:cNvSpPr/>
                    <p:nvPr/>
                  </p:nvSpPr>
                  <p:spPr>
                    <a:xfrm flipH="1" rot="18888600">
                      <a:off x="2691000" y="4294800"/>
                      <a:ext cx="1142280" cy="60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1" name="Group 36"/>
                  <p:cNvGrpSpPr/>
                  <p:nvPr/>
                </p:nvGrpSpPr>
                <p:grpSpPr>
                  <a:xfrm>
                    <a:off x="2084040" y="2365200"/>
                    <a:ext cx="3039840" cy="2534760"/>
                    <a:chOff x="2084040" y="2365200"/>
                    <a:chExt cx="3039840" cy="2534760"/>
                  </a:xfrm>
                </p:grpSpPr>
                <p:sp>
                  <p:nvSpPr>
                    <p:cNvPr id="252" name="Freeform 37"/>
                    <p:cNvSpPr/>
                    <p:nvPr/>
                  </p:nvSpPr>
                  <p:spPr>
                    <a:xfrm flipH="1" rot="19496400">
                      <a:off x="2969640" y="2967840"/>
                      <a:ext cx="2234160" cy="427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38"/>
                    <p:cNvSpPr/>
                    <p:nvPr/>
                  </p:nvSpPr>
                  <p:spPr>
                    <a:xfrm flipH="1" rot="19496400">
                      <a:off x="2168280" y="3941280"/>
                      <a:ext cx="1199880" cy="675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39"/>
                  <p:cNvGrpSpPr/>
                  <p:nvPr/>
                </p:nvGrpSpPr>
                <p:grpSpPr>
                  <a:xfrm>
                    <a:off x="2040480" y="2278800"/>
                    <a:ext cx="3096360" cy="1991880"/>
                    <a:chOff x="2040480" y="2278800"/>
                    <a:chExt cx="3096360" cy="1991880"/>
                  </a:xfrm>
                </p:grpSpPr>
                <p:sp>
                  <p:nvSpPr>
                    <p:cNvPr id="255" name="Freeform 40"/>
                    <p:cNvSpPr/>
                    <p:nvPr/>
                  </p:nvSpPr>
                  <p:spPr>
                    <a:xfrm flipH="1" rot="20017200">
                      <a:off x="3023640" y="2734920"/>
                      <a:ext cx="2140920" cy="374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41"/>
                    <p:cNvSpPr/>
                    <p:nvPr/>
                  </p:nvSpPr>
                  <p:spPr>
                    <a:xfrm flipH="1" rot="20017200">
                      <a:off x="2110680" y="3458160"/>
                      <a:ext cx="1149120" cy="587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42"/>
                  <p:cNvGrpSpPr/>
                  <p:nvPr/>
                </p:nvGrpSpPr>
                <p:grpSpPr>
                  <a:xfrm>
                    <a:off x="2010960" y="2183760"/>
                    <a:ext cx="3134520" cy="1610640"/>
                    <a:chOff x="2010960" y="2183760"/>
                    <a:chExt cx="3134520" cy="1610640"/>
                  </a:xfrm>
                </p:grpSpPr>
                <p:sp>
                  <p:nvSpPr>
                    <p:cNvPr id="258" name="Freeform 43"/>
                    <p:cNvSpPr/>
                    <p:nvPr/>
                  </p:nvSpPr>
                  <p:spPr>
                    <a:xfrm flipH="1" rot="20520000">
                      <a:off x="3063600" y="2493000"/>
                      <a:ext cx="2067840" cy="414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44"/>
                    <p:cNvSpPr/>
                    <p:nvPr/>
                  </p:nvSpPr>
                  <p:spPr>
                    <a:xfrm flipH="1" rot="20520000">
                      <a:off x="2083680" y="2989440"/>
                      <a:ext cx="1110600" cy="649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45"/>
                  <p:cNvGrpSpPr/>
                  <p:nvPr/>
                </p:nvGrpSpPr>
                <p:grpSpPr>
                  <a:xfrm>
                    <a:off x="2167560" y="2093760"/>
                    <a:ext cx="2937240" cy="1004400"/>
                    <a:chOff x="2167560" y="2093760"/>
                    <a:chExt cx="2937240" cy="1004400"/>
                  </a:xfrm>
                </p:grpSpPr>
                <p:sp>
                  <p:nvSpPr>
                    <p:cNvPr id="261" name="Freeform 46"/>
                    <p:cNvSpPr/>
                    <p:nvPr/>
                  </p:nvSpPr>
                  <p:spPr>
                    <a:xfrm flipH="1" rot="21136800">
                      <a:off x="3183840" y="2219760"/>
                      <a:ext cx="190368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47"/>
                    <p:cNvSpPr/>
                    <p:nvPr/>
                  </p:nvSpPr>
                  <p:spPr>
                    <a:xfrm flipH="1" rot="21136800">
                      <a:off x="2203560" y="2428560"/>
                      <a:ext cx="1023120" cy="603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48"/>
                  <p:cNvGrpSpPr/>
                  <p:nvPr/>
                </p:nvGrpSpPr>
                <p:grpSpPr>
                  <a:xfrm>
                    <a:off x="2403720" y="2027880"/>
                    <a:ext cx="2658240" cy="450360"/>
                    <a:chOff x="2403720" y="2027880"/>
                    <a:chExt cx="2658240" cy="450360"/>
                  </a:xfrm>
                </p:grpSpPr>
                <p:sp>
                  <p:nvSpPr>
                    <p:cNvPr id="264" name="Freeform 49"/>
                    <p:cNvSpPr/>
                    <p:nvPr/>
                  </p:nvSpPr>
                  <p:spPr>
                    <a:xfrm flipH="1" rot="84600">
                      <a:off x="3327480" y="2063520"/>
                      <a:ext cx="1730880" cy="271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50"/>
                    <p:cNvSpPr/>
                    <p:nvPr/>
                  </p:nvSpPr>
                  <p:spPr>
                    <a:xfrm flipH="1" rot="84600">
                      <a:off x="2408760" y="2039040"/>
                      <a:ext cx="929520" cy="427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51"/>
                  <p:cNvGrpSpPr/>
                  <p:nvPr/>
                </p:nvGrpSpPr>
                <p:grpSpPr>
                  <a:xfrm>
                    <a:off x="2760840" y="1518480"/>
                    <a:ext cx="2363760" cy="786960"/>
                    <a:chOff x="2760840" y="1518480"/>
                    <a:chExt cx="2363760" cy="786960"/>
                  </a:xfrm>
                </p:grpSpPr>
                <p:sp>
                  <p:nvSpPr>
                    <p:cNvPr id="267" name="Freeform 52"/>
                    <p:cNvSpPr/>
                    <p:nvPr/>
                  </p:nvSpPr>
                  <p:spPr>
                    <a:xfrm flipH="1" rot="802800">
                      <a:off x="3593520" y="1867680"/>
                      <a:ext cx="1520280" cy="265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53"/>
                    <p:cNvSpPr/>
                    <p:nvPr/>
                  </p:nvSpPr>
                  <p:spPr>
                    <a:xfrm flipH="1" rot="802800">
                      <a:off x="2797920" y="1607040"/>
                      <a:ext cx="816120" cy="418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54"/>
                  <p:cNvGrpSpPr/>
                  <p:nvPr/>
                </p:nvGrpSpPr>
                <p:grpSpPr>
                  <a:xfrm>
                    <a:off x="2887920" y="1233720"/>
                    <a:ext cx="2323080" cy="1084680"/>
                    <a:chOff x="2887920" y="1233720"/>
                    <a:chExt cx="2323080" cy="1084680"/>
                  </a:xfrm>
                </p:grpSpPr>
                <p:sp>
                  <p:nvSpPr>
                    <p:cNvPr id="270" name="Freeform 55"/>
                    <p:cNvSpPr/>
                    <p:nvPr/>
                  </p:nvSpPr>
                  <p:spPr>
                    <a:xfrm flipH="1" rot="1278000">
                      <a:off x="3693600" y="1785600"/>
                      <a:ext cx="1520280" cy="265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56"/>
                    <p:cNvSpPr/>
                    <p:nvPr/>
                  </p:nvSpPr>
                  <p:spPr>
                    <a:xfrm flipH="1" rot="1278000">
                      <a:off x="2935080" y="1367640"/>
                      <a:ext cx="816120" cy="414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57"/>
                  <p:cNvGrpSpPr/>
                  <p:nvPr/>
                </p:nvGrpSpPr>
                <p:grpSpPr>
                  <a:xfrm>
                    <a:off x="3161160" y="827640"/>
                    <a:ext cx="2170080" cy="1508040"/>
                    <a:chOff x="3161160" y="827640"/>
                    <a:chExt cx="2170080" cy="1508040"/>
                  </a:xfrm>
                </p:grpSpPr>
                <p:sp>
                  <p:nvSpPr>
                    <p:cNvPr id="273" name="Freeform 58"/>
                    <p:cNvSpPr/>
                    <p:nvPr/>
                  </p:nvSpPr>
                  <p:spPr>
                    <a:xfrm flipH="1" rot="2028600">
                      <a:off x="3864960" y="1669680"/>
                      <a:ext cx="1520280" cy="265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59"/>
                    <p:cNvSpPr/>
                    <p:nvPr/>
                  </p:nvSpPr>
                  <p:spPr>
                    <a:xfrm flipH="1" rot="2028600">
                      <a:off x="3207600" y="1019160"/>
                      <a:ext cx="816120" cy="415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60"/>
                  <p:cNvGrpSpPr/>
                  <p:nvPr/>
                </p:nvGrpSpPr>
                <p:grpSpPr>
                  <a:xfrm>
                    <a:off x="3437280" y="437040"/>
                    <a:ext cx="1987560" cy="1828440"/>
                    <a:chOff x="3437280" y="437040"/>
                    <a:chExt cx="1987560" cy="1828440"/>
                  </a:xfrm>
                </p:grpSpPr>
                <p:sp>
                  <p:nvSpPr>
                    <p:cNvPr id="276" name="Freeform 61"/>
                    <p:cNvSpPr/>
                    <p:nvPr/>
                  </p:nvSpPr>
                  <p:spPr>
                    <a:xfrm flipH="1" rot="2664600">
                      <a:off x="4009320" y="1497960"/>
                      <a:ext cx="1542600" cy="265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62"/>
                    <p:cNvSpPr/>
                    <p:nvPr/>
                  </p:nvSpPr>
                  <p:spPr>
                    <a:xfrm flipH="1" rot="2664600">
                      <a:off x="3464280" y="667080"/>
                      <a:ext cx="828360" cy="417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63"/>
                  <p:cNvGrpSpPr/>
                  <p:nvPr/>
                </p:nvGrpSpPr>
                <p:grpSpPr>
                  <a:xfrm>
                    <a:off x="4032360" y="322200"/>
                    <a:ext cx="1459080" cy="1899360"/>
                    <a:chOff x="4032360" y="322200"/>
                    <a:chExt cx="1459080" cy="1899360"/>
                  </a:xfrm>
                </p:grpSpPr>
                <p:sp>
                  <p:nvSpPr>
                    <p:cNvPr id="279" name="Freeform 64"/>
                    <p:cNvSpPr/>
                    <p:nvPr/>
                  </p:nvSpPr>
                  <p:spPr>
                    <a:xfrm flipH="1" rot="3474000">
                      <a:off x="4337640" y="1442520"/>
                      <a:ext cx="1359720" cy="265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65"/>
                    <p:cNvSpPr/>
                    <p:nvPr/>
                  </p:nvSpPr>
                  <p:spPr>
                    <a:xfrm flipH="1" rot="3474000">
                      <a:off x="4037760" y="533160"/>
                      <a:ext cx="72900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66"/>
                  <p:cNvGrpSpPr/>
                  <p:nvPr/>
                </p:nvGrpSpPr>
                <p:grpSpPr>
                  <a:xfrm>
                    <a:off x="4448160" y="245520"/>
                    <a:ext cx="1122480" cy="1950840"/>
                    <a:chOff x="4448160" y="245520"/>
                    <a:chExt cx="1122480" cy="1950840"/>
                  </a:xfrm>
                </p:grpSpPr>
                <p:sp>
                  <p:nvSpPr>
                    <p:cNvPr id="282" name="Freeform 67"/>
                    <p:cNvSpPr/>
                    <p:nvPr/>
                  </p:nvSpPr>
                  <p:spPr>
                    <a:xfrm flipH="1" rot="4126800">
                      <a:off x="4555800" y="1405440"/>
                      <a:ext cx="130896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68"/>
                    <p:cNvSpPr/>
                    <p:nvPr/>
                  </p:nvSpPr>
                  <p:spPr>
                    <a:xfrm flipH="1" rot="4126800">
                      <a:off x="4416840" y="441000"/>
                      <a:ext cx="703800" cy="414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4" name="Group 69"/>
                  <p:cNvGrpSpPr/>
                  <p:nvPr/>
                </p:nvGrpSpPr>
                <p:grpSpPr>
                  <a:xfrm>
                    <a:off x="5661720" y="946440"/>
                    <a:ext cx="2319480" cy="1115280"/>
                    <a:chOff x="5661720" y="946440"/>
                    <a:chExt cx="2319480" cy="1115280"/>
                  </a:xfrm>
                </p:grpSpPr>
                <p:sp>
                  <p:nvSpPr>
                    <p:cNvPr id="285" name="Freeform 70"/>
                    <p:cNvSpPr/>
                    <p:nvPr/>
                  </p:nvSpPr>
                  <p:spPr>
                    <a:xfrm rot="20274000">
                      <a:off x="5655600" y="1519920"/>
                      <a:ext cx="1519920" cy="265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6" name="Freeform 71"/>
                    <p:cNvSpPr/>
                    <p:nvPr/>
                  </p:nvSpPr>
                  <p:spPr>
                    <a:xfrm rot="20274000">
                      <a:off x="7114320" y="1084320"/>
                      <a:ext cx="817560" cy="420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7" name="Group 72"/>
                  <p:cNvGrpSpPr/>
                  <p:nvPr/>
                </p:nvGrpSpPr>
                <p:grpSpPr>
                  <a:xfrm>
                    <a:off x="5529600" y="618120"/>
                    <a:ext cx="2201760" cy="1455480"/>
                    <a:chOff x="5529600" y="618120"/>
                    <a:chExt cx="2201760" cy="1455480"/>
                  </a:xfrm>
                </p:grpSpPr>
                <p:sp>
                  <p:nvSpPr>
                    <p:cNvPr id="288" name="Freeform 73"/>
                    <p:cNvSpPr/>
                    <p:nvPr/>
                  </p:nvSpPr>
                  <p:spPr>
                    <a:xfrm rot="19678800">
                      <a:off x="5484240" y="1425240"/>
                      <a:ext cx="1519920" cy="265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9" name="Freeform 74"/>
                    <p:cNvSpPr/>
                    <p:nvPr/>
                  </p:nvSpPr>
                  <p:spPr>
                    <a:xfrm rot="19678800">
                      <a:off x="6865200" y="802800"/>
                      <a:ext cx="817560" cy="417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90" name="Freeform 75"/>
                  <p:cNvSpPr/>
                  <p:nvPr/>
                </p:nvSpPr>
                <p:spPr>
                  <a:xfrm flipH="1" rot="4578600">
                    <a:off x="4766040" y="1461240"/>
                    <a:ext cx="1266840" cy="177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54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Freeform 76"/>
                  <p:cNvSpPr/>
                  <p:nvPr/>
                </p:nvSpPr>
                <p:spPr>
                  <a:xfrm flipH="1" rot="4578600">
                    <a:off x="4795920" y="531720"/>
                    <a:ext cx="678960" cy="282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54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92" name="Group 77"/>
                  <p:cNvGrpSpPr/>
                  <p:nvPr/>
                </p:nvGrpSpPr>
                <p:grpSpPr>
                  <a:xfrm>
                    <a:off x="5359680" y="268200"/>
                    <a:ext cx="1190160" cy="1893960"/>
                    <a:chOff x="5359680" y="268200"/>
                    <a:chExt cx="1190160" cy="1893960"/>
                  </a:xfrm>
                </p:grpSpPr>
                <p:sp>
                  <p:nvSpPr>
                    <p:cNvPr id="293" name="Freeform 78"/>
                    <p:cNvSpPr/>
                    <p:nvPr/>
                  </p:nvSpPr>
                  <p:spPr>
                    <a:xfrm rot="17742000">
                      <a:off x="5091120" y="1409760"/>
                      <a:ext cx="130896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94" name="Freeform 79"/>
                    <p:cNvSpPr/>
                    <p:nvPr/>
                  </p:nvSpPr>
                  <p:spPr>
                    <a:xfrm rot="17742000">
                      <a:off x="5885280" y="484560"/>
                      <a:ext cx="703800" cy="35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95" name="Group 80"/>
                  <p:cNvGrpSpPr/>
                  <p:nvPr/>
                </p:nvGrpSpPr>
                <p:grpSpPr>
                  <a:xfrm>
                    <a:off x="5349960" y="379080"/>
                    <a:ext cx="1890000" cy="1797120"/>
                    <a:chOff x="5349960" y="379080"/>
                    <a:chExt cx="1890000" cy="1797120"/>
                  </a:xfrm>
                </p:grpSpPr>
                <p:sp>
                  <p:nvSpPr>
                    <p:cNvPr id="296" name="Freeform 81"/>
                    <p:cNvSpPr/>
                    <p:nvPr/>
                  </p:nvSpPr>
                  <p:spPr>
                    <a:xfrm rot="18822600">
                      <a:off x="5249520" y="1378080"/>
                      <a:ext cx="1428480" cy="33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97" name="Freeform 82"/>
                    <p:cNvSpPr/>
                    <p:nvPr/>
                  </p:nvSpPr>
                  <p:spPr>
                    <a:xfrm rot="18822600">
                      <a:off x="6403680" y="575640"/>
                      <a:ext cx="766800" cy="5202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98" name="Group 83"/>
                  <p:cNvGrpSpPr/>
                  <p:nvPr/>
                </p:nvGrpSpPr>
                <p:grpSpPr>
                  <a:xfrm>
                    <a:off x="5459040" y="290520"/>
                    <a:ext cx="426240" cy="1793520"/>
                    <a:chOff x="5459040" y="290520"/>
                    <a:chExt cx="426240" cy="1793520"/>
                  </a:xfrm>
                </p:grpSpPr>
                <p:sp>
                  <p:nvSpPr>
                    <p:cNvPr id="299" name="Freeform 84"/>
                    <p:cNvSpPr/>
                    <p:nvPr/>
                  </p:nvSpPr>
                  <p:spPr>
                    <a:xfrm rot="16696200">
                      <a:off x="5007600" y="1441080"/>
                      <a:ext cx="117684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00" name="Freeform 85"/>
                    <p:cNvSpPr/>
                    <p:nvPr/>
                  </p:nvSpPr>
                  <p:spPr>
                    <a:xfrm rot="16696200">
                      <a:off x="5442120" y="531720"/>
                      <a:ext cx="631080" cy="165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01" name="Group 86"/>
                  <p:cNvGrpSpPr/>
                  <p:nvPr/>
                </p:nvGrpSpPr>
                <p:grpSpPr>
                  <a:xfrm>
                    <a:off x="3062880" y="2527560"/>
                    <a:ext cx="2194920" cy="3005640"/>
                    <a:chOff x="3062880" y="2527560"/>
                    <a:chExt cx="2194920" cy="3005640"/>
                  </a:xfrm>
                </p:grpSpPr>
                <p:sp>
                  <p:nvSpPr>
                    <p:cNvPr id="302" name="Freeform 87"/>
                    <p:cNvSpPr/>
                    <p:nvPr/>
                  </p:nvSpPr>
                  <p:spPr>
                    <a:xfrm flipH="1" rot="18336000">
                      <a:off x="3414960" y="3314520"/>
                      <a:ext cx="2132640" cy="383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03" name="Freeform 88"/>
                    <p:cNvSpPr/>
                    <p:nvPr/>
                  </p:nvSpPr>
                  <p:spPr>
                    <a:xfrm flipH="1" rot="18336000">
                      <a:off x="3069720" y="4591800"/>
                      <a:ext cx="113976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04" name="Group 89"/>
                  <p:cNvGrpSpPr/>
                  <p:nvPr/>
                </p:nvGrpSpPr>
                <p:grpSpPr>
                  <a:xfrm>
                    <a:off x="3790080" y="2639880"/>
                    <a:ext cx="1482840" cy="3012840"/>
                    <a:chOff x="3790080" y="2639880"/>
                    <a:chExt cx="1482840" cy="3012840"/>
                  </a:xfrm>
                </p:grpSpPr>
                <p:sp>
                  <p:nvSpPr>
                    <p:cNvPr id="305" name="Freeform 90"/>
                    <p:cNvSpPr/>
                    <p:nvPr/>
                  </p:nvSpPr>
                  <p:spPr>
                    <a:xfrm flipH="1" rot="17543400">
                      <a:off x="3735720" y="3431880"/>
                      <a:ext cx="1969560" cy="381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06" name="Freeform 91"/>
                    <p:cNvSpPr/>
                    <p:nvPr/>
                  </p:nvSpPr>
                  <p:spPr>
                    <a:xfrm flipH="1" rot="17543400">
                      <a:off x="3740760" y="4748040"/>
                      <a:ext cx="1056960" cy="602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07" name="Group 92"/>
                  <p:cNvGrpSpPr/>
                  <p:nvPr/>
                </p:nvGrpSpPr>
                <p:grpSpPr>
                  <a:xfrm>
                    <a:off x="4498200" y="2683800"/>
                    <a:ext cx="875880" cy="2941560"/>
                    <a:chOff x="4498200" y="2683800"/>
                    <a:chExt cx="875880" cy="2941560"/>
                  </a:xfrm>
                </p:grpSpPr>
                <p:sp>
                  <p:nvSpPr>
                    <p:cNvPr id="308" name="Freeform 93"/>
                    <p:cNvSpPr/>
                    <p:nvPr/>
                  </p:nvSpPr>
                  <p:spPr>
                    <a:xfrm flipH="1" rot="16870800">
                      <a:off x="4073040" y="3472920"/>
                      <a:ext cx="1894320" cy="347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09" name="Freeform 94"/>
                    <p:cNvSpPr/>
                    <p:nvPr/>
                  </p:nvSpPr>
                  <p:spPr>
                    <a:xfrm flipH="1" rot="16870800">
                      <a:off x="4356000" y="4803480"/>
                      <a:ext cx="1012680" cy="543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10" name="Group 95"/>
                  <p:cNvGrpSpPr/>
                  <p:nvPr/>
                </p:nvGrpSpPr>
                <p:grpSpPr>
                  <a:xfrm>
                    <a:off x="5677920" y="2481120"/>
                    <a:ext cx="2280960" cy="2955240"/>
                    <a:chOff x="5677920" y="2481120"/>
                    <a:chExt cx="2280960" cy="2955240"/>
                  </a:xfrm>
                </p:grpSpPr>
                <p:sp>
                  <p:nvSpPr>
                    <p:cNvPr id="311" name="Freeform 96"/>
                    <p:cNvSpPr/>
                    <p:nvPr/>
                  </p:nvSpPr>
                  <p:spPr>
                    <a:xfrm rot="3144000">
                      <a:off x="5414760" y="3249720"/>
                      <a:ext cx="2129040" cy="383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12" name="Freeform 97"/>
                    <p:cNvSpPr/>
                    <p:nvPr/>
                  </p:nvSpPr>
                  <p:spPr>
                    <a:xfrm rot="3144000">
                      <a:off x="6801480" y="4498200"/>
                      <a:ext cx="114012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13" name="Group 98"/>
                  <p:cNvGrpSpPr/>
                  <p:nvPr/>
                </p:nvGrpSpPr>
                <p:grpSpPr>
                  <a:xfrm>
                    <a:off x="5646240" y="2589840"/>
                    <a:ext cx="1757160" cy="3036960"/>
                    <a:chOff x="5646240" y="2589840"/>
                    <a:chExt cx="1757160" cy="3036960"/>
                  </a:xfrm>
                </p:grpSpPr>
                <p:sp>
                  <p:nvSpPr>
                    <p:cNvPr id="314" name="Freeform 99"/>
                    <p:cNvSpPr/>
                    <p:nvPr/>
                  </p:nvSpPr>
                  <p:spPr>
                    <a:xfrm rot="3745200">
                      <a:off x="5262840" y="3393000"/>
                      <a:ext cx="2036520" cy="369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15" name="Freeform 100"/>
                    <p:cNvSpPr/>
                    <p:nvPr/>
                  </p:nvSpPr>
                  <p:spPr>
                    <a:xfrm rot="3745200">
                      <a:off x="6350760" y="4722480"/>
                      <a:ext cx="1090440" cy="575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16" name="Group 101"/>
                  <p:cNvGrpSpPr/>
                  <p:nvPr/>
                </p:nvGrpSpPr>
                <p:grpSpPr>
                  <a:xfrm>
                    <a:off x="5576400" y="2708640"/>
                    <a:ext cx="1229040" cy="2989440"/>
                    <a:chOff x="5576400" y="2708640"/>
                    <a:chExt cx="1229040" cy="2989440"/>
                  </a:xfrm>
                </p:grpSpPr>
                <p:sp>
                  <p:nvSpPr>
                    <p:cNvPr id="317" name="Freeform 102"/>
                    <p:cNvSpPr/>
                    <p:nvPr/>
                  </p:nvSpPr>
                  <p:spPr>
                    <a:xfrm rot="4286400">
                      <a:off x="5047200" y="3540600"/>
                      <a:ext cx="197352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18" name="Freeform 103"/>
                    <p:cNvSpPr/>
                    <p:nvPr/>
                  </p:nvSpPr>
                  <p:spPr>
                    <a:xfrm rot="4286400">
                      <a:off x="5880240" y="4881240"/>
                      <a:ext cx="1060920" cy="47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19" name="Group 104"/>
                  <p:cNvGrpSpPr/>
                  <p:nvPr/>
                </p:nvGrpSpPr>
                <p:grpSpPr>
                  <a:xfrm>
                    <a:off x="5523840" y="2836440"/>
                    <a:ext cx="694080" cy="2786760"/>
                    <a:chOff x="5523840" y="2836440"/>
                    <a:chExt cx="694080" cy="2786760"/>
                  </a:xfrm>
                </p:grpSpPr>
                <p:sp>
                  <p:nvSpPr>
                    <p:cNvPr id="320" name="Freeform 105"/>
                    <p:cNvSpPr/>
                    <p:nvPr/>
                  </p:nvSpPr>
                  <p:spPr>
                    <a:xfrm rot="4898400">
                      <a:off x="4898520" y="3603960"/>
                      <a:ext cx="181404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21" name="Freeform 106"/>
                    <p:cNvSpPr/>
                    <p:nvPr/>
                  </p:nvSpPr>
                  <p:spPr>
                    <a:xfrm rot="4898400">
                      <a:off x="5424480" y="4868640"/>
                      <a:ext cx="975600" cy="47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22" name="Group 107"/>
                  <p:cNvGrpSpPr/>
                  <p:nvPr/>
                </p:nvGrpSpPr>
                <p:grpSpPr>
                  <a:xfrm>
                    <a:off x="4964760" y="2883240"/>
                    <a:ext cx="663840" cy="2721600"/>
                    <a:chOff x="4964760" y="2883240"/>
                    <a:chExt cx="663840" cy="2721600"/>
                  </a:xfrm>
                </p:grpSpPr>
                <p:sp>
                  <p:nvSpPr>
                    <p:cNvPr id="323" name="Freeform 108"/>
                    <p:cNvSpPr/>
                    <p:nvPr/>
                  </p:nvSpPr>
                  <p:spPr>
                    <a:xfrm rot="5755200">
                      <a:off x="4533840" y="3662280"/>
                      <a:ext cx="177588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24" name="Freeform 109"/>
                    <p:cNvSpPr/>
                    <p:nvPr/>
                  </p:nvSpPr>
                  <p:spPr>
                    <a:xfrm rot="5755200">
                      <a:off x="4718880" y="4929120"/>
                      <a:ext cx="953280" cy="365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325" name="Group 110"/>
              <p:cNvGrpSpPr/>
              <p:nvPr/>
            </p:nvGrpSpPr>
            <p:grpSpPr>
              <a:xfrm>
                <a:off x="2174400" y="678600"/>
                <a:ext cx="6732720" cy="4527360"/>
                <a:chOff x="2174400" y="678600"/>
                <a:chExt cx="6732720" cy="4527360"/>
              </a:xfrm>
            </p:grpSpPr>
            <p:grpSp>
              <p:nvGrpSpPr>
                <p:cNvPr id="326" name="Group 111"/>
                <p:cNvGrpSpPr/>
                <p:nvPr/>
              </p:nvGrpSpPr>
              <p:grpSpPr>
                <a:xfrm>
                  <a:off x="2174400" y="678600"/>
                  <a:ext cx="6732720" cy="4527360"/>
                  <a:chOff x="2174400" y="678600"/>
                  <a:chExt cx="6732720" cy="4527360"/>
                </a:xfrm>
              </p:grpSpPr>
              <p:sp>
                <p:nvSpPr>
                  <p:cNvPr id="327" name="Arc 112"/>
                  <p:cNvSpPr/>
                  <p:nvPr/>
                </p:nvSpPr>
                <p:spPr>
                  <a:xfrm flipV="1">
                    <a:off x="5740560" y="851400"/>
                    <a:ext cx="3166560" cy="2528280"/>
                  </a:xfrm>
                  <a:prstGeom prst="pie">
                    <a:avLst/>
                  </a:prstGeom>
                  <a:noFill/>
                  <a:ln w="936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54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8" name="Arc 113"/>
                  <p:cNvSpPr/>
                  <p:nvPr/>
                </p:nvSpPr>
                <p:spPr>
                  <a:xfrm flipH="1">
                    <a:off x="2561400" y="2269080"/>
                    <a:ext cx="2486880" cy="2936880"/>
                  </a:xfrm>
                  <a:prstGeom prst="pie">
                    <a:avLst/>
                  </a:prstGeom>
                  <a:noFill/>
                  <a:ln w="9360">
                    <a:solidFill>
                      <a:srgbClr val="ff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54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9" name="Arc 114"/>
                  <p:cNvSpPr/>
                  <p:nvPr/>
                </p:nvSpPr>
                <p:spPr>
                  <a:xfrm>
                    <a:off x="5818320" y="1747800"/>
                    <a:ext cx="1758240" cy="2938320"/>
                  </a:xfrm>
                  <a:prstGeom prst="pie">
                    <a:avLst/>
                  </a:prstGeom>
                  <a:noFill/>
                  <a:ln w="936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54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30" name="Arc 115"/>
                  <p:cNvSpPr/>
                  <p:nvPr/>
                </p:nvSpPr>
                <p:spPr>
                  <a:xfrm flipH="1">
                    <a:off x="2174400" y="1294560"/>
                    <a:ext cx="3133440" cy="2941920"/>
                  </a:xfrm>
                  <a:prstGeom prst="pie">
                    <a:avLst/>
                  </a:prstGeom>
                  <a:noFill/>
                  <a:ln w="9360">
                    <a:solidFill>
                      <a:srgbClr val="ff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54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31" name="Arc 116"/>
                  <p:cNvSpPr/>
                  <p:nvPr/>
                </p:nvSpPr>
                <p:spPr>
                  <a:xfrm flipH="1">
                    <a:off x="3056400" y="678600"/>
                    <a:ext cx="2282760" cy="2844000"/>
                  </a:xfrm>
                  <a:prstGeom prst="pie">
                    <a:avLst/>
                  </a:prstGeom>
                  <a:noFill/>
                  <a:ln w="936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54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32" name="Arc 117"/>
                  <p:cNvSpPr/>
                  <p:nvPr/>
                </p:nvSpPr>
                <p:spPr>
                  <a:xfrm>
                    <a:off x="5491440" y="1872720"/>
                    <a:ext cx="940680" cy="2842920"/>
                  </a:xfrm>
                  <a:prstGeom prst="pie">
                    <a:avLst/>
                  </a:prstGeom>
                  <a:noFill/>
                  <a:ln w="9360">
                    <a:solidFill>
                      <a:srgbClr val="ffff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54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33" name="Freeform 118"/>
                  <p:cNvSpPr/>
                  <p:nvPr/>
                </p:nvSpPr>
                <p:spPr>
                  <a:xfrm flipH="1">
                    <a:off x="4302000" y="830160"/>
                    <a:ext cx="515160" cy="1881000"/>
                  </a:xfrm>
                  <a:prstGeom prst="pie">
                    <a:avLst/>
                  </a:prstGeom>
                  <a:noFill/>
                  <a:ln w="9360">
                    <a:solidFill>
                      <a:srgbClr val="ff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54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334" name="Freeform 119"/>
                <p:cNvSpPr/>
                <p:nvPr/>
              </p:nvSpPr>
              <p:spPr>
                <a:xfrm rot="20253000">
                  <a:off x="6127560" y="2179800"/>
                  <a:ext cx="546120" cy="1034640"/>
                </a:xfrm>
                <a:prstGeom prst="pie">
                  <a:avLst/>
                </a:prstGeom>
                <a:noFill/>
                <a:ln w="9360">
                  <a:solidFill>
                    <a:srgbClr val="ffff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54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335" name="Group 120"/>
            <p:cNvGrpSpPr/>
            <p:nvPr/>
          </p:nvGrpSpPr>
          <p:grpSpPr>
            <a:xfrm>
              <a:off x="2343960" y="777960"/>
              <a:ext cx="6411960" cy="4708080"/>
              <a:chOff x="2343960" y="777960"/>
              <a:chExt cx="6411960" cy="4708080"/>
            </a:xfrm>
          </p:grpSpPr>
          <p:sp>
            <p:nvSpPr>
              <p:cNvPr id="336" name="Freeform 121"/>
              <p:cNvSpPr/>
              <p:nvPr/>
            </p:nvSpPr>
            <p:spPr>
              <a:xfrm flipH="1">
                <a:off x="4470840" y="3299760"/>
                <a:ext cx="598320" cy="182376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37" name="Arc 122"/>
              <p:cNvSpPr/>
              <p:nvPr/>
            </p:nvSpPr>
            <p:spPr>
              <a:xfrm flipH="1">
                <a:off x="3385440" y="2644920"/>
                <a:ext cx="2617200" cy="284112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38" name="Arc 123"/>
              <p:cNvSpPr/>
              <p:nvPr/>
            </p:nvSpPr>
            <p:spPr>
              <a:xfrm flipH="1">
                <a:off x="3646800" y="2187360"/>
                <a:ext cx="1534320" cy="293400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39" name="Arc 124"/>
              <p:cNvSpPr/>
              <p:nvPr/>
            </p:nvSpPr>
            <p:spPr>
              <a:xfrm flipH="1">
                <a:off x="2343600" y="1803960"/>
                <a:ext cx="2930760" cy="293400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40" name="Arc 125"/>
              <p:cNvSpPr/>
              <p:nvPr/>
            </p:nvSpPr>
            <p:spPr>
              <a:xfrm>
                <a:off x="5588640" y="2215800"/>
                <a:ext cx="469800" cy="293400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41" name="Arc 126"/>
              <p:cNvSpPr/>
              <p:nvPr/>
            </p:nvSpPr>
            <p:spPr>
              <a:xfrm>
                <a:off x="5711760" y="2202120"/>
                <a:ext cx="1238040" cy="293400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42" name="Freeform 127"/>
              <p:cNvSpPr/>
              <p:nvPr/>
            </p:nvSpPr>
            <p:spPr>
              <a:xfrm>
                <a:off x="6155640" y="3611880"/>
                <a:ext cx="598320" cy="182376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43" name="Freeform 128"/>
              <p:cNvSpPr/>
              <p:nvPr/>
            </p:nvSpPr>
            <p:spPr>
              <a:xfrm flipV="1" rot="19660800">
                <a:off x="5226840" y="3012480"/>
                <a:ext cx="543600" cy="1033920"/>
              </a:xfrm>
              <a:prstGeom prst="pie">
                <a:avLst/>
              </a:pr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44" name="Freeform 129"/>
              <p:cNvSpPr/>
              <p:nvPr/>
            </p:nvSpPr>
            <p:spPr>
              <a:xfrm flipH="1">
                <a:off x="2688120" y="3449160"/>
                <a:ext cx="1338480" cy="187920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45" name="Freeform 130"/>
              <p:cNvSpPr/>
              <p:nvPr/>
            </p:nvSpPr>
            <p:spPr>
              <a:xfrm flipH="1">
                <a:off x="3318840" y="1463400"/>
                <a:ext cx="858240" cy="187920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46" name="Freeform 131"/>
              <p:cNvSpPr/>
              <p:nvPr/>
            </p:nvSpPr>
            <p:spPr>
              <a:xfrm>
                <a:off x="7513920" y="3173040"/>
                <a:ext cx="1242000" cy="197280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47" name="Freeform 132"/>
              <p:cNvSpPr/>
              <p:nvPr/>
            </p:nvSpPr>
            <p:spPr>
              <a:xfrm>
                <a:off x="6868800" y="2175120"/>
                <a:ext cx="1872360" cy="131580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48" name="Freeform 133"/>
              <p:cNvSpPr/>
              <p:nvPr/>
            </p:nvSpPr>
            <p:spPr>
              <a:xfrm>
                <a:off x="6937920" y="777960"/>
                <a:ext cx="819000" cy="176832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49" name="Freeform 134"/>
              <p:cNvSpPr/>
              <p:nvPr/>
            </p:nvSpPr>
            <p:spPr>
              <a:xfrm flipH="1" rot="1347000">
                <a:off x="4183920" y="2219400"/>
                <a:ext cx="542880" cy="1032120"/>
              </a:xfrm>
              <a:prstGeom prst="pie">
                <a:avLst/>
              </a:pr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99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7EB81-2A2E-432B-918D-D43E31F7251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Как музыка воздействует на нас? 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3214800" y="4500720"/>
            <a:ext cx="592920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торы: учащиеся МБОУ «СОШ №31»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.Энгельса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ерест Алиса, Чиганова Ольга, Агеев Максим, Садовенко Даниил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3" name="TextBox 3"/>
          <p:cNvSpPr/>
          <p:nvPr/>
        </p:nvSpPr>
        <p:spPr>
          <a:xfrm>
            <a:off x="357120" y="350028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Интегрированный учебный проект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4" name="TextBox 4"/>
          <p:cNvSpPr/>
          <p:nvPr/>
        </p:nvSpPr>
        <p:spPr>
          <a:xfrm>
            <a:off x="428760" y="6000840"/>
            <a:ext cx="39290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Музыка помогает в труде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Франция – национальное движение за внедрение музыки в цеха,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-3358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Америка – «танцевальная прачечная»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-3358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СССР ЛОМО – концерты артистов филармонии во время обеденного перерыва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Влияние музыки на живую природу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растения реагируют на музыку, как настоящие меломаны,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растения думают, размышляют, чувствуют, видят, слышат и помнят,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рок-музыка убивает живую клетку,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4" descr="14"/>
          <p:cNvPicPr/>
          <p:nvPr/>
        </p:nvPicPr>
        <p:blipFill>
          <a:blip r:embed="rId1"/>
          <a:stretch/>
        </p:blipFill>
        <p:spPr>
          <a:xfrm>
            <a:off x="0" y="189000"/>
            <a:ext cx="4530600" cy="64087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5" descr="15"/>
          <p:cNvPicPr/>
          <p:nvPr/>
        </p:nvPicPr>
        <p:blipFill>
          <a:blip r:embed="rId2"/>
          <a:stretch/>
        </p:blipFill>
        <p:spPr>
          <a:xfrm>
            <a:off x="4500720" y="189000"/>
            <a:ext cx="453528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4" descr="16"/>
          <p:cNvPicPr/>
          <p:nvPr/>
        </p:nvPicPr>
        <p:blipFill>
          <a:blip r:embed="rId1"/>
          <a:stretch/>
        </p:blipFill>
        <p:spPr>
          <a:xfrm>
            <a:off x="0" y="189000"/>
            <a:ext cx="4449600" cy="629280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5" descr="9"/>
          <p:cNvPicPr/>
          <p:nvPr/>
        </p:nvPicPr>
        <p:blipFill>
          <a:blip r:embed="rId2"/>
          <a:stretch/>
        </p:blipFill>
        <p:spPr>
          <a:xfrm>
            <a:off x="4635360" y="189000"/>
            <a:ext cx="450864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Влияние музыки на животных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Надои у коров увеличиваются от прослушивания музыки Бетховена,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улитки под классическую музыку быстрее растут и откладывают больше личинок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Лечебные свойства музыки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сеансы музыкальной терапии успокаивают, снижают стрессы и  улучшают психологическое состояние.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исследователи обнаружили, что периодическое прослушивание классической музыки снижает артериальное давление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25" name="Picture 5" descr="бабочка"/>
          <p:cNvPicPr/>
          <p:nvPr/>
        </p:nvPicPr>
        <p:blipFill>
          <a:blip r:embed="rId1"/>
          <a:stretch/>
        </p:blipFill>
        <p:spPr>
          <a:xfrm>
            <a:off x="6880320" y="4869000"/>
            <a:ext cx="1452600" cy="14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Так выглядит структура воды после прослушивания 40-й симфонии Моцарта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27" name="Picture 2" descr=""/>
          <p:cNvPicPr/>
          <p:nvPr/>
        </p:nvPicPr>
        <p:blipFill>
          <a:blip r:embed="rId1"/>
          <a:stretch/>
        </p:blipFill>
        <p:spPr>
          <a:xfrm>
            <a:off x="0" y="2143080"/>
            <a:ext cx="91440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Лечебные свойства музыки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седативные препараты и антидепрессанты  с успехом  заменяют классической музыкой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специальные музыкальные композиции  позволяют снизить уровень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содержания стрессовых гормонов в крови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Музыка </a:t>
            </a:r>
            <a:r>
              <a:rPr b="1" lang="ru-RU" sz="4400" spc="-1" strike="noStrike">
                <a:solidFill>
                  <a:srgbClr val="ffffff"/>
                </a:solidFill>
                <a:latin typeface="Arial Black"/>
              </a:rPr>
              <a:t>калечит</a:t>
            </a: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ритмические звуки вызывают в мозг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процессы, провоцирующие выработку организмом эндогенного алкоголя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сверхмощная акустика вызывает «слуховой стресс»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это может способствовать возникновению патологической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зависимости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Так изменилась структура воды при воздействии на неё музыки, такой, как тяжёлый металл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33" name="Picture 4" descr=""/>
          <p:cNvPicPr/>
          <p:nvPr/>
        </p:nvPicPr>
        <p:blipFill>
          <a:blip r:embed="rId1"/>
          <a:stretch/>
        </p:blipFill>
        <p:spPr>
          <a:xfrm>
            <a:off x="0" y="1928880"/>
            <a:ext cx="914400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Цель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выяснить положительное и отрицательное воздействие музыки на природу и человека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Музыка калечит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После 40 минут, проведенных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в зале с мощностью звука 120-140 децибел, люди получают звуковую контузию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Шум громкостью 110 децибел вызывает болевые ощущения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36" name="Picture 5" descr="orange040707_5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2627280" y="4719600"/>
            <a:ext cx="320508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Твоя любимая песня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Любишь ли ты петь?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Назови свою любимую песню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Какое настроение вызывает у тебя эта песня?(поднимает настроение, бодрит, успокаивает, никакого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Какие песни поют  в твоей семье?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Поешь ли ты эти песни вместе со всеми?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Зачем тебе нужна музыка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1. Помогает в труде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2.Бодрит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3. Поднимает настроение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4.Помогает в учебе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5. Помогает расслабиться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6. Мне музыка не нужна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Моя любимая песня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42" name="Object 4" descr=""/>
          <p:cNvPicPr/>
          <p:nvPr/>
        </p:nvPicPr>
        <p:blipFill>
          <a:blip r:embed="rId1"/>
          <a:stretch/>
        </p:blipFill>
        <p:spPr>
          <a:xfrm>
            <a:off x="363600" y="1639800"/>
            <a:ext cx="8399520" cy="5534280"/>
          </a:xfrm>
          <a:prstGeom prst="rect">
            <a:avLst/>
          </a:prstGeom>
          <a:ln w="0">
            <a:noFill/>
          </a:ln>
        </p:spPr>
      </p:pic>
      <p:sp>
        <p:nvSpPr>
          <p:cNvPr id="443" name="Rectangle 5"/>
          <p:cNvSpPr/>
          <p:nvPr/>
        </p:nvSpPr>
        <p:spPr>
          <a:xfrm>
            <a:off x="0" y="0"/>
            <a:ext cx="64620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Для чего нам нужна музыка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45" name="Object 4" descr=""/>
          <p:cNvPicPr/>
          <p:nvPr/>
        </p:nvPicPr>
        <p:blipFill>
          <a:blip r:embed="rId1"/>
          <a:stretch/>
        </p:blipFill>
        <p:spPr>
          <a:xfrm>
            <a:off x="-396720" y="1773360"/>
            <a:ext cx="986472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7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«Волшебный мир искусства»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48" name="Picture 4" descr="kartina3"/>
          <p:cNvPicPr/>
          <p:nvPr/>
        </p:nvPicPr>
        <p:blipFill>
          <a:blip r:embed="rId1">
            <a:lum bright="24000"/>
          </a:blip>
          <a:stretch/>
        </p:blipFill>
        <p:spPr>
          <a:xfrm flipH="1">
            <a:off x="0" y="1571760"/>
            <a:ext cx="914400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Какое настроение вызывает у тебя песня «Волшебный мир искусства»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50" name="Object 6" descr=""/>
          <p:cNvPicPr/>
          <p:nvPr/>
        </p:nvPicPr>
        <p:blipFill>
          <a:blip r:embed="rId1"/>
          <a:stretch/>
        </p:blipFill>
        <p:spPr>
          <a:xfrm>
            <a:off x="0" y="1857240"/>
            <a:ext cx="8280360" cy="553896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10" descr="звезда"/>
          <p:cNvPicPr/>
          <p:nvPr/>
        </p:nvPicPr>
        <p:blipFill>
          <a:blip r:embed="rId2"/>
          <a:stretch/>
        </p:blipFill>
        <p:spPr>
          <a:xfrm>
            <a:off x="3995640" y="2492280"/>
            <a:ext cx="285840" cy="2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Выводы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Классическая музыка благотворно влияет на здоровье человека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54" name="Picture 4" descr="закат"/>
          <p:cNvPicPr/>
          <p:nvPr/>
        </p:nvPicPr>
        <p:blipFill>
          <a:blip r:embed="rId1"/>
          <a:stretch/>
        </p:blipFill>
        <p:spPr>
          <a:xfrm>
            <a:off x="5508720" y="2708280"/>
            <a:ext cx="3294000" cy="395136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6" descr="20060910162939_pict3644"/>
          <p:cNvPicPr/>
          <p:nvPr/>
        </p:nvPicPr>
        <p:blipFill>
          <a:blip r:embed="rId2"/>
          <a:stretch/>
        </p:blipFill>
        <p:spPr>
          <a:xfrm>
            <a:off x="395280" y="3540240"/>
            <a:ext cx="4508640" cy="33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Выводы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56760" y="1484280"/>
            <a:ext cx="8099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Музыка поднимает настроение, бодрит и веселит, расслабляет, помогает в труде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58" name="Picture 5" descr="314725180_tonnel"/>
          <p:cNvPicPr/>
          <p:nvPr/>
        </p:nvPicPr>
        <p:blipFill>
          <a:blip r:embed="rId1"/>
          <a:stretch/>
        </p:blipFill>
        <p:spPr>
          <a:xfrm>
            <a:off x="6300720" y="3284640"/>
            <a:ext cx="2625840" cy="314172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7" descr="9-1"/>
          <p:cNvPicPr/>
          <p:nvPr/>
        </p:nvPicPr>
        <p:blipFill>
          <a:blip r:embed="rId2"/>
          <a:stretch/>
        </p:blipFill>
        <p:spPr>
          <a:xfrm>
            <a:off x="0" y="3643200"/>
            <a:ext cx="2898720" cy="302436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9" descr="4256"/>
          <p:cNvPicPr/>
          <p:nvPr/>
        </p:nvPicPr>
        <p:blipFill>
          <a:blip r:embed="rId3"/>
          <a:stretch/>
        </p:blipFill>
        <p:spPr>
          <a:xfrm>
            <a:off x="3429000" y="3714840"/>
            <a:ext cx="239400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Выводы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Громкая музыка неблагоприятна для здоровья человека, вредит природе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63" name="Picture 5" descr="schranz1153853634i8661pv0"/>
          <p:cNvPicPr/>
          <p:nvPr/>
        </p:nvPicPr>
        <p:blipFill>
          <a:blip r:embed="rId1"/>
          <a:stretch/>
        </p:blipFill>
        <p:spPr>
          <a:xfrm>
            <a:off x="3857760" y="3786120"/>
            <a:ext cx="50720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Задачи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Изучить теоретический материал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по проблеме влияния музыки на человека и живую природу;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Провести анализ информации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Провести социологический опрос учащихся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Обработать результаты опроса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Выводы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Воздействие рок-музыки подобно наркотикам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66" name="Picture 6" descr="320mo1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5929200" y="3071880"/>
            <a:ext cx="2900520" cy="36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Использованные ресурсы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http://psi.webzone.ru/st/150500.htm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http://www.autist.narod.ru/musikter.htm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http://www.pravda.ru/health/prophylaxis/psychotherapy/18-05-2006/84861-music-0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http://www.ark.ru/ins/group/al.jpg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http://zvann.narod.ru/aLM.htm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http://imbf.info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/>
          </p:nvPr>
        </p:nvSpPr>
        <p:spPr>
          <a:xfrm>
            <a:off x="6843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0" name="WordArt 4"/>
          <p:cNvSpPr txBox="1"/>
          <p:nvPr/>
        </p:nvSpPr>
        <p:spPr>
          <a:xfrm>
            <a:off x="-252360" y="3213000"/>
            <a:ext cx="8629560" cy="828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Благодарим за внимание!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471" name="Picture 5" descr="роза"/>
          <p:cNvPicPr/>
          <p:nvPr/>
        </p:nvPicPr>
        <p:blipFill>
          <a:blip r:embed="rId1">
            <a:lum bright="24000"/>
          </a:blip>
          <a:stretch/>
        </p:blipFill>
        <p:spPr>
          <a:xfrm rot="1575600">
            <a:off x="6300360" y="3715920"/>
            <a:ext cx="1866960" cy="268920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6" descr="бабочка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1044720" y="620640"/>
            <a:ext cx="180792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Гипотеза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64818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Музыка помогает людям 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Некоторая музыка оказывает лечебное воздействие на организм человека и благотворно влияет на живую природу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Другая музыка разрушительна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01" name="Picture 9" descr="20070211-osunlade_painting"/>
          <p:cNvPicPr/>
          <p:nvPr/>
        </p:nvPicPr>
        <p:blipFill>
          <a:blip r:embed="rId1"/>
          <a:stretch/>
        </p:blipFill>
        <p:spPr>
          <a:xfrm>
            <a:off x="6804000" y="4594320"/>
            <a:ext cx="2340000" cy="22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Исследования учащихся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1. Музыковеды -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 Black"/>
              </a:rPr>
              <a:t>В чем секрет музыки? – Горожанцев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2. Психологи –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 Black"/>
              </a:rPr>
              <a:t>Как музыка влияет на человека? – Волошин Д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3. Биологи –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 Black"/>
              </a:rPr>
              <a:t>Как музыка влияет на живую природу? – Олейниченко М., Морозова А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571680" y="428760"/>
            <a:ext cx="77724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4. Медики –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 Black"/>
              </a:rPr>
              <a:t>Какая музыка может лечить?- Мухаметдинова Л., Корнилов А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 Black"/>
              </a:rPr>
              <a:t>Какая музыка вредит человеку? –Хамроева Л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 Black"/>
              </a:rPr>
              <a:t>5.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Журналисты –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 Black"/>
              </a:rPr>
              <a:t>Какая классическая музыка и как полезна человеку? – Мухаметдинова Л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 Black"/>
              </a:rPr>
              <a:t>6.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Художники –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 Black"/>
              </a:rPr>
              <a:t>Как музыка вредит? –Хамроева  Л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Секрет музыки</a:t>
            </a: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музыку наш мозг воспринимает одновременно обеими полушариями: левое полушарие ощущает ритм, а правое –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тембр и мелодию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Самое сильное воздействие на организм человека оказывает       ритм.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Ритм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08" name="Picture 4" descr="naumusflor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320760" y="1773360"/>
            <a:ext cx="5035320" cy="508464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6" descr="al"/>
          <p:cNvPicPr/>
          <p:nvPr/>
        </p:nvPicPr>
        <p:blipFill>
          <a:blip r:embed="rId2">
            <a:lum bright="42000"/>
          </a:blip>
          <a:stretch/>
        </p:blipFill>
        <p:spPr>
          <a:xfrm>
            <a:off x="5651640" y="4532400"/>
            <a:ext cx="3492360" cy="23256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8" descr="2005_11_13Sbor06"/>
          <p:cNvPicPr/>
          <p:nvPr/>
        </p:nvPicPr>
        <p:blipFill>
          <a:blip r:embed="rId3">
            <a:lum bright="24000"/>
          </a:blip>
          <a:stretch/>
        </p:blipFill>
        <p:spPr>
          <a:xfrm>
            <a:off x="5651640" y="1773360"/>
            <a:ext cx="349236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Секрет музыки</a:t>
            </a: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Ритмы музыкальных произведений лежат в диапазоне от 2,2 до 4 колебаний в секунду, что очень близко к частоте дыхания и сердцебиения. Организм человека, слушающего музыку, как бы подстраивается под нее.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4T04:03:23Z</dcterms:created>
  <dc:creator>user</dc:creator>
  <dc:description/>
  <dc:language>en-US</dc:language>
  <cp:lastModifiedBy>Женя</cp:lastModifiedBy>
  <dcterms:modified xsi:type="dcterms:W3CDTF">2015-12-06T15:27:33Z</dcterms:modified>
  <cp:revision>123</cp:revision>
  <dc:subject/>
  <dc:title>Как музыка влияет на человека</dc:title>
</cp:coreProperties>
</file>