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gif" ContentType="image/gif"/>
  <Override PartName="/ppt/media/image23.jpeg" ContentType="image/jpeg"/>
  <Override PartName="/ppt/media/image12.png" ContentType="image/png"/>
  <Override PartName="/ppt/media/image20.gif" ContentType="image/gif"/>
  <Override PartName="/ppt/media/image24.png" ContentType="image/png"/>
  <Override PartName="/ppt/media/image11.jpeg" ContentType="image/jpeg"/>
  <Override PartName="/ppt/media/image21.gif" ContentType="image/gif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5.png" ContentType="image/png"/>
  <Override PartName="/ppt/media/image17.gif" ContentType="image/gif"/>
  <Override PartName="/ppt/media/image30.gif" ContentType="image/gif"/>
  <Override PartName="/ppt/media/image5.gif" ContentType="image/gif"/>
  <Override PartName="/ppt/media/image31.jpeg" ContentType="image/jpeg"/>
  <Override PartName="/ppt/media/image4.jpeg" ContentType="image/jpeg"/>
  <Override PartName="/ppt/media/image2.png" ContentType="image/png"/>
  <Override PartName="/ppt/media/image33.gif" ContentType="image/gif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4.gif" ContentType="image/gif"/>
  <Override PartName="/ppt/media/image29.jpeg" ContentType="image/jpeg"/>
  <Override PartName="/ppt/media/image7.gif" ContentType="image/gif"/>
  <Override PartName="/ppt/media/image26.jpeg" ContentType="image/jpeg"/>
  <Override PartName="/ppt/media/image36.gif" ContentType="image/gif"/>
  <Override PartName="/ppt/media/image37.jpeg" ContentType="image/jpeg"/>
  <Override PartName="/ppt/media/image10.gif" ContentType="image/gif"/>
  <Override PartName="/ppt/media/image43.jpeg" ContentType="image/jpeg"/>
  <Override PartName="/ppt/media/image6.jpeg" ContentType="image/jpeg"/>
  <Override PartName="/ppt/media/image13.gif" ContentType="image/gif"/>
  <Override PartName="/ppt/media/image25.png" ContentType="image/png"/>
  <Override PartName="/ppt/media/image32.gif" ContentType="image/gif"/>
  <Override PartName="/ppt/media/image42.jpeg" ContentType="image/jpeg"/>
  <Override PartName="/ppt/media/image40.gif" ContentType="image/gif"/>
  <Override PartName="/ppt/media/image3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C30-E79E-4883-B978-6BC5F6D1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86B-0F90-40C1-82B0-8C63D03C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5E3-A06B-4364-AC82-0E5291E6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DE8-1B8A-46EB-92E8-89C22063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D8A-EB0D-42B9-A1A9-AABC4BC2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D2E6-7053-4341-805A-81172FFA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539-2636-4359-AF10-D84DA564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8B4-548B-426F-89C5-7834AAD1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6F1-969E-410A-B2D7-57691344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FDE-A108-44C6-AFC1-799D39AB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CDC-A2CE-4279-89FF-8E57B4BA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614-1A0A-430E-AC16-8305A40A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A277-5946-49B8-BF76-A2215EBB50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" Target="slide6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59.radikal.ru/i163/0902/80/20fbc53e6cf6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dvseti.ru/cd/screens/6388_3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popolam.narod.ru/video/disks/screenshot/ostro_kp/osokr-00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54.radikal.ru/i146/0811/4b/c96bd89e1e5a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6.xml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" Target="slide6.xml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istrator\My Documents\My Pictures\Новая папка\90577_dvd_ostrov_sokrovisc(cerkassky).jpg"/>
          <p:cNvPicPr/>
          <p:nvPr/>
        </p:nvPicPr>
        <p:blipFill>
          <a:blip r:embed="rId1"/>
          <a:stretch/>
        </p:blipFill>
        <p:spPr>
          <a:xfrm>
            <a:off x="1116000" y="19080"/>
            <a:ext cx="7128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4041720" y="1938240"/>
            <a:ext cx="3913200" cy="6764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1450800" y="2401920"/>
            <a:ext cx="1719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a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1332000" y="4941720"/>
            <a:ext cx="648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4. Вычисл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-220 : (-36 + 14) ∙ 11 -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>
            <a:hlinkClick r:id="rId2" action="ppaction://hlinksldjump"/>
          </p:cNvPr>
          <p:cNvSpPr/>
          <p:nvPr/>
        </p:nvSpPr>
        <p:spPr>
          <a:xfrm>
            <a:off x="17928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10965"/>
                </a:moveTo>
                <a:lnTo>
                  <a:pt x="17806" y="3959"/>
                </a:lnTo>
                <a:lnTo>
                  <a:pt x="17806" y="179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D_Cherkasskiy_-_Ostrov_sokrovisch_DVDRip_1988_-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8"/>
          <p:cNvSpPr/>
          <p:nvPr/>
        </p:nvSpPr>
        <p:spPr>
          <a:xfrm>
            <a:off x="4500720" y="4581360"/>
            <a:ext cx="4643280" cy="2276640"/>
          </a:xfrm>
          <a:prstGeom prst="wedgeEllipseCallout">
            <a:avLst>
              <a:gd name="adj1" fmla="val -51879"/>
              <a:gd name="adj2" fmla="val -16283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500720" y="5137200"/>
            <a:ext cx="4643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5. Вычисл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280 – 280 : (-16 + 2)∙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>
            <a:hlinkClick r:id="rId3" action="ppaction://hlinksldjump"/>
          </p:cNvPr>
          <p:cNvSpPr/>
          <p:nvPr/>
        </p:nvSpPr>
        <p:spPr>
          <a:xfrm>
            <a:off x="179280" y="609300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1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1" y="20200"/>
                </a:lnTo>
                <a:lnTo>
                  <a:pt x="22731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1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31" h="21600">
                <a:moveTo>
                  <a:pt x="5059" y="10800"/>
                </a:moveTo>
                <a:lnTo>
                  <a:pt x="19072" y="3794"/>
                </a:lnTo>
                <a:lnTo>
                  <a:pt x="19072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Рисунок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4500720" y="242100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ВПЕРЕД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4710960" y="1197000"/>
            <a:ext cx="303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ДВИГАЙ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Administrator\My Documents\My Pictures\386342-281fddd8e85a985c.gif"/>
          <p:cNvPicPr/>
          <p:nvPr/>
        </p:nvPicPr>
        <p:blipFill>
          <a:blip r:embed="rId2"/>
          <a:stretch/>
        </p:blipFill>
        <p:spPr>
          <a:xfrm rot="1656600">
            <a:off x="3659040" y="4665240"/>
            <a:ext cx="308304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Картинка 14 из 7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1382760" y="-36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Но наши герои были не од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За ними в погоню брос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шайка пира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артинка 6 из 7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96372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-96120" y="-1440"/>
            <a:ext cx="694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Решите правильно пример и узнай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как далеко пираты от Генри и его др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C:\Documents and Settings\Administrator\My Documents\My Pictures\439782-6a3aea424bdf8fa5.gif"/>
          <p:cNvPicPr/>
          <p:nvPr/>
        </p:nvPicPr>
        <p:blipFill>
          <a:blip r:embed="rId3"/>
          <a:stretch/>
        </p:blipFill>
        <p:spPr>
          <a:xfrm>
            <a:off x="3619440" y="177336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90560" y="836640"/>
                <a:ext cx="43214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ostrov_sokrovishch11"/>
          <p:cNvPicPr/>
          <p:nvPr/>
        </p:nvPicPr>
        <p:blipFill>
          <a:blip r:embed="rId1"/>
          <a:stretch/>
        </p:blipFill>
        <p:spPr>
          <a:xfrm>
            <a:off x="-252360" y="-892080"/>
            <a:ext cx="9396360" cy="775008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7"/>
          <p:cNvSpPr/>
          <p:nvPr/>
        </p:nvSpPr>
        <p:spPr>
          <a:xfrm>
            <a:off x="3995640" y="0"/>
            <a:ext cx="1728720" cy="609480"/>
          </a:xfrm>
          <a:prstGeom prst="cloudCallout">
            <a:avLst>
              <a:gd name="adj1" fmla="val -34203"/>
              <a:gd name="adj2" fmla="val 7005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 rot="10800000">
            <a:off x="5580000" y="2852640"/>
            <a:ext cx="3818160" cy="4003920"/>
          </a:xfrm>
          <a:prstGeom prst="vertic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1908000" y="111492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Пройдя несколько километров на сев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Генри увидел урав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Ребята, помогите их решить!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C:\Documents and Settings\Administrator\My Documents\My Pictures\2059045-99042ac47d67cc69.gif"/>
          <p:cNvPicPr/>
          <p:nvPr/>
        </p:nvPicPr>
        <p:blipFill>
          <a:blip r:embed="rId2"/>
          <a:stretch/>
        </p:blipFill>
        <p:spPr>
          <a:xfrm>
            <a:off x="0" y="-806400"/>
            <a:ext cx="3600360" cy="1612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Documents and Settings\Administrator\My Documents\My Pictures\363151-34c8424aa2f1e5ed.gif"/>
          <p:cNvPicPr/>
          <p:nvPr/>
        </p:nvPicPr>
        <p:blipFill>
          <a:blip r:embed="rId3"/>
          <a:stretch/>
        </p:blipFill>
        <p:spPr>
          <a:xfrm>
            <a:off x="5848200" y="-399960"/>
            <a:ext cx="1676520" cy="175248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7"/>
          <p:cNvSpPr/>
          <p:nvPr/>
        </p:nvSpPr>
        <p:spPr>
          <a:xfrm>
            <a:off x="7466040" y="-608040"/>
            <a:ext cx="1728720" cy="609480"/>
          </a:xfrm>
          <a:prstGeom prst="cloudCallout">
            <a:avLst>
              <a:gd name="adj1" fmla="val -34203"/>
              <a:gd name="adj2" fmla="val 7005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C:\Documents and Settings\Administrator\My Documents\My Pictures\758176-6f4beff07b80ee28.gif"/>
          <p:cNvPicPr/>
          <p:nvPr/>
        </p:nvPicPr>
        <p:blipFill>
          <a:blip r:embed="rId4"/>
          <a:stretch/>
        </p:blipFill>
        <p:spPr>
          <a:xfrm>
            <a:off x="3629160" y="2587680"/>
            <a:ext cx="618840" cy="841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580080" y="2924280"/>
                <a:ext cx="1879560" cy="34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х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  <m:e>
                        <m:r>
                          <m:t xml:space="preserve">х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dministrator\My Documents\My Pictures\1792583-95f43c2ce3cd6dc8.gif"/>
          <p:cNvPicPr/>
          <p:nvPr/>
        </p:nvPicPr>
        <p:blipFill>
          <a:blip r:embed="rId2"/>
          <a:stretch/>
        </p:blipFill>
        <p:spPr>
          <a:xfrm>
            <a:off x="3780000" y="115920"/>
            <a:ext cx="1371600" cy="151452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3"/>
          <p:cNvSpPr/>
          <p:nvPr/>
        </p:nvSpPr>
        <p:spPr>
          <a:xfrm>
            <a:off x="1692360" y="4179960"/>
            <a:ext cx="518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то делать с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луч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результ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Генри и его друз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 зн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о тут из глуб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строва показа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чень странный человек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2" descr="screenshot_13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18"/>
          <p:cNvSpPr/>
          <p:nvPr/>
        </p:nvSpPr>
        <p:spPr>
          <a:xfrm>
            <a:off x="468360" y="0"/>
            <a:ext cx="8280360" cy="963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9"/>
          <p:cNvSpPr/>
          <p:nvPr/>
        </p:nvSpPr>
        <p:spPr>
          <a:xfrm>
            <a:off x="325080" y="260280"/>
            <a:ext cx="86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Это был островитянин! Он показал гостям табли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1"/>
          <p:cNvSpPr/>
          <p:nvPr/>
        </p:nvSpPr>
        <p:spPr>
          <a:xfrm rot="10800000">
            <a:off x="250920" y="2636640"/>
            <a:ext cx="3241440" cy="1906560"/>
          </a:xfrm>
          <a:prstGeom prst="wedgeEllipseCallout">
            <a:avLst>
              <a:gd name="adj1" fmla="val -70768"/>
              <a:gd name="adj2" fmla="val 3983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А вы, ребята, знае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что с ней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71640" y="5013360"/>
          <a:ext cx="7200720" cy="1655640"/>
        </p:xfrm>
        <a:graphic>
          <a:graphicData uri="http://schemas.openxmlformats.org/drawingml/2006/table">
            <a:tbl>
              <a:tblPr/>
              <a:tblGrid>
                <a:gridCol w="898560"/>
                <a:gridCol w="901440"/>
                <a:gridCol w="898560"/>
                <a:gridCol w="898560"/>
                <a:gridCol w="901800"/>
                <a:gridCol w="898560"/>
                <a:gridCol w="903240"/>
                <a:gridCol w="900000"/>
              </a:tblGrid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Comic Sans MS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Comic Sans MS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Comic Sans MS"/>
                          <a:ea typeface="Times New Roman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Comic Sans MS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Comic Sans MS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Comic Sans MS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Comic Sans MS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Comic Sans MS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916360" y="5805360"/>
                <a:ext cx="658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523280" y="5878440"/>
                <a:ext cx="504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187280" y="5805360"/>
                <a:ext cx="506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788000" y="5805360"/>
                <a:ext cx="4744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79640" y="5805360"/>
                <a:ext cx="5983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651640" y="5805360"/>
                <a:ext cx="566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659640" y="5805360"/>
                <a:ext cx="4460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Картинка 60 из 401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533160" y="4029120"/>
            <a:ext cx="846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Двигаясь на запад, друзья увидели пещ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Внутри стоял огромный камень,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котором было напис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«Отодвинь и ты найдешь в я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ундук с сокровищ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C:\Documents and Settings\Administrator\My Documents\My Pictures\486162-d3ca49219d9d0e53.gif"/>
          <p:cNvPicPr/>
          <p:nvPr/>
        </p:nvPicPr>
        <p:blipFill>
          <a:blip r:embed="rId2"/>
          <a:stretch/>
        </p:blipFill>
        <p:spPr>
          <a:xfrm rot="11275800">
            <a:off x="3580560" y="3061440"/>
            <a:ext cx="5010120" cy="590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C:\Documents and Settings\Administrator\My Documents\My Pictures\486162-d3ca49219d9d0e53.gif"/>
          <p:cNvPicPr/>
          <p:nvPr/>
        </p:nvPicPr>
        <p:blipFill>
          <a:blip r:embed="rId3"/>
          <a:stretch/>
        </p:blipFill>
        <p:spPr>
          <a:xfrm rot="20746800">
            <a:off x="103320" y="5546520"/>
            <a:ext cx="50101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Картинка 68 из 7161"/>
          <p:cNvPicPr/>
          <p:nvPr/>
        </p:nvPicPr>
        <p:blipFill>
          <a:blip r:embed="rId1"/>
          <a:stretch/>
        </p:blipFill>
        <p:spPr>
          <a:xfrm>
            <a:off x="0" y="-892080"/>
            <a:ext cx="9144000" cy="7750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5"/>
          <p:cNvGrpSpPr/>
          <p:nvPr/>
        </p:nvGrpSpPr>
        <p:grpSpPr>
          <a:xfrm>
            <a:off x="1835280" y="2421000"/>
            <a:ext cx="7850160" cy="4248000"/>
            <a:chOff x="1835280" y="2421000"/>
            <a:chExt cx="7850160" cy="4248000"/>
          </a:xfrm>
        </p:grpSpPr>
        <p:sp>
          <p:nvSpPr>
            <p:cNvPr id="186" name="AutoShape 6"/>
            <p:cNvSpPr/>
            <p:nvPr/>
          </p:nvSpPr>
          <p:spPr>
            <a:xfrm>
              <a:off x="1835280" y="2421000"/>
              <a:ext cx="785016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7"/>
            <p:cNvSpPr/>
            <p:nvPr/>
          </p:nvSpPr>
          <p:spPr>
            <a:xfrm>
              <a:off x="1988640" y="2557440"/>
              <a:ext cx="5233320" cy="383688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Генри достал сундук, но он был закрыт, а на крышке выгравировано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«Ваши знания - …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Выполните правильно действия и сундук откроетс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9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556000" y="5248440"/>
                <a:ext cx="410364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: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Картинка 137 из 7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6"/>
          <p:cNvGrpSpPr/>
          <p:nvPr/>
        </p:nvGrpSpPr>
        <p:grpSpPr>
          <a:xfrm>
            <a:off x="826920" y="1341360"/>
            <a:ext cx="4465800" cy="6335280"/>
            <a:chOff x="826920" y="1341360"/>
            <a:chExt cx="4465800" cy="6335280"/>
          </a:xfrm>
        </p:grpSpPr>
        <p:sp>
          <p:nvSpPr>
            <p:cNvPr id="47" name="AutoShape 7"/>
            <p:cNvSpPr/>
            <p:nvPr/>
          </p:nvSpPr>
          <p:spPr>
            <a:xfrm>
              <a:off x="826920" y="1341360"/>
              <a:ext cx="4465800" cy="63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8"/>
            <p:cNvSpPr/>
            <p:nvPr/>
          </p:nvSpPr>
          <p:spPr>
            <a:xfrm>
              <a:off x="826920" y="1341360"/>
              <a:ext cx="4305240" cy="445824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ffffcc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Comic Sans MS"/>
                </a:rPr>
                <a:t>После долгих поисков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Comic Sans MS"/>
                </a:rPr>
                <a:t>на чердаке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Comic Sans MS"/>
                </a:rPr>
                <a:t>среди старых вещей Генри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Comic Sans MS"/>
                </a:rPr>
                <a:t>нашел карту</a:t>
              </a:r>
              <a:r>
                <a:rPr b="1" lang="en-US" sz="2400" spc="-1" strike="noStrike">
                  <a:solidFill>
                    <a:srgbClr val="800000"/>
                  </a:solidFill>
                  <a:latin typeface="Comic Sans MS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2" descr="C:\Documents and Settings\Administrator\My Documents\My Pictures\2342880-a3603efe7df476d1.gif"/>
          <p:cNvPicPr/>
          <p:nvPr/>
        </p:nvPicPr>
        <p:blipFill>
          <a:blip r:embed="rId3"/>
          <a:stretch/>
        </p:blipFill>
        <p:spPr>
          <a:xfrm>
            <a:off x="4859280" y="7700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Картинка 0 из 172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/>
          <p:cNvSpPr/>
          <p:nvPr/>
        </p:nvSpPr>
        <p:spPr>
          <a:xfrm>
            <a:off x="324000" y="5734080"/>
            <a:ext cx="8569080" cy="863640"/>
          </a:xfrm>
          <a:custGeom>
            <a:avLst/>
            <a:gdLst>
              <a:gd name="textAreaLeft" fmla="*/ 2142000 w 8569080"/>
              <a:gd name="textAreaRight" fmla="*/ 6427080 w 8569080"/>
              <a:gd name="textAreaTop" fmla="*/ 10800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аши знания – это клад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5364000" y="260280"/>
            <a:ext cx="3529080" cy="2448000"/>
          </a:xfrm>
          <a:custGeom>
            <a:avLst/>
            <a:gdLst>
              <a:gd name="textAreaLeft" fmla="*/ 0 w 3529080"/>
              <a:gd name="textAreaRight" fmla="*/ 3529440 w 3529080"/>
              <a:gd name="textAreaTop" fmla="*/ 317160 h 2448000"/>
              <a:gd name="textAreaBottom" fmla="*/ 2130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ундук открылся и все были пораж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расотой сокровищ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торые завещал дед Ген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C:\Documents and Settings\Administrator\My Documents\My Pictures\529987-b60745f4915a9803.gif"/>
          <p:cNvPicPr/>
          <p:nvPr/>
        </p:nvPicPr>
        <p:blipFill>
          <a:blip r:embed="rId2"/>
          <a:stretch/>
        </p:blipFill>
        <p:spPr>
          <a:xfrm>
            <a:off x="324000" y="1700280"/>
            <a:ext cx="65516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Картинка 20 из 8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6840" y="187920"/>
            <a:ext cx="92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Вот и закончилось наше путешествие за сокровищ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607040" y="5970240"/>
            <a:ext cx="584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СПАСИБО ЗА УРОК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319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4930920" y="0"/>
            <a:ext cx="4394160" cy="2808360"/>
            <a:chOff x="4930920" y="0"/>
            <a:chExt cx="4394160" cy="2808360"/>
          </a:xfrm>
        </p:grpSpPr>
        <p:sp>
          <p:nvSpPr>
            <p:cNvPr id="54" name="AutoShape 6"/>
            <p:cNvSpPr/>
            <p:nvPr/>
          </p:nvSpPr>
          <p:spPr>
            <a:xfrm>
              <a:off x="4930920" y="0"/>
              <a:ext cx="439416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>
              <a:off x="4930920" y="0"/>
              <a:ext cx="4236120" cy="197604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ffffcc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800000"/>
                  </a:solidFill>
                  <a:latin typeface="Comic Sans MS"/>
                </a:rPr>
                <a:t>На карте было указано, где дед Родригес спрятал свои сокровища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2" descr="C:\Documents and Settings\Administrator\My Documents\My Pictures\529987-b60745f4915a9803.gif"/>
          <p:cNvPicPr/>
          <p:nvPr/>
        </p:nvPicPr>
        <p:blipFill>
          <a:blip r:embed="rId2"/>
          <a:stretch/>
        </p:blipFill>
        <p:spPr>
          <a:xfrm>
            <a:off x="7128000" y="1976400"/>
            <a:ext cx="7635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o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5435640" y="983520"/>
            <a:ext cx="388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Долго Ген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не решался на путешеств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но, наконец, отправи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в путь вместе со сво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друзьями на пои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таинственных сокрови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Картинка 17 из 7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826920" y="3124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иплыв на остров, отмеченный на кар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ни увидели на дереве надп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математические примеры и круг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циф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Administrator\My Documents\My Pictures\1802813-ad8b382263bb4126.gif"/>
          <p:cNvPicPr/>
          <p:nvPr/>
        </p:nvPicPr>
        <p:blipFill>
          <a:blip r:embed="rId3"/>
          <a:stretch/>
        </p:blipFill>
        <p:spPr>
          <a:xfrm>
            <a:off x="28440" y="4076640"/>
            <a:ext cx="30225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Рисунок2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9"/>
          <p:cNvSpPr/>
          <p:nvPr/>
        </p:nvSpPr>
        <p:spPr>
          <a:xfrm>
            <a:off x="6012000" y="1052640"/>
            <a:ext cx="2592360" cy="2520720"/>
          </a:xfrm>
          <a:custGeom>
            <a:avLst/>
            <a:gdLst>
              <a:gd name="textAreaLeft" fmla="*/ 379440 w 2592360"/>
              <a:gd name="textAreaRight" fmla="*/ 2212920 w 2592360"/>
              <a:gd name="textAreaTop" fmla="*/ 369000 h 2520720"/>
              <a:gd name="textAreaBottom" fmla="*/ 21517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6883" y="10800"/>
                </a:moveTo>
                <a:cubicBezTo>
                  <a:pt x="6883" y="12963"/>
                  <a:pt x="8637" y="14717"/>
                  <a:pt x="10800" y="14717"/>
                </a:cubicBezTo>
                <a:cubicBezTo>
                  <a:pt x="12963" y="14717"/>
                  <a:pt x="14717" y="12963"/>
                  <a:pt x="14717" y="10800"/>
                </a:cubicBezTo>
                <a:cubicBezTo>
                  <a:pt x="14717" y="8637"/>
                  <a:pt x="12963" y="6883"/>
                  <a:pt x="10800" y="6883"/>
                </a:cubicBezTo>
                <a:cubicBezTo>
                  <a:pt x="8637" y="6883"/>
                  <a:pt x="6883" y="8637"/>
                  <a:pt x="6883" y="108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7308720" y="2781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7667640" y="24922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3"/>
          <p:cNvSpPr/>
          <p:nvPr/>
        </p:nvSpPr>
        <p:spPr>
          <a:xfrm flipV="1">
            <a:off x="7596360" y="1341000"/>
            <a:ext cx="502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 flipH="1">
            <a:off x="6156360" y="249228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6443640" y="1413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27"/>
          <p:cNvSpPr txBox="1"/>
          <p:nvPr/>
        </p:nvSpPr>
        <p:spPr>
          <a:xfrm>
            <a:off x="6300720" y="1916280"/>
            <a:ext cx="25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74" name="WordArt 28"/>
          <p:cNvSpPr txBox="1"/>
          <p:nvPr/>
        </p:nvSpPr>
        <p:spPr>
          <a:xfrm>
            <a:off x="7020000" y="119700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5" name="WordArt 29"/>
          <p:cNvSpPr txBox="1"/>
          <p:nvPr/>
        </p:nvSpPr>
        <p:spPr>
          <a:xfrm>
            <a:off x="7956720" y="1916280"/>
            <a:ext cx="4316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ff"/>
              </a:solidFill>
              <a:latin typeface="Arial"/>
              <a:ea typeface="Arial"/>
            </a:endParaRPr>
          </a:p>
        </p:txBody>
      </p:sp>
      <p:sp>
        <p:nvSpPr>
          <p:cNvPr id="76" name="WordArt 30"/>
          <p:cNvSpPr txBox="1"/>
          <p:nvPr/>
        </p:nvSpPr>
        <p:spPr>
          <a:xfrm>
            <a:off x="7524720" y="2781360"/>
            <a:ext cx="4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ff"/>
              </a:solidFill>
              <a:latin typeface="Arial"/>
              <a:ea typeface="Arial"/>
            </a:endParaRPr>
          </a:p>
        </p:txBody>
      </p:sp>
      <p:sp>
        <p:nvSpPr>
          <p:cNvPr id="77" name="WordArt 31"/>
          <p:cNvSpPr txBox="1"/>
          <p:nvPr/>
        </p:nvSpPr>
        <p:spPr>
          <a:xfrm>
            <a:off x="6588000" y="2781360"/>
            <a:ext cx="43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</p:txBody>
      </p:sp>
      <p:sp>
        <p:nvSpPr>
          <p:cNvPr id="78" name="AutoShape 32"/>
          <p:cNvSpPr/>
          <p:nvPr/>
        </p:nvSpPr>
        <p:spPr>
          <a:xfrm>
            <a:off x="179280" y="5229360"/>
            <a:ext cx="3745080" cy="180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50000">
                <a:srgbClr val="ffffcc"/>
              </a:gs>
              <a:gs pos="100000">
                <a:srgbClr val="ff99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3"/>
          <p:cNvSpPr/>
          <p:nvPr/>
        </p:nvSpPr>
        <p:spPr>
          <a:xfrm>
            <a:off x="6804000" y="1844640"/>
            <a:ext cx="987480" cy="936720"/>
          </a:xfrm>
          <a:prstGeom prst="flowChartDecision">
            <a:avLst/>
          </a:prstGeom>
          <a:gradFill rotWithShape="0">
            <a:gsLst>
              <a:gs pos="0">
                <a:srgbClr val="ffffcc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4"/>
          <p:cNvSpPr/>
          <p:nvPr/>
        </p:nvSpPr>
        <p:spPr>
          <a:xfrm>
            <a:off x="475920" y="5588280"/>
            <a:ext cx="324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Выполни все зад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чтобы продвину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дал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5">
            <a:hlinkClick r:id="" action="ppaction://hlinkshowjump?jump=nextslide"/>
          </p:cNvPr>
          <p:cNvSpPr/>
          <p:nvPr/>
        </p:nvSpPr>
        <p:spPr>
          <a:xfrm>
            <a:off x="6156360" y="191628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6">
            <a:hlinkClick r:id="rId3" action="ppaction://hlinksldjump"/>
          </p:cNvPr>
          <p:cNvSpPr/>
          <p:nvPr/>
        </p:nvSpPr>
        <p:spPr>
          <a:xfrm>
            <a:off x="6948360" y="1197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7">
            <a:hlinkClick r:id="rId4" action="ppaction://hlinksldjump"/>
          </p:cNvPr>
          <p:cNvSpPr/>
          <p:nvPr/>
        </p:nvSpPr>
        <p:spPr>
          <a:xfrm>
            <a:off x="7956720" y="198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8">
            <a:hlinkClick r:id="rId5" action="ppaction://hlinksldjump"/>
          </p:cNvPr>
          <p:cNvSpPr/>
          <p:nvPr/>
        </p:nvSpPr>
        <p:spPr>
          <a:xfrm>
            <a:off x="7524720" y="2852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9">
            <a:hlinkClick r:id="rId6" action="ppaction://hlinksldjump"/>
          </p:cNvPr>
          <p:cNvSpPr/>
          <p:nvPr/>
        </p:nvSpPr>
        <p:spPr>
          <a:xfrm>
            <a:off x="6588000" y="285264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0">
            <a:hlinkClick r:id="rId7" action="ppaction://hlinksldjump"/>
          </p:cNvPr>
          <p:cNvSpPr/>
          <p:nvPr/>
        </p:nvSpPr>
        <p:spPr>
          <a:xfrm>
            <a:off x="7093080" y="21337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Documents and Settings\Administrator\My Documents\My Pictures\420073-c8707088a8de4e99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rot="2761800">
            <a:off x="7031880" y="20332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vozvrashenie-na-ostrov-sokrovish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9"/>
          <p:cNvSpPr/>
          <p:nvPr/>
        </p:nvSpPr>
        <p:spPr>
          <a:xfrm>
            <a:off x="3205080" y="4294080"/>
            <a:ext cx="5759640" cy="2590920"/>
          </a:xfrm>
          <a:prstGeom prst="flowChartPunchedTape">
            <a:avLst/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627280" y="4772160"/>
            <a:ext cx="49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. Вычисл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74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 –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47 +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37 –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>
            <a:hlinkClick r:id="rId2" action="ppaction://hlinksldjump"/>
          </p:cNvPr>
          <p:cNvSpPr/>
          <p:nvPr/>
        </p:nvSpPr>
        <p:spPr>
          <a:xfrm>
            <a:off x="0" y="6210360"/>
            <a:ext cx="611280" cy="647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47640"/>
              <a:gd name="textAreaBottom" fmla="*/ 608040 h 647640"/>
            </a:gdLst>
            <a:ahLst/>
            <a:rect l="textAreaLeft" t="textAreaTop" r="textAreaRight" b="textAreaBottom"/>
            <a:pathLst>
              <a:path w="21600" h="22884">
                <a:moveTo>
                  <a:pt x="0" y="0"/>
                </a:moveTo>
                <a:lnTo>
                  <a:pt x="21600" y="0"/>
                </a:lnTo>
                <a:lnTo>
                  <a:pt x="21600" y="22884"/>
                </a:lnTo>
                <a:lnTo>
                  <a:pt x="0" y="22884"/>
                </a:lnTo>
                <a:close/>
              </a:path>
              <a:path fill="lightenLess" w="21600" h="228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84">
                <a:moveTo>
                  <a:pt x="21600" y="0"/>
                </a:moveTo>
                <a:lnTo>
                  <a:pt x="21600" y="22884"/>
                </a:lnTo>
                <a:lnTo>
                  <a:pt x="20200" y="21484"/>
                </a:lnTo>
                <a:lnTo>
                  <a:pt x="20200" y="1400"/>
                </a:lnTo>
                <a:close/>
              </a:path>
              <a:path fill="darkenLess" w="21600" h="22884">
                <a:moveTo>
                  <a:pt x="21600" y="22884"/>
                </a:moveTo>
                <a:lnTo>
                  <a:pt x="0" y="22884"/>
                </a:lnTo>
                <a:lnTo>
                  <a:pt x="1400" y="21484"/>
                </a:lnTo>
                <a:lnTo>
                  <a:pt x="20200" y="21484"/>
                </a:lnTo>
                <a:close/>
              </a:path>
              <a:path fill="lighten" w="21600" h="22884">
                <a:moveTo>
                  <a:pt x="0" y="228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84"/>
                </a:lnTo>
                <a:close/>
              </a:path>
              <a:path fill="darken" w="21600" h="22884">
                <a:moveTo>
                  <a:pt x="3794" y="11442"/>
                </a:moveTo>
                <a:lnTo>
                  <a:pt x="17806" y="4436"/>
                </a:lnTo>
                <a:lnTo>
                  <a:pt x="17806" y="1844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Administrator\My Documents\My Pictures\439667-12f8765f1c16a990.gif"/>
          <p:cNvPicPr/>
          <p:nvPr/>
        </p:nvPicPr>
        <p:blipFill>
          <a:blip r:embed="rId4"/>
          <a:stretch/>
        </p:blipFill>
        <p:spPr>
          <a:xfrm>
            <a:off x="1403280" y="3170160"/>
            <a:ext cx="652680" cy="51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Administrator\My Documents\My Pictures\486160-f9ef312cc0fc3edf.gif"/>
          <p:cNvPicPr/>
          <p:nvPr/>
        </p:nvPicPr>
        <p:blipFill>
          <a:blip r:embed="rId5"/>
          <a:stretch/>
        </p:blipFill>
        <p:spPr>
          <a:xfrm>
            <a:off x="7740720" y="1413000"/>
            <a:ext cx="7016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Film_shot00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6"/>
          <p:cNvSpPr/>
          <p:nvPr/>
        </p:nvSpPr>
        <p:spPr>
          <a:xfrm>
            <a:off x="179280" y="404640"/>
            <a:ext cx="3529080" cy="2232360"/>
          </a:xfrm>
          <a:prstGeom prst="wedgeRoundRectCallout">
            <a:avLst>
              <a:gd name="adj1" fmla="val 71009"/>
              <a:gd name="adj2" fmla="val 26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549360"/>
            <a:ext cx="3780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2. Решите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3∙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Х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= - 1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- 8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х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= -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>
            <a:hlinkClick r:id="rId2" action="ppaction://hlinksldjump"/>
          </p:cNvPr>
          <p:cNvSpPr/>
          <p:nvPr/>
        </p:nvSpPr>
        <p:spPr>
          <a:xfrm>
            <a:off x="0" y="613872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3815" y="10800"/>
                </a:moveTo>
                <a:lnTo>
                  <a:pt x="17828" y="3794"/>
                </a:lnTo>
                <a:lnTo>
                  <a:pt x="178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Administrator\My Documents\My Pictures\471397-0b24cf0043b340b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7">
            <a:hlinkClick r:id="rId2" action="ppaction://hlinksldjump"/>
          </p:cNvPr>
          <p:cNvSpPr/>
          <p:nvPr/>
        </p:nvSpPr>
        <p:spPr>
          <a:xfrm>
            <a:off x="23760" y="620568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3794" y="12135"/>
                </a:moveTo>
                <a:lnTo>
                  <a:pt x="17806" y="5128"/>
                </a:lnTo>
                <a:lnTo>
                  <a:pt x="17806" y="191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108000" y="345960"/>
            <a:ext cx="5940360" cy="2637000"/>
          </a:xfrm>
          <a:custGeom>
            <a:avLst/>
            <a:gdLst>
              <a:gd name="textAreaLeft" fmla="*/ 423360 w 5940360"/>
              <a:gd name="textAreaRight" fmla="*/ 6364080 w 5940360"/>
              <a:gd name="textAreaTop" fmla="*/ 409680 h 2637000"/>
              <a:gd name="textAreaBottom" fmla="*/ 2227320 h 2637000"/>
            </a:gdLst>
            <a:ahLst/>
            <a:rect l="textAreaLeft" t="textAreaTop" r="textAreaRight" b="textAreaBottom"/>
            <a:pathLst>
              <a:path w="21600" h="21600">
                <a:moveTo>
                  <a:pt x="1540" y="1678"/>
                </a:moveTo>
                <a:cubicBezTo>
                  <a:pt x="7970" y="-4266"/>
                  <a:pt x="15170" y="7622"/>
                  <a:pt x="21600" y="1678"/>
                </a:cubicBezTo>
                <a:lnTo>
                  <a:pt x="20060" y="19922"/>
                </a:lnTo>
                <a:cubicBezTo>
                  <a:pt x="13630" y="25866"/>
                  <a:pt x="6430" y="13978"/>
                  <a:pt x="0" y="1992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3. Вычисл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(-347-18∙(-5)+27) : (-1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Administrator\My Documents\My Pictures\486164-d7df1990c7aa6ff3.gif"/>
          <p:cNvPicPr/>
          <p:nvPr/>
        </p:nvPicPr>
        <p:blipFill>
          <a:blip r:embed="rId3"/>
          <a:stretch/>
        </p:blipFill>
        <p:spPr>
          <a:xfrm>
            <a:off x="1619280" y="5753160"/>
            <a:ext cx="865080" cy="706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Administrator\My Documents\My Pictures\486153-f065c7801e9f787f.gif"/>
          <p:cNvPicPr/>
          <p:nvPr/>
        </p:nvPicPr>
        <p:blipFill>
          <a:blip r:embed="rId4"/>
          <a:stretch/>
        </p:blipFill>
        <p:spPr>
          <a:xfrm>
            <a:off x="6732720" y="5819760"/>
            <a:ext cx="792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7:39:19Z</dcterms:created>
  <dc:creator>Пингвин</dc:creator>
  <dc:description/>
  <dc:language>en-US</dc:language>
  <cp:lastModifiedBy>Ольга</cp:lastModifiedBy>
  <dcterms:modified xsi:type="dcterms:W3CDTF">2014-12-07T19:33:11Z</dcterms:modified>
  <cp:revision>30</cp:revision>
  <dc:subject/>
  <dc:title>Слайд 1</dc:title>
</cp:coreProperties>
</file>