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724-8263-44AF-B000-4AB9C9CF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1B0-258B-4879-AC49-21A95F26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BB1-3C05-4590-8AD5-029F810E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5A6-B786-4E97-B83E-CBD4AED6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CBE-E1C4-45D6-A8C2-B18C0FF6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926-5E91-4592-9BD6-7B3AE463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BBC-0011-4BDB-AEEC-CA267B14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97F-874E-4C64-A637-79F1C912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B45-A799-4DBE-A5EA-25E58D40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971-4F88-44E8-8932-4FD7C225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AD9-7AF7-4E16-841C-98278AD4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E0B-C421-4036-B696-E70B35F5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4A83-FB9A-4744-9728-7ADB567CB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3;&#1077;&#1082;&#1089;&#1072;&#1085;&#1076;&#1088;%20II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79;&#1080;&#1084;&#1086;&#1074;,_&#1042;&#1083;&#1072;&#1076;&#1080;&#1084;&#1080;&#1088;_&#1048;&#1074;&#1072;&#1085;&#1086;&#1074;&#1080;&#1095;" TargetMode="External"/><Relationship Id="rId2" Type="http://schemas.openxmlformats.org/officeDocument/2006/relationships/hyperlink" Target="http://ru.wikipedia.org/wiki/&#1056;&#1086;&#1089;&#1090;&#1086;&#1074;&#1094;&#1077;&#1074;%20&#1071;&#1082;&#1086;&#1074;%20&#1048;&#1074;&#1072;&#1085;&#1086;&#1074;&#1080;&#1095;" TargetMode="External"/><Relationship Id="rId3" Type="http://schemas.openxmlformats.org/officeDocument/2006/relationships/hyperlink" Target="http://ru.wikipedia.org/wiki/&#1055;&#1072;&#1085;&#1080;&#1085;,_&#1042;&#1080;&#1082;&#1090;&#1086;&#1088;_&#1053;&#1080;&#1082;&#1080;&#1090;&#1080;&#1095;" TargetMode="Externa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source.org/wiki/&#1084;&#1072;&#1085;&#1080;&#1092;&#1077;&#1089;&#1090;%2019%20&#1092;&#1077;&#1074;&#1088;&#1072;&#1083;&#1103;%201861%20&#1075;&#1086;&#1076;&#1072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258920" y="2133720"/>
            <a:ext cx="677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Elephant"/>
              </a:rPr>
              <a:t>ОТМЕНА КРЕПОСТНОГО ПРАВА</a:t>
            </a:r>
            <a:endParaRPr b="0" lang="en-US" sz="40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267080" y="573264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Elephant"/>
              </a:rPr>
              <a:t>Учитель истории и обществознания         ГБОУ школы № 579 Приморского района Санкт-Петербурга: Леонтьева А.В.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330200" y="1413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Elephant"/>
              </a:rPr>
              <a:t>Уставная грамота – 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427640" y="1125360"/>
            <a:ext cx="396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соглашение между помещиком и крестьянами о размерах крестьянских наделов и повинностях временнообязанных.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9640" y="3860640"/>
            <a:ext cx="34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Elephant"/>
              </a:rPr>
              <a:t>Мировые посредники –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068720" y="335772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должностные лица, назначаемые из дворян для составления и утверждения уставных грамот и разбора споров между крестьянами и помещиками. Обладали судебно-административной властью.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7748"/>
                </a:moveTo>
                <a:lnTo>
                  <a:pt x="7301" y="7748"/>
                </a:lnTo>
                <a:lnTo>
                  <a:pt x="7301" y="13083"/>
                </a:lnTo>
                <a:cubicBezTo>
                  <a:pt x="7301" y="14006"/>
                  <a:pt x="8102" y="14737"/>
                  <a:pt x="9138" y="14737"/>
                </a:cubicBezTo>
                <a:lnTo>
                  <a:pt x="10800" y="14737"/>
                </a:lnTo>
                <a:cubicBezTo>
                  <a:pt x="11836" y="14737"/>
                  <a:pt x="12636" y="14006"/>
                  <a:pt x="12636" y="13083"/>
                </a:cubicBezTo>
                <a:lnTo>
                  <a:pt x="12636" y="7748"/>
                </a:lnTo>
                <a:lnTo>
                  <a:pt x="10800" y="7748"/>
                </a:lnTo>
                <a:lnTo>
                  <a:pt x="14308" y="4241"/>
                </a:lnTo>
                <a:lnTo>
                  <a:pt x="17981" y="7748"/>
                </a:lnTo>
                <a:lnTo>
                  <a:pt x="16144" y="7748"/>
                </a:lnTo>
                <a:lnTo>
                  <a:pt x="16144" y="13083"/>
                </a:lnTo>
                <a:cubicBezTo>
                  <a:pt x="16144" y="15851"/>
                  <a:pt x="13568" y="18410"/>
                  <a:pt x="10800" y="18410"/>
                </a:cubicBezTo>
                <a:lnTo>
                  <a:pt x="9138" y="18410"/>
                </a:lnTo>
                <a:cubicBezTo>
                  <a:pt x="6370" y="18410"/>
                  <a:pt x="3794" y="15851"/>
                  <a:pt x="3794" y="13083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824400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18526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картина"/>
          <p:cNvPicPr/>
          <p:nvPr/>
        </p:nvPicPr>
        <p:blipFill>
          <a:blip r:embed="rId1"/>
          <a:srcRect l="8877" t="10151" r="5126" b="11657"/>
          <a:stretch/>
        </p:blipFill>
        <p:spPr>
          <a:xfrm>
            <a:off x="1258920" y="836640"/>
            <a:ext cx="6553080" cy="3887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979640" y="522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Elephant"/>
              </a:rPr>
              <a:t>«Чтение Манифеста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19 </a:t>
            </a:r>
            <a:r>
              <a:rPr b="1" i="1" lang="ru-RU" sz="1800" spc="-1" strike="noStrike">
                <a:solidFill>
                  <a:srgbClr val="0066ff"/>
                </a:solidFill>
                <a:latin typeface="Elephant"/>
              </a:rPr>
              <a:t>февраля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1861г.</a:t>
            </a:r>
            <a:r>
              <a:rPr b="1" i="1" lang="ru-RU" sz="1800" spc="-1" strike="noStrike">
                <a:solidFill>
                  <a:srgbClr val="0066ff"/>
                </a:solidFill>
                <a:latin typeface="Elephant"/>
              </a:rPr>
              <a:t>»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ff"/>
                </a:solidFill>
                <a:latin typeface="Elephant"/>
              </a:rPr>
              <a:t>худ. Г.Г.Мясоедов</a:t>
            </a:r>
            <a:r>
              <a:rPr b="0" i="1" lang="ru-RU" sz="1800" spc="-1" strike="noStrike">
                <a:solidFill>
                  <a:srgbClr val="0066ff"/>
                </a:solidFill>
                <a:latin typeface="Eleph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225160" y="189000"/>
            <a:ext cx="47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Крестьянские волнения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16000" y="112536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Elephant"/>
              </a:rPr>
              <a:t>Наиболее крупные произошли в селениях </a:t>
            </a:r>
            <a:r>
              <a:rPr b="1" lang="ru-RU" sz="2800" spc="-1" strike="noStrike">
                <a:solidFill>
                  <a:srgbClr val="0066ff"/>
                </a:solidFill>
                <a:latin typeface="Elephant"/>
              </a:rPr>
              <a:t>Бездна</a:t>
            </a:r>
            <a:r>
              <a:rPr b="0" lang="ru-RU" sz="2800" spc="-1" strike="noStrike">
                <a:solidFill>
                  <a:srgbClr val="0066ff"/>
                </a:solidFill>
                <a:latin typeface="Elephant"/>
              </a:rPr>
              <a:t> Казанской губернии и </a:t>
            </a:r>
            <a:r>
              <a:rPr b="1" lang="ru-RU" sz="2800" spc="-1" strike="noStrike">
                <a:solidFill>
                  <a:srgbClr val="0066ff"/>
                </a:solidFill>
                <a:latin typeface="Elephant"/>
              </a:rPr>
              <a:t>Кандеевка</a:t>
            </a:r>
            <a:r>
              <a:rPr b="0" lang="ru-RU" sz="2800" spc="-1" strike="noStrike">
                <a:solidFill>
                  <a:srgbClr val="0066ff"/>
                </a:solidFill>
                <a:latin typeface="Elephant"/>
              </a:rPr>
              <a:t> Пензенской  губернии.</a:t>
            </a:r>
            <a:r>
              <a:rPr b="0" lang="ru-RU" sz="28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32600" y="692280"/>
            <a:ext cx="77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Elephant"/>
              </a:rPr>
              <a:t>За 1861г. – 1859 крестьянских волнений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pic>
        <p:nvPicPr>
          <p:cNvPr id="122" name="Picture 5" descr="150"/>
          <p:cNvPicPr/>
          <p:nvPr/>
        </p:nvPicPr>
        <p:blipFill>
          <a:blip r:embed="rId1"/>
          <a:stretch/>
        </p:blipFill>
        <p:spPr>
          <a:xfrm>
            <a:off x="1619280" y="2492280"/>
            <a:ext cx="5832360" cy="3370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3059280" y="6021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Elephant"/>
              </a:rPr>
              <a:t>«Крестьянское восстание эпохи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60-</a:t>
            </a:r>
            <a:r>
              <a:rPr b="1" i="1" lang="ru-RU" sz="1800" spc="-1" strike="noStrike">
                <a:solidFill>
                  <a:srgbClr val="0066ff"/>
                </a:solidFill>
                <a:latin typeface="Elephant"/>
              </a:rPr>
              <a:t>х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г.г.</a:t>
            </a:r>
            <a:r>
              <a:rPr b="1" i="1" lang="ru-RU" sz="1800" spc="-1" strike="noStrike">
                <a:solidFill>
                  <a:srgbClr val="0066ff"/>
                </a:solidFill>
                <a:latin typeface="Elephant"/>
              </a:rPr>
              <a:t>» худ. С.В.Герасимов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340000" y="260280"/>
            <a:ext cx="46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Значение и итоги реформы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39640" y="981000"/>
            <a:ext cx="8137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Elephant"/>
              </a:rPr>
              <a:t>1.Создала необходимые условия для утверждения капитализма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Elephant"/>
              </a:rPr>
              <a:t>2.Способствовала росту темпов экономического развития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Elephant"/>
              </a:rPr>
              <a:t>3.Способствовала складыванию новой социальной структуры, появлению новых социальных слоев; изменению самого крестьянства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95280" y="393372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Elephant"/>
              </a:rPr>
              <a:t>        </a:t>
            </a:r>
            <a:r>
              <a:rPr b="1" i="1" lang="ru-RU" sz="2400" spc="-1" strike="noStrike">
                <a:solidFill>
                  <a:srgbClr val="0066ff"/>
                </a:solidFill>
                <a:latin typeface="Elephant"/>
              </a:rPr>
              <a:t>Однако, реформа была крайне непоследовательной и противоречивой. Она сохранила в деревне крепостнические пережитки и прежде всего – помещичье землевладение. К тому же крестьяне так и не получили землю в полную собственность, а значит, не имели возможности перестроить свое хозяйство на новый лад.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843280" y="620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Elephant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484360" y="1484280"/>
            <a:ext cx="54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Elephant"/>
                <a:hlinkClick r:id="rId1" action="ppaction://hlinksldjump"/>
              </a:rPr>
              <a:t>1. 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Elephant"/>
                <a:hlinkClick r:id="rId2" action="ppaction://hlinksldjump"/>
              </a:rPr>
              <a:t>Император Александр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Elephant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Elephant"/>
                <a:hlinkClick r:id="rId4" action="ppaction://hlinksldjump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116000" y="2060640"/>
            <a:ext cx="5616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Elephant"/>
                <a:hlinkClick r:id="rId5" action="ppaction://hlinksldjump"/>
              </a:rPr>
              <a:t>2.   Крестьянский вопрос                                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Elephant"/>
                <a:hlinkClick r:id="rId6" action="ppaction://hlinksldjump"/>
              </a:rPr>
              <a:t>Причины отмены крепостного права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484360" y="306864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Elephant"/>
                <a:hlinkClick r:id="rId7" action="ppaction://hlinksldjump"/>
              </a:rPr>
              <a:t>3.   Разработка крестьянской реформы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116000" y="3573360"/>
            <a:ext cx="576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Elephant"/>
                <a:hlinkClick r:id="rId8" action="ppaction://hlinksldjump"/>
              </a:rPr>
              <a:t>4.   Основные положения реформы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484360" y="4149720"/>
            <a:ext cx="457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Elephant"/>
                <a:hlinkClick r:id="rId9" action="ppaction://hlinksldjump"/>
              </a:rPr>
              <a:t>5.   Крестьянские волнения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258920" y="4508640"/>
            <a:ext cx="43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116000" y="4724280"/>
            <a:ext cx="475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Elephant"/>
                <a:hlinkClick r:id="rId10" action="ppaction://hlinksldjump"/>
              </a:rPr>
              <a:t>6.   Значение и итоги реформы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042920" y="47628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«Император Александр </a:t>
            </a:r>
            <a:r>
              <a:rPr b="1" lang="en-US" sz="2800" spc="-1" strike="noStrike">
                <a:solidFill>
                  <a:srgbClr val="333399"/>
                </a:solidFill>
                <a:latin typeface="Elephant"/>
              </a:rPr>
              <a:t>II – </a:t>
            </a: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сын царя, воспитанник поэта»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pic>
        <p:nvPicPr>
          <p:cNvPr id="52" name="Picture 4" descr="0_25ca1_6758f016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557360"/>
            <a:ext cx="2772000" cy="4000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700360" y="5950080"/>
            <a:ext cx="374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979640" y="58053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Elephant"/>
              </a:rPr>
              <a:t>(2 </a:t>
            </a: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марта</a:t>
            </a:r>
            <a:r>
              <a:rPr b="0" lang="ru-RU" sz="2800" spc="-1" strike="noStrike">
                <a:solidFill>
                  <a:srgbClr val="333399"/>
                </a:solidFill>
                <a:latin typeface="Elephant"/>
              </a:rPr>
              <a:t> 1855 – 1 </a:t>
            </a: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марта</a:t>
            </a:r>
            <a:r>
              <a:rPr b="0" lang="ru-RU" sz="2800" spc="-1" strike="noStrike">
                <a:solidFill>
                  <a:srgbClr val="333399"/>
                </a:solidFill>
                <a:latin typeface="Elephant"/>
              </a:rPr>
              <a:t> 1881)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55" name="AutoShape 8">
            <a:hlinkClick r:id="rId3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10800"/>
                </a:moveTo>
                <a:lnTo>
                  <a:pt x="19506" y="3794"/>
                </a:lnTo>
                <a:lnTo>
                  <a:pt x="1950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700360" y="33336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Крестьянский вопрос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71640" y="119700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Elephant"/>
              </a:rPr>
              <a:t>Реформа –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627280" y="119700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преобразование, изменение чего-нибудь.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971640" y="20606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Elephant"/>
              </a:rPr>
              <a:t>Крепостное право –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95640" y="1700280"/>
            <a:ext cx="417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форма зависимости крестьян, при которой они наделяются землей, неся за пользование ею различные повинности (барщина, оброк) и подчиняются судебной и административной власти помещика. Крестьянин является его собственностью. 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</p:txBody>
      </p:sp>
      <p:pic>
        <p:nvPicPr>
          <p:cNvPr id="61" name="Picture 9" descr="280px-Tsar_Nicholas_I_-3"/>
          <p:cNvPicPr/>
          <p:nvPr/>
        </p:nvPicPr>
        <p:blipFill>
          <a:blip r:embed="rId1"/>
          <a:srcRect l="20247" t="11617" r="20247" b="23234"/>
          <a:stretch/>
        </p:blipFill>
        <p:spPr>
          <a:xfrm>
            <a:off x="468360" y="3213000"/>
            <a:ext cx="2114640" cy="3027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39640" y="6308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Elephant"/>
              </a:rPr>
              <a:t>Николай</a:t>
            </a:r>
            <a:r>
              <a:rPr b="0" lang="ru-RU" sz="1600" spc="-1" strike="noStrike">
                <a:solidFill>
                  <a:srgbClr val="333399"/>
                </a:solidFill>
                <a:latin typeface="Elephant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Elephant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458136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Elephant"/>
              </a:rPr>
              <a:t>«Нет сомнения, что крепостное право, в нынешнем его положении у нас, есть зло, для всех ощутительное и очевидное, но прикасаться к нему теперь было бы делом еще более губительным».              </a:t>
            </a:r>
            <a:r>
              <a:rPr b="0" i="1" lang="ru-RU" sz="1800" spc="-1" strike="noStrike">
                <a:solidFill>
                  <a:srgbClr val="333399"/>
                </a:solidFill>
                <a:latin typeface="Elephant"/>
              </a:rPr>
              <a:t>(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1842 г.</a:t>
            </a:r>
            <a:r>
              <a:rPr b="0" i="1" lang="ru-RU" sz="1800" spc="-1" strike="noStrike">
                <a:solidFill>
                  <a:srgbClr val="333399"/>
                </a:solidFill>
                <a:latin typeface="Elephant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Elephant"/>
              </a:rPr>
              <a:t>Николай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i="1" lang="ru-RU" sz="1800" spc="-1" strike="noStrike">
                <a:solidFill>
                  <a:srgbClr val="333399"/>
                </a:solidFill>
                <a:latin typeface="Elephan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64" name="AutoShape 13">
            <a:hlinkClick r:id="rId2" action="ppaction://hlinksldjump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763640" y="26028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Причины отмены крепостного права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125360"/>
            <a:ext cx="655344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1.Низкая производительность труда крепостных крестьян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2.Отсутствие личной свободы у крестьян препятствовало развитию промышленности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3.Угроза общественного спокойствия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4.Крепостное право на практике ничем не отличалось от рабства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5.Экономическая и военно-техническая отсталость России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187280" y="4581360"/>
            <a:ext cx="7128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Elephant"/>
              </a:rPr>
              <a:t>Вывод: </a:t>
            </a:r>
            <a:r>
              <a:rPr b="0" i="1" lang="ru-RU" sz="2000" spc="-1" strike="noStrike">
                <a:solidFill>
                  <a:srgbClr val="0066ff"/>
                </a:solidFill>
                <a:latin typeface="Elephant"/>
              </a:rPr>
              <a:t>крепостное право препятствовало дальнейшему экономическому развитию страны, грозило отодвинуть Россию в разряд второстепенных держав и являлось мощным дестабилизирующим фактором внутри российского общества.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68" name="AutoShape 8">
            <a:hlinkClick r:id="rId1" action="ppaction://hlinksldjump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619280" y="18900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Разработка крестьянской реформы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124000" y="907920"/>
            <a:ext cx="4896000" cy="792360"/>
          </a:xfrm>
          <a:prstGeom prst="rect">
            <a:avLst/>
          </a:prstGeom>
          <a:gradFill rotWithShape="0">
            <a:gsLst>
              <a:gs pos="0">
                <a:srgbClr val="d0cece">
                  <a:alpha val="90196"/>
                </a:srgbClr>
              </a:gs>
              <a:gs pos="100000">
                <a:srgbClr val="605f5f">
                  <a:alpha val="34117"/>
                </a:srgbClr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Elephant"/>
              </a:rPr>
              <a:t>Государственный совет, возглавляемый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Elephant"/>
              </a:rPr>
              <a:t>Александром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1" name="Oval 4"/>
          <p:cNvSpPr/>
          <p:nvPr/>
        </p:nvSpPr>
        <p:spPr>
          <a:xfrm>
            <a:off x="468360" y="2060640"/>
            <a:ext cx="2663640" cy="1654200"/>
          </a:xfrm>
          <a:prstGeom prst="ellipse">
            <a:avLst/>
          </a:prstGeom>
          <a:gradFill rotWithShape="0">
            <a:gsLst>
              <a:gs pos="0">
                <a:srgbClr val="d0cece">
                  <a:alpha val="90196"/>
                </a:srgbClr>
              </a:gs>
              <a:gs pos="100000">
                <a:srgbClr val="605f5f">
                  <a:alpha val="34117"/>
                </a:srgbClr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Негласный (секретный) 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комитет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января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1857 </a:t>
            </a: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2" name="Oval 5"/>
          <p:cNvSpPr/>
          <p:nvPr/>
        </p:nvSpPr>
        <p:spPr>
          <a:xfrm>
            <a:off x="4067280" y="2060640"/>
            <a:ext cx="2663640" cy="1654200"/>
          </a:xfrm>
          <a:prstGeom prst="ellipse">
            <a:avLst/>
          </a:prstGeom>
          <a:gradFill rotWithShape="0">
            <a:gsLst>
              <a:gs pos="0">
                <a:srgbClr val="d0cece">
                  <a:alpha val="90196"/>
                </a:srgbClr>
              </a:gs>
              <a:gs pos="100000">
                <a:srgbClr val="605f5f">
                  <a:alpha val="34117"/>
                </a:srgbClr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Главный комитет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февраль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1858 </a:t>
            </a: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763640" y="5805360"/>
            <a:ext cx="5977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0 </a:t>
            </a:r>
            <a:r>
              <a:rPr b="0" lang="ru-RU" sz="1800" spc="-1" strike="noStrike">
                <a:solidFill>
                  <a:srgbClr val="333399"/>
                </a:solidFill>
                <a:latin typeface="Elephant"/>
              </a:rPr>
              <a:t>ноября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857</a:t>
            </a:r>
            <a:r>
              <a:rPr b="0" lang="ru-RU" sz="1800" spc="-1" strike="noStrike">
                <a:solidFill>
                  <a:srgbClr val="333399"/>
                </a:solidFill>
                <a:latin typeface="Elephant"/>
              </a:rPr>
              <a:t>г. на им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Elephant"/>
                <a:hlinkClick r:id="rId1"/>
              </a:rPr>
              <a:t>В.И.Назимова</a:t>
            </a:r>
            <a:r>
              <a:rPr b="0" lang="ru-RU" sz="1800" spc="-1" strike="noStrike">
                <a:solidFill>
                  <a:srgbClr val="333399"/>
                </a:solidFill>
                <a:latin typeface="Elephant"/>
              </a:rPr>
              <a:t> дан рескрипт об учреждении дворянских губернских комитетов для подготовки крестьянской реформ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4" name="Oval 7"/>
          <p:cNvSpPr/>
          <p:nvPr/>
        </p:nvSpPr>
        <p:spPr>
          <a:xfrm>
            <a:off x="755640" y="5084640"/>
            <a:ext cx="1657440" cy="1152720"/>
          </a:xfrm>
          <a:prstGeom prst="ellipse">
            <a:avLst/>
          </a:prstGeom>
          <a:gradFill rotWithShape="0">
            <a:gsLst>
              <a:gs pos="0">
                <a:srgbClr val="d0cece">
                  <a:alpha val="90196"/>
                </a:srgbClr>
              </a:gs>
              <a:gs pos="100000">
                <a:srgbClr val="605f5f">
                  <a:alpha val="34117"/>
                </a:srgbClr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губернский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комитет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5" name="Oval 8"/>
          <p:cNvSpPr/>
          <p:nvPr/>
        </p:nvSpPr>
        <p:spPr>
          <a:xfrm>
            <a:off x="3780000" y="5084640"/>
            <a:ext cx="1657080" cy="1152720"/>
          </a:xfrm>
          <a:prstGeom prst="ellipse">
            <a:avLst/>
          </a:prstGeom>
          <a:gradFill rotWithShape="0">
            <a:gsLst>
              <a:gs pos="0">
                <a:srgbClr val="d0cece">
                  <a:alpha val="90196"/>
                </a:srgbClr>
              </a:gs>
              <a:gs pos="100000">
                <a:srgbClr val="605f5f">
                  <a:alpha val="34117"/>
                </a:srgbClr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губернский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комитет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6" name="Oval 9"/>
          <p:cNvSpPr/>
          <p:nvPr/>
        </p:nvSpPr>
        <p:spPr>
          <a:xfrm>
            <a:off x="6732720" y="5084640"/>
            <a:ext cx="1657080" cy="1152720"/>
          </a:xfrm>
          <a:prstGeom prst="ellipse">
            <a:avLst/>
          </a:prstGeom>
          <a:gradFill rotWithShape="0">
            <a:gsLst>
              <a:gs pos="0">
                <a:srgbClr val="d0cece">
                  <a:alpha val="90196"/>
                </a:srgbClr>
              </a:gs>
              <a:gs pos="100000">
                <a:srgbClr val="605f5f">
                  <a:alpha val="34117"/>
                </a:srgbClr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губернский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комитет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116000" y="4076640"/>
            <a:ext cx="6840720" cy="647640"/>
          </a:xfrm>
          <a:prstGeom prst="rect">
            <a:avLst/>
          </a:prstGeom>
          <a:gradFill rotWithShape="0">
            <a:gsLst>
              <a:gs pos="0">
                <a:srgbClr val="d0cece">
                  <a:alpha val="90196"/>
                </a:srgbClr>
              </a:gs>
              <a:gs pos="100000">
                <a:srgbClr val="605f5f">
                  <a:alpha val="34117"/>
                </a:srgbClr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Редакционные комиссии (март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1859</a:t>
            </a: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г. председатель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Elephant"/>
                <a:hlinkClick r:id="rId2"/>
              </a:rPr>
              <a:t>Я.И.Ростовцев</a:t>
            </a: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с февраля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1860</a:t>
            </a: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г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Elephant"/>
                <a:hlinkClick r:id="rId3"/>
              </a:rPr>
              <a:t>В.Н.Панин</a:t>
            </a:r>
            <a:r>
              <a:rPr b="0" lang="ru-RU" sz="1800" spc="-1" strike="noStrike">
                <a:solidFill>
                  <a:srgbClr val="0066ff"/>
                </a:solidFill>
                <a:latin typeface="Elephan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2627280" y="1773360"/>
            <a:ext cx="936720" cy="36036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3203640" y="2781360"/>
            <a:ext cx="792000" cy="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80" name="Line 13"/>
          <p:cNvSpPr/>
          <p:nvPr/>
        </p:nvSpPr>
        <p:spPr>
          <a:xfrm flipV="1">
            <a:off x="1619280" y="4797360"/>
            <a:ext cx="0" cy="21600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81" name="Line 14"/>
          <p:cNvSpPr/>
          <p:nvPr/>
        </p:nvSpPr>
        <p:spPr>
          <a:xfrm flipV="1">
            <a:off x="4643280" y="4797360"/>
            <a:ext cx="0" cy="21600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82" name="Line 15"/>
          <p:cNvSpPr/>
          <p:nvPr/>
        </p:nvSpPr>
        <p:spPr>
          <a:xfrm flipV="1">
            <a:off x="7524720" y="4797360"/>
            <a:ext cx="0" cy="21600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83" name="Line 16"/>
          <p:cNvSpPr/>
          <p:nvPr/>
        </p:nvSpPr>
        <p:spPr>
          <a:xfrm flipV="1">
            <a:off x="5364000" y="3789360"/>
            <a:ext cx="0" cy="21600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84" name="Line 17"/>
          <p:cNvSpPr/>
          <p:nvPr/>
        </p:nvSpPr>
        <p:spPr>
          <a:xfrm flipV="1">
            <a:off x="5364000" y="1773000"/>
            <a:ext cx="0" cy="21564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85" name="AutoShape 19">
            <a:hlinkClick r:id="rId4" action="ppaction://hlinksldjump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835280" y="189000"/>
            <a:ext cx="54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Основные положения реформы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851280" y="1268280"/>
            <a:ext cx="504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19 </a:t>
            </a:r>
            <a:r>
              <a:rPr b="1" i="1" lang="ru-RU" sz="2400" spc="-1" strike="noStrike">
                <a:solidFill>
                  <a:srgbClr val="333399"/>
                </a:solidFill>
                <a:latin typeface="Elephant"/>
              </a:rPr>
              <a:t>февраля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1861</a:t>
            </a:r>
            <a:r>
              <a:rPr b="0" i="1" lang="ru-RU" sz="2400" spc="-1" strike="noStrike">
                <a:solidFill>
                  <a:srgbClr val="333399"/>
                </a:solidFill>
                <a:latin typeface="Elephant"/>
              </a:rPr>
              <a:t>г. Александр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333399"/>
                </a:solidFill>
                <a:latin typeface="Elephant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Elephant"/>
              </a:rPr>
              <a:t>подписал </a:t>
            </a:r>
            <a:r>
              <a:rPr b="1" i="1" lang="ru-RU" sz="2400" spc="-1" strike="noStrike">
                <a:solidFill>
                  <a:srgbClr val="333399"/>
                </a:solidFill>
                <a:latin typeface="Elephant"/>
              </a:rPr>
              <a:t>манифест</a:t>
            </a:r>
            <a:r>
              <a:rPr b="0" i="1" lang="ru-RU" sz="2400" spc="-1" strike="noStrike">
                <a:solidFill>
                  <a:srgbClr val="333399"/>
                </a:solidFill>
                <a:latin typeface="Elephant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Elephant"/>
                <a:hlinkClick r:id="rId1"/>
              </a:rPr>
              <a:t>«О всемилостивейшем даровании крепостным людям прав состояния свободных сельских обывателей»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pic>
        <p:nvPicPr>
          <p:cNvPr id="88" name="Picture 5" descr="манифест"/>
          <p:cNvPicPr/>
          <p:nvPr/>
        </p:nvPicPr>
        <p:blipFill>
          <a:blip r:embed="rId2"/>
          <a:stretch/>
        </p:blipFill>
        <p:spPr>
          <a:xfrm>
            <a:off x="468360" y="1125360"/>
            <a:ext cx="3166920" cy="4680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4427640" y="386064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Elephant"/>
              </a:rPr>
              <a:t>«</a:t>
            </a:r>
            <a:r>
              <a:rPr b="1" i="1" lang="ru-RU" sz="2400" spc="-1" strike="noStrike">
                <a:solidFill>
                  <a:srgbClr val="333399"/>
                </a:solidFill>
                <a:latin typeface="Elephant"/>
              </a:rPr>
              <a:t>Положение </a:t>
            </a:r>
            <a:r>
              <a:rPr b="0" i="1" lang="ru-RU" sz="2400" spc="-1" strike="noStrike">
                <a:solidFill>
                  <a:srgbClr val="333399"/>
                </a:solidFill>
                <a:latin typeface="Elephant"/>
              </a:rPr>
              <a:t>о крестьянах, вышедших из крепостной зависимости»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971640" y="587700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Elephant"/>
              </a:rPr>
              <a:t>Первая страница</a:t>
            </a:r>
            <a:r>
              <a:rPr b="0" lang="ru-RU" sz="1400" spc="-1" strike="noStrike">
                <a:solidFill>
                  <a:srgbClr val="333399"/>
                </a:solidFill>
                <a:latin typeface="Elephant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Elephant"/>
              </a:rPr>
              <a:t>Манифеста</a:t>
            </a:r>
            <a:endParaRPr b="0" lang="en-US" sz="14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42920" y="33336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Крестьяне получили гражданские права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900000" y="1484280"/>
            <a:ext cx="7344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Elephant"/>
              </a:rPr>
              <a:t>1.Производить сделки с движимым и недвижимым имуществом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Elephant"/>
              </a:rPr>
              <a:t>2.Открывать торговые и промышленные предприятия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Elephant"/>
              </a:rPr>
              <a:t>3.Выступать от своего имени в суде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Elephant"/>
              </a:rPr>
              <a:t>4.Не могут подвергаться телесному наказанию иначе как по приговору суда или законному распоряжению поставленных над ними властей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Elephant"/>
              </a:rPr>
              <a:t>5.Переходить в другие сословия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7748"/>
                </a:moveTo>
                <a:lnTo>
                  <a:pt x="7301" y="7748"/>
                </a:lnTo>
                <a:lnTo>
                  <a:pt x="7301" y="13083"/>
                </a:lnTo>
                <a:cubicBezTo>
                  <a:pt x="7301" y="14006"/>
                  <a:pt x="8102" y="14737"/>
                  <a:pt x="9138" y="14737"/>
                </a:cubicBezTo>
                <a:lnTo>
                  <a:pt x="10800" y="14737"/>
                </a:lnTo>
                <a:cubicBezTo>
                  <a:pt x="11836" y="14737"/>
                  <a:pt x="12636" y="14006"/>
                  <a:pt x="12636" y="13083"/>
                </a:cubicBezTo>
                <a:lnTo>
                  <a:pt x="12636" y="7748"/>
                </a:lnTo>
                <a:lnTo>
                  <a:pt x="10800" y="7748"/>
                </a:lnTo>
                <a:lnTo>
                  <a:pt x="14308" y="4241"/>
                </a:lnTo>
                <a:lnTo>
                  <a:pt x="17981" y="7748"/>
                </a:lnTo>
                <a:lnTo>
                  <a:pt x="16144" y="7748"/>
                </a:lnTo>
                <a:lnTo>
                  <a:pt x="16144" y="13083"/>
                </a:lnTo>
                <a:cubicBezTo>
                  <a:pt x="16144" y="15851"/>
                  <a:pt x="13568" y="18410"/>
                  <a:pt x="10800" y="18410"/>
                </a:cubicBezTo>
                <a:lnTo>
                  <a:pt x="9138" y="18410"/>
                </a:lnTo>
                <a:cubicBezTo>
                  <a:pt x="6370" y="18410"/>
                  <a:pt x="3794" y="15851"/>
                  <a:pt x="3794" y="13083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87280" y="620640"/>
            <a:ext cx="66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619280" y="692280"/>
            <a:ext cx="590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39640" y="26028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Elephant"/>
              </a:rPr>
              <a:t>Крестьяне получали землю, но в ограниченном размере и за выкуп на особых условиях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692360" y="1844640"/>
            <a:ext cx="1800000" cy="792360"/>
          </a:xfrm>
          <a:prstGeom prst="rect">
            <a:avLst/>
          </a:prstGeom>
          <a:solidFill>
            <a:srgbClr val="bbe0e3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Elephant"/>
              </a:rPr>
              <a:t>земельный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Elephant"/>
              </a:rPr>
              <a:t>надел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067280" y="2060640"/>
            <a:ext cx="865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067280" y="2276640"/>
            <a:ext cx="865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148360" y="1916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Elephant"/>
              </a:rPr>
              <a:t>3 – 12</a:t>
            </a:r>
            <a:r>
              <a:rPr b="1" lang="ru-RU" sz="28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0" i="1" lang="ru-RU" sz="2800" spc="-1" strike="noStrike">
                <a:solidFill>
                  <a:srgbClr val="0066ff"/>
                </a:solidFill>
                <a:latin typeface="Elephant"/>
              </a:rPr>
              <a:t>десятин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482920" y="30686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Elephant"/>
              </a:rPr>
              <a:t>Отрезок – 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067280" y="3068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излишек земли.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755640" y="4149720"/>
            <a:ext cx="32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755640" y="39337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Elephant"/>
              </a:rPr>
              <a:t>Временнообязанный – 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067280" y="378936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крестьянин, вынужденный выполнять свои повинности перед помещиком до выкупа.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08000" y="51577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Elephant"/>
              </a:rPr>
              <a:t>Выкупная операция –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3276720" y="4941720"/>
            <a:ext cx="5867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20 </a:t>
            </a:r>
            <a:r>
              <a:rPr b="0" lang="en-US" sz="2000" spc="-1" strike="noStrike">
                <a:solidFill>
                  <a:srgbClr val="333399"/>
                </a:solidFill>
                <a:latin typeface="Elephant"/>
              </a:rPr>
              <a:t>%</a:t>
            </a: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 единовременно;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80 </a:t>
            </a:r>
            <a:r>
              <a:rPr b="0" lang="en-US" sz="2000" spc="-1" strike="noStrike">
                <a:solidFill>
                  <a:srgbClr val="333399"/>
                </a:solidFill>
                <a:latin typeface="Elephant"/>
              </a:rPr>
              <a:t>%</a:t>
            </a: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 государственная ссуда (</a:t>
            </a:r>
            <a:r>
              <a:rPr b="0" i="1" lang="ru-RU" sz="2000" spc="-1" strike="noStrike">
                <a:solidFill>
                  <a:srgbClr val="333399"/>
                </a:solidFill>
                <a:latin typeface="Elephant"/>
              </a:rPr>
              <a:t>крестьянин отдавал долг в течение</a:t>
            </a: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 49 </a:t>
            </a:r>
            <a:r>
              <a:rPr b="0" i="1" lang="ru-RU" sz="2000" spc="-1" strike="noStrike">
                <a:solidFill>
                  <a:srgbClr val="333399"/>
                </a:solidFill>
                <a:latin typeface="Elephant"/>
              </a:rPr>
              <a:t>лет с начислением</a:t>
            </a: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 6</a:t>
            </a:r>
            <a:r>
              <a:rPr b="0" lang="en-US" sz="2000" spc="-1" strike="noStrike">
                <a:solidFill>
                  <a:srgbClr val="333399"/>
                </a:solidFill>
                <a:latin typeface="Elephant"/>
              </a:rPr>
              <a:t> %</a:t>
            </a: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Elephant"/>
              </a:rPr>
              <a:t>годовых</a:t>
            </a:r>
            <a:r>
              <a:rPr b="0" lang="ru-RU" sz="2000" spc="-1" strike="noStrike">
                <a:solidFill>
                  <a:srgbClr val="333399"/>
                </a:solidFill>
                <a:latin typeface="Elephant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7748"/>
                </a:moveTo>
                <a:lnTo>
                  <a:pt x="7301" y="7748"/>
                </a:lnTo>
                <a:lnTo>
                  <a:pt x="7301" y="13083"/>
                </a:lnTo>
                <a:cubicBezTo>
                  <a:pt x="7301" y="14006"/>
                  <a:pt x="8102" y="14737"/>
                  <a:pt x="9138" y="14737"/>
                </a:cubicBezTo>
                <a:lnTo>
                  <a:pt x="10800" y="14737"/>
                </a:lnTo>
                <a:cubicBezTo>
                  <a:pt x="11836" y="14737"/>
                  <a:pt x="12636" y="14006"/>
                  <a:pt x="12636" y="13083"/>
                </a:cubicBezTo>
                <a:lnTo>
                  <a:pt x="12636" y="7748"/>
                </a:lnTo>
                <a:lnTo>
                  <a:pt x="10800" y="7748"/>
                </a:lnTo>
                <a:lnTo>
                  <a:pt x="14308" y="4241"/>
                </a:lnTo>
                <a:lnTo>
                  <a:pt x="17981" y="7748"/>
                </a:lnTo>
                <a:lnTo>
                  <a:pt x="16144" y="7748"/>
                </a:lnTo>
                <a:lnTo>
                  <a:pt x="16144" y="13083"/>
                </a:lnTo>
                <a:cubicBezTo>
                  <a:pt x="16144" y="15851"/>
                  <a:pt x="13568" y="18410"/>
                  <a:pt x="10800" y="18410"/>
                </a:cubicBezTo>
                <a:lnTo>
                  <a:pt x="9138" y="18410"/>
                </a:lnTo>
                <a:cubicBezTo>
                  <a:pt x="6370" y="18410"/>
                  <a:pt x="3794" y="15851"/>
                  <a:pt x="3794" y="13083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1:32:25Z</dcterms:created>
  <dc:creator>Саша</dc:creator>
  <dc:description/>
  <dc:language>en-US</dc:language>
  <cp:lastModifiedBy>RePack by Diakov</cp:lastModifiedBy>
  <dcterms:modified xsi:type="dcterms:W3CDTF">2020-01-03T13:59:06Z</dcterms:modified>
  <cp:revision>25</cp:revision>
  <dc:subject/>
  <dc:title>Слайд 1</dc:title>
</cp:coreProperties>
</file>