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B7A-A521-45E8-BC10-924A8F4A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AE4-7872-4EB9-9366-021E7663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2C7-7E6B-42A3-907B-7EA04AF0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BB4-7D9E-49AF-A340-C4189553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85B5-9984-4F06-B524-D02882D3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3396-C80C-4515-A293-F5FD33ED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D710-585E-4B20-AF3C-9155A61D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A81C-ED71-4195-8106-4544ECB9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5D5D-D800-4E0D-92B6-E04F96E3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18C3-4241-46EC-8254-D153455A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BA13-38B3-48E6-9B26-7241028B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04D-A654-4803-BA89-283E5A41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10C1-6443-4FAE-BFC2-C6968CCE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368B-32D1-4553-AD76-177307D8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A0E5-5027-4369-9AF9-D987BD97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70EA-B3FF-41E4-93D8-9E5D0F5F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9181-E58A-419C-86F3-D1F77971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F41-2F8D-429F-A9F1-F6A4B96D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249-1E4C-4B21-8E75-6E0C40F4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9A4-EA7F-4704-889F-D5FC8392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13F-F61F-4E74-8236-5E949C03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D34-F912-4BD7-B743-39B24399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044A-1383-4B06-840D-F47BD76E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27F-1698-451A-96E7-DE06F90B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2ADE-6CDD-4CA3-AC3B-88465E059E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840" y="58680"/>
              <a:ext cx="3624120" cy="6134400"/>
              <a:chOff x="5406840" y="58680"/>
              <a:chExt cx="3624120" cy="61344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880" y="343800"/>
                <a:ext cx="2116080" cy="2357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5880"/>
                <a:ext cx="906480" cy="8434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2360" y="2588400"/>
                <a:ext cx="439560" cy="395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0680"/>
                <a:ext cx="388800" cy="551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120" y="2644560"/>
                <a:ext cx="163440" cy="331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7360" y="1241640"/>
                <a:ext cx="190440" cy="142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040"/>
                <a:ext cx="523800" cy="326880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61000" y="303480"/>
              <a:ext cx="889560" cy="833040"/>
              <a:chOff x="5661000" y="303480"/>
              <a:chExt cx="889560" cy="8330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72600" y="805680"/>
                <a:ext cx="178560" cy="362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8600" y="477720"/>
                <a:ext cx="30528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61120" y="403200"/>
                <a:ext cx="319320" cy="153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480" y="5266080"/>
              <a:ext cx="1055160" cy="834120"/>
              <a:chOff x="969480" y="5266080"/>
              <a:chExt cx="10551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8200" y="5525640"/>
                <a:ext cx="250920" cy="299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7000" y="5745600"/>
                <a:ext cx="429840" cy="2484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480" y="5390640"/>
                <a:ext cx="449280" cy="1263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6400"/>
              <a:ext cx="1690560" cy="1146600"/>
              <a:chOff x="375840" y="44640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6488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9004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412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5400" y="3712320"/>
              <a:ext cx="1156320" cy="1607760"/>
              <a:chOff x="738540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0120" y="4755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0840" y="445536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3760" y="378144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048E-8C47-4B73-82FF-5788C9A2A3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745920"/>
            <a:ext cx="6364080" cy="2525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empus Sans ITC"/>
              </a:rPr>
              <a:t>Предметно-пространственная развивающая среда в группе в </a:t>
            </a:r>
            <a:r>
              <a:rPr b="1" i="1" lang="ru-RU" sz="3600" spc="-1" strike="noStrike">
                <a:solidFill>
                  <a:srgbClr val="000000"/>
                </a:solidFill>
                <a:latin typeface="Tempus Sans ITC"/>
              </a:rPr>
              <a:t>соответствии с ФГО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99840" y="3363840"/>
            <a:ext cx="6247080" cy="19224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324000" y="4394160"/>
            <a:ext cx="8280360" cy="2077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181080" y="184320"/>
            <a:ext cx="1822320" cy="1895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539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13"/>
          <p:cNvGrpSpPr/>
          <p:nvPr/>
        </p:nvGrpSpPr>
        <p:grpSpPr>
          <a:xfrm>
            <a:off x="468360" y="189000"/>
            <a:ext cx="8351640" cy="5040360"/>
            <a:chOff x="468360" y="189000"/>
            <a:chExt cx="8351640" cy="5040360"/>
          </a:xfrm>
        </p:grpSpPr>
        <p:sp>
          <p:nvSpPr>
            <p:cNvPr id="227" name="AutoShape 14"/>
            <p:cNvSpPr/>
            <p:nvPr/>
          </p:nvSpPr>
          <p:spPr>
            <a:xfrm>
              <a:off x="468360" y="189000"/>
              <a:ext cx="835164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AutoShape 15"/>
            <p:cNvSpPr/>
            <p:nvPr/>
          </p:nvSpPr>
          <p:spPr>
            <a:xfrm>
              <a:off x="2106000" y="351000"/>
              <a:ext cx="5567760" cy="178848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empus Sans ITC"/>
                </a:rPr>
                <a:t>Полифункциональность материалов предполагает: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AutoShape 16"/>
            <p:cNvSpPr/>
            <p:nvPr/>
          </p:nvSpPr>
          <p:spPr>
            <a:xfrm rot="1449600">
              <a:off x="2821680" y="1962000"/>
              <a:ext cx="695880" cy="4734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AutoShape 17"/>
            <p:cNvSpPr/>
            <p:nvPr/>
          </p:nvSpPr>
          <p:spPr>
            <a:xfrm rot="19960200">
              <a:off x="5819040" y="1958400"/>
              <a:ext cx="695880" cy="46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AutoShape 18"/>
            <p:cNvSpPr/>
            <p:nvPr/>
          </p:nvSpPr>
          <p:spPr>
            <a:xfrm>
              <a:off x="631800" y="2465280"/>
              <a:ext cx="3602520" cy="162612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озможность разнообразного использования различных составляющих предметной среды (детская мебель, маты, мягкие модули, ширмы и т. д.)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AutoShape 19"/>
            <p:cNvSpPr/>
            <p:nvPr/>
          </p:nvSpPr>
          <p:spPr>
            <a:xfrm>
              <a:off x="4561560" y="2465280"/>
              <a:ext cx="3930840" cy="162612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Наличие не обладающих жёстко закреплённым способом употребления полифункциональных предметов (в т. ч. природные материалы, предметы-заместители)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3" name="Picture 20" descr=""/>
          <p:cNvPicPr/>
          <p:nvPr/>
        </p:nvPicPr>
        <p:blipFill>
          <a:blip r:embed="rId2"/>
          <a:stretch/>
        </p:blipFill>
        <p:spPr>
          <a:xfrm>
            <a:off x="1692360" y="4292640"/>
            <a:ext cx="5400720" cy="237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754280" cy="131436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5"/>
          <p:cNvGrpSpPr/>
          <p:nvPr/>
        </p:nvGrpSpPr>
        <p:grpSpPr>
          <a:xfrm>
            <a:off x="395280" y="260280"/>
            <a:ext cx="8748720" cy="6121440"/>
            <a:chOff x="395280" y="260280"/>
            <a:chExt cx="8748720" cy="6121440"/>
          </a:xfrm>
        </p:grpSpPr>
        <p:sp>
          <p:nvSpPr>
            <p:cNvPr id="236" name="AutoShape 6"/>
            <p:cNvSpPr/>
            <p:nvPr/>
          </p:nvSpPr>
          <p:spPr>
            <a:xfrm>
              <a:off x="395280" y="260280"/>
              <a:ext cx="8748720" cy="612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AutoShape 7"/>
            <p:cNvSpPr/>
            <p:nvPr/>
          </p:nvSpPr>
          <p:spPr>
            <a:xfrm>
              <a:off x="2110680" y="457200"/>
              <a:ext cx="5832360" cy="217224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empus Sans ITC"/>
                </a:rPr>
                <a:t>Трансформируемость пространства обеспечивает возможность изменений РПП среды в зависимости: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AutoShape 8"/>
            <p:cNvSpPr/>
            <p:nvPr/>
          </p:nvSpPr>
          <p:spPr>
            <a:xfrm rot="1449600">
              <a:off x="2860200" y="2414160"/>
              <a:ext cx="729000" cy="57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AutoShape 9"/>
            <p:cNvSpPr/>
            <p:nvPr/>
          </p:nvSpPr>
          <p:spPr>
            <a:xfrm rot="19960200">
              <a:off x="6000480" y="2409840"/>
              <a:ext cx="729000" cy="56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AutoShape 10"/>
            <p:cNvSpPr/>
            <p:nvPr/>
          </p:nvSpPr>
          <p:spPr>
            <a:xfrm>
              <a:off x="566640" y="3024720"/>
              <a:ext cx="3602520" cy="118440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т образовательной ситуаци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AutoShape 11"/>
            <p:cNvSpPr/>
            <p:nvPr/>
          </p:nvSpPr>
          <p:spPr>
            <a:xfrm>
              <a:off x="5027040" y="3024720"/>
              <a:ext cx="3773880" cy="118440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т меняющихся интересов дете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AutoShape 12"/>
            <p:cNvSpPr/>
            <p:nvPr/>
          </p:nvSpPr>
          <p:spPr>
            <a:xfrm>
              <a:off x="2796120" y="4801680"/>
              <a:ext cx="3774240" cy="98748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т возможностей дете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AutoShape 13"/>
            <p:cNvSpPr/>
            <p:nvPr/>
          </p:nvSpPr>
          <p:spPr>
            <a:xfrm>
              <a:off x="4169160" y="2432520"/>
              <a:ext cx="686520" cy="2278440"/>
            </a:xfrm>
            <a:prstGeom prst="downArrow">
              <a:avLst>
                <a:gd name="adj1" fmla="val 50000"/>
                <a:gd name="adj2" fmla="val 82971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44" name="Picture 14" descr=""/>
          <p:cNvPicPr/>
          <p:nvPr/>
        </p:nvPicPr>
        <p:blipFill>
          <a:blip r:embed="rId2"/>
          <a:stretch/>
        </p:blipFill>
        <p:spPr>
          <a:xfrm>
            <a:off x="6804000" y="4797360"/>
            <a:ext cx="2098800" cy="183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539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25"/>
          <p:cNvGrpSpPr/>
          <p:nvPr/>
        </p:nvGrpSpPr>
        <p:grpSpPr>
          <a:xfrm>
            <a:off x="971640" y="476280"/>
            <a:ext cx="7632720" cy="5113440"/>
            <a:chOff x="971640" y="476280"/>
            <a:chExt cx="7632720" cy="5113440"/>
          </a:xfrm>
        </p:grpSpPr>
        <p:sp>
          <p:nvSpPr>
            <p:cNvPr id="247" name="AutoShape 26"/>
            <p:cNvSpPr/>
            <p:nvPr/>
          </p:nvSpPr>
          <p:spPr>
            <a:xfrm>
              <a:off x="971640" y="476280"/>
              <a:ext cx="7632720" cy="51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AutoShape 27"/>
            <p:cNvSpPr/>
            <p:nvPr/>
          </p:nvSpPr>
          <p:spPr>
            <a:xfrm>
              <a:off x="2468160" y="640800"/>
              <a:ext cx="5088600" cy="181440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empus Sans ITC"/>
                </a:rPr>
                <a:t>Вариативность среды предполагает: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AutoShape 28"/>
            <p:cNvSpPr/>
            <p:nvPr/>
          </p:nvSpPr>
          <p:spPr>
            <a:xfrm rot="1449600">
              <a:off x="3121920" y="2274840"/>
              <a:ext cx="635760" cy="480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AutoShape 29"/>
            <p:cNvSpPr/>
            <p:nvPr/>
          </p:nvSpPr>
          <p:spPr>
            <a:xfrm rot="19960200">
              <a:off x="5861520" y="2271960"/>
              <a:ext cx="635760" cy="474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AutoShape 30"/>
            <p:cNvSpPr/>
            <p:nvPr/>
          </p:nvSpPr>
          <p:spPr>
            <a:xfrm>
              <a:off x="1121040" y="2785680"/>
              <a:ext cx="3142800" cy="98928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Наличие различных пространств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AutoShape 31"/>
            <p:cNvSpPr/>
            <p:nvPr/>
          </p:nvSpPr>
          <p:spPr>
            <a:xfrm>
              <a:off x="5012640" y="2785680"/>
              <a:ext cx="3292560" cy="98928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Периодическую сменяемость игрового материал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AutoShape 32"/>
            <p:cNvSpPr/>
            <p:nvPr/>
          </p:nvSpPr>
          <p:spPr>
            <a:xfrm>
              <a:off x="1270440" y="4269600"/>
              <a:ext cx="2993400" cy="82512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азнообразие материалов и игрушек для обеспечения свободного выбора детьми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AutoShape 33"/>
            <p:cNvSpPr/>
            <p:nvPr/>
          </p:nvSpPr>
          <p:spPr>
            <a:xfrm rot="21322800">
              <a:off x="4712400" y="2290320"/>
              <a:ext cx="299880" cy="2639520"/>
            </a:xfrm>
            <a:custGeom>
              <a:avLst/>
              <a:gdLst>
                <a:gd name="textAreaLeft" fmla="*/ 39960 w 299880"/>
                <a:gd name="textAreaRight" fmla="*/ 259920 w 299880"/>
                <a:gd name="textAreaTop" fmla="*/ 461880 h 2639520"/>
                <a:gd name="textAreaBottom" fmla="*/ 1913760 h 263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1563"/>
                  <a:lnTo>
                    <a:pt x="14396" y="21167"/>
                  </a:lnTo>
                  <a:lnTo>
                    <a:pt x="21600" y="17280"/>
                  </a:lnTo>
                  <a:lnTo>
                    <a:pt x="14396" y="12527"/>
                  </a:lnTo>
                  <a:lnTo>
                    <a:pt x="14396" y="14687"/>
                  </a:lnTo>
                  <a:arcTo wR="21600" hR="7560" stAng="8118437" swAng="2324129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AutoShape 34"/>
            <p:cNvSpPr/>
            <p:nvPr/>
          </p:nvSpPr>
          <p:spPr>
            <a:xfrm>
              <a:off x="4264200" y="2290680"/>
              <a:ext cx="298800" cy="2804040"/>
            </a:xfrm>
            <a:custGeom>
              <a:avLst/>
              <a:gdLst>
                <a:gd name="textAreaLeft" fmla="*/ 39960 w 298800"/>
                <a:gd name="textAreaRight" fmla="*/ 258840 w 298800"/>
                <a:gd name="textAreaTop" fmla="*/ 490680 h 2804040"/>
                <a:gd name="textAreaBottom" fmla="*/ 2032920 h 280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6" name="AutoShape 35"/>
          <p:cNvSpPr/>
          <p:nvPr/>
        </p:nvSpPr>
        <p:spPr>
          <a:xfrm>
            <a:off x="5003640" y="4149720"/>
            <a:ext cx="2592720" cy="100800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явление новы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ме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1476360" y="189000"/>
            <a:ext cx="7272360" cy="5756040"/>
            <a:chOff x="1476360" y="189000"/>
            <a:chExt cx="7272360" cy="5756040"/>
          </a:xfrm>
        </p:grpSpPr>
        <p:sp>
          <p:nvSpPr>
            <p:cNvPr id="258" name="AutoShape 5"/>
            <p:cNvSpPr/>
            <p:nvPr/>
          </p:nvSpPr>
          <p:spPr>
            <a:xfrm>
              <a:off x="1476360" y="189000"/>
              <a:ext cx="7272360" cy="575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AutoShape 6"/>
            <p:cNvSpPr/>
            <p:nvPr/>
          </p:nvSpPr>
          <p:spPr>
            <a:xfrm>
              <a:off x="2331720" y="684720"/>
              <a:ext cx="4990320" cy="136152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empus Sans ITC"/>
                </a:rPr>
                <a:t>Доступность среды предполагает: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AutoShape 7"/>
            <p:cNvSpPr/>
            <p:nvPr/>
          </p:nvSpPr>
          <p:spPr>
            <a:xfrm>
              <a:off x="1618560" y="2603520"/>
              <a:ext cx="2138400" cy="296964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Доступность для воспитанников всех помещений, где осуществляется образовательная деятельность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AutoShape 8"/>
            <p:cNvSpPr/>
            <p:nvPr/>
          </p:nvSpPr>
          <p:spPr>
            <a:xfrm>
              <a:off x="4042800" y="2417040"/>
              <a:ext cx="1996560" cy="315612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Свободный доступ к играм, игрушкам, пособиям, обеспечивающим все виды детской активност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AutoShape 9"/>
            <p:cNvSpPr/>
            <p:nvPr/>
          </p:nvSpPr>
          <p:spPr>
            <a:xfrm>
              <a:off x="6466680" y="2603520"/>
              <a:ext cx="2139120" cy="185580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Исправность и сохранность материалов и оборудовани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63" name="AutoShape 10"/>
            <p:cNvCxnSpPr/>
            <p:nvPr/>
          </p:nvCxnSpPr>
          <p:spPr>
            <a:xfrm>
              <a:off x="6894720" y="223128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4" name="AutoShape 11"/>
            <p:cNvSpPr/>
            <p:nvPr/>
          </p:nvSpPr>
          <p:spPr>
            <a:xfrm rot="5400000">
              <a:off x="6736680" y="2017800"/>
              <a:ext cx="743400" cy="426960"/>
            </a:xfrm>
            <a:prstGeom prst="pie">
              <a:avLst/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AutoShape 12"/>
            <p:cNvSpPr/>
            <p:nvPr/>
          </p:nvSpPr>
          <p:spPr>
            <a:xfrm rot="5400000">
              <a:off x="4690080" y="1925280"/>
              <a:ext cx="558360" cy="426960"/>
            </a:xfrm>
            <a:prstGeom prst="pie">
              <a:avLst/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AutoShape 13"/>
            <p:cNvSpPr/>
            <p:nvPr/>
          </p:nvSpPr>
          <p:spPr>
            <a:xfrm rot="5400000">
              <a:off x="2601000" y="2018160"/>
              <a:ext cx="743400" cy="426240"/>
            </a:xfrm>
            <a:prstGeom prst="pie">
              <a:avLst/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67" name="Picture 1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53920" cy="1295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53920" cy="131436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5"/>
          <p:cNvGrpSpPr/>
          <p:nvPr/>
        </p:nvGrpSpPr>
        <p:grpSpPr>
          <a:xfrm>
            <a:off x="2268360" y="404640"/>
            <a:ext cx="6553440" cy="4032360"/>
            <a:chOff x="2268360" y="404640"/>
            <a:chExt cx="6553440" cy="4032360"/>
          </a:xfrm>
        </p:grpSpPr>
        <p:sp>
          <p:nvSpPr>
            <p:cNvPr id="270" name="AutoShape 6"/>
            <p:cNvSpPr/>
            <p:nvPr/>
          </p:nvSpPr>
          <p:spPr>
            <a:xfrm>
              <a:off x="2268360" y="404640"/>
              <a:ext cx="6553440" cy="40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AutoShape 7"/>
            <p:cNvSpPr/>
            <p:nvPr/>
          </p:nvSpPr>
          <p:spPr>
            <a:xfrm>
              <a:off x="2274840" y="410760"/>
              <a:ext cx="5333400" cy="107856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empus Sans ITC"/>
                </a:rPr>
                <a:t>Безопасность среды: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AutoShape 8"/>
            <p:cNvSpPr/>
            <p:nvPr/>
          </p:nvSpPr>
          <p:spPr>
            <a:xfrm>
              <a:off x="3334680" y="2022840"/>
              <a:ext cx="3658320" cy="205920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Соответствие всех её элементов по обеспечению надёжности и безопасности, т. е. на игрушки должны быть сертификаты и декларации соответстви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73" name="AutoShape 9"/>
            <p:cNvCxnSpPr/>
            <p:nvPr/>
          </p:nvCxnSpPr>
          <p:spPr>
            <a:xfrm>
              <a:off x="7151400" y="163620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4" name="AutoShape 10"/>
            <p:cNvSpPr/>
            <p:nvPr/>
          </p:nvSpPr>
          <p:spPr>
            <a:xfrm rot="5400000">
              <a:off x="4873320" y="1274400"/>
              <a:ext cx="441360" cy="761760"/>
            </a:xfrm>
            <a:prstGeom prst="pie">
              <a:avLst/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75" name="Picture 11" descr=""/>
          <p:cNvPicPr/>
          <p:nvPr/>
        </p:nvPicPr>
        <p:blipFill>
          <a:blip r:embed="rId2"/>
          <a:stretch/>
        </p:blipFill>
        <p:spPr>
          <a:xfrm rot="20736600">
            <a:off x="250560" y="1699920"/>
            <a:ext cx="2881080" cy="2400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2" descr=""/>
          <p:cNvPicPr/>
          <p:nvPr/>
        </p:nvPicPr>
        <p:blipFill>
          <a:blip r:embed="rId3"/>
          <a:stretch/>
        </p:blipFill>
        <p:spPr>
          <a:xfrm rot="21064200">
            <a:off x="3492360" y="4220640"/>
            <a:ext cx="3024360" cy="2394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"/>
          <p:cNvPicPr/>
          <p:nvPr/>
        </p:nvPicPr>
        <p:blipFill>
          <a:blip r:embed="rId4"/>
          <a:srcRect l="0" t="8425" r="0" b="0"/>
          <a:stretch/>
        </p:blipFill>
        <p:spPr>
          <a:xfrm rot="401400">
            <a:off x="236160" y="4219200"/>
            <a:ext cx="3097080" cy="2365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4" descr=""/>
          <p:cNvPicPr/>
          <p:nvPr/>
        </p:nvPicPr>
        <p:blipFill>
          <a:blip r:embed="rId5"/>
          <a:stretch/>
        </p:blipFill>
        <p:spPr>
          <a:xfrm rot="465000">
            <a:off x="6656040" y="4454640"/>
            <a:ext cx="2306520" cy="2257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"/>
          <p:cNvPicPr/>
          <p:nvPr/>
        </p:nvPicPr>
        <p:blipFill>
          <a:blip r:embed="rId6"/>
          <a:stretch/>
        </p:blipFill>
        <p:spPr>
          <a:xfrm rot="21436800">
            <a:off x="6659280" y="1484280"/>
            <a:ext cx="2225520" cy="2521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5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ru-RU" sz="2000" spc="-1" strike="noStrike">
                <a:solidFill>
                  <a:srgbClr val="ff99cc"/>
                </a:solidFill>
                <a:latin typeface="Tempus Sans ITC"/>
              </a:rPr>
              <a:t>Примерные уголки, котор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Tempus Sans ITC"/>
              </a:rPr>
              <a:t>           </a:t>
            </a:r>
            <a:r>
              <a:rPr b="1" lang="ru-RU" sz="2000" spc="-1" strike="noStrike">
                <a:solidFill>
                  <a:srgbClr val="ff99cc"/>
                </a:solidFill>
                <a:latin typeface="Tempus Sans ITC"/>
              </a:rPr>
              <a:t>должны быть созданы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cc"/>
                </a:solidFill>
                <a:latin typeface="Tempus Sans ITC"/>
              </a:rPr>
              <a:t>группе по образовательным областям в свете требований ФГОС</a:t>
            </a:r>
            <a:r>
              <a:rPr b="1" lang="ru-RU" sz="2000" spc="-1" strike="noStrike">
                <a:solidFill>
                  <a:srgbClr val="ffff99"/>
                </a:solidFill>
                <a:latin typeface="Tempus Sans IT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оциально-коммуникативное развитие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Уголок  БД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уголок труда, уголок дежурст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уголок активности (уголок сюжетно-ролевых игр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знавательное развит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«Мы познаём мир» или Уголок краевед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 сенсорного развит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конструктивной деятель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математического развит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экспериментир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ечевое развитие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 речевого развития или уголок речи грамот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 «Здравствуй, книжка! 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Логопедический уголо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944720" cy="115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979280" y="333000"/>
            <a:ext cx="6707160" cy="5722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Художественно-эстетическое развитие включае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голок изодеятельности или уголок творчества «Умелые руки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уголок музыкально-театрализованной деятель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Физическое развит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ртивный уголок «Будь здоров! 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753920" cy="1314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2"/>
          <a:stretch/>
        </p:blipFill>
        <p:spPr>
          <a:xfrm rot="21066600">
            <a:off x="266760" y="3998520"/>
            <a:ext cx="3506760" cy="2495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3"/>
          <a:stretch/>
        </p:blipFill>
        <p:spPr>
          <a:xfrm rot="631200">
            <a:off x="6227640" y="3068640"/>
            <a:ext cx="2505240" cy="341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8075520" cy="273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ой задачей воспитания дошкольников являются создание у детей чувства эмоционального комфорта и психологической защищённости. В детском саду ребёнку важно чувствовать себя любимым и неповторимым. Поэтому, важным является и среда, в которой проходит воспитательный процесс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53920" cy="1314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23880" cy="1504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"/>
          <p:cNvPicPr/>
          <p:nvPr/>
        </p:nvPicPr>
        <p:blipFill>
          <a:blip r:embed="rId3"/>
          <a:srcRect l="2189" t="3818" r="2758" b="11533"/>
          <a:stretch/>
        </p:blipFill>
        <p:spPr>
          <a:xfrm>
            <a:off x="4859280" y="4508640"/>
            <a:ext cx="3960720" cy="2089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4"/>
          <a:srcRect l="0" t="0" r="0" b="23425"/>
          <a:stretch/>
        </p:blipFill>
        <p:spPr>
          <a:xfrm>
            <a:off x="468360" y="4724280"/>
            <a:ext cx="3672000" cy="18734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"/>
          <p:cNvPicPr/>
          <p:nvPr/>
        </p:nvPicPr>
        <p:blipFill>
          <a:blip r:embed="rId5"/>
          <a:stretch/>
        </p:blipFill>
        <p:spPr>
          <a:xfrm>
            <a:off x="3851280" y="549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364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«Нет такой стороны воспитания, на которую обстановка не оказывала бы влияние, нет способности, которая находилась бы в прямой зависимости от непосредственно окружающего ребёнка конкретного мир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Тот, кому удастся создать такую обстановку, облегчит свой труд в высшей степени. Среди неё ребёнок будет жить – развиваться собственно самодовлеющей жизнью, его духовный рост будет совершенствоваться из самого себя, от природы»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Е. И. Тихеев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754280" cy="1125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8000" y="102960"/>
            <a:ext cx="7236000" cy="1314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Организация развивающей предметно-пространственной среды в свете требований ФГОС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mpus Sans ITC"/>
              </a:rPr>
              <a:t>Развивающая предметно-пространственная среда – часть образовательной среды, представленная специально организованным пространством (помещениями, участком и т. п., материалами, оборудованием и инвентарем для развития детей дошкольного возраста в соответствии с особенностями каждого возрастного этапа, охраны и укрепления их здоровья, учёта особенностей и коррекции недостатков их развит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mpus Sans ITC"/>
              </a:rPr>
              <a:t>Вопрос организации развивающей предметно-пространственной среды ДОУ на сегодняшний день стоит особо актуально. Это связано с введением нового Федерального государственного образовательного стандарта (ФГОС) к структуре основной общеобразовательной программы дошкольного образо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mpus Sans ITC"/>
              </a:rPr>
              <a:t>В соответствии с ФГОС программа должна строиться с учетом принципа интеграции образовательных областей и в соответствии с возрастными возможностями и особенностями воспитанников. Решение программных образовательных задач предусматривается не только в совместной деятельности взрослого и детей, но и в самостоятельной деятельности детей, а также при проведении режимных момент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mpus Sans ITC"/>
              </a:rPr>
              <a:t>Образовательная среда – совокупность условий, целенаправленно создаваемых в целях обеспечения полноценного образования и развития дете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mpus Sans ITC"/>
              </a:rPr>
              <a:t>Создавая развивающую предметно-пространственную среду любой возрастной группы в ДОУ, необходимо учитывать психологические основы конструктивного взаимодействия участников воспитательно-образовательного процесса, дизайн и эргономику современной среды дошкольного учреждения и психологические особенности возрастной группы, на которую нацелена данная сред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54280" cy="1295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236000" cy="1228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empus Sans ITC"/>
              </a:rPr>
              <a:t>РПП среда в младшем дошкольном возрасте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я детей этого возраста – достаточно большое пространство в группе для удовлетворения потребности в двигательной активности. Правильно организованная развивающая среда позволяет каждому малышу найти занятие по душе, поверить в свои силы и способности, научиться взаимодействовать с педагогами и со сверстниками, понимать и оценивать их чувства и поступки, а ведь именно это и лежит в основе развивающего обуч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создании развивающего пространства в групповом помещении необходимо учитывать ведущую роль игровой деятельности в развитии, это в свою очередь обеспечит эмоциональное благополучие каждого ребёнка, развитие его положительного самоощущения, компетентности в сфере отношений к миру, к людям, к себе, включение в различные формы сотрудничества, что и является основными целями дошкольного обучения и воспита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54280" cy="1295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5940360" y="5084640"/>
            <a:ext cx="2933640" cy="156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35280" y="102960"/>
            <a:ext cx="7308720" cy="1314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РПП среда в среднем дошкольном возраст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49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жизни и воспитание детей пятого года жизни направлены на дальнейшее развитие умения понимать окружающих людей, проявлять к ним доброжелательное отношение, стремиться к общению и взаимодействию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метно-развивающая среда группы организуется с учётом возможностей для детей играть и заниматься отдельными подгруппами. Пособия и игрушки располагаются так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не мешать их свободно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мещению. Необходим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усмотреть место дл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еменного уединения дошкольник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де он может подумать, помечтать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54280" cy="1295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rcRect l="0" t="0" r="0" b="9493"/>
          <a:stretch/>
        </p:blipFill>
        <p:spPr>
          <a:xfrm>
            <a:off x="5435640" y="3789360"/>
            <a:ext cx="3438360" cy="2521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8000" y="102960"/>
            <a:ext cx="7236000" cy="1314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РПП среда в старшем дошкольном возраст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39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старшем дошкольном возрасте происходит интенсивное развитие интеллектуальной, нравственно-волевой и эмоциональной сфер личности. Переход в старшую группу связан с изменением психологической позиции детей: они впервые начинают ощущать себя старшими среди других детей в детском саду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оспитатель помогает дошкольникам понять это новое положе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метно-развивающая среда организуется так, чтобы каждый ребёнок имел возможность заниматься любимым делом. Размещение оборудования по секторам позволяет детям объединиться подгруппами по общим интересам (конструирование, рисование, ручной труд, театрально-игровая деятельность, экспериментирование). Обязательными в оборудовании являются материалы, активизирующие познавательную деятельность, развивающие игры, технические устройства и игрушки и т. д. Широко используются материалы, побуждающие детей к освоению грамот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54280" cy="1295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076640"/>
            <a:ext cx="8291520" cy="22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акое проектирование среды показывает её влияние на развитие ребёнка. Проектирование среды с использованием таких составляющих позволяет представить все особенности жизнедеятельности ребёнка в среде. Успешность влияния развивающей среды на ребёнка обусловлена её активностью в этой среде. Вся организация педагогического процесса предполагает свободу передвижения ребёнка. В среде необходимо выделить следующие зоны для разного вида активност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боча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ктивна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покойна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542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9" name="Organization Chart 8"/>
          <p:cNvGrpSpPr/>
          <p:nvPr/>
        </p:nvGrpSpPr>
        <p:grpSpPr>
          <a:xfrm>
            <a:off x="250920" y="404640"/>
            <a:ext cx="8713080" cy="3384000"/>
            <a:chOff x="250920" y="404640"/>
            <a:chExt cx="8713080" cy="3384000"/>
          </a:xfrm>
        </p:grpSpPr>
        <p:cxnSp>
          <p:nvCxnSpPr>
            <p:cNvPr id="190" name="_s1028"/>
            <p:cNvCxnSpPr>
              <a:stCxn id="191" idx="0"/>
              <a:endCxn id="192" idx="2"/>
            </p:cNvCxnSpPr>
            <p:nvPr/>
          </p:nvCxnSpPr>
          <p:spPr>
            <a:xfrm flipV="1" rot="16200000">
              <a:off x="5793480" y="571320"/>
              <a:ext cx="677520" cy="3050280"/>
            </a:xfrm>
            <a:prstGeom prst="bentConnector3">
              <a:avLst>
                <a:gd name="adj1" fmla="val 2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1029"/>
            <p:cNvCxnSpPr>
              <a:stCxn id="194" idx="0"/>
              <a:endCxn id="192" idx="2"/>
            </p:cNvCxnSpPr>
            <p:nvPr/>
          </p:nvCxnSpPr>
          <p:spPr>
            <a:xfrm flipV="1">
              <a:off x="4607280" y="1757880"/>
              <a:ext cx="3240" cy="67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030"/>
            <p:cNvCxnSpPr>
              <a:stCxn id="196" idx="0"/>
              <a:endCxn id="192" idx="2"/>
            </p:cNvCxnSpPr>
            <p:nvPr/>
          </p:nvCxnSpPr>
          <p:spPr>
            <a:xfrm flipH="1" flipV="1" rot="5400000">
              <a:off x="2743560" y="571320"/>
              <a:ext cx="677520" cy="3050280"/>
            </a:xfrm>
            <a:prstGeom prst="bentConnector3">
              <a:avLst>
                <a:gd name="adj1" fmla="val 2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2" name="_s1031"/>
            <p:cNvSpPr/>
            <p:nvPr/>
          </p:nvSpPr>
          <p:spPr>
            <a:xfrm>
              <a:off x="3300480" y="404640"/>
              <a:ext cx="2613960" cy="1353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empus Sans ITC"/>
                </a:rPr>
                <a:t>Основные составляющие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empus Sans ITC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empus Sans ITC"/>
                </a:rPr>
                <a:t>при проектировани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empus Sans ITC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empus Sans ITC"/>
                </a:rPr>
                <a:t>предметно-пространственной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empus Sans ITC"/>
                </a:rPr>
                <a:t>развивающей среды в группе</a:t>
              </a: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_s1032"/>
            <p:cNvSpPr/>
            <p:nvPr/>
          </p:nvSpPr>
          <p:spPr>
            <a:xfrm>
              <a:off x="250920" y="2435040"/>
              <a:ext cx="2613960" cy="1353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ПРОСТРАНСТВО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_s1033"/>
            <p:cNvSpPr/>
            <p:nvPr/>
          </p:nvSpPr>
          <p:spPr>
            <a:xfrm>
              <a:off x="3300480" y="2435040"/>
              <a:ext cx="2613960" cy="1353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ВРЕМЯ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_s1034"/>
            <p:cNvSpPr/>
            <p:nvPr/>
          </p:nvSpPr>
          <p:spPr>
            <a:xfrm>
              <a:off x="6350040" y="2435040"/>
              <a:ext cx="2613960" cy="1353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ПРЕДМЕТНОЕ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ОКРУЖЕНИЕ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97" name="Picture 17" descr=""/>
          <p:cNvPicPr/>
          <p:nvPr/>
        </p:nvPicPr>
        <p:blipFill>
          <a:blip r:embed="rId2"/>
          <a:stretch/>
        </p:blipFill>
        <p:spPr>
          <a:xfrm>
            <a:off x="6372360" y="5229360"/>
            <a:ext cx="2463840" cy="1461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542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61"/>
          <p:cNvGrpSpPr/>
          <p:nvPr/>
        </p:nvGrpSpPr>
        <p:grpSpPr>
          <a:xfrm>
            <a:off x="324000" y="476280"/>
            <a:ext cx="8820000" cy="4608360"/>
            <a:chOff x="324000" y="476280"/>
            <a:chExt cx="8820000" cy="4608360"/>
          </a:xfrm>
        </p:grpSpPr>
        <p:sp>
          <p:nvSpPr>
            <p:cNvPr id="200" name="AutoShape 62"/>
            <p:cNvSpPr/>
            <p:nvPr/>
          </p:nvSpPr>
          <p:spPr>
            <a:xfrm>
              <a:off x="324000" y="476280"/>
              <a:ext cx="8820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AutoShape 63"/>
            <p:cNvSpPr/>
            <p:nvPr/>
          </p:nvSpPr>
          <p:spPr>
            <a:xfrm>
              <a:off x="2128680" y="667800"/>
              <a:ext cx="5812560" cy="1152000"/>
            </a:xfrm>
            <a:prstGeom prst="flowChartPunchedTape">
              <a:avLst/>
            </a:prstGeom>
            <a:solidFill>
              <a:srgbClr val="ff99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empus Sans ITC"/>
                </a:rPr>
                <a:t>Развивающая предметно-пространственная среда должна </a:t>
              </a:r>
              <a:r>
                <a:rPr b="1" lang="ru-RU" sz="1800" spc="-1" strike="noStrike">
                  <a:solidFill>
                    <a:srgbClr val="000000"/>
                  </a:solidFill>
                  <a:latin typeface="Tempus Sans ITC"/>
                </a:rPr>
                <a:t>быт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Rectangle 64"/>
            <p:cNvSpPr/>
            <p:nvPr/>
          </p:nvSpPr>
          <p:spPr>
            <a:xfrm>
              <a:off x="3531240" y="2204280"/>
              <a:ext cx="1200960" cy="211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Трансформируемо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Rectangle 65"/>
            <p:cNvSpPr/>
            <p:nvPr/>
          </p:nvSpPr>
          <p:spPr>
            <a:xfrm>
              <a:off x="4933800" y="2204280"/>
              <a:ext cx="1204200" cy="211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ариативно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Rectangle 66"/>
            <p:cNvSpPr/>
            <p:nvPr/>
          </p:nvSpPr>
          <p:spPr>
            <a:xfrm>
              <a:off x="6338160" y="2204280"/>
              <a:ext cx="1200960" cy="211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оступно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Rectangle 67"/>
            <p:cNvSpPr/>
            <p:nvPr/>
          </p:nvSpPr>
          <p:spPr>
            <a:xfrm>
              <a:off x="7741080" y="2204280"/>
              <a:ext cx="1205280" cy="211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Безопасной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AutoShape 68"/>
            <p:cNvSpPr/>
            <p:nvPr/>
          </p:nvSpPr>
          <p:spPr>
            <a:xfrm>
              <a:off x="1326240" y="4317120"/>
              <a:ext cx="1402560" cy="575640"/>
            </a:xfrm>
            <a:custGeom>
              <a:avLst/>
              <a:gdLst>
                <a:gd name="textAreaLeft" fmla="*/ 245160 w 1402560"/>
                <a:gd name="textAreaRight" fmla="*/ 1017000 w 1402560"/>
                <a:gd name="textAreaTop" fmla="*/ 77040 h 575640"/>
                <a:gd name="textAreaBottom" fmla="*/ 498600 h 57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3764207"/>
                  <a:lnTo>
                    <a:pt x="21480" y="3834"/>
                  </a:lnTo>
                  <a:lnTo>
                    <a:pt x="17280" y="0"/>
                  </a:lnTo>
                  <a:lnTo>
                    <a:pt x="12840" y="3834"/>
                  </a:lnTo>
                  <a:lnTo>
                    <a:pt x="15000" y="3834"/>
                  </a:lnTo>
                  <a:arcTo wR="7560" hR="21600" stAng="1635793" swAng="3406772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AutoShape 69"/>
            <p:cNvSpPr/>
            <p:nvPr/>
          </p:nvSpPr>
          <p:spPr>
            <a:xfrm>
              <a:off x="2328480" y="1910880"/>
              <a:ext cx="1803240" cy="293400"/>
            </a:xfrm>
            <a:custGeom>
              <a:avLst/>
              <a:gdLst>
                <a:gd name="textAreaLeft" fmla="*/ 315360 w 1803240"/>
                <a:gd name="textAreaRight" fmla="*/ 1307520 w 1803240"/>
                <a:gd name="textAreaTop" fmla="*/ 39240 h 293400"/>
                <a:gd name="textAreaBottom" fmla="*/ 25416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58" hR="21600" stAng="10800000" swAng="5400000"/>
                  <a:lnTo>
                    <a:pt x="11883" y="0"/>
                  </a:lnTo>
                  <a:arcTo wR="7558" hR="21600" stAng="-5400000" swAng="2378336"/>
                  <a:lnTo>
                    <a:pt x="21005" y="13196"/>
                  </a:lnTo>
                  <a:lnTo>
                    <a:pt x="17278" y="21600"/>
                  </a:lnTo>
                  <a:lnTo>
                    <a:pt x="12360" y="13196"/>
                  </a:lnTo>
                  <a:lnTo>
                    <a:pt x="14520" y="13196"/>
                  </a:lnTo>
                  <a:arcTo wR="7558" hR="21600" stAng="-3021664" swAng="-2020444"/>
                  <a:lnTo>
                    <a:pt x="9720" y="903"/>
                  </a:lnTo>
                  <a:arcTo wR="7558" hR="21600" stAng="-5757892" swAng="-5042108"/>
                  <a:close/>
                </a:path>
                <a:path fill="darkenLess" w="21600" h="21600">
                  <a:moveTo>
                    <a:pt x="0" y="21600"/>
                  </a:moveTo>
                  <a:arcTo wR="7558" hR="21600" stAng="10800000" swAng="5400000"/>
                  <a:lnTo>
                    <a:pt x="7558" y="0"/>
                  </a:lnTo>
                  <a:arcTo wR="7558" hR="21600" stAng="-5400000" swAng="357892"/>
                  <a:lnTo>
                    <a:pt x="9720" y="903"/>
                  </a:lnTo>
                  <a:arcTo wR="7558" hR="21600" stAng="-5757892" swAng="-5042108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AutoShape 70"/>
            <p:cNvSpPr/>
            <p:nvPr/>
          </p:nvSpPr>
          <p:spPr>
            <a:xfrm>
              <a:off x="4133160" y="4317120"/>
              <a:ext cx="1402560" cy="575640"/>
            </a:xfrm>
            <a:custGeom>
              <a:avLst/>
              <a:gdLst>
                <a:gd name="textAreaLeft" fmla="*/ 245160 w 1402560"/>
                <a:gd name="textAreaRight" fmla="*/ 1017000 w 1402560"/>
                <a:gd name="textAreaTop" fmla="*/ 77040 h 575640"/>
                <a:gd name="textAreaBottom" fmla="*/ 498600 h 57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AutoShape 71"/>
            <p:cNvSpPr/>
            <p:nvPr/>
          </p:nvSpPr>
          <p:spPr>
            <a:xfrm>
              <a:off x="5335920" y="1821240"/>
              <a:ext cx="1804680" cy="383040"/>
            </a:xfrm>
            <a:custGeom>
              <a:avLst/>
              <a:gdLst>
                <a:gd name="textAreaLeft" fmla="*/ 315720 w 1804680"/>
                <a:gd name="textAreaRight" fmla="*/ 1308600 w 1804680"/>
                <a:gd name="textAreaTop" fmla="*/ 51120 h 383040"/>
                <a:gd name="textAreaBottom" fmla="*/ 331920 h 38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72"/>
            <p:cNvSpPr/>
            <p:nvPr/>
          </p:nvSpPr>
          <p:spPr>
            <a:xfrm>
              <a:off x="7138800" y="4317120"/>
              <a:ext cx="1605960" cy="575640"/>
            </a:xfrm>
            <a:custGeom>
              <a:avLst/>
              <a:gdLst>
                <a:gd name="textAreaLeft" fmla="*/ 280800 w 1605960"/>
                <a:gd name="textAreaRight" fmla="*/ 1164240 w 1605960"/>
                <a:gd name="textAreaTop" fmla="*/ 77040 h 575640"/>
                <a:gd name="textAreaBottom" fmla="*/ 498600 h 57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73"/>
            <p:cNvSpPr/>
            <p:nvPr/>
          </p:nvSpPr>
          <p:spPr>
            <a:xfrm>
              <a:off x="2128680" y="2204280"/>
              <a:ext cx="1202400" cy="211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олифункционально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74"/>
            <p:cNvSpPr/>
            <p:nvPr/>
          </p:nvSpPr>
          <p:spPr>
            <a:xfrm>
              <a:off x="524160" y="2204280"/>
              <a:ext cx="1402200" cy="211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одержательно-насыщенно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13" name="Picture 75" descr=""/>
          <p:cNvPicPr/>
          <p:nvPr/>
        </p:nvPicPr>
        <p:blipFill>
          <a:blip r:embed="rId2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4"/>
          <p:cNvSpPr/>
          <p:nvPr/>
        </p:nvSpPr>
        <p:spPr>
          <a:xfrm>
            <a:off x="7812000" y="1125360"/>
            <a:ext cx="914400" cy="91440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5" name="Group 5"/>
          <p:cNvGrpSpPr/>
          <p:nvPr/>
        </p:nvGrpSpPr>
        <p:grpSpPr>
          <a:xfrm>
            <a:off x="395280" y="549360"/>
            <a:ext cx="8209080" cy="5329080"/>
            <a:chOff x="395280" y="549360"/>
            <a:chExt cx="8209080" cy="5329080"/>
          </a:xfrm>
        </p:grpSpPr>
        <p:sp>
          <p:nvSpPr>
            <p:cNvPr id="216" name="AutoShape 6"/>
            <p:cNvSpPr/>
            <p:nvPr/>
          </p:nvSpPr>
          <p:spPr>
            <a:xfrm>
              <a:off x="395280" y="549360"/>
              <a:ext cx="8209080" cy="53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AutoShape 7"/>
            <p:cNvSpPr/>
            <p:nvPr/>
          </p:nvSpPr>
          <p:spPr>
            <a:xfrm>
              <a:off x="2004840" y="720720"/>
              <a:ext cx="5311800" cy="137520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80"/>
                  </a:solidFill>
                  <a:latin typeface="Tempus Sans ITC"/>
                </a:rPr>
                <a:t>Насыщенность среды предполагает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AutoShape 8"/>
            <p:cNvSpPr/>
            <p:nvPr/>
          </p:nvSpPr>
          <p:spPr>
            <a:xfrm>
              <a:off x="2165760" y="2955960"/>
              <a:ext cx="1609920" cy="275040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80"/>
                  </a:solidFill>
                  <a:latin typeface="Times New Roman"/>
                </a:rPr>
                <a:t>Разнообразие материалов, оборудования, инвентаря в групп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AutoShape 9"/>
            <p:cNvSpPr/>
            <p:nvPr/>
          </p:nvSpPr>
          <p:spPr>
            <a:xfrm>
              <a:off x="5546160" y="2955960"/>
              <a:ext cx="1608480" cy="275040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80"/>
                  </a:solidFill>
                  <a:latin typeface="Times New Roman"/>
                </a:rPr>
                <a:t>Должна соответствовать возрастным особенностям и содержанию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программ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AutoShape 10"/>
            <p:cNvSpPr/>
            <p:nvPr/>
          </p:nvSpPr>
          <p:spPr>
            <a:xfrm>
              <a:off x="2810160" y="2096280"/>
              <a:ext cx="683640" cy="688320"/>
            </a:xfrm>
            <a:prstGeom prst="downArrow">
              <a:avLst>
                <a:gd name="adj1" fmla="val 50000"/>
                <a:gd name="adj2" fmla="val 25171"/>
              </a:avLst>
            </a:prstGeom>
            <a:solidFill>
              <a:srgbClr val="ff99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AutoShape 11"/>
            <p:cNvSpPr/>
            <p:nvPr/>
          </p:nvSpPr>
          <p:spPr>
            <a:xfrm>
              <a:off x="6028560" y="2096280"/>
              <a:ext cx="684000" cy="688320"/>
            </a:xfrm>
            <a:prstGeom prst="downArrow">
              <a:avLst>
                <a:gd name="adj1" fmla="val 50000"/>
                <a:gd name="adj2" fmla="val 25158"/>
              </a:avLst>
            </a:prstGeom>
            <a:solidFill>
              <a:srgbClr val="ff99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2" name="Picture 27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53920" cy="1295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8" descr=""/>
          <p:cNvPicPr/>
          <p:nvPr/>
        </p:nvPicPr>
        <p:blipFill>
          <a:blip r:embed="rId2"/>
          <a:stretch/>
        </p:blipFill>
        <p:spPr>
          <a:xfrm>
            <a:off x="7236000" y="4365720"/>
            <a:ext cx="1728720" cy="1974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9" descr=""/>
          <p:cNvPicPr/>
          <p:nvPr/>
        </p:nvPicPr>
        <p:blipFill>
          <a:blip r:embed="rId3"/>
          <a:stretch/>
        </p:blipFill>
        <p:spPr>
          <a:xfrm>
            <a:off x="179280" y="2492280"/>
            <a:ext cx="2016360" cy="302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1T12:22:23Z</dcterms:created>
  <dc:creator>Admin</dc:creator>
  <dc:description/>
  <dc:language>en-US</dc:language>
  <cp:lastModifiedBy>User</cp:lastModifiedBy>
  <dcterms:modified xsi:type="dcterms:W3CDTF">2017-02-12T13:47:16Z</dcterms:modified>
  <cp:revision>12</cp:revision>
  <dc:subject/>
  <dc:title>Предметно-пространственная развивающая среда в группе в соответствии с ФГОС</dc:title>
</cp:coreProperties>
</file>