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C540-8AF4-4FBB-970A-BCC24BC6B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0E96-9476-4FE1-AAE7-84CD1529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B617-BCBE-466C-BAE3-F7D16CD11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3679-3818-4204-A33B-27F289A41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C578-6928-4E94-9F3E-907ABF9C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5D6F-AA18-4E02-AD58-E2115D0D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18EC-660B-4658-B0C7-C1AFB583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9600-325E-409A-82AE-4DABB367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1B06-B357-4964-BB62-027D620A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82E2-0C3C-4785-B787-FBD072FF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AE80-A87B-4DAF-9571-539C1486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1344-C3F8-4F26-9919-68D04627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8DB8-A0AB-474D-A4BB-5AEF38DE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4F96-D194-4857-8468-2264D405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8E1E-7690-47E1-803C-9DDFDB26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7DEE-DC3E-4601-974E-55505E7A9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BD06-54F2-4E93-8372-D5846A98A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6A40-4607-4FC6-8275-64D89FC3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E2CD-811F-447E-A1D8-A5A22E8B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21DF-8A1A-4C13-9A8C-403C01E8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34E9-85A2-402F-83DC-4E1230B2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FF4F-7177-4AF9-9F7B-5E7954A2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1A5B-B21B-4719-8D53-BD432487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FB67-B955-4D38-B26C-23806D34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prstGeom prst="pi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prstGeom prst="pi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prstGeom prst="pi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A899-8B6E-4045-8D2D-034708412D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6840" y="58680"/>
              <a:ext cx="3624120" cy="6134400"/>
              <a:chOff x="5406840" y="58680"/>
              <a:chExt cx="3624120" cy="61344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880" y="343800"/>
                <a:ext cx="2116080" cy="235728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5880"/>
                <a:ext cx="906480" cy="84348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2360" y="2588400"/>
                <a:ext cx="439560" cy="39528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0680"/>
                <a:ext cx="388800" cy="55116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2120" y="2644560"/>
                <a:ext cx="163440" cy="33192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7360" y="1241640"/>
                <a:ext cx="190440" cy="14292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480" y="2930040"/>
                <a:ext cx="523800" cy="326880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9080" cy="24321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640" y="5195880"/>
              <a:ext cx="1758960" cy="16621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51520" y="1033200"/>
              <a:ext cx="1015560" cy="1262520"/>
              <a:chOff x="4151520" y="1033200"/>
              <a:chExt cx="1015560" cy="126252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5880" y="1071000"/>
                <a:ext cx="285840" cy="3787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50840" y="1604160"/>
                <a:ext cx="488880" cy="314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11560" y="1962000"/>
                <a:ext cx="511200" cy="1602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61000" y="303480"/>
              <a:ext cx="889560" cy="833040"/>
              <a:chOff x="5661000" y="303480"/>
              <a:chExt cx="889560" cy="8330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72600" y="805680"/>
                <a:ext cx="178560" cy="3621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8600" y="477720"/>
                <a:ext cx="305280" cy="300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61120" y="403200"/>
                <a:ext cx="319320" cy="1530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9480" y="5266080"/>
              <a:ext cx="1055160" cy="834120"/>
              <a:chOff x="969480" y="5266080"/>
              <a:chExt cx="10551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8200" y="5525640"/>
                <a:ext cx="250920" cy="2991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7000" y="5745600"/>
                <a:ext cx="429840" cy="2484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480" y="5390640"/>
                <a:ext cx="449280" cy="1263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6400"/>
              <a:ext cx="1690560" cy="1146600"/>
              <a:chOff x="375840" y="446400"/>
              <a:chExt cx="169056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440" y="1064880"/>
                <a:ext cx="355320" cy="53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3120" y="590040"/>
                <a:ext cx="608400" cy="44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4120"/>
                <a:ext cx="636120" cy="2239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5400" y="3712320"/>
              <a:ext cx="1156320" cy="1607760"/>
              <a:chOff x="738540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0120" y="4755960"/>
                <a:ext cx="355320" cy="53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0840" y="4455360"/>
                <a:ext cx="608400" cy="44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3760" y="3781440"/>
                <a:ext cx="636120" cy="2239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480" y="3240"/>
              <a:ext cx="1368360" cy="140652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760" y="161280"/>
              <a:ext cx="1081080" cy="9414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800" y="1361160"/>
              <a:ext cx="523800" cy="4410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880" y="1282320"/>
              <a:ext cx="195480" cy="3700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5200" y="0"/>
              <a:ext cx="196920" cy="19224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9160" y="1964520"/>
              <a:ext cx="623880" cy="36514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E4D3-3C51-4930-B88A-95FBDFECA7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745920"/>
            <a:ext cx="6364080" cy="2525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empus Sans ITC"/>
              </a:rPr>
              <a:t>Предметно-пространственная развивающая среда в группе в </a:t>
            </a:r>
            <a:r>
              <a:rPr b="1" i="1" lang="ru-RU" sz="3600" spc="-1" strike="noStrike">
                <a:solidFill>
                  <a:srgbClr val="000000"/>
                </a:solidFill>
                <a:latin typeface="Tempus Sans ITC"/>
              </a:rPr>
              <a:t>соответствии с ФГО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99840" y="3363840"/>
            <a:ext cx="6247080" cy="19224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324000" y="4394160"/>
            <a:ext cx="8280360" cy="2077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"/>
          <p:cNvPicPr/>
          <p:nvPr/>
        </p:nvPicPr>
        <p:blipFill>
          <a:blip r:embed="rId2"/>
          <a:stretch/>
        </p:blipFill>
        <p:spPr>
          <a:xfrm>
            <a:off x="181080" y="184320"/>
            <a:ext cx="1822320" cy="1895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753920" cy="1295280"/>
          </a:xfrm>
          <a:prstGeom prst="rect">
            <a:avLst/>
          </a:prstGeom>
          <a:ln w="0">
            <a:noFill/>
          </a:ln>
        </p:spPr>
      </p:pic>
      <p:grpSp>
        <p:nvGrpSpPr>
          <p:cNvPr id="226" name="Group 13"/>
          <p:cNvGrpSpPr/>
          <p:nvPr/>
        </p:nvGrpSpPr>
        <p:grpSpPr>
          <a:xfrm>
            <a:off x="468360" y="189000"/>
            <a:ext cx="8351640" cy="5040360"/>
            <a:chOff x="468360" y="189000"/>
            <a:chExt cx="8351640" cy="5040360"/>
          </a:xfrm>
        </p:grpSpPr>
        <p:sp>
          <p:nvSpPr>
            <p:cNvPr id="227" name="AutoShape 14"/>
            <p:cNvSpPr/>
            <p:nvPr/>
          </p:nvSpPr>
          <p:spPr>
            <a:xfrm>
              <a:off x="468360" y="189000"/>
              <a:ext cx="8351640" cy="50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AutoShape 15"/>
            <p:cNvSpPr/>
            <p:nvPr/>
          </p:nvSpPr>
          <p:spPr>
            <a:xfrm>
              <a:off x="2106000" y="351000"/>
              <a:ext cx="5567760" cy="1788480"/>
            </a:xfrm>
            <a:prstGeom prst="horizontalScroll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empus Sans ITC"/>
                </a:rPr>
                <a:t>Полифункциональность материалов предполагает: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AutoShape 16"/>
            <p:cNvSpPr/>
            <p:nvPr/>
          </p:nvSpPr>
          <p:spPr>
            <a:xfrm rot="1449600">
              <a:off x="2821680" y="1962000"/>
              <a:ext cx="695880" cy="4734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99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AutoShape 17"/>
            <p:cNvSpPr/>
            <p:nvPr/>
          </p:nvSpPr>
          <p:spPr>
            <a:xfrm rot="19960200">
              <a:off x="5819040" y="1958400"/>
              <a:ext cx="695880" cy="46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99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AutoShape 18"/>
            <p:cNvSpPr/>
            <p:nvPr/>
          </p:nvSpPr>
          <p:spPr>
            <a:xfrm>
              <a:off x="631800" y="2465280"/>
              <a:ext cx="3602520" cy="162612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Возможность разнообразного использования различных составляющих предметной среды (детская мебель, маты, мягкие модули, ширмы и т. д.)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AutoShape 19"/>
            <p:cNvSpPr/>
            <p:nvPr/>
          </p:nvSpPr>
          <p:spPr>
            <a:xfrm>
              <a:off x="4561560" y="2465280"/>
              <a:ext cx="3930840" cy="162612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Наличие не обладающих жёстко закреплённым способом употребления полифункциональных предметов (в т. ч. природные материалы, предметы-заместители)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3" name="Picture 20" descr=""/>
          <p:cNvPicPr/>
          <p:nvPr/>
        </p:nvPicPr>
        <p:blipFill>
          <a:blip r:embed="rId2"/>
          <a:stretch/>
        </p:blipFill>
        <p:spPr>
          <a:xfrm>
            <a:off x="1692360" y="4292640"/>
            <a:ext cx="5400720" cy="2376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754280" cy="1314360"/>
          </a:xfrm>
          <a:prstGeom prst="rect">
            <a:avLst/>
          </a:prstGeom>
          <a:ln w="0">
            <a:noFill/>
          </a:ln>
        </p:spPr>
      </p:pic>
      <p:grpSp>
        <p:nvGrpSpPr>
          <p:cNvPr id="235" name="Group 5"/>
          <p:cNvGrpSpPr/>
          <p:nvPr/>
        </p:nvGrpSpPr>
        <p:grpSpPr>
          <a:xfrm>
            <a:off x="395280" y="260280"/>
            <a:ext cx="8748720" cy="6121440"/>
            <a:chOff x="395280" y="260280"/>
            <a:chExt cx="8748720" cy="6121440"/>
          </a:xfrm>
        </p:grpSpPr>
        <p:sp>
          <p:nvSpPr>
            <p:cNvPr id="236" name="AutoShape 6"/>
            <p:cNvSpPr/>
            <p:nvPr/>
          </p:nvSpPr>
          <p:spPr>
            <a:xfrm>
              <a:off x="395280" y="260280"/>
              <a:ext cx="8748720" cy="612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AutoShape 7"/>
            <p:cNvSpPr/>
            <p:nvPr/>
          </p:nvSpPr>
          <p:spPr>
            <a:xfrm>
              <a:off x="2110680" y="457200"/>
              <a:ext cx="5832360" cy="2172240"/>
            </a:xfrm>
            <a:prstGeom prst="horizontalScroll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empus Sans ITC"/>
                </a:rPr>
                <a:t>Трансформируемость пространства обеспечивает возможность изменений РПП среды в зависимости: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AutoShape 8"/>
            <p:cNvSpPr/>
            <p:nvPr/>
          </p:nvSpPr>
          <p:spPr>
            <a:xfrm rot="1449600">
              <a:off x="2860200" y="2414160"/>
              <a:ext cx="729000" cy="57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99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AutoShape 9"/>
            <p:cNvSpPr/>
            <p:nvPr/>
          </p:nvSpPr>
          <p:spPr>
            <a:xfrm rot="19960200">
              <a:off x="6000480" y="2409840"/>
              <a:ext cx="729000" cy="5680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99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" name="AutoShape 10"/>
            <p:cNvSpPr/>
            <p:nvPr/>
          </p:nvSpPr>
          <p:spPr>
            <a:xfrm>
              <a:off x="566640" y="3024720"/>
              <a:ext cx="3602520" cy="118440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От образовательной ситуации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1" name="AutoShape 11"/>
            <p:cNvSpPr/>
            <p:nvPr/>
          </p:nvSpPr>
          <p:spPr>
            <a:xfrm>
              <a:off x="5027040" y="3024720"/>
              <a:ext cx="3773880" cy="118440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От меняющихся интересов детей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AutoShape 12"/>
            <p:cNvSpPr/>
            <p:nvPr/>
          </p:nvSpPr>
          <p:spPr>
            <a:xfrm>
              <a:off x="2796120" y="4801680"/>
              <a:ext cx="3774240" cy="98748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От возможностей детей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AutoShape 13"/>
            <p:cNvSpPr/>
            <p:nvPr/>
          </p:nvSpPr>
          <p:spPr>
            <a:xfrm>
              <a:off x="4169160" y="2432520"/>
              <a:ext cx="686520" cy="2278440"/>
            </a:xfrm>
            <a:prstGeom prst="downArrow">
              <a:avLst>
                <a:gd name="adj1" fmla="val 50000"/>
                <a:gd name="adj2" fmla="val 82971"/>
              </a:avLst>
            </a:prstGeom>
            <a:solidFill>
              <a:srgbClr val="ff99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44" name="Picture 14" descr=""/>
          <p:cNvPicPr/>
          <p:nvPr/>
        </p:nvPicPr>
        <p:blipFill>
          <a:blip r:embed="rId2"/>
          <a:stretch/>
        </p:blipFill>
        <p:spPr>
          <a:xfrm>
            <a:off x="6804000" y="4797360"/>
            <a:ext cx="2098800" cy="1836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753920" cy="129528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25"/>
          <p:cNvGrpSpPr/>
          <p:nvPr/>
        </p:nvGrpSpPr>
        <p:grpSpPr>
          <a:xfrm>
            <a:off x="971640" y="476280"/>
            <a:ext cx="7632720" cy="5113440"/>
            <a:chOff x="971640" y="476280"/>
            <a:chExt cx="7632720" cy="5113440"/>
          </a:xfrm>
        </p:grpSpPr>
        <p:sp>
          <p:nvSpPr>
            <p:cNvPr id="247" name="AutoShape 26"/>
            <p:cNvSpPr/>
            <p:nvPr/>
          </p:nvSpPr>
          <p:spPr>
            <a:xfrm>
              <a:off x="971640" y="476280"/>
              <a:ext cx="7632720" cy="51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AutoShape 27"/>
            <p:cNvSpPr/>
            <p:nvPr/>
          </p:nvSpPr>
          <p:spPr>
            <a:xfrm>
              <a:off x="2468160" y="640800"/>
              <a:ext cx="5088600" cy="1814400"/>
            </a:xfrm>
            <a:prstGeom prst="horizontalScroll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empus Sans ITC"/>
                </a:rPr>
                <a:t>Вариативность среды предполагает: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AutoShape 28"/>
            <p:cNvSpPr/>
            <p:nvPr/>
          </p:nvSpPr>
          <p:spPr>
            <a:xfrm rot="1449600">
              <a:off x="3121920" y="2274840"/>
              <a:ext cx="635760" cy="4802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99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AutoShape 29"/>
            <p:cNvSpPr/>
            <p:nvPr/>
          </p:nvSpPr>
          <p:spPr>
            <a:xfrm rot="19960200">
              <a:off x="5861520" y="2271960"/>
              <a:ext cx="635760" cy="4744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99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AutoShape 30"/>
            <p:cNvSpPr/>
            <p:nvPr/>
          </p:nvSpPr>
          <p:spPr>
            <a:xfrm>
              <a:off x="1121040" y="2785680"/>
              <a:ext cx="3142800" cy="98928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Наличие различных пространств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AutoShape 31"/>
            <p:cNvSpPr/>
            <p:nvPr/>
          </p:nvSpPr>
          <p:spPr>
            <a:xfrm>
              <a:off x="5012640" y="2785680"/>
              <a:ext cx="3292560" cy="98928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Периодическую сменяемость игрового материала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AutoShape 32"/>
            <p:cNvSpPr/>
            <p:nvPr/>
          </p:nvSpPr>
          <p:spPr>
            <a:xfrm>
              <a:off x="1270440" y="4269600"/>
              <a:ext cx="2993400" cy="82512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азнообразие материалов и игрушек для обеспечения свободного выбора детьми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AutoShape 33"/>
            <p:cNvSpPr/>
            <p:nvPr/>
          </p:nvSpPr>
          <p:spPr>
            <a:xfrm rot="21322800">
              <a:off x="4712400" y="2290320"/>
              <a:ext cx="299880" cy="2639520"/>
            </a:xfrm>
            <a:custGeom>
              <a:avLst/>
              <a:gdLst>
                <a:gd name="textAreaLeft" fmla="*/ 39960 w 299880"/>
                <a:gd name="textAreaRight" fmla="*/ 259920 w 299880"/>
                <a:gd name="textAreaTop" fmla="*/ 461880 h 2639520"/>
                <a:gd name="textAreaBottom" fmla="*/ 1913760 h 263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1563"/>
                  <a:lnTo>
                    <a:pt x="14396" y="21167"/>
                  </a:lnTo>
                  <a:lnTo>
                    <a:pt x="21600" y="17280"/>
                  </a:lnTo>
                  <a:lnTo>
                    <a:pt x="14396" y="12527"/>
                  </a:lnTo>
                  <a:lnTo>
                    <a:pt x="14396" y="14687"/>
                  </a:lnTo>
                  <a:arcTo wR="21600" hR="7560" stAng="8118437" swAng="2324129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AutoShape 34"/>
            <p:cNvSpPr/>
            <p:nvPr/>
          </p:nvSpPr>
          <p:spPr>
            <a:xfrm>
              <a:off x="4264200" y="2290680"/>
              <a:ext cx="298800" cy="2804040"/>
            </a:xfrm>
            <a:custGeom>
              <a:avLst/>
              <a:gdLst>
                <a:gd name="textAreaLeft" fmla="*/ 39960 w 298800"/>
                <a:gd name="textAreaRight" fmla="*/ 258840 w 298800"/>
                <a:gd name="textAreaTop" fmla="*/ 490680 h 2804040"/>
                <a:gd name="textAreaBottom" fmla="*/ 2032920 h 280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6" name="AutoShape 35"/>
          <p:cNvSpPr/>
          <p:nvPr/>
        </p:nvSpPr>
        <p:spPr>
          <a:xfrm>
            <a:off x="5003640" y="4149720"/>
            <a:ext cx="2592720" cy="100800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явление новы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едмет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4"/>
          <p:cNvGrpSpPr/>
          <p:nvPr/>
        </p:nvGrpSpPr>
        <p:grpSpPr>
          <a:xfrm>
            <a:off x="1476360" y="189000"/>
            <a:ext cx="7272360" cy="5756040"/>
            <a:chOff x="1476360" y="189000"/>
            <a:chExt cx="7272360" cy="5756040"/>
          </a:xfrm>
        </p:grpSpPr>
        <p:sp>
          <p:nvSpPr>
            <p:cNvPr id="258" name="AutoShape 5"/>
            <p:cNvSpPr/>
            <p:nvPr/>
          </p:nvSpPr>
          <p:spPr>
            <a:xfrm>
              <a:off x="1476360" y="189000"/>
              <a:ext cx="7272360" cy="575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AutoShape 6"/>
            <p:cNvSpPr/>
            <p:nvPr/>
          </p:nvSpPr>
          <p:spPr>
            <a:xfrm>
              <a:off x="2331720" y="684720"/>
              <a:ext cx="4990320" cy="1361520"/>
            </a:xfrm>
            <a:prstGeom prst="horizontalScroll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empus Sans ITC"/>
                </a:rPr>
                <a:t>Доступность среды предполагает: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AutoShape 7"/>
            <p:cNvSpPr/>
            <p:nvPr/>
          </p:nvSpPr>
          <p:spPr>
            <a:xfrm>
              <a:off x="1618560" y="2603520"/>
              <a:ext cx="2138400" cy="296964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Доступность для воспитанников всех помещений, где осуществляется образовательная деятельность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AutoShape 8"/>
            <p:cNvSpPr/>
            <p:nvPr/>
          </p:nvSpPr>
          <p:spPr>
            <a:xfrm>
              <a:off x="4042800" y="2417040"/>
              <a:ext cx="1996560" cy="315612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Свободный доступ к играм, игрушкам, пособиям, обеспечивающим все виды детской активности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AutoShape 9"/>
            <p:cNvSpPr/>
            <p:nvPr/>
          </p:nvSpPr>
          <p:spPr>
            <a:xfrm>
              <a:off x="6466680" y="2603520"/>
              <a:ext cx="2139120" cy="185580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Исправность и сохранность материалов и оборудования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63" name="AutoShape 10"/>
            <p:cNvCxnSpPr/>
            <p:nvPr/>
          </p:nvCxnSpPr>
          <p:spPr>
            <a:xfrm>
              <a:off x="6894720" y="223128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4" name="AutoShape 11"/>
            <p:cNvSpPr/>
            <p:nvPr/>
          </p:nvSpPr>
          <p:spPr>
            <a:xfrm rot="5400000">
              <a:off x="6736680" y="2017800"/>
              <a:ext cx="743400" cy="426960"/>
            </a:xfrm>
            <a:prstGeom prst="pie">
              <a:avLst/>
            </a:prstGeom>
            <a:solidFill>
              <a:srgbClr val="ff99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AutoShape 12"/>
            <p:cNvSpPr/>
            <p:nvPr/>
          </p:nvSpPr>
          <p:spPr>
            <a:xfrm rot="5400000">
              <a:off x="4690080" y="1925280"/>
              <a:ext cx="558360" cy="426960"/>
            </a:xfrm>
            <a:prstGeom prst="pie">
              <a:avLst/>
            </a:prstGeom>
            <a:solidFill>
              <a:srgbClr val="ff99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AutoShape 13"/>
            <p:cNvSpPr/>
            <p:nvPr/>
          </p:nvSpPr>
          <p:spPr>
            <a:xfrm rot="5400000">
              <a:off x="2601000" y="2018160"/>
              <a:ext cx="743400" cy="426240"/>
            </a:xfrm>
            <a:prstGeom prst="pie">
              <a:avLst/>
            </a:prstGeom>
            <a:solidFill>
              <a:srgbClr val="ff99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67" name="Picture 1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753920" cy="1295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753920" cy="1314360"/>
          </a:xfrm>
          <a:prstGeom prst="rect">
            <a:avLst/>
          </a:prstGeom>
          <a:ln w="0">
            <a:noFill/>
          </a:ln>
        </p:spPr>
      </p:pic>
      <p:grpSp>
        <p:nvGrpSpPr>
          <p:cNvPr id="269" name="Group 5"/>
          <p:cNvGrpSpPr/>
          <p:nvPr/>
        </p:nvGrpSpPr>
        <p:grpSpPr>
          <a:xfrm>
            <a:off x="2268360" y="404640"/>
            <a:ext cx="6553440" cy="4032360"/>
            <a:chOff x="2268360" y="404640"/>
            <a:chExt cx="6553440" cy="4032360"/>
          </a:xfrm>
        </p:grpSpPr>
        <p:sp>
          <p:nvSpPr>
            <p:cNvPr id="270" name="AutoShape 6"/>
            <p:cNvSpPr/>
            <p:nvPr/>
          </p:nvSpPr>
          <p:spPr>
            <a:xfrm>
              <a:off x="2268360" y="404640"/>
              <a:ext cx="6553440" cy="40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AutoShape 7"/>
            <p:cNvSpPr/>
            <p:nvPr/>
          </p:nvSpPr>
          <p:spPr>
            <a:xfrm>
              <a:off x="2274840" y="410760"/>
              <a:ext cx="5333400" cy="1078560"/>
            </a:xfrm>
            <a:prstGeom prst="horizontalScroll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empus Sans ITC"/>
                </a:rPr>
                <a:t>Безопасность среды: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AutoShape 8"/>
            <p:cNvSpPr/>
            <p:nvPr/>
          </p:nvSpPr>
          <p:spPr>
            <a:xfrm>
              <a:off x="3334680" y="2022840"/>
              <a:ext cx="3658320" cy="205920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Соответствие всех её элементов по обеспечению надёжности и безопасности, т. е. на игрушки должны быть сертификаты и декларации соответствия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73" name="AutoShape 9"/>
            <p:cNvCxnSpPr/>
            <p:nvPr/>
          </p:nvCxnSpPr>
          <p:spPr>
            <a:xfrm>
              <a:off x="7151400" y="163620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4" name="AutoShape 10"/>
            <p:cNvSpPr/>
            <p:nvPr/>
          </p:nvSpPr>
          <p:spPr>
            <a:xfrm rot="5400000">
              <a:off x="4873320" y="1274400"/>
              <a:ext cx="441360" cy="761760"/>
            </a:xfrm>
            <a:prstGeom prst="pie">
              <a:avLst/>
            </a:prstGeom>
            <a:solidFill>
              <a:srgbClr val="ff99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75" name="Picture 11" descr=""/>
          <p:cNvPicPr/>
          <p:nvPr/>
        </p:nvPicPr>
        <p:blipFill>
          <a:blip r:embed="rId2"/>
          <a:stretch/>
        </p:blipFill>
        <p:spPr>
          <a:xfrm rot="20736600">
            <a:off x="250560" y="1699920"/>
            <a:ext cx="2881080" cy="2400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2" descr=""/>
          <p:cNvPicPr/>
          <p:nvPr/>
        </p:nvPicPr>
        <p:blipFill>
          <a:blip r:embed="rId3"/>
          <a:stretch/>
        </p:blipFill>
        <p:spPr>
          <a:xfrm rot="21064200">
            <a:off x="3492360" y="4220640"/>
            <a:ext cx="3024360" cy="2394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3" descr=""/>
          <p:cNvPicPr/>
          <p:nvPr/>
        </p:nvPicPr>
        <p:blipFill>
          <a:blip r:embed="rId4"/>
          <a:srcRect l="0" t="8425" r="0" b="0"/>
          <a:stretch/>
        </p:blipFill>
        <p:spPr>
          <a:xfrm rot="401400">
            <a:off x="236160" y="4219200"/>
            <a:ext cx="3097080" cy="23655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4" descr=""/>
          <p:cNvPicPr/>
          <p:nvPr/>
        </p:nvPicPr>
        <p:blipFill>
          <a:blip r:embed="rId5"/>
          <a:stretch/>
        </p:blipFill>
        <p:spPr>
          <a:xfrm rot="465000">
            <a:off x="6656040" y="4454640"/>
            <a:ext cx="2306520" cy="22572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5" descr=""/>
          <p:cNvPicPr/>
          <p:nvPr/>
        </p:nvPicPr>
        <p:blipFill>
          <a:blip r:embed="rId6"/>
          <a:stretch/>
        </p:blipFill>
        <p:spPr>
          <a:xfrm rot="21436800">
            <a:off x="6659280" y="1484280"/>
            <a:ext cx="2225520" cy="2521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5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ru-RU" sz="2000" spc="-1" strike="noStrike">
                <a:solidFill>
                  <a:srgbClr val="ff99cc"/>
                </a:solidFill>
                <a:latin typeface="Tempus Sans ITC"/>
              </a:rPr>
              <a:t>Примерные уголки, котор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cc"/>
                </a:solidFill>
                <a:latin typeface="Tempus Sans ITC"/>
              </a:rPr>
              <a:t>           </a:t>
            </a:r>
            <a:r>
              <a:rPr b="1" lang="ru-RU" sz="2000" spc="-1" strike="noStrike">
                <a:solidFill>
                  <a:srgbClr val="ff99cc"/>
                </a:solidFill>
                <a:latin typeface="Tempus Sans ITC"/>
              </a:rPr>
              <a:t>должны быть созданы 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cc"/>
                </a:solidFill>
                <a:latin typeface="Tempus Sans ITC"/>
              </a:rPr>
              <a:t>группе по образовательным областям в свете требований ФГОС</a:t>
            </a:r>
            <a:r>
              <a:rPr b="1" lang="ru-RU" sz="2000" spc="-1" strike="noStrike">
                <a:solidFill>
                  <a:srgbClr val="ffff99"/>
                </a:solidFill>
                <a:latin typeface="Tempus Sans IT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оциально-коммуникативное развитие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 Уголок  БДД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 уголок труда, уголок дежурст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 уголок активности (уголок сюжетно-ролевых игр)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ознавательное развити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уголок «Мы познаём мир» или Уголок краевед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уголок  сенсорного развит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уголок конструктивной деятельн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уголок математического развит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уголок экспериментирова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Речевое развитие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уголок  речевого развития или уголок речи грамотн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уголок  «Здравствуй, книжка! 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Логопедический уголо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944720" cy="1152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1979280" y="333000"/>
            <a:ext cx="6707160" cy="5722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Художественно-эстетическое развитие включае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голок изодеятельности или уголок творчества «Умелые руки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уголок музыкально-театрализованной деятель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Физическое развити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ортивный уголок «Будь здоров! 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753920" cy="1314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"/>
          <p:cNvPicPr/>
          <p:nvPr/>
        </p:nvPicPr>
        <p:blipFill>
          <a:blip r:embed="rId2"/>
          <a:stretch/>
        </p:blipFill>
        <p:spPr>
          <a:xfrm rot="21066600">
            <a:off x="266760" y="3998520"/>
            <a:ext cx="3506760" cy="24955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"/>
          <p:cNvPicPr/>
          <p:nvPr/>
        </p:nvPicPr>
        <p:blipFill>
          <a:blip r:embed="rId3"/>
          <a:stretch/>
        </p:blipFill>
        <p:spPr>
          <a:xfrm rot="631200">
            <a:off x="6227640" y="3068640"/>
            <a:ext cx="2505240" cy="3419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8075520" cy="273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лавной задачей воспитания дошкольников являются создание у детей чувства эмоционального комфорта и психологической защищённости. В детском саду ребёнку важно чувствовать себя любимым и неповторимым. Поэтому, важным является и среда, в которой проходит воспитательный процесс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753920" cy="13143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523880" cy="15048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"/>
          <p:cNvPicPr/>
          <p:nvPr/>
        </p:nvPicPr>
        <p:blipFill>
          <a:blip r:embed="rId3"/>
          <a:srcRect l="2189" t="3818" r="2758" b="11533"/>
          <a:stretch/>
        </p:blipFill>
        <p:spPr>
          <a:xfrm>
            <a:off x="4859280" y="4508640"/>
            <a:ext cx="3960720" cy="20890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"/>
          <p:cNvPicPr/>
          <p:nvPr/>
        </p:nvPicPr>
        <p:blipFill>
          <a:blip r:embed="rId4"/>
          <a:srcRect l="0" t="0" r="0" b="23425"/>
          <a:stretch/>
        </p:blipFill>
        <p:spPr>
          <a:xfrm>
            <a:off x="468360" y="4724280"/>
            <a:ext cx="3672000" cy="18734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"/>
          <p:cNvPicPr/>
          <p:nvPr/>
        </p:nvPicPr>
        <p:blipFill>
          <a:blip r:embed="rId5"/>
          <a:stretch/>
        </p:blipFill>
        <p:spPr>
          <a:xfrm>
            <a:off x="3851280" y="54936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364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empus Sans ITC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Tempus Sans ITC"/>
              </a:rPr>
              <a:t>«Нет такой стороны воспитания, на которую обстановка не оказывала бы влияние, нет способности, которая находилась бы в прямой зависимости от непосредственно окружающего ребёнка конкретного мир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empus Sans ITC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empus Sans ITC"/>
              </a:rPr>
              <a:t>Тот, кому удастся создать такую обстановку, облегчит свой труд в высшей степени. Среди неё ребёнок будет жить – развиваться собственно самодовлеющей жизнью, его духовный рост будет совершенствоваться из самого себя, от природы»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empus Sans ITC"/>
              </a:rPr>
              <a:t>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empus Sans ITC"/>
              </a:rPr>
              <a:t>Е. И. Тихеев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754280" cy="1125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08000" y="102960"/>
            <a:ext cx="7236000" cy="1314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empus Sans ITC"/>
              </a:rPr>
              <a:t>Организация развивающей предметно-пространственной среды в свете требований ФГОС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empus Sans ITC"/>
              </a:rPr>
              <a:t>Развивающая предметно-пространственная среда – часть образовательной среды, представленная специально организованным пространством (помещениями, участком и т. п., материалами, оборудованием и инвентарем для развития детей дошкольного возраста в соответствии с особенностями каждого возрастного этапа, охраны и укрепления их здоровья, учёта особенностей и коррекции недостатков их развит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empus Sans ITC"/>
              </a:rPr>
              <a:t>Вопрос организации развивающей предметно-пространственной среды ДОУ на сегодняшний день стоит особо актуально. Это связано с введением нового Федерального государственного образовательного стандарта (ФГОС) к структуре основной общеобразовательной программы дошкольного образо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empus Sans ITC"/>
              </a:rPr>
              <a:t>В соответствии с ФГОС программа должна строиться с учетом принципа интеграции образовательных областей и в соответствии с возрастными возможностями и особенностями воспитанников. Решение программных образовательных задач предусматривается не только в совместной деятельности взрослого и детей, но и в самостоятельной деятельности детей, а также при проведении режимных моментов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empus Sans ITC"/>
              </a:rPr>
              <a:t>Образовательная среда – совокупность условий, целенаправленно создаваемых в целях обеспечения полноценного образования и развития детей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empus Sans ITC"/>
              </a:rPr>
              <a:t>Создавая развивающую предметно-пространственную среду любой возрастной группы в ДОУ, необходимо учитывать психологические основы конструктивного взаимодействия участников воспитательно-образовательного процесса, дизайн и эргономику современной среды дошкольного учреждения и психологические особенности возрастной группы, на которую нацелена данная среда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754280" cy="1295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7236000" cy="1228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empus Sans ITC"/>
              </a:rPr>
              <a:t>РПП среда в младшем дошкольном возрасте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ля детей этого возраста – достаточно большое пространство в группе для удовлетворения потребности в двигательной активности. Правильно организованная развивающая среда позволяет каждому малышу найти занятие по душе, поверить в свои силы и способности, научиться взаимодействовать с педагогами и со сверстниками, понимать и оценивать их чувства и поступки, а ведь именно это и лежит в основе развивающего обучени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 создании развивающего пространства в групповом помещении необходимо учитывать ведущую роль игровой деятельности в развитии, это в свою очередь обеспечит эмоциональное благополучие каждого ребёнка, развитие его положительного самоощущения, компетентности в сфере отношений к миру, к людям, к себе, включение в различные формы сотрудничества, что и является основными целями дошкольного обучения и воспитани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754280" cy="1295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"/>
          <p:cNvPicPr/>
          <p:nvPr/>
        </p:nvPicPr>
        <p:blipFill>
          <a:blip r:embed="rId2"/>
          <a:stretch/>
        </p:blipFill>
        <p:spPr>
          <a:xfrm>
            <a:off x="5940360" y="5084640"/>
            <a:ext cx="2933640" cy="1562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35280" y="102960"/>
            <a:ext cx="7308720" cy="1314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empus Sans ITC"/>
              </a:rPr>
              <a:t>РПП среда в среднем дошкольном возраст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449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ация жизни и воспитание детей пятого года жизни направлены на дальнейшее развитие умения понимать окружающих людей, проявлять к ним доброжелательное отношение, стремиться к общению и взаимодействию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метно-развивающая среда группы организуется с учётом возможностей для детей играть и заниматься отдельными подгруппами. Пособия и игрушки располагаются так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тобы не мешать их свободном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мещению. Необходим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усмотреть место дл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ременного уединения дошкольник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де он может подумать, помечтать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754280" cy="1295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2"/>
          <a:srcRect l="0" t="0" r="0" b="9493"/>
          <a:stretch/>
        </p:blipFill>
        <p:spPr>
          <a:xfrm>
            <a:off x="5435640" y="3789360"/>
            <a:ext cx="3438360" cy="2521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08000" y="102960"/>
            <a:ext cx="7236000" cy="1314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empus Sans ITC"/>
              </a:rPr>
              <a:t>РПП среда в старшем дошкольном возраст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4392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старшем дошкольном возрасте происходит интенсивное развитие интеллектуальной, нравственно-волевой и эмоциональной сфер личности. Переход в старшую группу связан с изменением психологической позиции детей: они впервые начинают ощущать себя старшими среди других детей в детском саду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оспитатель помогает дошкольникам понять это новое положени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метно-развивающая среда организуется так, чтобы каждый ребёнок имел возможность заниматься любимым делом. Размещение оборудования по секторам позволяет детям объединиться подгруппами по общим интересам (конструирование, рисование, ручной труд, театрально-игровая деятельность, экспериментирование). Обязательными в оборудовании являются материалы, активизирующие познавательную деятельность, развивающие игры, технические устройства и игрушки и т. д. Широко используются материалы, побуждающие детей к освоению грамот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754280" cy="1295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4076640"/>
            <a:ext cx="8291520" cy="223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акое проектирование среды показывает её влияние на развитие ребёнка. Проектирование среды с использованием таких составляющих позволяет представить все особенности жизнедеятельности ребёнка в среде. Успешность влияния развивающей среды на ребёнка обусловлена её активностью в этой среде. Вся организация педагогического процесса предполагает свободу передвижения ребёнка. В среде необходимо выделить следующие зоны для разного вида активност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боча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ктивна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покойна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6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754280" cy="1295280"/>
          </a:xfrm>
          <a:prstGeom prst="rect">
            <a:avLst/>
          </a:prstGeom>
          <a:ln w="0">
            <a:noFill/>
          </a:ln>
        </p:spPr>
      </p:pic>
      <p:grpSp>
        <p:nvGrpSpPr>
          <p:cNvPr id="189" name="Organization Chart 8"/>
          <p:cNvGrpSpPr/>
          <p:nvPr/>
        </p:nvGrpSpPr>
        <p:grpSpPr>
          <a:xfrm>
            <a:off x="250920" y="404640"/>
            <a:ext cx="8713080" cy="3384000"/>
            <a:chOff x="250920" y="404640"/>
            <a:chExt cx="8713080" cy="3384000"/>
          </a:xfrm>
        </p:grpSpPr>
        <p:cxnSp>
          <p:nvCxnSpPr>
            <p:cNvPr id="190" name="_s1028"/>
            <p:cNvCxnSpPr>
              <a:stCxn id="191" idx="0"/>
              <a:endCxn id="192" idx="2"/>
            </p:cNvCxnSpPr>
            <p:nvPr/>
          </p:nvCxnSpPr>
          <p:spPr>
            <a:xfrm flipV="1" rot="16200000">
              <a:off x="5793480" y="571320"/>
              <a:ext cx="677520" cy="3050280"/>
            </a:xfrm>
            <a:prstGeom prst="bentConnector3">
              <a:avLst>
                <a:gd name="adj1" fmla="val 208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3" name="_s1029"/>
            <p:cNvCxnSpPr>
              <a:stCxn id="194" idx="0"/>
              <a:endCxn id="192" idx="2"/>
            </p:cNvCxnSpPr>
            <p:nvPr/>
          </p:nvCxnSpPr>
          <p:spPr>
            <a:xfrm flipV="1">
              <a:off x="4607280" y="1757880"/>
              <a:ext cx="3240" cy="677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1030"/>
            <p:cNvCxnSpPr>
              <a:stCxn id="196" idx="0"/>
              <a:endCxn id="192" idx="2"/>
            </p:cNvCxnSpPr>
            <p:nvPr/>
          </p:nvCxnSpPr>
          <p:spPr>
            <a:xfrm flipH="1" flipV="1" rot="5400000">
              <a:off x="2743560" y="571320"/>
              <a:ext cx="677520" cy="3050280"/>
            </a:xfrm>
            <a:prstGeom prst="bentConnector3">
              <a:avLst>
                <a:gd name="adj1" fmla="val 208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2" name="_s1031"/>
            <p:cNvSpPr/>
            <p:nvPr/>
          </p:nvSpPr>
          <p:spPr>
            <a:xfrm>
              <a:off x="3300480" y="404640"/>
              <a:ext cx="2613960" cy="13536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empus Sans ITC"/>
                </a:rPr>
                <a:t>Основные составляющие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empus Sans ITC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Tempus Sans ITC"/>
                </a:rPr>
                <a:t>при проектировании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empus Sans ITC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Tempus Sans ITC"/>
                </a:rPr>
                <a:t>предметно-пространственной 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empus Sans ITC"/>
                </a:rPr>
                <a:t>развивающей среды в группе</a:t>
              </a: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_s1032"/>
            <p:cNvSpPr/>
            <p:nvPr/>
          </p:nvSpPr>
          <p:spPr>
            <a:xfrm>
              <a:off x="250920" y="2435040"/>
              <a:ext cx="2613960" cy="13536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ПРОСТРАНСТВО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_s1033"/>
            <p:cNvSpPr/>
            <p:nvPr/>
          </p:nvSpPr>
          <p:spPr>
            <a:xfrm>
              <a:off x="3300480" y="2435040"/>
              <a:ext cx="2613960" cy="13536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ВРЕМЯ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_s1034"/>
            <p:cNvSpPr/>
            <p:nvPr/>
          </p:nvSpPr>
          <p:spPr>
            <a:xfrm>
              <a:off x="6350040" y="2435040"/>
              <a:ext cx="2613960" cy="13536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ПРЕДМЕТНОЕ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ОКРУЖЕНИЕ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97" name="Picture 17" descr=""/>
          <p:cNvPicPr/>
          <p:nvPr/>
        </p:nvPicPr>
        <p:blipFill>
          <a:blip r:embed="rId2"/>
          <a:stretch/>
        </p:blipFill>
        <p:spPr>
          <a:xfrm>
            <a:off x="6372360" y="5229360"/>
            <a:ext cx="2463840" cy="1461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754280" cy="129528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61"/>
          <p:cNvGrpSpPr/>
          <p:nvPr/>
        </p:nvGrpSpPr>
        <p:grpSpPr>
          <a:xfrm>
            <a:off x="324000" y="476280"/>
            <a:ext cx="8820000" cy="4608360"/>
            <a:chOff x="324000" y="476280"/>
            <a:chExt cx="8820000" cy="4608360"/>
          </a:xfrm>
        </p:grpSpPr>
        <p:sp>
          <p:nvSpPr>
            <p:cNvPr id="200" name="AutoShape 62"/>
            <p:cNvSpPr/>
            <p:nvPr/>
          </p:nvSpPr>
          <p:spPr>
            <a:xfrm>
              <a:off x="324000" y="476280"/>
              <a:ext cx="8820000" cy="46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AutoShape 63"/>
            <p:cNvSpPr/>
            <p:nvPr/>
          </p:nvSpPr>
          <p:spPr>
            <a:xfrm>
              <a:off x="2128680" y="667800"/>
              <a:ext cx="5812560" cy="1152000"/>
            </a:xfrm>
            <a:prstGeom prst="flowChartPunchedTape">
              <a:avLst/>
            </a:prstGeom>
            <a:solidFill>
              <a:srgbClr val="ff99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empus Sans ITC"/>
                </a:rPr>
                <a:t>Развивающая предметно-пространственная среда должна </a:t>
              </a:r>
              <a:r>
                <a:rPr b="1" lang="ru-RU" sz="1800" spc="-1" strike="noStrike">
                  <a:solidFill>
                    <a:srgbClr val="000000"/>
                  </a:solidFill>
                  <a:latin typeface="Tempus Sans ITC"/>
                </a:rPr>
                <a:t>быть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Rectangle 64"/>
            <p:cNvSpPr/>
            <p:nvPr/>
          </p:nvSpPr>
          <p:spPr>
            <a:xfrm>
              <a:off x="3531240" y="2204280"/>
              <a:ext cx="1200960" cy="2112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Трансформируемой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Rectangle 65"/>
            <p:cNvSpPr/>
            <p:nvPr/>
          </p:nvSpPr>
          <p:spPr>
            <a:xfrm>
              <a:off x="4933800" y="2204280"/>
              <a:ext cx="1204200" cy="2112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Вариативной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Rectangle 66"/>
            <p:cNvSpPr/>
            <p:nvPr/>
          </p:nvSpPr>
          <p:spPr>
            <a:xfrm>
              <a:off x="6338160" y="2204280"/>
              <a:ext cx="1200960" cy="2112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Доступной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Rectangle 67"/>
            <p:cNvSpPr/>
            <p:nvPr/>
          </p:nvSpPr>
          <p:spPr>
            <a:xfrm>
              <a:off x="7741080" y="2204280"/>
              <a:ext cx="1205280" cy="2112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Безопасной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AutoShape 68"/>
            <p:cNvSpPr/>
            <p:nvPr/>
          </p:nvSpPr>
          <p:spPr>
            <a:xfrm>
              <a:off x="1326240" y="4317120"/>
              <a:ext cx="1402560" cy="575640"/>
            </a:xfrm>
            <a:custGeom>
              <a:avLst/>
              <a:gdLst>
                <a:gd name="textAreaLeft" fmla="*/ 245160 w 1402560"/>
                <a:gd name="textAreaRight" fmla="*/ 1017000 w 1402560"/>
                <a:gd name="textAreaTop" fmla="*/ 77040 h 575640"/>
                <a:gd name="textAreaBottom" fmla="*/ 498600 h 57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3764207"/>
                  <a:lnTo>
                    <a:pt x="21480" y="3834"/>
                  </a:lnTo>
                  <a:lnTo>
                    <a:pt x="17280" y="0"/>
                  </a:lnTo>
                  <a:lnTo>
                    <a:pt x="12840" y="3834"/>
                  </a:lnTo>
                  <a:lnTo>
                    <a:pt x="15000" y="3834"/>
                  </a:lnTo>
                  <a:arcTo wR="7560" hR="21600" stAng="1635793" swAng="3406772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AutoShape 69"/>
            <p:cNvSpPr/>
            <p:nvPr/>
          </p:nvSpPr>
          <p:spPr>
            <a:xfrm>
              <a:off x="2328480" y="1910880"/>
              <a:ext cx="1803240" cy="293400"/>
            </a:xfrm>
            <a:custGeom>
              <a:avLst/>
              <a:gdLst>
                <a:gd name="textAreaLeft" fmla="*/ 315360 w 1803240"/>
                <a:gd name="textAreaRight" fmla="*/ 1307520 w 1803240"/>
                <a:gd name="textAreaTop" fmla="*/ 39240 h 293400"/>
                <a:gd name="textAreaBottom" fmla="*/ 254160 h 29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58" hR="21600" stAng="10800000" swAng="5400000"/>
                  <a:lnTo>
                    <a:pt x="11883" y="0"/>
                  </a:lnTo>
                  <a:arcTo wR="7558" hR="21600" stAng="-5400000" swAng="2378336"/>
                  <a:lnTo>
                    <a:pt x="21005" y="13196"/>
                  </a:lnTo>
                  <a:lnTo>
                    <a:pt x="17278" y="21600"/>
                  </a:lnTo>
                  <a:lnTo>
                    <a:pt x="12360" y="13196"/>
                  </a:lnTo>
                  <a:lnTo>
                    <a:pt x="14520" y="13196"/>
                  </a:lnTo>
                  <a:arcTo wR="7558" hR="21600" stAng="-3021664" swAng="-2020444"/>
                  <a:lnTo>
                    <a:pt x="9720" y="903"/>
                  </a:lnTo>
                  <a:arcTo wR="7558" hR="21600" stAng="-5757892" swAng="-5042108"/>
                  <a:close/>
                </a:path>
                <a:path fill="darkenLess" w="21600" h="21600">
                  <a:moveTo>
                    <a:pt x="0" y="21600"/>
                  </a:moveTo>
                  <a:arcTo wR="7558" hR="21600" stAng="10800000" swAng="5400000"/>
                  <a:lnTo>
                    <a:pt x="7558" y="0"/>
                  </a:lnTo>
                  <a:arcTo wR="7558" hR="21600" stAng="-5400000" swAng="357892"/>
                  <a:lnTo>
                    <a:pt x="9720" y="903"/>
                  </a:lnTo>
                  <a:arcTo wR="7558" hR="21600" stAng="-5757892" swAng="-5042108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AutoShape 70"/>
            <p:cNvSpPr/>
            <p:nvPr/>
          </p:nvSpPr>
          <p:spPr>
            <a:xfrm>
              <a:off x="4133160" y="4317120"/>
              <a:ext cx="1402560" cy="575640"/>
            </a:xfrm>
            <a:custGeom>
              <a:avLst/>
              <a:gdLst>
                <a:gd name="textAreaLeft" fmla="*/ 245160 w 1402560"/>
                <a:gd name="textAreaRight" fmla="*/ 1017000 w 1402560"/>
                <a:gd name="textAreaTop" fmla="*/ 77040 h 575640"/>
                <a:gd name="textAreaBottom" fmla="*/ 498600 h 57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AutoShape 71"/>
            <p:cNvSpPr/>
            <p:nvPr/>
          </p:nvSpPr>
          <p:spPr>
            <a:xfrm>
              <a:off x="5335920" y="1821240"/>
              <a:ext cx="1804680" cy="383040"/>
            </a:xfrm>
            <a:custGeom>
              <a:avLst/>
              <a:gdLst>
                <a:gd name="textAreaLeft" fmla="*/ 315720 w 1804680"/>
                <a:gd name="textAreaRight" fmla="*/ 1308600 w 1804680"/>
                <a:gd name="textAreaTop" fmla="*/ 51120 h 383040"/>
                <a:gd name="textAreaBottom" fmla="*/ 331920 h 38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AutoShape 72"/>
            <p:cNvSpPr/>
            <p:nvPr/>
          </p:nvSpPr>
          <p:spPr>
            <a:xfrm>
              <a:off x="7138800" y="4317120"/>
              <a:ext cx="1605960" cy="575640"/>
            </a:xfrm>
            <a:custGeom>
              <a:avLst/>
              <a:gdLst>
                <a:gd name="textAreaLeft" fmla="*/ 280800 w 1605960"/>
                <a:gd name="textAreaRight" fmla="*/ 1164240 w 1605960"/>
                <a:gd name="textAreaTop" fmla="*/ 77040 h 575640"/>
                <a:gd name="textAreaBottom" fmla="*/ 498600 h 57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Rectangle 73"/>
            <p:cNvSpPr/>
            <p:nvPr/>
          </p:nvSpPr>
          <p:spPr>
            <a:xfrm>
              <a:off x="2128680" y="2204280"/>
              <a:ext cx="1202400" cy="2112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Полифункциональной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Rectangle 74"/>
            <p:cNvSpPr/>
            <p:nvPr/>
          </p:nvSpPr>
          <p:spPr>
            <a:xfrm>
              <a:off x="524160" y="2204280"/>
              <a:ext cx="1402200" cy="2112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одержательно-насыщенной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13" name="Picture 75" descr=""/>
          <p:cNvPicPr/>
          <p:nvPr/>
        </p:nvPicPr>
        <p:blipFill>
          <a:blip r:embed="rId2"/>
          <a:stretch/>
        </p:blipFill>
        <p:spPr>
          <a:xfrm>
            <a:off x="0" y="5373720"/>
            <a:ext cx="9144000" cy="1484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4"/>
          <p:cNvSpPr/>
          <p:nvPr/>
        </p:nvSpPr>
        <p:spPr>
          <a:xfrm>
            <a:off x="7812000" y="1125360"/>
            <a:ext cx="914400" cy="91440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5" name="Group 5"/>
          <p:cNvGrpSpPr/>
          <p:nvPr/>
        </p:nvGrpSpPr>
        <p:grpSpPr>
          <a:xfrm>
            <a:off x="395280" y="549360"/>
            <a:ext cx="8209080" cy="5329080"/>
            <a:chOff x="395280" y="549360"/>
            <a:chExt cx="8209080" cy="5329080"/>
          </a:xfrm>
        </p:grpSpPr>
        <p:sp>
          <p:nvSpPr>
            <p:cNvPr id="216" name="AutoShape 6"/>
            <p:cNvSpPr/>
            <p:nvPr/>
          </p:nvSpPr>
          <p:spPr>
            <a:xfrm>
              <a:off x="395280" y="549360"/>
              <a:ext cx="8209080" cy="532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AutoShape 7"/>
            <p:cNvSpPr/>
            <p:nvPr/>
          </p:nvSpPr>
          <p:spPr>
            <a:xfrm>
              <a:off x="2004840" y="720720"/>
              <a:ext cx="5311800" cy="1375200"/>
            </a:xfrm>
            <a:prstGeom prst="horizontalScroll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80"/>
                  </a:solidFill>
                  <a:latin typeface="Tempus Sans ITC"/>
                </a:rPr>
                <a:t>Насыщенность среды предполагает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AutoShape 8"/>
            <p:cNvSpPr/>
            <p:nvPr/>
          </p:nvSpPr>
          <p:spPr>
            <a:xfrm>
              <a:off x="2165760" y="2955960"/>
              <a:ext cx="1609920" cy="275040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80"/>
                  </a:solidFill>
                  <a:latin typeface="Times New Roman"/>
                </a:rPr>
                <a:t>Разнообразие материалов, оборудования, инвентаря в групп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AutoShape 9"/>
            <p:cNvSpPr/>
            <p:nvPr/>
          </p:nvSpPr>
          <p:spPr>
            <a:xfrm>
              <a:off x="5546160" y="2955960"/>
              <a:ext cx="1608480" cy="275040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80"/>
                  </a:solidFill>
                  <a:latin typeface="Times New Roman"/>
                </a:rPr>
                <a:t>Должна соответствовать возрастным особенностям и содержанию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программы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AutoShape 10"/>
            <p:cNvSpPr/>
            <p:nvPr/>
          </p:nvSpPr>
          <p:spPr>
            <a:xfrm>
              <a:off x="2810160" y="2096280"/>
              <a:ext cx="683640" cy="688320"/>
            </a:xfrm>
            <a:prstGeom prst="downArrow">
              <a:avLst>
                <a:gd name="adj1" fmla="val 50000"/>
                <a:gd name="adj2" fmla="val 25171"/>
              </a:avLst>
            </a:prstGeom>
            <a:solidFill>
              <a:srgbClr val="ff99cc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AutoShape 11"/>
            <p:cNvSpPr/>
            <p:nvPr/>
          </p:nvSpPr>
          <p:spPr>
            <a:xfrm>
              <a:off x="6028560" y="2096280"/>
              <a:ext cx="684000" cy="688320"/>
            </a:xfrm>
            <a:prstGeom prst="downArrow">
              <a:avLst>
                <a:gd name="adj1" fmla="val 50000"/>
                <a:gd name="adj2" fmla="val 25158"/>
              </a:avLst>
            </a:prstGeom>
            <a:solidFill>
              <a:srgbClr val="ff99cc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22" name="Picture 27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753920" cy="1295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8" descr=""/>
          <p:cNvPicPr/>
          <p:nvPr/>
        </p:nvPicPr>
        <p:blipFill>
          <a:blip r:embed="rId2"/>
          <a:stretch/>
        </p:blipFill>
        <p:spPr>
          <a:xfrm>
            <a:off x="7236000" y="4365720"/>
            <a:ext cx="1728720" cy="19746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9" descr=""/>
          <p:cNvPicPr/>
          <p:nvPr/>
        </p:nvPicPr>
        <p:blipFill>
          <a:blip r:embed="rId3"/>
          <a:stretch/>
        </p:blipFill>
        <p:spPr>
          <a:xfrm>
            <a:off x="179280" y="2492280"/>
            <a:ext cx="2016360" cy="3024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1T12:22:23Z</dcterms:created>
  <dc:creator>Admin</dc:creator>
  <dc:description/>
  <dc:language>en-US</dc:language>
  <cp:lastModifiedBy>User</cp:lastModifiedBy>
  <dcterms:modified xsi:type="dcterms:W3CDTF">2017-02-12T13:47:16Z</dcterms:modified>
  <cp:revision>12</cp:revision>
  <dc:subject/>
  <dc:title>Предметно-пространственная развивающая среда в группе в соответствии с ФГОС</dc:title>
</cp:coreProperties>
</file>