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40B-6C4D-4350-ACB4-B68D1375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D89-304A-4959-BA24-7CFE426C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CA8-81B7-481C-A7EA-DA536681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917-D9C6-43B1-89C4-02A702DF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55C-B3BE-46AD-84BE-A76DC818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9A7-D06B-493B-BA78-2817A3F0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0FB-A60A-4D0D-9EA9-6D154D96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80E-448F-4F9C-B42D-CD7C4FF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EF5-E6CF-4DB0-9B95-A56E8712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28D-7DC3-4370-BE4D-8B9CED5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A7E-C52D-4459-A998-66024CA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AE0-4ECE-45D5-B791-331FF11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3EE4-CFAF-45AE-9E8B-070D7FDE7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70520" y="0"/>
            <a:ext cx="5073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20600" y="5084640"/>
            <a:ext cx="43434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Владимир Иванович Вернадск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(1863-194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907920"/>
            <a:ext cx="406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Существует ли связь между природными катастрофами и деятельностью челове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1801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70520" y="0"/>
            <a:ext cx="5073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20600" y="5084640"/>
            <a:ext cx="43434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Владимир Иванович Вернадск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(1863-194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907920"/>
            <a:ext cx="406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Существует ли связь между природными катастрофами и деятельностью челове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23:18:17Z</dcterms:created>
  <dc:creator>001</dc:creator>
  <dc:description/>
  <dc:language>en-US</dc:language>
  <cp:lastModifiedBy>LIK311P</cp:lastModifiedBy>
  <dcterms:modified xsi:type="dcterms:W3CDTF">2006-05-15T06:20:19Z</dcterms:modified>
  <cp:revision>5</cp:revision>
  <dc:subject/>
  <dc:title>Презентация PowerPoint</dc:title>
</cp:coreProperties>
</file>