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08C-27B4-4ABE-BBE4-CDD2FE10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9EF-DF71-43B1-A5FB-4DE4D5DC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907-A18A-49AA-BB03-15D37A5D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9FF-7A3B-41C9-AF50-FAF71537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E9F-7B98-4750-935A-B4640D6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E1A-0667-48BA-8516-E35039D3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909-F690-49DA-AD59-F147DA97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876-2830-45E5-8241-2596232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3D3-F3F6-4297-A1F4-B31226B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136-F70B-4F6D-87BA-F9C75409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310-D747-4D68-820B-651778B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527-A643-455B-ACC4-974BA36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FE0-19F1-4074-AB4D-969061A7D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_philosophy/3095" TargetMode="External"/><Relationship Id="rId2" Type="http://schemas.openxmlformats.org/officeDocument/2006/relationships/hyperlink" Target="http://dic.academic.ru/dic.nsf/enc_philosophy/401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0;&#1088;&#1086;&#1076;&#1072;" TargetMode="External"/><Relationship Id="rId2" Type="http://schemas.openxmlformats.org/officeDocument/2006/relationships/hyperlink" Target="https://ru.wikipedia.org/wiki/&#1055;&#1086;&#1087;&#1091;&#1083;&#1103;&#1094;&#1080;&#1103;" TargetMode="External"/><Relationship Id="rId3" Type="http://schemas.openxmlformats.org/officeDocument/2006/relationships/hyperlink" Target="https://ru.wikipedia.org/wiki/&#1040;&#1076;&#1072;&#1087;&#1090;&#1072;&#1094;&#1080;&#1103;_(&#1073;&#1080;&#1086;&#1083;&#1086;&#1075;&#1080;&#1103;)" TargetMode="External"/><Relationship Id="rId4" Type="http://schemas.openxmlformats.org/officeDocument/2006/relationships/hyperlink" Target="https://ru.wikipedia.org/wiki/&#1042;&#1080;&#1076;&#1086;&#1086;&#1073;&#1088;&#1072;&#1079;&#1086;&#1074;&#1072;&#1085;&#1080;&#1077;" TargetMode="External"/><Relationship Id="rId5" Type="http://schemas.openxmlformats.org/officeDocument/2006/relationships/hyperlink" Target="https://ru.wikipedia.org/wiki/&#1042;&#1099;&#1084;&#1080;&#1088;&#1072;&#1085;&#1080;&#1077;" TargetMode="External"/><Relationship Id="rId6" Type="http://schemas.openxmlformats.org/officeDocument/2006/relationships/hyperlink" Target="https://ru.wikipedia.org/wiki/&#1069;&#1082;&#1086;&#1089;&#1080;&#1089;&#1090;&#1077;&#1084;&#1072;" TargetMode="External"/><Relationship Id="rId7" Type="http://schemas.openxmlformats.org/officeDocument/2006/relationships/hyperlink" Target="https://ru.wikipedia.org/wiki/&#1041;&#1080;&#1086;&#1089;&#1092;&#1077;&#1088;&#1072;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упреждение доктора Булгак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 Веселова И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еволю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т поздне лат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revoluti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поворот, переворот, превращение, обращение) — радикальное, коренное, глубокое, качественное изменение, скачок в развитии общества, природы или познания, сопряжённое с открытым разрывом с предыдущим состоя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работа\собачье сердце\upload-RIAN_00167006.HR.ru-pic905-895x505-73685.jpg"/>
          <p:cNvPicPr/>
          <p:nvPr/>
        </p:nvPicPr>
        <p:blipFill>
          <a:blip r:embed="rId1"/>
          <a:stretch/>
        </p:blipFill>
        <p:spPr>
          <a:xfrm>
            <a:off x="0" y="857160"/>
            <a:ext cx="9115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тветственность   за…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ссе «Право на экспериме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 профессору Преображенск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писатель… Я мыслю… И протестую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работа\собачье сердце\i_605.jpg"/>
          <p:cNvPicPr/>
          <p:nvPr/>
        </p:nvPicPr>
        <p:blipFill>
          <a:blip r:embed="rId1"/>
          <a:stretch/>
        </p:blipFill>
        <p:spPr>
          <a:xfrm>
            <a:off x="1714680" y="66600"/>
            <a:ext cx="507204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Book Antiqua"/>
              </a:rPr>
              <a:t>Рукописи не горя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работа\собачье сердце\000000.jpg"/>
          <p:cNvPicPr/>
          <p:nvPr/>
        </p:nvPicPr>
        <p:blipFill>
          <a:blip r:embed="rId1"/>
          <a:stretch/>
        </p:blipFill>
        <p:spPr>
          <a:xfrm>
            <a:off x="0" y="785880"/>
            <a:ext cx="797724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работа\собачье сердце\yadernyj-vzry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т лат. experimentum — 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проба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опыт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метод познания, при помощи крого в контролируемых и управляемых условиях исследуются явления действительности. Э. осуществляется на основе теории, определяющей постановку задач и интерпретацию его результатов. Нередко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гл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дачей Э. служит проверка гипотез и предсказаний теории, имеющих принципиальное </a:t>
            </a:r>
            <a:r>
              <a:rPr b="0" lang="ru-RU" sz="30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знач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В связи с этим Э. как одна из форм практики выполняет функцию критерия истинности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уч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ознания в цел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«Я писатель… Я мыслю…   И протестую…»</a:t>
            </a:r>
            <a:br>
              <a:rPr sz="6000"/>
            </a:br>
            <a:r>
              <a:rPr b="0" i="1" lang="ru-RU" sz="4800" spc="-1" strike="noStrike">
                <a:solidFill>
                  <a:srgbClr val="000000"/>
                </a:solidFill>
                <a:latin typeface="Garamond"/>
              </a:rPr>
              <a:t>М.Булга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244440" y="933480"/>
            <a:ext cx="8869320" cy="3583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О чем предупреждает Булгаков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Эволюция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1f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естественный процесс развития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живой природы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, сопровождающийся изменением генетического состава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популяций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, формированием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3"/>
              </a:rPr>
              <a:t>адаптаций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,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4"/>
              </a:rPr>
              <a:t>видообразованием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5"/>
              </a:rPr>
              <a:t>вымиранием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 видов, преобразованием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6"/>
              </a:rPr>
              <a:t>экосистем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Calibri"/>
                <a:hlinkClick r:id="rId7"/>
              </a:rPr>
              <a:t>биосферы</a:t>
            </a:r>
            <a:r>
              <a:rPr b="0" lang="ru-RU" sz="3200" spc="-1" strike="noStrike">
                <a:solidFill>
                  <a:srgbClr val="591f4d"/>
                </a:solidFill>
                <a:latin typeface="Calibri"/>
              </a:rPr>
              <a:t> в цел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17:25:49Z</dcterms:created>
  <dc:creator>Алексей</dc:creator>
  <dc:description/>
  <dc:language>en-US</dc:language>
  <cp:lastModifiedBy>Наталья</cp:lastModifiedBy>
  <dcterms:modified xsi:type="dcterms:W3CDTF">2020-01-03T10:30:49Z</dcterms:modified>
  <cp:revision>21</cp:revision>
  <dc:subject/>
  <dc:title>Слайд 1</dc:title>
</cp:coreProperties>
</file>