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F6B-49AC-4312-8E03-7A2DD517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AE6-5EBB-4AFC-A7CF-1202029E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B68-FA3B-41A4-BF2A-15BD5E2D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52C2-EA17-450E-B144-606AF9AB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0B14-4A88-4BB3-BEB1-BFE2515C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AE3C-D569-489D-81A7-A3A9C81A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4D5C-0E42-448F-A084-80AB4B25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88C7-76B9-4520-984D-80C66973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3118-8FFA-465C-84BC-5EA45DDF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FE53-097B-43C8-8478-B057092F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D116-79D4-4E71-AFB1-1DFC4B53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1510-1E2B-4EB5-967D-C879945D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3EF7-3A19-4987-97C8-1365927A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26E6-9D26-4748-828D-009B8339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42FB-B6F7-4295-A867-1BCFD1BC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EA55-DC0C-4335-AD86-F7914A38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D7AC-D0A6-4324-B4CB-98B66B65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7C891-AEC8-4CF6-B00A-7611D594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8D308-2630-4015-BFFE-80AE0480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375D3-FB4E-417C-A5DB-94E92CDA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E2420-1191-4DAF-AFBF-2FA70E24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1DB3F-014E-446E-992F-9003BA01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34D-D2BA-416D-87C9-04FBB36E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8D9A4-4FA6-47BA-A234-6497BEEB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BD55C-E6A5-4414-9792-80C8B00E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CF707-7416-47B6-8DBA-CFAAD4CA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02CC1-8552-4D67-9BFC-4EBF90C3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F1190-2D82-4B2C-8D4F-6BFEAE21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9E9EA-F177-4D46-AE35-033CC4DC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ED471-4644-4F67-9479-4F825B62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C1D07-6A09-4E67-9BB6-54146972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4BDCD-B6B7-46F4-A781-86BB4C21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272D2-961F-451E-8F31-3F146AED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22B-47A0-4218-B0C1-F6BC6EB2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BEA7F-4174-437E-99F5-3628CC06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F2279-B672-46F1-B0F9-37AF3C5B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C9A1F-B5F0-40A9-83DD-C37391C1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37215-2419-419B-99FA-04522598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3C626-7DC8-4961-BD90-68C70BFB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64D8E-04E3-4550-AB69-764C59A1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E3579-2619-4831-BED2-6DA5874B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2B93C-F08B-42CD-883D-E1F6A1C5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67EA7-B2FC-4ED8-A183-4DE9A22F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9E6-1611-4341-8B19-F8ACEACE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991-00E9-4871-86BF-2F02B79B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63C-8305-4027-B7A9-957B3099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D60-7BA1-4BDA-A71C-8A0DE440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4A50-72CE-4174-A235-407CD199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D305-BC7B-4DA8-A062-A3C414368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E549-E776-4968-8F57-4D9464DC02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895B-CCB7-4BEF-86F9-29D87D83D4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6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3857-41A9-4635-9147-31C8AA3D7E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8" descr="Wallpaper0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1547640" y="260280"/>
            <a:ext cx="698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324000" y="836640"/>
            <a:ext cx="864072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d0909"/>
                </a:solidFill>
                <a:latin typeface="Monotype Corsiva"/>
              </a:rPr>
              <a:t>«</a:t>
            </a:r>
            <a:r>
              <a:rPr b="1" lang="ru-RU" sz="5400" spc="-1" strike="noStrike">
                <a:solidFill>
                  <a:srgbClr val="fd0909"/>
                </a:solidFill>
                <a:latin typeface="Monotype Corsiva"/>
              </a:rPr>
              <a:t>Вода – уникальный источник жизни на земле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0909"/>
                </a:solidFill>
                <a:latin typeface="Monotype Corsiva"/>
              </a:rPr>
              <a:t>Выполн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0909"/>
                </a:solidFill>
                <a:latin typeface="Monotype Corsiva"/>
              </a:rPr>
              <a:t>Ученица 4 б клас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0909"/>
                </a:solidFill>
                <a:latin typeface="Monotype Corsiva"/>
              </a:rPr>
              <a:t>МБОУ лицей №6 г. Дан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0909"/>
                </a:solidFill>
                <a:latin typeface="Monotype Corsiva"/>
              </a:rPr>
              <a:t>Деньщикова Анаста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738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324000" y="333360"/>
          <a:ext cx="8496000" cy="3192480"/>
        </p:xfrm>
        <a:graphic>
          <a:graphicData uri="http://schemas.openxmlformats.org/drawingml/2006/table">
            <a:tbl>
              <a:tblPr/>
              <a:tblGrid>
                <a:gridCol w="1698480"/>
                <a:gridCol w="465120"/>
                <a:gridCol w="617400"/>
                <a:gridCol w="617760"/>
                <a:gridCol w="849240"/>
                <a:gridCol w="849240"/>
                <a:gridCol w="540000"/>
                <a:gridCol w="580680"/>
                <a:gridCol w="579600"/>
                <a:gridCol w="474840"/>
                <a:gridCol w="647640"/>
                <a:gridCol w="576000"/>
              </a:tblGrid>
              <a:tr h="187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асно ли загрязнение воды для человека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ете ли вы о водоочистных сооружениях в нашем город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сть ли у вас в семье собственная система очистки воды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лжен ли каждый человек беречь воду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Отве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Не зна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Не зна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Не зна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4320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4316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  <p:sp>
        <p:nvSpPr>
          <p:cNvPr id="459" name="Прямоугольник 3"/>
          <p:cNvSpPr/>
          <p:nvPr/>
        </p:nvSpPr>
        <p:spPr>
          <a:xfrm>
            <a:off x="0" y="1582560"/>
            <a:ext cx="9144000" cy="59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Monotype Corsiva"/>
              </a:rPr>
              <a:t>Из результатов таблицы мы сделали вывод, что взрослые и большинство учащихся осознают опасность загрязнения воды для жизни человека и необходимость бережного отношения к главному богатству Земли. В большинстве семей имеются собственные системы очистки воды. Но не все участники опроса знают о водоочистных сооружениях нашего гор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да – непременная составляющая часть всего живого. Ни один из живых организмов нашей планеты не может существовать без во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двинутая нами гипотеза о том, что человек неразумно относится к воде и загрязняет ее, подтвердилась Загрязнение водоемов опасно для всего живого. Каждый человек должен беречь воду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равила бережного отношения к воде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ращай внимание, не течет ли зря вода из водопроводного крана дома, в школе. Если ты заметишь такое, закрой кра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вает, мы расходуем много воды бесполезно, не замечая этого. К примеру, ты моешь руки, умываешься под сильной струей. Прикрой немного кран. Это не помешает умыться, а воды утечет меньш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учись чистить зубы так, чтобы не расходовать напрасно воду. Для этого не оставляй кран открытым, пока чистишь зубы и полощешь рот. Сразу наливай воду в стаканчик и закрывай кран. Полоскать рот из стаканчика очень удобно. А сколько воды ты сбережеш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ы хочешь охладить лимонад и держишь бутылку под холодной струей. Не лучше ли поставить лимонад в холодильник, а воду побереч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вода течет из-за неисправности крана или колонки, надо сразу же сообщить взросл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мусорить на берегах рек, не мыть в них маш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хманов М. Вода, которую мы пьем. Качество питьевой воды и ее очистка с помощью бытовых фильтров. СПб.: «Невский проспект», 2002, 192 с. ISBN 5-94371-183-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тмангхелидж Ф. Вода для здоровья. Мн.: ООО «Попурри», 2005, 288 с. ISBN 985-483-371-2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ршов М.Е. Самые распространенные способы очистки воды. Донецк: Сталкер, 2006, 94 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рбайль К. Чудо-вода.  М.: 000 «ТД «Издательство Мир  книги», 2005, 128 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слов Б. Н. Вода. М.: Гос.изд. технико-теоретической литературы, 1950, 64 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мото Масару. Тайная жизнь воды.  Мн.: «Попурри», 2006, 160 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точнить и расширить знания о воде и ее значении для живых сущест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скрыть основные факторы загрязнения воды и меры по охране ее чистоты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5" descr="314095"/>
          <p:cNvPicPr/>
          <p:nvPr/>
        </p:nvPicPr>
        <p:blipFill>
          <a:blip r:embed="rId1"/>
          <a:stretch/>
        </p:blipFill>
        <p:spPr>
          <a:xfrm>
            <a:off x="-1044720" y="0"/>
            <a:ext cx="10585440" cy="712944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9ffff"/>
                </a:solidFill>
                <a:latin typeface="Monotype Corsiva"/>
              </a:rPr>
              <a:t>Задачи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анализировать научную информацию по тем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исать причины загрязнения водоем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ся с мерами охраны водоемов от загряз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азать необходимость бережного отношения к вод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вить отношение взрослых и детей к данной пробле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тоды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нализ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блюдение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бор информации из книг, журналов, газет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нкетирование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равнение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общ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ипотез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неразумно относится к воде и загрязняет ее. Загрязнение водоемов опасно для всего живого. Каждый человек должен беречь воду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9ffff"/>
                </a:solidFill>
                <a:latin typeface="Monotype Corsiva"/>
              </a:rPr>
              <a:t>Соотношение поверхностей</a:t>
            </a:r>
            <a:br>
              <a:rPr sz="5400"/>
            </a:br>
            <a:r>
              <a:rPr b="1" lang="ru-RU" sz="5400" spc="-1" strike="noStrike">
                <a:solidFill>
                  <a:srgbClr val="29ffff"/>
                </a:solidFill>
                <a:latin typeface="Monotype Corsiva"/>
              </a:rPr>
              <a:t>суши и воды на Земл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ubPieSlice"/>
          <p:cNvSpPr/>
          <p:nvPr/>
        </p:nvSpPr>
        <p:spPr>
          <a:xfrm>
            <a:off x="2987640" y="2492280"/>
            <a:ext cx="2952720" cy="2881440"/>
          </a:xfrm>
          <a:custGeom>
            <a:avLst/>
            <a:gdLst>
              <a:gd name="textAreaLeft" fmla="*/ 432360 w 2952720"/>
              <a:gd name="textAreaRight" fmla="*/ 2520360 w 2952720"/>
              <a:gd name="textAreaTop" fmla="*/ 421920 h 2881440"/>
              <a:gd name="textAreaBottom" fmla="*/ 2459520 h 2881440"/>
            </a:gdLst>
            <a:ahLst/>
            <a:rect l="textAreaLeft" t="textAreaTop" r="textAreaRight" b="textAreaBottom"/>
            <a:pathLst>
              <a:path w="21600" h="21600">
                <a:moveTo>
                  <a:pt x="10799" y="0"/>
                </a:moveTo>
                <a:cubicBezTo>
                  <a:pt x="4834" y="0"/>
                  <a:pt x="0" y="48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6786720" y="1428840"/>
            <a:ext cx="200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уш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285840" y="12859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во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3571920" y="414324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/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7"/>
          <p:cNvSpPr/>
          <p:nvPr/>
        </p:nvSpPr>
        <p:spPr>
          <a:xfrm>
            <a:off x="1403280" y="2060640"/>
            <a:ext cx="1440000" cy="86364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8"/>
          <p:cNvSpPr/>
          <p:nvPr/>
        </p:nvSpPr>
        <p:spPr>
          <a:xfrm>
            <a:off x="4788000" y="3716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4932360" y="300024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/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Line 10"/>
          <p:cNvSpPr/>
          <p:nvPr/>
        </p:nvSpPr>
        <p:spPr>
          <a:xfrm flipH="1">
            <a:off x="5867280" y="2205000"/>
            <a:ext cx="1440000" cy="9367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4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1042920" y="291960"/>
            <a:ext cx="5832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90680" y="189000"/>
            <a:ext cx="8229600" cy="121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ЗАГРЯЗНЕНИЕ ВОДЫ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Рисунок 5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143240" cy="453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932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120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09:43:15Z</dcterms:created>
  <dc:creator>PC</dc:creator>
  <dc:description/>
  <dc:language>en-US</dc:language>
  <cp:lastModifiedBy>Настя</cp:lastModifiedBy>
  <dcterms:modified xsi:type="dcterms:W3CDTF">2020-01-03T12:58:47Z</dcterms:modified>
  <cp:revision>103</cp:revision>
  <dc:subject/>
  <dc:title>Слайд 1</dc:title>
</cp:coreProperties>
</file>