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2F1-51C1-4297-AABB-EADFBC2C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54E-8F15-4EBC-8412-CA389B76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1AE-8E4B-4136-8F70-B9AE2AEE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574-DDCC-426C-9A3F-2B6346AE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56E3-720E-422D-8D8D-CBD524CE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7BBC-6E7D-4977-9D04-AE5B4779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7834-5F45-43B3-9DF6-04C7F213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2351-0F19-4532-8D69-AB192484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4839-DDEC-4206-A68D-348396F0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EEA0-B8F7-4F8C-BCC2-331E6A69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0435-75DC-43AC-8312-563BDFDF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21F-99B6-4CD6-B119-555B6DA3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0337-D7A1-406D-BC73-A7FEDB8E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39A8-BCC7-4731-A704-2274D4F8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B776-24EA-41D9-9769-ED16AB9E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F3BF-017C-4B02-B001-E58CC66F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60C8-22E9-4A8F-AD09-C6199C4B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B4E6-920B-4301-9611-13C2884D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6A261-5BD5-45A5-8F5C-EBE111AD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919E-5FC6-48DC-B63A-FE28A053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6110-8618-4526-A146-C0FC6239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1996-00F2-4779-AB05-DB0E83D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0F4-6EF6-498F-AF3A-BDB62935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39BD-9C74-4588-B748-B797BF59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EE149-7B7F-4F5E-B0A4-A8D58BCB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61C2-2E44-47BA-BD17-CD68672C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3A40-4861-454D-AC51-4CE3191E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C59B-C7B4-4C1F-8B7F-3E7F4C98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68018-477D-4381-8C92-D87DC5EC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4ACC-9BA8-47B2-A7C9-CDD8674F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0483F-5C8C-45C0-8630-7CB075B7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840A-BD64-4E88-BBD1-6CF88A04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7B6F3-A558-49F1-82F9-20609DCE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919-34B0-4AC0-A15E-49EEE8D4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DAE4-4F12-433D-86BE-F82A0BC6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7C213-1BAA-4391-8A48-172D068B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CEB94-B522-4615-A56F-41A97916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BE7FB-3897-408D-B4E7-16E29508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FB3F-CB6B-4CB8-8091-2EB8C8A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35228-11FF-43FC-97DD-4805053A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445EB-3EFE-492E-A9D2-F227CD56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8DBB-673F-4339-8D5D-2C8177FF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02C9-4868-4E30-B1E6-37BDBDA6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4A8F-D05C-4FDF-874F-1BC3C6CC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FDF-88DF-4FB0-9C2D-A24E9553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D987-1B2B-40CA-B222-BCC4E059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E5E0E-47A0-49C8-8505-C3082265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E867D-2A45-435F-BD22-BD923FD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4DDE6-3BEC-46EF-979F-87EAD7C5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E96B8-8714-4AEE-8AF2-C8CB1FB6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A792C-D5C4-42F2-BC8B-8497E047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FE50-73AA-4AF0-9105-402523BD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ABD87-114D-4EF2-8E31-CEB16B35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31FC-07F0-4F7D-9DD4-5A7E5831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7EB4A-01B3-44E8-A065-AE2A281F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4A4-E87C-4A6D-94AC-199E6F11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354EC-1F98-460C-A289-9203A424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477-770C-44A9-A540-625DB782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983-4E9B-42E3-B6F4-73C0208E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D5D-708B-4C10-B95F-2A7AF179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46C4-96C7-4B8D-BA01-330B5EF730B3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8152-516A-41CE-80A2-530BAC3B3E4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591B-0C25-4C6B-9BBC-2AAB658D27D9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464C-669E-4E8C-BE1A-C468173A296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EEAD-688D-4191-8D0A-FB90A787A81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404040"/>
                </a:solidFill>
                <a:latin typeface="Trebuchet MS"/>
              </a:rPr>
              <a:t>Русский язык</a:t>
            </a:r>
            <a:r>
              <a:rPr b="0" lang="ru-RU" sz="6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f4"/>
            </a:gs>
            <a:gs pos="100000">
              <a:srgbClr val="f7ea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Построй указанные точки по их координатам и последовательно соедини ломаной линией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Rectangle 102"/>
          <p:cNvSpPr/>
          <p:nvPr/>
        </p:nvSpPr>
        <p:spPr>
          <a:xfrm>
            <a:off x="0" y="841320"/>
            <a:ext cx="23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7"/>
          <p:cNvSpPr/>
          <p:nvPr/>
        </p:nvSpPr>
        <p:spPr>
          <a:xfrm>
            <a:off x="0" y="841320"/>
            <a:ext cx="23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48"/>
          <p:cNvSpPr/>
          <p:nvPr/>
        </p:nvSpPr>
        <p:spPr>
          <a:xfrm>
            <a:off x="0" y="841320"/>
            <a:ext cx="23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09"/>
          <p:cNvSpPr/>
          <p:nvPr/>
        </p:nvSpPr>
        <p:spPr>
          <a:xfrm>
            <a:off x="0" y="60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20"/>
          <p:cNvSpPr/>
          <p:nvPr/>
        </p:nvSpPr>
        <p:spPr>
          <a:xfrm>
            <a:off x="395280" y="249228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6113"/>
                </a:solidFill>
                <a:latin typeface="Arial"/>
              </a:rPr>
              <a:t>А1 (2; 1), А2 (1; 2), А3 (7; 2),</a:t>
            </a:r>
            <a:br>
              <a:rPr sz="3600"/>
            </a:br>
            <a:r>
              <a:rPr b="0" lang="ru-RU" sz="3600" spc="-1" strike="noStrike">
                <a:solidFill>
                  <a:srgbClr val="486113"/>
                </a:solidFill>
                <a:latin typeface="Arial"/>
              </a:rPr>
              <a:t>А4 (6; 1), А1, А5 (3; 2),</a:t>
            </a:r>
            <a:br>
              <a:rPr sz="3600"/>
            </a:br>
            <a:r>
              <a:rPr b="0" lang="ru-RU" sz="3600" spc="-1" strike="noStrike">
                <a:solidFill>
                  <a:srgbClr val="486113"/>
                </a:solidFill>
                <a:latin typeface="Arial"/>
              </a:rPr>
              <a:t>А6 (2; 3), А7 (2; 5),  А8 (6; 5),</a:t>
            </a:r>
            <a:br>
              <a:rPr sz="3600"/>
            </a:br>
            <a:r>
              <a:rPr b="0" lang="ru-RU" sz="3600" spc="-1" strike="noStrike">
                <a:solidFill>
                  <a:srgbClr val="486113"/>
                </a:solidFill>
                <a:latin typeface="Arial"/>
              </a:rPr>
              <a:t>А9 (6; 3), А10 (5;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f4"/>
            </a:gs>
            <a:gs pos="100000">
              <a:srgbClr val="f7ea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Если синий карандаш толще красного, а красный толще зелёного, то какой карандаш толще: зелёный или синий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84200" y="256536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зелёный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синий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одинаковые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f4"/>
            </a:gs>
            <a:gs pos="100000">
              <a:srgbClr val="f7ea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Сколько квадратов на рисунке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411280" y="2708280"/>
          <a:ext cx="3456000" cy="259092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6360"/>
                <a:gridCol w="574560"/>
                <a:gridCol w="57636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404040"/>
                </a:solidFill>
                <a:latin typeface="Trebuchet MS"/>
              </a:rPr>
              <a:t>Окружающий мир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В результате перестановки букв в данных словах получи название животных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34936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акр - _____________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бурсак - __________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брак - ____________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колос - ___________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корт - ____________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шнурок - _________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банка - ___________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норов - ___________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С какой стороны встаёт солнце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836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запад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север 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юг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 u="sng">
                <a:solidFill>
                  <a:srgbClr val="404040"/>
                </a:solidFill>
                <a:uFillTx/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восток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Как называется африканская охота на крупных хищников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родео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сафари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коридор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пейнтбол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Какой материк самый большой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Евразия 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Африка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Северная Америка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Южная Америка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Как называлось первое русское государство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Новгород Великий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Древняя Русь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Киевская Русь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Московия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Какое дерево растёт в саваннах Африки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24000" y="23320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эвкалипт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берёза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баобаб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лиственниц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Подбери выражения, противоположные по значению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94920" y="2349360"/>
            <a:ext cx="8497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В час по чайной ложке.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Воспрянуть духом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Чуть свет.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en-US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         Как кошка с собакой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Повесить нос.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         Не покладая рук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Жить душа в душу.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    Одним махом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Сидеть сложа руки.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	</a:t>
            </a:r>
            <a:r>
              <a:rPr b="1" lang="ru-RU" sz="2600" spc="-1" strike="noStrike">
                <a:solidFill>
                  <a:srgbClr val="181818"/>
                </a:solidFill>
                <a:latin typeface="Trebuchet MS"/>
              </a:rPr>
              <a:t>    На ночь гляд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Какое животное бегает быстрее всех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95280" y="2332080"/>
            <a:ext cx="82296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гепард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борзая 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антилопа-гну 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лошадь Пржевальского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404040"/>
                </a:solidFill>
                <a:latin typeface="Trebuchet MS"/>
              </a:rPr>
              <a:t>Литературное чтение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В кого князь Гвидон не превращался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5280" y="177336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муха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шмель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пчела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комар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497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Доктором каких наук представлялся Карабас Барабас?</a:t>
            </a:r>
            <a:br>
              <a:rPr sz="29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философских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кукольных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всех-всех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театральных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Кого со страху проглотил Крокодил из стихотворения «Тараканище»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зайца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волка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зебру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жаб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В кого превратился Гадкий Утёнок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8640" y="227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лебедь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журавль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цапля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орёл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Как в сказке о трёх поросятах звали самого умного брата, построившего каменный домик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8360" y="278136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Хрюша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Ниф-Ниф     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Наф-Наф      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Нуф-Нуф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Что проглотил Крокодил из «Мойдодыра»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мочалку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калошу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умывальник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Тотошу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Какое животное Киплинг назвал в своей сказке Рикки-Тикки-Тави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836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кобра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мангуст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тигр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слон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Назовите фамилию автора книг о</a:t>
            </a:r>
            <a:br>
              <a:rPr sz="3200"/>
            </a:b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Вини-Пухе, пересказанных по-русски Борисом Захадером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5280" y="3081240"/>
            <a:ext cx="822960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А) Миль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Б) Милис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В) Милн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Г) Дисне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Trebuchet MS"/>
              </a:rPr>
              <a:t>Замени выражение одним глаголом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95280" y="2332080"/>
            <a:ext cx="82296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rebuchet MS"/>
              </a:rPr>
              <a:t>Путаться под ногами ________________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rebuchet MS"/>
              </a:rPr>
              <a:t>Пропустить мимо ушей ______________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rebuchet MS"/>
              </a:rPr>
              <a:t>Водить за нос ______________________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rebuchet MS"/>
              </a:rPr>
              <a:t>Прикусить язык ____________________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rebuchet MS"/>
              </a:rPr>
              <a:t>Витать в облаках ___________________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Как звали сиротку из сказки «Серебряное копытце»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5280" y="263664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) Настенька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Б) Машенька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В) Алёнушка      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Г) Дарёнк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675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Определи зачины и концовки сказок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71240" y="1773360"/>
            <a:ext cx="8496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А) Жили-были ….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Б) Стали они жить поживать и    добра наживать …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В) В некотором царстве, в некотором государстве …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Г) Я там был, мёд пиво пил, по бороде текло, а в рот не попало…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a5010"/>
                </a:solidFill>
                <a:latin typeface="Trebuchet MS"/>
              </a:rPr>
              <a:t>В каждом ряду выбери слово, которое по смыслу не подходит к остальным трём словам: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77336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линейка, ручка, карандаш, резин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блака, книги, лампы, столи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воробей, ручей, ночь, кон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поле, стекло, мороз, утр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диван, стол, шкаф, окн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«Жигули», «Волга», «Лада», «КамАЗ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математика, окружающий мир, тетрадь, чт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86113"/>
                </a:solidFill>
                <a:latin typeface="Trebuchet MS"/>
              </a:rPr>
              <a:t>Вставьте предлоги по смыслу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360" y="1844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Я ___ утра ___ лесу гуляю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___ росы я весь промок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Но зато теперь я знаю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___ берёзку и ___ мох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___ малину, ежевику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___ ежа и ___ ежиху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___ которой ___ ежа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се иголочки дрожа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669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a5010"/>
                </a:solidFill>
                <a:latin typeface="Trebuchet MS"/>
              </a:rPr>
              <a:t>Добавь к каждому слову по одной букве слева так, чтобы получилось новое слово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22762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___рот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___ель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___вал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___игр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___том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___лень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___тёс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___рубк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f4"/>
            </a:gs>
            <a:gs pos="100000">
              <a:srgbClr val="f7ea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404040"/>
                </a:solidFill>
                <a:latin typeface="Trebuchet MS"/>
              </a:rPr>
              <a:t>Математика</a:t>
            </a:r>
            <a:r>
              <a:rPr b="0" lang="ru-RU" sz="6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f4"/>
            </a:gs>
            <a:gs pos="100000">
              <a:srgbClr val="f7ea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Внимательно прочитай ряды чисел. Какие два числа продолжат каждый числовой ряд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528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8       7      6       5        4        3      ___      ___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9       9      7       7        5        5      ___      ___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8       2      6       2        4        2      ___      ___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5       9      13     17      21      25    ___      ___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22    19     17     14      12      9      ___      ___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4      5       7       10      14     19     ___      ___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f4"/>
            </a:gs>
            <a:gs pos="100000">
              <a:srgbClr val="f7ea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7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a5010"/>
                </a:solidFill>
                <a:latin typeface="Trebuchet MS"/>
              </a:rPr>
              <a:t>Подумай и укажи на месте пропуска номер фигуры, которой не хватает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2919240" cy="2664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4316400" y="3116160"/>
            <a:ext cx="21938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6:08:45Z</dcterms:created>
  <dc:creator>Mouse</dc:creator>
  <dc:description/>
  <dc:language>en-US</dc:language>
  <cp:lastModifiedBy>Warlock</cp:lastModifiedBy>
  <dcterms:modified xsi:type="dcterms:W3CDTF">2020-01-03T18:02:51Z</dcterms:modified>
  <cp:revision>27</cp:revision>
  <dc:subject/>
  <dc:title>Подбери с помощью стрелочек выражения, противоположные по значению.</dc:title>
</cp:coreProperties>
</file>