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E57E-BA25-44ED-A5B1-082D08046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DCBE-77F1-4A5C-AEDA-B90FA9C7A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7AD7-1646-408E-A2B0-CCE3CC511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098-4B88-4E73-9B00-7426FA5B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D6D-4BB3-49E1-8314-50307D3B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5C1-1AF3-4B44-BBEE-DD936D39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269-C21B-43C8-90D1-EA66D1EB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F48-1B13-4EA9-99D9-26213948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845-416D-4DF4-990C-366B05ED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475-4E3D-410C-B191-083A0F1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CAC-2CD0-4ED5-B313-05594B70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89A-81BA-46D4-8AC1-A52C2620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1AB-40C8-4B33-A9CA-0F0F696A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B41-69BA-41CB-9467-A7933B4B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B52-B7DD-4E3E-8FC5-36FF846C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E6E5-0FE2-4B4A-AD18-8213C588A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Приёмы технологии РКМЧП на уроках русского языка и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1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шкина Наталья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214280" y="428760"/>
            <a:ext cx="67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оглебского городского о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ьян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1143000" y="287280"/>
          <a:ext cx="66690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7280"/>
                    <a:ext cx="66690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17"/>
          <p:cNvSpPr/>
          <p:nvPr/>
        </p:nvSpPr>
        <p:spPr>
          <a:xfrm>
            <a:off x="5332320" y="1000080"/>
            <a:ext cx="2500560" cy="1062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? Чт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 (предмет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6"/>
          <p:cNvSpPr/>
          <p:nvPr/>
        </p:nvSpPr>
        <p:spPr>
          <a:xfrm>
            <a:off x="1832040" y="785880"/>
            <a:ext cx="2286000" cy="109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ь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3200400" y="2571840"/>
            <a:ext cx="2274840" cy="1000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И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уществ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2332080" y="3857760"/>
            <a:ext cx="2286000" cy="857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едлож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интаксическая 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1000080" y="2143080"/>
            <a:ext cx="171468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ывают: муж., жен., ср. рода; 1, 2, 3 скл.; одуш. – неодуш; собств. - нар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6332400" y="2357280"/>
            <a:ext cx="1597320" cy="1428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числам, падеж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1046160" y="4714920"/>
            <a:ext cx="1714680" cy="109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ые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члены (подлежащее,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зуем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3332160" y="4929120"/>
            <a:ext cx="1714680" cy="1000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степенные члены    (доп., опр.,  обс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5118120" y="3714840"/>
            <a:ext cx="1485720" cy="806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3546360" y="3571920"/>
            <a:ext cx="28584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4143240" y="4714920"/>
            <a:ext cx="46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H="1" flipV="1">
            <a:off x="3331800" y="2000160"/>
            <a:ext cx="3826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V="1">
            <a:off x="5618160" y="3103560"/>
            <a:ext cx="64296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 flipH="1" flipV="1">
            <a:off x="2786040" y="2999880"/>
            <a:ext cx="2858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 flipV="1">
            <a:off x="5357880" y="2142720"/>
            <a:ext cx="6890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"/>
          <p:cNvSpPr/>
          <p:nvPr/>
        </p:nvSpPr>
        <p:spPr>
          <a:xfrm flipH="1">
            <a:off x="2188800" y="4500720"/>
            <a:ext cx="168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"/>
          <p:cNvSpPr/>
          <p:nvPr/>
        </p:nvSpPr>
        <p:spPr>
          <a:xfrm>
            <a:off x="5372280" y="3363840"/>
            <a:ext cx="363240" cy="2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0"/>
          <p:cNvSpPr/>
          <p:nvPr/>
        </p:nvSpPr>
        <p:spPr>
          <a:xfrm>
            <a:off x="285840" y="21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тер № 3.  5 класс, «Имя существительное как часть р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1428840" y="500040"/>
          <a:ext cx="6072120" cy="60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500040"/>
                    <a:ext cx="607212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857160" y="1285920"/>
          <a:ext cx="7429680" cy="4816440"/>
        </p:xfrm>
        <a:graphic>
          <a:graphicData uri="http://schemas.openxmlformats.org/drawingml/2006/table">
            <a:tbl>
              <a:tblPr/>
              <a:tblGrid>
                <a:gridCol w="2820960"/>
                <a:gridCol w="2422800"/>
                <a:gridCol w="2185920"/>
              </a:tblGrid>
              <a:tr h="7621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43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 одной части ре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аковые члены предлож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ятся к одному сло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онация перечисл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тсутствии союза запята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 и – не ставим запят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словами разных частей ре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распростране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иметь зависимые сло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колько рядов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днородных членах могут быть  соединительные, противительные, разделительные союз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ются средством речевой вырази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их стилях употребляются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выполняется синтаксический разбор, если несколько рядов однородных чле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являются  средством речевой вырази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Прямоугольник 2"/>
          <p:cNvSpPr/>
          <p:nvPr/>
        </p:nvSpPr>
        <p:spPr>
          <a:xfrm>
            <a:off x="1285920" y="500040"/>
            <a:ext cx="6500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 класс, «Однородные члены предложения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ый 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флексия.</a:t>
            </a: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астер – обобщение 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ворческая работа по тем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ный анализ текста с творческим задание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нгвистические сказк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анализ работы на уроке.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0" name="Прямая со стрелкой 32"/>
          <p:cNvCxnSpPr/>
          <p:nvPr/>
        </p:nvCxnSpPr>
        <p:spPr>
          <a:xfrm flipV="1">
            <a:off x="4500720" y="2785320"/>
            <a:ext cx="1357920" cy="207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11" name=""/>
          <p:cNvSpPr txBox="1"/>
          <p:nvPr/>
        </p:nvSpPr>
        <p:spPr>
          <a:xfrm>
            <a:off x="2354400" y="5299920"/>
            <a:ext cx="3435120" cy="1101600"/>
          </a:xfrm>
          <a:prstGeom prst="rect">
            <a:avLst/>
          </a:prstGeom>
          <a:solidFill>
            <a:srgbClr val="66ff33">
              <a:alpha val="56000"/>
            </a:srgbClr>
          </a:solidFill>
          <a:ln w="9360">
            <a:solidFill>
              <a:srgbClr val="000000"/>
            </a:solidFill>
            <a:round/>
          </a:ln>
        </p:spPr>
        <p:txBody>
          <a:bodyPr lIns="0" rIns="0" tIns="0" bIns="0" anchor="ctr" anchorCtr="1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ий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_s28679"/>
          <p:cNvSpPr/>
          <p:nvPr/>
        </p:nvSpPr>
        <p:spPr>
          <a:xfrm>
            <a:off x="5072040" y="3286080"/>
            <a:ext cx="3456000" cy="1077840"/>
          </a:xfrm>
          <a:prstGeom prst="ellipse">
            <a:avLst/>
          </a:prstGeom>
          <a:solidFill>
            <a:srgbClr val="958b09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маленьк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_s28681"/>
          <p:cNvSpPr/>
          <p:nvPr/>
        </p:nvSpPr>
        <p:spPr>
          <a:xfrm>
            <a:off x="5857920" y="1928880"/>
            <a:ext cx="2786040" cy="1285920"/>
          </a:xfrm>
          <a:prstGeom prst="ellipse">
            <a:avLst/>
          </a:prstGeom>
          <a:solidFill>
            <a:srgbClr val="cc990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Род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_s28685"/>
          <p:cNvSpPr/>
          <p:nvPr/>
        </p:nvSpPr>
        <p:spPr>
          <a:xfrm>
            <a:off x="2500200" y="357120"/>
            <a:ext cx="2444760" cy="1077840"/>
          </a:xfrm>
          <a:prstGeom prst="ellipse">
            <a:avLst/>
          </a:prstGeom>
          <a:solidFill>
            <a:srgbClr val="808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пр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_s28689"/>
          <p:cNvSpPr/>
          <p:nvPr/>
        </p:nvSpPr>
        <p:spPr>
          <a:xfrm>
            <a:off x="857160" y="1285920"/>
            <a:ext cx="2016360" cy="1077840"/>
          </a:xfrm>
          <a:prstGeom prst="ellipse">
            <a:avLst/>
          </a:prstGeom>
          <a:solidFill>
            <a:srgbClr val="6633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своб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_s28687"/>
          <p:cNvSpPr/>
          <p:nvPr/>
        </p:nvSpPr>
        <p:spPr>
          <a:xfrm>
            <a:off x="214200" y="2714760"/>
            <a:ext cx="2592360" cy="1077840"/>
          </a:xfrm>
          <a:prstGeom prst="ellipse">
            <a:avLst/>
          </a:prstGeom>
          <a:solidFill>
            <a:srgbClr val="6633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поэта и поэ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_s28683"/>
          <p:cNvSpPr/>
          <p:nvPr/>
        </p:nvSpPr>
        <p:spPr>
          <a:xfrm>
            <a:off x="214200" y="4143240"/>
            <a:ext cx="2143080" cy="1078200"/>
          </a:xfrm>
          <a:prstGeom prst="ellipse">
            <a:avLst/>
          </a:prstGeom>
          <a:solidFill>
            <a:srgbClr val="cc9900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др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_s28689"/>
          <p:cNvSpPr/>
          <p:nvPr/>
        </p:nvSpPr>
        <p:spPr>
          <a:xfrm>
            <a:off x="4786200" y="785880"/>
            <a:ext cx="2016360" cy="1077840"/>
          </a:xfrm>
          <a:prstGeom prst="ellipse">
            <a:avLst/>
          </a:prstGeom>
          <a:solidFill>
            <a:srgbClr val="6633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_s28683"/>
          <p:cNvSpPr/>
          <p:nvPr/>
        </p:nvSpPr>
        <p:spPr>
          <a:xfrm>
            <a:off x="6357960" y="4500720"/>
            <a:ext cx="2143080" cy="1077840"/>
          </a:xfrm>
          <a:prstGeom prst="ellipse">
            <a:avLst/>
          </a:prstGeom>
          <a:solidFill>
            <a:srgbClr val="cc9900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21"/>
          <p:cNvCxnSpPr/>
          <p:nvPr/>
        </p:nvCxnSpPr>
        <p:spPr>
          <a:xfrm flipH="1" flipV="1">
            <a:off x="2428560" y="4714560"/>
            <a:ext cx="1000800" cy="35784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21" name="Прямая со стрелкой 23"/>
          <p:cNvCxnSpPr>
            <a:stCxn id="111" idx="0"/>
          </p:cNvCxnSpPr>
          <p:nvPr/>
        </p:nvCxnSpPr>
        <p:spPr>
          <a:xfrm flipH="1" flipV="1">
            <a:off x="2928240" y="3785760"/>
            <a:ext cx="1143720" cy="128664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22" name="Прямая со стрелкой 25"/>
          <p:cNvCxnSpPr/>
          <p:nvPr/>
        </p:nvCxnSpPr>
        <p:spPr>
          <a:xfrm flipH="1" flipV="1">
            <a:off x="2928240" y="2214000"/>
            <a:ext cx="1143720" cy="27867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23" name="Прямая со стрелкой 28"/>
          <p:cNvCxnSpPr/>
          <p:nvPr/>
        </p:nvCxnSpPr>
        <p:spPr>
          <a:xfrm flipH="1" flipV="1">
            <a:off x="4071600" y="1714320"/>
            <a:ext cx="72000" cy="307224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24" name="Прямая со стрелкой 30"/>
          <p:cNvCxnSpPr/>
          <p:nvPr/>
        </p:nvCxnSpPr>
        <p:spPr>
          <a:xfrm flipV="1">
            <a:off x="4286160" y="2071080"/>
            <a:ext cx="1000800" cy="27867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25" name="Прямая со стрелкой 34"/>
          <p:cNvCxnSpPr/>
          <p:nvPr/>
        </p:nvCxnSpPr>
        <p:spPr>
          <a:xfrm flipV="1">
            <a:off x="4643280" y="4428720"/>
            <a:ext cx="858240" cy="57240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26" name="Прямая со стрелкой 36"/>
          <p:cNvCxnSpPr/>
          <p:nvPr/>
        </p:nvCxnSpPr>
        <p:spPr>
          <a:xfrm flipV="1">
            <a:off x="5143680" y="4928400"/>
            <a:ext cx="1072080" cy="14364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</p:spTree>
  </p:cSld>
  <p:transition spd="med">
    <p:pull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просы (рефлексия):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ши  главные результаты сегодня?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лагодаря чему вам удалось их достичь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трудности встретились во время выполнения задания, как  вы  их преодолевали?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идеи  возникли  во время  выполнения задания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просы и пожелания, возникшие в связи с темой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2" descr=""/>
          <p:cNvPicPr/>
          <p:nvPr/>
        </p:nvPicPr>
        <p:blipFill>
          <a:blip r:embed="rId1"/>
          <a:stretch/>
        </p:blipFill>
        <p:spPr>
          <a:xfrm>
            <a:off x="738360" y="590400"/>
            <a:ext cx="7869240" cy="6303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ст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лючевое слов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тема синквейна, определяющее содержание (обычно существительное)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ст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 прилагательных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ывающих тему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ст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 глаг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характеризующих действия, которые производит существительное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ст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роткое предложение, фраза, показывающая Ваше отношение к теме-существительно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ст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иноним и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аши ассоциации из одного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ое повторяет суть темы (обычно 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9360">
            <a:solidFill>
              <a:srgbClr val="958b0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Мысль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жиданная, яркая.</a:t>
            </a:r>
            <a:br>
              <a:rPr sz="2800"/>
            </a:br>
            <a:r>
              <a:rPr b="1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Засия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поглотила, унеслась.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х, как хочется воплотить в жизнь только что</a:t>
            </a:r>
            <a:r>
              <a:rPr b="1" lang="ru-RU" sz="2400" spc="-1" strike="noStrike" u="sng">
                <a:solidFill>
                  <a:srgbClr val="996600"/>
                </a:solidFill>
                <a:uFillTx/>
                <a:latin typeface="Arial"/>
              </a:rPr>
              <a:t> мелькнувшую</a:t>
            </a: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сль!</a:t>
            </a:r>
            <a:br>
              <a:rPr sz="2800"/>
            </a:b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Реальность.</a:t>
            </a:r>
            <a:br>
              <a:rPr sz="2800"/>
            </a:br>
            <a:br>
              <a:rPr sz="28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ЛОВ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ное, выразительно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покоит, научит, вдохнови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е слово – дверь в душ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Богатство.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500040" y="599760"/>
            <a:ext cx="8215200" cy="59461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ктивизация  восприятия учебного материала на различных этапах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Стадия «ВЫЗОВА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приём «ключевые слов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составление словарных кар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«корзи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.Приёмы поддержания активности на стади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«ОСМЫСЛЕНИ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маркировочная таблица «З  - У  -  Х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класт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РЕФЛЕКС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а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ботка собственного отношения к изучаемому материа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кластер – об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работа с текс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творческие работы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самооценка деятельности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00080" y="1642680"/>
            <a:ext cx="749160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285920" y="642960"/>
          <a:ext cx="72151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642960"/>
                    <a:ext cx="7215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428840" y="428760"/>
          <a:ext cx="6143400" cy="61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428760"/>
                    <a:ext cx="6143400" cy="61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3"/>
          <p:cNvGraphicFramePr/>
          <p:nvPr/>
        </p:nvGraphicFramePr>
        <p:xfrm>
          <a:off x="1714680" y="714240"/>
          <a:ext cx="5572080" cy="54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714240"/>
                    <a:ext cx="557208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428760" y="428760"/>
          <a:ext cx="30002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28760"/>
                    <a:ext cx="30002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2928960" y="642960"/>
          <a:ext cx="2865240" cy="24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642960"/>
                    <a:ext cx="28652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4"/>
          <p:cNvGraphicFramePr/>
          <p:nvPr/>
        </p:nvGraphicFramePr>
        <p:xfrm>
          <a:off x="5643720" y="428760"/>
          <a:ext cx="2968560" cy="24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43720" y="428760"/>
                    <a:ext cx="296856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6"/>
          <p:cNvGraphicFramePr/>
          <p:nvPr/>
        </p:nvGraphicFramePr>
        <p:xfrm>
          <a:off x="642960" y="3429000"/>
          <a:ext cx="3057480" cy="27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429000"/>
                    <a:ext cx="30574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7"/>
          <p:cNvGraphicFramePr/>
          <p:nvPr/>
        </p:nvGraphicFramePr>
        <p:xfrm>
          <a:off x="3071880" y="3214800"/>
          <a:ext cx="3038400" cy="246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1880" y="3214800"/>
                    <a:ext cx="30384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8"/>
          <p:cNvGraphicFramePr/>
          <p:nvPr/>
        </p:nvGraphicFramePr>
        <p:xfrm>
          <a:off x="5500800" y="3714840"/>
          <a:ext cx="3216240" cy="2500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00800" y="3714840"/>
                    <a:ext cx="321624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«Корзина» идей, понятий, им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ручное управление 2"/>
          <p:cNvSpPr/>
          <p:nvPr/>
        </p:nvSpPr>
        <p:spPr>
          <a:xfrm>
            <a:off x="2643120" y="3500280"/>
            <a:ext cx="3643560" cy="1357560"/>
          </a:xfrm>
          <a:prstGeom prst="flowChartManualOperation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 rot="20637600">
            <a:off x="1113840" y="2550240"/>
            <a:ext cx="14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к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 rot="20024400">
            <a:off x="3341880" y="1473480"/>
            <a:ext cx="282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ёрд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г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он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ух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 rot="2306400">
            <a:off x="5184000" y="2413800"/>
            <a:ext cx="296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фави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ьная позиц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бая пози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 rot="20354400">
            <a:off x="516600" y="442296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дух встречает препятств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3001680" y="5072040"/>
            <a:ext cx="232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арны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уда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471280" y="485784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р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ф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3643200" y="3857760"/>
            <a:ext cx="15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НЕТ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1792440" y="207180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н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Стадия 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осмысления</a:t>
            </a: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ambria"/>
              </a:rPr>
              <a:t>«Читать — это ещё ничего не значит; что читать и как понимать читаемое — вот в чём главное дело».</a:t>
            </a:r>
            <a:r>
              <a:rPr b="0" lang="ru-RU" sz="43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К.Д.Ушинский )</a:t>
            </a: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Times New Roman"/>
              </a:rPr>
              <a:t>- маркировочная таблиц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Times New Roman"/>
              </a:rPr>
              <a:t>«Знаю – Узнал – Хочу узнать»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Times New Roman"/>
              </a:rPr>
              <a:t>- кластеры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1071720" y="428760"/>
          <a:ext cx="6549840" cy="59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428760"/>
                    <a:ext cx="6549840" cy="59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52:05Z</dcterms:created>
  <dc:creator>Алексей Прокин</dc:creator>
  <dc:description/>
  <dc:language>en-US</dc:language>
  <cp:lastModifiedBy>Dom</cp:lastModifiedBy>
  <dcterms:modified xsi:type="dcterms:W3CDTF">2020-01-03T17:24:20Z</dcterms:modified>
  <cp:revision>39</cp:revision>
  <dc:subject/>
  <dc:title>Слайд 1</dc:title>
</cp:coreProperties>
</file>