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B3D-3A3B-4814-8C0C-2C252C0B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0D1-F12A-4D75-A927-93F38F87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64C-A581-431E-9970-4CA16BF5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F90-E78D-466D-B39A-DC734867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8EF-72D8-400C-9AB6-40604526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E6A-55A6-4045-A0B1-03B4EF71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CA26-D9E3-46C1-A855-601C3B15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565-84FA-459A-ADC2-5C903FC7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B7B-A2B0-4C51-9383-54EC6FCA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AAA-12EE-49B1-BFF1-484F0566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E13-751C-4C46-80CB-246CB97B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185-AF84-41F0-B4B0-C17EEB8D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DA86-0730-4BEC-8424-6DF116A8949F}" type="slidenum"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иктори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русским народным сказкам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Животное, в которое была заколдована Кащеем Бессмертным прекрасная девушк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Лягушк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6" name="Picture 6" descr="carevna-lyagushka"/>
          <p:cNvPicPr/>
          <p:nvPr/>
        </p:nvPicPr>
        <p:blipFill>
          <a:blip r:embed="rId1"/>
          <a:stretch/>
        </p:blipFill>
        <p:spPr>
          <a:xfrm>
            <a:off x="1600200" y="1828800"/>
            <a:ext cx="60958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Сказочная героиня, владелица первого в мире летательного аппарат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Баба Яг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9" name="Picture 6" descr="2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Сказочное существо, житель леса, так называемый дух лес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Леший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2" name="Picture 6" descr="92050373"/>
          <p:cNvPicPr/>
          <p:nvPr/>
        </p:nvPicPr>
        <p:blipFill>
          <a:blip r:embed="rId1"/>
          <a:stretch/>
        </p:blipFill>
        <p:spPr>
          <a:xfrm>
            <a:off x="2209680" y="1828800"/>
            <a:ext cx="50292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ак зовут сестру Бабы Яги, хозяйку болот?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икимор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5" name="Picture 6" descr="786948"/>
          <p:cNvPicPr/>
          <p:nvPr/>
        </p:nvPicPr>
        <p:blipFill>
          <a:blip r:embed="rId1"/>
          <a:stretch/>
        </p:blipFill>
        <p:spPr>
          <a:xfrm>
            <a:off x="2666880" y="1752480"/>
            <a:ext cx="3892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 какой сказке содержится рецепт приготовления диковинного, неповторимого по своим вкусовым качествам блюда из столярного инструмента?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аша из топор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8" name="Picture 6" descr="000zr5eb"/>
          <p:cNvPicPr/>
          <p:nvPr/>
        </p:nvPicPr>
        <p:blipFill>
          <a:blip r:embed="rId1"/>
          <a:stretch/>
        </p:blipFill>
        <p:spPr>
          <a:xfrm>
            <a:off x="1676520" y="1676520"/>
            <a:ext cx="63244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Одно из имен Василисы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В какой сказке говорится  про уникальное в своем роде спортивное состязание по прыжкам в высоту среди лиц мужского пола, победителя которого ожидал ценный приз –поцелуй царевны и женитьба на ней?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Сивка-Бурка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71" name="Picture 6" descr="1296577561_sivka-burka"/>
          <p:cNvPicPr/>
          <p:nvPr/>
        </p:nvPicPr>
        <p:blipFill>
          <a:blip r:embed="rId1"/>
          <a:stretch/>
        </p:blipFill>
        <p:spPr>
          <a:xfrm>
            <a:off x="1600200" y="1676520"/>
            <a:ext cx="66294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В какой сказке говорится про то, как заяц остался без жилья, а рыжая плутовка завладела всей заячьей недвижимостью и только вмешательство третьего лица  помогло восстановить справедливость.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Заячья избушка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74" name="Picture 6" descr="22062005110022"/>
          <p:cNvPicPr/>
          <p:nvPr/>
        </p:nvPicPr>
        <p:blipFill>
          <a:blip r:embed="rId1"/>
          <a:stretch/>
        </p:blipFill>
        <p:spPr>
          <a:xfrm>
            <a:off x="1143000" y="1676520"/>
            <a:ext cx="6858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ак называется русская народная сказка, в которой  рассказывается история о долгом пути хлебобулочного изделия к потребителю?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олобок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77" name="Picture 6" descr="05"/>
          <p:cNvPicPr/>
          <p:nvPr/>
        </p:nvPicPr>
        <p:blipFill>
          <a:blip r:embed="rId1"/>
          <a:stretch/>
        </p:blipFill>
        <p:spPr>
          <a:xfrm>
            <a:off x="1828800" y="16002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ак называется деталь женского платья, в которой  помещаются реки, озера, лебеди и другие элементы окружающей среды?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Рукава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0" name="Picture 6" descr="carevna-lyagushka_2"/>
          <p:cNvPicPr/>
          <p:nvPr/>
        </p:nvPicPr>
        <p:blipFill>
          <a:blip r:embed="rId1"/>
          <a:stretch/>
        </p:blipFill>
        <p:spPr>
          <a:xfrm>
            <a:off x="1676520" y="1600200"/>
            <a:ext cx="64008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Назовите имя сказочного персонажа, лопнувшего со смеху при виде некачественно построенного моста?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узырь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3" name="Picture 6" descr="s-puzyr-solominka-lapot"/>
          <p:cNvPicPr/>
          <p:nvPr/>
        </p:nvPicPr>
        <p:blipFill>
          <a:blip r:embed="rId1"/>
          <a:stretch/>
        </p:blipFill>
        <p:spPr>
          <a:xfrm>
            <a:off x="1905120" y="198108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ремудрая или Прекрасная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4" name="Picture 5" descr="74737992_7b63bee11607"/>
          <p:cNvPicPr/>
          <p:nvPr/>
        </p:nvPicPr>
        <p:blipFill>
          <a:blip r:embed="rId1"/>
          <a:stretch/>
        </p:blipFill>
        <p:spPr>
          <a:xfrm>
            <a:off x="2666880" y="1447920"/>
            <a:ext cx="3892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ак называется швейная принадлежность, в которой таится смертельная опасность для сказочная долгожителей.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Игла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6" name="Picture 6" descr="naehnadel"/>
          <p:cNvPicPr/>
          <p:nvPr/>
        </p:nvPicPr>
        <p:blipFill>
          <a:blip r:embed="rId1"/>
          <a:stretch/>
        </p:blipFill>
        <p:spPr>
          <a:xfrm>
            <a:off x="1295280" y="1676520"/>
            <a:ext cx="693432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Назовите  имя  высокопоставленной особы , чья улыбка стоила сказочно дорого.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Несмеян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9" name="Picture 6" descr="%D0%A6%D0%B0%D1%80%D0%B5%D0%B2%D0%BD%D0%B0+%D0%9D%D0%B5%D1%81%D0%BC%D0%B5%D1%8F%D0%BD%D0%B0+2"/>
          <p:cNvPicPr/>
          <p:nvPr/>
        </p:nvPicPr>
        <p:blipFill>
          <a:blip r:embed="rId1"/>
          <a:stretch/>
        </p:blipFill>
        <p:spPr>
          <a:xfrm>
            <a:off x="2895480" y="1752480"/>
            <a:ext cx="3495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о каким надобностям отправляли цари в путь своих сыновей.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За невестой, за молодильными яблоками, за жар-птицей.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2" name="Picture 6" descr="firebird_big"/>
          <p:cNvPicPr/>
          <p:nvPr/>
        </p:nvPicPr>
        <p:blipFill>
          <a:blip r:embed="rId1"/>
          <a:stretch/>
        </p:blipFill>
        <p:spPr>
          <a:xfrm>
            <a:off x="1676520" y="2057400"/>
            <a:ext cx="62481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акую награду обещают сказочные цари сказочным  героям.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олцарства, дочь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5" name="Picture 6" descr="1_3"/>
          <p:cNvPicPr/>
          <p:nvPr/>
        </p:nvPicPr>
        <p:blipFill>
          <a:blip r:embed="rId1"/>
          <a:stretch/>
        </p:blipFill>
        <p:spPr>
          <a:xfrm>
            <a:off x="2971800" y="1752480"/>
            <a:ext cx="35100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Летела стрела  и попала в болото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И в этом болоте поймал ее кто-то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Кто, распростившись с зеленою кожей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делался милой, красивой, пригожей.</a:t>
            </a: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асилиса Прекрасная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8" name="Picture 6" descr="russkie-narodnye-skazki--vasilisa-prekrasnaja"/>
          <p:cNvPicPr/>
          <p:nvPr/>
        </p:nvPicPr>
        <p:blipFill>
          <a:blip r:embed="rId1"/>
          <a:stretch/>
        </p:blipFill>
        <p:spPr>
          <a:xfrm>
            <a:off x="243828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17524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Яблоки, дающие молодость?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Гуси-лебеди летят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Унести детей хотят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то помог сестрице с братце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От Яги домой добраться?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ечь, яблоня, река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1" name="Picture 6" descr="raskraska-kartinok-dlya-malyishey"/>
          <p:cNvPicPr/>
          <p:nvPr/>
        </p:nvPicPr>
        <p:blipFill>
          <a:blip r:embed="rId1"/>
          <a:stretch/>
        </p:blipFill>
        <p:spPr>
          <a:xfrm>
            <a:off x="1600200" y="1752480"/>
            <a:ext cx="632448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Эта скатерть знамени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Тем, что  кормит нас досыт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Что сама собой она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кусных кушаний полна.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Скатерть-самобранка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4" name="Picture 6" descr="11"/>
          <p:cNvPicPr/>
          <p:nvPr/>
        </p:nvPicPr>
        <p:blipFill>
          <a:blip r:embed="rId1"/>
          <a:stretch/>
        </p:blipFill>
        <p:spPr>
          <a:xfrm>
            <a:off x="1295280" y="1600200"/>
            <a:ext cx="701064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Уплетая калачи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Ехал парень на печ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рокатился по деревне-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И женился на царевне.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Емеля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7" name="Picture 6" descr="1354869438_161389_original"/>
          <p:cNvPicPr/>
          <p:nvPr/>
        </p:nvPicPr>
        <p:blipFill>
          <a:blip r:embed="rId1"/>
          <a:stretch/>
        </p:blipFill>
        <p:spPr>
          <a:xfrm>
            <a:off x="3048120" y="1600200"/>
            <a:ext cx="34020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Сладких яблок аромат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Заманил ту птицу в сад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ерья светятся огнем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И светло в ночи,  как днем.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Жар-птица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0" name="Picture 6" descr="f_4e9d6611dbf00"/>
          <p:cNvPicPr/>
          <p:nvPr/>
        </p:nvPicPr>
        <p:blipFill>
          <a:blip r:embed="rId1"/>
          <a:stretch/>
        </p:blipFill>
        <p:spPr>
          <a:xfrm>
            <a:off x="2971800" y="1600200"/>
            <a:ext cx="33955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 какой сказке говорится об очень тесном доме?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Теремок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3" name="Picture 6" descr="%D0%A2%D0%B5%D1%80%D0%B5%D0%BC%D0%BE%D0%BA"/>
          <p:cNvPicPr/>
          <p:nvPr/>
        </p:nvPicPr>
        <p:blipFill>
          <a:blip r:embed="rId1"/>
          <a:stretch/>
        </p:blipFill>
        <p:spPr>
          <a:xfrm>
            <a:off x="1828800" y="1676520"/>
            <a:ext cx="62485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Молодильные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7" name="Picture 6" descr="&amp;Mcy;&amp;ocy;&amp;lcy;&amp;ocy;&amp;dcy;&amp;icy;&amp;lcy;&amp;softcy;&amp;ncy;&amp;ycy;&amp;iecy; &amp;yacy;&amp;bcy;&amp;lcy;&amp;ocy;&amp;kcy;&amp;icy; - &amp;kcy;&amp;acy;&amp;dcy;&amp;rcy; &amp;icy;&amp;zcy; &amp;mcy;&amp;ucy;&amp;lcy;&amp;softcy;&amp;tcy;&amp;fcy;&amp;icy;&amp;lcy;&amp;softcy;&amp;mcy;&amp;acy;.jpg"/>
          <p:cNvPicPr/>
          <p:nvPr/>
        </p:nvPicPr>
        <p:blipFill>
          <a:blip r:embed="rId1"/>
          <a:stretch/>
        </p:blipFill>
        <p:spPr>
          <a:xfrm>
            <a:off x="2895480" y="1828800"/>
            <a:ext cx="38880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 какой сказке говорится об уборке   большого урожая всей семьёй?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Репка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6" name="Picture 6" descr="0010"/>
          <p:cNvPicPr/>
          <p:nvPr/>
        </p:nvPicPr>
        <p:blipFill>
          <a:blip r:embed="rId1"/>
          <a:stretch/>
        </p:blipFill>
        <p:spPr>
          <a:xfrm>
            <a:off x="1219320" y="1600200"/>
            <a:ext cx="701028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Сколько человек тянуло репку?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Три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9" name="Picture 6" descr="2888"/>
          <p:cNvPicPr/>
          <p:nvPr/>
        </p:nvPicPr>
        <p:blipFill>
          <a:blip r:embed="rId1"/>
          <a:stretch/>
        </p:blipFill>
        <p:spPr>
          <a:xfrm>
            <a:off x="1523880" y="1752480"/>
            <a:ext cx="64008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то из какой сказки сказал такие слова: «Как выскочу, как выпрыгну- пойдут клочки по закоулочкам!»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Лиса, заюшкина избушка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2" name="Picture 6" descr="zayushkina-izbushka_2"/>
          <p:cNvPicPr/>
          <p:nvPr/>
        </p:nvPicPr>
        <p:blipFill>
          <a:blip r:embed="rId1"/>
          <a:stretch/>
        </p:blipFill>
        <p:spPr>
          <a:xfrm>
            <a:off x="2895480" y="1752480"/>
            <a:ext cx="36147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Из какой сказки слова:«Не откроем мы тебе дверь, -закричали они. -Ты не матушка наша, у той голос добрый и тонкий, а твой толстый».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олк и семеро козлят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5" name="Picture 6" descr="volk-i-semero-kozlyat1"/>
          <p:cNvPicPr/>
          <p:nvPr/>
        </p:nvPicPr>
        <p:blipFill>
          <a:blip r:embed="rId1"/>
          <a:stretch/>
        </p:blipFill>
        <p:spPr>
          <a:xfrm>
            <a:off x="1600200" y="1752480"/>
            <a:ext cx="640080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олотил да колотил по тарелке носом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ничего не проглотил и остался с носом.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Лиса и журавль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8" name="Picture 6" descr="861b6605bf6b666a6edd0cc14c2bb9b6"/>
          <p:cNvPicPr/>
          <p:nvPr/>
        </p:nvPicPr>
        <p:blipFill>
          <a:blip r:embed="rId1"/>
          <a:stretch/>
        </p:blipFill>
        <p:spPr>
          <a:xfrm>
            <a:off x="1447920" y="1676520"/>
            <a:ext cx="66294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Оружие, которым пользовались сказочные богатыри?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Из какой сказки слова:«Не лютый зверь умчал в дремучий лес, и не хищная птица унесла к синему морю, а когда побежала она за подружками и вскочила в огонь, вдруг потянулась она вверх легким паром, свилась в тонкое облачко.»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Снегурочка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31" name="Picture 6" descr="tv-vo"/>
          <p:cNvPicPr/>
          <p:nvPr/>
        </p:nvPicPr>
        <p:blipFill>
          <a:blip r:embed="rId1"/>
          <a:stretch/>
        </p:blipFill>
        <p:spPr>
          <a:xfrm>
            <a:off x="3048120" y="1752480"/>
            <a:ext cx="3392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 какой сказке живут два шагающих ведра?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о щучьему велению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34" name="Picture 6" descr="nael111"/>
          <p:cNvPicPr/>
          <p:nvPr/>
        </p:nvPicPr>
        <p:blipFill>
          <a:blip r:embed="rId1"/>
          <a:stretch/>
        </p:blipFill>
        <p:spPr>
          <a:xfrm>
            <a:off x="1752480" y="1752480"/>
            <a:ext cx="60199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то и с кем устроил дележ: «Твои вершки, а мои корешки!»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Медведь и мужик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37" name="Picture 6" descr="d70e9ef606a4fb1043b1e36c907d31b7"/>
          <p:cNvPicPr/>
          <p:nvPr/>
        </p:nvPicPr>
        <p:blipFill>
          <a:blip r:embed="rId1"/>
          <a:stretch/>
        </p:blipFill>
        <p:spPr>
          <a:xfrm>
            <a:off x="1219320" y="1828800"/>
            <a:ext cx="66294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Меч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0" name="Picture 6" descr="jiang15"/>
          <p:cNvPicPr/>
          <p:nvPr/>
        </p:nvPicPr>
        <p:blipFill>
          <a:blip r:embed="rId1"/>
          <a:stretch/>
        </p:blipFill>
        <p:spPr>
          <a:xfrm>
            <a:off x="2743200" y="2286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46784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Река, у которой сражался Иван – крестьянский сын?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Смородин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3" name="Picture 6" descr="37776"/>
          <p:cNvPicPr/>
          <p:nvPr/>
        </p:nvPicPr>
        <p:blipFill>
          <a:blip r:embed="rId1"/>
          <a:stretch/>
        </p:blipFill>
        <p:spPr>
          <a:xfrm>
            <a:off x="3048120" y="1981080"/>
            <a:ext cx="3709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15:15:36Z</dcterms:created>
  <dc:creator>Наталья</dc:creator>
  <dc:description/>
  <dc:language>en-US</dc:language>
  <cp:lastModifiedBy>Пользователь Windows</cp:lastModifiedBy>
  <dcterms:modified xsi:type="dcterms:W3CDTF">2019-12-25T13:59:0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