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5D1-38BC-4BE2-AB24-D2EEC4D2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CAF-415F-44E4-85B5-C3CD5820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BFF525-17BD-4C5C-A26C-6064C031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5359F2-ECDA-4982-80F7-DB6DB794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7B5CD-30C3-4F88-8B2B-B7ADE1D2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94713-8D53-43D1-8681-2C7931F4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33447-A532-471F-BCF3-F23175E4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D8E4E-73B0-4F72-A8B9-0D86C41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2AFD0-3D24-43BD-B4C4-CB5DC844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B494B-A627-4E96-9B70-13153936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0E361C-25B6-49F3-A249-F6BCC091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E78-ADE9-431D-88E2-EA2F3B35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297-BD91-4C07-AC1A-45794F5B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220ED-3FB4-4559-BFFB-FC65A90A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24575-38A2-416B-A493-43A93354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5498D-4EEE-4C3D-9DF5-1C3D1236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BF891-0401-4A51-B36A-13CFD0AC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FB4F3-2C6F-4C85-AB06-0C7DBBA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A0325-6C35-44EB-BC67-62CD58BD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E7EC5-0FEA-41EC-BF97-ABF83F1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71B-52AC-469D-B734-681216CE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A9C65-C8C9-4B5C-A3F0-9F20CDA4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B6EFB-35B7-472A-B678-6C051906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E7787-5DEA-437B-8C59-CAE7A59B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1CDC3-19DB-4E79-9E98-4567BB63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B78E-93C0-424A-8A7D-E0F5DD79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7C218-CCEB-43C5-A9E4-447AA179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D5EB-D224-4AB9-919A-D037EA80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8099-7BD2-4A4D-9F5B-8D0CB25F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F2CF-1352-4EAF-B84C-EC0CB44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8A9F-16CC-45C5-8CB9-8885D297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31C-0848-441D-BD71-F82E4443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4B31-70E1-4C31-BB26-31910DC0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FE45-0477-4AC8-980B-6D58D0C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7D9C-A9A0-496D-B659-66E8952B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CB6AC-39F5-453A-A6CB-6B8864A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66EE-F2BC-4ABC-AE2A-72EF2880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146F-EA0B-4162-BD14-B6B263B7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3B93-E2E6-4217-8E6D-47DEBC6C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271F1-E358-401B-816F-7DC2EBD0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3DB00-4D2A-49BF-817A-4A8FAAC6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6FBBF-251E-45D8-B78C-BA3272BB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2CE-6A45-4D38-AE53-06200686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E1C3B-55BD-46D1-B6E3-C6DB7C25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5D5C7-D987-4E8B-8A3E-6DA86EE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61A9F-ADF5-41BE-80FE-E6AFA8C3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78E18-F5FE-413A-ABFE-2D22E9F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763FC-248B-4D8F-8BB0-E0DFB69B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90007-65FF-468F-A6B9-5F6E29F1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FFCF7-3DA3-47E6-BDCC-30968F31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6F638-37AD-4CCC-A92C-AA9102FD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7CB5D-EFB1-48FD-8531-D10B2F88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EE0A9-CFED-4F1A-B1FF-436CF864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B08-247D-4534-B1CB-4C3BA472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6F8B2-C515-409B-A610-71F5CB8C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EFB0F-A172-4BF1-97B3-BA6DE2D2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A903-8FC1-4FFE-91A8-423E16D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7653-8C33-4307-883B-9836AAA8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4EDF6-FE3E-4BBC-BE08-F1F9A951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F4FE7-4A60-4CF4-BEA7-F6356C08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BE45-EA8A-4473-927C-08532BEB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23840-09C4-4303-854B-1C5023C0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6DF5E-56BA-4E88-BE21-2631043A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5CEF0-5E3B-41EA-AADB-C9A84F64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DA1-761C-42E5-9BD2-CA4769E6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801F2-E8AE-452A-B7AE-4B82FD2C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5294F-0A77-41E1-852F-F029225E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2B9AE-52F9-4359-B8BA-88005EF3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653AB-3E6B-47CD-808C-1DE16157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AFF0E-BF6A-40B4-AF1E-7E41919A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42388-2149-4670-8A79-EE6048C7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CE8EB-F54B-4170-9128-D85896D1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4933A-3F3D-44AA-924B-56A7B11E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99180-2249-42B8-8E60-6C1DEEA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027D4-FC34-46F7-8042-D9E9B943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33F-6D31-4F91-B565-181286CD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A373-AEC6-4FD5-B1B3-E3EEFCA8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3F19F-4A94-40AD-9307-82686A9F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855C3-DCFE-475B-8382-1D3FAE16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33E73-5E75-4E55-B022-020FC0D7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A5BBB-289A-442D-A655-630C57AF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16A1-B653-4CD6-AF8C-52965B31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62C20-18D9-440F-80D1-D4BFC6BC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0B604-C26B-4529-97C4-DCE78912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CB50-09B8-4452-BA42-9F2AF847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FC2CA-4943-446D-BBB4-C5FFB82B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47B-CA4A-436F-B7B3-F05334B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FF944-68FC-4D82-A132-2E8C8076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EE6BA-92F3-4330-B86E-46DB37B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1CC10-D18F-4B4E-870A-1497BE8D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87A1B-942A-4AB1-AE4E-2F2EBA12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52BB9-0ABD-4EE9-A776-BEE26AA7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EAF15-01AC-4A9B-987E-C8D719AE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BFFFC-0C81-411F-B48C-F885B878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AE24F-D5A1-426B-AA24-384091DF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512F1D-0F14-4732-88AA-894DE3DB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F132D-729F-48F9-99E8-0DB47BD3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70C-B1F8-4FD8-926E-7BD042C0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FA69D-89CD-40F6-8C27-AFCA1306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E8EFB3-3758-4A61-A312-6A299C40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370FF-6822-4D7C-91E5-3A160DC8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2BA6BB-AA87-46AE-AB9D-A69F7DBB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04DA58-81A1-4538-BA7E-4D9F0B59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27238-44F8-4EB6-85C5-5AA59FCD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1EAE5-34CF-4A4E-93CB-03A4BAF4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5D9EFF-8DFD-4E10-ABAC-1D7B948F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8E0C3F-F6AC-4231-93E7-73CA008B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E8C52-BCBC-4A24-AB5D-C6BB7A12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DA89-6A06-4057-AC60-888051C4C4E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6DC-E499-4A19-AB22-08AFFE98480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BF2B-CAD1-4C39-90A6-7C4A6D383C6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DB1-F418-4EAF-A03E-85E4538DDE8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DE5F-FEB0-45BD-881D-05C044F11B3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77CA-60C3-45AA-A445-EF6404694BF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16D4-9BFD-454E-B59B-BE5957DB7F3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AC3C-1FB9-4E8D-B296-28399E9783F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6EB-3742-4535-93EC-AD3374275E5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68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колько стоит человеческая жизнь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491680" cy="1474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D:\работа\рабочие программы\литература 9 класс\nahimov.jpg"/>
          <p:cNvPicPr/>
          <p:nvPr/>
        </p:nvPicPr>
        <p:blipFill>
          <a:blip r:embed="rId2"/>
          <a:stretch/>
        </p:blipFill>
        <p:spPr>
          <a:xfrm>
            <a:off x="2714760" y="1214280"/>
            <a:ext cx="35082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D:\работа\рабочие программы\литература 9 класс\IMG_a3fdd79a65f2.jpg"/>
          <p:cNvPicPr/>
          <p:nvPr/>
        </p:nvPicPr>
        <p:blipFill>
          <a:blip r:embed="rId2"/>
          <a:stretch/>
        </p:blipFill>
        <p:spPr>
          <a:xfrm>
            <a:off x="1285920" y="1444680"/>
            <a:ext cx="6265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Война -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19" name="Picture 2" descr="D:\работа\рабочие программы\литература 9 класс\imgpreview.jpg"/>
          <p:cNvPicPr/>
          <p:nvPr/>
        </p:nvPicPr>
        <p:blipFill>
          <a:blip r:embed="rId1"/>
          <a:stretch/>
        </p:blipFill>
        <p:spPr>
          <a:xfrm>
            <a:off x="928800" y="714240"/>
            <a:ext cx="3857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D:\работа\рабочие программы\литература 9 класс\Оброна-Севастополя2.jpg"/>
          <p:cNvPicPr/>
          <p:nvPr/>
        </p:nvPicPr>
        <p:blipFill>
          <a:blip r:embed="rId2"/>
          <a:stretch/>
        </p:blipFill>
        <p:spPr>
          <a:xfrm>
            <a:off x="1162080" y="1643040"/>
            <a:ext cx="67723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25080" cy="1755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«Герой же моей повести, которого я люблю всеми силами души, которого старался воспроизвести во всей красоте его и который был, есть и будет прекрасен, - правда...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«Севастополь в декабре месяце»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«Севастополь в мае»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«Севастополь в августе 1855 года»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mbria"/>
              </a:rPr>
              <a:t>«Главное, отрадное убеждение, которое вы вынесли,- это убеждение в невозможности взять Севастополь, и не только взять Севастополь, но поколебать где бы то ни было силу русского народа… … И эта причина есть чувство, редко проявляющееся, стыдливое в русском, но лежащее в глубине души каждого,- любовь к родине.»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"Так вот он, четвертый бастион, вот оно, это страшное, действительно ужасное место!.. Но разочаруйтесь: это еще не четвертый бастион. Это Язоновский редут - место сравнительно очень безопасное и вовсе не страшное".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Так вот он, IV бастион, это действительно ужасное место. Там вы увидите пластунов черноморских батальонов, которые здесь живут, курят трубки... Вглядитесь в лица: в каждой морщине, в каждом движении видны главные черты, составляющие силу русского – простоту и упрямство..., следы сознания своего достоинства и высокой мысли и </a:t>
            </a:r>
            <a:r>
              <a:rPr b="1" i="1" lang="ru-RU" sz="3000" spc="-1" strike="noStrike" u="sng">
                <a:solidFill>
                  <a:srgbClr val="ffffff"/>
                </a:solidFill>
                <a:uFillTx/>
                <a:latin typeface="Cambria"/>
              </a:rPr>
              <a:t>чувства</a:t>
            </a:r>
            <a:r>
              <a:rPr b="1" i="1" lang="ru-RU" sz="30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397" name="Picture 2" descr="D:\работа\рабочие программы\литература 9 класс\Outline_Map_of_Crimea_(disputed_status).svg.png"/>
          <p:cNvPicPr/>
          <p:nvPr/>
        </p:nvPicPr>
        <p:blipFill>
          <a:blip r:embed="rId1"/>
          <a:stretch/>
        </p:blipFill>
        <p:spPr>
          <a:xfrm>
            <a:off x="857160" y="1214280"/>
            <a:ext cx="7332840" cy="49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45920"/>
            <a:ext cx="822960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Cambria"/>
              </a:rPr>
              <a:t>Посмотрите хоть на этого фурштатского солдатика, который ведет поить какую-то гнедую тройку и так спокойно мурлыкает себе что-то под нос, что, очевидно, он не заблудится в этой разнородной толпе, которой для него и не существует, но что он исполняет свое дело, какое бы оно ни было - поить лошадей или таскать орудия,- так же спокойно, и самоуверенно, и равнодушно, как бы все это происходило где-нибудь в Туле или в Саранске. То же выражение читаете вы и на лице этого офицера, который в безукоризненно белых перчатках проходит мимо, и в лице матроса, который курит, сидя на баррикаде, и в лице рабочих солдат, с носилками дожидающихся на крыльце бывшего Собрания…»)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"Надолго оставит в России великие следы эта эпопея Севастополя, который героем был..."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Тщеславие - высокомерное стремление к славе, к почитанию.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"Вот этого я не понимаю и признаться не могу верить, чтобы люди в грязном белье, во вшах и с неумытыми руками могли бы быть храбры"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«…увидите войну не в правильном, красивом и блестящем строе,…а увидите войну в настоящем ее выражении – в крови, в страданиях, в смерти.»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"/>
              </a:rPr>
              <a:t>Л.Н. Толстой – писатель, философ, гуманист.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Имя, данное городу при его основании, в переводе с греческого означает "величественный, достойный поклонения, героический город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394840" cy="130968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3" descr="Памятник воинам Четвертого бастиона"/>
          <p:cNvPicPr/>
          <p:nvPr/>
        </p:nvPicPr>
        <p:blipFill>
          <a:blip r:embed="rId2"/>
          <a:stretch/>
        </p:blipFill>
        <p:spPr>
          <a:xfrm>
            <a:off x="714240" y="1500120"/>
            <a:ext cx="33577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94840" cy="1152720"/>
          </a:xfrm>
          <a:prstGeom prst="rect">
            <a:avLst/>
          </a:prstGeom>
          <a:ln w="0">
            <a:noFill/>
          </a:ln>
        </p:spPr>
      </p:pic>
      <p:pic>
        <p:nvPicPr>
          <p:cNvPr id="403" name="Содержимое 3" descr="Малахов курган"/>
          <p:cNvPicPr/>
          <p:nvPr/>
        </p:nvPicPr>
        <p:blipFill>
          <a:blip r:embed="rId2"/>
          <a:stretch/>
        </p:blipFill>
        <p:spPr>
          <a:xfrm>
            <a:off x="857160" y="1928880"/>
            <a:ext cx="50007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05" name="Picture 2" descr="D:\работа\рабочие программы\литература 9 класс\967-1-Monument-Velikoy-Otechestvennoy-voyny.jpg"/>
          <p:cNvPicPr/>
          <p:nvPr/>
        </p:nvPicPr>
        <p:blipFill>
          <a:blip r:embed="rId1"/>
          <a:stretch/>
        </p:blipFill>
        <p:spPr>
          <a:xfrm>
            <a:off x="1571760" y="1857240"/>
            <a:ext cx="60958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60" y="249120"/>
            <a:ext cx="8394480" cy="1165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D:\работа\рабочие программы\литература 9 класс\IMG_19e7409ac170.jpg"/>
          <p:cNvPicPr/>
          <p:nvPr/>
        </p:nvPicPr>
        <p:blipFill>
          <a:blip r:embed="rId2"/>
          <a:stretch/>
        </p:blipFill>
        <p:spPr>
          <a:xfrm>
            <a:off x="860400" y="1428840"/>
            <a:ext cx="6519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491680" cy="14810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D:\работа\рабочие программы\литература 9 класс\IMG_f4cbb31af832.jpg"/>
          <p:cNvPicPr/>
          <p:nvPr/>
        </p:nvPicPr>
        <p:blipFill>
          <a:blip r:embed="rId2"/>
          <a:stretch/>
        </p:blipFill>
        <p:spPr>
          <a:xfrm>
            <a:off x="1000080" y="1643040"/>
            <a:ext cx="622152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D:\работа\рабочие программы\литература 9 класс\kornilovu.jpg"/>
          <p:cNvPicPr/>
          <p:nvPr/>
        </p:nvPicPr>
        <p:blipFill>
          <a:blip r:embed="rId2"/>
          <a:stretch/>
        </p:blipFill>
        <p:spPr>
          <a:xfrm>
            <a:off x="1278000" y="1714680"/>
            <a:ext cx="6433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9T19:40:59Z</dcterms:created>
  <dc:creator>Алексей</dc:creator>
  <dc:description/>
  <dc:language>en-US</dc:language>
  <cp:lastModifiedBy>Наталья</cp:lastModifiedBy>
  <dcterms:modified xsi:type="dcterms:W3CDTF">2020-01-03T10:11:36Z</dcterms:modified>
  <cp:revision>10</cp:revision>
  <dc:subject/>
  <dc:title>Слайд 1</dc:title>
</cp:coreProperties>
</file>