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13.png" ContentType="image/pn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6E7-80B9-4ABC-815C-48B27C75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489-7CFE-4FAD-A05A-2E25C3B8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DFE7F-2DFE-4C06-8407-FA251F9B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FB33B-73B7-4658-A88B-8F39FC6C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5E0F9-0D94-46BD-8FD7-F26F585F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7230C-401E-49BD-9443-477DE8E0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CAFCE-DE3C-4730-8086-0DE832C8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406EF-203B-486D-8FB9-7D81FDD7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A53F8-4606-4D88-B03E-F049A44B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DEB60-A669-40F8-AD08-52BE869A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EEDB6-ADDF-488E-B69F-6BC6E98B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07E50-643A-40A9-919E-9681D058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91E-F8F4-4779-B5F5-32E4C6B5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410E5-67F5-41BF-AF70-29C2ACDC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8CFC4-F5A4-46B0-89ED-4C1C1C50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318E9-F684-4879-9DB0-47AD539B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F213C-2B4B-4094-B3CC-CB86554D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0C07D-67AE-43A2-A3B6-6F3EBA95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B023F-4C05-4042-A540-361D344C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AC1EB-9C7D-4EB3-94E6-5C413CD0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C5334-D2CB-4FE6-BC99-155098E2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3A3C2-DF9C-4ECC-9977-50D6EFDB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82A36-D419-4EF0-8FE4-0780E06F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EAA-AE5F-40A7-A4A2-70EF8EA4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9C2A7-83A8-4D62-826B-3EF1D773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CA9F8-4CAC-4E46-8CCF-7D5C1A41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FA3A9-8944-4D07-B830-62E1C1A1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D1B57-D70E-41E5-AC2C-6D4402C9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69774-A82B-48FA-BC8A-8FEB08DF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9F41B-7CCA-447A-9091-63618F02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0AACA-022E-49F3-840F-D4B5B539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9E446-5E8A-4711-BA53-9FBBE937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4671C-25A2-46F8-9277-B5D31F39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4D97F-8668-4CA6-A0F0-4E0B5FFF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CF30-B550-483E-9B72-903B3E2E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106B1-110C-4304-A41B-16D781C4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31C6C-E886-48C7-8D78-6A1F8EFC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DF70B-5B08-4E2E-9320-77283837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F931A-26F6-499C-9974-DFC7420B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65A1C-2E7C-4324-9991-6BBE3781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34991-68E7-40B7-A7F1-69D14001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02766-7F91-43C2-9D65-87D1CD72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1DC00-E727-4A99-949D-209CE039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9506F-BDB7-4FC1-9AF2-DF8B2CE9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9FD81-945E-4141-92AF-E3AB6032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20FC-6F8C-432B-9AA6-E639A988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7A20B-2E39-4CB2-AC13-FFA73A3F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21984-0C98-4A80-942E-AC60F561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87744-DBDB-4088-A02B-DE2EBC98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BD46B-2C50-4E52-82F7-419D9B91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0DF68-DAE1-4C3C-B930-FC58568F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C862-315A-4A61-AB70-4983BB67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67CA-6695-4857-978F-B75A69CC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1EF3-E15B-4164-8959-740801F3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CA14-5B84-48F6-B943-2318C228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38C6-CA02-4444-B0E6-2320E685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4A6-2F01-4743-ABDD-21E47BE2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4C61-266E-4120-B544-7B342A5C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051B-FF9F-4A86-AF84-A7AC63EA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3229-6585-48D5-B7E4-6FE945D5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DB61-9AE7-4822-8076-88B07C97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35C3-3B33-4835-9596-33F5E901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3D653-D80E-465D-A34C-3793F8AC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F60CF-C40A-4C3E-91C8-1D799DB9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9573-3DE6-482A-9A4D-43A293FA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0C623-0225-421A-A985-E327381B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4EA8B-376D-4CA1-ACE7-00D27BFC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FC5-552B-49EC-AC97-B0163878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FB3BB-EDA3-4DC2-86C4-49DCB277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1E28C-E606-49DB-9AD5-0452A174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9F328-574E-4FE9-92E1-177EBE25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78607-D856-4F4F-B49D-EF940150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E5D29-9FBE-4CD9-9B58-E23C7632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EB54-2889-4256-BF26-35642014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5AD37-B1AD-4238-A043-05C3EFFB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82A49-4E3E-4522-9634-131A034F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353D9-96D4-4D14-92F6-F0E999D9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8CB19-AEC7-4FCF-8FCC-FECB8612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9C6-20BC-4CD5-8730-AF53C55A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BB168-A24B-4391-9497-6C9E8635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C59BF-DAC1-4974-B8F2-D6D93338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42E47-B066-4165-BADA-830F7921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D30CE-E790-453C-BB76-3B97800D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C0E85-6389-4310-9195-91E336DD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1BD1D-5D3D-4584-85DC-5A1560B7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072B5-EF17-4A23-A01B-F9E7C4F2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29018-95EB-4C41-9D98-154440D8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80C06-4409-4E53-AE78-904D4BD8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BE625-2068-4398-B8BE-6E6399EC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379-6304-41E2-8A03-80181C0A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A5311-0612-4791-BD35-D7EFEFA1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CBE8F-6EDE-452E-A222-48CC9F4E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9F8A4-3959-4D6A-A760-D82ECBE3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8814F-D535-4366-BA7F-ADAAA916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55639-B4D2-4777-86FD-96FE7802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B828E-9286-436A-BCFD-B288DFE1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85131-00B7-43AD-97F0-BE719B86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D4358-7777-4DE6-BFFE-3F0AD67B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2E7B0-5F5D-41E0-B8C2-C01E8779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B46AC-C471-4612-92D1-41CEDAE5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911-4D65-4F87-A21B-384286F5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C28A7-CE80-4759-8F27-1BCEEC8F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2FBE5-BDF4-4354-872A-A4CD9A1F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AA949-589C-4D33-80BC-637CB6A2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0BF4A-2F26-48B2-9F55-21AD7E19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0C775-F1C1-426F-803F-2DB5D538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66D65-7776-4700-B5CE-602A2A51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E6415-F3E3-4DC8-8658-121AF103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1BC1E-5764-4708-B619-5E3231FB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D43BE-8016-4847-9E50-676ACD11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5B285-5E7D-4EB9-B1D5-70669984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E51-4C9A-4D9A-A6CE-DE40DAC5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B315A-9EC6-4106-B45D-0A924EB5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A941F-8B9E-4ECD-A157-88A48417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7B1F7-E389-4F04-B09E-BED4E42C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ED5D5-7C4F-4AD8-802E-A383CA90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F571C-186D-45CA-A278-BA2095AA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08E67-5102-423F-92D1-E739E70E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20FA3-1B11-4FCF-A5E4-4C2678BD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BBF82-C453-4827-8849-4E5C702D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4724C-E33C-4935-BA15-58EA6307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61DF3-5169-448B-8AC8-30D6A3D3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25B-E70B-41E3-9027-CA84078C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939F1-9B49-4037-9A65-2D11FB28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A9526-1B59-409D-9242-771B582A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2392B-9D06-4D56-BFB8-BCE97CF7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B3EDD-DAB3-4CBC-A7C6-DF8F588F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B2D30-EEF9-4728-B7BF-4B437A15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35A4D-F0F5-4748-BE0D-700B066D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07DC7-395C-44DA-9843-BFCD6441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7DDB7-EDF6-49CC-9EE3-E95D8AA8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1901E-E7E4-480E-8990-3CD27FF3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F4759-F0ED-4696-8AA7-B28501C0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78C-730A-48E6-91B9-5E35FD06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140D7-C143-419A-A485-37097AAA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88187-6A47-4B2D-8329-85354449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59F07-C2CC-4988-A107-D30FF506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3B62E-71C7-4BC2-9C8E-9DC995B0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D0210-F8CB-4372-800B-F295A339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DD445-016B-4572-B3FF-3842B9AB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AB4A2-586D-431E-85B6-685B3D77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8DCCD-7239-43DF-A71A-34339C03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2D6EA-B4F8-4171-A672-AF06CE92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CD050-BD37-45AE-AB67-A09679C1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20DF-3E80-4335-9CD8-90D874B1B47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778C-57C0-4163-8EDE-A1B61AABEC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2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92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92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4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94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7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97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80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2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1799-49C7-4D00-AE4A-E30DCEEFC53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CC3A-1E22-451D-A466-B8826BE5B2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02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02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05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07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08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082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4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F414-F102-4882-9F51-A3A279EBF53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BEDB-E94D-45F5-B7FD-1CD63F1DBA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2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12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12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15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18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18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184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6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7781-E20D-4125-82F2-7463A107FF96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BFCE-7235-4B68-8596-13C81E568A8A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35C1-383B-4D1A-BBDC-A8888D4BF86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E15F-4985-4A9E-BBCA-5D733E78A0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D90B-91AE-43CD-A64D-80B3F7C7C53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F028-11A3-4430-B15A-4F64D3564A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1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1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33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6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6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36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D6B9-2ACD-41F0-BDB8-689CC6D64BF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8CD8-7FA5-44B3-8F80-32225BE878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1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1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43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6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6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470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2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FA9D-A111-42C4-8F54-E2E29904C47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EE27-4B84-43AB-B108-DC49B81A66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1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51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51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54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6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72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4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01E4-BC0F-4E9A-ABCC-1F1420D2179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7FCC-C13C-4D00-A3AB-05BFC233A6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61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61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4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7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7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674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6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919E-5705-4BDF-A1C9-6817579AAEB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485F-ED97-47F9-A8F3-748B9C8A8B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1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72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72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4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74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77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7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7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3B7E-839C-47E9-8085-E3B66F42F48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6CF2-0F33-4066-84C8-B3A955F1C8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2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2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82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84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7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87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87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7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8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9D2A-006D-4B35-B96D-DE8BC0151B3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4636-10E4-4A92-9E51-D1FAD3E450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WordArt 2"/>
          <p:cNvSpPr txBox="1"/>
          <p:nvPr/>
        </p:nvSpPr>
        <p:spPr>
          <a:xfrm>
            <a:off x="2268360" y="692280"/>
            <a:ext cx="47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еометрия - 7</a:t>
            </a:r>
            <a:endParaRPr b="1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29" name="Group 4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230" name="Freeform 5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1" name="Freeform 6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2" name="Freeform 7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3" name="Freeform 8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4" name="Freeform 9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5" name="Freeform 10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6" name="Freeform 11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7" name="Freeform 12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38" name="WordArt 13"/>
          <p:cNvSpPr txBox="1"/>
          <p:nvPr/>
        </p:nvSpPr>
        <p:spPr>
          <a:xfrm>
            <a:off x="755640" y="1628640"/>
            <a:ext cx="78566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адачи на построение</a:t>
            </a:r>
            <a:endParaRPr b="1" lang="en-US" sz="6600" spc="1" strike="noStrike">
              <a:ln w="64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9" name="WordArt 16"/>
          <p:cNvSpPr txBox="1"/>
          <p:nvPr/>
        </p:nvSpPr>
        <p:spPr>
          <a:xfrm>
            <a:off x="395280" y="4365720"/>
            <a:ext cx="813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чебник "Геометрия 7-9"  Автор Л.С. Атанасян</a:t>
            </a:r>
            <a:endParaRPr b="1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Freeform 3"/>
          <p:cNvSpPr/>
          <p:nvPr/>
        </p:nvSpPr>
        <p:spPr>
          <a:xfrm>
            <a:off x="5246640" y="1413000"/>
            <a:ext cx="1846440" cy="4335480"/>
          </a:xfrm>
          <a:custGeom>
            <a:avLst/>
            <a:gdLst>
              <a:gd name="textAreaLeft" fmla="*/ 0 w 1846440"/>
              <a:gd name="textAreaRight" fmla="*/ 1846800 w 1846440"/>
              <a:gd name="textAreaTop" fmla="*/ 0 h 4335480"/>
              <a:gd name="textAreaBottom" fmla="*/ 4335840 h 4335480"/>
            </a:gdLst>
            <a:ahLst/>
            <a:rect l="textAreaLeft" t="textAreaTop" r="textAreaRight" b="textAreaBottom"/>
            <a:pathLst>
              <a:path w="1163" h="2731">
                <a:moveTo>
                  <a:pt x="9" y="0"/>
                </a:moveTo>
                <a:lnTo>
                  <a:pt x="0" y="2731"/>
                </a:lnTo>
                <a:lnTo>
                  <a:pt x="1163" y="1286"/>
                </a:lnTo>
                <a:lnTo>
                  <a:pt x="9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1" name="Freeform 4"/>
          <p:cNvSpPr/>
          <p:nvPr/>
        </p:nvSpPr>
        <p:spPr>
          <a:xfrm>
            <a:off x="3333600" y="1403280"/>
            <a:ext cx="1914840" cy="4345200"/>
          </a:xfrm>
          <a:custGeom>
            <a:avLst/>
            <a:gdLst>
              <a:gd name="textAreaLeft" fmla="*/ 0 w 1914840"/>
              <a:gd name="textAreaRight" fmla="*/ 1915200 w 1914840"/>
              <a:gd name="textAreaTop" fmla="*/ 0 h 4345200"/>
              <a:gd name="textAreaBottom" fmla="*/ 4345560 h 4345200"/>
            </a:gdLst>
            <a:ahLst/>
            <a:rect l="textAreaLeft" t="textAreaTop" r="textAreaRight" b="textAreaBottom"/>
            <a:pathLst>
              <a:path w="1206" h="2737">
                <a:moveTo>
                  <a:pt x="1206" y="0"/>
                </a:moveTo>
                <a:lnTo>
                  <a:pt x="1200" y="2737"/>
                </a:lnTo>
                <a:lnTo>
                  <a:pt x="0" y="1304"/>
                </a:lnTo>
                <a:lnTo>
                  <a:pt x="1206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2" name="Line 5"/>
          <p:cNvSpPr/>
          <p:nvPr/>
        </p:nvSpPr>
        <p:spPr>
          <a:xfrm>
            <a:off x="2811600" y="3481560"/>
            <a:ext cx="5616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3" name="Arc 6"/>
          <p:cNvSpPr/>
          <p:nvPr/>
        </p:nvSpPr>
        <p:spPr>
          <a:xfrm rot="4762200">
            <a:off x="3787920" y="881640"/>
            <a:ext cx="2687760" cy="4133880"/>
          </a:xfrm>
          <a:custGeom>
            <a:avLst/>
            <a:gdLst>
              <a:gd name="textAreaLeft" fmla="*/ 0 w 2687760"/>
              <a:gd name="textAreaRight" fmla="*/ 2688120 w 2687760"/>
              <a:gd name="textAreaTop" fmla="*/ 0 h 4133880"/>
              <a:gd name="textAreaBottom" fmla="*/ 4134240 h 4133880"/>
            </a:gdLst>
            <a:ahLst/>
            <a:rect l="textAreaLeft" t="textAreaTop" r="textAreaRight" b="textAreaBottom"/>
            <a:pathLst>
              <a:path fill="none" w="21600" h="33527">
                <a:moveTo>
                  <a:pt x="16504" y="0"/>
                </a:moveTo>
                <a:cubicBezTo>
                  <a:pt x="19795" y="3897"/>
                  <a:pt x="21600" y="8833"/>
                  <a:pt x="21600" y="13934"/>
                </a:cubicBezTo>
                <a:cubicBezTo>
                  <a:pt x="21600" y="22342"/>
                  <a:pt x="16719" y="29987"/>
                  <a:pt x="9092" y="-32009"/>
                </a:cubicBezTo>
              </a:path>
              <a:path stroke="0" w="21600" h="33527">
                <a:moveTo>
                  <a:pt x="16504" y="0"/>
                </a:moveTo>
                <a:cubicBezTo>
                  <a:pt x="19795" y="3897"/>
                  <a:pt x="21600" y="8833"/>
                  <a:pt x="21600" y="13934"/>
                </a:cubicBezTo>
                <a:cubicBezTo>
                  <a:pt x="21600" y="22342"/>
                  <a:pt x="16719" y="29987"/>
                  <a:pt x="9092" y="-32009"/>
                </a:cubicBezTo>
                <a:lnTo>
                  <a:pt x="0" y="13934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4" name="Arc 7"/>
          <p:cNvSpPr/>
          <p:nvPr/>
        </p:nvSpPr>
        <p:spPr>
          <a:xfrm flipH="1" rot="859800">
            <a:off x="4250880" y="495360"/>
            <a:ext cx="2903760" cy="5452560"/>
          </a:xfrm>
          <a:custGeom>
            <a:avLst/>
            <a:gdLst>
              <a:gd name="textAreaLeft" fmla="*/ 360 w 2903760"/>
              <a:gd name="textAreaRight" fmla="*/ 2904480 w 2903760"/>
              <a:gd name="textAreaTop" fmla="*/ 0 h 5452560"/>
              <a:gd name="textAreaBottom" fmla="*/ 5452560 h 5452560"/>
            </a:gdLst>
            <a:ahLst/>
            <a:rect l="textAreaLeft" t="textAreaTop" r="textAreaRight" b="textAreaBottom"/>
            <a:pathLst>
              <a:path fill="none" w="21600" h="41180">
                <a:moveTo>
                  <a:pt x="6459" y="0"/>
                </a:moveTo>
                <a:cubicBezTo>
                  <a:pt x="15468" y="2824"/>
                  <a:pt x="21600" y="11171"/>
                  <a:pt x="21600" y="20612"/>
                </a:cubicBezTo>
                <a:cubicBezTo>
                  <a:pt x="21600" y="30000"/>
                  <a:pt x="15535" y="-27223"/>
                  <a:pt x="6596" y="-24356"/>
                </a:cubicBezTo>
              </a:path>
              <a:path stroke="0" w="21600" h="41180">
                <a:moveTo>
                  <a:pt x="6459" y="0"/>
                </a:moveTo>
                <a:cubicBezTo>
                  <a:pt x="15468" y="2824"/>
                  <a:pt x="21600" y="11171"/>
                  <a:pt x="21600" y="20612"/>
                </a:cubicBezTo>
                <a:cubicBezTo>
                  <a:pt x="21600" y="30000"/>
                  <a:pt x="15535" y="-27223"/>
                  <a:pt x="6596" y="-24356"/>
                </a:cubicBezTo>
                <a:lnTo>
                  <a:pt x="0" y="20612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65" name="Group 8"/>
          <p:cNvGrpSpPr/>
          <p:nvPr/>
        </p:nvGrpSpPr>
        <p:grpSpPr>
          <a:xfrm>
            <a:off x="3314880" y="3429000"/>
            <a:ext cx="3817800" cy="73080"/>
            <a:chOff x="3314880" y="3429000"/>
            <a:chExt cx="3817800" cy="73080"/>
          </a:xfrm>
        </p:grpSpPr>
        <p:sp>
          <p:nvSpPr>
            <p:cNvPr id="1766" name="Oval 9"/>
            <p:cNvSpPr/>
            <p:nvPr/>
          </p:nvSpPr>
          <p:spPr>
            <a:xfrm>
              <a:off x="7059960" y="3429000"/>
              <a:ext cx="7272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67" name="Oval 10"/>
            <p:cNvSpPr/>
            <p:nvPr/>
          </p:nvSpPr>
          <p:spPr>
            <a:xfrm>
              <a:off x="3314880" y="3429000"/>
              <a:ext cx="7164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68" name="Freeform 11"/>
          <p:cNvSpPr/>
          <p:nvPr/>
        </p:nvSpPr>
        <p:spPr>
          <a:xfrm flipV="1">
            <a:off x="5259240" y="3212280"/>
            <a:ext cx="182880" cy="258840"/>
          </a:xfrm>
          <a:custGeom>
            <a:avLst/>
            <a:gdLst>
              <a:gd name="textAreaLeft" fmla="*/ 0 w 182880"/>
              <a:gd name="textAreaRight" fmla="*/ 183240 w 182880"/>
              <a:gd name="textAreaTop" fmla="*/ -360 h 258840"/>
              <a:gd name="textAreaBottom" fmla="*/ 258840 h 258840"/>
            </a:gdLst>
            <a:ahLst/>
            <a:rect l="textAreaLeft" t="textAreaTop" r="textAreaRight" b="textAreaBottom"/>
            <a:pathLst>
              <a:path w="115" h="163">
                <a:moveTo>
                  <a:pt x="112" y="0"/>
                </a:moveTo>
                <a:lnTo>
                  <a:pt x="115" y="163"/>
                </a:lnTo>
                <a:lnTo>
                  <a:pt x="0" y="160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9" name="Text Box 13"/>
          <p:cNvSpPr/>
          <p:nvPr/>
        </p:nvSpPr>
        <p:spPr>
          <a:xfrm>
            <a:off x="7997400" y="29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0" name="Text Box 14"/>
          <p:cNvSpPr/>
          <p:nvPr/>
        </p:nvSpPr>
        <p:spPr>
          <a:xfrm>
            <a:off x="5333040" y="5467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1" name="Text Box 15"/>
          <p:cNvSpPr/>
          <p:nvPr/>
        </p:nvSpPr>
        <p:spPr>
          <a:xfrm>
            <a:off x="306108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72" name="Group 86"/>
          <p:cNvGrpSpPr/>
          <p:nvPr/>
        </p:nvGrpSpPr>
        <p:grpSpPr>
          <a:xfrm>
            <a:off x="7885440" y="2276640"/>
            <a:ext cx="1075320" cy="581400"/>
            <a:chOff x="7885440" y="2276640"/>
            <a:chExt cx="1075320" cy="581400"/>
          </a:xfrm>
        </p:grpSpPr>
        <p:sp>
          <p:nvSpPr>
            <p:cNvPr id="1773" name="Text Box 12"/>
            <p:cNvSpPr/>
            <p:nvPr/>
          </p:nvSpPr>
          <p:spPr>
            <a:xfrm>
              <a:off x="7885440" y="227664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М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4" name="Object 17"/>
                <p:cNvSpPr txBox="1"/>
                <p:nvPr/>
              </p:nvSpPr>
              <p:spPr>
                <a:xfrm>
                  <a:off x="8316720" y="2347560"/>
                  <a:ext cx="419040" cy="50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75" name="Arc 18"/>
          <p:cNvSpPr/>
          <p:nvPr/>
        </p:nvSpPr>
        <p:spPr>
          <a:xfrm rot="20419800">
            <a:off x="3301560" y="479520"/>
            <a:ext cx="2903760" cy="5405400"/>
          </a:xfrm>
          <a:custGeom>
            <a:avLst/>
            <a:gdLst>
              <a:gd name="textAreaLeft" fmla="*/ 0 w 2903760"/>
              <a:gd name="textAreaRight" fmla="*/ 2904120 w 2903760"/>
              <a:gd name="textAreaTop" fmla="*/ 0 h 5405400"/>
              <a:gd name="textAreaBottom" fmla="*/ 5405760 h 5405400"/>
            </a:gdLst>
            <a:ahLst/>
            <a:rect l="textAreaLeft" t="textAreaTop" r="textAreaRight" b="textAreaBottom"/>
            <a:pathLst>
              <a:path fill="none" w="21600" h="40815">
                <a:moveTo>
                  <a:pt x="8664" y="-1"/>
                </a:moveTo>
                <a:cubicBezTo>
                  <a:pt x="16522" y="3441"/>
                  <a:pt x="21600" y="11206"/>
                  <a:pt x="21600" y="19786"/>
                </a:cubicBezTo>
                <a:cubicBezTo>
                  <a:pt x="21600" y="29814"/>
                  <a:pt x="14697" y="38524"/>
                  <a:pt x="4933" y="40814"/>
                </a:cubicBezTo>
              </a:path>
              <a:path stroke="0" w="21600" h="40815">
                <a:moveTo>
                  <a:pt x="8664" y="-1"/>
                </a:moveTo>
                <a:cubicBezTo>
                  <a:pt x="16522" y="3441"/>
                  <a:pt x="21600" y="11206"/>
                  <a:pt x="21600" y="19786"/>
                </a:cubicBezTo>
                <a:cubicBezTo>
                  <a:pt x="21600" y="29814"/>
                  <a:pt x="14697" y="38524"/>
                  <a:pt x="4933" y="40814"/>
                </a:cubicBezTo>
                <a:lnTo>
                  <a:pt x="0" y="19786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6" name="Oval 19"/>
          <p:cNvSpPr/>
          <p:nvPr/>
        </p:nvSpPr>
        <p:spPr>
          <a:xfrm flipH="1" flipV="1">
            <a:off x="5216400" y="1350360"/>
            <a:ext cx="698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7" name="Oval 20"/>
          <p:cNvSpPr/>
          <p:nvPr/>
        </p:nvSpPr>
        <p:spPr>
          <a:xfrm flipH="1" flipV="1">
            <a:off x="5213520" y="5722200"/>
            <a:ext cx="698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78" name="Group 21"/>
          <p:cNvGrpSpPr/>
          <p:nvPr/>
        </p:nvGrpSpPr>
        <p:grpSpPr>
          <a:xfrm>
            <a:off x="5249520" y="1380960"/>
            <a:ext cx="3469320" cy="2729880"/>
            <a:chOff x="5249520" y="1380960"/>
            <a:chExt cx="3469320" cy="2729880"/>
          </a:xfrm>
        </p:grpSpPr>
        <p:sp>
          <p:nvSpPr>
            <p:cNvPr id="1779" name="Freeform 22"/>
            <p:cNvSpPr/>
            <p:nvPr/>
          </p:nvSpPr>
          <p:spPr>
            <a:xfrm rot="3799800">
              <a:off x="6505200" y="1402920"/>
              <a:ext cx="1270080" cy="289404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0 h 2894040"/>
                <a:gd name="textAreaBottom" fmla="*/ 289440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780" name="Group 23"/>
            <p:cNvGrpSpPr/>
            <p:nvPr/>
          </p:nvGrpSpPr>
          <p:grpSpPr>
            <a:xfrm>
              <a:off x="5249520" y="1380960"/>
              <a:ext cx="3425040" cy="2729880"/>
              <a:chOff x="5249520" y="1380960"/>
              <a:chExt cx="3425040" cy="2729880"/>
            </a:xfrm>
          </p:grpSpPr>
          <p:grpSp>
            <p:nvGrpSpPr>
              <p:cNvPr id="1781" name="Group 24"/>
              <p:cNvGrpSpPr/>
              <p:nvPr/>
            </p:nvGrpSpPr>
            <p:grpSpPr>
              <a:xfrm>
                <a:off x="6009120" y="3565800"/>
                <a:ext cx="631800" cy="545040"/>
                <a:chOff x="6009120" y="3565800"/>
                <a:chExt cx="631800" cy="545040"/>
              </a:xfrm>
            </p:grpSpPr>
            <p:sp>
              <p:nvSpPr>
                <p:cNvPr id="1782" name="Freeform 25"/>
                <p:cNvSpPr/>
                <p:nvPr/>
              </p:nvSpPr>
              <p:spPr>
                <a:xfrm rot="4398600">
                  <a:off x="6124320" y="3565440"/>
                  <a:ext cx="401040" cy="539280"/>
                </a:xfrm>
                <a:custGeom>
                  <a:avLst/>
                  <a:gdLst>
                    <a:gd name="textAreaLeft" fmla="*/ 0 w 401040"/>
                    <a:gd name="textAreaRight" fmla="*/ 401400 w 401040"/>
                    <a:gd name="textAreaTop" fmla="*/ 0 h 539280"/>
                    <a:gd name="textAreaBottom" fmla="*/ 539640 h 53928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83" name="Freeform 26"/>
                <p:cNvSpPr/>
                <p:nvPr/>
              </p:nvSpPr>
              <p:spPr>
                <a:xfrm rot="4398600">
                  <a:off x="6121800" y="3862800"/>
                  <a:ext cx="183240" cy="248400"/>
                </a:xfrm>
                <a:custGeom>
                  <a:avLst/>
                  <a:gdLst>
                    <a:gd name="textAreaLeft" fmla="*/ 0 w 183240"/>
                    <a:gd name="textAreaRight" fmla="*/ 183600 w 18324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4" name="Group 27"/>
              <p:cNvGrpSpPr/>
              <p:nvPr/>
            </p:nvGrpSpPr>
            <p:grpSpPr>
              <a:xfrm>
                <a:off x="5249520" y="1380960"/>
                <a:ext cx="3425040" cy="2420280"/>
                <a:chOff x="5249520" y="1380960"/>
                <a:chExt cx="3425040" cy="2420280"/>
              </a:xfrm>
            </p:grpSpPr>
            <p:sp>
              <p:nvSpPr>
                <p:cNvPr id="1785" name="Freeform 28"/>
                <p:cNvSpPr/>
                <p:nvPr/>
              </p:nvSpPr>
              <p:spPr>
                <a:xfrm rot="3799800">
                  <a:off x="6789600" y="1553400"/>
                  <a:ext cx="1110600" cy="2417760"/>
                </a:xfrm>
                <a:custGeom>
                  <a:avLst/>
                  <a:gdLst>
                    <a:gd name="textAreaLeft" fmla="*/ 0 w 1110600"/>
                    <a:gd name="textAreaRight" fmla="*/ 1110960 w 1110600"/>
                    <a:gd name="textAreaTop" fmla="*/ 0 h 2417760"/>
                    <a:gd name="textAreaBottom" fmla="*/ 241812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786" name="Group 29"/>
                <p:cNvGrpSpPr/>
                <p:nvPr/>
              </p:nvGrpSpPr>
              <p:grpSpPr>
                <a:xfrm>
                  <a:off x="5249520" y="1380960"/>
                  <a:ext cx="2829240" cy="957240"/>
                  <a:chOff x="5249520" y="1380960"/>
                  <a:chExt cx="2829240" cy="957240"/>
                </a:xfrm>
              </p:grpSpPr>
              <p:sp>
                <p:nvSpPr>
                  <p:cNvPr id="1787" name="Freeform 30"/>
                  <p:cNvSpPr/>
                  <p:nvPr/>
                </p:nvSpPr>
                <p:spPr>
                  <a:xfrm rot="5851800">
                    <a:off x="6455880" y="364320"/>
                    <a:ext cx="357840" cy="274788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0 h 2747880"/>
                      <a:gd name="textAreaBottom" fmla="*/ 2748240 h 274788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8" name="Oval 31"/>
                  <p:cNvSpPr/>
                  <p:nvPr/>
                </p:nvSpPr>
                <p:spPr>
                  <a:xfrm rot="5851800">
                    <a:off x="7636680" y="1897920"/>
                    <a:ext cx="42912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1789" name="Group 32"/>
          <p:cNvGrpSpPr/>
          <p:nvPr/>
        </p:nvGrpSpPr>
        <p:grpSpPr>
          <a:xfrm>
            <a:off x="5230440" y="-97200"/>
            <a:ext cx="3148920" cy="3589200"/>
            <a:chOff x="5230440" y="-97200"/>
            <a:chExt cx="3148920" cy="3589200"/>
          </a:xfrm>
        </p:grpSpPr>
        <p:sp>
          <p:nvSpPr>
            <p:cNvPr id="1790" name="Freeform 33"/>
            <p:cNvSpPr/>
            <p:nvPr/>
          </p:nvSpPr>
          <p:spPr>
            <a:xfrm flipH="1" rot="3547800">
              <a:off x="6203880" y="-272160"/>
              <a:ext cx="1234080" cy="2893680"/>
            </a:xfrm>
            <a:custGeom>
              <a:avLst/>
              <a:gdLst>
                <a:gd name="textAreaLeft" fmla="*/ 360 w 1234080"/>
                <a:gd name="textAreaRight" fmla="*/ 1234800 w 1234080"/>
                <a:gd name="textAreaTop" fmla="*/ 0 h 2893680"/>
                <a:gd name="textAreaBottom" fmla="*/ 2894040 h 28936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791" name="Group 34"/>
            <p:cNvGrpSpPr/>
            <p:nvPr/>
          </p:nvGrpSpPr>
          <p:grpSpPr>
            <a:xfrm>
              <a:off x="5230440" y="-34200"/>
              <a:ext cx="3087720" cy="3526200"/>
              <a:chOff x="5230440" y="-34200"/>
              <a:chExt cx="3087720" cy="3526200"/>
            </a:xfrm>
          </p:grpSpPr>
          <p:grpSp>
            <p:nvGrpSpPr>
              <p:cNvPr id="1792" name="Group 35"/>
              <p:cNvGrpSpPr/>
              <p:nvPr/>
            </p:nvGrpSpPr>
            <p:grpSpPr>
              <a:xfrm>
                <a:off x="5230440" y="1022400"/>
                <a:ext cx="666000" cy="650520"/>
                <a:chOff x="5230440" y="1022400"/>
                <a:chExt cx="666000" cy="650520"/>
              </a:xfrm>
            </p:grpSpPr>
            <p:sp>
              <p:nvSpPr>
                <p:cNvPr id="1793" name="Freeform 36"/>
                <p:cNvSpPr/>
                <p:nvPr/>
              </p:nvSpPr>
              <p:spPr>
                <a:xfrm flipH="1" rot="2949000">
                  <a:off x="5366160" y="1078560"/>
                  <a:ext cx="394560" cy="538200"/>
                </a:xfrm>
                <a:custGeom>
                  <a:avLst/>
                  <a:gdLst>
                    <a:gd name="textAreaLeft" fmla="*/ 360 w 394560"/>
                    <a:gd name="textAreaRight" fmla="*/ 395280 w 39456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94" name="Freeform 37"/>
                <p:cNvSpPr/>
                <p:nvPr/>
              </p:nvSpPr>
              <p:spPr>
                <a:xfrm flipH="1" rot="2949000">
                  <a:off x="5292720" y="1246680"/>
                  <a:ext cx="180360" cy="247680"/>
                </a:xfrm>
                <a:custGeom>
                  <a:avLst/>
                  <a:gdLst>
                    <a:gd name="textAreaLeft" fmla="*/ 0 w 180360"/>
                    <a:gd name="textAreaRight" fmla="*/ 180360 w 1803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95" name="Group 38"/>
              <p:cNvGrpSpPr/>
              <p:nvPr/>
            </p:nvGrpSpPr>
            <p:grpSpPr>
              <a:xfrm>
                <a:off x="5689800" y="-34200"/>
                <a:ext cx="2628360" cy="3526200"/>
                <a:chOff x="5689800" y="-34200"/>
                <a:chExt cx="2628360" cy="3526200"/>
              </a:xfrm>
            </p:grpSpPr>
            <p:sp>
              <p:nvSpPr>
                <p:cNvPr id="1796" name="Freeform 39"/>
                <p:cNvSpPr/>
                <p:nvPr/>
              </p:nvSpPr>
              <p:spPr>
                <a:xfrm flipH="1" rot="3547800">
                  <a:off x="6464160" y="-159480"/>
                  <a:ext cx="1078920" cy="2417400"/>
                </a:xfrm>
                <a:custGeom>
                  <a:avLst/>
                  <a:gdLst>
                    <a:gd name="textAreaLeft" fmla="*/ -360 w 1078920"/>
                    <a:gd name="textAreaRight" fmla="*/ 1078920 w 1078920"/>
                    <a:gd name="textAreaTop" fmla="*/ 0 h 2417400"/>
                    <a:gd name="textAreaBottom" fmla="*/ 2417760 h 241740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797" name="Group 40"/>
                <p:cNvGrpSpPr/>
                <p:nvPr/>
              </p:nvGrpSpPr>
              <p:grpSpPr>
                <a:xfrm>
                  <a:off x="6728760" y="697320"/>
                  <a:ext cx="1473120" cy="2794680"/>
                  <a:chOff x="6728760" y="697320"/>
                  <a:chExt cx="1473120" cy="2794680"/>
                </a:xfrm>
              </p:grpSpPr>
              <p:sp>
                <p:nvSpPr>
                  <p:cNvPr id="1798" name="Freeform 41"/>
                  <p:cNvSpPr/>
                  <p:nvPr/>
                </p:nvSpPr>
                <p:spPr>
                  <a:xfrm flipH="1" rot="1495200">
                    <a:off x="7291440" y="798840"/>
                    <a:ext cx="347760" cy="2747880"/>
                  </a:xfrm>
                  <a:custGeom>
                    <a:avLst/>
                    <a:gdLst>
                      <a:gd name="textAreaLeft" fmla="*/ 0 w 347760"/>
                      <a:gd name="textAreaRight" fmla="*/ 347760 w 347760"/>
                      <a:gd name="textAreaTop" fmla="*/ 0 h 2747880"/>
                      <a:gd name="textAreaBottom" fmla="*/ 2748240 h 274788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9" name="Oval 42"/>
                  <p:cNvSpPr/>
                  <p:nvPr/>
                </p:nvSpPr>
                <p:spPr>
                  <a:xfrm flipH="1" rot="1495200">
                    <a:off x="7617960" y="766080"/>
                    <a:ext cx="41688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1800" name="Group 43"/>
          <p:cNvGrpSpPr/>
          <p:nvPr/>
        </p:nvGrpSpPr>
        <p:grpSpPr>
          <a:xfrm>
            <a:off x="2069640" y="-165240"/>
            <a:ext cx="3172680" cy="3640680"/>
            <a:chOff x="2069640" y="-165240"/>
            <a:chExt cx="3172680" cy="3640680"/>
          </a:xfrm>
        </p:grpSpPr>
        <p:sp>
          <p:nvSpPr>
            <p:cNvPr id="1801" name="Freeform 44"/>
            <p:cNvSpPr/>
            <p:nvPr/>
          </p:nvSpPr>
          <p:spPr>
            <a:xfrm rot="18094800">
              <a:off x="2999880" y="-313200"/>
              <a:ext cx="1270080" cy="289404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0 h 2894040"/>
                <a:gd name="textAreaBottom" fmla="*/ 289440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802" name="Group 45"/>
            <p:cNvGrpSpPr/>
            <p:nvPr/>
          </p:nvGrpSpPr>
          <p:grpSpPr>
            <a:xfrm>
              <a:off x="2132280" y="-99720"/>
              <a:ext cx="3110040" cy="3575160"/>
              <a:chOff x="2132280" y="-99720"/>
              <a:chExt cx="3110040" cy="3575160"/>
            </a:xfrm>
          </p:grpSpPr>
          <p:grpSp>
            <p:nvGrpSpPr>
              <p:cNvPr id="1803" name="Group 46"/>
              <p:cNvGrpSpPr/>
              <p:nvPr/>
            </p:nvGrpSpPr>
            <p:grpSpPr>
              <a:xfrm>
                <a:off x="4566960" y="976680"/>
                <a:ext cx="675360" cy="656280"/>
                <a:chOff x="4566960" y="976680"/>
                <a:chExt cx="675360" cy="656280"/>
              </a:xfrm>
            </p:grpSpPr>
            <p:sp>
              <p:nvSpPr>
                <p:cNvPr id="1804" name="Freeform 47"/>
                <p:cNvSpPr/>
                <p:nvPr/>
              </p:nvSpPr>
              <p:spPr>
                <a:xfrm rot="18693600">
                  <a:off x="4697280" y="1038600"/>
                  <a:ext cx="405720" cy="531720"/>
                </a:xfrm>
                <a:custGeom>
                  <a:avLst/>
                  <a:gdLst>
                    <a:gd name="textAreaLeft" fmla="*/ 0 w 405720"/>
                    <a:gd name="textAreaRight" fmla="*/ 406080 w 40572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05" name="Freeform 48"/>
                <p:cNvSpPr/>
                <p:nvPr/>
              </p:nvSpPr>
              <p:spPr>
                <a:xfrm rot="18693600">
                  <a:off x="4996440" y="1205280"/>
                  <a:ext cx="185400" cy="24444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244440"/>
                    <a:gd name="textAreaBottom" fmla="*/ 244440 h 24444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06" name="Group 49"/>
              <p:cNvGrpSpPr/>
              <p:nvPr/>
            </p:nvGrpSpPr>
            <p:grpSpPr>
              <a:xfrm>
                <a:off x="2132280" y="-99720"/>
                <a:ext cx="2641320" cy="3575160"/>
                <a:chOff x="2132280" y="-99720"/>
                <a:chExt cx="2641320" cy="3575160"/>
              </a:xfrm>
            </p:grpSpPr>
            <p:sp>
              <p:nvSpPr>
                <p:cNvPr id="1807" name="Freeform 50"/>
                <p:cNvSpPr/>
                <p:nvPr/>
              </p:nvSpPr>
              <p:spPr>
                <a:xfrm rot="18094800">
                  <a:off x="2897640" y="-202320"/>
                  <a:ext cx="1110600" cy="2417760"/>
                </a:xfrm>
                <a:custGeom>
                  <a:avLst/>
                  <a:gdLst>
                    <a:gd name="textAreaLeft" fmla="*/ 0 w 1110600"/>
                    <a:gd name="textAreaRight" fmla="*/ 1110960 w 1110600"/>
                    <a:gd name="textAreaTop" fmla="*/ 0 h 2417760"/>
                    <a:gd name="textAreaBottom" fmla="*/ 241812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808" name="Group 51"/>
                <p:cNvGrpSpPr/>
                <p:nvPr/>
              </p:nvGrpSpPr>
              <p:grpSpPr>
                <a:xfrm>
                  <a:off x="2228760" y="653400"/>
                  <a:ext cx="1453680" cy="2822040"/>
                  <a:chOff x="2228760" y="653400"/>
                  <a:chExt cx="1453680" cy="2822040"/>
                </a:xfrm>
              </p:grpSpPr>
              <p:sp>
                <p:nvSpPr>
                  <p:cNvPr id="1809" name="Freeform 52"/>
                  <p:cNvSpPr/>
                  <p:nvPr/>
                </p:nvSpPr>
                <p:spPr>
                  <a:xfrm rot="20147400">
                    <a:off x="2776320" y="775080"/>
                    <a:ext cx="357840" cy="274788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0 h 2747880"/>
                      <a:gd name="textAreaBottom" fmla="*/ 2748240 h 274788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0" name="Oval 53"/>
                  <p:cNvSpPr/>
                  <p:nvPr/>
                </p:nvSpPr>
                <p:spPr>
                  <a:xfrm rot="20147400">
                    <a:off x="2407680" y="723600"/>
                    <a:ext cx="42912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1811" name="Text Box 57"/>
          <p:cNvSpPr/>
          <p:nvPr/>
        </p:nvSpPr>
        <p:spPr>
          <a:xfrm>
            <a:off x="7061760" y="3378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2" name="Text Box 58"/>
          <p:cNvSpPr/>
          <p:nvPr/>
        </p:nvSpPr>
        <p:spPr>
          <a:xfrm>
            <a:off x="479016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3" name="Line 59"/>
          <p:cNvSpPr/>
          <p:nvPr/>
        </p:nvSpPr>
        <p:spPr>
          <a:xfrm>
            <a:off x="6267600" y="4365720"/>
            <a:ext cx="2156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4" name="Line 60"/>
          <p:cNvSpPr/>
          <p:nvPr/>
        </p:nvSpPr>
        <p:spPr>
          <a:xfrm flipV="1">
            <a:off x="4074120" y="4397040"/>
            <a:ext cx="2102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5" name="Freeform 61"/>
          <p:cNvSpPr/>
          <p:nvPr/>
        </p:nvSpPr>
        <p:spPr>
          <a:xfrm>
            <a:off x="5102280" y="3070080"/>
            <a:ext cx="301680" cy="863640"/>
          </a:xfrm>
          <a:custGeom>
            <a:avLst/>
            <a:gdLst>
              <a:gd name="textAreaLeft" fmla="*/ 0 w 301680"/>
              <a:gd name="textAreaRight" fmla="*/ 302040 w 3016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190" h="544">
                <a:moveTo>
                  <a:pt x="144" y="0"/>
                </a:moveTo>
                <a:cubicBezTo>
                  <a:pt x="72" y="34"/>
                  <a:pt x="0" y="68"/>
                  <a:pt x="8" y="136"/>
                </a:cubicBezTo>
                <a:cubicBezTo>
                  <a:pt x="16" y="204"/>
                  <a:pt x="190" y="340"/>
                  <a:pt x="190" y="408"/>
                </a:cubicBezTo>
                <a:cubicBezTo>
                  <a:pt x="190" y="476"/>
                  <a:pt x="99" y="510"/>
                  <a:pt x="8" y="5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16" name="Group 62"/>
          <p:cNvGrpSpPr/>
          <p:nvPr/>
        </p:nvGrpSpPr>
        <p:grpSpPr>
          <a:xfrm>
            <a:off x="611280" y="4365720"/>
            <a:ext cx="1512360" cy="369720"/>
            <a:chOff x="611280" y="4365720"/>
            <a:chExt cx="1512360" cy="369720"/>
          </a:xfrm>
        </p:grpSpPr>
        <mc:AlternateContent>
          <mc:Choice xmlns:a14="http://schemas.microsoft.com/office/drawing/2010/main" Requires="a14">
            <p:sp>
              <p:nvSpPr>
                <p:cNvPr id="1817" name="Object 63"/>
                <p:cNvSpPr txBox="1"/>
                <p:nvPr/>
              </p:nvSpPr>
              <p:spPr>
                <a:xfrm>
                  <a:off x="1765440" y="4365720"/>
                  <a:ext cx="3582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18" name="Object 64"/>
                <p:cNvSpPr txBox="1"/>
                <p:nvPr/>
              </p:nvSpPr>
              <p:spPr>
                <a:xfrm>
                  <a:off x="611280" y="4365720"/>
                  <a:ext cx="3582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19" name="Group 66"/>
          <p:cNvGrpSpPr/>
          <p:nvPr/>
        </p:nvGrpSpPr>
        <p:grpSpPr>
          <a:xfrm>
            <a:off x="1187280" y="5324400"/>
            <a:ext cx="1485360" cy="459720"/>
            <a:chOff x="1187280" y="5324400"/>
            <a:chExt cx="1485360" cy="459720"/>
          </a:xfrm>
        </p:grpSpPr>
        <p:sp>
          <p:nvSpPr>
            <p:cNvPr id="1820" name="Text Box 67"/>
            <p:cNvSpPr/>
            <p:nvPr/>
          </p:nvSpPr>
          <p:spPr>
            <a:xfrm>
              <a:off x="1561320" y="532440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1 =    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1" name="Object 68"/>
                <p:cNvSpPr txBox="1"/>
                <p:nvPr/>
              </p:nvSpPr>
              <p:spPr>
                <a:xfrm>
                  <a:off x="1187280" y="5373360"/>
                  <a:ext cx="5396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2" name="Object 69"/>
                <p:cNvSpPr txBox="1"/>
                <p:nvPr/>
              </p:nvSpPr>
              <p:spPr>
                <a:xfrm>
                  <a:off x="2132640" y="5373360"/>
                  <a:ext cx="540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3" name="Freeform 70"/>
          <p:cNvSpPr/>
          <p:nvPr/>
        </p:nvSpPr>
        <p:spPr>
          <a:xfrm>
            <a:off x="3346560" y="1405080"/>
            <a:ext cx="3765600" cy="2074680"/>
          </a:xfrm>
          <a:custGeom>
            <a:avLst/>
            <a:gdLst>
              <a:gd name="textAreaLeft" fmla="*/ 0 w 3765600"/>
              <a:gd name="textAreaRight" fmla="*/ 3765960 w 3765600"/>
              <a:gd name="textAreaTop" fmla="*/ 0 h 2074680"/>
              <a:gd name="textAreaBottom" fmla="*/ 2075040 h 2074680"/>
            </a:gdLst>
            <a:ahLst/>
            <a:rect l="textAreaLeft" t="textAreaTop" r="textAreaRight" b="textAreaBottom"/>
            <a:pathLst>
              <a:path w="2372" h="1307">
                <a:moveTo>
                  <a:pt x="0" y="1303"/>
                </a:moveTo>
                <a:lnTo>
                  <a:pt x="1198" y="0"/>
                </a:lnTo>
                <a:lnTo>
                  <a:pt x="2372" y="1299"/>
                </a:lnTo>
                <a:lnTo>
                  <a:pt x="4" y="1307"/>
                </a:lnTo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24" name="Group 71"/>
          <p:cNvGrpSpPr/>
          <p:nvPr/>
        </p:nvGrpSpPr>
        <p:grpSpPr>
          <a:xfrm>
            <a:off x="4860720" y="1700280"/>
            <a:ext cx="817200" cy="586800"/>
            <a:chOff x="4860720" y="1700280"/>
            <a:chExt cx="817200" cy="586800"/>
          </a:xfrm>
        </p:grpSpPr>
        <p:sp>
          <p:nvSpPr>
            <p:cNvPr id="1825" name="Text Box 72"/>
            <p:cNvSpPr/>
            <p:nvPr/>
          </p:nvSpPr>
          <p:spPr>
            <a:xfrm>
              <a:off x="4860720" y="1827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26" name="Text Box 73"/>
            <p:cNvSpPr/>
            <p:nvPr/>
          </p:nvSpPr>
          <p:spPr>
            <a:xfrm>
              <a:off x="5344920" y="1827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27" name="Freeform 74"/>
            <p:cNvSpPr/>
            <p:nvPr/>
          </p:nvSpPr>
          <p:spPr>
            <a:xfrm>
              <a:off x="4998240" y="1700280"/>
              <a:ext cx="276480" cy="1450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181" h="104">
                  <a:moveTo>
                    <a:pt x="0" y="0"/>
                  </a:moveTo>
                  <a:cubicBezTo>
                    <a:pt x="11" y="15"/>
                    <a:pt x="39" y="74"/>
                    <a:pt x="69" y="89"/>
                  </a:cubicBezTo>
                  <a:cubicBezTo>
                    <a:pt x="99" y="104"/>
                    <a:pt x="158" y="91"/>
                    <a:pt x="181" y="9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28" name="Freeform 75"/>
            <p:cNvSpPr/>
            <p:nvPr/>
          </p:nvSpPr>
          <p:spPr>
            <a:xfrm flipH="1">
              <a:off x="5274720" y="1700280"/>
              <a:ext cx="276480" cy="145080"/>
            </a:xfrm>
            <a:custGeom>
              <a:avLst/>
              <a:gdLst>
                <a:gd name="textAreaLeft" fmla="*/ 360 w 276480"/>
                <a:gd name="textAreaRight" fmla="*/ 277200 w 27648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181" h="104">
                  <a:moveTo>
                    <a:pt x="0" y="0"/>
                  </a:moveTo>
                  <a:cubicBezTo>
                    <a:pt x="11" y="15"/>
                    <a:pt x="39" y="74"/>
                    <a:pt x="69" y="89"/>
                  </a:cubicBezTo>
                  <a:cubicBezTo>
                    <a:pt x="99" y="104"/>
                    <a:pt x="158" y="91"/>
                    <a:pt x="181" y="9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829" name="Line 76"/>
          <p:cNvSpPr/>
          <p:nvPr/>
        </p:nvSpPr>
        <p:spPr>
          <a:xfrm>
            <a:off x="4106880" y="2421000"/>
            <a:ext cx="21600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0" name="Line 77"/>
          <p:cNvSpPr/>
          <p:nvPr/>
        </p:nvSpPr>
        <p:spPr>
          <a:xfrm flipV="1">
            <a:off x="6162840" y="2381040"/>
            <a:ext cx="210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1" name="Freeform 78"/>
          <p:cNvSpPr/>
          <p:nvPr/>
        </p:nvSpPr>
        <p:spPr>
          <a:xfrm>
            <a:off x="5246640" y="617400"/>
            <a:ext cx="1800" cy="5381640"/>
          </a:xfrm>
          <a:custGeom>
            <a:avLst/>
            <a:gdLst>
              <a:gd name="textAreaLeft" fmla="*/ 0 w 1800"/>
              <a:gd name="textAreaRight" fmla="*/ 2160 w 1800"/>
              <a:gd name="textAreaTop" fmla="*/ 0 h 5381640"/>
              <a:gd name="textAreaBottom" fmla="*/ 5381640 h 5381640"/>
            </a:gdLst>
            <a:ahLst/>
            <a:rect l="textAreaLeft" t="textAreaTop" r="textAreaRight" b="textAreaBottom"/>
            <a:pathLst>
              <a:path w="1" h="3390">
                <a:moveTo>
                  <a:pt x="0" y="0"/>
                </a:moveTo>
                <a:lnTo>
                  <a:pt x="0" y="33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32" name="Group 85"/>
          <p:cNvGrpSpPr/>
          <p:nvPr/>
        </p:nvGrpSpPr>
        <p:grpSpPr>
          <a:xfrm>
            <a:off x="-82800" y="5877000"/>
            <a:ext cx="9347760" cy="865080"/>
            <a:chOff x="-82800" y="5877000"/>
            <a:chExt cx="9347760" cy="865080"/>
          </a:xfrm>
        </p:grpSpPr>
        <p:sp>
          <p:nvSpPr>
            <p:cNvPr id="1833" name="Text Box 80"/>
            <p:cNvSpPr/>
            <p:nvPr/>
          </p:nvSpPr>
          <p:spPr>
            <a:xfrm>
              <a:off x="-82800" y="5877000"/>
              <a:ext cx="934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В р/б треугольнике АМВ отрезок МС является биссектрисой, 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а значит, и высотой.   Тогда, </a:t>
              </a:r>
              <a:r>
                <a:rPr b="0" i="1" lang="ru-RU" sz="2400" spc="-1" strike="noStrike">
                  <a:solidFill>
                    <a:srgbClr val="000066"/>
                  </a:solidFill>
                  <a:latin typeface="Tahoma"/>
                </a:rPr>
                <a:t>а     </a:t>
              </a: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М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N.</a:t>
              </a: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4" name="Object 81"/>
                <p:cNvSpPr txBox="1"/>
                <p:nvPr/>
              </p:nvSpPr>
              <p:spPr>
                <a:xfrm>
                  <a:off x="4662360" y="6165720"/>
                  <a:ext cx="53208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1835" name="Text Box 82"/>
          <p:cNvSpPr/>
          <p:nvPr/>
        </p:nvSpPr>
        <p:spPr>
          <a:xfrm>
            <a:off x="4502160" y="1125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36" name="Group 54"/>
          <p:cNvGrpSpPr/>
          <p:nvPr/>
        </p:nvGrpSpPr>
        <p:grpSpPr>
          <a:xfrm>
            <a:off x="3862440" y="189000"/>
            <a:ext cx="3211920" cy="459720"/>
            <a:chOff x="3862440" y="189000"/>
            <a:chExt cx="3211920" cy="459720"/>
          </a:xfrm>
        </p:grpSpPr>
        <p:sp>
          <p:nvSpPr>
            <p:cNvPr id="1837" name="Rectangle 55"/>
            <p:cNvSpPr/>
            <p:nvPr/>
          </p:nvSpPr>
          <p:spPr>
            <a:xfrm>
              <a:off x="3862440" y="189000"/>
              <a:ext cx="32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Докажем, что </a:t>
              </a:r>
              <a:r>
                <a:rPr b="0" i="1" lang="ru-RU" sz="2400" spc="-1" strike="noStrike">
                  <a:solidFill>
                    <a:srgbClr val="000066"/>
                  </a:solidFill>
                  <a:latin typeface="Tahoma"/>
                </a:rPr>
                <a:t>а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MN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8" name="Object 56"/>
                <p:cNvSpPr txBox="1"/>
                <p:nvPr/>
              </p:nvSpPr>
              <p:spPr>
                <a:xfrm>
                  <a:off x="6227640" y="261720"/>
                  <a:ext cx="333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1839" name="Text Box 2"/>
          <p:cNvSpPr/>
          <p:nvPr/>
        </p:nvSpPr>
        <p:spPr>
          <a:xfrm>
            <a:off x="611280" y="333360"/>
            <a:ext cx="273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осмотрим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а расположени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циркуле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АМ=А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=MB=BN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ак равные радиусы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М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-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бщая сторо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=  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N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о трем сторона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20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3500"/>
                            </p:stCondLst>
                            <p:childTnLst>
                              <p:par>
                                <p:cTn id="9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2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2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20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2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1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1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1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1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1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18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1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4" dur="1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8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8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6" dur="20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9" dur="20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2"/>
          <p:cNvSpPr/>
          <p:nvPr/>
        </p:nvSpPr>
        <p:spPr>
          <a:xfrm>
            <a:off x="2019240" y="6237360"/>
            <a:ext cx="60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окажем, что О – середина отрезка А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41" name="Group 3"/>
          <p:cNvGrpSpPr/>
          <p:nvPr/>
        </p:nvGrpSpPr>
        <p:grpSpPr>
          <a:xfrm>
            <a:off x="3087360" y="656640"/>
            <a:ext cx="2851560" cy="3070080"/>
            <a:chOff x="3087360" y="656640"/>
            <a:chExt cx="2851560" cy="3070080"/>
          </a:xfrm>
        </p:grpSpPr>
        <p:sp>
          <p:nvSpPr>
            <p:cNvPr id="1842" name="Freeform 4"/>
            <p:cNvSpPr/>
            <p:nvPr/>
          </p:nvSpPr>
          <p:spPr>
            <a:xfrm rot="21001200">
              <a:off x="4389120" y="744480"/>
              <a:ext cx="1270080" cy="289404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0 h 2894040"/>
                <a:gd name="textAreaBottom" fmla="*/ 289440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843" name="Group 5"/>
            <p:cNvGrpSpPr/>
            <p:nvPr/>
          </p:nvGrpSpPr>
          <p:grpSpPr>
            <a:xfrm>
              <a:off x="3087360" y="683640"/>
              <a:ext cx="2851560" cy="2999160"/>
              <a:chOff x="3087360" y="683640"/>
              <a:chExt cx="2851560" cy="2999160"/>
            </a:xfrm>
          </p:grpSpPr>
          <p:grpSp>
            <p:nvGrpSpPr>
              <p:cNvPr id="1844" name="Group 6"/>
              <p:cNvGrpSpPr/>
              <p:nvPr/>
            </p:nvGrpSpPr>
            <p:grpSpPr>
              <a:xfrm>
                <a:off x="5533200" y="2985840"/>
                <a:ext cx="405720" cy="544680"/>
                <a:chOff x="5533200" y="2985840"/>
                <a:chExt cx="405720" cy="544680"/>
              </a:xfrm>
            </p:grpSpPr>
            <p:sp>
              <p:nvSpPr>
                <p:cNvPr id="1845" name="Freeform 7"/>
                <p:cNvSpPr/>
                <p:nvPr/>
              </p:nvSpPr>
              <p:spPr>
                <a:xfrm>
                  <a:off x="5533200" y="2985840"/>
                  <a:ext cx="405720" cy="538200"/>
                </a:xfrm>
                <a:custGeom>
                  <a:avLst/>
                  <a:gdLst>
                    <a:gd name="textAreaLeft" fmla="*/ 0 w 405720"/>
                    <a:gd name="textAreaRight" fmla="*/ 406080 w 40572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46" name="Freeform 8"/>
                <p:cNvSpPr/>
                <p:nvPr/>
              </p:nvSpPr>
              <p:spPr>
                <a:xfrm>
                  <a:off x="5751720" y="3282840"/>
                  <a:ext cx="185400" cy="24768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7" name="Group 9"/>
              <p:cNvGrpSpPr/>
              <p:nvPr/>
            </p:nvGrpSpPr>
            <p:grpSpPr>
              <a:xfrm>
                <a:off x="3087360" y="683640"/>
                <a:ext cx="2667960" cy="2999160"/>
                <a:chOff x="3087360" y="683640"/>
                <a:chExt cx="2667960" cy="2999160"/>
              </a:xfrm>
            </p:grpSpPr>
            <p:sp>
              <p:nvSpPr>
                <p:cNvPr id="1848" name="Freeform 10"/>
                <p:cNvSpPr/>
                <p:nvPr/>
              </p:nvSpPr>
              <p:spPr>
                <a:xfrm rot="21001200">
                  <a:off x="4443480" y="761400"/>
                  <a:ext cx="1110600" cy="2417760"/>
                </a:xfrm>
                <a:custGeom>
                  <a:avLst/>
                  <a:gdLst>
                    <a:gd name="textAreaLeft" fmla="*/ 0 w 1110600"/>
                    <a:gd name="textAreaRight" fmla="*/ 1110960 w 1110600"/>
                    <a:gd name="textAreaTop" fmla="*/ 0 h 2417760"/>
                    <a:gd name="textAreaBottom" fmla="*/ 241812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849" name="Group 11"/>
                <p:cNvGrpSpPr/>
                <p:nvPr/>
              </p:nvGrpSpPr>
              <p:grpSpPr>
                <a:xfrm>
                  <a:off x="3087360" y="1023480"/>
                  <a:ext cx="1699920" cy="2659320"/>
                  <a:chOff x="3087360" y="1023480"/>
                  <a:chExt cx="1699920" cy="2659320"/>
                </a:xfrm>
              </p:grpSpPr>
              <p:sp>
                <p:nvSpPr>
                  <p:cNvPr id="1850" name="Freeform 12"/>
                  <p:cNvSpPr/>
                  <p:nvPr/>
                </p:nvSpPr>
                <p:spPr>
                  <a:xfrm rot="1453200">
                    <a:off x="3634920" y="982080"/>
                    <a:ext cx="357840" cy="274788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0 h 2747880"/>
                      <a:gd name="textAreaBottom" fmla="*/ 2748240 h 274788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51" name="Oval 13"/>
                  <p:cNvSpPr/>
                  <p:nvPr/>
                </p:nvSpPr>
                <p:spPr>
                  <a:xfrm rot="1453200">
                    <a:off x="4294440" y="1093680"/>
                    <a:ext cx="42912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1852" name="Group 15"/>
          <p:cNvGrpSpPr/>
          <p:nvPr/>
        </p:nvGrpSpPr>
        <p:grpSpPr>
          <a:xfrm>
            <a:off x="4428720" y="404640"/>
            <a:ext cx="418320" cy="5571360"/>
            <a:chOff x="4428720" y="404640"/>
            <a:chExt cx="418320" cy="5571360"/>
          </a:xfrm>
        </p:grpSpPr>
        <p:sp>
          <p:nvSpPr>
            <p:cNvPr id="1853" name="Text Box 16"/>
            <p:cNvSpPr/>
            <p:nvPr/>
          </p:nvSpPr>
          <p:spPr>
            <a:xfrm>
              <a:off x="4428720" y="5516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54" name="Text Box 17"/>
            <p:cNvSpPr/>
            <p:nvPr/>
          </p:nvSpPr>
          <p:spPr>
            <a:xfrm>
              <a:off x="4473720" y="404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855" name="Arc 19"/>
          <p:cNvSpPr/>
          <p:nvPr/>
        </p:nvSpPr>
        <p:spPr>
          <a:xfrm rot="20740200">
            <a:off x="3171600" y="556920"/>
            <a:ext cx="2746080" cy="5418000"/>
          </a:xfrm>
          <a:custGeom>
            <a:avLst/>
            <a:gdLst>
              <a:gd name="textAreaLeft" fmla="*/ 0 w 2746080"/>
              <a:gd name="textAreaRight" fmla="*/ 2746440 w 2746080"/>
              <a:gd name="textAreaTop" fmla="*/ 0 h 5418000"/>
              <a:gd name="textAreaBottom" fmla="*/ 5418360 h 5418000"/>
            </a:gdLst>
            <a:ahLst/>
            <a:rect l="textAreaLeft" t="textAreaTop" r="textAreaRight" b="textAreaBottom"/>
            <a:pathLst>
              <a:path fill="none" w="22069" h="41179">
                <a:moveTo>
                  <a:pt x="9591" y="-1"/>
                </a:moveTo>
                <a:cubicBezTo>
                  <a:pt x="17202" y="3545"/>
                  <a:pt x="22069" y="11181"/>
                  <a:pt x="22069" y="19579"/>
                </a:cubicBezTo>
                <a:cubicBezTo>
                  <a:pt x="22069" y="31508"/>
                  <a:pt x="12398" y="41179"/>
                  <a:pt x="469" y="41179"/>
                </a:cubicBezTo>
                <a:cubicBezTo>
                  <a:pt x="312" y="41179"/>
                  <a:pt x="156" y="41177"/>
                  <a:pt x="0" y="41173"/>
                </a:cubicBezTo>
              </a:path>
              <a:path stroke="0" w="22069" h="41179">
                <a:moveTo>
                  <a:pt x="9591" y="-1"/>
                </a:moveTo>
                <a:cubicBezTo>
                  <a:pt x="17202" y="3545"/>
                  <a:pt x="22069" y="11181"/>
                  <a:pt x="22069" y="19579"/>
                </a:cubicBezTo>
                <a:cubicBezTo>
                  <a:pt x="22069" y="31508"/>
                  <a:pt x="12398" y="41179"/>
                  <a:pt x="469" y="41179"/>
                </a:cubicBezTo>
                <a:cubicBezTo>
                  <a:pt x="312" y="41179"/>
                  <a:pt x="156" y="41177"/>
                  <a:pt x="0" y="41173"/>
                </a:cubicBezTo>
                <a:lnTo>
                  <a:pt x="469" y="19579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6" name="Arc 20"/>
          <p:cNvSpPr/>
          <p:nvPr/>
        </p:nvSpPr>
        <p:spPr>
          <a:xfrm flipH="1" rot="859800">
            <a:off x="3153600" y="500040"/>
            <a:ext cx="2808360" cy="5513760"/>
          </a:xfrm>
          <a:custGeom>
            <a:avLst/>
            <a:gdLst>
              <a:gd name="textAreaLeft" fmla="*/ -360 w 2808360"/>
              <a:gd name="textAreaRight" fmla="*/ 2808360 w 2808360"/>
              <a:gd name="textAreaTop" fmla="*/ 0 h 5513760"/>
              <a:gd name="textAreaBottom" fmla="*/ 5514120 h 5513760"/>
            </a:gdLst>
            <a:ahLst/>
            <a:rect l="textAreaLeft" t="textAreaTop" r="textAreaRight" b="textAreaBottom"/>
            <a:pathLst>
              <a:path fill="none" w="21600" h="40873">
                <a:moveTo>
                  <a:pt x="9570" y="0"/>
                </a:moveTo>
                <a:cubicBezTo>
                  <a:pt x="16937" y="3641"/>
                  <a:pt x="21600" y="11146"/>
                  <a:pt x="21600" y="19364"/>
                </a:cubicBezTo>
                <a:cubicBezTo>
                  <a:pt x="21600" y="30525"/>
                  <a:pt x="13095" y="-25687"/>
                  <a:pt x="1980" y="-24664"/>
                </a:cubicBezTo>
              </a:path>
              <a:path stroke="0" w="21600" h="40873">
                <a:moveTo>
                  <a:pt x="9570" y="0"/>
                </a:moveTo>
                <a:cubicBezTo>
                  <a:pt x="16937" y="3641"/>
                  <a:pt x="21600" y="11146"/>
                  <a:pt x="21600" y="19364"/>
                </a:cubicBezTo>
                <a:cubicBezTo>
                  <a:pt x="21600" y="30525"/>
                  <a:pt x="13095" y="-25687"/>
                  <a:pt x="1980" y="-24664"/>
                </a:cubicBezTo>
                <a:lnTo>
                  <a:pt x="0" y="19364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7" name="Oval 21"/>
          <p:cNvSpPr/>
          <p:nvPr/>
        </p:nvSpPr>
        <p:spPr>
          <a:xfrm>
            <a:off x="4500720" y="59500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8" name="Oval 22"/>
          <p:cNvSpPr/>
          <p:nvPr/>
        </p:nvSpPr>
        <p:spPr>
          <a:xfrm>
            <a:off x="4487760" y="96048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59" name="Group 23"/>
          <p:cNvGrpSpPr/>
          <p:nvPr/>
        </p:nvGrpSpPr>
        <p:grpSpPr>
          <a:xfrm>
            <a:off x="2557800" y="3213000"/>
            <a:ext cx="4085280" cy="797400"/>
            <a:chOff x="2557800" y="3213000"/>
            <a:chExt cx="4085280" cy="797400"/>
          </a:xfrm>
        </p:grpSpPr>
        <p:sp>
          <p:nvSpPr>
            <p:cNvPr id="1860" name="Text Box 24"/>
            <p:cNvSpPr/>
            <p:nvPr/>
          </p:nvSpPr>
          <p:spPr>
            <a:xfrm>
              <a:off x="6190920" y="3213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61" name="Text Box 25"/>
            <p:cNvSpPr/>
            <p:nvPr/>
          </p:nvSpPr>
          <p:spPr>
            <a:xfrm>
              <a:off x="255780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62" name="Freeform 26"/>
            <p:cNvSpPr/>
            <p:nvPr/>
          </p:nvSpPr>
          <p:spPr>
            <a:xfrm>
              <a:off x="3119400" y="3543480"/>
              <a:ext cx="2811240" cy="1440"/>
            </a:xfrm>
            <a:custGeom>
              <a:avLst/>
              <a:gdLst>
                <a:gd name="textAreaLeft" fmla="*/ 0 w 2811240"/>
                <a:gd name="textAreaRight" fmla="*/ 2811240 w 2811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20" h="1">
                  <a:moveTo>
                    <a:pt x="0" y="0"/>
                  </a:moveTo>
                  <a:lnTo>
                    <a:pt x="1720" y="0"/>
                  </a:lnTo>
                </a:path>
              </a:pathLst>
            </a:custGeom>
            <a:noFill/>
            <a:ln w="38160">
              <a:solidFill>
                <a:srgbClr val="cc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863" name="Group 27"/>
          <p:cNvGrpSpPr/>
          <p:nvPr/>
        </p:nvGrpSpPr>
        <p:grpSpPr>
          <a:xfrm>
            <a:off x="4068720" y="3429000"/>
            <a:ext cx="503280" cy="581400"/>
            <a:chOff x="4068720" y="3429000"/>
            <a:chExt cx="503280" cy="581400"/>
          </a:xfrm>
        </p:grpSpPr>
        <p:sp>
          <p:nvSpPr>
            <p:cNvPr id="1864" name="Text Box 28"/>
            <p:cNvSpPr/>
            <p:nvPr/>
          </p:nvSpPr>
          <p:spPr>
            <a:xfrm>
              <a:off x="4068720" y="342900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65" name="Oval 29"/>
            <p:cNvSpPr/>
            <p:nvPr/>
          </p:nvSpPr>
          <p:spPr>
            <a:xfrm>
              <a:off x="4502160" y="3500280"/>
              <a:ext cx="69840" cy="71640"/>
            </a:xfrm>
            <a:prstGeom prst="ellipse">
              <a:avLst/>
            </a:prstGeom>
            <a:solidFill>
              <a:srgbClr val="0000cc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866" name="Group 30"/>
          <p:cNvGrpSpPr/>
          <p:nvPr/>
        </p:nvGrpSpPr>
        <p:grpSpPr>
          <a:xfrm>
            <a:off x="-129600" y="666360"/>
            <a:ext cx="6492240" cy="5662440"/>
            <a:chOff x="-129600" y="666360"/>
            <a:chExt cx="6492240" cy="5662440"/>
          </a:xfrm>
        </p:grpSpPr>
        <p:sp>
          <p:nvSpPr>
            <p:cNvPr id="1867" name="Freeform 31"/>
            <p:cNvSpPr/>
            <p:nvPr/>
          </p:nvSpPr>
          <p:spPr>
            <a:xfrm flipH="1" flipV="1" rot="4206600">
              <a:off x="811800" y="351360"/>
              <a:ext cx="1270080" cy="2894040"/>
            </a:xfrm>
            <a:custGeom>
              <a:avLst/>
              <a:gdLst>
                <a:gd name="textAreaLeft" fmla="*/ 360 w 1270080"/>
                <a:gd name="textAreaRight" fmla="*/ 1270800 w 1270080"/>
                <a:gd name="textAreaTop" fmla="*/ -360 h 2894040"/>
                <a:gd name="textAreaBottom" fmla="*/ 289404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868" name="Group 32"/>
            <p:cNvGrpSpPr/>
            <p:nvPr/>
          </p:nvGrpSpPr>
          <p:grpSpPr>
            <a:xfrm>
              <a:off x="-91440" y="666360"/>
              <a:ext cx="3284280" cy="2806920"/>
              <a:chOff x="-91440" y="666360"/>
              <a:chExt cx="3284280" cy="2806920"/>
            </a:xfrm>
          </p:grpSpPr>
          <p:grpSp>
            <p:nvGrpSpPr>
              <p:cNvPr id="1869" name="Group 33"/>
              <p:cNvGrpSpPr/>
              <p:nvPr/>
            </p:nvGrpSpPr>
            <p:grpSpPr>
              <a:xfrm>
                <a:off x="2072160" y="666360"/>
                <a:ext cx="599760" cy="492120"/>
                <a:chOff x="2072160" y="666360"/>
                <a:chExt cx="599760" cy="492120"/>
              </a:xfrm>
            </p:grpSpPr>
            <p:sp>
              <p:nvSpPr>
                <p:cNvPr id="1870" name="Freeform 34"/>
                <p:cNvSpPr/>
                <p:nvPr/>
              </p:nvSpPr>
              <p:spPr>
                <a:xfrm flipH="1" flipV="1" rot="4804800">
                  <a:off x="2169000" y="642960"/>
                  <a:ext cx="405720" cy="537840"/>
                </a:xfrm>
                <a:custGeom>
                  <a:avLst/>
                  <a:gdLst>
                    <a:gd name="textAreaLeft" fmla="*/ -360 w 405720"/>
                    <a:gd name="textAreaRight" fmla="*/ 405720 w 405720"/>
                    <a:gd name="textAreaTop" fmla="*/ 360 h 537840"/>
                    <a:gd name="textAreaBottom" fmla="*/ 538560 h 53784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71" name="Freeform 35"/>
                <p:cNvSpPr/>
                <p:nvPr/>
              </p:nvSpPr>
              <p:spPr>
                <a:xfrm flipH="1" flipV="1" rot="4804800">
                  <a:off x="2409840" y="655560"/>
                  <a:ext cx="185400" cy="247680"/>
                </a:xfrm>
                <a:custGeom>
                  <a:avLst/>
                  <a:gdLst>
                    <a:gd name="textAreaLeft" fmla="*/ -360 w 185400"/>
                    <a:gd name="textAreaRight" fmla="*/ 185400 w 185400"/>
                    <a:gd name="textAreaTop" fmla="*/ 360 h 247680"/>
                    <a:gd name="textAreaBottom" fmla="*/ 24840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2" name="Group 36"/>
              <p:cNvGrpSpPr/>
              <p:nvPr/>
            </p:nvGrpSpPr>
            <p:grpSpPr>
              <a:xfrm>
                <a:off x="-91440" y="926280"/>
                <a:ext cx="3284280" cy="2547000"/>
                <a:chOff x="-91440" y="926280"/>
                <a:chExt cx="3284280" cy="2547000"/>
              </a:xfrm>
            </p:grpSpPr>
            <p:sp>
              <p:nvSpPr>
                <p:cNvPr id="1873" name="Freeform 37"/>
                <p:cNvSpPr/>
                <p:nvPr/>
              </p:nvSpPr>
              <p:spPr>
                <a:xfrm flipH="1" flipV="1" rot="4206000">
                  <a:off x="678960" y="650160"/>
                  <a:ext cx="1109880" cy="2417760"/>
                </a:xfrm>
                <a:custGeom>
                  <a:avLst/>
                  <a:gdLst>
                    <a:gd name="textAreaLeft" fmla="*/ -360 w 1109880"/>
                    <a:gd name="textAreaRight" fmla="*/ 1109880 w 1109880"/>
                    <a:gd name="textAreaTop" fmla="*/ 360 h 2417760"/>
                    <a:gd name="textAreaBottom" fmla="*/ 241848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874" name="Group 38"/>
                <p:cNvGrpSpPr/>
                <p:nvPr/>
              </p:nvGrpSpPr>
              <p:grpSpPr>
                <a:xfrm>
                  <a:off x="404640" y="2200680"/>
                  <a:ext cx="2788200" cy="1272600"/>
                  <a:chOff x="404640" y="2200680"/>
                  <a:chExt cx="2788200" cy="1272600"/>
                </a:xfrm>
              </p:grpSpPr>
              <p:sp>
                <p:nvSpPr>
                  <p:cNvPr id="1875" name="Freeform 39"/>
                  <p:cNvSpPr/>
                  <p:nvPr/>
                </p:nvSpPr>
                <p:spPr>
                  <a:xfrm flipH="1" flipV="1" rot="6258000">
                    <a:off x="1638000" y="1586160"/>
                    <a:ext cx="357840" cy="274752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360 h 2747520"/>
                      <a:gd name="textAreaBottom" fmla="*/ 2748240 h 27475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6" name="Oval 40"/>
                  <p:cNvSpPr/>
                  <p:nvPr/>
                </p:nvSpPr>
                <p:spPr>
                  <a:xfrm flipH="1" flipV="1" rot="6258000">
                    <a:off x="437760" y="2256840"/>
                    <a:ext cx="428760" cy="402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77" name="Group 41"/>
            <p:cNvGrpSpPr/>
            <p:nvPr/>
          </p:nvGrpSpPr>
          <p:grpSpPr>
            <a:xfrm>
              <a:off x="3039840" y="3520800"/>
              <a:ext cx="3322800" cy="2808000"/>
              <a:chOff x="3039840" y="3520800"/>
              <a:chExt cx="3322800" cy="2808000"/>
            </a:xfrm>
          </p:grpSpPr>
          <p:sp>
            <p:nvSpPr>
              <p:cNvPr id="1878" name="Freeform 42"/>
              <p:cNvSpPr/>
              <p:nvPr/>
            </p:nvSpPr>
            <p:spPr>
              <a:xfrm rot="4206000">
                <a:off x="4151160" y="3750480"/>
                <a:ext cx="1269360" cy="2894040"/>
              </a:xfrm>
              <a:custGeom>
                <a:avLst/>
                <a:gdLst>
                  <a:gd name="textAreaLeft" fmla="*/ 0 w 1269360"/>
                  <a:gd name="textAreaRight" fmla="*/ 1269720 w 1269360"/>
                  <a:gd name="textAreaTop" fmla="*/ 0 h 2894040"/>
                  <a:gd name="textAreaBottom" fmla="*/ 2894400 h 28940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879" name="Group 43"/>
              <p:cNvGrpSpPr/>
              <p:nvPr/>
            </p:nvGrpSpPr>
            <p:grpSpPr>
              <a:xfrm>
                <a:off x="3039840" y="3520800"/>
                <a:ext cx="3284640" cy="2808000"/>
                <a:chOff x="3039840" y="3520800"/>
                <a:chExt cx="3284640" cy="2808000"/>
              </a:xfrm>
            </p:grpSpPr>
            <p:grpSp>
              <p:nvGrpSpPr>
                <p:cNvPr id="1880" name="Group 44"/>
                <p:cNvGrpSpPr/>
                <p:nvPr/>
              </p:nvGrpSpPr>
              <p:grpSpPr>
                <a:xfrm>
                  <a:off x="3559680" y="5835240"/>
                  <a:ext cx="599760" cy="493560"/>
                  <a:chOff x="3559680" y="5835240"/>
                  <a:chExt cx="599760" cy="493560"/>
                </a:xfrm>
              </p:grpSpPr>
              <p:sp>
                <p:nvSpPr>
                  <p:cNvPr id="1881" name="Freeform 45"/>
                  <p:cNvSpPr/>
                  <p:nvPr/>
                </p:nvSpPr>
                <p:spPr>
                  <a:xfrm rot="4804800">
                    <a:off x="3660840" y="5807520"/>
                    <a:ext cx="397440" cy="539280"/>
                  </a:xfrm>
                  <a:custGeom>
                    <a:avLst/>
                    <a:gdLst>
                      <a:gd name="textAreaLeft" fmla="*/ 0 w 397440"/>
                      <a:gd name="textAreaRight" fmla="*/ 397800 w 397440"/>
                      <a:gd name="textAreaTop" fmla="*/ 0 h 539280"/>
                      <a:gd name="textAreaBottom" fmla="*/ 539640 h 539280"/>
                    </a:gdLst>
                    <a:ahLst/>
                    <a:rect l="textAreaLeft" t="textAreaTop" r="textAreaRight" b="textAreaBottom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2" name="Freeform 46"/>
                  <p:cNvSpPr/>
                  <p:nvPr/>
                </p:nvSpPr>
                <p:spPr>
                  <a:xfrm rot="4804800">
                    <a:off x="3640320" y="6093720"/>
                    <a:ext cx="181800" cy="248400"/>
                  </a:xfrm>
                  <a:custGeom>
                    <a:avLst/>
                    <a:gdLst>
                      <a:gd name="textAreaLeft" fmla="*/ 0 w 181800"/>
                      <a:gd name="textAreaRight" fmla="*/ 182160 w 181800"/>
                      <a:gd name="textAreaTop" fmla="*/ 0 h 248400"/>
                      <a:gd name="textAreaBottom" fmla="*/ 248760 h 248400"/>
                    </a:gdLst>
                    <a:ahLst/>
                    <a:rect l="textAreaLeft" t="textAreaTop" r="textAreaRight" b="textAreaBottom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40458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83" name="Group 47"/>
                <p:cNvGrpSpPr/>
                <p:nvPr/>
              </p:nvGrpSpPr>
              <p:grpSpPr>
                <a:xfrm>
                  <a:off x="3039840" y="3520800"/>
                  <a:ext cx="3284640" cy="2547000"/>
                  <a:chOff x="3039840" y="3520800"/>
                  <a:chExt cx="3284640" cy="2547000"/>
                </a:xfrm>
              </p:grpSpPr>
              <p:sp>
                <p:nvSpPr>
                  <p:cNvPr id="1884" name="Freeform 48"/>
                  <p:cNvSpPr/>
                  <p:nvPr/>
                </p:nvSpPr>
                <p:spPr>
                  <a:xfrm rot="4206000">
                    <a:off x="4444200" y="3925440"/>
                    <a:ext cx="1109520" cy="2417760"/>
                  </a:xfrm>
                  <a:custGeom>
                    <a:avLst/>
                    <a:gdLst>
                      <a:gd name="textAreaLeft" fmla="*/ 0 w 1109520"/>
                      <a:gd name="textAreaRight" fmla="*/ 1109880 w 1109520"/>
                      <a:gd name="textAreaTop" fmla="*/ 0 h 2417760"/>
                      <a:gd name="textAreaBottom" fmla="*/ 2418120 h 241776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885" name="Group 49"/>
                  <p:cNvGrpSpPr/>
                  <p:nvPr/>
                </p:nvGrpSpPr>
                <p:grpSpPr>
                  <a:xfrm>
                    <a:off x="3039840" y="3520800"/>
                    <a:ext cx="2788200" cy="1272600"/>
                    <a:chOff x="3039840" y="3520800"/>
                    <a:chExt cx="2788200" cy="1272600"/>
                  </a:xfrm>
                </p:grpSpPr>
                <p:sp>
                  <p:nvSpPr>
                    <p:cNvPr id="1886" name="Freeform 50"/>
                    <p:cNvSpPr/>
                    <p:nvPr/>
                  </p:nvSpPr>
                  <p:spPr>
                    <a:xfrm rot="6258000">
                      <a:off x="4236120" y="2660400"/>
                      <a:ext cx="357840" cy="2747520"/>
                    </a:xfrm>
                    <a:custGeom>
                      <a:avLst/>
                      <a:gdLst>
                        <a:gd name="textAreaLeft" fmla="*/ 0 w 357840"/>
                        <a:gd name="textAreaRight" fmla="*/ 357840 w 357840"/>
                        <a:gd name="textAreaTop" fmla="*/ 0 h 2747520"/>
                        <a:gd name="textAreaBottom" fmla="*/ 2747880 h 2747520"/>
                      </a:gdLst>
                      <a:ahLst/>
                      <a:rect l="textAreaLeft" t="textAreaTop" r="textAreaRight" b="textAreaBottom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887" name="Oval 51"/>
                    <p:cNvSpPr/>
                    <p:nvPr/>
                  </p:nvSpPr>
                  <p:spPr>
                    <a:xfrm rot="6258000">
                      <a:off x="5365800" y="4334760"/>
                      <a:ext cx="428760" cy="40212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888" name="Group 52"/>
          <p:cNvGrpSpPr/>
          <p:nvPr/>
        </p:nvGrpSpPr>
        <p:grpSpPr>
          <a:xfrm>
            <a:off x="2673360" y="707760"/>
            <a:ext cx="6492240" cy="5662080"/>
            <a:chOff x="2673360" y="707760"/>
            <a:chExt cx="6492240" cy="5662080"/>
          </a:xfrm>
        </p:grpSpPr>
        <p:sp>
          <p:nvSpPr>
            <p:cNvPr id="1889" name="Freeform 53"/>
            <p:cNvSpPr/>
            <p:nvPr/>
          </p:nvSpPr>
          <p:spPr>
            <a:xfrm flipV="1" rot="17393400">
              <a:off x="6953400" y="392760"/>
              <a:ext cx="1270080" cy="289404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-360 h 2894040"/>
                <a:gd name="textAreaBottom" fmla="*/ 289404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890" name="Group 54"/>
            <p:cNvGrpSpPr/>
            <p:nvPr/>
          </p:nvGrpSpPr>
          <p:grpSpPr>
            <a:xfrm>
              <a:off x="5843160" y="707760"/>
              <a:ext cx="3284280" cy="2806920"/>
              <a:chOff x="5843160" y="707760"/>
              <a:chExt cx="3284280" cy="2806920"/>
            </a:xfrm>
          </p:grpSpPr>
          <p:grpSp>
            <p:nvGrpSpPr>
              <p:cNvPr id="1891" name="Group 55"/>
              <p:cNvGrpSpPr/>
              <p:nvPr/>
            </p:nvGrpSpPr>
            <p:grpSpPr>
              <a:xfrm>
                <a:off x="6364080" y="707760"/>
                <a:ext cx="599760" cy="492120"/>
                <a:chOff x="6364080" y="707760"/>
                <a:chExt cx="599760" cy="492120"/>
              </a:xfrm>
            </p:grpSpPr>
            <p:sp>
              <p:nvSpPr>
                <p:cNvPr id="1892" name="Freeform 56"/>
                <p:cNvSpPr/>
                <p:nvPr/>
              </p:nvSpPr>
              <p:spPr>
                <a:xfrm flipV="1" rot="16795200">
                  <a:off x="6460920" y="684360"/>
                  <a:ext cx="405720" cy="537840"/>
                </a:xfrm>
                <a:custGeom>
                  <a:avLst/>
                  <a:gdLst>
                    <a:gd name="textAreaLeft" fmla="*/ 0 w 405720"/>
                    <a:gd name="textAreaRight" fmla="*/ 406080 w 405720"/>
                    <a:gd name="textAreaTop" fmla="*/ 360 h 537840"/>
                    <a:gd name="textAreaBottom" fmla="*/ 538560 h 53784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93" name="Freeform 57"/>
                <p:cNvSpPr/>
                <p:nvPr/>
              </p:nvSpPr>
              <p:spPr>
                <a:xfrm flipV="1" rot="16795200">
                  <a:off x="6440400" y="696960"/>
                  <a:ext cx="185400" cy="24768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360 h 247680"/>
                    <a:gd name="textAreaBottom" fmla="*/ 24840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94" name="Group 58"/>
              <p:cNvGrpSpPr/>
              <p:nvPr/>
            </p:nvGrpSpPr>
            <p:grpSpPr>
              <a:xfrm>
                <a:off x="5843160" y="967680"/>
                <a:ext cx="3284280" cy="2547000"/>
                <a:chOff x="5843160" y="967680"/>
                <a:chExt cx="3284280" cy="2547000"/>
              </a:xfrm>
            </p:grpSpPr>
            <p:sp>
              <p:nvSpPr>
                <p:cNvPr id="1895" name="Freeform 59"/>
                <p:cNvSpPr/>
                <p:nvPr/>
              </p:nvSpPr>
              <p:spPr>
                <a:xfrm flipV="1" rot="17394000">
                  <a:off x="7246800" y="691560"/>
                  <a:ext cx="1109880" cy="2417760"/>
                </a:xfrm>
                <a:custGeom>
                  <a:avLst/>
                  <a:gdLst>
                    <a:gd name="textAreaLeft" fmla="*/ 0 w 1109880"/>
                    <a:gd name="textAreaRight" fmla="*/ 1110240 w 1109880"/>
                    <a:gd name="textAreaTop" fmla="*/ 360 h 2417760"/>
                    <a:gd name="textAreaBottom" fmla="*/ 241848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896" name="Group 60"/>
                <p:cNvGrpSpPr/>
                <p:nvPr/>
              </p:nvGrpSpPr>
              <p:grpSpPr>
                <a:xfrm>
                  <a:off x="5843160" y="2242080"/>
                  <a:ext cx="2788200" cy="1272600"/>
                  <a:chOff x="5843160" y="2242080"/>
                  <a:chExt cx="2788200" cy="1272600"/>
                </a:xfrm>
              </p:grpSpPr>
              <p:sp>
                <p:nvSpPr>
                  <p:cNvPr id="1897" name="Freeform 61"/>
                  <p:cNvSpPr/>
                  <p:nvPr/>
                </p:nvSpPr>
                <p:spPr>
                  <a:xfrm flipV="1" rot="15342000">
                    <a:off x="7039440" y="1627560"/>
                    <a:ext cx="357840" cy="274752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360 h 2747520"/>
                      <a:gd name="textAreaBottom" fmla="*/ 2748240 h 27475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8" name="Oval 62"/>
                  <p:cNvSpPr/>
                  <p:nvPr/>
                </p:nvSpPr>
                <p:spPr>
                  <a:xfrm flipV="1" rot="15342000">
                    <a:off x="8169120" y="2298240"/>
                    <a:ext cx="428760" cy="402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99" name="Group 63"/>
            <p:cNvGrpSpPr/>
            <p:nvPr/>
          </p:nvGrpSpPr>
          <p:grpSpPr>
            <a:xfrm>
              <a:off x="2673360" y="3562200"/>
              <a:ext cx="3322800" cy="2807640"/>
              <a:chOff x="2673360" y="3562200"/>
              <a:chExt cx="3322800" cy="2807640"/>
            </a:xfrm>
          </p:grpSpPr>
          <p:sp>
            <p:nvSpPr>
              <p:cNvPr id="1900" name="Freeform 64"/>
              <p:cNvSpPr/>
              <p:nvPr/>
            </p:nvSpPr>
            <p:spPr>
              <a:xfrm flipH="1" rot="17394000">
                <a:off x="3614760" y="3791880"/>
                <a:ext cx="1269360" cy="2894040"/>
              </a:xfrm>
              <a:custGeom>
                <a:avLst/>
                <a:gdLst>
                  <a:gd name="textAreaLeft" fmla="*/ 360 w 1269360"/>
                  <a:gd name="textAreaRight" fmla="*/ 1270080 w 1269360"/>
                  <a:gd name="textAreaTop" fmla="*/ 0 h 2894040"/>
                  <a:gd name="textAreaBottom" fmla="*/ 2894400 h 28940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901" name="Group 65"/>
              <p:cNvGrpSpPr/>
              <p:nvPr/>
            </p:nvGrpSpPr>
            <p:grpSpPr>
              <a:xfrm>
                <a:off x="2711520" y="3562200"/>
                <a:ext cx="3284640" cy="2807640"/>
                <a:chOff x="2711520" y="3562200"/>
                <a:chExt cx="3284640" cy="2807640"/>
              </a:xfrm>
            </p:grpSpPr>
            <p:grpSp>
              <p:nvGrpSpPr>
                <p:cNvPr id="1902" name="Group 66"/>
                <p:cNvGrpSpPr/>
                <p:nvPr/>
              </p:nvGrpSpPr>
              <p:grpSpPr>
                <a:xfrm>
                  <a:off x="4875480" y="5876640"/>
                  <a:ext cx="592920" cy="493200"/>
                  <a:chOff x="4875480" y="5876640"/>
                  <a:chExt cx="592920" cy="493200"/>
                </a:xfrm>
              </p:grpSpPr>
              <p:sp>
                <p:nvSpPr>
                  <p:cNvPr id="1903" name="Freeform 67"/>
                  <p:cNvSpPr/>
                  <p:nvPr/>
                </p:nvSpPr>
                <p:spPr>
                  <a:xfrm flipH="1" rot="16795200">
                    <a:off x="4969440" y="5855760"/>
                    <a:ext cx="404280" cy="531360"/>
                  </a:xfrm>
                  <a:custGeom>
                    <a:avLst/>
                    <a:gdLst>
                      <a:gd name="textAreaLeft" fmla="*/ -360 w 404280"/>
                      <a:gd name="textAreaRight" fmla="*/ 404280 w 404280"/>
                      <a:gd name="textAreaTop" fmla="*/ 0 h 531360"/>
                      <a:gd name="textAreaBottom" fmla="*/ 531720 h 531360"/>
                    </a:gdLst>
                    <a:ahLst/>
                    <a:rect l="textAreaLeft" t="textAreaTop" r="textAreaRight" b="textAreaBottom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4" name="Freeform 68"/>
                  <p:cNvSpPr/>
                  <p:nvPr/>
                </p:nvSpPr>
                <p:spPr>
                  <a:xfrm flipH="1" rot="16795200">
                    <a:off x="5214240" y="6135840"/>
                    <a:ext cx="184680" cy="244080"/>
                  </a:xfrm>
                  <a:custGeom>
                    <a:avLst/>
                    <a:gdLst>
                      <a:gd name="textAreaLeft" fmla="*/ -360 w 184680"/>
                      <a:gd name="textAreaRight" fmla="*/ 184680 w 1846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40458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05" name="Group 69"/>
                <p:cNvGrpSpPr/>
                <p:nvPr/>
              </p:nvGrpSpPr>
              <p:grpSpPr>
                <a:xfrm>
                  <a:off x="2711520" y="3562200"/>
                  <a:ext cx="3284640" cy="2547000"/>
                  <a:chOff x="2711520" y="3562200"/>
                  <a:chExt cx="3284640" cy="2547000"/>
                </a:xfrm>
              </p:grpSpPr>
              <p:sp>
                <p:nvSpPr>
                  <p:cNvPr id="1906" name="Freeform 70"/>
                  <p:cNvSpPr/>
                  <p:nvPr/>
                </p:nvSpPr>
                <p:spPr>
                  <a:xfrm flipH="1" rot="17394000">
                    <a:off x="3482280" y="3966840"/>
                    <a:ext cx="1109520" cy="2417760"/>
                  </a:xfrm>
                  <a:custGeom>
                    <a:avLst/>
                    <a:gdLst>
                      <a:gd name="textAreaLeft" fmla="*/ 360 w 1109520"/>
                      <a:gd name="textAreaRight" fmla="*/ 1110240 w 1109520"/>
                      <a:gd name="textAreaTop" fmla="*/ 0 h 2417760"/>
                      <a:gd name="textAreaBottom" fmla="*/ 2418120 h 241776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907" name="Group 71"/>
                  <p:cNvGrpSpPr/>
                  <p:nvPr/>
                </p:nvGrpSpPr>
                <p:grpSpPr>
                  <a:xfrm>
                    <a:off x="3207960" y="3562200"/>
                    <a:ext cx="2788200" cy="1272600"/>
                    <a:chOff x="3207960" y="3562200"/>
                    <a:chExt cx="2788200" cy="1272600"/>
                  </a:xfrm>
                </p:grpSpPr>
                <p:sp>
                  <p:nvSpPr>
                    <p:cNvPr id="1908" name="Freeform 72"/>
                    <p:cNvSpPr/>
                    <p:nvPr/>
                  </p:nvSpPr>
                  <p:spPr>
                    <a:xfrm flipH="1" rot="15342000">
                      <a:off x="4441320" y="2701800"/>
                      <a:ext cx="357840" cy="2747520"/>
                    </a:xfrm>
                    <a:custGeom>
                      <a:avLst/>
                      <a:gdLst>
                        <a:gd name="textAreaLeft" fmla="*/ 0 w 357840"/>
                        <a:gd name="textAreaRight" fmla="*/ 357840 w 357840"/>
                        <a:gd name="textAreaTop" fmla="*/ 0 h 2747520"/>
                        <a:gd name="textAreaBottom" fmla="*/ 2747880 h 2747520"/>
                      </a:gdLst>
                      <a:ahLst/>
                      <a:rect l="textAreaLeft" t="textAreaTop" r="textAreaRight" b="textAreaBottom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909" name="Oval 73"/>
                    <p:cNvSpPr/>
                    <p:nvPr/>
                  </p:nvSpPr>
                  <p:spPr>
                    <a:xfrm flipH="1" rot="15342000">
                      <a:off x="3241080" y="4376160"/>
                      <a:ext cx="428760" cy="40212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910" name="Freeform 74"/>
          <p:cNvSpPr/>
          <p:nvPr/>
        </p:nvSpPr>
        <p:spPr>
          <a:xfrm>
            <a:off x="4533840" y="660240"/>
            <a:ext cx="12600" cy="5473800"/>
          </a:xfrm>
          <a:custGeom>
            <a:avLst/>
            <a:gdLst>
              <a:gd name="textAreaLeft" fmla="*/ 0 w 12600"/>
              <a:gd name="textAreaRight" fmla="*/ 12960 w 12600"/>
              <a:gd name="textAreaTop" fmla="*/ 0 h 5473800"/>
              <a:gd name="textAreaBottom" fmla="*/ 5473800 h 5473800"/>
            </a:gdLst>
            <a:ahLst/>
            <a:rect l="textAreaLeft" t="textAreaTop" r="textAreaRight" b="textAreaBottom"/>
            <a:pathLst>
              <a:path w="8" h="3448">
                <a:moveTo>
                  <a:pt x="0" y="0"/>
                </a:moveTo>
                <a:lnTo>
                  <a:pt x="8" y="34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1" name="Text Box 14"/>
          <p:cNvSpPr/>
          <p:nvPr/>
        </p:nvSpPr>
        <p:spPr>
          <a:xfrm>
            <a:off x="250920" y="32220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строение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редины отрезк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20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0">
                                      <p:cBhvr>
                                        <p:cTn id="1202" dur="2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2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7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0">
                                      <p:cBhvr>
                                        <p:cTn id="1216" dur="2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2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7" dur="2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2" name="Group 2"/>
          <p:cNvGrpSpPr/>
          <p:nvPr/>
        </p:nvGrpSpPr>
        <p:grpSpPr>
          <a:xfrm>
            <a:off x="4064040" y="1028880"/>
            <a:ext cx="2793960" cy="4848120"/>
            <a:chOff x="4064040" y="1028880"/>
            <a:chExt cx="2793960" cy="4848120"/>
          </a:xfrm>
        </p:grpSpPr>
        <p:sp>
          <p:nvSpPr>
            <p:cNvPr id="1913" name="Freeform 3"/>
            <p:cNvSpPr/>
            <p:nvPr/>
          </p:nvSpPr>
          <p:spPr>
            <a:xfrm>
              <a:off x="4064040" y="1068480"/>
              <a:ext cx="1388880" cy="4782960"/>
            </a:xfrm>
            <a:custGeom>
              <a:avLst/>
              <a:gdLst>
                <a:gd name="textAreaLeft" fmla="*/ 0 w 1388880"/>
                <a:gd name="textAreaRight" fmla="*/ 1389240 w 1388880"/>
                <a:gd name="textAreaTop" fmla="*/ 0 h 4782960"/>
                <a:gd name="textAreaBottom" fmla="*/ 4783320 h 4782960"/>
              </a:gdLst>
              <a:ahLst/>
              <a:rect l="textAreaLeft" t="textAreaTop" r="textAreaRight" b="textAreaBottom"/>
              <a:pathLst>
                <a:path w="875" h="3013">
                  <a:moveTo>
                    <a:pt x="875" y="3013"/>
                  </a:moveTo>
                  <a:lnTo>
                    <a:pt x="0" y="1575"/>
                  </a:lnTo>
                  <a:lnTo>
                    <a:pt x="875" y="0"/>
                  </a:lnTo>
                  <a:lnTo>
                    <a:pt x="875" y="3013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14" name="Freeform 4"/>
            <p:cNvSpPr/>
            <p:nvPr/>
          </p:nvSpPr>
          <p:spPr>
            <a:xfrm>
              <a:off x="5465880" y="1028880"/>
              <a:ext cx="1392120" cy="4848120"/>
            </a:xfrm>
            <a:custGeom>
              <a:avLst/>
              <a:gdLst>
                <a:gd name="textAreaLeft" fmla="*/ 0 w 1392120"/>
                <a:gd name="textAreaRight" fmla="*/ 1392480 w 1392120"/>
                <a:gd name="textAreaTop" fmla="*/ 0 h 4848120"/>
                <a:gd name="textAreaBottom" fmla="*/ 4848480 h 4848120"/>
              </a:gdLst>
              <a:ahLst/>
              <a:rect l="textAreaLeft" t="textAreaTop" r="textAreaRight" b="textAreaBottom"/>
              <a:pathLst>
                <a:path w="877" h="3054">
                  <a:moveTo>
                    <a:pt x="8" y="3054"/>
                  </a:moveTo>
                  <a:lnTo>
                    <a:pt x="877" y="1600"/>
                  </a:lnTo>
                  <a:lnTo>
                    <a:pt x="0" y="0"/>
                  </a:lnTo>
                  <a:lnTo>
                    <a:pt x="8" y="3054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915" name="Freeform 5"/>
          <p:cNvSpPr/>
          <p:nvPr/>
        </p:nvSpPr>
        <p:spPr>
          <a:xfrm>
            <a:off x="4064040" y="1041480"/>
            <a:ext cx="2793960" cy="2539800"/>
          </a:xfrm>
          <a:custGeom>
            <a:avLst/>
            <a:gdLst>
              <a:gd name="textAreaLeft" fmla="*/ 0 w 2793960"/>
              <a:gd name="textAreaRight" fmla="*/ 2794320 w 2793960"/>
              <a:gd name="textAreaTop" fmla="*/ 0 h 2539800"/>
              <a:gd name="textAreaBottom" fmla="*/ 2540160 h 2539800"/>
            </a:gdLst>
            <a:ahLst/>
            <a:rect l="textAreaLeft" t="textAreaTop" r="textAreaRight" b="textAreaBottom"/>
            <a:pathLst>
              <a:path w="1760" h="1600">
                <a:moveTo>
                  <a:pt x="0" y="1595"/>
                </a:moveTo>
                <a:lnTo>
                  <a:pt x="1760" y="1600"/>
                </a:lnTo>
                <a:lnTo>
                  <a:pt x="872" y="0"/>
                </a:lnTo>
                <a:lnTo>
                  <a:pt x="0" y="159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6" name="Arc 6"/>
          <p:cNvSpPr/>
          <p:nvPr/>
        </p:nvSpPr>
        <p:spPr>
          <a:xfrm flipH="1" rot="859800">
            <a:off x="4116240" y="414000"/>
            <a:ext cx="2808360" cy="5459400"/>
          </a:xfrm>
          <a:custGeom>
            <a:avLst/>
            <a:gdLst>
              <a:gd name="textAreaLeft" fmla="*/ -360 w 2808360"/>
              <a:gd name="textAreaRight" fmla="*/ 2808360 w 2808360"/>
              <a:gd name="textAreaTop" fmla="*/ 0 h 5459400"/>
              <a:gd name="textAreaBottom" fmla="*/ 5459760 h 5459400"/>
            </a:gdLst>
            <a:ahLst/>
            <a:rect l="textAreaLeft" t="textAreaTop" r="textAreaRight" b="textAreaBottom"/>
            <a:pathLst>
              <a:path fill="none" w="21600" h="42365">
                <a:moveTo>
                  <a:pt x="5401" y="0"/>
                </a:moveTo>
                <a:cubicBezTo>
                  <a:pt x="14937" y="2463"/>
                  <a:pt x="21600" y="11065"/>
                  <a:pt x="21600" y="20914"/>
                </a:cubicBezTo>
                <a:cubicBezTo>
                  <a:pt x="21600" y="31863"/>
                  <a:pt x="13406" y="-24455"/>
                  <a:pt x="2532" y="-23171"/>
                </a:cubicBezTo>
              </a:path>
              <a:path stroke="0" w="21600" h="42365">
                <a:moveTo>
                  <a:pt x="5401" y="0"/>
                </a:moveTo>
                <a:cubicBezTo>
                  <a:pt x="14937" y="2463"/>
                  <a:pt x="21600" y="11065"/>
                  <a:pt x="21600" y="20914"/>
                </a:cubicBezTo>
                <a:cubicBezTo>
                  <a:pt x="21600" y="31863"/>
                  <a:pt x="13406" y="-24455"/>
                  <a:pt x="2532" y="-23171"/>
                </a:cubicBezTo>
                <a:lnTo>
                  <a:pt x="0" y="20914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7" name="Arc 7"/>
          <p:cNvSpPr/>
          <p:nvPr/>
        </p:nvSpPr>
        <p:spPr>
          <a:xfrm rot="20740200">
            <a:off x="4155840" y="612360"/>
            <a:ext cx="2687400" cy="5262480"/>
          </a:xfrm>
          <a:custGeom>
            <a:avLst/>
            <a:gdLst>
              <a:gd name="textAreaLeft" fmla="*/ 0 w 2687400"/>
              <a:gd name="textAreaRight" fmla="*/ 2687760 w 2687400"/>
              <a:gd name="textAreaTop" fmla="*/ 0 h 5262480"/>
              <a:gd name="textAreaBottom" fmla="*/ 5262840 h 5262480"/>
            </a:gdLst>
            <a:ahLst/>
            <a:rect l="textAreaLeft" t="textAreaTop" r="textAreaRight" b="textAreaBottom"/>
            <a:pathLst>
              <a:path fill="none" w="21600" h="41151">
                <a:moveTo>
                  <a:pt x="9122" y="-1"/>
                </a:moveTo>
                <a:cubicBezTo>
                  <a:pt x="16733" y="3545"/>
                  <a:pt x="21600" y="11181"/>
                  <a:pt x="21600" y="19579"/>
                </a:cubicBezTo>
                <a:cubicBezTo>
                  <a:pt x="21600" y="31078"/>
                  <a:pt x="12590" y="40561"/>
                  <a:pt x="1105" y="41150"/>
                </a:cubicBezTo>
              </a:path>
              <a:path stroke="0" w="21600" h="41151">
                <a:moveTo>
                  <a:pt x="9122" y="-1"/>
                </a:moveTo>
                <a:cubicBezTo>
                  <a:pt x="16733" y="3545"/>
                  <a:pt x="21600" y="11181"/>
                  <a:pt x="21600" y="19579"/>
                </a:cubicBezTo>
                <a:cubicBezTo>
                  <a:pt x="21600" y="31078"/>
                  <a:pt x="12590" y="40561"/>
                  <a:pt x="1105" y="41150"/>
                </a:cubicBezTo>
                <a:lnTo>
                  <a:pt x="0" y="19579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8" name="Freeform 8"/>
          <p:cNvSpPr/>
          <p:nvPr/>
        </p:nvSpPr>
        <p:spPr>
          <a:xfrm>
            <a:off x="4064040" y="3556080"/>
            <a:ext cx="2793960" cy="1440"/>
          </a:xfrm>
          <a:custGeom>
            <a:avLst/>
            <a:gdLst>
              <a:gd name="textAreaLeft" fmla="*/ 0 w 2793960"/>
              <a:gd name="textAreaRight" fmla="*/ 2794320 w 2793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760" h="1">
                <a:moveTo>
                  <a:pt x="0" y="0"/>
                </a:moveTo>
                <a:lnTo>
                  <a:pt x="1760" y="0"/>
                </a:lnTo>
              </a:path>
            </a:pathLst>
          </a:custGeom>
          <a:noFill/>
          <a:ln w="38160">
            <a:solidFill>
              <a:srgbClr val="cc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919" name="Group 9"/>
          <p:cNvGrpSpPr/>
          <p:nvPr/>
        </p:nvGrpSpPr>
        <p:grpSpPr>
          <a:xfrm>
            <a:off x="1884960" y="441360"/>
            <a:ext cx="3077280" cy="3087000"/>
            <a:chOff x="1884960" y="441360"/>
            <a:chExt cx="3077280" cy="3087000"/>
          </a:xfrm>
        </p:grpSpPr>
        <p:sp>
          <p:nvSpPr>
            <p:cNvPr id="1920" name="Freeform 10"/>
            <p:cNvSpPr/>
            <p:nvPr/>
          </p:nvSpPr>
          <p:spPr>
            <a:xfrm rot="16681200">
              <a:off x="2771640" y="-174960"/>
              <a:ext cx="1269000" cy="2894040"/>
            </a:xfrm>
            <a:custGeom>
              <a:avLst/>
              <a:gdLst>
                <a:gd name="textAreaLeft" fmla="*/ 0 w 1269000"/>
                <a:gd name="textAreaRight" fmla="*/ 1269000 w 1269000"/>
                <a:gd name="textAreaTop" fmla="*/ 0 h 2894040"/>
                <a:gd name="textAreaBottom" fmla="*/ 289440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921" name="Group 11"/>
            <p:cNvGrpSpPr/>
            <p:nvPr/>
          </p:nvGrpSpPr>
          <p:grpSpPr>
            <a:xfrm>
              <a:off x="1914480" y="509400"/>
              <a:ext cx="3047760" cy="3018960"/>
              <a:chOff x="1914480" y="509400"/>
              <a:chExt cx="3047760" cy="3018960"/>
            </a:xfrm>
          </p:grpSpPr>
          <p:grpSp>
            <p:nvGrpSpPr>
              <p:cNvPr id="1922" name="Group 12"/>
              <p:cNvGrpSpPr/>
              <p:nvPr/>
            </p:nvGrpSpPr>
            <p:grpSpPr>
              <a:xfrm>
                <a:off x="4319280" y="647640"/>
                <a:ext cx="642960" cy="551160"/>
                <a:chOff x="4319280" y="647640"/>
                <a:chExt cx="642960" cy="551160"/>
              </a:xfrm>
            </p:grpSpPr>
            <p:sp>
              <p:nvSpPr>
                <p:cNvPr id="1923" name="Freeform 13"/>
                <p:cNvSpPr/>
                <p:nvPr/>
              </p:nvSpPr>
              <p:spPr>
                <a:xfrm rot="17280000">
                  <a:off x="4433400" y="655560"/>
                  <a:ext cx="405720" cy="534960"/>
                </a:xfrm>
                <a:custGeom>
                  <a:avLst/>
                  <a:gdLst>
                    <a:gd name="textAreaLeft" fmla="*/ 0 w 405720"/>
                    <a:gd name="textAreaRight" fmla="*/ 406080 w 405720"/>
                    <a:gd name="textAreaTop" fmla="*/ 0 h 534960"/>
                    <a:gd name="textAreaBottom" fmla="*/ 535320 h 53496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24" name="Freeform 14"/>
                <p:cNvSpPr/>
                <p:nvPr/>
              </p:nvSpPr>
              <p:spPr>
                <a:xfrm rot="17280000">
                  <a:off x="4723560" y="743040"/>
                  <a:ext cx="185400" cy="24588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245880"/>
                    <a:gd name="textAreaBottom" fmla="*/ 246240 h 2458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25" name="Group 15"/>
              <p:cNvGrpSpPr/>
              <p:nvPr/>
            </p:nvGrpSpPr>
            <p:grpSpPr>
              <a:xfrm>
                <a:off x="1914480" y="509400"/>
                <a:ext cx="2548800" cy="3018960"/>
                <a:chOff x="1914480" y="509400"/>
                <a:chExt cx="2548800" cy="3018960"/>
              </a:xfrm>
            </p:grpSpPr>
            <p:sp>
              <p:nvSpPr>
                <p:cNvPr id="1926" name="Freeform 16"/>
                <p:cNvSpPr/>
                <p:nvPr/>
              </p:nvSpPr>
              <p:spPr>
                <a:xfrm rot="16681200">
                  <a:off x="2634120" y="18360"/>
                  <a:ext cx="1109520" cy="2417760"/>
                </a:xfrm>
                <a:custGeom>
                  <a:avLst/>
                  <a:gdLst>
                    <a:gd name="textAreaLeft" fmla="*/ 0 w 1109520"/>
                    <a:gd name="textAreaRight" fmla="*/ 1109880 w 1109520"/>
                    <a:gd name="textAreaTop" fmla="*/ 0 h 2417760"/>
                    <a:gd name="textAreaBottom" fmla="*/ 241812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927" name="Group 17"/>
                <p:cNvGrpSpPr/>
                <p:nvPr/>
              </p:nvGrpSpPr>
              <p:grpSpPr>
                <a:xfrm>
                  <a:off x="2052000" y="1190160"/>
                  <a:ext cx="2275560" cy="2338200"/>
                  <a:chOff x="2052000" y="1190160"/>
                  <a:chExt cx="2275560" cy="2338200"/>
                </a:xfrm>
              </p:grpSpPr>
              <p:sp>
                <p:nvSpPr>
                  <p:cNvPr id="1928" name="Freeform 18"/>
                  <p:cNvSpPr/>
                  <p:nvPr/>
                </p:nvSpPr>
                <p:spPr>
                  <a:xfrm rot="18733800">
                    <a:off x="3010680" y="1098720"/>
                    <a:ext cx="357840" cy="274788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0 h 2747880"/>
                      <a:gd name="textAreaBottom" fmla="*/ 2748240 h 274788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29" name="Oval 19"/>
                  <p:cNvSpPr/>
                  <p:nvPr/>
                </p:nvSpPr>
                <p:spPr>
                  <a:xfrm rot="18733800">
                    <a:off x="2179800" y="1282680"/>
                    <a:ext cx="42876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1930" name="Group 20"/>
          <p:cNvGrpSpPr/>
          <p:nvPr/>
        </p:nvGrpSpPr>
        <p:grpSpPr>
          <a:xfrm>
            <a:off x="5909400" y="375480"/>
            <a:ext cx="3103560" cy="3164400"/>
            <a:chOff x="5909400" y="375480"/>
            <a:chExt cx="3103560" cy="3164400"/>
          </a:xfrm>
        </p:grpSpPr>
        <p:sp>
          <p:nvSpPr>
            <p:cNvPr id="1931" name="Freeform 21"/>
            <p:cNvSpPr/>
            <p:nvPr/>
          </p:nvSpPr>
          <p:spPr>
            <a:xfrm flipH="1" rot="4812600">
              <a:off x="6837120" y="-194400"/>
              <a:ext cx="1280520" cy="2894040"/>
            </a:xfrm>
            <a:custGeom>
              <a:avLst/>
              <a:gdLst>
                <a:gd name="textAreaLeft" fmla="*/ -360 w 1280520"/>
                <a:gd name="textAreaRight" fmla="*/ 1280520 w 1280520"/>
                <a:gd name="textAreaTop" fmla="*/ 0 h 2894040"/>
                <a:gd name="textAreaBottom" fmla="*/ 289440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932" name="Group 22"/>
            <p:cNvGrpSpPr/>
            <p:nvPr/>
          </p:nvGrpSpPr>
          <p:grpSpPr>
            <a:xfrm>
              <a:off x="5909400" y="443880"/>
              <a:ext cx="3071880" cy="3096000"/>
              <a:chOff x="5909400" y="443880"/>
              <a:chExt cx="3071880" cy="3096000"/>
            </a:xfrm>
          </p:grpSpPr>
          <p:grpSp>
            <p:nvGrpSpPr>
              <p:cNvPr id="1933" name="Group 23"/>
              <p:cNvGrpSpPr/>
              <p:nvPr/>
            </p:nvGrpSpPr>
            <p:grpSpPr>
              <a:xfrm>
                <a:off x="5909400" y="652680"/>
                <a:ext cx="647640" cy="567720"/>
                <a:chOff x="5909400" y="652680"/>
                <a:chExt cx="647640" cy="567720"/>
              </a:xfrm>
            </p:grpSpPr>
            <p:sp>
              <p:nvSpPr>
                <p:cNvPr id="1934" name="Freeform 24"/>
                <p:cNvSpPr/>
                <p:nvPr/>
              </p:nvSpPr>
              <p:spPr>
                <a:xfrm flipH="1" rot="4213800">
                  <a:off x="6029280" y="666720"/>
                  <a:ext cx="409320" cy="538920"/>
                </a:xfrm>
                <a:custGeom>
                  <a:avLst/>
                  <a:gdLst>
                    <a:gd name="textAreaLeft" fmla="*/ -360 w 409320"/>
                    <a:gd name="textAreaRight" fmla="*/ 409320 w 409320"/>
                    <a:gd name="textAreaTop" fmla="*/ 0 h 538920"/>
                    <a:gd name="textAreaBottom" fmla="*/ 539280 h 53892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35" name="Freeform 25"/>
                <p:cNvSpPr/>
                <p:nvPr/>
              </p:nvSpPr>
              <p:spPr>
                <a:xfrm flipH="1" rot="4213800">
                  <a:off x="5963760" y="766440"/>
                  <a:ext cx="187200" cy="248400"/>
                </a:xfrm>
                <a:custGeom>
                  <a:avLst/>
                  <a:gdLst>
                    <a:gd name="textAreaLeft" fmla="*/ 360 w 187200"/>
                    <a:gd name="textAreaRight" fmla="*/ 187920 w 18720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6" name="Group 26"/>
              <p:cNvGrpSpPr/>
              <p:nvPr/>
            </p:nvGrpSpPr>
            <p:grpSpPr>
              <a:xfrm>
                <a:off x="6408360" y="443880"/>
                <a:ext cx="2572920" cy="3096000"/>
                <a:chOff x="6408360" y="443880"/>
                <a:chExt cx="2572920" cy="3096000"/>
              </a:xfrm>
            </p:grpSpPr>
            <p:sp>
              <p:nvSpPr>
                <p:cNvPr id="1937" name="Freeform 27"/>
                <p:cNvSpPr/>
                <p:nvPr/>
              </p:nvSpPr>
              <p:spPr>
                <a:xfrm flipH="1" rot="4812600">
                  <a:off x="7134480" y="-7560"/>
                  <a:ext cx="1119600" cy="2417760"/>
                </a:xfrm>
                <a:custGeom>
                  <a:avLst/>
                  <a:gdLst>
                    <a:gd name="textAreaLeft" fmla="*/ 360 w 1119600"/>
                    <a:gd name="textAreaRight" fmla="*/ 1120320 w 1119600"/>
                    <a:gd name="textAreaTop" fmla="*/ 0 h 2417760"/>
                    <a:gd name="textAreaBottom" fmla="*/ 241812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938" name="Group 28"/>
                <p:cNvGrpSpPr/>
                <p:nvPr/>
              </p:nvGrpSpPr>
              <p:grpSpPr>
                <a:xfrm>
                  <a:off x="6621840" y="1142280"/>
                  <a:ext cx="2227680" cy="2397600"/>
                  <a:chOff x="6621840" y="1142280"/>
                  <a:chExt cx="2227680" cy="2397600"/>
                </a:xfrm>
              </p:grpSpPr>
              <p:sp>
                <p:nvSpPr>
                  <p:cNvPr id="1939" name="Freeform 29"/>
                  <p:cNvSpPr/>
                  <p:nvPr/>
                </p:nvSpPr>
                <p:spPr>
                  <a:xfrm flipH="1" rot="2760000">
                    <a:off x="7554960" y="1081800"/>
                    <a:ext cx="360720" cy="2747880"/>
                  </a:xfrm>
                  <a:custGeom>
                    <a:avLst/>
                    <a:gdLst>
                      <a:gd name="textAreaLeft" fmla="*/ 360 w 360720"/>
                      <a:gd name="textAreaRight" fmla="*/ 361440 w 360720"/>
                      <a:gd name="textAreaTop" fmla="*/ 0 h 2747880"/>
                      <a:gd name="textAreaBottom" fmla="*/ 2748240 h 274788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0" name="Oval 30"/>
                  <p:cNvSpPr/>
                  <p:nvPr/>
                </p:nvSpPr>
                <p:spPr>
                  <a:xfrm flipH="1" rot="2760000">
                    <a:off x="8281440" y="1236240"/>
                    <a:ext cx="43236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1941" name="Oval 31"/>
          <p:cNvSpPr/>
          <p:nvPr/>
        </p:nvSpPr>
        <p:spPr>
          <a:xfrm>
            <a:off x="5425920" y="102060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2" name="Oval 32"/>
          <p:cNvSpPr/>
          <p:nvPr/>
        </p:nvSpPr>
        <p:spPr>
          <a:xfrm>
            <a:off x="5432400" y="5824440"/>
            <a:ext cx="7632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943" name="Group 34"/>
          <p:cNvGrpSpPr/>
          <p:nvPr/>
        </p:nvGrpSpPr>
        <p:grpSpPr>
          <a:xfrm>
            <a:off x="5376240" y="606600"/>
            <a:ext cx="418320" cy="5703840"/>
            <a:chOff x="5376240" y="606600"/>
            <a:chExt cx="418320" cy="5703840"/>
          </a:xfrm>
        </p:grpSpPr>
        <p:sp>
          <p:nvSpPr>
            <p:cNvPr id="1944" name="Text Box 35"/>
            <p:cNvSpPr/>
            <p:nvPr/>
          </p:nvSpPr>
          <p:spPr>
            <a:xfrm>
              <a:off x="5376240" y="5850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45" name="Text Box 36"/>
            <p:cNvSpPr/>
            <p:nvPr/>
          </p:nvSpPr>
          <p:spPr>
            <a:xfrm>
              <a:off x="5421240" y="6066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946" name="Text Box 38"/>
          <p:cNvSpPr/>
          <p:nvPr/>
        </p:nvSpPr>
        <p:spPr>
          <a:xfrm>
            <a:off x="694548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7" name="Text Box 39"/>
          <p:cNvSpPr/>
          <p:nvPr/>
        </p:nvSpPr>
        <p:spPr>
          <a:xfrm>
            <a:off x="356076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948" name="Group 77"/>
          <p:cNvGrpSpPr/>
          <p:nvPr/>
        </p:nvGrpSpPr>
        <p:grpSpPr>
          <a:xfrm>
            <a:off x="87840" y="2060640"/>
            <a:ext cx="3960360" cy="1922760"/>
            <a:chOff x="87840" y="2060640"/>
            <a:chExt cx="3960360" cy="1922760"/>
          </a:xfrm>
        </p:grpSpPr>
        <p:sp>
          <p:nvSpPr>
            <p:cNvPr id="1949" name="Text Box 33"/>
            <p:cNvSpPr/>
            <p:nvPr/>
          </p:nvSpPr>
          <p:spPr>
            <a:xfrm>
              <a:off x="87840" y="2060640"/>
              <a:ext cx="39603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     </a:t>
              </a: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АР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Q</a:t>
              </a: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=</a:t>
              </a: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  BPQ</a:t>
              </a: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, 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 </a:t>
              </a: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по трем сторонам.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950" name="Group 40"/>
            <p:cNvGrpSpPr/>
            <p:nvPr/>
          </p:nvGrpSpPr>
          <p:grpSpPr>
            <a:xfrm>
              <a:off x="917640" y="3213360"/>
              <a:ext cx="1582560" cy="340920"/>
              <a:chOff x="917640" y="3213360"/>
              <a:chExt cx="1582560" cy="340920"/>
            </a:xfrm>
          </p:grpSpPr>
          <mc:AlternateContent>
            <mc:Choice xmlns:a14="http://schemas.microsoft.com/office/drawing/2010/main" Requires="a14">
              <p:sp>
                <p:nvSpPr>
                  <p:cNvPr id="1951" name="Object 41"/>
                  <p:cNvSpPr txBox="1"/>
                  <p:nvPr/>
                </p:nvSpPr>
                <p:spPr>
                  <a:xfrm>
                    <a:off x="917640" y="3213360"/>
                    <a:ext cx="429120" cy="33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52" name="Object 42"/>
                  <p:cNvSpPr txBox="1"/>
                  <p:nvPr/>
                </p:nvSpPr>
                <p:spPr>
                  <a:xfrm>
                    <a:off x="2070720" y="3222000"/>
                    <a:ext cx="429480" cy="332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953" name="Group 43"/>
          <p:cNvGrpSpPr/>
          <p:nvPr/>
        </p:nvGrpSpPr>
        <p:grpSpPr>
          <a:xfrm>
            <a:off x="4092120" y="680040"/>
            <a:ext cx="2783880" cy="3063600"/>
            <a:chOff x="4092120" y="680040"/>
            <a:chExt cx="2783880" cy="3063600"/>
          </a:xfrm>
        </p:grpSpPr>
        <p:sp>
          <p:nvSpPr>
            <p:cNvPr id="1954" name="Freeform 44"/>
            <p:cNvSpPr/>
            <p:nvPr/>
          </p:nvSpPr>
          <p:spPr>
            <a:xfrm rot="21001200">
              <a:off x="5371920" y="764640"/>
              <a:ext cx="1232280" cy="2894040"/>
            </a:xfrm>
            <a:custGeom>
              <a:avLst/>
              <a:gdLst>
                <a:gd name="textAreaLeft" fmla="*/ 0 w 1232280"/>
                <a:gd name="textAreaRight" fmla="*/ 1232640 w 1232280"/>
                <a:gd name="textAreaTop" fmla="*/ 0 h 2894040"/>
                <a:gd name="textAreaBottom" fmla="*/ 289440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955" name="Group 45"/>
            <p:cNvGrpSpPr/>
            <p:nvPr/>
          </p:nvGrpSpPr>
          <p:grpSpPr>
            <a:xfrm>
              <a:off x="4092120" y="707040"/>
              <a:ext cx="2783880" cy="2994120"/>
              <a:chOff x="4092120" y="707040"/>
              <a:chExt cx="2783880" cy="2994120"/>
            </a:xfrm>
          </p:grpSpPr>
          <p:grpSp>
            <p:nvGrpSpPr>
              <p:cNvPr id="1956" name="Group 46"/>
              <p:cNvGrpSpPr/>
              <p:nvPr/>
            </p:nvGrpSpPr>
            <p:grpSpPr>
              <a:xfrm>
                <a:off x="6482160" y="3006360"/>
                <a:ext cx="393840" cy="544680"/>
                <a:chOff x="6482160" y="3006360"/>
                <a:chExt cx="393840" cy="544680"/>
              </a:xfrm>
            </p:grpSpPr>
            <p:sp>
              <p:nvSpPr>
                <p:cNvPr id="1957" name="Freeform 47"/>
                <p:cNvSpPr/>
                <p:nvPr/>
              </p:nvSpPr>
              <p:spPr>
                <a:xfrm>
                  <a:off x="6482160" y="3006360"/>
                  <a:ext cx="393840" cy="538200"/>
                </a:xfrm>
                <a:custGeom>
                  <a:avLst/>
                  <a:gdLst>
                    <a:gd name="textAreaLeft" fmla="*/ 0 w 393840"/>
                    <a:gd name="textAreaRight" fmla="*/ 394200 w 39384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58" name="Freeform 48"/>
                <p:cNvSpPr/>
                <p:nvPr/>
              </p:nvSpPr>
              <p:spPr>
                <a:xfrm>
                  <a:off x="6694200" y="3303360"/>
                  <a:ext cx="180000" cy="247680"/>
                </a:xfrm>
                <a:custGeom>
                  <a:avLst/>
                  <a:gdLst>
                    <a:gd name="textAreaLeft" fmla="*/ 0 w 180000"/>
                    <a:gd name="textAreaRight" fmla="*/ 180360 w 18000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59" name="Group 49"/>
              <p:cNvGrpSpPr/>
              <p:nvPr/>
            </p:nvGrpSpPr>
            <p:grpSpPr>
              <a:xfrm>
                <a:off x="4092120" y="707040"/>
                <a:ext cx="2612160" cy="2994120"/>
                <a:chOff x="4092120" y="707040"/>
                <a:chExt cx="2612160" cy="2994120"/>
              </a:xfrm>
            </p:grpSpPr>
            <p:sp>
              <p:nvSpPr>
                <p:cNvPr id="1960" name="Freeform 50"/>
                <p:cNvSpPr/>
                <p:nvPr/>
              </p:nvSpPr>
              <p:spPr>
                <a:xfrm rot="21001200">
                  <a:off x="5425200" y="781920"/>
                  <a:ext cx="1077480" cy="2417760"/>
                </a:xfrm>
                <a:custGeom>
                  <a:avLst/>
                  <a:gdLst>
                    <a:gd name="textAreaLeft" fmla="*/ 0 w 1077480"/>
                    <a:gd name="textAreaRight" fmla="*/ 1077840 w 1077480"/>
                    <a:gd name="textAreaTop" fmla="*/ 0 h 2417760"/>
                    <a:gd name="textAreaBottom" fmla="*/ 241812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961" name="Group 51"/>
                <p:cNvGrpSpPr/>
                <p:nvPr/>
              </p:nvGrpSpPr>
              <p:grpSpPr>
                <a:xfrm>
                  <a:off x="4092120" y="1046520"/>
                  <a:ext cx="1668960" cy="2654640"/>
                  <a:chOff x="4092120" y="1046520"/>
                  <a:chExt cx="1668960" cy="2654640"/>
                </a:xfrm>
              </p:grpSpPr>
              <p:sp>
                <p:nvSpPr>
                  <p:cNvPr id="1962" name="Freeform 52"/>
                  <p:cNvSpPr/>
                  <p:nvPr/>
                </p:nvSpPr>
                <p:spPr>
                  <a:xfrm rot="1453200">
                    <a:off x="4640040" y="1002960"/>
                    <a:ext cx="347400" cy="2747880"/>
                  </a:xfrm>
                  <a:custGeom>
                    <a:avLst/>
                    <a:gdLst>
                      <a:gd name="textAreaLeft" fmla="*/ 0 w 347400"/>
                      <a:gd name="textAreaRight" fmla="*/ 347760 w 347400"/>
                      <a:gd name="textAreaTop" fmla="*/ 0 h 2747880"/>
                      <a:gd name="textAreaBottom" fmla="*/ 2748240 h 274788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3" name="Oval 53"/>
                  <p:cNvSpPr/>
                  <p:nvPr/>
                </p:nvSpPr>
                <p:spPr>
                  <a:xfrm rot="1453200">
                    <a:off x="5280840" y="1114200"/>
                    <a:ext cx="41616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1964" name="Group 54"/>
          <p:cNvGrpSpPr/>
          <p:nvPr/>
        </p:nvGrpSpPr>
        <p:grpSpPr>
          <a:xfrm>
            <a:off x="4567320" y="2133720"/>
            <a:ext cx="1801800" cy="2519280"/>
            <a:chOff x="4567320" y="2133720"/>
            <a:chExt cx="1801800" cy="2519280"/>
          </a:xfrm>
        </p:grpSpPr>
        <p:sp>
          <p:nvSpPr>
            <p:cNvPr id="1965" name="Line 55"/>
            <p:cNvSpPr/>
            <p:nvPr/>
          </p:nvSpPr>
          <p:spPr>
            <a:xfrm>
              <a:off x="4712040" y="2133720"/>
              <a:ext cx="217440" cy="144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66" name="Line 56"/>
            <p:cNvSpPr/>
            <p:nvPr/>
          </p:nvSpPr>
          <p:spPr>
            <a:xfrm flipH="1">
              <a:off x="6007320" y="2133720"/>
              <a:ext cx="217440" cy="144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67" name="Line 57"/>
            <p:cNvSpPr/>
            <p:nvPr/>
          </p:nvSpPr>
          <p:spPr>
            <a:xfrm>
              <a:off x="6151680" y="4508640"/>
              <a:ext cx="217440" cy="144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68" name="Line 58"/>
            <p:cNvSpPr/>
            <p:nvPr/>
          </p:nvSpPr>
          <p:spPr>
            <a:xfrm flipH="1">
              <a:off x="4567320" y="4437000"/>
              <a:ext cx="217440" cy="144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969" name="Group 59"/>
          <p:cNvGrpSpPr/>
          <p:nvPr/>
        </p:nvGrpSpPr>
        <p:grpSpPr>
          <a:xfrm>
            <a:off x="5000760" y="1625760"/>
            <a:ext cx="836280" cy="607320"/>
            <a:chOff x="5000760" y="1625760"/>
            <a:chExt cx="836280" cy="607320"/>
          </a:xfrm>
        </p:grpSpPr>
        <p:sp>
          <p:nvSpPr>
            <p:cNvPr id="1970" name="Text Box 60"/>
            <p:cNvSpPr/>
            <p:nvPr/>
          </p:nvSpPr>
          <p:spPr>
            <a:xfrm>
              <a:off x="500076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71" name="Text Box 61"/>
            <p:cNvSpPr/>
            <p:nvPr/>
          </p:nvSpPr>
          <p:spPr>
            <a:xfrm>
              <a:off x="550404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72" name="Freeform 62"/>
            <p:cNvSpPr/>
            <p:nvPr/>
          </p:nvSpPr>
          <p:spPr>
            <a:xfrm>
              <a:off x="5143680" y="1628640"/>
              <a:ext cx="287280" cy="1652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81" h="104">
                  <a:moveTo>
                    <a:pt x="0" y="0"/>
                  </a:moveTo>
                  <a:cubicBezTo>
                    <a:pt x="11" y="15"/>
                    <a:pt x="39" y="74"/>
                    <a:pt x="69" y="89"/>
                  </a:cubicBezTo>
                  <a:cubicBezTo>
                    <a:pt x="99" y="104"/>
                    <a:pt x="158" y="91"/>
                    <a:pt x="181" y="9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73" name="Freeform 63"/>
            <p:cNvSpPr/>
            <p:nvPr/>
          </p:nvSpPr>
          <p:spPr>
            <a:xfrm>
              <a:off x="5432400" y="1625760"/>
              <a:ext cx="345960" cy="169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169560"/>
                <a:gd name="textAreaBottom" fmla="*/ 169560 h 169560"/>
              </a:gdLst>
              <a:ahLst/>
              <a:rect l="textAreaLeft" t="textAreaTop" r="textAreaRight" b="textAreaBottom"/>
              <a:pathLst>
                <a:path w="218" h="107">
                  <a:moveTo>
                    <a:pt x="218" y="0"/>
                  </a:moveTo>
                  <a:cubicBezTo>
                    <a:pt x="199" y="15"/>
                    <a:pt x="148" y="75"/>
                    <a:pt x="112" y="91"/>
                  </a:cubicBezTo>
                  <a:cubicBezTo>
                    <a:pt x="76" y="107"/>
                    <a:pt x="23" y="93"/>
                    <a:pt x="0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974" name="Freeform 64"/>
          <p:cNvSpPr/>
          <p:nvPr/>
        </p:nvSpPr>
        <p:spPr>
          <a:xfrm>
            <a:off x="5460840" y="266760"/>
            <a:ext cx="12960" cy="6108480"/>
          </a:xfrm>
          <a:custGeom>
            <a:avLst/>
            <a:gdLst>
              <a:gd name="textAreaLeft" fmla="*/ 0 w 12960"/>
              <a:gd name="textAreaRight" fmla="*/ 13320 w 12960"/>
              <a:gd name="textAreaTop" fmla="*/ 0 h 6108480"/>
              <a:gd name="textAreaBottom" fmla="*/ 6108840 h 6108480"/>
            </a:gdLst>
            <a:ahLst/>
            <a:rect l="textAreaLeft" t="textAreaTop" r="textAreaRight" b="textAreaBottom"/>
            <a:pathLst>
              <a:path w="8" h="3848">
                <a:moveTo>
                  <a:pt x="0" y="0"/>
                </a:moveTo>
                <a:lnTo>
                  <a:pt x="0" y="120"/>
                </a:lnTo>
                <a:lnTo>
                  <a:pt x="8" y="38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975" name="Group 66"/>
          <p:cNvGrpSpPr/>
          <p:nvPr/>
        </p:nvGrpSpPr>
        <p:grpSpPr>
          <a:xfrm>
            <a:off x="971640" y="4076640"/>
            <a:ext cx="1661760" cy="520560"/>
            <a:chOff x="971640" y="4076640"/>
            <a:chExt cx="1661760" cy="520560"/>
          </a:xfrm>
        </p:grpSpPr>
        <p:sp>
          <p:nvSpPr>
            <p:cNvPr id="1976" name="Text Box 67"/>
            <p:cNvSpPr/>
            <p:nvPr/>
          </p:nvSpPr>
          <p:spPr>
            <a:xfrm>
              <a:off x="1379880" y="4076640"/>
              <a:ext cx="125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Tahoma"/>
                </a:rPr>
                <a:t>1 =    2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7" name="Object 68"/>
                <p:cNvSpPr txBox="1"/>
                <p:nvPr/>
              </p:nvSpPr>
              <p:spPr>
                <a:xfrm>
                  <a:off x="971640" y="4178160"/>
                  <a:ext cx="585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8" name="Object 69"/>
                <p:cNvSpPr txBox="1"/>
                <p:nvPr/>
              </p:nvSpPr>
              <p:spPr>
                <a:xfrm>
                  <a:off x="1997640" y="4178160"/>
                  <a:ext cx="586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79" name="Text Box 70"/>
          <p:cNvSpPr/>
          <p:nvPr/>
        </p:nvSpPr>
        <p:spPr>
          <a:xfrm>
            <a:off x="3600" y="4971960"/>
            <a:ext cx="562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Треугольник АРВ р/б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трезок РО является биссектрисой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а значит, и медианой.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Тогда, точка  О – середина А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0" name="Freeform 71"/>
          <p:cNvSpPr/>
          <p:nvPr/>
        </p:nvSpPr>
        <p:spPr>
          <a:xfrm>
            <a:off x="5275440" y="3213000"/>
            <a:ext cx="384120" cy="647640"/>
          </a:xfrm>
          <a:custGeom>
            <a:avLst/>
            <a:gdLst>
              <a:gd name="textAreaLeft" fmla="*/ 0 w 384120"/>
              <a:gd name="textAreaRight" fmla="*/ 384480 w 3841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42" h="408">
                <a:moveTo>
                  <a:pt x="53" y="0"/>
                </a:moveTo>
                <a:cubicBezTo>
                  <a:pt x="147" y="19"/>
                  <a:pt x="242" y="38"/>
                  <a:pt x="235" y="91"/>
                </a:cubicBezTo>
                <a:cubicBezTo>
                  <a:pt x="228" y="144"/>
                  <a:pt x="16" y="264"/>
                  <a:pt x="8" y="317"/>
                </a:cubicBezTo>
                <a:cubicBezTo>
                  <a:pt x="0" y="370"/>
                  <a:pt x="94" y="389"/>
                  <a:pt x="189" y="408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981" name="Group 72"/>
          <p:cNvGrpSpPr/>
          <p:nvPr/>
        </p:nvGrpSpPr>
        <p:grpSpPr>
          <a:xfrm>
            <a:off x="5000040" y="3429000"/>
            <a:ext cx="502200" cy="581400"/>
            <a:chOff x="5000040" y="3429000"/>
            <a:chExt cx="502200" cy="581400"/>
          </a:xfrm>
        </p:grpSpPr>
        <p:sp>
          <p:nvSpPr>
            <p:cNvPr id="1982" name="Text Box 73"/>
            <p:cNvSpPr/>
            <p:nvPr/>
          </p:nvSpPr>
          <p:spPr>
            <a:xfrm>
              <a:off x="5000040" y="3429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83" name="Oval 74"/>
            <p:cNvSpPr/>
            <p:nvPr/>
          </p:nvSpPr>
          <p:spPr>
            <a:xfrm>
              <a:off x="5432400" y="3500280"/>
              <a:ext cx="69840" cy="71640"/>
            </a:xfrm>
            <a:prstGeom prst="ellipse">
              <a:avLst/>
            </a:prstGeom>
            <a:solidFill>
              <a:srgbClr val="0000cc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984" name="Text Box 79"/>
          <p:cNvSpPr/>
          <p:nvPr/>
        </p:nvSpPr>
        <p:spPr>
          <a:xfrm>
            <a:off x="-215280" y="404640"/>
            <a:ext cx="43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окажем, что О –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ередина отрезка АВ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20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2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9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2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1" dur="20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20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20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10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7" dur="20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0" dur="2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1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Arc 193"/>
          <p:cNvSpPr/>
          <p:nvPr/>
        </p:nvSpPr>
        <p:spPr>
          <a:xfrm rot="503400">
            <a:off x="1763280" y="4365360"/>
            <a:ext cx="1376280" cy="1966680"/>
          </a:xfrm>
          <a:custGeom>
            <a:avLst/>
            <a:gdLst>
              <a:gd name="textAreaLeft" fmla="*/ 0 w 1376280"/>
              <a:gd name="textAreaRight" fmla="*/ 1376640 w 1376280"/>
              <a:gd name="textAreaTop" fmla="*/ 0 h 1966680"/>
              <a:gd name="textAreaBottom" fmla="*/ 1967040 h 1966680"/>
            </a:gdLst>
            <a:ahLst/>
            <a:rect l="textAreaLeft" t="textAreaTop" r="textAreaRight" b="textAreaBottom"/>
            <a:pathLst>
              <a:path fill="none" w="21600" h="30408">
                <a:moveTo>
                  <a:pt x="5431" y="-1"/>
                </a:moveTo>
                <a:cubicBezTo>
                  <a:pt x="14952" y="2473"/>
                  <a:pt x="21600" y="11068"/>
                  <a:pt x="21600" y="20906"/>
                </a:cubicBezTo>
                <a:cubicBezTo>
                  <a:pt x="21600" y="24199"/>
                  <a:pt x="20846" y="27449"/>
                  <a:pt x="19397" y="30407"/>
                </a:cubicBezTo>
              </a:path>
              <a:path stroke="0" w="21600" h="30408">
                <a:moveTo>
                  <a:pt x="5431" y="-1"/>
                </a:moveTo>
                <a:cubicBezTo>
                  <a:pt x="14952" y="2473"/>
                  <a:pt x="21600" y="11068"/>
                  <a:pt x="21600" y="20906"/>
                </a:cubicBezTo>
                <a:cubicBezTo>
                  <a:pt x="21600" y="24199"/>
                  <a:pt x="20846" y="27449"/>
                  <a:pt x="19397" y="30407"/>
                </a:cubicBezTo>
                <a:lnTo>
                  <a:pt x="0" y="20906"/>
                </a:lnTo>
                <a:close/>
              </a:path>
            </a:pathLst>
          </a:custGeom>
          <a:noFill/>
          <a:ln w="381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6" name="Text Box 2"/>
          <p:cNvSpPr/>
          <p:nvPr/>
        </p:nvSpPr>
        <p:spPr>
          <a:xfrm>
            <a:off x="6581880" y="5877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7" name="Text Box 3"/>
          <p:cNvSpPr/>
          <p:nvPr/>
        </p:nvSpPr>
        <p:spPr>
          <a:xfrm>
            <a:off x="7448760" y="3284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8" name="Freeform 4"/>
          <p:cNvSpPr/>
          <p:nvPr/>
        </p:nvSpPr>
        <p:spPr>
          <a:xfrm>
            <a:off x="5076720" y="3819600"/>
            <a:ext cx="2486160" cy="2127240"/>
          </a:xfrm>
          <a:custGeom>
            <a:avLst/>
            <a:gdLst>
              <a:gd name="textAreaLeft" fmla="*/ 0 w 2486160"/>
              <a:gd name="textAreaRight" fmla="*/ 2486520 w 2486160"/>
              <a:gd name="textAreaTop" fmla="*/ 0 h 2127240"/>
              <a:gd name="textAreaBottom" fmla="*/ 2127600 h 2127240"/>
            </a:gdLst>
            <a:ahLst/>
            <a:rect l="textAreaLeft" t="textAreaTop" r="textAreaRight" b="textAreaBottom"/>
            <a:pathLst>
              <a:path w="1566" h="1340">
                <a:moveTo>
                  <a:pt x="0" y="1206"/>
                </a:moveTo>
                <a:lnTo>
                  <a:pt x="1566" y="0"/>
                </a:lnTo>
                <a:lnTo>
                  <a:pt x="1562" y="1340"/>
                </a:lnTo>
                <a:lnTo>
                  <a:pt x="0" y="12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9" name="Freeform 5"/>
          <p:cNvSpPr/>
          <p:nvPr/>
        </p:nvSpPr>
        <p:spPr>
          <a:xfrm>
            <a:off x="5067360" y="5727600"/>
            <a:ext cx="3479760" cy="317520"/>
          </a:xfrm>
          <a:custGeom>
            <a:avLst/>
            <a:gdLst>
              <a:gd name="textAreaLeft" fmla="*/ 0 w 3479760"/>
              <a:gd name="textAreaRight" fmla="*/ 3480120 w 34797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192" h="200">
                <a:moveTo>
                  <a:pt x="0" y="0"/>
                </a:moveTo>
                <a:lnTo>
                  <a:pt x="2192" y="200"/>
                </a:lnTo>
              </a:path>
            </a:pathLst>
          </a:custGeom>
          <a:noFill/>
          <a:ln w="28440">
            <a:solidFill>
              <a:srgbClr val="40458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0" name="Freeform 6"/>
          <p:cNvSpPr/>
          <p:nvPr/>
        </p:nvSpPr>
        <p:spPr>
          <a:xfrm>
            <a:off x="5092560" y="3556080"/>
            <a:ext cx="2806920" cy="2171520"/>
          </a:xfrm>
          <a:custGeom>
            <a:avLst/>
            <a:gdLst>
              <a:gd name="textAreaLeft" fmla="*/ 0 w 2806920"/>
              <a:gd name="textAreaRight" fmla="*/ 2807280 w 2806920"/>
              <a:gd name="textAreaTop" fmla="*/ 0 h 2171520"/>
              <a:gd name="textAreaBottom" fmla="*/ 2171880 h 2171520"/>
            </a:gdLst>
            <a:ahLst/>
            <a:rect l="textAreaLeft" t="textAreaTop" r="textAreaRight" b="textAreaBottom"/>
            <a:pathLst>
              <a:path w="1768" h="1368">
                <a:moveTo>
                  <a:pt x="1768" y="0"/>
                </a:moveTo>
                <a:lnTo>
                  <a:pt x="0" y="1368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1" name="Line 8"/>
          <p:cNvSpPr/>
          <p:nvPr/>
        </p:nvSpPr>
        <p:spPr>
          <a:xfrm flipH="1">
            <a:off x="1631880" y="3763800"/>
            <a:ext cx="2735280" cy="18590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2" name="Freeform 9"/>
          <p:cNvSpPr/>
          <p:nvPr/>
        </p:nvSpPr>
        <p:spPr>
          <a:xfrm>
            <a:off x="1631880" y="5622840"/>
            <a:ext cx="2587680" cy="228600"/>
          </a:xfrm>
          <a:custGeom>
            <a:avLst/>
            <a:gdLst>
              <a:gd name="textAreaLeft" fmla="*/ 0 w 2587680"/>
              <a:gd name="textAreaRight" fmla="*/ 2588040 w 2587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630" h="144">
                <a:moveTo>
                  <a:pt x="0" y="0"/>
                </a:moveTo>
                <a:lnTo>
                  <a:pt x="1630" y="144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3" name="Oval 10"/>
          <p:cNvSpPr/>
          <p:nvPr/>
        </p:nvSpPr>
        <p:spPr>
          <a:xfrm>
            <a:off x="2805120" y="4761000"/>
            <a:ext cx="730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4" name="Oval 11"/>
          <p:cNvSpPr/>
          <p:nvPr/>
        </p:nvSpPr>
        <p:spPr>
          <a:xfrm>
            <a:off x="3054240" y="5716440"/>
            <a:ext cx="698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5" name="Oval 12"/>
          <p:cNvSpPr/>
          <p:nvPr/>
        </p:nvSpPr>
        <p:spPr>
          <a:xfrm>
            <a:off x="1558800" y="556560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6" name="Rectangle 13"/>
          <p:cNvSpPr/>
          <p:nvPr/>
        </p:nvSpPr>
        <p:spPr>
          <a:xfrm>
            <a:off x="34920" y="11448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строение треугольника по двум сторонам и углу между ним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997" name="Group 14"/>
          <p:cNvGrpSpPr/>
          <p:nvPr/>
        </p:nvGrpSpPr>
        <p:grpSpPr>
          <a:xfrm>
            <a:off x="4969440" y="2621880"/>
            <a:ext cx="1421280" cy="3084120"/>
            <a:chOff x="4969440" y="2621880"/>
            <a:chExt cx="1421280" cy="3084120"/>
          </a:xfrm>
        </p:grpSpPr>
        <p:sp>
          <p:nvSpPr>
            <p:cNvPr id="1998" name="Freeform 15"/>
            <p:cNvSpPr/>
            <p:nvPr/>
          </p:nvSpPr>
          <p:spPr>
            <a:xfrm flipH="1" rot="21521400">
              <a:off x="5003640" y="2636640"/>
              <a:ext cx="1352520" cy="3030480"/>
            </a:xfrm>
            <a:custGeom>
              <a:avLst/>
              <a:gdLst>
                <a:gd name="textAreaLeft" fmla="*/ -360 w 1352520"/>
                <a:gd name="textAreaRight" fmla="*/ 1352520 w 135252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c0099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99" name="Freeform 16"/>
            <p:cNvSpPr/>
            <p:nvPr/>
          </p:nvSpPr>
          <p:spPr>
            <a:xfrm flipH="1" rot="21521400">
              <a:off x="5013360" y="5113080"/>
              <a:ext cx="341280" cy="588600"/>
            </a:xfrm>
            <a:custGeom>
              <a:avLst/>
              <a:gdLst>
                <a:gd name="textAreaLeft" fmla="*/ 360 w 341280"/>
                <a:gd name="textAreaRight" fmla="*/ 342000 w 34128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00" name="Freeform 17"/>
            <p:cNvSpPr/>
            <p:nvPr/>
          </p:nvSpPr>
          <p:spPr>
            <a:xfrm flipH="1" rot="21521400">
              <a:off x="5024520" y="546552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01" name="Freeform 18"/>
            <p:cNvSpPr/>
            <p:nvPr/>
          </p:nvSpPr>
          <p:spPr>
            <a:xfrm flipH="1" rot="21521400">
              <a:off x="5065560" y="2653920"/>
              <a:ext cx="1181160" cy="2532240"/>
            </a:xfrm>
            <a:custGeom>
              <a:avLst/>
              <a:gdLst>
                <a:gd name="textAreaLeft" fmla="*/ -360 w 1181160"/>
                <a:gd name="textAreaRight" fmla="*/ 1181160 w 1181160"/>
                <a:gd name="textAreaTop" fmla="*/ 0 h 2532240"/>
                <a:gd name="textAreaBottom" fmla="*/ 2532600 h 25322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002" name="Arc 19"/>
          <p:cNvSpPr/>
          <p:nvPr/>
        </p:nvSpPr>
        <p:spPr>
          <a:xfrm rot="15103800">
            <a:off x="5863320" y="4918680"/>
            <a:ext cx="1008000" cy="9111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fill="none" w="21600" h="20790">
                <a:moveTo>
                  <a:pt x="19009" y="-1"/>
                </a:moveTo>
                <a:cubicBezTo>
                  <a:pt x="20709" y="3151"/>
                  <a:pt x="21600" y="6676"/>
                  <a:pt x="21600" y="10257"/>
                </a:cubicBezTo>
                <a:cubicBezTo>
                  <a:pt x="21600" y="13944"/>
                  <a:pt x="20655" y="17570"/>
                  <a:pt x="18857" y="20789"/>
                </a:cubicBezTo>
              </a:path>
              <a:path stroke="0" w="21600" h="20790">
                <a:moveTo>
                  <a:pt x="19009" y="-1"/>
                </a:moveTo>
                <a:cubicBezTo>
                  <a:pt x="20709" y="3151"/>
                  <a:pt x="21600" y="6676"/>
                  <a:pt x="21600" y="10257"/>
                </a:cubicBezTo>
                <a:cubicBezTo>
                  <a:pt x="21600" y="13944"/>
                  <a:pt x="20655" y="17570"/>
                  <a:pt x="18857" y="20789"/>
                </a:cubicBezTo>
                <a:lnTo>
                  <a:pt x="0" y="10257"/>
                </a:lnTo>
                <a:close/>
              </a:path>
            </a:pathLst>
          </a:custGeom>
          <a:noFill/>
          <a:ln w="381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3" name="Text Box 20"/>
          <p:cNvSpPr/>
          <p:nvPr/>
        </p:nvSpPr>
        <p:spPr>
          <a:xfrm>
            <a:off x="539640" y="551664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Угол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99"/>
                </a:solidFill>
                <a:latin typeface="Tahoma"/>
              </a:rPr>
              <a:t>h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4" name="Text Box 21"/>
          <p:cNvSpPr/>
          <p:nvPr/>
        </p:nvSpPr>
        <p:spPr>
          <a:xfrm>
            <a:off x="3560760" y="37638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5" name="Text Box 22"/>
          <p:cNvSpPr/>
          <p:nvPr/>
        </p:nvSpPr>
        <p:spPr>
          <a:xfrm>
            <a:off x="3208320" y="911160"/>
            <a:ext cx="5877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луч </a:t>
            </a:r>
            <a:r>
              <a:rPr b="0" i="1" lang="ru-RU" sz="24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тложим отрезок АВ, равный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угол, равный данном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тложим отрезок АС, равный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6" name="Text Box 23"/>
          <p:cNvSpPr/>
          <p:nvPr/>
        </p:nvSpPr>
        <p:spPr>
          <a:xfrm>
            <a:off x="7517160" y="59500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7" name="Text Box 24"/>
          <p:cNvSpPr/>
          <p:nvPr/>
        </p:nvSpPr>
        <p:spPr>
          <a:xfrm>
            <a:off x="4939200" y="57816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8" name="Text Box 25"/>
          <p:cNvSpPr/>
          <p:nvPr/>
        </p:nvSpPr>
        <p:spPr>
          <a:xfrm>
            <a:off x="0" y="621648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Треугольник АВС искомый. Обоснуй, используя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признак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9" name="Text Box 26"/>
          <p:cNvSpPr/>
          <p:nvPr/>
        </p:nvSpPr>
        <p:spPr>
          <a:xfrm>
            <a:off x="527400" y="105264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0" name="Text Box 27"/>
          <p:cNvSpPr/>
          <p:nvPr/>
        </p:nvSpPr>
        <p:spPr>
          <a:xfrm>
            <a:off x="611280" y="1866960"/>
            <a:ext cx="28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Отрезки Р</a:t>
            </a:r>
            <a:r>
              <a:rPr b="1" lang="ru-RU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1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1" lang="ru-RU" sz="20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и Р</a:t>
            </a:r>
            <a:r>
              <a:rPr b="1" lang="ru-RU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1" lang="ru-RU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1" name="Freeform 28"/>
          <p:cNvSpPr/>
          <p:nvPr/>
        </p:nvSpPr>
        <p:spPr>
          <a:xfrm>
            <a:off x="888840" y="2489040"/>
            <a:ext cx="2457720" cy="5040"/>
          </a:xfrm>
          <a:custGeom>
            <a:avLst/>
            <a:gdLst>
              <a:gd name="textAreaLeft" fmla="*/ 0 w 2457720"/>
              <a:gd name="textAreaRight" fmla="*/ 2458080 w 24577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548" h="3">
                <a:moveTo>
                  <a:pt x="0" y="0"/>
                </a:moveTo>
                <a:lnTo>
                  <a:pt x="1548" y="3"/>
                </a:lnTo>
              </a:path>
            </a:pathLst>
          </a:custGeom>
          <a:noFill/>
          <a:ln w="12600">
            <a:solidFill>
              <a:srgbClr val="40458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400" bIns="-41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2" name="Line 29"/>
          <p:cNvSpPr/>
          <p:nvPr/>
        </p:nvSpPr>
        <p:spPr>
          <a:xfrm>
            <a:off x="611280" y="3213000"/>
            <a:ext cx="3097080" cy="0"/>
          </a:xfrm>
          <a:prstGeom prst="line">
            <a:avLst/>
          </a:prstGeom>
          <a:ln w="1260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3" name="Text Box 30"/>
          <p:cNvSpPr/>
          <p:nvPr/>
        </p:nvSpPr>
        <p:spPr>
          <a:xfrm>
            <a:off x="3321720" y="2349360"/>
            <a:ext cx="46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4" name="Text Box 31"/>
          <p:cNvSpPr/>
          <p:nvPr/>
        </p:nvSpPr>
        <p:spPr>
          <a:xfrm>
            <a:off x="537480" y="22766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5" name="Text Box 32"/>
          <p:cNvSpPr/>
          <p:nvPr/>
        </p:nvSpPr>
        <p:spPr>
          <a:xfrm>
            <a:off x="393120" y="326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6" name="Text Box 33"/>
          <p:cNvSpPr/>
          <p:nvPr/>
        </p:nvSpPr>
        <p:spPr>
          <a:xfrm>
            <a:off x="3488400" y="3213000"/>
            <a:ext cx="46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7" name="Text Box 34"/>
          <p:cNvSpPr/>
          <p:nvPr/>
        </p:nvSpPr>
        <p:spPr>
          <a:xfrm>
            <a:off x="8526240" y="5708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8" name="Text Box 35"/>
          <p:cNvSpPr/>
          <p:nvPr/>
        </p:nvSpPr>
        <p:spPr>
          <a:xfrm>
            <a:off x="3925080" y="578016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9" name="Arc 36"/>
          <p:cNvSpPr/>
          <p:nvPr/>
        </p:nvSpPr>
        <p:spPr>
          <a:xfrm>
            <a:off x="6227640" y="5445000"/>
            <a:ext cx="1333800" cy="1043280"/>
          </a:xfrm>
          <a:custGeom>
            <a:avLst/>
            <a:gdLst>
              <a:gd name="textAreaLeft" fmla="*/ 0 w 1333800"/>
              <a:gd name="textAreaRight" fmla="*/ 1334160 w 1333800"/>
              <a:gd name="textAreaTop" fmla="*/ 0 h 1043280"/>
              <a:gd name="textAreaBottom" fmla="*/ 1043640 h 1043280"/>
            </a:gdLst>
            <a:ahLst/>
            <a:rect l="textAreaLeft" t="textAreaTop" r="textAreaRight" b="textAreaBottom"/>
            <a:pathLst>
              <a:path fill="none" w="21600" h="17880">
                <a:moveTo>
                  <a:pt x="20370" y="-1"/>
                </a:moveTo>
                <a:cubicBezTo>
                  <a:pt x="21184" y="2307"/>
                  <a:pt x="21600" y="4736"/>
                  <a:pt x="21600" y="7184"/>
                </a:cubicBezTo>
                <a:cubicBezTo>
                  <a:pt x="21600" y="10934"/>
                  <a:pt x="20623" y="14621"/>
                  <a:pt x="18765" y="17879"/>
                </a:cubicBezTo>
              </a:path>
              <a:path stroke="0" w="21600" h="17880">
                <a:moveTo>
                  <a:pt x="20370" y="-1"/>
                </a:moveTo>
                <a:cubicBezTo>
                  <a:pt x="21184" y="2307"/>
                  <a:pt x="21600" y="4736"/>
                  <a:pt x="21600" y="7184"/>
                </a:cubicBezTo>
                <a:cubicBezTo>
                  <a:pt x="21600" y="10934"/>
                  <a:pt x="20623" y="14621"/>
                  <a:pt x="18765" y="17879"/>
                </a:cubicBezTo>
                <a:lnTo>
                  <a:pt x="0" y="7184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0" name="Arc 37"/>
          <p:cNvSpPr/>
          <p:nvPr/>
        </p:nvSpPr>
        <p:spPr>
          <a:xfrm rot="18609600">
            <a:off x="5269320" y="4170600"/>
            <a:ext cx="2881440" cy="1540080"/>
          </a:xfrm>
          <a:custGeom>
            <a:avLst/>
            <a:gdLst>
              <a:gd name="textAreaLeft" fmla="*/ 0 w 2881440"/>
              <a:gd name="textAreaRight" fmla="*/ 2881800 w 2881440"/>
              <a:gd name="textAreaTop" fmla="*/ 0 h 1540080"/>
              <a:gd name="textAreaBottom" fmla="*/ 1540440 h 1540080"/>
            </a:gdLst>
            <a:ahLst/>
            <a:rect l="textAreaLeft" t="textAreaTop" r="textAreaRight" b="textAreaBottom"/>
            <a:pathLst>
              <a:path fill="none" w="21600" h="12058">
                <a:moveTo>
                  <a:pt x="21543" y="0"/>
                </a:moveTo>
                <a:cubicBezTo>
                  <a:pt x="21581" y="519"/>
                  <a:pt x="21600" y="1039"/>
                  <a:pt x="21600" y="1560"/>
                </a:cubicBezTo>
                <a:cubicBezTo>
                  <a:pt x="21600" y="5233"/>
                  <a:pt x="20662" y="8847"/>
                  <a:pt x="18877" y="12058"/>
                </a:cubicBezTo>
              </a:path>
              <a:path stroke="0" w="21600" h="12058">
                <a:moveTo>
                  <a:pt x="21543" y="0"/>
                </a:moveTo>
                <a:cubicBezTo>
                  <a:pt x="21581" y="519"/>
                  <a:pt x="21600" y="1039"/>
                  <a:pt x="21600" y="1560"/>
                </a:cubicBezTo>
                <a:cubicBezTo>
                  <a:pt x="21600" y="5233"/>
                  <a:pt x="20662" y="8847"/>
                  <a:pt x="18877" y="12058"/>
                </a:cubicBezTo>
                <a:lnTo>
                  <a:pt x="0" y="1560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1" name="Freeform 38"/>
          <p:cNvSpPr/>
          <p:nvPr/>
        </p:nvSpPr>
        <p:spPr>
          <a:xfrm>
            <a:off x="7556400" y="3809880"/>
            <a:ext cx="15840" cy="2146320"/>
          </a:xfrm>
          <a:custGeom>
            <a:avLst/>
            <a:gdLst>
              <a:gd name="textAreaLeft" fmla="*/ 0 w 15840"/>
              <a:gd name="textAreaRight" fmla="*/ 16200 w 1584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10" h="1352">
                <a:moveTo>
                  <a:pt x="10" y="0"/>
                </a:moveTo>
                <a:lnTo>
                  <a:pt x="0" y="1352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022" name="Group 39"/>
          <p:cNvGrpSpPr/>
          <p:nvPr/>
        </p:nvGrpSpPr>
        <p:grpSpPr>
          <a:xfrm>
            <a:off x="1979640" y="2349360"/>
            <a:ext cx="4568760" cy="3672000"/>
            <a:chOff x="1979640" y="2349360"/>
            <a:chExt cx="4568760" cy="3672000"/>
          </a:xfrm>
        </p:grpSpPr>
        <p:sp>
          <p:nvSpPr>
            <p:cNvPr id="2023" name="Line 40"/>
            <p:cNvSpPr/>
            <p:nvPr/>
          </p:nvSpPr>
          <p:spPr>
            <a:xfrm>
              <a:off x="2155680" y="2349360"/>
              <a:ext cx="7164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24" name="Line 41"/>
            <p:cNvSpPr/>
            <p:nvPr/>
          </p:nvSpPr>
          <p:spPr>
            <a:xfrm>
              <a:off x="6156360" y="5734080"/>
              <a:ext cx="7128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025" name="Group 42"/>
            <p:cNvGrpSpPr/>
            <p:nvPr/>
          </p:nvGrpSpPr>
          <p:grpSpPr>
            <a:xfrm>
              <a:off x="2371680" y="3068640"/>
              <a:ext cx="144000" cy="287280"/>
              <a:chOff x="2371680" y="3068640"/>
              <a:chExt cx="144000" cy="287280"/>
            </a:xfrm>
          </p:grpSpPr>
          <p:sp>
            <p:nvSpPr>
              <p:cNvPr id="2026" name="Line 43"/>
              <p:cNvSpPr/>
              <p:nvPr/>
            </p:nvSpPr>
            <p:spPr>
              <a:xfrm>
                <a:off x="2444400" y="3068640"/>
                <a:ext cx="71280" cy="287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27" name="Line 44"/>
              <p:cNvSpPr/>
              <p:nvPr/>
            </p:nvSpPr>
            <p:spPr>
              <a:xfrm>
                <a:off x="2371680" y="3068640"/>
                <a:ext cx="71280" cy="287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2028" name="Group 45"/>
            <p:cNvGrpSpPr/>
            <p:nvPr/>
          </p:nvGrpSpPr>
          <p:grpSpPr>
            <a:xfrm>
              <a:off x="6340320" y="4573440"/>
              <a:ext cx="208080" cy="303120"/>
              <a:chOff x="6340320" y="4573440"/>
              <a:chExt cx="208080" cy="303120"/>
            </a:xfrm>
          </p:grpSpPr>
          <p:sp>
            <p:nvSpPr>
              <p:cNvPr id="2029" name="Line 46"/>
              <p:cNvSpPr/>
              <p:nvPr/>
            </p:nvSpPr>
            <p:spPr>
              <a:xfrm>
                <a:off x="6340320" y="4626000"/>
                <a:ext cx="157680" cy="250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30" name="Line 47"/>
              <p:cNvSpPr/>
              <p:nvPr/>
            </p:nvSpPr>
            <p:spPr>
              <a:xfrm>
                <a:off x="6390720" y="4573440"/>
                <a:ext cx="157680" cy="250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2031" name="Freeform 48"/>
            <p:cNvSpPr/>
            <p:nvPr/>
          </p:nvSpPr>
          <p:spPr>
            <a:xfrm>
              <a:off x="1979640" y="5346720"/>
              <a:ext cx="131760" cy="314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83" h="198">
                  <a:moveTo>
                    <a:pt x="0" y="0"/>
                  </a:moveTo>
                  <a:cubicBezTo>
                    <a:pt x="11" y="15"/>
                    <a:pt x="61" y="55"/>
                    <a:pt x="72" y="88"/>
                  </a:cubicBezTo>
                  <a:cubicBezTo>
                    <a:pt x="83" y="121"/>
                    <a:pt x="67" y="175"/>
                    <a:pt x="66" y="19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32" name="Freeform 49"/>
            <p:cNvSpPr/>
            <p:nvPr/>
          </p:nvSpPr>
          <p:spPr>
            <a:xfrm>
              <a:off x="5468760" y="5445000"/>
              <a:ext cx="132120" cy="31428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83" h="198">
                  <a:moveTo>
                    <a:pt x="0" y="0"/>
                  </a:moveTo>
                  <a:cubicBezTo>
                    <a:pt x="11" y="15"/>
                    <a:pt x="61" y="55"/>
                    <a:pt x="72" y="88"/>
                  </a:cubicBezTo>
                  <a:cubicBezTo>
                    <a:pt x="83" y="121"/>
                    <a:pt x="67" y="175"/>
                    <a:pt x="66" y="19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033" name="Oval 50"/>
          <p:cNvSpPr/>
          <p:nvPr/>
        </p:nvSpPr>
        <p:spPr>
          <a:xfrm>
            <a:off x="7524720" y="5924520"/>
            <a:ext cx="71640" cy="7164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4" name="Oval 51"/>
          <p:cNvSpPr/>
          <p:nvPr/>
        </p:nvSpPr>
        <p:spPr>
          <a:xfrm>
            <a:off x="7524720" y="3789360"/>
            <a:ext cx="71640" cy="712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5" name="Arc 52"/>
          <p:cNvSpPr/>
          <p:nvPr/>
        </p:nvSpPr>
        <p:spPr>
          <a:xfrm rot="503400">
            <a:off x="5192280" y="4520880"/>
            <a:ext cx="1376280" cy="1967040"/>
          </a:xfrm>
          <a:custGeom>
            <a:avLst/>
            <a:gdLst>
              <a:gd name="textAreaLeft" fmla="*/ 0 w 1376280"/>
              <a:gd name="textAreaRight" fmla="*/ 1376640 w 1376280"/>
              <a:gd name="textAreaTop" fmla="*/ 0 h 1967040"/>
              <a:gd name="textAreaBottom" fmla="*/ 1967400 h 1967040"/>
            </a:gdLst>
            <a:ahLst/>
            <a:rect l="textAreaLeft" t="textAreaTop" r="textAreaRight" b="textAreaBottom"/>
            <a:pathLst>
              <a:path fill="none" w="21600" h="30408">
                <a:moveTo>
                  <a:pt x="5431" y="-1"/>
                </a:moveTo>
                <a:cubicBezTo>
                  <a:pt x="14952" y="2473"/>
                  <a:pt x="21600" y="11068"/>
                  <a:pt x="21600" y="20906"/>
                </a:cubicBezTo>
                <a:cubicBezTo>
                  <a:pt x="21600" y="24199"/>
                  <a:pt x="20846" y="27449"/>
                  <a:pt x="19397" y="30407"/>
                </a:cubicBezTo>
              </a:path>
              <a:path stroke="0" w="21600" h="30408">
                <a:moveTo>
                  <a:pt x="5431" y="-1"/>
                </a:moveTo>
                <a:cubicBezTo>
                  <a:pt x="14952" y="2473"/>
                  <a:pt x="21600" y="11068"/>
                  <a:pt x="21600" y="20906"/>
                </a:cubicBezTo>
                <a:cubicBezTo>
                  <a:pt x="21600" y="24199"/>
                  <a:pt x="20846" y="27449"/>
                  <a:pt x="19397" y="30407"/>
                </a:cubicBezTo>
                <a:lnTo>
                  <a:pt x="0" y="20906"/>
                </a:lnTo>
                <a:close/>
              </a:path>
            </a:pathLst>
          </a:custGeom>
          <a:noFill/>
          <a:ln w="381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6" name="Oval 53"/>
          <p:cNvSpPr/>
          <p:nvPr/>
        </p:nvSpPr>
        <p:spPr>
          <a:xfrm>
            <a:off x="6165720" y="4835520"/>
            <a:ext cx="7164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037" name="Group 54"/>
          <p:cNvGrpSpPr/>
          <p:nvPr/>
        </p:nvGrpSpPr>
        <p:grpSpPr>
          <a:xfrm>
            <a:off x="-1252440" y="2964600"/>
            <a:ext cx="5765760" cy="5322600"/>
            <a:chOff x="-1252440" y="2964600"/>
            <a:chExt cx="5765760" cy="5322600"/>
          </a:xfrm>
        </p:grpSpPr>
        <p:grpSp>
          <p:nvGrpSpPr>
            <p:cNvPr id="2038" name="Group 55"/>
            <p:cNvGrpSpPr/>
            <p:nvPr/>
          </p:nvGrpSpPr>
          <p:grpSpPr>
            <a:xfrm>
              <a:off x="1643760" y="2964600"/>
              <a:ext cx="2869560" cy="3286080"/>
              <a:chOff x="1643760" y="2964600"/>
              <a:chExt cx="2869560" cy="3286080"/>
            </a:xfrm>
          </p:grpSpPr>
          <p:sp>
            <p:nvSpPr>
              <p:cNvPr id="2039" name="Freeform 56"/>
              <p:cNvSpPr/>
              <p:nvPr/>
            </p:nvSpPr>
            <p:spPr>
              <a:xfrm rot="1935000">
                <a:off x="2500560" y="3078720"/>
                <a:ext cx="1304280" cy="3030480"/>
              </a:xfrm>
              <a:custGeom>
                <a:avLst/>
                <a:gdLst>
                  <a:gd name="textAreaLeft" fmla="*/ 0 w 1304280"/>
                  <a:gd name="textAreaRight" fmla="*/ 1304640 w 1304280"/>
                  <a:gd name="textAreaTop" fmla="*/ 0 h 3030480"/>
                  <a:gd name="textAreaBottom" fmla="*/ 3030840 h 30304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40" name="Freeform 57"/>
              <p:cNvSpPr/>
              <p:nvPr/>
            </p:nvSpPr>
            <p:spPr>
              <a:xfrm rot="1935000">
                <a:off x="2747880" y="5619240"/>
                <a:ext cx="329040" cy="58896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41" name="Freeform 58"/>
              <p:cNvSpPr/>
              <p:nvPr/>
            </p:nvSpPr>
            <p:spPr>
              <a:xfrm rot="1935000">
                <a:off x="2845440" y="5997240"/>
                <a:ext cx="125640" cy="2239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042" name="Group 59"/>
              <p:cNvGrpSpPr/>
              <p:nvPr/>
            </p:nvGrpSpPr>
            <p:grpSpPr>
              <a:xfrm>
                <a:off x="1643760" y="3032280"/>
                <a:ext cx="2805120" cy="2776680"/>
                <a:chOff x="1643760" y="3032280"/>
                <a:chExt cx="2805120" cy="2776680"/>
              </a:xfrm>
            </p:grpSpPr>
            <p:sp>
              <p:nvSpPr>
                <p:cNvPr id="2043" name="Freeform 60"/>
                <p:cNvSpPr/>
                <p:nvPr/>
              </p:nvSpPr>
              <p:spPr>
                <a:xfrm rot="1935000">
                  <a:off x="2721600" y="3140640"/>
                  <a:ext cx="1139040" cy="2531880"/>
                </a:xfrm>
                <a:custGeom>
                  <a:avLst/>
                  <a:gdLst>
                    <a:gd name="textAreaLeft" fmla="*/ 0 w 1139040"/>
                    <a:gd name="textAreaRight" fmla="*/ 1139040 w 1139040"/>
                    <a:gd name="textAreaTop" fmla="*/ 0 h 2531880"/>
                    <a:gd name="textAreaBottom" fmla="*/ 2532240 h 25318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660066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2044" name="Group 61"/>
                <p:cNvGrpSpPr/>
                <p:nvPr/>
              </p:nvGrpSpPr>
              <p:grpSpPr>
                <a:xfrm>
                  <a:off x="1643760" y="3179520"/>
                  <a:ext cx="2070360" cy="2629440"/>
                  <a:chOff x="1643760" y="3179520"/>
                  <a:chExt cx="2070360" cy="2629440"/>
                </a:xfrm>
              </p:grpSpPr>
              <p:sp>
                <p:nvSpPr>
                  <p:cNvPr id="2045" name="Freeform 62"/>
                  <p:cNvSpPr/>
                  <p:nvPr/>
                </p:nvSpPr>
                <p:spPr>
                  <a:xfrm rot="1935000">
                    <a:off x="2383200" y="3055320"/>
                    <a:ext cx="367200" cy="2877840"/>
                  </a:xfrm>
                  <a:custGeom>
                    <a:avLst/>
                    <a:gdLst>
                      <a:gd name="textAreaLeft" fmla="*/ 0 w 367200"/>
                      <a:gd name="textAreaRight" fmla="*/ 367560 w 367200"/>
                      <a:gd name="textAreaTop" fmla="*/ 0 h 2877840"/>
                      <a:gd name="textAreaBottom" fmla="*/ 2878200 h 2877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6" name="Oval 63"/>
                  <p:cNvSpPr/>
                  <p:nvPr/>
                </p:nvSpPr>
                <p:spPr>
                  <a:xfrm rot="1935000">
                    <a:off x="3195720" y="3282840"/>
                    <a:ext cx="439920" cy="42120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047" name="Group 64"/>
            <p:cNvGrpSpPr/>
            <p:nvPr/>
          </p:nvGrpSpPr>
          <p:grpSpPr>
            <a:xfrm>
              <a:off x="-1252440" y="4989960"/>
              <a:ext cx="2835720" cy="3297240"/>
              <a:chOff x="-1252440" y="4989960"/>
              <a:chExt cx="2835720" cy="3297240"/>
            </a:xfrm>
          </p:grpSpPr>
          <p:sp>
            <p:nvSpPr>
              <p:cNvPr id="2048" name="Freeform 65"/>
              <p:cNvSpPr/>
              <p:nvPr/>
            </p:nvSpPr>
            <p:spPr>
              <a:xfrm rot="12676800">
                <a:off x="-560520" y="5138280"/>
                <a:ext cx="1304280" cy="3030480"/>
              </a:xfrm>
              <a:custGeom>
                <a:avLst/>
                <a:gdLst>
                  <a:gd name="textAreaLeft" fmla="*/ 0 w 1304280"/>
                  <a:gd name="textAreaRight" fmla="*/ 1304640 w 1304280"/>
                  <a:gd name="textAreaTop" fmla="*/ 0 h 3030480"/>
                  <a:gd name="textAreaBottom" fmla="*/ 3030840 h 30304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49" name="Freeform 66"/>
              <p:cNvSpPr/>
              <p:nvPr/>
            </p:nvSpPr>
            <p:spPr>
              <a:xfrm rot="12676800">
                <a:off x="140040" y="5032440"/>
                <a:ext cx="329040" cy="58896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50" name="Freeform 67"/>
              <p:cNvSpPr/>
              <p:nvPr/>
            </p:nvSpPr>
            <p:spPr>
              <a:xfrm rot="12676800">
                <a:off x="247680" y="5022720"/>
                <a:ext cx="125640" cy="2239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051" name="Group 68"/>
              <p:cNvGrpSpPr/>
              <p:nvPr/>
            </p:nvGrpSpPr>
            <p:grpSpPr>
              <a:xfrm>
                <a:off x="-1187280" y="5418360"/>
                <a:ext cx="2770560" cy="2802600"/>
                <a:chOff x="-1187280" y="5418360"/>
                <a:chExt cx="2770560" cy="2802600"/>
              </a:xfrm>
            </p:grpSpPr>
            <p:sp>
              <p:nvSpPr>
                <p:cNvPr id="2052" name="Freeform 69"/>
                <p:cNvSpPr/>
                <p:nvPr/>
              </p:nvSpPr>
              <p:spPr>
                <a:xfrm rot="12676800">
                  <a:off x="-612720" y="5577120"/>
                  <a:ext cx="1139040" cy="2531880"/>
                </a:xfrm>
                <a:custGeom>
                  <a:avLst/>
                  <a:gdLst>
                    <a:gd name="textAreaLeft" fmla="*/ 0 w 1139040"/>
                    <a:gd name="textAreaRight" fmla="*/ 1139040 w 1139040"/>
                    <a:gd name="textAreaTop" fmla="*/ 0 h 2531880"/>
                    <a:gd name="textAreaBottom" fmla="*/ 2532240 h 25318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2053" name="Group 70"/>
                <p:cNvGrpSpPr/>
                <p:nvPr/>
              </p:nvGrpSpPr>
              <p:grpSpPr>
                <a:xfrm>
                  <a:off x="-449640" y="5418360"/>
                  <a:ext cx="2032920" cy="2650320"/>
                  <a:chOff x="-449640" y="5418360"/>
                  <a:chExt cx="2032920" cy="2650320"/>
                </a:xfrm>
              </p:grpSpPr>
              <p:sp>
                <p:nvSpPr>
                  <p:cNvPr id="2054" name="Freeform 71"/>
                  <p:cNvSpPr/>
                  <p:nvPr/>
                </p:nvSpPr>
                <p:spPr>
                  <a:xfrm rot="12676800">
                    <a:off x="495360" y="5304600"/>
                    <a:ext cx="367200" cy="2877840"/>
                  </a:xfrm>
                  <a:custGeom>
                    <a:avLst/>
                    <a:gdLst>
                      <a:gd name="textAreaLeft" fmla="*/ 0 w 367200"/>
                      <a:gd name="textAreaRight" fmla="*/ 367560 w 367200"/>
                      <a:gd name="textAreaTop" fmla="*/ 0 h 2877840"/>
                      <a:gd name="textAreaBottom" fmla="*/ 2878200 h 2877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5" name="Oval 72"/>
                  <p:cNvSpPr/>
                  <p:nvPr/>
                </p:nvSpPr>
                <p:spPr>
                  <a:xfrm rot="12676800">
                    <a:off x="-372240" y="7547760"/>
                    <a:ext cx="4399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2056" name="Group 73"/>
          <p:cNvGrpSpPr/>
          <p:nvPr/>
        </p:nvGrpSpPr>
        <p:grpSpPr>
          <a:xfrm>
            <a:off x="47520" y="3157560"/>
            <a:ext cx="6206760" cy="5148360"/>
            <a:chOff x="47520" y="3157560"/>
            <a:chExt cx="6206760" cy="5148360"/>
          </a:xfrm>
        </p:grpSpPr>
        <p:grpSp>
          <p:nvGrpSpPr>
            <p:cNvPr id="2057" name="Group 74"/>
            <p:cNvGrpSpPr/>
            <p:nvPr/>
          </p:nvGrpSpPr>
          <p:grpSpPr>
            <a:xfrm>
              <a:off x="2799000" y="3157560"/>
              <a:ext cx="3455280" cy="2826000"/>
              <a:chOff x="2799000" y="3157560"/>
              <a:chExt cx="3455280" cy="2826000"/>
            </a:xfrm>
          </p:grpSpPr>
          <p:sp>
            <p:nvSpPr>
              <p:cNvPr id="2058" name="Freeform 75"/>
              <p:cNvSpPr/>
              <p:nvPr/>
            </p:nvSpPr>
            <p:spPr>
              <a:xfrm flipH="1" rot="3529800">
                <a:off x="3846600" y="2989800"/>
                <a:ext cx="1390680" cy="3161160"/>
              </a:xfrm>
              <a:custGeom>
                <a:avLst/>
                <a:gdLst>
                  <a:gd name="textAreaLeft" fmla="*/ -360 w 1390680"/>
                  <a:gd name="textAreaRight" fmla="*/ 1390680 w 1390680"/>
                  <a:gd name="textAreaTop" fmla="*/ 0 h 3161160"/>
                  <a:gd name="textAreaBottom" fmla="*/ 3161520 h 31611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59" name="Freeform 76"/>
              <p:cNvSpPr/>
              <p:nvPr/>
            </p:nvSpPr>
            <p:spPr>
              <a:xfrm flipH="1" rot="3529800">
                <a:off x="2976480" y="4475160"/>
                <a:ext cx="353880" cy="614880"/>
              </a:xfrm>
              <a:custGeom>
                <a:avLst/>
                <a:gdLst>
                  <a:gd name="textAreaLeft" fmla="*/ -360 w 353880"/>
                  <a:gd name="textAreaRight" fmla="*/ 353880 w 353880"/>
                  <a:gd name="textAreaTop" fmla="*/ 0 h 614880"/>
                  <a:gd name="textAreaBottom" fmla="*/ 615240 h 61488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154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60" name="Freeform 77"/>
              <p:cNvSpPr/>
              <p:nvPr/>
            </p:nvSpPr>
            <p:spPr>
              <a:xfrm flipH="1" rot="3529800">
                <a:off x="2886120" y="4671360"/>
                <a:ext cx="134280" cy="233280"/>
              </a:xfrm>
              <a:custGeom>
                <a:avLst/>
                <a:gdLst>
                  <a:gd name="textAreaLeft" fmla="*/ -360 w 134280"/>
                  <a:gd name="textAreaRight" fmla="*/ 134280 w 13428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61" name="Freeform 78"/>
              <p:cNvSpPr/>
              <p:nvPr/>
            </p:nvSpPr>
            <p:spPr>
              <a:xfrm flipH="1" rot="3529800">
                <a:off x="4133160" y="3107160"/>
                <a:ext cx="1214640" cy="2641320"/>
              </a:xfrm>
              <a:custGeom>
                <a:avLst/>
                <a:gdLst>
                  <a:gd name="textAreaLeft" fmla="*/ 360 w 1214640"/>
                  <a:gd name="textAreaRight" fmla="*/ 1215360 w 1214640"/>
                  <a:gd name="textAreaTop" fmla="*/ 0 h 2641320"/>
                  <a:gd name="textAreaBottom" fmla="*/ 2641680 h 264132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062" name="Group 79"/>
              <p:cNvGrpSpPr/>
              <p:nvPr/>
            </p:nvGrpSpPr>
            <p:grpSpPr>
              <a:xfrm>
                <a:off x="3023280" y="4078800"/>
                <a:ext cx="2968920" cy="1648440"/>
                <a:chOff x="3023280" y="4078800"/>
                <a:chExt cx="2968920" cy="1648440"/>
              </a:xfrm>
            </p:grpSpPr>
            <p:sp>
              <p:nvSpPr>
                <p:cNvPr id="2063" name="Freeform 80"/>
                <p:cNvSpPr/>
                <p:nvPr/>
              </p:nvSpPr>
              <p:spPr>
                <a:xfrm flipH="1" rot="4189800">
                  <a:off x="4304160" y="3524400"/>
                  <a:ext cx="391320" cy="3002400"/>
                </a:xfrm>
                <a:custGeom>
                  <a:avLst/>
                  <a:gdLst>
                    <a:gd name="textAreaLeft" fmla="*/ -360 w 391320"/>
                    <a:gd name="textAreaRight" fmla="*/ 391320 w 391320"/>
                    <a:gd name="textAreaTop" fmla="*/ 0 h 3002400"/>
                    <a:gd name="textAreaBottom" fmla="*/ 3002760 h 300240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64" name="Oval 81"/>
                <p:cNvSpPr/>
                <p:nvPr/>
              </p:nvSpPr>
              <p:spPr>
                <a:xfrm flipH="1" rot="4189800">
                  <a:off x="5470560" y="4154760"/>
                  <a:ext cx="469080" cy="43920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065" name="Group 82"/>
            <p:cNvGrpSpPr/>
            <p:nvPr/>
          </p:nvGrpSpPr>
          <p:grpSpPr>
            <a:xfrm>
              <a:off x="47520" y="5480640"/>
              <a:ext cx="3423960" cy="2825280"/>
              <a:chOff x="47520" y="5480640"/>
              <a:chExt cx="3423960" cy="2825280"/>
            </a:xfrm>
          </p:grpSpPr>
          <p:sp>
            <p:nvSpPr>
              <p:cNvPr id="2066" name="Freeform 83"/>
              <p:cNvSpPr/>
              <p:nvPr/>
            </p:nvSpPr>
            <p:spPr>
              <a:xfrm flipV="1" rot="3530400">
                <a:off x="1064160" y="5312880"/>
                <a:ext cx="1390680" cy="3160440"/>
              </a:xfrm>
              <a:custGeom>
                <a:avLst/>
                <a:gdLst>
                  <a:gd name="textAreaLeft" fmla="*/ 0 w 1390680"/>
                  <a:gd name="textAreaRight" fmla="*/ 1391040 w 1390680"/>
                  <a:gd name="textAreaTop" fmla="*/ -360 h 3160440"/>
                  <a:gd name="textAreaBottom" fmla="*/ 3160440 h 31604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067" name="Group 84"/>
              <p:cNvGrpSpPr/>
              <p:nvPr/>
            </p:nvGrpSpPr>
            <p:grpSpPr>
              <a:xfrm>
                <a:off x="315000" y="5735160"/>
                <a:ext cx="2968200" cy="1648800"/>
                <a:chOff x="315000" y="5735160"/>
                <a:chExt cx="2968200" cy="1648800"/>
              </a:xfrm>
            </p:grpSpPr>
            <p:sp>
              <p:nvSpPr>
                <p:cNvPr id="2068" name="Freeform 85"/>
                <p:cNvSpPr/>
                <p:nvPr/>
              </p:nvSpPr>
              <p:spPr>
                <a:xfrm flipV="1" rot="4190400">
                  <a:off x="1610640" y="4934880"/>
                  <a:ext cx="391680" cy="3002040"/>
                </a:xfrm>
                <a:custGeom>
                  <a:avLst/>
                  <a:gdLst>
                    <a:gd name="textAreaLeft" fmla="*/ 0 w 391680"/>
                    <a:gd name="textAreaRight" fmla="*/ 392040 w 391680"/>
                    <a:gd name="textAreaTop" fmla="*/ -360 h 3002040"/>
                    <a:gd name="textAreaBottom" fmla="*/ 3002040 h 300204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69" name="Oval 86"/>
                <p:cNvSpPr/>
                <p:nvPr/>
              </p:nvSpPr>
              <p:spPr>
                <a:xfrm flipV="1" rot="4190400">
                  <a:off x="367200" y="6868080"/>
                  <a:ext cx="469080" cy="4392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070" name="Oval 132"/>
          <p:cNvSpPr/>
          <p:nvPr/>
        </p:nvSpPr>
        <p:spPr>
          <a:xfrm>
            <a:off x="6496200" y="5821200"/>
            <a:ext cx="7272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071" name="Group 147"/>
          <p:cNvGrpSpPr/>
          <p:nvPr/>
        </p:nvGrpSpPr>
        <p:grpSpPr>
          <a:xfrm>
            <a:off x="-1545480" y="-373680"/>
            <a:ext cx="4865400" cy="5726880"/>
            <a:chOff x="-1545480" y="-373680"/>
            <a:chExt cx="4865400" cy="5726880"/>
          </a:xfrm>
        </p:grpSpPr>
        <p:grpSp>
          <p:nvGrpSpPr>
            <p:cNvPr id="2072" name="Group 148"/>
            <p:cNvGrpSpPr/>
            <p:nvPr/>
          </p:nvGrpSpPr>
          <p:grpSpPr>
            <a:xfrm>
              <a:off x="865800" y="-373680"/>
              <a:ext cx="2454120" cy="3011760"/>
              <a:chOff x="865800" y="-373680"/>
              <a:chExt cx="2454120" cy="3011760"/>
            </a:xfrm>
          </p:grpSpPr>
          <p:grpSp>
            <p:nvGrpSpPr>
              <p:cNvPr id="2073" name="Group 149"/>
              <p:cNvGrpSpPr/>
              <p:nvPr/>
            </p:nvGrpSpPr>
            <p:grpSpPr>
              <a:xfrm>
                <a:off x="1700280" y="-373680"/>
                <a:ext cx="1619640" cy="3002400"/>
                <a:chOff x="1700280" y="-373680"/>
                <a:chExt cx="1619640" cy="3002400"/>
              </a:xfrm>
            </p:grpSpPr>
            <p:grpSp>
              <p:nvGrpSpPr>
                <p:cNvPr id="2074" name="Group 150"/>
                <p:cNvGrpSpPr/>
                <p:nvPr/>
              </p:nvGrpSpPr>
              <p:grpSpPr>
                <a:xfrm>
                  <a:off x="1700280" y="-373680"/>
                  <a:ext cx="1612800" cy="3002400"/>
                  <a:chOff x="1700280" y="-373680"/>
                  <a:chExt cx="1612800" cy="3002400"/>
                </a:xfrm>
              </p:grpSpPr>
              <p:sp>
                <p:nvSpPr>
                  <p:cNvPr id="2075" name="Freeform 151"/>
                  <p:cNvSpPr/>
                  <p:nvPr/>
                </p:nvSpPr>
                <p:spPr>
                  <a:xfrm rot="21273600">
                    <a:off x="1834200" y="-316080"/>
                    <a:ext cx="1344600" cy="2887560"/>
                  </a:xfrm>
                  <a:custGeom>
                    <a:avLst/>
                    <a:gdLst>
                      <a:gd name="textAreaLeft" fmla="*/ 0 w 1344600"/>
                      <a:gd name="textAreaRight" fmla="*/ 1344960 w 1344600"/>
                      <a:gd name="textAreaTop" fmla="*/ 0 h 2887560"/>
                      <a:gd name="textAreaBottom" fmla="*/ 2887920 h 2887560"/>
                    </a:gdLst>
                    <a:ahLst/>
                    <a:rect l="textAreaLeft" t="textAreaTop" r="textAreaRight" b="textAreaBottom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76" name="Freeform 152"/>
                  <p:cNvSpPr/>
                  <p:nvPr/>
                </p:nvSpPr>
                <p:spPr>
                  <a:xfrm rot="21273600">
                    <a:off x="1916640" y="-300600"/>
                    <a:ext cx="1173960" cy="2412720"/>
                  </a:xfrm>
                  <a:custGeom>
                    <a:avLst/>
                    <a:gdLst>
                      <a:gd name="textAreaLeft" fmla="*/ 0 w 1173960"/>
                      <a:gd name="textAreaRight" fmla="*/ 1174320 w 1173960"/>
                      <a:gd name="textAreaTop" fmla="*/ 0 h 2412720"/>
                      <a:gd name="textAreaBottom" fmla="*/ 2413080 h 241272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7" name="Group 153"/>
                <p:cNvGrpSpPr/>
                <p:nvPr/>
              </p:nvGrpSpPr>
              <p:grpSpPr>
                <a:xfrm>
                  <a:off x="2928960" y="1936800"/>
                  <a:ext cx="390960" cy="590760"/>
                  <a:chOff x="2928960" y="1936800"/>
                  <a:chExt cx="390960" cy="590760"/>
                </a:xfrm>
              </p:grpSpPr>
              <p:sp>
                <p:nvSpPr>
                  <p:cNvPr id="2078" name="Freeform 154"/>
                  <p:cNvSpPr/>
                  <p:nvPr/>
                </p:nvSpPr>
                <p:spPr>
                  <a:xfrm rot="21273600">
                    <a:off x="2954520" y="1951200"/>
                    <a:ext cx="339120" cy="561240"/>
                  </a:xfrm>
                  <a:custGeom>
                    <a:avLst/>
                    <a:gdLst>
                      <a:gd name="textAreaLeft" fmla="*/ 0 w 339120"/>
                      <a:gd name="textAreaRight" fmla="*/ 339480 w 339120"/>
                      <a:gd name="textAreaTop" fmla="*/ 0 h 561240"/>
                      <a:gd name="textAreaBottom" fmla="*/ 561600 h 561240"/>
                    </a:gdLst>
                    <a:ahLst/>
                    <a:rect l="textAreaLeft" t="textAreaTop" r="textAreaRight" b="textAreaBottom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6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79" name="Freeform 155"/>
                  <p:cNvSpPr/>
                  <p:nvPr/>
                </p:nvSpPr>
                <p:spPr>
                  <a:xfrm rot="21273600">
                    <a:off x="3175200" y="2277720"/>
                    <a:ext cx="129240" cy="213120"/>
                  </a:xfrm>
                  <a:custGeom>
                    <a:avLst/>
                    <a:gdLst>
                      <a:gd name="textAreaLeft" fmla="*/ 0 w 129240"/>
                      <a:gd name="textAreaRight" fmla="*/ 129600 w 129240"/>
                      <a:gd name="textAreaTop" fmla="*/ 0 h 213120"/>
                      <a:gd name="textAreaBottom" fmla="*/ 213480 h 213120"/>
                    </a:gdLst>
                    <a:ahLst/>
                    <a:rect l="textAreaLeft" t="textAreaTop" r="textAreaRight" b="textAreaBottom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080" name="Group 156"/>
              <p:cNvGrpSpPr/>
              <p:nvPr/>
            </p:nvGrpSpPr>
            <p:grpSpPr>
              <a:xfrm>
                <a:off x="865800" y="40320"/>
                <a:ext cx="1483560" cy="2597760"/>
                <a:chOff x="865800" y="40320"/>
                <a:chExt cx="1483560" cy="2597760"/>
              </a:xfrm>
            </p:grpSpPr>
            <p:sp>
              <p:nvSpPr>
                <p:cNvPr id="2081" name="Freeform 157"/>
                <p:cNvSpPr/>
                <p:nvPr/>
              </p:nvSpPr>
              <p:spPr>
                <a:xfrm rot="1259400">
                  <a:off x="1326600" y="25560"/>
                  <a:ext cx="345240" cy="2638080"/>
                </a:xfrm>
                <a:custGeom>
                  <a:avLst/>
                  <a:gdLst>
                    <a:gd name="textAreaLeft" fmla="*/ 0 w 345240"/>
                    <a:gd name="textAreaRight" fmla="*/ 345600 w 345240"/>
                    <a:gd name="textAreaTop" fmla="*/ 0 h 2638080"/>
                    <a:gd name="textAreaBottom" fmla="*/ 2638440 h 263808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82" name="Oval 158"/>
                <p:cNvSpPr/>
                <p:nvPr/>
              </p:nvSpPr>
              <p:spPr>
                <a:xfrm rot="1259400">
                  <a:off x="1880280" y="101520"/>
                  <a:ext cx="413280" cy="3859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083" name="Group 159"/>
            <p:cNvGrpSpPr/>
            <p:nvPr/>
          </p:nvGrpSpPr>
          <p:grpSpPr>
            <a:xfrm>
              <a:off x="-1545480" y="2342520"/>
              <a:ext cx="2454840" cy="3010680"/>
              <a:chOff x="-1545480" y="2342520"/>
              <a:chExt cx="2454840" cy="3010680"/>
            </a:xfrm>
          </p:grpSpPr>
          <p:grpSp>
            <p:nvGrpSpPr>
              <p:cNvPr id="2084" name="Group 160"/>
              <p:cNvGrpSpPr/>
              <p:nvPr/>
            </p:nvGrpSpPr>
            <p:grpSpPr>
              <a:xfrm>
                <a:off x="-1545480" y="2351520"/>
                <a:ext cx="1619280" cy="3001680"/>
                <a:chOff x="-1545480" y="2351520"/>
                <a:chExt cx="1619280" cy="3001680"/>
              </a:xfrm>
            </p:grpSpPr>
            <p:grpSp>
              <p:nvGrpSpPr>
                <p:cNvPr id="2085" name="Group 161"/>
                <p:cNvGrpSpPr/>
                <p:nvPr/>
              </p:nvGrpSpPr>
              <p:grpSpPr>
                <a:xfrm>
                  <a:off x="-1539000" y="2351520"/>
                  <a:ext cx="1612800" cy="3001680"/>
                  <a:chOff x="-1539000" y="2351520"/>
                  <a:chExt cx="1612800" cy="3001680"/>
                </a:xfrm>
              </p:grpSpPr>
              <p:sp>
                <p:nvSpPr>
                  <p:cNvPr id="2086" name="Freeform 162"/>
                  <p:cNvSpPr/>
                  <p:nvPr/>
                </p:nvSpPr>
                <p:spPr>
                  <a:xfrm flipH="1" flipV="1" rot="21273600">
                    <a:off x="-1404720" y="2408760"/>
                    <a:ext cx="1344600" cy="2886840"/>
                  </a:xfrm>
                  <a:custGeom>
                    <a:avLst/>
                    <a:gdLst>
                      <a:gd name="textAreaLeft" fmla="*/ 360 w 1344600"/>
                      <a:gd name="textAreaRight" fmla="*/ 1345320 w 1344600"/>
                      <a:gd name="textAreaTop" fmla="*/ 0 h 2886840"/>
                      <a:gd name="textAreaBottom" fmla="*/ 2886840 h 2886840"/>
                    </a:gdLst>
                    <a:ahLst/>
                    <a:rect l="textAreaLeft" t="textAreaTop" r="textAreaRight" b="textAreaBottom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87" name="Freeform 163"/>
                  <p:cNvSpPr/>
                  <p:nvPr/>
                </p:nvSpPr>
                <p:spPr>
                  <a:xfrm flipH="1" flipV="1" rot="21273600">
                    <a:off x="-1317240" y="2868120"/>
                    <a:ext cx="1173960" cy="2412360"/>
                  </a:xfrm>
                  <a:custGeom>
                    <a:avLst/>
                    <a:gdLst>
                      <a:gd name="textAreaLeft" fmla="*/ 360 w 1173960"/>
                      <a:gd name="textAreaRight" fmla="*/ 1174680 w 1173960"/>
                      <a:gd name="textAreaTop" fmla="*/ -360 h 2412360"/>
                      <a:gd name="textAreaBottom" fmla="*/ 2412360 h 241236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88" name="Group 164"/>
                <p:cNvGrpSpPr/>
                <p:nvPr/>
              </p:nvGrpSpPr>
              <p:grpSpPr>
                <a:xfrm>
                  <a:off x="-1545480" y="2453040"/>
                  <a:ext cx="390600" cy="590040"/>
                  <a:chOff x="-1545480" y="2453040"/>
                  <a:chExt cx="390600" cy="590040"/>
                </a:xfrm>
              </p:grpSpPr>
              <p:sp>
                <p:nvSpPr>
                  <p:cNvPr id="2089" name="Freeform 165"/>
                  <p:cNvSpPr/>
                  <p:nvPr/>
                </p:nvSpPr>
                <p:spPr>
                  <a:xfrm flipH="1" flipV="1" rot="21273600">
                    <a:off x="-1519920" y="2467440"/>
                    <a:ext cx="339120" cy="560520"/>
                  </a:xfrm>
                  <a:custGeom>
                    <a:avLst/>
                    <a:gdLst>
                      <a:gd name="textAreaLeft" fmla="*/ -360 w 339120"/>
                      <a:gd name="textAreaRight" fmla="*/ 339120 w 339120"/>
                      <a:gd name="textAreaTop" fmla="*/ -360 h 560520"/>
                      <a:gd name="textAreaBottom" fmla="*/ 560520 h 560520"/>
                    </a:gdLst>
                    <a:ahLst/>
                    <a:rect l="textAreaLeft" t="textAreaTop" r="textAreaRight" b="textAreaBottom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0" name="Freeform 166"/>
                  <p:cNvSpPr/>
                  <p:nvPr/>
                </p:nvSpPr>
                <p:spPr>
                  <a:xfrm flipH="1" flipV="1" rot="21273600">
                    <a:off x="-1526760" y="2491200"/>
                    <a:ext cx="129240" cy="213120"/>
                  </a:xfrm>
                  <a:custGeom>
                    <a:avLst/>
                    <a:gdLst>
                      <a:gd name="textAreaLeft" fmla="*/ 360 w 129240"/>
                      <a:gd name="textAreaRight" fmla="*/ 129960 w 129240"/>
                      <a:gd name="textAreaTop" fmla="*/ 360 h 213120"/>
                      <a:gd name="textAreaBottom" fmla="*/ 213840 h 213120"/>
                    </a:gdLst>
                    <a:ahLst/>
                    <a:rect l="textAreaLeft" t="textAreaTop" r="textAreaRight" b="textAreaBottom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091" name="Group 167"/>
              <p:cNvGrpSpPr/>
              <p:nvPr/>
            </p:nvGrpSpPr>
            <p:grpSpPr>
              <a:xfrm>
                <a:off x="-575640" y="2342520"/>
                <a:ext cx="1485000" cy="2596680"/>
                <a:chOff x="-575640" y="2342520"/>
                <a:chExt cx="1485000" cy="2596680"/>
              </a:xfrm>
            </p:grpSpPr>
            <p:sp>
              <p:nvSpPr>
                <p:cNvPr id="2092" name="Freeform 168"/>
                <p:cNvSpPr/>
                <p:nvPr/>
              </p:nvSpPr>
              <p:spPr>
                <a:xfrm flipH="1" flipV="1" rot="1259400">
                  <a:off x="102240" y="2316240"/>
                  <a:ext cx="345240" cy="2637720"/>
                </a:xfrm>
                <a:custGeom>
                  <a:avLst/>
                  <a:gdLst>
                    <a:gd name="textAreaLeft" fmla="*/ -360 w 345240"/>
                    <a:gd name="textAreaRight" fmla="*/ 345240 w 345240"/>
                    <a:gd name="textAreaTop" fmla="*/ -360 h 2637720"/>
                    <a:gd name="textAreaBottom" fmla="*/ 2637720 h 263772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93" name="Oval 169"/>
                <p:cNvSpPr/>
                <p:nvPr/>
              </p:nvSpPr>
              <p:spPr>
                <a:xfrm flipH="1" flipV="1" rot="1259400">
                  <a:off x="-519840" y="4491720"/>
                  <a:ext cx="413280" cy="3859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2094" name="Group 170"/>
          <p:cNvGrpSpPr/>
          <p:nvPr/>
        </p:nvGrpSpPr>
        <p:grpSpPr>
          <a:xfrm>
            <a:off x="-2577240" y="355320"/>
            <a:ext cx="6306480" cy="5715360"/>
            <a:chOff x="-2577240" y="355320"/>
            <a:chExt cx="6306480" cy="5715360"/>
          </a:xfrm>
        </p:grpSpPr>
        <p:grpSp>
          <p:nvGrpSpPr>
            <p:cNvPr id="2095" name="Group 171"/>
            <p:cNvGrpSpPr/>
            <p:nvPr/>
          </p:nvGrpSpPr>
          <p:grpSpPr>
            <a:xfrm>
              <a:off x="578880" y="355320"/>
              <a:ext cx="3150360" cy="3147120"/>
              <a:chOff x="578880" y="355320"/>
              <a:chExt cx="3150360" cy="3147120"/>
            </a:xfrm>
          </p:grpSpPr>
          <p:grpSp>
            <p:nvGrpSpPr>
              <p:cNvPr id="2096" name="Group 172"/>
              <p:cNvGrpSpPr/>
              <p:nvPr/>
            </p:nvGrpSpPr>
            <p:grpSpPr>
              <a:xfrm>
                <a:off x="1698480" y="355320"/>
                <a:ext cx="2030760" cy="3147120"/>
                <a:chOff x="1698480" y="355320"/>
                <a:chExt cx="2030760" cy="3147120"/>
              </a:xfrm>
            </p:grpSpPr>
            <p:grpSp>
              <p:nvGrpSpPr>
                <p:cNvPr id="2097" name="Group 173"/>
                <p:cNvGrpSpPr/>
                <p:nvPr/>
              </p:nvGrpSpPr>
              <p:grpSpPr>
                <a:xfrm>
                  <a:off x="1698480" y="355320"/>
                  <a:ext cx="2025720" cy="3147120"/>
                  <a:chOff x="1698480" y="355320"/>
                  <a:chExt cx="2025720" cy="3147120"/>
                </a:xfrm>
              </p:grpSpPr>
              <p:sp>
                <p:nvSpPr>
                  <p:cNvPr id="2098" name="Freeform 174"/>
                  <p:cNvSpPr/>
                  <p:nvPr/>
                </p:nvSpPr>
                <p:spPr>
                  <a:xfrm rot="20830200">
                    <a:off x="2003400" y="476280"/>
                    <a:ext cx="1415520" cy="2905200"/>
                  </a:xfrm>
                  <a:custGeom>
                    <a:avLst/>
                    <a:gdLst>
                      <a:gd name="textAreaLeft" fmla="*/ 0 w 1415520"/>
                      <a:gd name="textAreaRight" fmla="*/ 1415880 w 1415520"/>
                      <a:gd name="textAreaTop" fmla="*/ 0 h 2905200"/>
                      <a:gd name="textAreaBottom" fmla="*/ 2905560 h 2905200"/>
                    </a:gdLst>
                    <a:ahLst/>
                    <a:rect l="textAreaLeft" t="textAreaTop" r="textAreaRight" b="textAreaBottom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9" name="Freeform 175"/>
                  <p:cNvSpPr/>
                  <p:nvPr/>
                </p:nvSpPr>
                <p:spPr>
                  <a:xfrm rot="20830200">
                    <a:off x="2062800" y="493920"/>
                    <a:ext cx="1236240" cy="2427480"/>
                  </a:xfrm>
                  <a:custGeom>
                    <a:avLst/>
                    <a:gdLst>
                      <a:gd name="textAreaLeft" fmla="*/ 0 w 1236240"/>
                      <a:gd name="textAreaRight" fmla="*/ 1236600 w 1236240"/>
                      <a:gd name="textAreaTop" fmla="*/ 0 h 2427480"/>
                      <a:gd name="textAreaBottom" fmla="*/ 2427480 h 242748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00" name="Group 176"/>
                <p:cNvGrpSpPr/>
                <p:nvPr/>
              </p:nvGrpSpPr>
              <p:grpSpPr>
                <a:xfrm>
                  <a:off x="3255840" y="2630520"/>
                  <a:ext cx="473400" cy="629640"/>
                  <a:chOff x="3255840" y="2630520"/>
                  <a:chExt cx="473400" cy="629640"/>
                </a:xfrm>
              </p:grpSpPr>
              <p:sp>
                <p:nvSpPr>
                  <p:cNvPr id="2101" name="Freeform 177"/>
                  <p:cNvSpPr/>
                  <p:nvPr/>
                </p:nvSpPr>
                <p:spPr>
                  <a:xfrm rot="20830200">
                    <a:off x="3313800" y="2662920"/>
                    <a:ext cx="356760" cy="564480"/>
                  </a:xfrm>
                  <a:custGeom>
                    <a:avLst/>
                    <a:gdLst>
                      <a:gd name="textAreaLeft" fmla="*/ 0 w 356760"/>
                      <a:gd name="textAreaRight" fmla="*/ 357120 w 356760"/>
                      <a:gd name="textAreaTop" fmla="*/ 0 h 564480"/>
                      <a:gd name="textAreaBottom" fmla="*/ 564840 h 564480"/>
                    </a:gdLst>
                    <a:ahLst/>
                    <a:rect l="textAreaLeft" t="textAreaTop" r="textAreaRight" b="textAreaBottom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6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2" name="Freeform 178"/>
                  <p:cNvSpPr/>
                  <p:nvPr/>
                </p:nvSpPr>
                <p:spPr>
                  <a:xfrm rot="20830200">
                    <a:off x="3565080" y="2973240"/>
                    <a:ext cx="136080" cy="214560"/>
                  </a:xfrm>
                  <a:custGeom>
                    <a:avLst/>
                    <a:gdLst>
                      <a:gd name="textAreaLeft" fmla="*/ 0 w 136080"/>
                      <a:gd name="textAreaRight" fmla="*/ 136440 w 136080"/>
                      <a:gd name="textAreaTop" fmla="*/ 0 h 214560"/>
                      <a:gd name="textAreaBottom" fmla="*/ 214920 h 214560"/>
                    </a:gdLst>
                    <a:ahLst/>
                    <a:rect l="textAreaLeft" t="textAreaTop" r="textAreaRight" b="textAreaBottom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103" name="Group 179"/>
              <p:cNvGrpSpPr/>
              <p:nvPr/>
            </p:nvGrpSpPr>
            <p:grpSpPr>
              <a:xfrm>
                <a:off x="578880" y="932400"/>
                <a:ext cx="1863360" cy="2479680"/>
                <a:chOff x="578880" y="932400"/>
                <a:chExt cx="1863360" cy="2479680"/>
              </a:xfrm>
            </p:grpSpPr>
            <p:sp>
              <p:nvSpPr>
                <p:cNvPr id="2104" name="Freeform 180"/>
                <p:cNvSpPr/>
                <p:nvPr/>
              </p:nvSpPr>
              <p:spPr>
                <a:xfrm rot="1800600">
                  <a:off x="1217880" y="845280"/>
                  <a:ext cx="363240" cy="2653920"/>
                </a:xfrm>
                <a:custGeom>
                  <a:avLst/>
                  <a:gdLst>
                    <a:gd name="textAreaLeft" fmla="*/ 0 w 363240"/>
                    <a:gd name="textAreaRight" fmla="*/ 363600 w 363240"/>
                    <a:gd name="textAreaTop" fmla="*/ 0 h 2653920"/>
                    <a:gd name="textAreaBottom" fmla="*/ 2654280 h 265392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05" name="Oval 181"/>
                <p:cNvSpPr/>
                <p:nvPr/>
              </p:nvSpPr>
              <p:spPr>
                <a:xfrm rot="1800600">
                  <a:off x="1938960" y="1031400"/>
                  <a:ext cx="435240" cy="38844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106" name="Group 182"/>
            <p:cNvGrpSpPr/>
            <p:nvPr/>
          </p:nvGrpSpPr>
          <p:grpSpPr>
            <a:xfrm>
              <a:off x="-2577240" y="2923920"/>
              <a:ext cx="3150000" cy="3146760"/>
              <a:chOff x="-2577240" y="2923920"/>
              <a:chExt cx="3150000" cy="3146760"/>
            </a:xfrm>
          </p:grpSpPr>
          <p:grpSp>
            <p:nvGrpSpPr>
              <p:cNvPr id="2107" name="Group 183"/>
              <p:cNvGrpSpPr/>
              <p:nvPr/>
            </p:nvGrpSpPr>
            <p:grpSpPr>
              <a:xfrm>
                <a:off x="-2577240" y="2923920"/>
                <a:ext cx="2031120" cy="3146760"/>
                <a:chOff x="-2577240" y="2923920"/>
                <a:chExt cx="2031120" cy="3146760"/>
              </a:xfrm>
            </p:grpSpPr>
            <p:grpSp>
              <p:nvGrpSpPr>
                <p:cNvPr id="2108" name="Group 184"/>
                <p:cNvGrpSpPr/>
                <p:nvPr/>
              </p:nvGrpSpPr>
              <p:grpSpPr>
                <a:xfrm>
                  <a:off x="-2572200" y="2923920"/>
                  <a:ext cx="2026080" cy="3146760"/>
                  <a:chOff x="-2572200" y="2923920"/>
                  <a:chExt cx="2026080" cy="3146760"/>
                </a:xfrm>
              </p:grpSpPr>
              <p:sp>
                <p:nvSpPr>
                  <p:cNvPr id="2109" name="Freeform 185"/>
                  <p:cNvSpPr/>
                  <p:nvPr/>
                </p:nvSpPr>
                <p:spPr>
                  <a:xfrm flipH="1" flipV="1" rot="20830200">
                    <a:off x="-2266920" y="3044520"/>
                    <a:ext cx="1415880" cy="29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0" name="Freeform 186"/>
                  <p:cNvSpPr/>
                  <p:nvPr/>
                </p:nvSpPr>
                <p:spPr>
                  <a:xfrm flipH="1" flipV="1" rot="20830200">
                    <a:off x="-2147040" y="3505320"/>
                    <a:ext cx="1236600" cy="2426760"/>
                  </a:xfrm>
                  <a:custGeom>
                    <a:avLst/>
                    <a:gdLst>
                      <a:gd name="textAreaLeft" fmla="*/ 360 w 1236600"/>
                      <a:gd name="textAreaRight" fmla="*/ 1237320 w 1236600"/>
                      <a:gd name="textAreaTop" fmla="*/ -360 h 2426760"/>
                      <a:gd name="textAreaBottom" fmla="*/ 2426760 h 242676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11" name="Group 187"/>
                <p:cNvGrpSpPr/>
                <p:nvPr/>
              </p:nvGrpSpPr>
              <p:grpSpPr>
                <a:xfrm>
                  <a:off x="-2577240" y="3166200"/>
                  <a:ext cx="473040" cy="629640"/>
                  <a:chOff x="-2577240" y="3166200"/>
                  <a:chExt cx="473040" cy="629640"/>
                </a:xfrm>
              </p:grpSpPr>
              <p:sp>
                <p:nvSpPr>
                  <p:cNvPr id="2112" name="Freeform 188"/>
                  <p:cNvSpPr/>
                  <p:nvPr/>
                </p:nvSpPr>
                <p:spPr>
                  <a:xfrm flipH="1" flipV="1" rot="20830200">
                    <a:off x="-2518920" y="3198240"/>
                    <a:ext cx="356760" cy="564480"/>
                  </a:xfrm>
                  <a:custGeom>
                    <a:avLst/>
                    <a:gdLst>
                      <a:gd name="textAreaLeft" fmla="*/ 360 w 356760"/>
                      <a:gd name="textAreaRight" fmla="*/ 357480 w 356760"/>
                      <a:gd name="textAreaTop" fmla="*/ 360 h 564480"/>
                      <a:gd name="textAreaBottom" fmla="*/ 565200 h 564480"/>
                    </a:gdLst>
                    <a:ahLst/>
                    <a:rect l="textAreaLeft" t="textAreaTop" r="textAreaRight" b="textAreaBottom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3" name="Freeform 189"/>
                  <p:cNvSpPr/>
                  <p:nvPr/>
                </p:nvSpPr>
                <p:spPr>
                  <a:xfrm flipH="1" flipV="1" rot="20830200">
                    <a:off x="-2544840" y="3239640"/>
                    <a:ext cx="136080" cy="214560"/>
                  </a:xfrm>
                  <a:custGeom>
                    <a:avLst/>
                    <a:gdLst>
                      <a:gd name="textAreaLeft" fmla="*/ -360 w 136080"/>
                      <a:gd name="textAreaRight" fmla="*/ 136080 w 136080"/>
                      <a:gd name="textAreaTop" fmla="*/ 360 h 214560"/>
                      <a:gd name="textAreaBottom" fmla="*/ 215280 h 214560"/>
                    </a:gdLst>
                    <a:ahLst/>
                    <a:rect l="textAreaLeft" t="textAreaTop" r="textAreaRight" b="textAreaBottom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114" name="Group 190"/>
              <p:cNvGrpSpPr/>
              <p:nvPr/>
            </p:nvGrpSpPr>
            <p:grpSpPr>
              <a:xfrm>
                <a:off x="-1290240" y="3013920"/>
                <a:ext cx="1863000" cy="2480040"/>
                <a:chOff x="-1290240" y="3013920"/>
                <a:chExt cx="1863000" cy="2480040"/>
              </a:xfrm>
            </p:grpSpPr>
            <p:sp>
              <p:nvSpPr>
                <p:cNvPr id="2115" name="Freeform 191"/>
                <p:cNvSpPr/>
                <p:nvPr/>
              </p:nvSpPr>
              <p:spPr>
                <a:xfrm flipH="1" flipV="1" rot="1800600">
                  <a:off x="-429840" y="2926440"/>
                  <a:ext cx="363600" cy="2653560"/>
                </a:xfrm>
                <a:custGeom>
                  <a:avLst/>
                  <a:gdLst>
                    <a:gd name="textAreaLeft" fmla="*/ -360 w 363600"/>
                    <a:gd name="textAreaRight" fmla="*/ 363600 w 363600"/>
                    <a:gd name="textAreaTop" fmla="*/ -360 h 2653560"/>
                    <a:gd name="textAreaBottom" fmla="*/ 2653560 h 265356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16" name="Oval 192"/>
                <p:cNvSpPr/>
                <p:nvPr/>
              </p:nvSpPr>
              <p:spPr>
                <a:xfrm flipH="1" flipV="1" rot="1800600">
                  <a:off x="-1222200" y="5006160"/>
                  <a:ext cx="435600" cy="3888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</p:spTree>
  </p:cSld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0.3592 0.04954 E">
                                      <p:cBhvr>
                                        <p:cTn id="1449" dur="2000" fill="hold"/>
                                        <p:tgtEl>
                                          <p:spTgt spid="19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20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2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2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500"/>
                            </p:stCondLst>
                            <p:childTnLst>
                              <p:par>
                                <p:cTn id="14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7.03704E-006 L 0.46476 0.47269 E">
                                      <p:cBhvr>
                                        <p:cTn id="1483" dur="2000" fill="hold"/>
                                        <p:tgtEl>
                                          <p:spTgt spid="20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">
                                      <p:cBhvr>
                                        <p:cTn id="1485" dur="20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9" dur="2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320000">
                                      <p:cBhvr>
                                        <p:cTn id="1491" dur="20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4" dur="20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7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500"/>
                                        <p:tgtEl>
                                          <p:spTgt spid="2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"/>
                            </p:stCondLst>
                            <p:childTnLst>
                              <p:par>
                                <p:cTn id="15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1544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7" dur="2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4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0.37778 0.02662 E">
                                      <p:cBhvr>
                                        <p:cTn id="1557" dur="2000" fill="hold"/>
                                        <p:tgtEl>
                                          <p:spTgt spid="2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900000">
                                      <p:cBhvr>
                                        <p:cTn id="1559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1562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2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8" dur="1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20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500"/>
                            </p:stCondLst>
                            <p:childTnLst>
                              <p:par>
                                <p:cTn id="1582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72222E-006 -4.44444E-006 L 0.36216 0.02107 E">
                                      <p:cBhvr>
                                        <p:cTn id="1583" dur="2000" fill="hold"/>
                                        <p:tgtEl>
                                          <p:spTgt spid="2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1080000">
                                      <p:cBhvr>
                                        <p:cTn id="1585" dur="20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520000">
                                      <p:cBhvr>
                                        <p:cTn id="1588" dur="20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2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2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9500"/>
                            </p:stCondLst>
                            <p:childTnLst>
                              <p:par>
                                <p:cTn id="16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4" dur="1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0" dur="500"/>
                                        <p:tgtEl>
                                          <p:spTgt spid="2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556E-007 -3.33333E-006 L 0.48837 0.36759 E">
                                      <p:cBhvr>
                                        <p:cTn id="1640" dur="2000" fill="hold"/>
                                        <p:tgtEl>
                                          <p:spTgt spid="20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1200000">
                                      <p:cBhvr>
                                        <p:cTn id="1642" dur="20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620000">
                                      <p:cBhvr>
                                        <p:cTn id="1645" dur="20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8" dur="20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1" dur="20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2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9" dur="20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2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Arc 215"/>
          <p:cNvSpPr/>
          <p:nvPr/>
        </p:nvSpPr>
        <p:spPr>
          <a:xfrm rot="19407600">
            <a:off x="5911920" y="4620960"/>
            <a:ext cx="2365200" cy="1214280"/>
          </a:xfrm>
          <a:custGeom>
            <a:avLst/>
            <a:gdLst>
              <a:gd name="textAreaLeft" fmla="*/ 0 w 2365200"/>
              <a:gd name="textAreaRight" fmla="*/ 2365560 w 236520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fill="none" w="21600" h="10810">
                <a:moveTo>
                  <a:pt x="21049" y="0"/>
                </a:moveTo>
                <a:cubicBezTo>
                  <a:pt x="21415" y="1589"/>
                  <a:pt x="21600" y="3214"/>
                  <a:pt x="21600" y="4845"/>
                </a:cubicBezTo>
                <a:cubicBezTo>
                  <a:pt x="21600" y="6862"/>
                  <a:pt x="21317" y="8870"/>
                  <a:pt x="20760" y="10810"/>
                </a:cubicBezTo>
              </a:path>
              <a:path stroke="0" w="21600" h="10810">
                <a:moveTo>
                  <a:pt x="21049" y="0"/>
                </a:moveTo>
                <a:cubicBezTo>
                  <a:pt x="21415" y="1589"/>
                  <a:pt x="21600" y="3214"/>
                  <a:pt x="21600" y="4845"/>
                </a:cubicBezTo>
                <a:cubicBezTo>
                  <a:pt x="21600" y="6862"/>
                  <a:pt x="21317" y="8870"/>
                  <a:pt x="20760" y="10810"/>
                </a:cubicBezTo>
                <a:lnTo>
                  <a:pt x="0" y="4845"/>
                </a:lnTo>
                <a:close/>
              </a:path>
            </a:pathLst>
          </a:custGeom>
          <a:noFill/>
          <a:ln w="381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8" name="Arc 2"/>
          <p:cNvSpPr/>
          <p:nvPr/>
        </p:nvSpPr>
        <p:spPr>
          <a:xfrm rot="666000">
            <a:off x="1619280" y="4448160"/>
            <a:ext cx="1460520" cy="1806480"/>
          </a:xfrm>
          <a:custGeom>
            <a:avLst/>
            <a:gdLst>
              <a:gd name="textAreaLeft" fmla="*/ 0 w 1460520"/>
              <a:gd name="textAreaRight" fmla="*/ 1460880 w 146052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fill="none" w="21600" h="27041">
                <a:moveTo>
                  <a:pt x="10653" y="0"/>
                </a:moveTo>
                <a:cubicBezTo>
                  <a:pt x="17419" y="3836"/>
                  <a:pt x="21600" y="11012"/>
                  <a:pt x="21600" y="18790"/>
                </a:cubicBezTo>
                <a:cubicBezTo>
                  <a:pt x="21600" y="21621"/>
                  <a:pt x="21043" y="24424"/>
                  <a:pt x="19961" y="27040"/>
                </a:cubicBezTo>
              </a:path>
              <a:path stroke="0" w="21600" h="27041">
                <a:moveTo>
                  <a:pt x="10653" y="0"/>
                </a:moveTo>
                <a:cubicBezTo>
                  <a:pt x="17419" y="3836"/>
                  <a:pt x="21600" y="11012"/>
                  <a:pt x="21600" y="18790"/>
                </a:cubicBezTo>
                <a:cubicBezTo>
                  <a:pt x="21600" y="21621"/>
                  <a:pt x="21043" y="24424"/>
                  <a:pt x="19961" y="27040"/>
                </a:cubicBezTo>
                <a:lnTo>
                  <a:pt x="0" y="18790"/>
                </a:lnTo>
                <a:close/>
              </a:path>
            </a:pathLst>
          </a:custGeom>
          <a:noFill/>
          <a:ln w="381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9" name="Text Box 3"/>
          <p:cNvSpPr/>
          <p:nvPr/>
        </p:nvSpPr>
        <p:spPr>
          <a:xfrm>
            <a:off x="6510600" y="58053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0" name="Text Box 4"/>
          <p:cNvSpPr/>
          <p:nvPr/>
        </p:nvSpPr>
        <p:spPr>
          <a:xfrm>
            <a:off x="8601480" y="2276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1" name="Freeform 5"/>
          <p:cNvSpPr/>
          <p:nvPr/>
        </p:nvSpPr>
        <p:spPr>
          <a:xfrm>
            <a:off x="5076720" y="2654280"/>
            <a:ext cx="3965760" cy="3295800"/>
          </a:xfrm>
          <a:custGeom>
            <a:avLst/>
            <a:gdLst>
              <a:gd name="textAreaLeft" fmla="*/ 0 w 3965760"/>
              <a:gd name="textAreaRight" fmla="*/ 3966120 w 3965760"/>
              <a:gd name="textAreaTop" fmla="*/ 0 h 3295800"/>
              <a:gd name="textAreaBottom" fmla="*/ 3296160 h 3295800"/>
            </a:gdLst>
            <a:ahLst/>
            <a:rect l="textAreaLeft" t="textAreaTop" r="textAreaRight" b="textAreaBottom"/>
            <a:pathLst>
              <a:path w="2498" h="2076">
                <a:moveTo>
                  <a:pt x="0" y="1940"/>
                </a:moveTo>
                <a:lnTo>
                  <a:pt x="2498" y="0"/>
                </a:lnTo>
                <a:lnTo>
                  <a:pt x="1542" y="2076"/>
                </a:lnTo>
                <a:lnTo>
                  <a:pt x="0" y="19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2" name="Freeform 6"/>
          <p:cNvSpPr/>
          <p:nvPr/>
        </p:nvSpPr>
        <p:spPr>
          <a:xfrm>
            <a:off x="5067360" y="5727600"/>
            <a:ext cx="3479760" cy="317520"/>
          </a:xfrm>
          <a:custGeom>
            <a:avLst/>
            <a:gdLst>
              <a:gd name="textAreaLeft" fmla="*/ 0 w 3479760"/>
              <a:gd name="textAreaRight" fmla="*/ 3480120 w 34797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192" h="200">
                <a:moveTo>
                  <a:pt x="0" y="0"/>
                </a:moveTo>
                <a:lnTo>
                  <a:pt x="2192" y="200"/>
                </a:lnTo>
              </a:path>
            </a:pathLst>
          </a:custGeom>
          <a:noFill/>
          <a:ln w="28440">
            <a:solidFill>
              <a:srgbClr val="40458c"/>
            </a:solidFill>
            <a:round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3" name="Freeform 7"/>
          <p:cNvSpPr/>
          <p:nvPr/>
        </p:nvSpPr>
        <p:spPr>
          <a:xfrm>
            <a:off x="5092560" y="2629080"/>
            <a:ext cx="3975120" cy="3098520"/>
          </a:xfrm>
          <a:custGeom>
            <a:avLst/>
            <a:gdLst>
              <a:gd name="textAreaLeft" fmla="*/ 0 w 3975120"/>
              <a:gd name="textAreaRight" fmla="*/ 3975480 w 3975120"/>
              <a:gd name="textAreaTop" fmla="*/ 0 h 3098520"/>
              <a:gd name="textAreaBottom" fmla="*/ 3098880 h 3098520"/>
            </a:gdLst>
            <a:ahLst/>
            <a:rect l="textAreaLeft" t="textAreaTop" r="textAreaRight" b="textAreaBottom"/>
            <a:pathLst>
              <a:path w="2504" h="1952">
                <a:moveTo>
                  <a:pt x="2504" y="0"/>
                </a:moveTo>
                <a:lnTo>
                  <a:pt x="0" y="1952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4" name="Line 8"/>
          <p:cNvSpPr/>
          <p:nvPr/>
        </p:nvSpPr>
        <p:spPr>
          <a:xfrm flipH="1">
            <a:off x="1631880" y="3763800"/>
            <a:ext cx="2735280" cy="18590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5" name="Freeform 9"/>
          <p:cNvSpPr/>
          <p:nvPr/>
        </p:nvSpPr>
        <p:spPr>
          <a:xfrm>
            <a:off x="1631880" y="5622840"/>
            <a:ext cx="2587680" cy="228600"/>
          </a:xfrm>
          <a:custGeom>
            <a:avLst/>
            <a:gdLst>
              <a:gd name="textAreaLeft" fmla="*/ 0 w 2587680"/>
              <a:gd name="textAreaRight" fmla="*/ 2588040 w 2587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630" h="144">
                <a:moveTo>
                  <a:pt x="0" y="0"/>
                </a:moveTo>
                <a:lnTo>
                  <a:pt x="1630" y="144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6" name="Oval 10"/>
          <p:cNvSpPr/>
          <p:nvPr/>
        </p:nvSpPr>
        <p:spPr>
          <a:xfrm>
            <a:off x="2776680" y="4776840"/>
            <a:ext cx="7272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7" name="Oval 11"/>
          <p:cNvSpPr/>
          <p:nvPr/>
        </p:nvSpPr>
        <p:spPr>
          <a:xfrm>
            <a:off x="3009960" y="571176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8" name="Oval 12"/>
          <p:cNvSpPr/>
          <p:nvPr/>
        </p:nvSpPr>
        <p:spPr>
          <a:xfrm>
            <a:off x="1558800" y="556560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9" name="Rectangle 13"/>
          <p:cNvSpPr/>
          <p:nvPr/>
        </p:nvSpPr>
        <p:spPr>
          <a:xfrm>
            <a:off x="34920" y="11448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строение треугольника по стороне и двум прилежащим к ней угла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130" name="Group 14"/>
          <p:cNvGrpSpPr/>
          <p:nvPr/>
        </p:nvGrpSpPr>
        <p:grpSpPr>
          <a:xfrm>
            <a:off x="4969440" y="2621880"/>
            <a:ext cx="1421280" cy="3084120"/>
            <a:chOff x="4969440" y="2621880"/>
            <a:chExt cx="1421280" cy="3084120"/>
          </a:xfrm>
        </p:grpSpPr>
        <p:sp>
          <p:nvSpPr>
            <p:cNvPr id="2131" name="Freeform 15"/>
            <p:cNvSpPr/>
            <p:nvPr/>
          </p:nvSpPr>
          <p:spPr>
            <a:xfrm flipH="1" rot="21521400">
              <a:off x="5003640" y="2636640"/>
              <a:ext cx="1352520" cy="3030480"/>
            </a:xfrm>
            <a:custGeom>
              <a:avLst/>
              <a:gdLst>
                <a:gd name="textAreaLeft" fmla="*/ -360 w 1352520"/>
                <a:gd name="textAreaRight" fmla="*/ 1352520 w 135252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c0099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32" name="Freeform 16"/>
            <p:cNvSpPr/>
            <p:nvPr/>
          </p:nvSpPr>
          <p:spPr>
            <a:xfrm flipH="1" rot="21521400">
              <a:off x="5013360" y="5113080"/>
              <a:ext cx="341280" cy="588600"/>
            </a:xfrm>
            <a:custGeom>
              <a:avLst/>
              <a:gdLst>
                <a:gd name="textAreaLeft" fmla="*/ 360 w 341280"/>
                <a:gd name="textAreaRight" fmla="*/ 342000 w 34128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33" name="Freeform 17"/>
            <p:cNvSpPr/>
            <p:nvPr/>
          </p:nvSpPr>
          <p:spPr>
            <a:xfrm flipH="1" rot="21521400">
              <a:off x="5024520" y="546552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34" name="Freeform 18"/>
            <p:cNvSpPr/>
            <p:nvPr/>
          </p:nvSpPr>
          <p:spPr>
            <a:xfrm flipH="1" rot="21521400">
              <a:off x="5065560" y="2653920"/>
              <a:ext cx="1181160" cy="2532240"/>
            </a:xfrm>
            <a:custGeom>
              <a:avLst/>
              <a:gdLst>
                <a:gd name="textAreaLeft" fmla="*/ -360 w 1181160"/>
                <a:gd name="textAreaRight" fmla="*/ 1181160 w 1181160"/>
                <a:gd name="textAreaTop" fmla="*/ 0 h 2532240"/>
                <a:gd name="textAreaBottom" fmla="*/ 2532600 h 25322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135" name="Arc 19"/>
          <p:cNvSpPr/>
          <p:nvPr/>
        </p:nvSpPr>
        <p:spPr>
          <a:xfrm rot="15103800">
            <a:off x="5832720" y="4795920"/>
            <a:ext cx="1008360" cy="114300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fill="none" w="21600" h="26036">
                <a:moveTo>
                  <a:pt x="17441" y="0"/>
                </a:moveTo>
                <a:cubicBezTo>
                  <a:pt x="20143" y="3699"/>
                  <a:pt x="21600" y="8161"/>
                  <a:pt x="21600" y="12742"/>
                </a:cubicBezTo>
                <a:cubicBezTo>
                  <a:pt x="21600" y="17559"/>
                  <a:pt x="19989" y="22239"/>
                  <a:pt x="17024" y="26036"/>
                </a:cubicBezTo>
              </a:path>
              <a:path stroke="0" w="21600" h="26036">
                <a:moveTo>
                  <a:pt x="17441" y="0"/>
                </a:moveTo>
                <a:cubicBezTo>
                  <a:pt x="20143" y="3699"/>
                  <a:pt x="21600" y="8161"/>
                  <a:pt x="21600" y="12742"/>
                </a:cubicBezTo>
                <a:cubicBezTo>
                  <a:pt x="21600" y="17559"/>
                  <a:pt x="19989" y="22239"/>
                  <a:pt x="17024" y="26036"/>
                </a:cubicBezTo>
                <a:lnTo>
                  <a:pt x="0" y="12742"/>
                </a:lnTo>
                <a:close/>
              </a:path>
            </a:pathLst>
          </a:custGeom>
          <a:noFill/>
          <a:ln w="381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6" name="Text Box 20"/>
          <p:cNvSpPr/>
          <p:nvPr/>
        </p:nvSpPr>
        <p:spPr>
          <a:xfrm>
            <a:off x="1341360" y="5805360"/>
            <a:ext cx="1120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Угол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99"/>
                </a:solidFill>
                <a:latin typeface="Tahoma"/>
              </a:rPr>
              <a:t>h</a:t>
            </a:r>
            <a:r>
              <a:rPr b="0" i="1" lang="ru-RU" sz="18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i="1" lang="en-US" sz="1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i="1" lang="ru-RU" sz="18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7" name="Text Box 21"/>
          <p:cNvSpPr/>
          <p:nvPr/>
        </p:nvSpPr>
        <p:spPr>
          <a:xfrm>
            <a:off x="3567240" y="3763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h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8" name="Text Box 22"/>
          <p:cNvSpPr/>
          <p:nvPr/>
        </p:nvSpPr>
        <p:spPr>
          <a:xfrm>
            <a:off x="3184200" y="911160"/>
            <a:ext cx="62780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луч </a:t>
            </a:r>
            <a:r>
              <a:rPr b="0" i="1" lang="ru-RU" sz="24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тложим отрезок АВ, равный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угол, равный данному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угол, равный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h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9" name="Text Box 23"/>
          <p:cNvSpPr/>
          <p:nvPr/>
        </p:nvSpPr>
        <p:spPr>
          <a:xfrm>
            <a:off x="7517160" y="59500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0" name="Text Box 24"/>
          <p:cNvSpPr/>
          <p:nvPr/>
        </p:nvSpPr>
        <p:spPr>
          <a:xfrm>
            <a:off x="4939200" y="57816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1" name="Text Box 25"/>
          <p:cNvSpPr/>
          <p:nvPr/>
        </p:nvSpPr>
        <p:spPr>
          <a:xfrm>
            <a:off x="0" y="621648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Треугольник АВС искомый. Обоснуй, используя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признак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2" name="Text Box 26"/>
          <p:cNvSpPr/>
          <p:nvPr/>
        </p:nvSpPr>
        <p:spPr>
          <a:xfrm>
            <a:off x="527400" y="105264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3" name="Text Box 27"/>
          <p:cNvSpPr/>
          <p:nvPr/>
        </p:nvSpPr>
        <p:spPr>
          <a:xfrm>
            <a:off x="1187280" y="1989000"/>
            <a:ext cx="194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Отрезок Р</a:t>
            </a:r>
            <a:r>
              <a:rPr b="1" lang="ru-RU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1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4" name="Freeform 28"/>
          <p:cNvSpPr/>
          <p:nvPr/>
        </p:nvSpPr>
        <p:spPr>
          <a:xfrm>
            <a:off x="888840" y="2489040"/>
            <a:ext cx="2457720" cy="5040"/>
          </a:xfrm>
          <a:custGeom>
            <a:avLst/>
            <a:gdLst>
              <a:gd name="textAreaLeft" fmla="*/ 0 w 2457720"/>
              <a:gd name="textAreaRight" fmla="*/ 2458080 w 24577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548" h="3">
                <a:moveTo>
                  <a:pt x="0" y="0"/>
                </a:moveTo>
                <a:lnTo>
                  <a:pt x="1548" y="3"/>
                </a:lnTo>
              </a:path>
            </a:pathLst>
          </a:custGeom>
          <a:noFill/>
          <a:ln w="12600">
            <a:solidFill>
              <a:srgbClr val="40458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400" bIns="-41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5" name="Text Box 30"/>
          <p:cNvSpPr/>
          <p:nvPr/>
        </p:nvSpPr>
        <p:spPr>
          <a:xfrm>
            <a:off x="3321720" y="2349360"/>
            <a:ext cx="46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6" name="Text Box 31"/>
          <p:cNvSpPr/>
          <p:nvPr/>
        </p:nvSpPr>
        <p:spPr>
          <a:xfrm>
            <a:off x="537480" y="22766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7" name="Text Box 34"/>
          <p:cNvSpPr/>
          <p:nvPr/>
        </p:nvSpPr>
        <p:spPr>
          <a:xfrm>
            <a:off x="8526240" y="5708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8" name="Text Box 35"/>
          <p:cNvSpPr/>
          <p:nvPr/>
        </p:nvSpPr>
        <p:spPr>
          <a:xfrm>
            <a:off x="3931920" y="5780160"/>
            <a:ext cx="42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k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9" name="Arc 36"/>
          <p:cNvSpPr/>
          <p:nvPr/>
        </p:nvSpPr>
        <p:spPr>
          <a:xfrm rot="369600">
            <a:off x="4989600" y="5184360"/>
            <a:ext cx="2555640" cy="114768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fill="none" w="21600" h="10019">
                <a:moveTo>
                  <a:pt x="20640" y="-1"/>
                </a:moveTo>
                <a:cubicBezTo>
                  <a:pt x="21276" y="2062"/>
                  <a:pt x="21600" y="4208"/>
                  <a:pt x="21600" y="6367"/>
                </a:cubicBezTo>
                <a:cubicBezTo>
                  <a:pt x="21600" y="7590"/>
                  <a:pt x="21495" y="8812"/>
                  <a:pt x="21289" y="10019"/>
                </a:cubicBezTo>
              </a:path>
              <a:path stroke="0" w="21600" h="10019">
                <a:moveTo>
                  <a:pt x="20640" y="-1"/>
                </a:moveTo>
                <a:cubicBezTo>
                  <a:pt x="21276" y="2062"/>
                  <a:pt x="21600" y="4208"/>
                  <a:pt x="21600" y="6367"/>
                </a:cubicBezTo>
                <a:cubicBezTo>
                  <a:pt x="21600" y="7590"/>
                  <a:pt x="21495" y="8812"/>
                  <a:pt x="21289" y="10019"/>
                </a:cubicBezTo>
                <a:lnTo>
                  <a:pt x="0" y="6367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0" name="Freeform 38"/>
          <p:cNvSpPr/>
          <p:nvPr/>
        </p:nvSpPr>
        <p:spPr>
          <a:xfrm>
            <a:off x="7543800" y="2654280"/>
            <a:ext cx="1523880" cy="327672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3276720"/>
              <a:gd name="textAreaBottom" fmla="*/ 3277080 h 3276720"/>
            </a:gdLst>
            <a:ahLst/>
            <a:rect l="textAreaLeft" t="textAreaTop" r="textAreaRight" b="textAreaBottom"/>
            <a:pathLst>
              <a:path w="960" h="2064">
                <a:moveTo>
                  <a:pt x="960" y="0"/>
                </a:moveTo>
                <a:lnTo>
                  <a:pt x="0" y="2064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1" name="Arc 52"/>
          <p:cNvSpPr/>
          <p:nvPr/>
        </p:nvSpPr>
        <p:spPr>
          <a:xfrm rot="503400">
            <a:off x="5192280" y="4520880"/>
            <a:ext cx="1376280" cy="1967040"/>
          </a:xfrm>
          <a:custGeom>
            <a:avLst/>
            <a:gdLst>
              <a:gd name="textAreaLeft" fmla="*/ 0 w 1376280"/>
              <a:gd name="textAreaRight" fmla="*/ 1376640 w 1376280"/>
              <a:gd name="textAreaTop" fmla="*/ 0 h 1967040"/>
              <a:gd name="textAreaBottom" fmla="*/ 1967400 h 1967040"/>
            </a:gdLst>
            <a:ahLst/>
            <a:rect l="textAreaLeft" t="textAreaTop" r="textAreaRight" b="textAreaBottom"/>
            <a:pathLst>
              <a:path fill="none" w="21600" h="30408">
                <a:moveTo>
                  <a:pt x="5431" y="-1"/>
                </a:moveTo>
                <a:cubicBezTo>
                  <a:pt x="14952" y="2473"/>
                  <a:pt x="21600" y="11068"/>
                  <a:pt x="21600" y="20906"/>
                </a:cubicBezTo>
                <a:cubicBezTo>
                  <a:pt x="21600" y="24199"/>
                  <a:pt x="20846" y="27449"/>
                  <a:pt x="19397" y="30407"/>
                </a:cubicBezTo>
              </a:path>
              <a:path stroke="0" w="21600" h="30408">
                <a:moveTo>
                  <a:pt x="5431" y="-1"/>
                </a:moveTo>
                <a:cubicBezTo>
                  <a:pt x="14952" y="2473"/>
                  <a:pt x="21600" y="11068"/>
                  <a:pt x="21600" y="20906"/>
                </a:cubicBezTo>
                <a:cubicBezTo>
                  <a:pt x="21600" y="24199"/>
                  <a:pt x="20846" y="27449"/>
                  <a:pt x="19397" y="30407"/>
                </a:cubicBezTo>
                <a:lnTo>
                  <a:pt x="0" y="20906"/>
                </a:lnTo>
                <a:close/>
              </a:path>
            </a:pathLst>
          </a:custGeom>
          <a:noFill/>
          <a:ln w="381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2" name="Oval 53"/>
          <p:cNvSpPr/>
          <p:nvPr/>
        </p:nvSpPr>
        <p:spPr>
          <a:xfrm>
            <a:off x="6168960" y="4835520"/>
            <a:ext cx="71640" cy="7128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153" name="Group 90"/>
          <p:cNvGrpSpPr/>
          <p:nvPr/>
        </p:nvGrpSpPr>
        <p:grpSpPr>
          <a:xfrm>
            <a:off x="-1545480" y="-373680"/>
            <a:ext cx="4865400" cy="5726880"/>
            <a:chOff x="-1545480" y="-373680"/>
            <a:chExt cx="4865400" cy="5726880"/>
          </a:xfrm>
        </p:grpSpPr>
        <p:grpSp>
          <p:nvGrpSpPr>
            <p:cNvPr id="2154" name="Group 91"/>
            <p:cNvGrpSpPr/>
            <p:nvPr/>
          </p:nvGrpSpPr>
          <p:grpSpPr>
            <a:xfrm>
              <a:off x="865800" y="-373680"/>
              <a:ext cx="2454120" cy="3011760"/>
              <a:chOff x="865800" y="-373680"/>
              <a:chExt cx="2454120" cy="3011760"/>
            </a:xfrm>
          </p:grpSpPr>
          <p:grpSp>
            <p:nvGrpSpPr>
              <p:cNvPr id="2155" name="Group 92"/>
              <p:cNvGrpSpPr/>
              <p:nvPr/>
            </p:nvGrpSpPr>
            <p:grpSpPr>
              <a:xfrm>
                <a:off x="1700280" y="-373680"/>
                <a:ext cx="1619640" cy="3002400"/>
                <a:chOff x="1700280" y="-373680"/>
                <a:chExt cx="1619640" cy="3002400"/>
              </a:xfrm>
            </p:grpSpPr>
            <p:grpSp>
              <p:nvGrpSpPr>
                <p:cNvPr id="2156" name="Group 93"/>
                <p:cNvGrpSpPr/>
                <p:nvPr/>
              </p:nvGrpSpPr>
              <p:grpSpPr>
                <a:xfrm>
                  <a:off x="1700280" y="-373680"/>
                  <a:ext cx="1612800" cy="3002400"/>
                  <a:chOff x="1700280" y="-373680"/>
                  <a:chExt cx="1612800" cy="3002400"/>
                </a:xfrm>
              </p:grpSpPr>
              <p:sp>
                <p:nvSpPr>
                  <p:cNvPr id="2157" name="Freeform 94"/>
                  <p:cNvSpPr/>
                  <p:nvPr/>
                </p:nvSpPr>
                <p:spPr>
                  <a:xfrm rot="21273600">
                    <a:off x="1834200" y="-316080"/>
                    <a:ext cx="1344600" cy="2887560"/>
                  </a:xfrm>
                  <a:custGeom>
                    <a:avLst/>
                    <a:gdLst>
                      <a:gd name="textAreaLeft" fmla="*/ 0 w 1344600"/>
                      <a:gd name="textAreaRight" fmla="*/ 1344960 w 1344600"/>
                      <a:gd name="textAreaTop" fmla="*/ 0 h 2887560"/>
                      <a:gd name="textAreaBottom" fmla="*/ 2887920 h 2887560"/>
                    </a:gdLst>
                    <a:ahLst/>
                    <a:rect l="textAreaLeft" t="textAreaTop" r="textAreaRight" b="textAreaBottom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58" name="Freeform 95"/>
                  <p:cNvSpPr/>
                  <p:nvPr/>
                </p:nvSpPr>
                <p:spPr>
                  <a:xfrm rot="21273600">
                    <a:off x="1916640" y="-300600"/>
                    <a:ext cx="1173960" cy="2412720"/>
                  </a:xfrm>
                  <a:custGeom>
                    <a:avLst/>
                    <a:gdLst>
                      <a:gd name="textAreaLeft" fmla="*/ 0 w 1173960"/>
                      <a:gd name="textAreaRight" fmla="*/ 1174320 w 1173960"/>
                      <a:gd name="textAreaTop" fmla="*/ 0 h 2412720"/>
                      <a:gd name="textAreaBottom" fmla="*/ 2413080 h 241272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59" name="Group 96"/>
                <p:cNvGrpSpPr/>
                <p:nvPr/>
              </p:nvGrpSpPr>
              <p:grpSpPr>
                <a:xfrm>
                  <a:off x="2928960" y="1936800"/>
                  <a:ext cx="390960" cy="590760"/>
                  <a:chOff x="2928960" y="1936800"/>
                  <a:chExt cx="390960" cy="590760"/>
                </a:xfrm>
              </p:grpSpPr>
              <p:sp>
                <p:nvSpPr>
                  <p:cNvPr id="2160" name="Freeform 97"/>
                  <p:cNvSpPr/>
                  <p:nvPr/>
                </p:nvSpPr>
                <p:spPr>
                  <a:xfrm rot="21273600">
                    <a:off x="2954520" y="1951200"/>
                    <a:ext cx="339120" cy="561240"/>
                  </a:xfrm>
                  <a:custGeom>
                    <a:avLst/>
                    <a:gdLst>
                      <a:gd name="textAreaLeft" fmla="*/ 0 w 339120"/>
                      <a:gd name="textAreaRight" fmla="*/ 339480 w 339120"/>
                      <a:gd name="textAreaTop" fmla="*/ 0 h 561240"/>
                      <a:gd name="textAreaBottom" fmla="*/ 561600 h 561240"/>
                    </a:gdLst>
                    <a:ahLst/>
                    <a:rect l="textAreaLeft" t="textAreaTop" r="textAreaRight" b="textAreaBottom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6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61" name="Freeform 98"/>
                  <p:cNvSpPr/>
                  <p:nvPr/>
                </p:nvSpPr>
                <p:spPr>
                  <a:xfrm rot="21273600">
                    <a:off x="3175200" y="2277720"/>
                    <a:ext cx="129240" cy="213120"/>
                  </a:xfrm>
                  <a:custGeom>
                    <a:avLst/>
                    <a:gdLst>
                      <a:gd name="textAreaLeft" fmla="*/ 0 w 129240"/>
                      <a:gd name="textAreaRight" fmla="*/ 129600 w 129240"/>
                      <a:gd name="textAreaTop" fmla="*/ 0 h 213120"/>
                      <a:gd name="textAreaBottom" fmla="*/ 213480 h 213120"/>
                    </a:gdLst>
                    <a:ahLst/>
                    <a:rect l="textAreaLeft" t="textAreaTop" r="textAreaRight" b="textAreaBottom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162" name="Group 99"/>
              <p:cNvGrpSpPr/>
              <p:nvPr/>
            </p:nvGrpSpPr>
            <p:grpSpPr>
              <a:xfrm>
                <a:off x="865800" y="40320"/>
                <a:ext cx="1483560" cy="2597760"/>
                <a:chOff x="865800" y="40320"/>
                <a:chExt cx="1483560" cy="2597760"/>
              </a:xfrm>
            </p:grpSpPr>
            <p:sp>
              <p:nvSpPr>
                <p:cNvPr id="2163" name="Freeform 100"/>
                <p:cNvSpPr/>
                <p:nvPr/>
              </p:nvSpPr>
              <p:spPr>
                <a:xfrm rot="1259400">
                  <a:off x="1326600" y="25560"/>
                  <a:ext cx="345240" cy="2638080"/>
                </a:xfrm>
                <a:custGeom>
                  <a:avLst/>
                  <a:gdLst>
                    <a:gd name="textAreaLeft" fmla="*/ 0 w 345240"/>
                    <a:gd name="textAreaRight" fmla="*/ 345600 w 345240"/>
                    <a:gd name="textAreaTop" fmla="*/ 0 h 2638080"/>
                    <a:gd name="textAreaBottom" fmla="*/ 2638440 h 263808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4" name="Oval 101"/>
                <p:cNvSpPr/>
                <p:nvPr/>
              </p:nvSpPr>
              <p:spPr>
                <a:xfrm rot="1259400">
                  <a:off x="1880280" y="101520"/>
                  <a:ext cx="413280" cy="3859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165" name="Group 102"/>
            <p:cNvGrpSpPr/>
            <p:nvPr/>
          </p:nvGrpSpPr>
          <p:grpSpPr>
            <a:xfrm>
              <a:off x="-1545480" y="2342520"/>
              <a:ext cx="2454840" cy="3010680"/>
              <a:chOff x="-1545480" y="2342520"/>
              <a:chExt cx="2454840" cy="3010680"/>
            </a:xfrm>
          </p:grpSpPr>
          <p:grpSp>
            <p:nvGrpSpPr>
              <p:cNvPr id="2166" name="Group 103"/>
              <p:cNvGrpSpPr/>
              <p:nvPr/>
            </p:nvGrpSpPr>
            <p:grpSpPr>
              <a:xfrm>
                <a:off x="-1545480" y="2351520"/>
                <a:ext cx="1619280" cy="3001680"/>
                <a:chOff x="-1545480" y="2351520"/>
                <a:chExt cx="1619280" cy="3001680"/>
              </a:xfrm>
            </p:grpSpPr>
            <p:grpSp>
              <p:nvGrpSpPr>
                <p:cNvPr id="2167" name="Group 104"/>
                <p:cNvGrpSpPr/>
                <p:nvPr/>
              </p:nvGrpSpPr>
              <p:grpSpPr>
                <a:xfrm>
                  <a:off x="-1539000" y="2351520"/>
                  <a:ext cx="1612800" cy="3001680"/>
                  <a:chOff x="-1539000" y="2351520"/>
                  <a:chExt cx="1612800" cy="3001680"/>
                </a:xfrm>
              </p:grpSpPr>
              <p:sp>
                <p:nvSpPr>
                  <p:cNvPr id="2168" name="Freeform 105"/>
                  <p:cNvSpPr/>
                  <p:nvPr/>
                </p:nvSpPr>
                <p:spPr>
                  <a:xfrm flipH="1" flipV="1" rot="21273600">
                    <a:off x="-1404720" y="2408760"/>
                    <a:ext cx="1344600" cy="2886840"/>
                  </a:xfrm>
                  <a:custGeom>
                    <a:avLst/>
                    <a:gdLst>
                      <a:gd name="textAreaLeft" fmla="*/ 360 w 1344600"/>
                      <a:gd name="textAreaRight" fmla="*/ 1345320 w 1344600"/>
                      <a:gd name="textAreaTop" fmla="*/ 0 h 2886840"/>
                      <a:gd name="textAreaBottom" fmla="*/ 2886840 h 2886840"/>
                    </a:gdLst>
                    <a:ahLst/>
                    <a:rect l="textAreaLeft" t="textAreaTop" r="textAreaRight" b="textAreaBottom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69" name="Freeform 106"/>
                  <p:cNvSpPr/>
                  <p:nvPr/>
                </p:nvSpPr>
                <p:spPr>
                  <a:xfrm flipH="1" flipV="1" rot="21273600">
                    <a:off x="-1317240" y="2868120"/>
                    <a:ext cx="1173960" cy="2412360"/>
                  </a:xfrm>
                  <a:custGeom>
                    <a:avLst/>
                    <a:gdLst>
                      <a:gd name="textAreaLeft" fmla="*/ 360 w 1173960"/>
                      <a:gd name="textAreaRight" fmla="*/ 1174680 w 1173960"/>
                      <a:gd name="textAreaTop" fmla="*/ -360 h 2412360"/>
                      <a:gd name="textAreaBottom" fmla="*/ 2412360 h 241236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70" name="Group 107"/>
                <p:cNvGrpSpPr/>
                <p:nvPr/>
              </p:nvGrpSpPr>
              <p:grpSpPr>
                <a:xfrm>
                  <a:off x="-1545480" y="2453040"/>
                  <a:ext cx="390600" cy="590040"/>
                  <a:chOff x="-1545480" y="2453040"/>
                  <a:chExt cx="390600" cy="590040"/>
                </a:xfrm>
              </p:grpSpPr>
              <p:sp>
                <p:nvSpPr>
                  <p:cNvPr id="2171" name="Freeform 108"/>
                  <p:cNvSpPr/>
                  <p:nvPr/>
                </p:nvSpPr>
                <p:spPr>
                  <a:xfrm flipH="1" flipV="1" rot="21273600">
                    <a:off x="-1519920" y="2467440"/>
                    <a:ext cx="339120" cy="560520"/>
                  </a:xfrm>
                  <a:custGeom>
                    <a:avLst/>
                    <a:gdLst>
                      <a:gd name="textAreaLeft" fmla="*/ -360 w 339120"/>
                      <a:gd name="textAreaRight" fmla="*/ 339120 w 339120"/>
                      <a:gd name="textAreaTop" fmla="*/ -360 h 560520"/>
                      <a:gd name="textAreaBottom" fmla="*/ 560520 h 560520"/>
                    </a:gdLst>
                    <a:ahLst/>
                    <a:rect l="textAreaLeft" t="textAreaTop" r="textAreaRight" b="textAreaBottom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72" name="Freeform 109"/>
                  <p:cNvSpPr/>
                  <p:nvPr/>
                </p:nvSpPr>
                <p:spPr>
                  <a:xfrm flipH="1" flipV="1" rot="21273600">
                    <a:off x="-1526760" y="2491200"/>
                    <a:ext cx="129240" cy="213120"/>
                  </a:xfrm>
                  <a:custGeom>
                    <a:avLst/>
                    <a:gdLst>
                      <a:gd name="textAreaLeft" fmla="*/ 360 w 129240"/>
                      <a:gd name="textAreaRight" fmla="*/ 129960 w 129240"/>
                      <a:gd name="textAreaTop" fmla="*/ 360 h 213120"/>
                      <a:gd name="textAreaBottom" fmla="*/ 213840 h 213120"/>
                    </a:gdLst>
                    <a:ahLst/>
                    <a:rect l="textAreaLeft" t="textAreaTop" r="textAreaRight" b="textAreaBottom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173" name="Group 110"/>
              <p:cNvGrpSpPr/>
              <p:nvPr/>
            </p:nvGrpSpPr>
            <p:grpSpPr>
              <a:xfrm>
                <a:off x="-575640" y="2342520"/>
                <a:ext cx="1485000" cy="2596680"/>
                <a:chOff x="-575640" y="2342520"/>
                <a:chExt cx="1485000" cy="2596680"/>
              </a:xfrm>
            </p:grpSpPr>
            <p:sp>
              <p:nvSpPr>
                <p:cNvPr id="2174" name="Freeform 111"/>
                <p:cNvSpPr/>
                <p:nvPr/>
              </p:nvSpPr>
              <p:spPr>
                <a:xfrm flipH="1" flipV="1" rot="1259400">
                  <a:off x="102240" y="2316240"/>
                  <a:ext cx="345240" cy="2637720"/>
                </a:xfrm>
                <a:custGeom>
                  <a:avLst/>
                  <a:gdLst>
                    <a:gd name="textAreaLeft" fmla="*/ -360 w 345240"/>
                    <a:gd name="textAreaRight" fmla="*/ 345240 w 345240"/>
                    <a:gd name="textAreaTop" fmla="*/ -360 h 2637720"/>
                    <a:gd name="textAreaBottom" fmla="*/ 2637720 h 263772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5" name="Oval 112"/>
                <p:cNvSpPr/>
                <p:nvPr/>
              </p:nvSpPr>
              <p:spPr>
                <a:xfrm flipH="1" flipV="1" rot="1259400">
                  <a:off x="-519840" y="4491720"/>
                  <a:ext cx="413280" cy="3859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2176" name="Group 140"/>
          <p:cNvGrpSpPr/>
          <p:nvPr/>
        </p:nvGrpSpPr>
        <p:grpSpPr>
          <a:xfrm>
            <a:off x="395280" y="2637000"/>
            <a:ext cx="1816200" cy="3168360"/>
            <a:chOff x="395280" y="2637000"/>
            <a:chExt cx="1816200" cy="3168360"/>
          </a:xfrm>
        </p:grpSpPr>
        <p:sp>
          <p:nvSpPr>
            <p:cNvPr id="2177" name="Line 137"/>
            <p:cNvSpPr/>
            <p:nvPr/>
          </p:nvSpPr>
          <p:spPr>
            <a:xfrm>
              <a:off x="1476360" y="2637000"/>
              <a:ext cx="735120" cy="14554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78" name="Freeform 138"/>
            <p:cNvSpPr/>
            <p:nvPr/>
          </p:nvSpPr>
          <p:spPr>
            <a:xfrm>
              <a:off x="395280" y="4076640"/>
              <a:ext cx="1782720" cy="1728720"/>
            </a:xfrm>
            <a:custGeom>
              <a:avLst/>
              <a:gdLst>
                <a:gd name="textAreaLeft" fmla="*/ 0 w 1782720"/>
                <a:gd name="textAreaRight" fmla="*/ 1783080 w 1782720"/>
                <a:gd name="textAreaTop" fmla="*/ 0 h 1728720"/>
                <a:gd name="textAreaBottom" fmla="*/ 1729080 h 1728720"/>
              </a:gdLst>
              <a:ahLst/>
              <a:rect l="textAreaLeft" t="textAreaTop" r="textAreaRight" b="textAreaBottom"/>
              <a:pathLst>
                <a:path w="941" h="949">
                  <a:moveTo>
                    <a:pt x="941" y="0"/>
                  </a:moveTo>
                  <a:lnTo>
                    <a:pt x="0" y="949"/>
                  </a:lnTo>
                </a:path>
              </a:pathLst>
            </a:custGeom>
            <a:noFill/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179" name="Arc 144"/>
          <p:cNvSpPr/>
          <p:nvPr/>
        </p:nvSpPr>
        <p:spPr>
          <a:xfrm flipH="1" rot="20593200">
            <a:off x="738000" y="2849400"/>
            <a:ext cx="1409400" cy="2483280"/>
          </a:xfrm>
          <a:custGeom>
            <a:avLst/>
            <a:gdLst>
              <a:gd name="textAreaLeft" fmla="*/ -360 w 1409400"/>
              <a:gd name="textAreaRight" fmla="*/ 1409400 w 1409400"/>
              <a:gd name="textAreaTop" fmla="*/ 0 h 2483280"/>
              <a:gd name="textAreaBottom" fmla="*/ 2483640 h 2483280"/>
            </a:gdLst>
            <a:ahLst/>
            <a:rect l="textAreaLeft" t="textAreaTop" r="textAreaRight" b="textAreaBottom"/>
            <a:pathLst>
              <a:path fill="none" w="21600" h="37900">
                <a:moveTo>
                  <a:pt x="904" y="-1"/>
                </a:moveTo>
                <a:cubicBezTo>
                  <a:pt x="12471" y="484"/>
                  <a:pt x="21600" y="10003"/>
                  <a:pt x="21600" y="21581"/>
                </a:cubicBezTo>
                <a:cubicBezTo>
                  <a:pt x="21600" y="27843"/>
                  <a:pt x="18882" y="33797"/>
                  <a:pt x="14150" y="37899"/>
                </a:cubicBezTo>
              </a:path>
              <a:path stroke="0" w="21600" h="37900">
                <a:moveTo>
                  <a:pt x="904" y="-1"/>
                </a:moveTo>
                <a:cubicBezTo>
                  <a:pt x="12471" y="484"/>
                  <a:pt x="21600" y="10003"/>
                  <a:pt x="21600" y="21581"/>
                </a:cubicBezTo>
                <a:cubicBezTo>
                  <a:pt x="21600" y="27843"/>
                  <a:pt x="18882" y="33797"/>
                  <a:pt x="14150" y="37899"/>
                </a:cubicBezTo>
                <a:lnTo>
                  <a:pt x="0" y="21581"/>
                </a:lnTo>
                <a:close/>
              </a:path>
            </a:pathLst>
          </a:custGeom>
          <a:noFill/>
          <a:ln w="381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0" name="Arc 145"/>
          <p:cNvSpPr/>
          <p:nvPr/>
        </p:nvSpPr>
        <p:spPr>
          <a:xfrm flipH="1" rot="20593200">
            <a:off x="5968080" y="4611600"/>
            <a:ext cx="2631960" cy="1416240"/>
          </a:xfrm>
          <a:custGeom>
            <a:avLst/>
            <a:gdLst>
              <a:gd name="textAreaLeft" fmla="*/ -360 w 2631960"/>
              <a:gd name="textAreaRight" fmla="*/ 2631960 w 2631960"/>
              <a:gd name="textAreaTop" fmla="*/ 0 h 1416240"/>
              <a:gd name="textAreaBottom" fmla="*/ 1416600 h 1416240"/>
            </a:gdLst>
            <a:ahLst/>
            <a:rect l="textAreaLeft" t="textAreaTop" r="textAreaRight" b="textAreaBottom"/>
            <a:pathLst>
              <a:path fill="none" w="40311" h="21600">
                <a:moveTo>
                  <a:pt x="-1" y="11135"/>
                </a:moveTo>
                <a:cubicBezTo>
                  <a:pt x="3805" y="4264"/>
                  <a:pt x="11041" y="-1"/>
                  <a:pt x="18896" y="0"/>
                </a:cubicBezTo>
                <a:cubicBezTo>
                  <a:pt x="29735" y="0"/>
                  <a:pt x="38896" y="8033"/>
                  <a:pt x="40311" y="18780"/>
                </a:cubicBezTo>
              </a:path>
              <a:path stroke="0" w="40311" h="21600">
                <a:moveTo>
                  <a:pt x="-1" y="11135"/>
                </a:moveTo>
                <a:cubicBezTo>
                  <a:pt x="3805" y="4264"/>
                  <a:pt x="11041" y="-1"/>
                  <a:pt x="18896" y="0"/>
                </a:cubicBezTo>
                <a:cubicBezTo>
                  <a:pt x="29735" y="0"/>
                  <a:pt x="38896" y="8033"/>
                  <a:pt x="40311" y="18780"/>
                </a:cubicBezTo>
                <a:lnTo>
                  <a:pt x="18896" y="21600"/>
                </a:lnTo>
                <a:close/>
              </a:path>
            </a:pathLst>
          </a:custGeom>
          <a:noFill/>
          <a:ln w="381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1" name="Text Box 146"/>
          <p:cNvSpPr/>
          <p:nvPr/>
        </p:nvSpPr>
        <p:spPr>
          <a:xfrm flipH="1">
            <a:off x="1625760" y="25653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h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2" name="Text Box 147"/>
          <p:cNvSpPr/>
          <p:nvPr/>
        </p:nvSpPr>
        <p:spPr>
          <a:xfrm flipH="1">
            <a:off x="477000" y="5516640"/>
            <a:ext cx="42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k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183" name="Group 148"/>
          <p:cNvGrpSpPr/>
          <p:nvPr/>
        </p:nvGrpSpPr>
        <p:grpSpPr>
          <a:xfrm>
            <a:off x="-2315880" y="2761920"/>
            <a:ext cx="6934320" cy="4618440"/>
            <a:chOff x="-2315880" y="2761920"/>
            <a:chExt cx="6934320" cy="4618440"/>
          </a:xfrm>
        </p:grpSpPr>
        <p:grpSp>
          <p:nvGrpSpPr>
            <p:cNvPr id="2184" name="Group 149"/>
            <p:cNvGrpSpPr/>
            <p:nvPr/>
          </p:nvGrpSpPr>
          <p:grpSpPr>
            <a:xfrm>
              <a:off x="-2315880" y="5082840"/>
              <a:ext cx="3509280" cy="2297520"/>
              <a:chOff x="-2315880" y="5082840"/>
              <a:chExt cx="3509280" cy="2297520"/>
            </a:xfrm>
          </p:grpSpPr>
          <p:grpSp>
            <p:nvGrpSpPr>
              <p:cNvPr id="2185" name="Group 150"/>
              <p:cNvGrpSpPr/>
              <p:nvPr/>
            </p:nvGrpSpPr>
            <p:grpSpPr>
              <a:xfrm>
                <a:off x="-2315880" y="5393520"/>
                <a:ext cx="3327480" cy="1986840"/>
                <a:chOff x="-2315880" y="5393520"/>
                <a:chExt cx="3327480" cy="1986840"/>
              </a:xfrm>
            </p:grpSpPr>
            <p:grpSp>
              <p:nvGrpSpPr>
                <p:cNvPr id="2186" name="Group 151"/>
                <p:cNvGrpSpPr/>
                <p:nvPr/>
              </p:nvGrpSpPr>
              <p:grpSpPr>
                <a:xfrm>
                  <a:off x="-2315880" y="5393520"/>
                  <a:ext cx="3327480" cy="1972440"/>
                  <a:chOff x="-2315880" y="5393520"/>
                  <a:chExt cx="3327480" cy="1972440"/>
                </a:xfrm>
              </p:grpSpPr>
              <p:sp>
                <p:nvSpPr>
                  <p:cNvPr id="2187" name="Freeform 152"/>
                  <p:cNvSpPr/>
                  <p:nvPr/>
                </p:nvSpPr>
                <p:spPr>
                  <a:xfrm flipV="1" rot="5892600">
                    <a:off x="-1421640" y="4809240"/>
                    <a:ext cx="1539720" cy="3139920"/>
                  </a:xfrm>
                  <a:custGeom>
                    <a:avLst/>
                    <a:gdLst>
                      <a:gd name="textAreaLeft" fmla="*/ 0 w 1539720"/>
                      <a:gd name="textAreaRight" fmla="*/ 1540080 w 1539720"/>
                      <a:gd name="textAreaTop" fmla="*/ 360 h 3139920"/>
                      <a:gd name="textAreaBottom" fmla="*/ 3140640 h 3139920"/>
                    </a:gdLst>
                    <a:ahLst/>
                    <a:rect l="textAreaLeft" t="textAreaTop" r="textAreaRight" b="textAreaBottom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8" name="Freeform 153"/>
                  <p:cNvSpPr/>
                  <p:nvPr/>
                </p:nvSpPr>
                <p:spPr>
                  <a:xfrm flipV="1" rot="5892600">
                    <a:off x="-1566000" y="5055120"/>
                    <a:ext cx="1344600" cy="2622960"/>
                  </a:xfrm>
                  <a:custGeom>
                    <a:avLst/>
                    <a:gdLst>
                      <a:gd name="textAreaLeft" fmla="*/ 0 w 1344600"/>
                      <a:gd name="textAreaRight" fmla="*/ 1344960 w 1344600"/>
                      <a:gd name="textAreaTop" fmla="*/ 360 h 2622960"/>
                      <a:gd name="textAreaBottom" fmla="*/ 2623680 h 262296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89" name="Group 154"/>
                <p:cNvGrpSpPr/>
                <p:nvPr/>
              </p:nvGrpSpPr>
              <p:grpSpPr>
                <a:xfrm>
                  <a:off x="180720" y="6900840"/>
                  <a:ext cx="658800" cy="479520"/>
                  <a:chOff x="180720" y="6900840"/>
                  <a:chExt cx="658800" cy="479520"/>
                </a:xfrm>
              </p:grpSpPr>
              <p:sp>
                <p:nvSpPr>
                  <p:cNvPr id="2190" name="Freeform 155"/>
                  <p:cNvSpPr/>
                  <p:nvPr/>
                </p:nvSpPr>
                <p:spPr>
                  <a:xfrm flipV="1" rot="5892600">
                    <a:off x="315360" y="6831720"/>
                    <a:ext cx="388800" cy="609480"/>
                  </a:xfrm>
                  <a:custGeom>
                    <a:avLst/>
                    <a:gdLst>
                      <a:gd name="textAreaLeft" fmla="*/ 0 w 388800"/>
                      <a:gd name="textAreaRight" fmla="*/ 389160 w 388800"/>
                      <a:gd name="textAreaTop" fmla="*/ -360 h 609480"/>
                      <a:gd name="textAreaBottom" fmla="*/ 609480 h 609480"/>
                    </a:gdLst>
                    <a:ahLst/>
                    <a:rect l="textAreaLeft" t="textAreaTop" r="textAreaRight" b="textAreaBottom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1" name="Freeform 156"/>
                  <p:cNvSpPr/>
                  <p:nvPr/>
                </p:nvSpPr>
                <p:spPr>
                  <a:xfrm flipV="1" rot="5892600">
                    <a:off x="596880" y="7174080"/>
                    <a:ext cx="148320" cy="232200"/>
                  </a:xfrm>
                  <a:custGeom>
                    <a:avLst/>
                    <a:gdLst>
                      <a:gd name="textAreaLeft" fmla="*/ 0 w 148320"/>
                      <a:gd name="textAreaRight" fmla="*/ 148680 w 148320"/>
                      <a:gd name="textAreaTop" fmla="*/ -360 h 232200"/>
                      <a:gd name="textAreaBottom" fmla="*/ 232200 h 232200"/>
                    </a:gdLst>
                    <a:ahLst/>
                    <a:rect l="textAreaLeft" t="textAreaTop" r="textAreaRight" b="textAreaBottom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192" name="Group 157"/>
              <p:cNvGrpSpPr/>
              <p:nvPr/>
            </p:nvGrpSpPr>
            <p:grpSpPr>
              <a:xfrm>
                <a:off x="-1872720" y="5082840"/>
                <a:ext cx="3066120" cy="1009440"/>
                <a:chOff x="-1872720" y="5082840"/>
                <a:chExt cx="3066120" cy="1009440"/>
              </a:xfrm>
            </p:grpSpPr>
            <p:sp>
              <p:nvSpPr>
                <p:cNvPr id="2193" name="Freeform 158"/>
                <p:cNvSpPr/>
                <p:nvPr/>
              </p:nvSpPr>
              <p:spPr>
                <a:xfrm flipV="1" rot="5040600">
                  <a:off x="-528840" y="3963240"/>
                  <a:ext cx="433800" cy="2981880"/>
                </a:xfrm>
                <a:custGeom>
                  <a:avLst/>
                  <a:gdLst>
                    <a:gd name="textAreaLeft" fmla="*/ 0 w 433800"/>
                    <a:gd name="textAreaRight" fmla="*/ 434160 w 433800"/>
                    <a:gd name="textAreaTop" fmla="*/ -360 h 2981880"/>
                    <a:gd name="textAreaBottom" fmla="*/ 2981880 h 298188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4" name="Oval 159"/>
                <p:cNvSpPr/>
                <p:nvPr/>
              </p:nvSpPr>
              <p:spPr>
                <a:xfrm flipV="1" rot="5040600">
                  <a:off x="-1888200" y="5592600"/>
                  <a:ext cx="519480" cy="4363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195" name="Group 160"/>
            <p:cNvGrpSpPr/>
            <p:nvPr/>
          </p:nvGrpSpPr>
          <p:grpSpPr>
            <a:xfrm>
              <a:off x="1109160" y="2761920"/>
              <a:ext cx="3509280" cy="2294280"/>
              <a:chOff x="1109160" y="2761920"/>
              <a:chExt cx="3509280" cy="2294280"/>
            </a:xfrm>
          </p:grpSpPr>
          <p:grpSp>
            <p:nvGrpSpPr>
              <p:cNvPr id="2196" name="Group 161"/>
              <p:cNvGrpSpPr/>
              <p:nvPr/>
            </p:nvGrpSpPr>
            <p:grpSpPr>
              <a:xfrm>
                <a:off x="1290960" y="2761920"/>
                <a:ext cx="3327480" cy="1983960"/>
                <a:chOff x="1290960" y="2761920"/>
                <a:chExt cx="3327480" cy="1983960"/>
              </a:xfrm>
            </p:grpSpPr>
            <p:grpSp>
              <p:nvGrpSpPr>
                <p:cNvPr id="2197" name="Group 162"/>
                <p:cNvGrpSpPr/>
                <p:nvPr/>
              </p:nvGrpSpPr>
              <p:grpSpPr>
                <a:xfrm>
                  <a:off x="1290960" y="2773440"/>
                  <a:ext cx="3327480" cy="1972440"/>
                  <a:chOff x="1290960" y="2773440"/>
                  <a:chExt cx="3327480" cy="1972440"/>
                </a:xfrm>
              </p:grpSpPr>
              <p:sp>
                <p:nvSpPr>
                  <p:cNvPr id="2198" name="Freeform 163"/>
                  <p:cNvSpPr/>
                  <p:nvPr/>
                </p:nvSpPr>
                <p:spPr>
                  <a:xfrm flipV="1" rot="16692600">
                    <a:off x="2184480" y="2189160"/>
                    <a:ext cx="1539720" cy="3139920"/>
                  </a:xfrm>
                  <a:custGeom>
                    <a:avLst/>
                    <a:gdLst>
                      <a:gd name="textAreaLeft" fmla="*/ 0 w 1539720"/>
                      <a:gd name="textAreaRight" fmla="*/ 1540080 w 1539720"/>
                      <a:gd name="textAreaTop" fmla="*/ 360 h 3139920"/>
                      <a:gd name="textAreaBottom" fmla="*/ 3140640 h 3139920"/>
                    </a:gdLst>
                    <a:ahLst/>
                    <a:rect l="textAreaLeft" t="textAreaTop" r="textAreaRight" b="textAreaBottom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9" name="Freeform 164"/>
                  <p:cNvSpPr/>
                  <p:nvPr/>
                </p:nvSpPr>
                <p:spPr>
                  <a:xfrm flipV="1" rot="16692600">
                    <a:off x="2523960" y="2460960"/>
                    <a:ext cx="1344600" cy="2622960"/>
                  </a:xfrm>
                  <a:custGeom>
                    <a:avLst/>
                    <a:gdLst>
                      <a:gd name="textAreaLeft" fmla="*/ 0 w 1344600"/>
                      <a:gd name="textAreaRight" fmla="*/ 1344960 w 1344600"/>
                      <a:gd name="textAreaTop" fmla="*/ 360 h 2622960"/>
                      <a:gd name="textAreaBottom" fmla="*/ 2623680 h 262296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00" name="Group 165"/>
                <p:cNvGrpSpPr/>
                <p:nvPr/>
              </p:nvGrpSpPr>
              <p:grpSpPr>
                <a:xfrm>
                  <a:off x="1463040" y="2761920"/>
                  <a:ext cx="659520" cy="476640"/>
                  <a:chOff x="1463040" y="2761920"/>
                  <a:chExt cx="659520" cy="476640"/>
                </a:xfrm>
              </p:grpSpPr>
              <p:sp>
                <p:nvSpPr>
                  <p:cNvPr id="2201" name="Freeform 166"/>
                  <p:cNvSpPr/>
                  <p:nvPr/>
                </p:nvSpPr>
                <p:spPr>
                  <a:xfrm flipV="1" rot="16692600">
                    <a:off x="1595880" y="2695320"/>
                    <a:ext cx="393840" cy="609480"/>
                  </a:xfrm>
                  <a:custGeom>
                    <a:avLst/>
                    <a:gdLst>
                      <a:gd name="textAreaLeft" fmla="*/ 0 w 393840"/>
                      <a:gd name="textAreaRight" fmla="*/ 394200 w 393840"/>
                      <a:gd name="textAreaTop" fmla="*/ -360 h 609480"/>
                      <a:gd name="textAreaBottom" fmla="*/ 609480 h 609480"/>
                    </a:gdLst>
                    <a:ahLst/>
                    <a:rect l="textAreaLeft" t="textAreaTop" r="textAreaRight" b="textAreaBottom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6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2" name="Freeform 167"/>
                  <p:cNvSpPr/>
                  <p:nvPr/>
                </p:nvSpPr>
                <p:spPr>
                  <a:xfrm flipV="1" rot="16692600">
                    <a:off x="1563120" y="2737800"/>
                    <a:ext cx="150480" cy="232200"/>
                  </a:xfrm>
                  <a:custGeom>
                    <a:avLst/>
                    <a:gdLst>
                      <a:gd name="textAreaLeft" fmla="*/ 0 w 150480"/>
                      <a:gd name="textAreaRight" fmla="*/ 150840 w 150480"/>
                      <a:gd name="textAreaTop" fmla="*/ -360 h 232200"/>
                      <a:gd name="textAreaBottom" fmla="*/ 232200 h 232200"/>
                    </a:gdLst>
                    <a:ahLst/>
                    <a:rect l="textAreaLeft" t="textAreaTop" r="textAreaRight" b="textAreaBottom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000c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203" name="Group 168"/>
              <p:cNvGrpSpPr/>
              <p:nvPr/>
            </p:nvGrpSpPr>
            <p:grpSpPr>
              <a:xfrm>
                <a:off x="1109160" y="4046760"/>
                <a:ext cx="3066120" cy="1009440"/>
                <a:chOff x="1109160" y="4046760"/>
                <a:chExt cx="3066120" cy="1009440"/>
              </a:xfrm>
            </p:grpSpPr>
            <p:sp>
              <p:nvSpPr>
                <p:cNvPr id="2204" name="Freeform 169"/>
                <p:cNvSpPr/>
                <p:nvPr/>
              </p:nvSpPr>
              <p:spPr>
                <a:xfrm flipV="1" rot="15840600">
                  <a:off x="2397600" y="3193560"/>
                  <a:ext cx="433800" cy="2981880"/>
                </a:xfrm>
                <a:custGeom>
                  <a:avLst/>
                  <a:gdLst>
                    <a:gd name="textAreaLeft" fmla="*/ 0 w 433800"/>
                    <a:gd name="textAreaRight" fmla="*/ 434160 w 433800"/>
                    <a:gd name="textAreaTop" fmla="*/ -360 h 2981880"/>
                    <a:gd name="textAreaBottom" fmla="*/ 2981880 h 298188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5" name="Oval 170"/>
                <p:cNvSpPr/>
                <p:nvPr/>
              </p:nvSpPr>
              <p:spPr>
                <a:xfrm flipV="1" rot="15840600">
                  <a:off x="3671280" y="4109760"/>
                  <a:ext cx="519480" cy="4363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2206" name="Group 190"/>
          <p:cNvGrpSpPr/>
          <p:nvPr/>
        </p:nvGrpSpPr>
        <p:grpSpPr>
          <a:xfrm>
            <a:off x="3930120" y="2243880"/>
            <a:ext cx="4478400" cy="7097040"/>
            <a:chOff x="3930120" y="2243880"/>
            <a:chExt cx="4478400" cy="7097040"/>
          </a:xfrm>
        </p:grpSpPr>
        <p:grpSp>
          <p:nvGrpSpPr>
            <p:cNvPr id="2207" name="Group 191"/>
            <p:cNvGrpSpPr/>
            <p:nvPr/>
          </p:nvGrpSpPr>
          <p:grpSpPr>
            <a:xfrm>
              <a:off x="6127920" y="2243880"/>
              <a:ext cx="2280600" cy="3611520"/>
              <a:chOff x="6127920" y="2243880"/>
              <a:chExt cx="2280600" cy="3611520"/>
            </a:xfrm>
          </p:grpSpPr>
          <p:grpSp>
            <p:nvGrpSpPr>
              <p:cNvPr id="2208" name="Group 192"/>
              <p:cNvGrpSpPr/>
              <p:nvPr/>
            </p:nvGrpSpPr>
            <p:grpSpPr>
              <a:xfrm>
                <a:off x="6127920" y="2243880"/>
                <a:ext cx="2280600" cy="3393720"/>
                <a:chOff x="6127920" y="2243880"/>
                <a:chExt cx="2280600" cy="3393720"/>
              </a:xfrm>
            </p:grpSpPr>
            <p:grpSp>
              <p:nvGrpSpPr>
                <p:cNvPr id="2209" name="Group 193"/>
                <p:cNvGrpSpPr/>
                <p:nvPr/>
              </p:nvGrpSpPr>
              <p:grpSpPr>
                <a:xfrm>
                  <a:off x="6127920" y="2243880"/>
                  <a:ext cx="2266920" cy="3393720"/>
                  <a:chOff x="6127920" y="2243880"/>
                  <a:chExt cx="2266920" cy="3393720"/>
                </a:xfrm>
              </p:grpSpPr>
              <p:sp>
                <p:nvSpPr>
                  <p:cNvPr id="2210" name="Freeform 194"/>
                  <p:cNvSpPr/>
                  <p:nvPr/>
                </p:nvSpPr>
                <p:spPr>
                  <a:xfrm flipH="1" flipV="1" rot="9927600">
                    <a:off x="6492960" y="2386440"/>
                    <a:ext cx="1535400" cy="3107880"/>
                  </a:xfrm>
                  <a:custGeom>
                    <a:avLst/>
                    <a:gdLst>
                      <a:gd name="textAreaLeft" fmla="*/ -360 w 1535400"/>
                      <a:gd name="textAreaRight" fmla="*/ 1535400 w 1535400"/>
                      <a:gd name="textAreaTop" fmla="*/ -360 h 3107880"/>
                      <a:gd name="textAreaBottom" fmla="*/ 3107880 h 3107880"/>
                    </a:gdLst>
                    <a:ahLst/>
                    <a:rect l="textAreaLeft" t="textAreaTop" r="textAreaRight" b="textAreaBottom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1" name="Freeform 195"/>
                  <p:cNvSpPr/>
                  <p:nvPr/>
                </p:nvSpPr>
                <p:spPr>
                  <a:xfrm flipH="1" flipV="1" rot="9927600">
                    <a:off x="6552000" y="2405880"/>
                    <a:ext cx="1341000" cy="2597040"/>
                  </a:xfrm>
                  <a:custGeom>
                    <a:avLst/>
                    <a:gdLst>
                      <a:gd name="textAreaLeft" fmla="*/ -360 w 1341000"/>
                      <a:gd name="textAreaRight" fmla="*/ 1341000 w 1341000"/>
                      <a:gd name="textAreaTop" fmla="*/ 360 h 2597040"/>
                      <a:gd name="textAreaBottom" fmla="*/ 2597760 h 259704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12" name="Group 196"/>
                <p:cNvGrpSpPr/>
                <p:nvPr/>
              </p:nvGrpSpPr>
              <p:grpSpPr>
                <a:xfrm>
                  <a:off x="7873920" y="4660920"/>
                  <a:ext cx="534600" cy="676800"/>
                  <a:chOff x="7873920" y="4660920"/>
                  <a:chExt cx="534600" cy="676800"/>
                </a:xfrm>
              </p:grpSpPr>
              <p:sp>
                <p:nvSpPr>
                  <p:cNvPr id="2213" name="Freeform 197"/>
                  <p:cNvSpPr/>
                  <p:nvPr/>
                </p:nvSpPr>
                <p:spPr>
                  <a:xfrm flipH="1" flipV="1" rot="9927600">
                    <a:off x="7942680" y="4699440"/>
                    <a:ext cx="382320" cy="599760"/>
                  </a:xfrm>
                  <a:custGeom>
                    <a:avLst/>
                    <a:gdLst>
                      <a:gd name="textAreaLeft" fmla="*/ 360 w 382320"/>
                      <a:gd name="textAreaRight" fmla="*/ 383040 w 382320"/>
                      <a:gd name="textAreaTop" fmla="*/ 360 h 599760"/>
                      <a:gd name="textAreaBottom" fmla="*/ 600480 h 599760"/>
                    </a:gdLst>
                    <a:ahLst/>
                    <a:rect l="textAreaLeft" t="textAreaTop" r="textAreaRight" b="textAreaBottom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6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4" name="Freeform 198"/>
                  <p:cNvSpPr/>
                  <p:nvPr/>
                </p:nvSpPr>
                <p:spPr>
                  <a:xfrm flipH="1" flipV="1" rot="9927600">
                    <a:off x="8236440" y="5031360"/>
                    <a:ext cx="145080" cy="228240"/>
                  </a:xfrm>
                  <a:custGeom>
                    <a:avLst/>
                    <a:gdLst>
                      <a:gd name="textAreaLeft" fmla="*/ -360 w 145080"/>
                      <a:gd name="textAreaRight" fmla="*/ 145080 w 145080"/>
                      <a:gd name="textAreaTop" fmla="*/ 360 h 228240"/>
                      <a:gd name="textAreaBottom" fmla="*/ 228960 h 228240"/>
                    </a:gdLst>
                    <a:ahLst/>
                    <a:rect l="textAreaLeft" t="textAreaTop" r="textAreaRight" b="textAreaBottom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000c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215" name="Group 199"/>
              <p:cNvGrpSpPr/>
              <p:nvPr/>
            </p:nvGrpSpPr>
            <p:grpSpPr>
              <a:xfrm>
                <a:off x="6156720" y="2826360"/>
                <a:ext cx="694080" cy="3029040"/>
                <a:chOff x="6156720" y="2826360"/>
                <a:chExt cx="694080" cy="3029040"/>
              </a:xfrm>
            </p:grpSpPr>
            <p:sp>
              <p:nvSpPr>
                <p:cNvPr id="2216" name="Freeform 200"/>
                <p:cNvSpPr/>
                <p:nvPr/>
              </p:nvSpPr>
              <p:spPr>
                <a:xfrm flipH="1" flipV="1" rot="10779600">
                  <a:off x="6165360" y="2902320"/>
                  <a:ext cx="432720" cy="2951640"/>
                </a:xfrm>
                <a:custGeom>
                  <a:avLst/>
                  <a:gdLst>
                    <a:gd name="textAreaLeft" fmla="*/ 360 w 432720"/>
                    <a:gd name="textAreaRight" fmla="*/ 433440 w 432720"/>
                    <a:gd name="textAreaTop" fmla="*/ -360 h 2951640"/>
                    <a:gd name="textAreaBottom" fmla="*/ 2951640 h 295164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7" name="Oval 201"/>
                <p:cNvSpPr/>
                <p:nvPr/>
              </p:nvSpPr>
              <p:spPr>
                <a:xfrm flipH="1" flipV="1" rot="10779600">
                  <a:off x="6330600" y="2827440"/>
                  <a:ext cx="518400" cy="43200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18" name="Group 202"/>
            <p:cNvGrpSpPr/>
            <p:nvPr/>
          </p:nvGrpSpPr>
          <p:grpSpPr>
            <a:xfrm>
              <a:off x="3930120" y="5754240"/>
              <a:ext cx="2246040" cy="3586680"/>
              <a:chOff x="3930120" y="5754240"/>
              <a:chExt cx="2246040" cy="3586680"/>
            </a:xfrm>
          </p:grpSpPr>
          <p:grpSp>
            <p:nvGrpSpPr>
              <p:cNvPr id="2219" name="Group 203"/>
              <p:cNvGrpSpPr/>
              <p:nvPr/>
            </p:nvGrpSpPr>
            <p:grpSpPr>
              <a:xfrm>
                <a:off x="3930120" y="5961960"/>
                <a:ext cx="2223360" cy="3378960"/>
                <a:chOff x="3930120" y="5961960"/>
                <a:chExt cx="2223360" cy="3378960"/>
              </a:xfrm>
            </p:grpSpPr>
            <p:grpSp>
              <p:nvGrpSpPr>
                <p:cNvPr id="2220" name="Group 204"/>
                <p:cNvGrpSpPr/>
                <p:nvPr/>
              </p:nvGrpSpPr>
              <p:grpSpPr>
                <a:xfrm>
                  <a:off x="3943080" y="5961960"/>
                  <a:ext cx="2210400" cy="3378960"/>
                  <a:chOff x="3943080" y="5961960"/>
                  <a:chExt cx="2210400" cy="3378960"/>
                </a:xfrm>
              </p:grpSpPr>
              <p:sp>
                <p:nvSpPr>
                  <p:cNvPr id="2221" name="Freeform 205"/>
                  <p:cNvSpPr/>
                  <p:nvPr/>
                </p:nvSpPr>
                <p:spPr>
                  <a:xfrm flipH="1" flipV="1" rot="20801400">
                    <a:off x="4280400" y="6096960"/>
                    <a:ext cx="1535400" cy="3108600"/>
                  </a:xfrm>
                  <a:custGeom>
                    <a:avLst/>
                    <a:gdLst>
                      <a:gd name="textAreaLeft" fmla="*/ -360 w 1535400"/>
                      <a:gd name="textAreaRight" fmla="*/ 1535400 w 1535400"/>
                      <a:gd name="textAreaTop" fmla="*/ -360 h 3108600"/>
                      <a:gd name="textAreaBottom" fmla="*/ 3108600 h 3108600"/>
                    </a:gdLst>
                    <a:ahLst/>
                    <a:rect l="textAreaLeft" t="textAreaTop" r="textAreaRight" b="textAreaBottom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2" name="Freeform 206"/>
                  <p:cNvSpPr/>
                  <p:nvPr/>
                </p:nvSpPr>
                <p:spPr>
                  <a:xfrm flipH="1" flipV="1" rot="20801400">
                    <a:off x="4411440" y="6590160"/>
                    <a:ext cx="1341000" cy="2596320"/>
                  </a:xfrm>
                  <a:custGeom>
                    <a:avLst/>
                    <a:gdLst>
                      <a:gd name="textAreaLeft" fmla="*/ -360 w 1341000"/>
                      <a:gd name="textAreaRight" fmla="*/ 1341000 w 1341000"/>
                      <a:gd name="textAreaTop" fmla="*/ 360 h 2596320"/>
                      <a:gd name="textAreaBottom" fmla="*/ 2597040 h 259632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23" name="Group 207"/>
                <p:cNvGrpSpPr/>
                <p:nvPr/>
              </p:nvGrpSpPr>
              <p:grpSpPr>
                <a:xfrm>
                  <a:off x="3930120" y="6235200"/>
                  <a:ext cx="523800" cy="676800"/>
                  <a:chOff x="3930120" y="6235200"/>
                  <a:chExt cx="523800" cy="676800"/>
                </a:xfrm>
              </p:grpSpPr>
              <p:sp>
                <p:nvSpPr>
                  <p:cNvPr id="2224" name="Freeform 208"/>
                  <p:cNvSpPr/>
                  <p:nvPr/>
                </p:nvSpPr>
                <p:spPr>
                  <a:xfrm flipH="1" flipV="1" rot="20801400">
                    <a:off x="4001760" y="6271560"/>
                    <a:ext cx="387720" cy="603720"/>
                  </a:xfrm>
                  <a:custGeom>
                    <a:avLst/>
                    <a:gdLst>
                      <a:gd name="textAreaLeft" fmla="*/ -360 w 387720"/>
                      <a:gd name="textAreaRight" fmla="*/ 387720 w 387720"/>
                      <a:gd name="textAreaTop" fmla="*/ -360 h 603720"/>
                      <a:gd name="textAreaBottom" fmla="*/ 603720 h 603720"/>
                    </a:gdLst>
                    <a:ahLst/>
                    <a:rect l="textAreaLeft" t="textAreaTop" r="textAreaRight" b="textAreaBottom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5" name="Freeform 209"/>
                  <p:cNvSpPr/>
                  <p:nvPr/>
                </p:nvSpPr>
                <p:spPr>
                  <a:xfrm flipH="1" flipV="1" rot="20801400">
                    <a:off x="3953880" y="6314040"/>
                    <a:ext cx="147960" cy="229320"/>
                  </a:xfrm>
                  <a:custGeom>
                    <a:avLst/>
                    <a:gdLst>
                      <a:gd name="textAreaLeft" fmla="*/ -360 w 147960"/>
                      <a:gd name="textAreaRight" fmla="*/ 147960 w 147960"/>
                      <a:gd name="textAreaTop" fmla="*/ -360 h 229320"/>
                      <a:gd name="textAreaBottom" fmla="*/ 229320 h 229320"/>
                    </a:gdLst>
                    <a:ahLst/>
                    <a:rect l="textAreaLeft" t="textAreaTop" r="textAreaRight" b="textAreaBottom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226" name="Group 210"/>
              <p:cNvGrpSpPr/>
              <p:nvPr/>
            </p:nvGrpSpPr>
            <p:grpSpPr>
              <a:xfrm>
                <a:off x="5437800" y="5754240"/>
                <a:ext cx="738360" cy="3028320"/>
                <a:chOff x="5437800" y="5754240"/>
                <a:chExt cx="738360" cy="3028320"/>
              </a:xfrm>
            </p:grpSpPr>
            <p:sp>
              <p:nvSpPr>
                <p:cNvPr id="2227" name="Freeform 211"/>
                <p:cNvSpPr/>
                <p:nvPr/>
              </p:nvSpPr>
              <p:spPr>
                <a:xfrm flipH="1" flipV="1" rot="52800">
                  <a:off x="5720400" y="5757120"/>
                  <a:ext cx="432720" cy="2951640"/>
                </a:xfrm>
                <a:custGeom>
                  <a:avLst/>
                  <a:gdLst>
                    <a:gd name="textAreaLeft" fmla="*/ 360 w 432720"/>
                    <a:gd name="textAreaRight" fmla="*/ 433440 w 432720"/>
                    <a:gd name="textAreaTop" fmla="*/ -360 h 2951640"/>
                    <a:gd name="textAreaBottom" fmla="*/ 2951640 h 295164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8" name="Oval 212"/>
                <p:cNvSpPr/>
                <p:nvPr/>
              </p:nvSpPr>
              <p:spPr>
                <a:xfrm flipH="1" flipV="1" rot="52800">
                  <a:off x="5440320" y="8346240"/>
                  <a:ext cx="518040" cy="432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229" name="Oval 214"/>
          <p:cNvSpPr/>
          <p:nvPr/>
        </p:nvSpPr>
        <p:spPr>
          <a:xfrm flipH="1">
            <a:off x="8101080" y="4653000"/>
            <a:ext cx="71280" cy="71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0" name="Oval 213"/>
          <p:cNvSpPr/>
          <p:nvPr/>
        </p:nvSpPr>
        <p:spPr>
          <a:xfrm flipH="1">
            <a:off x="6124680" y="5784840"/>
            <a:ext cx="71280" cy="71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231" name="Group 171"/>
          <p:cNvGrpSpPr/>
          <p:nvPr/>
        </p:nvGrpSpPr>
        <p:grpSpPr>
          <a:xfrm>
            <a:off x="-1187280" y="2684880"/>
            <a:ext cx="6628680" cy="2729160"/>
            <a:chOff x="-1187280" y="2684880"/>
            <a:chExt cx="6628680" cy="2729160"/>
          </a:xfrm>
        </p:grpSpPr>
        <p:grpSp>
          <p:nvGrpSpPr>
            <p:cNvPr id="2232" name="Group 172"/>
            <p:cNvGrpSpPr/>
            <p:nvPr/>
          </p:nvGrpSpPr>
          <p:grpSpPr>
            <a:xfrm>
              <a:off x="-1187280" y="3556440"/>
              <a:ext cx="3374640" cy="1857600"/>
              <a:chOff x="-1187280" y="3556440"/>
              <a:chExt cx="3374640" cy="1857600"/>
            </a:xfrm>
          </p:grpSpPr>
          <p:sp>
            <p:nvSpPr>
              <p:cNvPr id="2233" name="Freeform 173"/>
              <p:cNvSpPr/>
              <p:nvPr/>
            </p:nvSpPr>
            <p:spPr>
              <a:xfrm flipH="1" rot="16801800">
                <a:off x="-234000" y="2972880"/>
                <a:ext cx="1304280" cy="3030480"/>
              </a:xfrm>
              <a:custGeom>
                <a:avLst/>
                <a:gdLst>
                  <a:gd name="textAreaLeft" fmla="*/ -360 w 1304280"/>
                  <a:gd name="textAreaRight" fmla="*/ 1304280 w 1304280"/>
                  <a:gd name="textAreaTop" fmla="*/ 0 h 3030480"/>
                  <a:gd name="textAreaBottom" fmla="*/ 3030840 h 30304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34" name="Freeform 174"/>
              <p:cNvSpPr/>
              <p:nvPr/>
            </p:nvSpPr>
            <p:spPr>
              <a:xfrm flipH="1" rot="16801800">
                <a:off x="1389960" y="4906440"/>
                <a:ext cx="328680" cy="588960"/>
              </a:xfrm>
              <a:custGeom>
                <a:avLst/>
                <a:gdLst>
                  <a:gd name="textAreaLeft" fmla="*/ -360 w 328680"/>
                  <a:gd name="textAreaRight" fmla="*/ 328680 w 32868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35" name="Freeform 175"/>
              <p:cNvSpPr/>
              <p:nvPr/>
            </p:nvSpPr>
            <p:spPr>
              <a:xfrm flipH="1" rot="16801800">
                <a:off x="1640520" y="5214960"/>
                <a:ext cx="125640" cy="223920"/>
              </a:xfrm>
              <a:custGeom>
                <a:avLst/>
                <a:gdLst>
                  <a:gd name="textAreaLeft" fmla="*/ -360 w 125640"/>
                  <a:gd name="textAreaRight" fmla="*/ 125640 w 12564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66cc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236" name="Group 176"/>
              <p:cNvGrpSpPr/>
              <p:nvPr/>
            </p:nvGrpSpPr>
            <p:grpSpPr>
              <a:xfrm>
                <a:off x="-1159200" y="3556440"/>
                <a:ext cx="3346560" cy="1690200"/>
                <a:chOff x="-1159200" y="3556440"/>
                <a:chExt cx="3346560" cy="1690200"/>
              </a:xfrm>
            </p:grpSpPr>
            <p:sp>
              <p:nvSpPr>
                <p:cNvPr id="2237" name="Freeform 177"/>
                <p:cNvSpPr/>
                <p:nvPr/>
              </p:nvSpPr>
              <p:spPr>
                <a:xfrm flipH="1" rot="16801800">
                  <a:off x="-383040" y="3198960"/>
                  <a:ext cx="1139040" cy="2531880"/>
                </a:xfrm>
                <a:custGeom>
                  <a:avLst/>
                  <a:gdLst>
                    <a:gd name="textAreaLeft" fmla="*/ 0 w 1139040"/>
                    <a:gd name="textAreaRight" fmla="*/ 1139040 w 1139040"/>
                    <a:gd name="textAreaTop" fmla="*/ 0 h 2531880"/>
                    <a:gd name="textAreaBottom" fmla="*/ 2532240 h 25318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0066c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2238" name="Group 178"/>
                <p:cNvGrpSpPr/>
                <p:nvPr/>
              </p:nvGrpSpPr>
              <p:grpSpPr>
                <a:xfrm>
                  <a:off x="-817920" y="3556440"/>
                  <a:ext cx="3005280" cy="863280"/>
                  <a:chOff x="-817920" y="3556440"/>
                  <a:chExt cx="3005280" cy="863280"/>
                </a:xfrm>
              </p:grpSpPr>
              <p:sp>
                <p:nvSpPr>
                  <p:cNvPr id="2239" name="Freeform 179"/>
                  <p:cNvSpPr/>
                  <p:nvPr/>
                </p:nvSpPr>
                <p:spPr>
                  <a:xfrm flipH="1" rot="16801800">
                    <a:off x="554400" y="2549160"/>
                    <a:ext cx="367200" cy="2877840"/>
                  </a:xfrm>
                  <a:custGeom>
                    <a:avLst/>
                    <a:gdLst>
                      <a:gd name="textAreaLeft" fmla="*/ 360 w 367200"/>
                      <a:gd name="textAreaRight" fmla="*/ 367920 w 367200"/>
                      <a:gd name="textAreaTop" fmla="*/ 0 h 2877840"/>
                      <a:gd name="textAreaBottom" fmla="*/ 2878200 h 2877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40" name="Oval 180"/>
                  <p:cNvSpPr/>
                  <p:nvPr/>
                </p:nvSpPr>
                <p:spPr>
                  <a:xfrm flipH="1" rot="16801800">
                    <a:off x="-792360" y="3732120"/>
                    <a:ext cx="439920" cy="42120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241" name="Group 181"/>
            <p:cNvGrpSpPr/>
            <p:nvPr/>
          </p:nvGrpSpPr>
          <p:grpSpPr>
            <a:xfrm>
              <a:off x="2066760" y="2684880"/>
              <a:ext cx="3374640" cy="1861200"/>
              <a:chOff x="2066760" y="2684880"/>
              <a:chExt cx="3374640" cy="1861200"/>
            </a:xfrm>
          </p:grpSpPr>
          <p:sp>
            <p:nvSpPr>
              <p:cNvPr id="2242" name="Freeform 182"/>
              <p:cNvSpPr/>
              <p:nvPr/>
            </p:nvSpPr>
            <p:spPr>
              <a:xfrm flipV="1" rot="16801800">
                <a:off x="3183120" y="2098440"/>
                <a:ext cx="1304280" cy="3030480"/>
              </a:xfrm>
              <a:custGeom>
                <a:avLst/>
                <a:gdLst>
                  <a:gd name="textAreaLeft" fmla="*/ 0 w 1304280"/>
                  <a:gd name="textAreaRight" fmla="*/ 1304640 w 1304280"/>
                  <a:gd name="textAreaTop" fmla="*/ 360 h 3030480"/>
                  <a:gd name="textAreaBottom" fmla="*/ 3031200 h 30304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43" name="Freeform 183"/>
              <p:cNvSpPr/>
              <p:nvPr/>
            </p:nvSpPr>
            <p:spPr>
              <a:xfrm flipV="1" rot="16801800">
                <a:off x="2534400" y="2603160"/>
                <a:ext cx="329040" cy="58896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360 h 588960"/>
                  <a:gd name="textAreaBottom" fmla="*/ 589680 h 5889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44" name="Freeform 184"/>
              <p:cNvSpPr/>
              <p:nvPr/>
            </p:nvSpPr>
            <p:spPr>
              <a:xfrm flipV="1" rot="16801800">
                <a:off x="2487240" y="2664000"/>
                <a:ext cx="125640" cy="2239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360 h 223920"/>
                  <a:gd name="textAreaBottom" fmla="*/ 22464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245" name="Group 185"/>
              <p:cNvGrpSpPr/>
              <p:nvPr/>
            </p:nvGrpSpPr>
            <p:grpSpPr>
              <a:xfrm>
                <a:off x="2066760" y="2856600"/>
                <a:ext cx="3346560" cy="1689480"/>
                <a:chOff x="2066760" y="2856600"/>
                <a:chExt cx="3346560" cy="1689480"/>
              </a:xfrm>
            </p:grpSpPr>
            <p:sp>
              <p:nvSpPr>
                <p:cNvPr id="2246" name="Freeform 186"/>
                <p:cNvSpPr/>
                <p:nvPr/>
              </p:nvSpPr>
              <p:spPr>
                <a:xfrm flipV="1" rot="16801800">
                  <a:off x="3497760" y="2372040"/>
                  <a:ext cx="1139040" cy="2531880"/>
                </a:xfrm>
                <a:custGeom>
                  <a:avLst/>
                  <a:gdLst>
                    <a:gd name="textAreaLeft" fmla="*/ 0 w 1139040"/>
                    <a:gd name="textAreaRight" fmla="*/ 1139040 w 1139040"/>
                    <a:gd name="textAreaTop" fmla="*/ -360 h 2531880"/>
                    <a:gd name="textAreaBottom" fmla="*/ 2531880 h 25318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2247" name="Group 187"/>
                <p:cNvGrpSpPr/>
                <p:nvPr/>
              </p:nvGrpSpPr>
              <p:grpSpPr>
                <a:xfrm>
                  <a:off x="2066760" y="3682800"/>
                  <a:ext cx="3005640" cy="863280"/>
                  <a:chOff x="2066760" y="3682800"/>
                  <a:chExt cx="3005640" cy="863280"/>
                </a:xfrm>
              </p:grpSpPr>
              <p:sp>
                <p:nvSpPr>
                  <p:cNvPr id="2248" name="Freeform 188"/>
                  <p:cNvSpPr/>
                  <p:nvPr/>
                </p:nvSpPr>
                <p:spPr>
                  <a:xfrm flipV="1" rot="16801800">
                    <a:off x="3331800" y="2675520"/>
                    <a:ext cx="367200" cy="2877840"/>
                  </a:xfrm>
                  <a:custGeom>
                    <a:avLst/>
                    <a:gdLst>
                      <a:gd name="textAreaLeft" fmla="*/ 0 w 367200"/>
                      <a:gd name="textAreaRight" fmla="*/ 367560 w 367200"/>
                      <a:gd name="textAreaTop" fmla="*/ 360 h 2877840"/>
                      <a:gd name="textAreaBottom" fmla="*/ 2878560 h 2877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49" name="Oval 189"/>
                  <p:cNvSpPr/>
                  <p:nvPr/>
                </p:nvSpPr>
                <p:spPr>
                  <a:xfrm flipV="1" rot="16801800">
                    <a:off x="4606560" y="3948840"/>
                    <a:ext cx="439920" cy="421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2250" name="Text Box 217"/>
          <p:cNvSpPr/>
          <p:nvPr/>
        </p:nvSpPr>
        <p:spPr>
          <a:xfrm>
            <a:off x="5783760" y="58053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1" name="Oval 87"/>
          <p:cNvSpPr/>
          <p:nvPr/>
        </p:nvSpPr>
        <p:spPr>
          <a:xfrm>
            <a:off x="6483240" y="5824440"/>
            <a:ext cx="73080" cy="71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2" name="Oval 50"/>
          <p:cNvSpPr/>
          <p:nvPr/>
        </p:nvSpPr>
        <p:spPr>
          <a:xfrm>
            <a:off x="7502400" y="5902200"/>
            <a:ext cx="73080" cy="730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253" name="Group 73"/>
          <p:cNvGrpSpPr/>
          <p:nvPr/>
        </p:nvGrpSpPr>
        <p:grpSpPr>
          <a:xfrm>
            <a:off x="-124200" y="3409560"/>
            <a:ext cx="6409800" cy="4642200"/>
            <a:chOff x="-124200" y="3409560"/>
            <a:chExt cx="6409800" cy="4642200"/>
          </a:xfrm>
        </p:grpSpPr>
        <p:grpSp>
          <p:nvGrpSpPr>
            <p:cNvPr id="2254" name="Group 74"/>
            <p:cNvGrpSpPr/>
            <p:nvPr/>
          </p:nvGrpSpPr>
          <p:grpSpPr>
            <a:xfrm>
              <a:off x="2814480" y="3409560"/>
              <a:ext cx="3471120" cy="2616840"/>
              <a:chOff x="2814480" y="3409560"/>
              <a:chExt cx="3471120" cy="2616840"/>
            </a:xfrm>
          </p:grpSpPr>
          <p:sp>
            <p:nvSpPr>
              <p:cNvPr id="2255" name="Freeform 75"/>
              <p:cNvSpPr/>
              <p:nvPr/>
            </p:nvSpPr>
            <p:spPr>
              <a:xfrm flipH="1" rot="3831600">
                <a:off x="3884040" y="3137400"/>
                <a:ext cx="1363680" cy="3161160"/>
              </a:xfrm>
              <a:custGeom>
                <a:avLst/>
                <a:gdLst>
                  <a:gd name="textAreaLeft" fmla="*/ 360 w 1363680"/>
                  <a:gd name="textAreaRight" fmla="*/ 1364400 w 1363680"/>
                  <a:gd name="textAreaTop" fmla="*/ 0 h 3161160"/>
                  <a:gd name="textAreaBottom" fmla="*/ 3161520 h 31611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56" name="Freeform 76"/>
              <p:cNvSpPr/>
              <p:nvPr/>
            </p:nvSpPr>
            <p:spPr>
              <a:xfrm flipH="1" rot="3831600">
                <a:off x="2993760" y="4505040"/>
                <a:ext cx="344520" cy="614520"/>
              </a:xfrm>
              <a:custGeom>
                <a:avLst/>
                <a:gdLst>
                  <a:gd name="textAreaLeft" fmla="*/ -360 w 344520"/>
                  <a:gd name="textAreaRight" fmla="*/ 344520 w 344520"/>
                  <a:gd name="textAreaTop" fmla="*/ 0 h 614520"/>
                  <a:gd name="textAreaBottom" fmla="*/ 614880 h 6145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154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57" name="Freeform 77"/>
              <p:cNvSpPr/>
              <p:nvPr/>
            </p:nvSpPr>
            <p:spPr>
              <a:xfrm flipH="1" rot="3831600">
                <a:off x="2900880" y="4686840"/>
                <a:ext cx="131760" cy="233280"/>
              </a:xfrm>
              <a:custGeom>
                <a:avLst/>
                <a:gdLst>
                  <a:gd name="textAreaLeft" fmla="*/ 360 w 131760"/>
                  <a:gd name="textAreaRight" fmla="*/ 132480 w 1317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58" name="Freeform 78"/>
              <p:cNvSpPr/>
              <p:nvPr/>
            </p:nvSpPr>
            <p:spPr>
              <a:xfrm flipH="1" rot="3831600">
                <a:off x="4181400" y="3273480"/>
                <a:ext cx="1190880" cy="2641680"/>
              </a:xfrm>
              <a:custGeom>
                <a:avLst/>
                <a:gdLst>
                  <a:gd name="textAreaLeft" fmla="*/ 360 w 1190880"/>
                  <a:gd name="textAreaRight" fmla="*/ 1191600 w 1190880"/>
                  <a:gd name="textAreaTop" fmla="*/ 0 h 2641680"/>
                  <a:gd name="textAreaBottom" fmla="*/ 2642040 h 264168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259" name="Group 79"/>
              <p:cNvGrpSpPr/>
              <p:nvPr/>
            </p:nvGrpSpPr>
            <p:grpSpPr>
              <a:xfrm>
                <a:off x="2982960" y="4341960"/>
                <a:ext cx="3030120" cy="1395720"/>
                <a:chOff x="2982960" y="4341960"/>
                <a:chExt cx="3030120" cy="1395720"/>
              </a:xfrm>
            </p:grpSpPr>
            <p:sp>
              <p:nvSpPr>
                <p:cNvPr id="2260" name="Freeform 80"/>
                <p:cNvSpPr/>
                <p:nvPr/>
              </p:nvSpPr>
              <p:spPr>
                <a:xfrm flipH="1" rot="4491600">
                  <a:off x="4289760" y="3659040"/>
                  <a:ext cx="383760" cy="3002040"/>
                </a:xfrm>
                <a:custGeom>
                  <a:avLst/>
                  <a:gdLst>
                    <a:gd name="textAreaLeft" fmla="*/ 360 w 383760"/>
                    <a:gd name="textAreaRight" fmla="*/ 384480 w 383760"/>
                    <a:gd name="textAreaTop" fmla="*/ 0 h 3002040"/>
                    <a:gd name="textAreaBottom" fmla="*/ 3002400 h 300204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1" name="Oval 81"/>
                <p:cNvSpPr/>
                <p:nvPr/>
              </p:nvSpPr>
              <p:spPr>
                <a:xfrm flipH="1" rot="4491600">
                  <a:off x="5510880" y="4401360"/>
                  <a:ext cx="459720" cy="43920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62" name="Group 82"/>
            <p:cNvGrpSpPr/>
            <p:nvPr/>
          </p:nvGrpSpPr>
          <p:grpSpPr>
            <a:xfrm>
              <a:off x="-124200" y="5435640"/>
              <a:ext cx="3437640" cy="2616120"/>
              <a:chOff x="-124200" y="5435640"/>
              <a:chExt cx="3437640" cy="2616120"/>
            </a:xfrm>
          </p:grpSpPr>
          <p:sp>
            <p:nvSpPr>
              <p:cNvPr id="2263" name="Freeform 83"/>
              <p:cNvSpPr/>
              <p:nvPr/>
            </p:nvSpPr>
            <p:spPr>
              <a:xfrm flipV="1" rot="3832200">
                <a:off x="912600" y="5163120"/>
                <a:ext cx="1363680" cy="3160080"/>
              </a:xfrm>
              <a:custGeom>
                <a:avLst/>
                <a:gdLst>
                  <a:gd name="textAreaLeft" fmla="*/ 0 w 1363680"/>
                  <a:gd name="textAreaRight" fmla="*/ 1364040 w 1363680"/>
                  <a:gd name="textAreaTop" fmla="*/ 360 h 3160080"/>
                  <a:gd name="textAreaBottom" fmla="*/ 3160800 h 31600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264" name="Group 84"/>
              <p:cNvGrpSpPr/>
              <p:nvPr/>
            </p:nvGrpSpPr>
            <p:grpSpPr>
              <a:xfrm>
                <a:off x="150840" y="5724000"/>
                <a:ext cx="3030120" cy="1396080"/>
                <a:chOff x="150840" y="5724000"/>
                <a:chExt cx="3030120" cy="1396080"/>
              </a:xfrm>
            </p:grpSpPr>
            <p:sp>
              <p:nvSpPr>
                <p:cNvPr id="2265" name="Freeform 85"/>
                <p:cNvSpPr/>
                <p:nvPr/>
              </p:nvSpPr>
              <p:spPr>
                <a:xfrm flipV="1" rot="4492200">
                  <a:off x="1489680" y="4799520"/>
                  <a:ext cx="384120" cy="30020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-360 h 3002040"/>
                    <a:gd name="textAreaBottom" fmla="*/ 3002040 h 300204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6" name="Oval 86"/>
                <p:cNvSpPr/>
                <p:nvPr/>
              </p:nvSpPr>
              <p:spPr>
                <a:xfrm flipV="1" rot="4492200">
                  <a:off x="192960" y="6620760"/>
                  <a:ext cx="460080" cy="439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267" name="Oval 216"/>
          <p:cNvSpPr/>
          <p:nvPr/>
        </p:nvSpPr>
        <p:spPr>
          <a:xfrm>
            <a:off x="2124000" y="4005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268" name="Group 54"/>
          <p:cNvGrpSpPr/>
          <p:nvPr/>
        </p:nvGrpSpPr>
        <p:grpSpPr>
          <a:xfrm>
            <a:off x="-1252440" y="2964600"/>
            <a:ext cx="5765760" cy="5322600"/>
            <a:chOff x="-1252440" y="2964600"/>
            <a:chExt cx="5765760" cy="5322600"/>
          </a:xfrm>
        </p:grpSpPr>
        <p:grpSp>
          <p:nvGrpSpPr>
            <p:cNvPr id="2269" name="Group 55"/>
            <p:cNvGrpSpPr/>
            <p:nvPr/>
          </p:nvGrpSpPr>
          <p:grpSpPr>
            <a:xfrm>
              <a:off x="1643760" y="2964600"/>
              <a:ext cx="2869560" cy="3286080"/>
              <a:chOff x="1643760" y="2964600"/>
              <a:chExt cx="2869560" cy="3286080"/>
            </a:xfrm>
          </p:grpSpPr>
          <p:sp>
            <p:nvSpPr>
              <p:cNvPr id="2270" name="Freeform 56"/>
              <p:cNvSpPr/>
              <p:nvPr/>
            </p:nvSpPr>
            <p:spPr>
              <a:xfrm rot="1935000">
                <a:off x="2500560" y="3078720"/>
                <a:ext cx="1304280" cy="3030480"/>
              </a:xfrm>
              <a:custGeom>
                <a:avLst/>
                <a:gdLst>
                  <a:gd name="textAreaLeft" fmla="*/ 0 w 1304280"/>
                  <a:gd name="textAreaRight" fmla="*/ 1304640 w 1304280"/>
                  <a:gd name="textAreaTop" fmla="*/ 0 h 3030480"/>
                  <a:gd name="textAreaBottom" fmla="*/ 3030840 h 30304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71" name="Freeform 57"/>
              <p:cNvSpPr/>
              <p:nvPr/>
            </p:nvSpPr>
            <p:spPr>
              <a:xfrm rot="1935000">
                <a:off x="2747880" y="5619240"/>
                <a:ext cx="329040" cy="58896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72" name="Freeform 58"/>
              <p:cNvSpPr/>
              <p:nvPr/>
            </p:nvSpPr>
            <p:spPr>
              <a:xfrm rot="1935000">
                <a:off x="2845440" y="5997240"/>
                <a:ext cx="125640" cy="2239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273" name="Group 59"/>
              <p:cNvGrpSpPr/>
              <p:nvPr/>
            </p:nvGrpSpPr>
            <p:grpSpPr>
              <a:xfrm>
                <a:off x="1643760" y="3032280"/>
                <a:ext cx="2805120" cy="2776680"/>
                <a:chOff x="1643760" y="3032280"/>
                <a:chExt cx="2805120" cy="2776680"/>
              </a:xfrm>
            </p:grpSpPr>
            <p:sp>
              <p:nvSpPr>
                <p:cNvPr id="2274" name="Freeform 60"/>
                <p:cNvSpPr/>
                <p:nvPr/>
              </p:nvSpPr>
              <p:spPr>
                <a:xfrm rot="1935000">
                  <a:off x="2721600" y="3140640"/>
                  <a:ext cx="1139040" cy="2531880"/>
                </a:xfrm>
                <a:custGeom>
                  <a:avLst/>
                  <a:gdLst>
                    <a:gd name="textAreaLeft" fmla="*/ 0 w 1139040"/>
                    <a:gd name="textAreaRight" fmla="*/ 1139040 w 1139040"/>
                    <a:gd name="textAreaTop" fmla="*/ 0 h 2531880"/>
                    <a:gd name="textAreaBottom" fmla="*/ 2532240 h 25318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660066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2275" name="Group 61"/>
                <p:cNvGrpSpPr/>
                <p:nvPr/>
              </p:nvGrpSpPr>
              <p:grpSpPr>
                <a:xfrm>
                  <a:off x="1643760" y="3179520"/>
                  <a:ext cx="2070360" cy="2629440"/>
                  <a:chOff x="1643760" y="3179520"/>
                  <a:chExt cx="2070360" cy="2629440"/>
                </a:xfrm>
              </p:grpSpPr>
              <p:sp>
                <p:nvSpPr>
                  <p:cNvPr id="2276" name="Freeform 62"/>
                  <p:cNvSpPr/>
                  <p:nvPr/>
                </p:nvSpPr>
                <p:spPr>
                  <a:xfrm rot="1935000">
                    <a:off x="2383200" y="3055320"/>
                    <a:ext cx="367200" cy="2877840"/>
                  </a:xfrm>
                  <a:custGeom>
                    <a:avLst/>
                    <a:gdLst>
                      <a:gd name="textAreaLeft" fmla="*/ 0 w 367200"/>
                      <a:gd name="textAreaRight" fmla="*/ 367560 w 367200"/>
                      <a:gd name="textAreaTop" fmla="*/ 0 h 2877840"/>
                      <a:gd name="textAreaBottom" fmla="*/ 2878200 h 2877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7" name="Oval 63"/>
                  <p:cNvSpPr/>
                  <p:nvPr/>
                </p:nvSpPr>
                <p:spPr>
                  <a:xfrm rot="1935000">
                    <a:off x="3195720" y="3282840"/>
                    <a:ext cx="439920" cy="42120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278" name="Group 64"/>
            <p:cNvGrpSpPr/>
            <p:nvPr/>
          </p:nvGrpSpPr>
          <p:grpSpPr>
            <a:xfrm>
              <a:off x="-1252440" y="4989960"/>
              <a:ext cx="2835720" cy="3297240"/>
              <a:chOff x="-1252440" y="4989960"/>
              <a:chExt cx="2835720" cy="3297240"/>
            </a:xfrm>
          </p:grpSpPr>
          <p:sp>
            <p:nvSpPr>
              <p:cNvPr id="2279" name="Freeform 65"/>
              <p:cNvSpPr/>
              <p:nvPr/>
            </p:nvSpPr>
            <p:spPr>
              <a:xfrm rot="12676800">
                <a:off x="-560520" y="5138280"/>
                <a:ext cx="1304280" cy="3030480"/>
              </a:xfrm>
              <a:custGeom>
                <a:avLst/>
                <a:gdLst>
                  <a:gd name="textAreaLeft" fmla="*/ 0 w 1304280"/>
                  <a:gd name="textAreaRight" fmla="*/ 1304640 w 1304280"/>
                  <a:gd name="textAreaTop" fmla="*/ 0 h 3030480"/>
                  <a:gd name="textAreaBottom" fmla="*/ 3030840 h 30304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80" name="Freeform 66"/>
              <p:cNvSpPr/>
              <p:nvPr/>
            </p:nvSpPr>
            <p:spPr>
              <a:xfrm rot="12676800">
                <a:off x="140040" y="5032440"/>
                <a:ext cx="329040" cy="58896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81" name="Freeform 67"/>
              <p:cNvSpPr/>
              <p:nvPr/>
            </p:nvSpPr>
            <p:spPr>
              <a:xfrm rot="12676800">
                <a:off x="247680" y="5022720"/>
                <a:ext cx="125640" cy="2239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282" name="Group 68"/>
              <p:cNvGrpSpPr/>
              <p:nvPr/>
            </p:nvGrpSpPr>
            <p:grpSpPr>
              <a:xfrm>
                <a:off x="-1187280" y="5418360"/>
                <a:ext cx="2770560" cy="2802600"/>
                <a:chOff x="-1187280" y="5418360"/>
                <a:chExt cx="2770560" cy="2802600"/>
              </a:xfrm>
            </p:grpSpPr>
            <p:sp>
              <p:nvSpPr>
                <p:cNvPr id="2283" name="Freeform 69"/>
                <p:cNvSpPr/>
                <p:nvPr/>
              </p:nvSpPr>
              <p:spPr>
                <a:xfrm rot="12676800">
                  <a:off x="-612720" y="5577120"/>
                  <a:ext cx="1139040" cy="2531880"/>
                </a:xfrm>
                <a:custGeom>
                  <a:avLst/>
                  <a:gdLst>
                    <a:gd name="textAreaLeft" fmla="*/ 0 w 1139040"/>
                    <a:gd name="textAreaRight" fmla="*/ 1139040 w 1139040"/>
                    <a:gd name="textAreaTop" fmla="*/ 0 h 2531880"/>
                    <a:gd name="textAreaBottom" fmla="*/ 2532240 h 25318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2284" name="Group 70"/>
                <p:cNvGrpSpPr/>
                <p:nvPr/>
              </p:nvGrpSpPr>
              <p:grpSpPr>
                <a:xfrm>
                  <a:off x="-449640" y="5418360"/>
                  <a:ext cx="2032920" cy="2650320"/>
                  <a:chOff x="-449640" y="5418360"/>
                  <a:chExt cx="2032920" cy="2650320"/>
                </a:xfrm>
              </p:grpSpPr>
              <p:sp>
                <p:nvSpPr>
                  <p:cNvPr id="2285" name="Freeform 71"/>
                  <p:cNvSpPr/>
                  <p:nvPr/>
                </p:nvSpPr>
                <p:spPr>
                  <a:xfrm rot="12676800">
                    <a:off x="495360" y="5304600"/>
                    <a:ext cx="367200" cy="2877840"/>
                  </a:xfrm>
                  <a:custGeom>
                    <a:avLst/>
                    <a:gdLst>
                      <a:gd name="textAreaLeft" fmla="*/ 0 w 367200"/>
                      <a:gd name="textAreaRight" fmla="*/ 367560 w 367200"/>
                      <a:gd name="textAreaTop" fmla="*/ 0 h 2877840"/>
                      <a:gd name="textAreaBottom" fmla="*/ 2878200 h 2877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6" name="Oval 72"/>
                  <p:cNvSpPr/>
                  <p:nvPr/>
                </p:nvSpPr>
                <p:spPr>
                  <a:xfrm rot="12676800">
                    <a:off x="-372240" y="7547760"/>
                    <a:ext cx="4399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0.3592 0.04954 E">
                                      <p:cBhvr>
                                        <p:cTn id="1723" dur="2000" fill="hold"/>
                                        <p:tgtEl>
                                          <p:spTgt spid="2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6" dur="20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20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7" dur="500"/>
                                        <p:tgtEl>
                                          <p:spTgt spid="2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500"/>
                            </p:stCondLst>
                            <p:childTnLst>
                              <p:par>
                                <p:cTn id="17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6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8889E-006 -2.96296E-006 L 0.45816 0.47315 E">
                                      <p:cBhvr>
                                        <p:cTn id="1757" dur="2000" fill="hold"/>
                                        <p:tgtEl>
                                          <p:spTgt spid="2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">
                                      <p:cBhvr>
                                        <p:cTn id="1759" dur="20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3" dur="20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320000">
                                      <p:cBhvr>
                                        <p:cTn id="1765" dur="20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8" dur="20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1" dur="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8" dur="500"/>
                                        <p:tgtEl>
                                          <p:spTgt spid="2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20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8640000">
                                      <p:cBhvr>
                                        <p:cTn id="1806" dur="2000" fill="hold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9" dur="20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59809 0.27685 E">
                                      <p:cBhvr>
                                        <p:cTn id="1812" dur="2000" fill="hold"/>
                                        <p:tgtEl>
                                          <p:spTgt spid="2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280000">
                                      <p:cBhvr>
                                        <p:cTn id="1814" dur="2000" fill="hold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6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8340000">
                                      <p:cBhvr>
                                        <p:cTn id="1817" dur="2000" fill="hold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0" dur="20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8500"/>
                            </p:stCondLst>
                            <p:childTnLst>
                              <p:par>
                                <p:cTn id="18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0" dur="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3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500"/>
                            </p:stCondLst>
                            <p:childTnLst>
                              <p:par>
                                <p:cTn id="1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20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680000">
                                      <p:cBhvr>
                                        <p:cTn id="1856" dur="20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9" dur="20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8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0" dur="20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2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5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1" dur="500"/>
                                        <p:tgtEl>
                                          <p:spTgt spid="2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500"/>
                            </p:stCondLst>
                            <p:childTnLst>
                              <p:par>
                                <p:cTn id="18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1911" dur="20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4" dur="20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8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1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0.37778 0.02662 E">
                                      <p:cBhvr>
                                        <p:cTn id="1924" dur="2000" fill="hold"/>
                                        <p:tgtEl>
                                          <p:spTgt spid="2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900000">
                                      <p:cBhvr>
                                        <p:cTn id="1926" dur="20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1929" dur="20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2" dur="20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9000"/>
                            </p:stCondLst>
                            <p:childTnLst>
                              <p:par>
                                <p:cTn id="19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5" dur="10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20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500"/>
                            </p:stCondLst>
                            <p:childTnLst>
                              <p:par>
                                <p:cTn id="1949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8.33333E-007 1.48148E-006 L 0.37569 0.01967 E">
                                      <p:cBhvr>
                                        <p:cTn id="1950" dur="2000" fill="hold"/>
                                        <p:tgtEl>
                                          <p:spTgt spid="2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1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1680000">
                                      <p:cBhvr>
                                        <p:cTn id="1952" dur="20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120000">
                                      <p:cBhvr>
                                        <p:cTn id="1955" dur="20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8" dur="20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8" dur="20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1" dur="10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5" dur="20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9" dur="20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2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Freeform 66"/>
          <p:cNvSpPr/>
          <p:nvPr/>
        </p:nvSpPr>
        <p:spPr>
          <a:xfrm>
            <a:off x="888840" y="2909880"/>
            <a:ext cx="2457720" cy="4680"/>
          </a:xfrm>
          <a:custGeom>
            <a:avLst/>
            <a:gdLst>
              <a:gd name="textAreaLeft" fmla="*/ 0 w 2457720"/>
              <a:gd name="textAreaRight" fmla="*/ 2458080 w 24577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548" h="3">
                <a:moveTo>
                  <a:pt x="0" y="0"/>
                </a:moveTo>
                <a:lnTo>
                  <a:pt x="1548" y="3"/>
                </a:lnTo>
              </a:path>
            </a:pathLst>
          </a:custGeom>
          <a:noFill/>
          <a:ln w="19080">
            <a:solidFill>
              <a:srgbClr val="00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8" name="Arc 117"/>
          <p:cNvSpPr/>
          <p:nvPr/>
        </p:nvSpPr>
        <p:spPr>
          <a:xfrm rot="19984200">
            <a:off x="3298320" y="3628800"/>
            <a:ext cx="2952720" cy="146196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1461960"/>
              <a:gd name="textAreaBottom" fmla="*/ 1462320 h 1461960"/>
            </a:gdLst>
            <a:ahLst/>
            <a:rect l="textAreaLeft" t="textAreaTop" r="textAreaRight" b="textAreaBottom"/>
            <a:pathLst>
              <a:path fill="none" w="21600" h="10895">
                <a:moveTo>
                  <a:pt x="19382" y="-1"/>
                </a:moveTo>
                <a:cubicBezTo>
                  <a:pt x="20841" y="2966"/>
                  <a:pt x="21600" y="6228"/>
                  <a:pt x="21600" y="9534"/>
                </a:cubicBezTo>
                <a:cubicBezTo>
                  <a:pt x="21600" y="9988"/>
                  <a:pt x="21585" y="10441"/>
                  <a:pt x="21557" y="10895"/>
                </a:cubicBezTo>
              </a:path>
              <a:path stroke="0" w="21600" h="10895">
                <a:moveTo>
                  <a:pt x="19382" y="-1"/>
                </a:moveTo>
                <a:cubicBezTo>
                  <a:pt x="20841" y="2966"/>
                  <a:pt x="21600" y="6228"/>
                  <a:pt x="21600" y="9534"/>
                </a:cubicBezTo>
                <a:cubicBezTo>
                  <a:pt x="21600" y="9988"/>
                  <a:pt x="21585" y="10441"/>
                  <a:pt x="21557" y="10895"/>
                </a:cubicBezTo>
                <a:lnTo>
                  <a:pt x="0" y="9534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9" name="Text Box 2"/>
          <p:cNvSpPr/>
          <p:nvPr/>
        </p:nvSpPr>
        <p:spPr>
          <a:xfrm>
            <a:off x="5937480" y="3273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0" name="Freeform 3"/>
          <p:cNvSpPr/>
          <p:nvPr/>
        </p:nvSpPr>
        <p:spPr>
          <a:xfrm>
            <a:off x="3530520" y="3747960"/>
            <a:ext cx="2552760" cy="2094120"/>
          </a:xfrm>
          <a:custGeom>
            <a:avLst/>
            <a:gdLst>
              <a:gd name="textAreaLeft" fmla="*/ 0 w 2552760"/>
              <a:gd name="textAreaRight" fmla="*/ 2553120 w 2552760"/>
              <a:gd name="textAreaTop" fmla="*/ 0 h 2094120"/>
              <a:gd name="textAreaBottom" fmla="*/ 2094120 h 2094120"/>
            </a:gdLst>
            <a:ahLst/>
            <a:rect l="textAreaLeft" t="textAreaTop" r="textAreaRight" b="textAreaBottom"/>
            <a:pathLst>
              <a:path w="1608" h="1319">
                <a:moveTo>
                  <a:pt x="0" y="1160"/>
                </a:moveTo>
                <a:lnTo>
                  <a:pt x="1608" y="0"/>
                </a:lnTo>
                <a:lnTo>
                  <a:pt x="1536" y="1312"/>
                </a:lnTo>
                <a:lnTo>
                  <a:pt x="1482" y="1319"/>
                </a:lnTo>
                <a:lnTo>
                  <a:pt x="0" y="116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1" name="Text Box 42"/>
          <p:cNvSpPr/>
          <p:nvPr/>
        </p:nvSpPr>
        <p:spPr>
          <a:xfrm>
            <a:off x="3278160" y="714240"/>
            <a:ext cx="58770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луч </a:t>
            </a:r>
            <a:r>
              <a:rPr b="0" i="1" lang="ru-RU" sz="24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тложим отрезок АВ, равный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дугу с центром в т. 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радиусом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000099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дугу с центром в т.В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радиусом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2" name="Text Box 43"/>
          <p:cNvSpPr/>
          <p:nvPr/>
        </p:nvSpPr>
        <p:spPr>
          <a:xfrm>
            <a:off x="5932800" y="5832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3" name="Text Box 44"/>
          <p:cNvSpPr/>
          <p:nvPr/>
        </p:nvSpPr>
        <p:spPr>
          <a:xfrm>
            <a:off x="3343680" y="56642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4" name="Text Box 54"/>
          <p:cNvSpPr/>
          <p:nvPr/>
        </p:nvSpPr>
        <p:spPr>
          <a:xfrm>
            <a:off x="-7920" y="6237360"/>
            <a:ext cx="9158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Треугольник АВС искомый. Обоснуй, используя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признак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5" name="Text Box 64"/>
          <p:cNvSpPr/>
          <p:nvPr/>
        </p:nvSpPr>
        <p:spPr>
          <a:xfrm>
            <a:off x="311400" y="83664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6" name="Text Box 65"/>
          <p:cNvSpPr/>
          <p:nvPr/>
        </p:nvSpPr>
        <p:spPr>
          <a:xfrm>
            <a:off x="626760" y="1628640"/>
            <a:ext cx="2534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резк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 Р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7" name="Line 67"/>
          <p:cNvSpPr/>
          <p:nvPr/>
        </p:nvSpPr>
        <p:spPr>
          <a:xfrm>
            <a:off x="611280" y="3633840"/>
            <a:ext cx="3097080" cy="0"/>
          </a:xfrm>
          <a:prstGeom prst="line">
            <a:avLst/>
          </a:prstGeom>
          <a:ln w="1908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8" name="Text Box 68"/>
          <p:cNvSpPr/>
          <p:nvPr/>
        </p:nvSpPr>
        <p:spPr>
          <a:xfrm>
            <a:off x="3321720" y="2770200"/>
            <a:ext cx="46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9" name="Text Box 69"/>
          <p:cNvSpPr/>
          <p:nvPr/>
        </p:nvSpPr>
        <p:spPr>
          <a:xfrm>
            <a:off x="537480" y="269712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0" name="Text Box 70"/>
          <p:cNvSpPr/>
          <p:nvPr/>
        </p:nvSpPr>
        <p:spPr>
          <a:xfrm>
            <a:off x="248760" y="48578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1" name="Text Box 71"/>
          <p:cNvSpPr/>
          <p:nvPr/>
        </p:nvSpPr>
        <p:spPr>
          <a:xfrm>
            <a:off x="3488400" y="3633840"/>
            <a:ext cx="46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2" name="Text Box 72"/>
          <p:cNvSpPr/>
          <p:nvPr/>
        </p:nvSpPr>
        <p:spPr>
          <a:xfrm>
            <a:off x="7086240" y="5591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3" name="Arc 85"/>
          <p:cNvSpPr/>
          <p:nvPr/>
        </p:nvSpPr>
        <p:spPr>
          <a:xfrm rot="20980800">
            <a:off x="3276360" y="5362560"/>
            <a:ext cx="2814480" cy="1257480"/>
          </a:xfrm>
          <a:custGeom>
            <a:avLst/>
            <a:gdLst>
              <a:gd name="textAreaLeft" fmla="*/ 0 w 2814480"/>
              <a:gd name="textAreaRight" fmla="*/ 2814840 w 281448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fill="none" w="21587" h="9677">
                <a:moveTo>
                  <a:pt x="21586" y="754"/>
                </a:moveTo>
                <a:cubicBezTo>
                  <a:pt x="21478" y="3857"/>
                  <a:pt x="20702" y="6901"/>
                  <a:pt x="19311" y="9677"/>
                </a:cubicBezTo>
              </a:path>
              <a:path stroke="0" w="21587" h="9677">
                <a:moveTo>
                  <a:pt x="21586" y="754"/>
                </a:moveTo>
                <a:cubicBezTo>
                  <a:pt x="21478" y="3857"/>
                  <a:pt x="20702" y="6901"/>
                  <a:pt x="19311" y="9677"/>
                </a:cubicBez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4" name="Freeform 118"/>
          <p:cNvSpPr/>
          <p:nvPr/>
        </p:nvSpPr>
        <p:spPr>
          <a:xfrm>
            <a:off x="3543480" y="3735360"/>
            <a:ext cx="2527200" cy="2095560"/>
          </a:xfrm>
          <a:custGeom>
            <a:avLst/>
            <a:gdLst>
              <a:gd name="textAreaLeft" fmla="*/ 0 w 2527200"/>
              <a:gd name="textAreaRight" fmla="*/ 2527560 w 2527200"/>
              <a:gd name="textAreaTop" fmla="*/ 0 h 2095560"/>
              <a:gd name="textAreaBottom" fmla="*/ 2095560 h 2095560"/>
            </a:gdLst>
            <a:ahLst/>
            <a:rect l="textAreaLeft" t="textAreaTop" r="textAreaRight" b="textAreaBottom"/>
            <a:pathLst>
              <a:path w="1592" h="1320">
                <a:moveTo>
                  <a:pt x="0" y="1176"/>
                </a:moveTo>
                <a:lnTo>
                  <a:pt x="1592" y="0"/>
                </a:lnTo>
                <a:lnTo>
                  <a:pt x="1552" y="1320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5" name="Line 132"/>
          <p:cNvSpPr/>
          <p:nvPr/>
        </p:nvSpPr>
        <p:spPr>
          <a:xfrm>
            <a:off x="395280" y="4786200"/>
            <a:ext cx="2089080" cy="0"/>
          </a:xfrm>
          <a:prstGeom prst="line">
            <a:avLst/>
          </a:prstGeom>
          <a:ln w="1908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6" name="Text Box 133"/>
          <p:cNvSpPr/>
          <p:nvPr/>
        </p:nvSpPr>
        <p:spPr>
          <a:xfrm>
            <a:off x="177120" y="34178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7" name="Text Box 134"/>
          <p:cNvSpPr/>
          <p:nvPr/>
        </p:nvSpPr>
        <p:spPr>
          <a:xfrm>
            <a:off x="2335680" y="4786200"/>
            <a:ext cx="46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8" name="Arc 172"/>
          <p:cNvSpPr/>
          <p:nvPr/>
        </p:nvSpPr>
        <p:spPr>
          <a:xfrm rot="15852600">
            <a:off x="4901760" y="4022280"/>
            <a:ext cx="2316240" cy="1681200"/>
          </a:xfrm>
          <a:custGeom>
            <a:avLst/>
            <a:gdLst>
              <a:gd name="textAreaLeft" fmla="*/ 0 w 2316240"/>
              <a:gd name="textAreaRight" fmla="*/ 2316600 w 2316240"/>
              <a:gd name="textAreaTop" fmla="*/ 0 h 1681200"/>
              <a:gd name="textAreaBottom" fmla="*/ 1681560 h 1681200"/>
            </a:gdLst>
            <a:ahLst/>
            <a:rect l="textAreaLeft" t="textAreaTop" r="textAreaRight" b="textAreaBottom"/>
            <a:pathLst>
              <a:path fill="none" w="21600" h="15201">
                <a:moveTo>
                  <a:pt x="21129" y="-1"/>
                </a:moveTo>
                <a:cubicBezTo>
                  <a:pt x="21442" y="1474"/>
                  <a:pt x="21600" y="2977"/>
                  <a:pt x="21600" y="4485"/>
                </a:cubicBezTo>
                <a:cubicBezTo>
                  <a:pt x="21600" y="8243"/>
                  <a:pt x="20619" y="11937"/>
                  <a:pt x="18754" y="15200"/>
                </a:cubicBezTo>
              </a:path>
              <a:path stroke="0" w="21600" h="15201">
                <a:moveTo>
                  <a:pt x="21129" y="-1"/>
                </a:moveTo>
                <a:cubicBezTo>
                  <a:pt x="21442" y="1474"/>
                  <a:pt x="21600" y="2977"/>
                  <a:pt x="21600" y="4485"/>
                </a:cubicBezTo>
                <a:cubicBezTo>
                  <a:pt x="21600" y="8243"/>
                  <a:pt x="20619" y="11937"/>
                  <a:pt x="18754" y="15200"/>
                </a:cubicBezTo>
                <a:lnTo>
                  <a:pt x="0" y="4485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309" name="Group 32"/>
          <p:cNvGrpSpPr/>
          <p:nvPr/>
        </p:nvGrpSpPr>
        <p:grpSpPr>
          <a:xfrm>
            <a:off x="3529080" y="2504160"/>
            <a:ext cx="1421280" cy="3084120"/>
            <a:chOff x="3529080" y="2504160"/>
            <a:chExt cx="1421280" cy="3084120"/>
          </a:xfrm>
        </p:grpSpPr>
        <p:sp>
          <p:nvSpPr>
            <p:cNvPr id="2310" name="Freeform 33"/>
            <p:cNvSpPr/>
            <p:nvPr/>
          </p:nvSpPr>
          <p:spPr>
            <a:xfrm flipH="1" rot="21521400">
              <a:off x="3563280" y="2518920"/>
              <a:ext cx="1352520" cy="3030480"/>
            </a:xfrm>
            <a:custGeom>
              <a:avLst/>
              <a:gdLst>
                <a:gd name="textAreaLeft" fmla="*/ -360 w 1352520"/>
                <a:gd name="textAreaRight" fmla="*/ 1352520 w 135252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1" name="Freeform 34"/>
            <p:cNvSpPr/>
            <p:nvPr/>
          </p:nvSpPr>
          <p:spPr>
            <a:xfrm flipH="1" rot="21521400">
              <a:off x="3573000" y="4995360"/>
              <a:ext cx="341280" cy="588600"/>
            </a:xfrm>
            <a:custGeom>
              <a:avLst/>
              <a:gdLst>
                <a:gd name="textAreaLeft" fmla="*/ 360 w 341280"/>
                <a:gd name="textAreaRight" fmla="*/ 342000 w 34128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2" name="Freeform 35"/>
            <p:cNvSpPr/>
            <p:nvPr/>
          </p:nvSpPr>
          <p:spPr>
            <a:xfrm flipH="1" rot="21521400">
              <a:off x="3584160" y="534780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3" name="Freeform 36"/>
            <p:cNvSpPr/>
            <p:nvPr/>
          </p:nvSpPr>
          <p:spPr>
            <a:xfrm flipH="1" rot="21521400">
              <a:off x="3625200" y="2536200"/>
              <a:ext cx="1181160" cy="2532240"/>
            </a:xfrm>
            <a:custGeom>
              <a:avLst/>
              <a:gdLst>
                <a:gd name="textAreaLeft" fmla="*/ -360 w 1181160"/>
                <a:gd name="textAreaRight" fmla="*/ 1181160 w 1181160"/>
                <a:gd name="textAreaTop" fmla="*/ 0 h 2532240"/>
                <a:gd name="textAreaBottom" fmla="*/ 2532600 h 25322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0066ff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314" name="Freeform 4"/>
          <p:cNvSpPr/>
          <p:nvPr/>
        </p:nvSpPr>
        <p:spPr>
          <a:xfrm>
            <a:off x="3556080" y="5614920"/>
            <a:ext cx="4100400" cy="376200"/>
          </a:xfrm>
          <a:custGeom>
            <a:avLst/>
            <a:gdLst>
              <a:gd name="textAreaLeft" fmla="*/ 0 w 4100400"/>
              <a:gd name="textAreaRight" fmla="*/ 4100760 w 4100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583" h="237">
                <a:moveTo>
                  <a:pt x="0" y="0"/>
                </a:moveTo>
                <a:lnTo>
                  <a:pt x="2583" y="237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315" name="Group 173"/>
          <p:cNvGrpSpPr/>
          <p:nvPr/>
        </p:nvGrpSpPr>
        <p:grpSpPr>
          <a:xfrm>
            <a:off x="-2551320" y="716760"/>
            <a:ext cx="6253200" cy="6044400"/>
            <a:chOff x="-2551320" y="716760"/>
            <a:chExt cx="6253200" cy="6044400"/>
          </a:xfrm>
        </p:grpSpPr>
        <p:grpSp>
          <p:nvGrpSpPr>
            <p:cNvPr id="2316" name="Group 174"/>
            <p:cNvGrpSpPr/>
            <p:nvPr/>
          </p:nvGrpSpPr>
          <p:grpSpPr>
            <a:xfrm>
              <a:off x="595440" y="716760"/>
              <a:ext cx="3106440" cy="3211560"/>
              <a:chOff x="595440" y="716760"/>
              <a:chExt cx="3106440" cy="3211560"/>
            </a:xfrm>
          </p:grpSpPr>
          <p:grpSp>
            <p:nvGrpSpPr>
              <p:cNvPr id="2317" name="Group 175"/>
              <p:cNvGrpSpPr/>
              <p:nvPr/>
            </p:nvGrpSpPr>
            <p:grpSpPr>
              <a:xfrm>
                <a:off x="1711800" y="716760"/>
                <a:ext cx="1990080" cy="3211560"/>
                <a:chOff x="1711800" y="716760"/>
                <a:chExt cx="1990080" cy="3211560"/>
              </a:xfrm>
            </p:grpSpPr>
            <p:grpSp>
              <p:nvGrpSpPr>
                <p:cNvPr id="2318" name="Group 176"/>
                <p:cNvGrpSpPr/>
                <p:nvPr/>
              </p:nvGrpSpPr>
              <p:grpSpPr>
                <a:xfrm>
                  <a:off x="1711800" y="716760"/>
                  <a:ext cx="1981800" cy="3211560"/>
                  <a:chOff x="1711800" y="716760"/>
                  <a:chExt cx="1981800" cy="3211560"/>
                </a:xfrm>
              </p:grpSpPr>
              <p:sp>
                <p:nvSpPr>
                  <p:cNvPr id="2319" name="Freeform 177"/>
                  <p:cNvSpPr/>
                  <p:nvPr/>
                </p:nvSpPr>
                <p:spPr>
                  <a:xfrm rot="20848200">
                    <a:off x="2019240" y="829440"/>
                    <a:ext cx="1366560" cy="2986200"/>
                  </a:xfrm>
                  <a:custGeom>
                    <a:avLst/>
                    <a:gdLst>
                      <a:gd name="textAreaLeft" fmla="*/ 0 w 1366560"/>
                      <a:gd name="textAreaRight" fmla="*/ 1366920 w 1366560"/>
                      <a:gd name="textAreaTop" fmla="*/ 0 h 2986200"/>
                      <a:gd name="textAreaBottom" fmla="*/ 2986560 h 2986200"/>
                    </a:gdLst>
                    <a:ahLst/>
                    <a:rect l="textAreaLeft" t="textAreaTop" r="textAreaRight" b="textAreaBottom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20" name="Freeform 178"/>
                  <p:cNvSpPr/>
                  <p:nvPr/>
                </p:nvSpPr>
                <p:spPr>
                  <a:xfrm rot="20848200">
                    <a:off x="2072160" y="843120"/>
                    <a:ext cx="1193400" cy="2491920"/>
                  </a:xfrm>
                  <a:custGeom>
                    <a:avLst/>
                    <a:gdLst>
                      <a:gd name="textAreaLeft" fmla="*/ 0 w 1193400"/>
                      <a:gd name="textAreaRight" fmla="*/ 1193760 w 1193400"/>
                      <a:gd name="textAreaTop" fmla="*/ 0 h 2491920"/>
                      <a:gd name="textAreaBottom" fmla="*/ 2492280 h 249192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0000"/>
                      </a:gs>
                      <a:gs pos="100000">
                        <a:srgbClr val="ffffff"/>
                      </a:gs>
                    </a:gsLst>
                    <a:lin ang="18822000"/>
                  </a:gra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21" name="Group 179"/>
                <p:cNvGrpSpPr/>
                <p:nvPr/>
              </p:nvGrpSpPr>
              <p:grpSpPr>
                <a:xfrm>
                  <a:off x="3239640" y="3058200"/>
                  <a:ext cx="462240" cy="641520"/>
                  <a:chOff x="3239640" y="3058200"/>
                  <a:chExt cx="462240" cy="641520"/>
                </a:xfrm>
              </p:grpSpPr>
              <p:sp>
                <p:nvSpPr>
                  <p:cNvPr id="2322" name="Freeform 180"/>
                  <p:cNvSpPr/>
                  <p:nvPr/>
                </p:nvSpPr>
                <p:spPr>
                  <a:xfrm rot="20848200">
                    <a:off x="3298320" y="3088440"/>
                    <a:ext cx="344520" cy="580320"/>
                  </a:xfrm>
                  <a:custGeom>
                    <a:avLst/>
                    <a:gdLst>
                      <a:gd name="textAreaLeft" fmla="*/ 0 w 344520"/>
                      <a:gd name="textAreaRight" fmla="*/ 344880 w 344520"/>
                      <a:gd name="textAreaTop" fmla="*/ 0 h 580320"/>
                      <a:gd name="textAreaBottom" fmla="*/ 580680 h 580320"/>
                    </a:gdLst>
                    <a:ahLst/>
                    <a:rect l="textAreaLeft" t="textAreaTop" r="textAreaRight" b="textAreaBottom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6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23" name="Freeform 181"/>
                  <p:cNvSpPr/>
                  <p:nvPr/>
                </p:nvSpPr>
                <p:spPr>
                  <a:xfrm rot="20848200">
                    <a:off x="3540960" y="3416760"/>
                    <a:ext cx="131400" cy="220320"/>
                  </a:xfrm>
                  <a:custGeom>
                    <a:avLst/>
                    <a:gdLst>
                      <a:gd name="textAreaLeft" fmla="*/ 0 w 131400"/>
                      <a:gd name="textAreaRight" fmla="*/ 131760 w 13140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40458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24" name="Group 182"/>
              <p:cNvGrpSpPr/>
              <p:nvPr/>
            </p:nvGrpSpPr>
            <p:grpSpPr>
              <a:xfrm>
                <a:off x="595440" y="1303560"/>
                <a:ext cx="1894680" cy="2532240"/>
                <a:chOff x="595440" y="1303560"/>
                <a:chExt cx="1894680" cy="2532240"/>
              </a:xfrm>
            </p:grpSpPr>
            <p:sp>
              <p:nvSpPr>
                <p:cNvPr id="2325" name="Freeform 183"/>
                <p:cNvSpPr/>
                <p:nvPr/>
              </p:nvSpPr>
              <p:spPr>
                <a:xfrm rot="1818600">
                  <a:off x="1259640" y="1205280"/>
                  <a:ext cx="350640" cy="272808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2728080"/>
                    <a:gd name="textAreaBottom" fmla="*/ 2728080 h 272808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6" name="Oval 184"/>
                <p:cNvSpPr/>
                <p:nvPr/>
              </p:nvSpPr>
              <p:spPr>
                <a:xfrm rot="1818600">
                  <a:off x="1998000" y="1395000"/>
                  <a:ext cx="420120" cy="39924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327" name="Group 185"/>
            <p:cNvGrpSpPr/>
            <p:nvPr/>
          </p:nvGrpSpPr>
          <p:grpSpPr>
            <a:xfrm>
              <a:off x="-2551320" y="3485160"/>
              <a:ext cx="3150000" cy="3276000"/>
              <a:chOff x="-2551320" y="3485160"/>
              <a:chExt cx="3150000" cy="3276000"/>
            </a:xfrm>
          </p:grpSpPr>
          <p:grpSp>
            <p:nvGrpSpPr>
              <p:cNvPr id="2328" name="Group 186"/>
              <p:cNvGrpSpPr/>
              <p:nvPr/>
            </p:nvGrpSpPr>
            <p:grpSpPr>
              <a:xfrm>
                <a:off x="-2551320" y="3517920"/>
                <a:ext cx="2245680" cy="3243240"/>
                <a:chOff x="-2551320" y="3517920"/>
                <a:chExt cx="2245680" cy="3243240"/>
              </a:xfrm>
            </p:grpSpPr>
            <p:grpSp>
              <p:nvGrpSpPr>
                <p:cNvPr id="2329" name="Group 187"/>
                <p:cNvGrpSpPr/>
                <p:nvPr/>
              </p:nvGrpSpPr>
              <p:grpSpPr>
                <a:xfrm>
                  <a:off x="-2545920" y="3517920"/>
                  <a:ext cx="2240280" cy="3243240"/>
                  <a:chOff x="-2545920" y="3517920"/>
                  <a:chExt cx="2240280" cy="3243240"/>
                </a:xfrm>
              </p:grpSpPr>
              <p:sp>
                <p:nvSpPr>
                  <p:cNvPr id="2330" name="Freeform 188"/>
                  <p:cNvSpPr/>
                  <p:nvPr/>
                </p:nvSpPr>
                <p:spPr>
                  <a:xfrm rot="9744600">
                    <a:off x="-2132280" y="3662280"/>
                    <a:ext cx="1413360" cy="2954520"/>
                  </a:xfrm>
                  <a:custGeom>
                    <a:avLst/>
                    <a:gdLst>
                      <a:gd name="textAreaLeft" fmla="*/ 0 w 1413360"/>
                      <a:gd name="textAreaRight" fmla="*/ 1413720 w 1413360"/>
                      <a:gd name="textAreaTop" fmla="*/ 0 h 2954520"/>
                      <a:gd name="textAreaBottom" fmla="*/ 2954880 h 2954520"/>
                    </a:gdLst>
                    <a:ahLst/>
                    <a:rect l="textAreaLeft" t="textAreaTop" r="textAreaRight" b="textAreaBottom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1" name="Freeform 189"/>
                  <p:cNvSpPr/>
                  <p:nvPr/>
                </p:nvSpPr>
                <p:spPr>
                  <a:xfrm rot="9744600">
                    <a:off x="-1992960" y="4127040"/>
                    <a:ext cx="1234440" cy="2468520"/>
                  </a:xfrm>
                  <a:custGeom>
                    <a:avLst/>
                    <a:gdLst>
                      <a:gd name="textAreaLeft" fmla="*/ 0 w 1234440"/>
                      <a:gd name="textAreaRight" fmla="*/ 1234800 w 1234440"/>
                      <a:gd name="textAreaTop" fmla="*/ 0 h 2468520"/>
                      <a:gd name="textAreaBottom" fmla="*/ 2468880 h 246852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32" name="Group 190"/>
                <p:cNvGrpSpPr/>
                <p:nvPr/>
              </p:nvGrpSpPr>
              <p:grpSpPr>
                <a:xfrm>
                  <a:off x="-2551320" y="3845160"/>
                  <a:ext cx="513360" cy="654840"/>
                  <a:chOff x="-2551320" y="3845160"/>
                  <a:chExt cx="513360" cy="654840"/>
                </a:xfrm>
              </p:grpSpPr>
              <p:sp>
                <p:nvSpPr>
                  <p:cNvPr id="2333" name="Freeform 191"/>
                  <p:cNvSpPr/>
                  <p:nvPr/>
                </p:nvSpPr>
                <p:spPr>
                  <a:xfrm rot="9744600">
                    <a:off x="-2472480" y="3885120"/>
                    <a:ext cx="356400" cy="57420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574200"/>
                      <a:gd name="textAreaBottom" fmla="*/ 574560 h 574200"/>
                    </a:gdLst>
                    <a:ahLst/>
                    <a:rect l="textAreaLeft" t="textAreaTop" r="textAreaRight" b="textAreaBottom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4" name="Freeform 192"/>
                  <p:cNvSpPr/>
                  <p:nvPr/>
                </p:nvSpPr>
                <p:spPr>
                  <a:xfrm rot="9744600">
                    <a:off x="-2509560" y="3938760"/>
                    <a:ext cx="136080" cy="218160"/>
                  </a:xfrm>
                  <a:custGeom>
                    <a:avLst/>
                    <a:gdLst>
                      <a:gd name="textAreaLeft" fmla="*/ 0 w 136080"/>
                      <a:gd name="textAreaRight" fmla="*/ 136440 w 136080"/>
                      <a:gd name="textAreaTop" fmla="*/ 0 h 218160"/>
                      <a:gd name="textAreaBottom" fmla="*/ 218520 h 218160"/>
                    </a:gdLst>
                    <a:ahLst/>
                    <a:rect l="textAreaLeft" t="textAreaTop" r="textAreaRight" b="textAreaBottom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35" name="Group 193"/>
              <p:cNvGrpSpPr/>
              <p:nvPr/>
            </p:nvGrpSpPr>
            <p:grpSpPr>
              <a:xfrm>
                <a:off x="-1106280" y="3485160"/>
                <a:ext cx="1704960" cy="2596320"/>
                <a:chOff x="-1106280" y="3485160"/>
                <a:chExt cx="1704960" cy="2596320"/>
              </a:xfrm>
            </p:grpSpPr>
            <p:sp>
              <p:nvSpPr>
                <p:cNvPr id="2336" name="Freeform 194"/>
                <p:cNvSpPr/>
                <p:nvPr/>
              </p:nvSpPr>
              <p:spPr>
                <a:xfrm rot="12315000">
                  <a:off x="-322200" y="3433680"/>
                  <a:ext cx="362880" cy="26992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37" name="Oval 195"/>
                <p:cNvSpPr/>
                <p:nvPr/>
              </p:nvSpPr>
              <p:spPr>
                <a:xfrm rot="12315000">
                  <a:off x="-1042560" y="5609880"/>
                  <a:ext cx="434520" cy="3949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2338" name="Group 196"/>
          <p:cNvGrpSpPr/>
          <p:nvPr/>
        </p:nvGrpSpPr>
        <p:grpSpPr>
          <a:xfrm>
            <a:off x="-1531440" y="-66600"/>
            <a:ext cx="4879080" cy="6096600"/>
            <a:chOff x="-1531440" y="-66600"/>
            <a:chExt cx="4879080" cy="6096600"/>
          </a:xfrm>
        </p:grpSpPr>
        <p:sp>
          <p:nvSpPr>
            <p:cNvPr id="2339" name="Oval 197"/>
            <p:cNvSpPr/>
            <p:nvPr/>
          </p:nvSpPr>
          <p:spPr>
            <a:xfrm>
              <a:off x="826920" y="2842920"/>
              <a:ext cx="144720" cy="144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340" name="Group 198"/>
            <p:cNvGrpSpPr/>
            <p:nvPr/>
          </p:nvGrpSpPr>
          <p:grpSpPr>
            <a:xfrm>
              <a:off x="889560" y="-66600"/>
              <a:ext cx="2458080" cy="3104640"/>
              <a:chOff x="889560" y="-66600"/>
              <a:chExt cx="2458080" cy="3104640"/>
            </a:xfrm>
          </p:grpSpPr>
          <p:grpSp>
            <p:nvGrpSpPr>
              <p:cNvPr id="2341" name="Group 199"/>
              <p:cNvGrpSpPr/>
              <p:nvPr/>
            </p:nvGrpSpPr>
            <p:grpSpPr>
              <a:xfrm>
                <a:off x="1842120" y="-66600"/>
                <a:ext cx="1505520" cy="3043440"/>
                <a:chOff x="1842120" y="-66600"/>
                <a:chExt cx="1505520" cy="3043440"/>
              </a:xfrm>
            </p:grpSpPr>
            <p:grpSp>
              <p:nvGrpSpPr>
                <p:cNvPr id="2342" name="Group 200"/>
                <p:cNvGrpSpPr/>
                <p:nvPr/>
              </p:nvGrpSpPr>
              <p:grpSpPr>
                <a:xfrm>
                  <a:off x="1842120" y="-66600"/>
                  <a:ext cx="1497240" cy="3043440"/>
                  <a:chOff x="1842120" y="-66600"/>
                  <a:chExt cx="1497240" cy="3043440"/>
                </a:xfrm>
              </p:grpSpPr>
              <p:sp>
                <p:nvSpPr>
                  <p:cNvPr id="2343" name="Freeform 201"/>
                  <p:cNvSpPr/>
                  <p:nvPr/>
                </p:nvSpPr>
                <p:spPr>
                  <a:xfrm rot="21447600">
                    <a:off x="1907280" y="-37800"/>
                    <a:ext cx="1366200" cy="2985840"/>
                  </a:xfrm>
                  <a:custGeom>
                    <a:avLst/>
                    <a:gdLst>
                      <a:gd name="textAreaLeft" fmla="*/ 0 w 1366200"/>
                      <a:gd name="textAreaRight" fmla="*/ 1366560 w 1366200"/>
                      <a:gd name="textAreaTop" fmla="*/ 0 h 2985840"/>
                      <a:gd name="textAreaBottom" fmla="*/ 2986200 h 2985840"/>
                    </a:gdLst>
                    <a:ahLst/>
                    <a:rect l="textAreaLeft" t="textAreaTop" r="textAreaRight" b="textAreaBottom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4" name="Freeform 202"/>
                  <p:cNvSpPr/>
                  <p:nvPr/>
                </p:nvSpPr>
                <p:spPr>
                  <a:xfrm rot="21447600">
                    <a:off x="1999800" y="-21600"/>
                    <a:ext cx="1193040" cy="2491560"/>
                  </a:xfrm>
                  <a:custGeom>
                    <a:avLst/>
                    <a:gdLst>
                      <a:gd name="textAreaLeft" fmla="*/ 0 w 1193040"/>
                      <a:gd name="textAreaRight" fmla="*/ 1193400 w 1193040"/>
                      <a:gd name="textAreaTop" fmla="*/ 0 h 2491560"/>
                      <a:gd name="textAreaBottom" fmla="*/ 2491920 h 249156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0000"/>
                      </a:gs>
                      <a:gs pos="100000">
                        <a:srgbClr val="ffffff"/>
                      </a:gs>
                    </a:gsLst>
                    <a:lin ang="18822000"/>
                  </a:gra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45" name="Group 203"/>
                <p:cNvGrpSpPr/>
                <p:nvPr/>
              </p:nvGrpSpPr>
              <p:grpSpPr>
                <a:xfrm>
                  <a:off x="2977920" y="2330640"/>
                  <a:ext cx="369720" cy="594360"/>
                  <a:chOff x="2977920" y="2330640"/>
                  <a:chExt cx="369720" cy="594360"/>
                </a:xfrm>
              </p:grpSpPr>
              <p:sp>
                <p:nvSpPr>
                  <p:cNvPr id="2346" name="Freeform 204"/>
                  <p:cNvSpPr/>
                  <p:nvPr/>
                </p:nvSpPr>
                <p:spPr>
                  <a:xfrm rot="21447600">
                    <a:off x="2990520" y="2337840"/>
                    <a:ext cx="344520" cy="579960"/>
                  </a:xfrm>
                  <a:custGeom>
                    <a:avLst/>
                    <a:gdLst>
                      <a:gd name="textAreaLeft" fmla="*/ 0 w 344520"/>
                      <a:gd name="textAreaRight" fmla="*/ 344880 w 344520"/>
                      <a:gd name="textAreaTop" fmla="*/ 0 h 579960"/>
                      <a:gd name="textAreaBottom" fmla="*/ 580320 h 579960"/>
                    </a:gdLst>
                    <a:ahLst/>
                    <a:rect l="textAreaLeft" t="textAreaTop" r="textAreaRight" b="textAreaBottom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6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7" name="Freeform 205"/>
                  <p:cNvSpPr/>
                  <p:nvPr/>
                </p:nvSpPr>
                <p:spPr>
                  <a:xfrm rot="21447600">
                    <a:off x="3205080" y="2680920"/>
                    <a:ext cx="131400" cy="220320"/>
                  </a:xfrm>
                  <a:custGeom>
                    <a:avLst/>
                    <a:gdLst>
                      <a:gd name="textAreaLeft" fmla="*/ 0 w 131400"/>
                      <a:gd name="textAreaRight" fmla="*/ 131760 w 13140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48" name="Group 206"/>
              <p:cNvGrpSpPr/>
              <p:nvPr/>
            </p:nvGrpSpPr>
            <p:grpSpPr>
              <a:xfrm>
                <a:off x="889560" y="375120"/>
                <a:ext cx="1588680" cy="2662920"/>
                <a:chOff x="889560" y="375120"/>
                <a:chExt cx="1588680" cy="2662920"/>
              </a:xfrm>
            </p:grpSpPr>
            <p:sp>
              <p:nvSpPr>
                <p:cNvPr id="2349" name="Freeform 207"/>
                <p:cNvSpPr/>
                <p:nvPr/>
              </p:nvSpPr>
              <p:spPr>
                <a:xfrm rot="1350000">
                  <a:off x="1398240" y="346680"/>
                  <a:ext cx="351360" cy="2727720"/>
                </a:xfrm>
                <a:custGeom>
                  <a:avLst/>
                  <a:gdLst>
                    <a:gd name="textAreaLeft" fmla="*/ 0 w 351360"/>
                    <a:gd name="textAreaRight" fmla="*/ 351720 w 351360"/>
                    <a:gd name="textAreaTop" fmla="*/ 0 h 2727720"/>
                    <a:gd name="textAreaBottom" fmla="*/ 2728080 h 272772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0" name="Oval 208"/>
                <p:cNvSpPr/>
                <p:nvPr/>
              </p:nvSpPr>
              <p:spPr>
                <a:xfrm rot="1350000">
                  <a:off x="1996920" y="440280"/>
                  <a:ext cx="420840" cy="39924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351" name="Group 209"/>
            <p:cNvGrpSpPr/>
            <p:nvPr/>
          </p:nvGrpSpPr>
          <p:grpSpPr>
            <a:xfrm>
              <a:off x="-1531440" y="2748960"/>
              <a:ext cx="2447640" cy="3281040"/>
              <a:chOff x="-1531440" y="2748960"/>
              <a:chExt cx="2447640" cy="3281040"/>
            </a:xfrm>
          </p:grpSpPr>
          <p:grpSp>
            <p:nvGrpSpPr>
              <p:cNvPr id="2352" name="Group 210"/>
              <p:cNvGrpSpPr/>
              <p:nvPr/>
            </p:nvGrpSpPr>
            <p:grpSpPr>
              <a:xfrm>
                <a:off x="-1531440" y="2882520"/>
                <a:ext cx="1778400" cy="3147480"/>
                <a:chOff x="-1531440" y="2882520"/>
                <a:chExt cx="1778400" cy="3147480"/>
              </a:xfrm>
            </p:grpSpPr>
            <p:grpSp>
              <p:nvGrpSpPr>
                <p:cNvPr id="2353" name="Group 211"/>
                <p:cNvGrpSpPr/>
                <p:nvPr/>
              </p:nvGrpSpPr>
              <p:grpSpPr>
                <a:xfrm>
                  <a:off x="-1523520" y="2882520"/>
                  <a:ext cx="1770480" cy="3147480"/>
                  <a:chOff x="-1523520" y="2882520"/>
                  <a:chExt cx="1770480" cy="3147480"/>
                </a:xfrm>
              </p:grpSpPr>
              <p:sp>
                <p:nvSpPr>
                  <p:cNvPr id="2354" name="Freeform 212"/>
                  <p:cNvSpPr/>
                  <p:nvPr/>
                </p:nvSpPr>
                <p:spPr>
                  <a:xfrm rot="10317600">
                    <a:off x="-1321200" y="2963160"/>
                    <a:ext cx="1366200" cy="2985840"/>
                  </a:xfrm>
                  <a:custGeom>
                    <a:avLst/>
                    <a:gdLst>
                      <a:gd name="textAreaLeft" fmla="*/ 0 w 1366200"/>
                      <a:gd name="textAreaRight" fmla="*/ 1366560 w 1366200"/>
                      <a:gd name="textAreaTop" fmla="*/ 0 h 2985840"/>
                      <a:gd name="textAreaBottom" fmla="*/ 2986200 h 2985840"/>
                    </a:gdLst>
                    <a:ahLst/>
                    <a:rect l="textAreaLeft" t="textAreaTop" r="textAreaRight" b="textAreaBottom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5" name="Freeform 213"/>
                  <p:cNvSpPr/>
                  <p:nvPr/>
                </p:nvSpPr>
                <p:spPr>
                  <a:xfrm rot="10317600">
                    <a:off x="-1222200" y="3438000"/>
                    <a:ext cx="1193400" cy="2494800"/>
                  </a:xfrm>
                  <a:custGeom>
                    <a:avLst/>
                    <a:gdLst>
                      <a:gd name="textAreaLeft" fmla="*/ 0 w 1193400"/>
                      <a:gd name="textAreaRight" fmla="*/ 1193760 w 1193400"/>
                      <a:gd name="textAreaTop" fmla="*/ 0 h 2494800"/>
                      <a:gd name="textAreaBottom" fmla="*/ 2495160 h 249480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56" name="Group 214"/>
                <p:cNvGrpSpPr/>
                <p:nvPr/>
              </p:nvGrpSpPr>
              <p:grpSpPr>
                <a:xfrm>
                  <a:off x="-1531440" y="3031920"/>
                  <a:ext cx="422280" cy="622440"/>
                  <a:chOff x="-1531440" y="3031920"/>
                  <a:chExt cx="422280" cy="622440"/>
                </a:xfrm>
              </p:grpSpPr>
              <p:sp>
                <p:nvSpPr>
                  <p:cNvPr id="2357" name="Freeform 215"/>
                  <p:cNvSpPr/>
                  <p:nvPr/>
                </p:nvSpPr>
                <p:spPr>
                  <a:xfrm rot="10317600">
                    <a:off x="-1492200" y="3052800"/>
                    <a:ext cx="344520" cy="579960"/>
                  </a:xfrm>
                  <a:custGeom>
                    <a:avLst/>
                    <a:gdLst>
                      <a:gd name="textAreaLeft" fmla="*/ 0 w 344520"/>
                      <a:gd name="textAreaRight" fmla="*/ 344880 w 344520"/>
                      <a:gd name="textAreaTop" fmla="*/ 0 h 579960"/>
                      <a:gd name="textAreaBottom" fmla="*/ 580320 h 579960"/>
                    </a:gdLst>
                    <a:ahLst/>
                    <a:rect l="textAreaLeft" t="textAreaTop" r="textAreaRight" b="textAreaBottom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8" name="Freeform 216"/>
                  <p:cNvSpPr/>
                  <p:nvPr/>
                </p:nvSpPr>
                <p:spPr>
                  <a:xfrm rot="10317600">
                    <a:off x="-1506600" y="3083040"/>
                    <a:ext cx="131400" cy="220320"/>
                  </a:xfrm>
                  <a:custGeom>
                    <a:avLst/>
                    <a:gdLst>
                      <a:gd name="textAreaLeft" fmla="*/ 0 w 131400"/>
                      <a:gd name="textAreaRight" fmla="*/ 131760 w 13140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59" name="Group 217"/>
              <p:cNvGrpSpPr/>
              <p:nvPr/>
            </p:nvGrpSpPr>
            <p:grpSpPr>
              <a:xfrm>
                <a:off x="-438480" y="2748960"/>
                <a:ext cx="1354680" cy="2734200"/>
                <a:chOff x="-438480" y="2748960"/>
                <a:chExt cx="1354680" cy="2734200"/>
              </a:xfrm>
            </p:grpSpPr>
            <p:sp>
              <p:nvSpPr>
                <p:cNvPr id="2360" name="Freeform 218"/>
                <p:cNvSpPr/>
                <p:nvPr/>
              </p:nvSpPr>
              <p:spPr>
                <a:xfrm rot="11820000">
                  <a:off x="173520" y="2740320"/>
                  <a:ext cx="351360" cy="2727720"/>
                </a:xfrm>
                <a:custGeom>
                  <a:avLst/>
                  <a:gdLst>
                    <a:gd name="textAreaLeft" fmla="*/ 0 w 351360"/>
                    <a:gd name="textAreaRight" fmla="*/ 351720 w 351360"/>
                    <a:gd name="textAreaTop" fmla="*/ 0 h 2727720"/>
                    <a:gd name="textAreaBottom" fmla="*/ 2728080 h 272772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1" name="Oval 219"/>
                <p:cNvSpPr/>
                <p:nvPr/>
              </p:nvSpPr>
              <p:spPr>
                <a:xfrm rot="11820000">
                  <a:off x="-389160" y="5031000"/>
                  <a:ext cx="420840" cy="39924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2362" name="Group 220"/>
          <p:cNvGrpSpPr/>
          <p:nvPr/>
        </p:nvGrpSpPr>
        <p:grpSpPr>
          <a:xfrm>
            <a:off x="351000" y="1760760"/>
            <a:ext cx="4235040" cy="6069960"/>
            <a:chOff x="351000" y="1760760"/>
            <a:chExt cx="4235040" cy="6069960"/>
          </a:xfrm>
        </p:grpSpPr>
        <p:grpSp>
          <p:nvGrpSpPr>
            <p:cNvPr id="2363" name="Group 221"/>
            <p:cNvGrpSpPr/>
            <p:nvPr/>
          </p:nvGrpSpPr>
          <p:grpSpPr>
            <a:xfrm>
              <a:off x="2446560" y="4685040"/>
              <a:ext cx="2139480" cy="3145680"/>
              <a:chOff x="2446560" y="4685040"/>
              <a:chExt cx="2139480" cy="3145680"/>
            </a:xfrm>
          </p:grpSpPr>
          <p:grpSp>
            <p:nvGrpSpPr>
              <p:cNvPr id="2364" name="Group 222"/>
              <p:cNvGrpSpPr/>
              <p:nvPr/>
            </p:nvGrpSpPr>
            <p:grpSpPr>
              <a:xfrm>
                <a:off x="3155040" y="4765680"/>
                <a:ext cx="1431000" cy="3065040"/>
                <a:chOff x="3155040" y="4765680"/>
                <a:chExt cx="1431000" cy="3065040"/>
              </a:xfrm>
            </p:grpSpPr>
            <p:grpSp>
              <p:nvGrpSpPr>
                <p:cNvPr id="2365" name="Group 223"/>
                <p:cNvGrpSpPr/>
                <p:nvPr/>
              </p:nvGrpSpPr>
              <p:grpSpPr>
                <a:xfrm>
                  <a:off x="3155040" y="4765680"/>
                  <a:ext cx="1431000" cy="3065040"/>
                  <a:chOff x="3155040" y="4765680"/>
                  <a:chExt cx="1431000" cy="3065040"/>
                </a:xfrm>
              </p:grpSpPr>
              <p:sp>
                <p:nvSpPr>
                  <p:cNvPr id="2366" name="Freeform 224"/>
                  <p:cNvSpPr/>
                  <p:nvPr/>
                </p:nvSpPr>
                <p:spPr>
                  <a:xfrm flipV="1" rot="21510000">
                    <a:off x="3193920" y="4782600"/>
                    <a:ext cx="1352520" cy="3030840"/>
                  </a:xfrm>
                  <a:custGeom>
                    <a:avLst/>
                    <a:gdLst>
                      <a:gd name="textAreaLeft" fmla="*/ 0 w 1352520"/>
                      <a:gd name="textAreaRight" fmla="*/ 1352880 w 1352520"/>
                      <a:gd name="textAreaTop" fmla="*/ -360 h 3030840"/>
                      <a:gd name="textAreaBottom" fmla="*/ 3030840 h 3030840"/>
                    </a:gdLst>
                    <a:ahLst/>
                    <a:rect l="textAreaLeft" t="textAreaTop" r="textAreaRight" b="textAreaBottom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7" name="Freeform 225"/>
                  <p:cNvSpPr/>
                  <p:nvPr/>
                </p:nvSpPr>
                <p:spPr>
                  <a:xfrm flipV="1" rot="21510000">
                    <a:off x="3304440" y="5263920"/>
                    <a:ext cx="1181160" cy="2531520"/>
                  </a:xfrm>
                  <a:custGeom>
                    <a:avLst/>
                    <a:gdLst>
                      <a:gd name="textAreaLeft" fmla="*/ 0 w 1181160"/>
                      <a:gd name="textAreaRight" fmla="*/ 1181520 w 1181160"/>
                      <a:gd name="textAreaTop" fmla="*/ 360 h 2531520"/>
                      <a:gd name="textAreaBottom" fmla="*/ 2532240 h 253152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68" name="Group 226"/>
                <p:cNvGrpSpPr/>
                <p:nvPr/>
              </p:nvGrpSpPr>
              <p:grpSpPr>
                <a:xfrm>
                  <a:off x="4174200" y="4770720"/>
                  <a:ext cx="356760" cy="597600"/>
                  <a:chOff x="4174200" y="4770720"/>
                  <a:chExt cx="356760" cy="597600"/>
                </a:xfrm>
              </p:grpSpPr>
              <p:sp>
                <p:nvSpPr>
                  <p:cNvPr id="2369" name="Freeform 227"/>
                  <p:cNvSpPr/>
                  <p:nvPr/>
                </p:nvSpPr>
                <p:spPr>
                  <a:xfrm flipV="1" rot="21510000">
                    <a:off x="4181760" y="4775040"/>
                    <a:ext cx="341280" cy="588960"/>
                  </a:xfrm>
                  <a:custGeom>
                    <a:avLst/>
                    <a:gdLst>
                      <a:gd name="textAreaLeft" fmla="*/ 0 w 341280"/>
                      <a:gd name="textAreaRight" fmla="*/ 341640 w 341280"/>
                      <a:gd name="textAreaTop" fmla="*/ 360 h 588960"/>
                      <a:gd name="textAreaBottom" fmla="*/ 589680 h 588960"/>
                    </a:gdLst>
                    <a:ahLst/>
                    <a:rect l="textAreaLeft" t="textAreaTop" r="textAreaRight" b="textAreaBottom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0" name="Freeform 228"/>
                  <p:cNvSpPr/>
                  <p:nvPr/>
                </p:nvSpPr>
                <p:spPr>
                  <a:xfrm flipV="1" rot="21510000">
                    <a:off x="4397040" y="4778640"/>
                    <a:ext cx="130320" cy="223920"/>
                  </a:xfrm>
                  <a:custGeom>
                    <a:avLst/>
                    <a:gdLst>
                      <a:gd name="textAreaLeft" fmla="*/ 0 w 130320"/>
                      <a:gd name="textAreaRight" fmla="*/ 130680 w 130320"/>
                      <a:gd name="textAreaTop" fmla="*/ 360 h 223920"/>
                      <a:gd name="textAreaBottom" fmla="*/ 224640 h 223920"/>
                    </a:gdLst>
                    <a:ahLst/>
                    <a:rect l="textAreaLeft" t="textAreaTop" r="textAreaRight" b="textAreaBottom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71" name="Group 229"/>
              <p:cNvGrpSpPr/>
              <p:nvPr/>
            </p:nvGrpSpPr>
            <p:grpSpPr>
              <a:xfrm>
                <a:off x="2446560" y="4685040"/>
                <a:ext cx="1383840" cy="2900880"/>
                <a:chOff x="2446560" y="4685040"/>
                <a:chExt cx="1383840" cy="2900880"/>
              </a:xfrm>
            </p:grpSpPr>
            <p:sp>
              <p:nvSpPr>
                <p:cNvPr id="2372" name="Freeform 230"/>
                <p:cNvSpPr/>
                <p:nvPr/>
              </p:nvSpPr>
              <p:spPr>
                <a:xfrm flipV="1" rot="20658000">
                  <a:off x="2827800" y="4682520"/>
                  <a:ext cx="380880" cy="2878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-360 h 2878200"/>
                    <a:gd name="textAreaBottom" fmla="*/ 2878200 h 287820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3" name="Oval 231"/>
                <p:cNvSpPr/>
                <p:nvPr/>
              </p:nvSpPr>
              <p:spPr>
                <a:xfrm flipV="1" rot="20658000">
                  <a:off x="3325680" y="7110360"/>
                  <a:ext cx="45612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374" name="Group 232"/>
            <p:cNvGrpSpPr/>
            <p:nvPr/>
          </p:nvGrpSpPr>
          <p:grpSpPr>
            <a:xfrm>
              <a:off x="351000" y="1760760"/>
              <a:ext cx="2139480" cy="3145680"/>
              <a:chOff x="351000" y="1760760"/>
              <a:chExt cx="2139480" cy="3145680"/>
            </a:xfrm>
          </p:grpSpPr>
          <p:grpSp>
            <p:nvGrpSpPr>
              <p:cNvPr id="2375" name="Group 233"/>
              <p:cNvGrpSpPr/>
              <p:nvPr/>
            </p:nvGrpSpPr>
            <p:grpSpPr>
              <a:xfrm>
                <a:off x="351000" y="1760760"/>
                <a:ext cx="1431000" cy="3065040"/>
                <a:chOff x="351000" y="1760760"/>
                <a:chExt cx="1431000" cy="3065040"/>
              </a:xfrm>
            </p:grpSpPr>
            <p:grpSp>
              <p:nvGrpSpPr>
                <p:cNvPr id="2376" name="Group 234"/>
                <p:cNvGrpSpPr/>
                <p:nvPr/>
              </p:nvGrpSpPr>
              <p:grpSpPr>
                <a:xfrm>
                  <a:off x="351000" y="1760760"/>
                  <a:ext cx="1431000" cy="3065040"/>
                  <a:chOff x="351000" y="1760760"/>
                  <a:chExt cx="1431000" cy="3065040"/>
                </a:xfrm>
              </p:grpSpPr>
              <p:sp>
                <p:nvSpPr>
                  <p:cNvPr id="2377" name="Freeform 235"/>
                  <p:cNvSpPr/>
                  <p:nvPr/>
                </p:nvSpPr>
                <p:spPr>
                  <a:xfrm flipV="1" rot="10710000">
                    <a:off x="390240" y="1777680"/>
                    <a:ext cx="1352520" cy="3030840"/>
                  </a:xfrm>
                  <a:custGeom>
                    <a:avLst/>
                    <a:gdLst>
                      <a:gd name="textAreaLeft" fmla="*/ 0 w 1352520"/>
                      <a:gd name="textAreaRight" fmla="*/ 1352880 w 1352520"/>
                      <a:gd name="textAreaTop" fmla="*/ -360 h 3030840"/>
                      <a:gd name="textAreaBottom" fmla="*/ 3030840 h 3030840"/>
                    </a:gdLst>
                    <a:ahLst/>
                    <a:rect l="textAreaLeft" t="textAreaTop" r="textAreaRight" b="textAreaBottom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8" name="Freeform 236"/>
                  <p:cNvSpPr/>
                  <p:nvPr/>
                </p:nvSpPr>
                <p:spPr>
                  <a:xfrm flipV="1" rot="10710000">
                    <a:off x="451080" y="1795680"/>
                    <a:ext cx="1181160" cy="2531520"/>
                  </a:xfrm>
                  <a:custGeom>
                    <a:avLst/>
                    <a:gdLst>
                      <a:gd name="textAreaLeft" fmla="*/ 0 w 1181160"/>
                      <a:gd name="textAreaRight" fmla="*/ 1181520 w 1181160"/>
                      <a:gd name="textAreaTop" fmla="*/ 360 h 2531520"/>
                      <a:gd name="textAreaBottom" fmla="*/ 2532240 h 253152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79" name="Group 237"/>
                <p:cNvGrpSpPr/>
                <p:nvPr/>
              </p:nvGrpSpPr>
              <p:grpSpPr>
                <a:xfrm>
                  <a:off x="401400" y="4223160"/>
                  <a:ext cx="361080" cy="595080"/>
                  <a:chOff x="401400" y="4223160"/>
                  <a:chExt cx="361080" cy="595080"/>
                </a:xfrm>
              </p:grpSpPr>
              <p:sp>
                <p:nvSpPr>
                  <p:cNvPr id="2380" name="Freeform 238"/>
                  <p:cNvSpPr/>
                  <p:nvPr/>
                </p:nvSpPr>
                <p:spPr>
                  <a:xfrm flipV="1" rot="10710000">
                    <a:off x="408960" y="4227120"/>
                    <a:ext cx="345960" cy="586080"/>
                  </a:xfrm>
                  <a:custGeom>
                    <a:avLst/>
                    <a:gdLst>
                      <a:gd name="textAreaLeft" fmla="*/ 0 w 345960"/>
                      <a:gd name="textAreaRight" fmla="*/ 345960 w 345960"/>
                      <a:gd name="textAreaTop" fmla="*/ 360 h 586080"/>
                      <a:gd name="textAreaBottom" fmla="*/ 586800 h 586080"/>
                    </a:gdLst>
                    <a:ahLst/>
                    <a:rect l="textAreaLeft" t="textAreaTop" r="textAreaRight" b="textAreaBottom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6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1" name="Freeform 239"/>
                  <p:cNvSpPr/>
                  <p:nvPr/>
                </p:nvSpPr>
                <p:spPr>
                  <a:xfrm flipV="1" rot="10710000">
                    <a:off x="417600" y="4593960"/>
                    <a:ext cx="132120" cy="222120"/>
                  </a:xfrm>
                  <a:custGeom>
                    <a:avLst/>
                    <a:gdLst>
                      <a:gd name="textAreaLeft" fmla="*/ 0 w 132120"/>
                      <a:gd name="textAreaRight" fmla="*/ 132480 w 132120"/>
                      <a:gd name="textAreaTop" fmla="*/ -360 h 222120"/>
                      <a:gd name="textAreaBottom" fmla="*/ 222120 h 222120"/>
                    </a:gdLst>
                    <a:ahLst/>
                    <a:rect l="textAreaLeft" t="textAreaTop" r="textAreaRight" b="textAreaBottom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000c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82" name="Group 240"/>
              <p:cNvGrpSpPr/>
              <p:nvPr/>
            </p:nvGrpSpPr>
            <p:grpSpPr>
              <a:xfrm>
                <a:off x="1106640" y="2005560"/>
                <a:ext cx="1383840" cy="2900880"/>
                <a:chOff x="1106640" y="2005560"/>
                <a:chExt cx="1383840" cy="2900880"/>
              </a:xfrm>
            </p:grpSpPr>
            <p:sp>
              <p:nvSpPr>
                <p:cNvPr id="2383" name="Freeform 241"/>
                <p:cNvSpPr/>
                <p:nvPr/>
              </p:nvSpPr>
              <p:spPr>
                <a:xfrm flipV="1" rot="9857400">
                  <a:off x="1728000" y="2029680"/>
                  <a:ext cx="380880" cy="2878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-360 h 2878200"/>
                    <a:gd name="textAreaBottom" fmla="*/ 2878200 h 287820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4" name="Oval 242"/>
                <p:cNvSpPr/>
                <p:nvPr/>
              </p:nvSpPr>
              <p:spPr>
                <a:xfrm flipV="1" rot="9857400">
                  <a:off x="1154880" y="2058840"/>
                  <a:ext cx="456120" cy="42120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385" name="Oval 243"/>
          <p:cNvSpPr/>
          <p:nvPr/>
        </p:nvSpPr>
        <p:spPr>
          <a:xfrm>
            <a:off x="3492360" y="5578560"/>
            <a:ext cx="142920" cy="71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6" name="Oval 244"/>
          <p:cNvSpPr/>
          <p:nvPr/>
        </p:nvSpPr>
        <p:spPr>
          <a:xfrm flipH="1" flipV="1">
            <a:off x="5954040" y="5807160"/>
            <a:ext cx="73080" cy="698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7" name="Rectangle 247"/>
          <p:cNvSpPr/>
          <p:nvPr/>
        </p:nvSpPr>
        <p:spPr>
          <a:xfrm>
            <a:off x="131760" y="115920"/>
            <a:ext cx="74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строение треугольника по трем сторона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85185E-006 L 0.43003 0.06504 E">
                                      <p:cBhvr>
                                        <p:cTn id="2015" dur="2000" fill="hold"/>
                                        <p:tgtEl>
                                          <p:spTgt spid="2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8" dur="20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1" dur="20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20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2" dur="500"/>
                                        <p:tgtEl>
                                          <p:spTgt spid="2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500"/>
                            </p:stCondLst>
                            <p:childTnLst>
                              <p:par>
                                <p:cTn id="20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1" nodeType="afterEffect" fill="hold" presetClass="path" presetID="49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778E-017 -4.07407E-006 L 0.29132 0.39468 E">
                                      <p:cBhvr>
                                        <p:cTn id="2052" dur="2000" fill="hold"/>
                                        <p:tgtEl>
                                          <p:spTgt spid="2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3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200000">
                                      <p:cBhvr>
                                        <p:cTn id="2054" dur="2000" fill="hold"/>
                                        <p:tgtEl>
                                          <p:spTgt spid="2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40000">
                                      <p:cBhvr>
                                        <p:cTn id="2057" dur="2000" fill="hold"/>
                                        <p:tgtEl>
                                          <p:spTgt spid="2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0" dur="20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1" fill="hold">
                            <p:stCondLst>
                              <p:cond delay="7500"/>
                            </p:stCondLst>
                            <p:childTnLst>
                              <p:par>
                                <p:cTn id="20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4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10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0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6" dur="500"/>
                                        <p:tgtEl>
                                          <p:spTgt spid="2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500"/>
                            </p:stCondLst>
                            <p:childTnLst>
                              <p:par>
                                <p:cTn id="20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9" dur="20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4" dur="500"/>
                                        <p:tgtEl>
                                          <p:spTgt spid="2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3" nodeType="afterEffect" fill="hold" presetClass="path" presetID="49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-7.40741E-007 L 0.32118 0.27384 E">
                                      <p:cBhvr>
                                        <p:cTn id="2104" dur="2000" fill="hold"/>
                                        <p:tgtEl>
                                          <p:spTgt spid="2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900000">
                                      <p:cBhvr>
                                        <p:cTn id="2106" dur="2000" fill="hold"/>
                                        <p:tgtEl>
                                          <p:spTgt spid="2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980000">
                                      <p:cBhvr>
                                        <p:cTn id="2109" dur="2000" fill="hold"/>
                                        <p:tgtEl>
                                          <p:spTgt spid="2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2" dur="20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7" dur="500"/>
                                        <p:tgtEl>
                                          <p:spTgt spid="2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9" dur="2000"/>
                                        <p:tgtEl>
                                          <p:spTgt spid="2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4" dur="500"/>
                                        <p:tgtEl>
                                          <p:spTgt spid="2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3" nodeType="afterEffect" fill="hold" presetClass="path" presetID="49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72222E-006 4.44444E-006 L 0.3875 0.14675 E">
                                      <p:cBhvr>
                                        <p:cTn id="2144" dur="2000" fill="hold"/>
                                        <p:tgtEl>
                                          <p:spTgt spid="2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2146" dur="20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880000">
                                      <p:cBhvr>
                                        <p:cTn id="2149" dur="20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2" dur="2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0" dur="20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3" dur="20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1" dur="20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3" dur="5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 Box 39"/>
          <p:cNvSpPr/>
          <p:nvPr/>
        </p:nvSpPr>
        <p:spPr>
          <a:xfrm>
            <a:off x="250920" y="18900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 геометрии выделяют задачи на построение, которые можно решить только с помощью двух инструментов: циркуля и линейки без масштабных делени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инейка позволяет провести произвольную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ямую, а также построить прямую, проходящую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рез две данные точки; с помощью циркуля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жно провести окружность произвольного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диуса, а также окружность с центром в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ной точке и радиусом, равным данному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резк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41" name="Group 28"/>
          <p:cNvGrpSpPr/>
          <p:nvPr/>
        </p:nvGrpSpPr>
        <p:grpSpPr>
          <a:xfrm>
            <a:off x="6051240" y="3253320"/>
            <a:ext cx="3125880" cy="3105360"/>
            <a:chOff x="6051240" y="3253320"/>
            <a:chExt cx="3125880" cy="3105360"/>
          </a:xfrm>
        </p:grpSpPr>
        <p:sp>
          <p:nvSpPr>
            <p:cNvPr id="1242" name="Freeform 29"/>
            <p:cNvSpPr/>
            <p:nvPr/>
          </p:nvSpPr>
          <p:spPr>
            <a:xfrm flipH="1" rot="2685000">
              <a:off x="6953040" y="3290040"/>
              <a:ext cx="1352520" cy="3031920"/>
            </a:xfrm>
            <a:custGeom>
              <a:avLst/>
              <a:gdLst>
                <a:gd name="textAreaLeft" fmla="*/ -360 w 1352520"/>
                <a:gd name="textAreaRight" fmla="*/ 1352520 w 1352520"/>
                <a:gd name="textAreaTop" fmla="*/ 0 h 3031920"/>
                <a:gd name="textAreaBottom" fmla="*/ 3032280 h 303192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3" name="Freeform 30"/>
            <p:cNvSpPr/>
            <p:nvPr/>
          </p:nvSpPr>
          <p:spPr>
            <a:xfrm flipH="1" rot="2685000">
              <a:off x="6208560" y="5022720"/>
              <a:ext cx="341280" cy="588960"/>
            </a:xfrm>
            <a:custGeom>
              <a:avLst/>
              <a:gdLst>
                <a:gd name="textAreaLeft" fmla="*/ 360 w 341280"/>
                <a:gd name="textAreaRight" fmla="*/ 342000 w 34128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4" name="Freeform 31"/>
            <p:cNvSpPr/>
            <p:nvPr/>
          </p:nvSpPr>
          <p:spPr>
            <a:xfrm flipH="1" rot="2685000">
              <a:off x="6127920" y="525852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5" name="Freeform 32"/>
            <p:cNvSpPr/>
            <p:nvPr/>
          </p:nvSpPr>
          <p:spPr>
            <a:xfrm flipH="1" rot="2685000">
              <a:off x="7188840" y="3360960"/>
              <a:ext cx="1181160" cy="2533680"/>
            </a:xfrm>
            <a:custGeom>
              <a:avLst/>
              <a:gdLst>
                <a:gd name="textAreaLeft" fmla="*/ -360 w 1181160"/>
                <a:gd name="textAreaRight" fmla="*/ 1181160 w 1181160"/>
                <a:gd name="textAreaTop" fmla="*/ 0 h 2533680"/>
                <a:gd name="textAreaBottom" fmla="*/ 2534040 h 253368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246" name="Group 33"/>
          <p:cNvGrpSpPr/>
          <p:nvPr/>
        </p:nvGrpSpPr>
        <p:grpSpPr>
          <a:xfrm>
            <a:off x="5232240" y="3250800"/>
            <a:ext cx="3329280" cy="2697840"/>
            <a:chOff x="5232240" y="3250800"/>
            <a:chExt cx="3329280" cy="2697840"/>
          </a:xfrm>
        </p:grpSpPr>
        <p:sp>
          <p:nvSpPr>
            <p:cNvPr id="1247" name="Freeform 34"/>
            <p:cNvSpPr/>
            <p:nvPr/>
          </p:nvSpPr>
          <p:spPr>
            <a:xfrm flipH="1" rot="3580800">
              <a:off x="6235560" y="3084480"/>
              <a:ext cx="1352520" cy="3030480"/>
            </a:xfrm>
            <a:custGeom>
              <a:avLst/>
              <a:gdLst>
                <a:gd name="textAreaLeft" fmla="*/ -360 w 1352520"/>
                <a:gd name="textAreaRight" fmla="*/ 1352520 w 135252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8" name="Freeform 35"/>
            <p:cNvSpPr/>
            <p:nvPr/>
          </p:nvSpPr>
          <p:spPr>
            <a:xfrm flipH="1" rot="3580800">
              <a:off x="5401440" y="4478760"/>
              <a:ext cx="341280" cy="588960"/>
            </a:xfrm>
            <a:custGeom>
              <a:avLst/>
              <a:gdLst>
                <a:gd name="textAreaLeft" fmla="*/ 360 w 341280"/>
                <a:gd name="textAreaRight" fmla="*/ 342000 w 34128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9" name="Freeform 36"/>
            <p:cNvSpPr/>
            <p:nvPr/>
          </p:nvSpPr>
          <p:spPr>
            <a:xfrm flipH="1" rot="3580800">
              <a:off x="5313960" y="466236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0" name="Freeform 37"/>
            <p:cNvSpPr/>
            <p:nvPr/>
          </p:nvSpPr>
          <p:spPr>
            <a:xfrm flipH="1" rot="3580800">
              <a:off x="6512760" y="3200040"/>
              <a:ext cx="1181160" cy="2532240"/>
            </a:xfrm>
            <a:custGeom>
              <a:avLst/>
              <a:gdLst>
                <a:gd name="textAreaLeft" fmla="*/ -360 w 1181160"/>
                <a:gd name="textAreaRight" fmla="*/ 1181160 w 1181160"/>
                <a:gd name="textAreaTop" fmla="*/ 0 h 2532240"/>
                <a:gd name="textAreaBottom" fmla="*/ 2532600 h 25322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251" name="Group 5"/>
          <p:cNvGrpSpPr/>
          <p:nvPr/>
        </p:nvGrpSpPr>
        <p:grpSpPr>
          <a:xfrm>
            <a:off x="7468200" y="1850040"/>
            <a:ext cx="1789200" cy="3227040"/>
            <a:chOff x="7468200" y="1850040"/>
            <a:chExt cx="1789200" cy="3227040"/>
          </a:xfrm>
        </p:grpSpPr>
        <p:sp>
          <p:nvSpPr>
            <p:cNvPr id="1252" name="Freeform 6"/>
            <p:cNvSpPr/>
            <p:nvPr/>
          </p:nvSpPr>
          <p:spPr>
            <a:xfrm rot="445200">
              <a:off x="7759080" y="1921320"/>
              <a:ext cx="1306080" cy="3061800"/>
            </a:xfrm>
            <a:custGeom>
              <a:avLst/>
              <a:gdLst>
                <a:gd name="textAreaLeft" fmla="*/ 0 w 1306080"/>
                <a:gd name="textAreaRight" fmla="*/ 1306440 w 1306080"/>
                <a:gd name="textAreaTop" fmla="*/ 0 h 3061800"/>
                <a:gd name="textAreaBottom" fmla="*/ 3062160 h 306180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3" name="Freeform 7"/>
            <p:cNvSpPr/>
            <p:nvPr/>
          </p:nvSpPr>
          <p:spPr>
            <a:xfrm rot="445200">
              <a:off x="8587800" y="4463280"/>
              <a:ext cx="326520" cy="5950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4" name="Freeform 8"/>
            <p:cNvSpPr/>
            <p:nvPr/>
          </p:nvSpPr>
          <p:spPr>
            <a:xfrm rot="445200">
              <a:off x="8762760" y="4831560"/>
              <a:ext cx="126000" cy="2260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255" name="Group 9"/>
            <p:cNvGrpSpPr/>
            <p:nvPr/>
          </p:nvGrpSpPr>
          <p:grpSpPr>
            <a:xfrm>
              <a:off x="7468200" y="1879920"/>
              <a:ext cx="1722240" cy="3195720"/>
              <a:chOff x="7468200" y="1879920"/>
              <a:chExt cx="1722240" cy="3195720"/>
            </a:xfrm>
          </p:grpSpPr>
          <p:sp>
            <p:nvSpPr>
              <p:cNvPr id="1256" name="Freeform 10"/>
              <p:cNvSpPr/>
              <p:nvPr/>
            </p:nvSpPr>
            <p:spPr>
              <a:xfrm rot="445200">
                <a:off x="7889040" y="1942560"/>
                <a:ext cx="1140840" cy="2558160"/>
              </a:xfrm>
              <a:custGeom>
                <a:avLst/>
                <a:gdLst>
                  <a:gd name="textAreaLeft" fmla="*/ 0 w 1140840"/>
                  <a:gd name="textAreaRight" fmla="*/ 1141200 w 1140840"/>
                  <a:gd name="textAreaTop" fmla="*/ 0 h 2558160"/>
                  <a:gd name="textAreaBottom" fmla="*/ 2558520 h 255816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257" name="Group 11"/>
              <p:cNvGrpSpPr/>
              <p:nvPr/>
            </p:nvGrpSpPr>
            <p:grpSpPr>
              <a:xfrm>
                <a:off x="7468200" y="2092680"/>
                <a:ext cx="967320" cy="2982960"/>
                <a:chOff x="7468200" y="2092680"/>
                <a:chExt cx="967320" cy="2982960"/>
              </a:xfrm>
            </p:grpSpPr>
            <p:sp>
              <p:nvSpPr>
                <p:cNvPr id="1258" name="Freeform 12"/>
                <p:cNvSpPr/>
                <p:nvPr/>
              </p:nvSpPr>
              <p:spPr>
                <a:xfrm rot="445200">
                  <a:off x="7653960" y="2156400"/>
                  <a:ext cx="367560" cy="2907720"/>
                </a:xfrm>
                <a:custGeom>
                  <a:avLst/>
                  <a:gdLst>
                    <a:gd name="textAreaLeft" fmla="*/ 0 w 367560"/>
                    <a:gd name="textAreaRight" fmla="*/ 367920 w 367560"/>
                    <a:gd name="textAreaTop" fmla="*/ 0 h 2907720"/>
                    <a:gd name="textAreaBottom" fmla="*/ 2908080 h 290772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9" name="Oval 13"/>
                <p:cNvSpPr/>
                <p:nvPr/>
              </p:nvSpPr>
              <p:spPr>
                <a:xfrm rot="445200">
                  <a:off x="7969320" y="2118960"/>
                  <a:ext cx="440280" cy="42552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260" name="Freeform 24"/>
          <p:cNvSpPr/>
          <p:nvPr/>
        </p:nvSpPr>
        <p:spPr>
          <a:xfrm>
            <a:off x="471600" y="6019920"/>
            <a:ext cx="6159240" cy="560160"/>
          </a:xfrm>
          <a:custGeom>
            <a:avLst/>
            <a:gdLst>
              <a:gd name="textAreaLeft" fmla="*/ 0 w 6159240"/>
              <a:gd name="textAreaRight" fmla="*/ 6159600 w 615924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3880" h="344">
                <a:moveTo>
                  <a:pt x="0" y="0"/>
                </a:moveTo>
                <a:lnTo>
                  <a:pt x="0" y="344"/>
                </a:lnTo>
                <a:lnTo>
                  <a:pt x="3872" y="344"/>
                </a:lnTo>
                <a:lnTo>
                  <a:pt x="388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1" name="Oval 25"/>
          <p:cNvSpPr/>
          <p:nvPr/>
        </p:nvSpPr>
        <p:spPr>
          <a:xfrm rot="17576400">
            <a:off x="753120" y="6230880"/>
            <a:ext cx="149400" cy="141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2" name="Text Box 26"/>
          <p:cNvSpPr/>
          <p:nvPr/>
        </p:nvSpPr>
        <p:spPr>
          <a:xfrm rot="10800000">
            <a:off x="464760" y="5733720"/>
            <a:ext cx="619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3" name="Text Box 27"/>
          <p:cNvSpPr/>
          <p:nvPr/>
        </p:nvSpPr>
        <p:spPr>
          <a:xfrm>
            <a:off x="395280" y="6164280"/>
            <a:ext cx="6195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0   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1  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2   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3    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4    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5     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6        7        8     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9       10      11      12       13      14      15      16   </a:t>
            </a: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64" name="Picture 41" descr="janitor"/>
          <p:cNvPicPr/>
          <p:nvPr/>
        </p:nvPicPr>
        <p:blipFill>
          <a:blip r:embed="rId2"/>
          <a:stretch/>
        </p:blipFill>
        <p:spPr>
          <a:xfrm>
            <a:off x="-1116000" y="4005360"/>
            <a:ext cx="2744640" cy="24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5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38889E-006 -3.7037E-007 L 0.62952 -0.00162 E">
                                      <p:cBhvr>
                                        <p:cTn id="16" dur="5000" fill="hold"/>
                                        <p:tgtEl>
                                          <p:spTgt spid="1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66"/>
          <p:cNvGrpSpPr/>
          <p:nvPr/>
        </p:nvGrpSpPr>
        <p:grpSpPr>
          <a:xfrm>
            <a:off x="1692360" y="3573360"/>
            <a:ext cx="6480000" cy="1760760"/>
            <a:chOff x="1692360" y="3573360"/>
            <a:chExt cx="6480000" cy="1760760"/>
          </a:xfrm>
        </p:grpSpPr>
        <p:sp>
          <p:nvSpPr>
            <p:cNvPr id="1266" name="Freeform 65"/>
            <p:cNvSpPr/>
            <p:nvPr/>
          </p:nvSpPr>
          <p:spPr>
            <a:xfrm>
              <a:off x="1692360" y="3573360"/>
              <a:ext cx="2977920" cy="1617840"/>
            </a:xfrm>
            <a:custGeom>
              <a:avLst/>
              <a:gdLst>
                <a:gd name="textAreaLeft" fmla="*/ 0 w 2977920"/>
                <a:gd name="textAreaRight" fmla="*/ 2978280 w 2977920"/>
                <a:gd name="textAreaTop" fmla="*/ 0 h 1617840"/>
                <a:gd name="textAreaBottom" fmla="*/ 1618200 h 1617840"/>
              </a:gdLst>
              <a:ahLst/>
              <a:rect l="textAreaLeft" t="textAreaTop" r="textAreaRight" b="textAreaBottom"/>
              <a:pathLst>
                <a:path w="1876" h="1019">
                  <a:moveTo>
                    <a:pt x="16" y="862"/>
                  </a:moveTo>
                  <a:lnTo>
                    <a:pt x="1286" y="0"/>
                  </a:lnTo>
                  <a:lnTo>
                    <a:pt x="1558" y="91"/>
                  </a:lnTo>
                  <a:lnTo>
                    <a:pt x="1740" y="273"/>
                  </a:lnTo>
                  <a:lnTo>
                    <a:pt x="1876" y="545"/>
                  </a:lnTo>
                  <a:lnTo>
                    <a:pt x="1831" y="726"/>
                  </a:lnTo>
                  <a:lnTo>
                    <a:pt x="1760" y="1019"/>
                  </a:lnTo>
                  <a:lnTo>
                    <a:pt x="24" y="859"/>
                  </a:lnTo>
                  <a:lnTo>
                    <a:pt x="0" y="891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7" name="Freeform 64"/>
            <p:cNvSpPr/>
            <p:nvPr/>
          </p:nvSpPr>
          <p:spPr>
            <a:xfrm>
              <a:off x="5194440" y="3716280"/>
              <a:ext cx="2977920" cy="1617840"/>
            </a:xfrm>
            <a:custGeom>
              <a:avLst/>
              <a:gdLst>
                <a:gd name="textAreaLeft" fmla="*/ 0 w 2977920"/>
                <a:gd name="textAreaRight" fmla="*/ 2978280 w 2977920"/>
                <a:gd name="textAreaTop" fmla="*/ 0 h 1617840"/>
                <a:gd name="textAreaBottom" fmla="*/ 1618200 h 1617840"/>
              </a:gdLst>
              <a:ahLst/>
              <a:rect l="textAreaLeft" t="textAreaTop" r="textAreaRight" b="textAreaBottom"/>
              <a:pathLst>
                <a:path w="1876" h="1019">
                  <a:moveTo>
                    <a:pt x="16" y="862"/>
                  </a:moveTo>
                  <a:lnTo>
                    <a:pt x="1286" y="0"/>
                  </a:lnTo>
                  <a:lnTo>
                    <a:pt x="1558" y="91"/>
                  </a:lnTo>
                  <a:lnTo>
                    <a:pt x="1740" y="273"/>
                  </a:lnTo>
                  <a:lnTo>
                    <a:pt x="1876" y="545"/>
                  </a:lnTo>
                  <a:lnTo>
                    <a:pt x="1831" y="726"/>
                  </a:lnTo>
                  <a:lnTo>
                    <a:pt x="1760" y="1019"/>
                  </a:lnTo>
                  <a:lnTo>
                    <a:pt x="24" y="859"/>
                  </a:lnTo>
                  <a:lnTo>
                    <a:pt x="0" y="891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68" name="Text Box 2"/>
          <p:cNvSpPr/>
          <p:nvPr/>
        </p:nvSpPr>
        <p:spPr>
          <a:xfrm>
            <a:off x="1267200" y="4797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9" name="Text Box 3"/>
          <p:cNvSpPr/>
          <p:nvPr/>
        </p:nvSpPr>
        <p:spPr>
          <a:xfrm>
            <a:off x="3137400" y="50864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0" name="Text Box 4"/>
          <p:cNvSpPr/>
          <p:nvPr/>
        </p:nvSpPr>
        <p:spPr>
          <a:xfrm>
            <a:off x="2697480" y="3573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1" name="Line 5"/>
          <p:cNvSpPr/>
          <p:nvPr/>
        </p:nvSpPr>
        <p:spPr>
          <a:xfrm flipH="1">
            <a:off x="5232240" y="3213000"/>
            <a:ext cx="2735280" cy="18590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2" name="Arc 6"/>
          <p:cNvSpPr/>
          <p:nvPr/>
        </p:nvSpPr>
        <p:spPr>
          <a:xfrm>
            <a:off x="5326200" y="3886200"/>
            <a:ext cx="1333440" cy="17575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757520"/>
              <a:gd name="textAreaBottom" fmla="*/ 1757880 h 1757520"/>
            </a:gdLst>
            <a:ahLst/>
            <a:rect l="textAreaLeft" t="textAreaTop" r="textAreaRight" b="textAreaBottom"/>
            <a:pathLst>
              <a:path fill="none" w="21600" h="30118">
                <a:moveTo>
                  <a:pt x="9452" y="-1"/>
                </a:moveTo>
                <a:cubicBezTo>
                  <a:pt x="16883" y="3616"/>
                  <a:pt x="21600" y="11157"/>
                  <a:pt x="21600" y="19422"/>
                </a:cubicBezTo>
                <a:cubicBezTo>
                  <a:pt x="21600" y="23172"/>
                  <a:pt x="20623" y="26859"/>
                  <a:pt x="18765" y="30117"/>
                </a:cubicBezTo>
              </a:path>
              <a:path stroke="0" w="21600" h="30118">
                <a:moveTo>
                  <a:pt x="9452" y="-1"/>
                </a:moveTo>
                <a:cubicBezTo>
                  <a:pt x="16883" y="3616"/>
                  <a:pt x="21600" y="11157"/>
                  <a:pt x="21600" y="19422"/>
                </a:cubicBezTo>
                <a:cubicBezTo>
                  <a:pt x="21600" y="23172"/>
                  <a:pt x="20623" y="26859"/>
                  <a:pt x="18765" y="30117"/>
                </a:cubicBezTo>
                <a:lnTo>
                  <a:pt x="0" y="19422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3" name="Arc 7"/>
          <p:cNvSpPr/>
          <p:nvPr/>
        </p:nvSpPr>
        <p:spPr>
          <a:xfrm>
            <a:off x="1746360" y="3630600"/>
            <a:ext cx="1422360" cy="2006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fill="none" w="21600" h="31420">
                <a:moveTo>
                  <a:pt x="6088" y="-1"/>
                </a:moveTo>
                <a:cubicBezTo>
                  <a:pt x="15284" y="2701"/>
                  <a:pt x="21600" y="11139"/>
                  <a:pt x="21600" y="20724"/>
                </a:cubicBezTo>
                <a:cubicBezTo>
                  <a:pt x="21600" y="24474"/>
                  <a:pt x="20623" y="28161"/>
                  <a:pt x="18765" y="31419"/>
                </a:cubicBezTo>
              </a:path>
              <a:path stroke="0" w="21600" h="31420">
                <a:moveTo>
                  <a:pt x="6088" y="-1"/>
                </a:moveTo>
                <a:cubicBezTo>
                  <a:pt x="15284" y="2701"/>
                  <a:pt x="21600" y="11139"/>
                  <a:pt x="21600" y="20724"/>
                </a:cubicBezTo>
                <a:cubicBezTo>
                  <a:pt x="21600" y="24474"/>
                  <a:pt x="20623" y="28161"/>
                  <a:pt x="18765" y="31419"/>
                </a:cubicBezTo>
                <a:lnTo>
                  <a:pt x="0" y="20724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4" name="Line 8"/>
          <p:cNvSpPr/>
          <p:nvPr/>
        </p:nvSpPr>
        <p:spPr>
          <a:xfrm flipH="1">
            <a:off x="1704960" y="3068640"/>
            <a:ext cx="2735280" cy="18590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5" name="Freeform 9"/>
          <p:cNvSpPr/>
          <p:nvPr/>
        </p:nvSpPr>
        <p:spPr>
          <a:xfrm>
            <a:off x="1704960" y="4927680"/>
            <a:ext cx="2587680" cy="228600"/>
          </a:xfrm>
          <a:custGeom>
            <a:avLst/>
            <a:gdLst>
              <a:gd name="textAreaLeft" fmla="*/ 0 w 2587680"/>
              <a:gd name="textAreaRight" fmla="*/ 2588040 w 2587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630" h="144">
                <a:moveTo>
                  <a:pt x="0" y="0"/>
                </a:moveTo>
                <a:lnTo>
                  <a:pt x="1630" y="144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6" name="Oval 10"/>
          <p:cNvSpPr/>
          <p:nvPr/>
        </p:nvSpPr>
        <p:spPr>
          <a:xfrm>
            <a:off x="2841480" y="4076640"/>
            <a:ext cx="7488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7" name="Oval 11"/>
          <p:cNvSpPr/>
          <p:nvPr/>
        </p:nvSpPr>
        <p:spPr>
          <a:xfrm>
            <a:off x="3098880" y="5013360"/>
            <a:ext cx="9036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8" name="Rectangle 12"/>
          <p:cNvSpPr/>
          <p:nvPr/>
        </p:nvSpPr>
        <p:spPr>
          <a:xfrm>
            <a:off x="278280" y="333360"/>
            <a:ext cx="59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  <a:ea typeface="Arial"/>
              </a:rPr>
              <a:t>Построение угла, равного данном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79" name="Group 13"/>
          <p:cNvGrpSpPr/>
          <p:nvPr/>
        </p:nvGrpSpPr>
        <p:grpSpPr>
          <a:xfrm>
            <a:off x="5270400" y="1973880"/>
            <a:ext cx="1421280" cy="3084120"/>
            <a:chOff x="5270400" y="1973880"/>
            <a:chExt cx="1421280" cy="3084120"/>
          </a:xfrm>
        </p:grpSpPr>
        <p:sp>
          <p:nvSpPr>
            <p:cNvPr id="1280" name="Freeform 14"/>
            <p:cNvSpPr/>
            <p:nvPr/>
          </p:nvSpPr>
          <p:spPr>
            <a:xfrm flipH="1" rot="21521400">
              <a:off x="5304600" y="1988640"/>
              <a:ext cx="1352520" cy="3030480"/>
            </a:xfrm>
            <a:custGeom>
              <a:avLst/>
              <a:gdLst>
                <a:gd name="textAreaLeft" fmla="*/ -360 w 1352520"/>
                <a:gd name="textAreaRight" fmla="*/ 1352520 w 135252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1" name="Freeform 15"/>
            <p:cNvSpPr/>
            <p:nvPr/>
          </p:nvSpPr>
          <p:spPr>
            <a:xfrm flipH="1" rot="21521400">
              <a:off x="5314320" y="4465080"/>
              <a:ext cx="341280" cy="588600"/>
            </a:xfrm>
            <a:custGeom>
              <a:avLst/>
              <a:gdLst>
                <a:gd name="textAreaLeft" fmla="*/ 360 w 341280"/>
                <a:gd name="textAreaRight" fmla="*/ 342000 w 34128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2" name="Freeform 16"/>
            <p:cNvSpPr/>
            <p:nvPr/>
          </p:nvSpPr>
          <p:spPr>
            <a:xfrm flipH="1" rot="21521400">
              <a:off x="5325480" y="481752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3" name="Freeform 17"/>
            <p:cNvSpPr/>
            <p:nvPr/>
          </p:nvSpPr>
          <p:spPr>
            <a:xfrm flipH="1" rot="21521400">
              <a:off x="5366520" y="2005920"/>
              <a:ext cx="1181160" cy="2532240"/>
            </a:xfrm>
            <a:custGeom>
              <a:avLst/>
              <a:gdLst>
                <a:gd name="textAreaLeft" fmla="*/ -360 w 1181160"/>
                <a:gd name="textAreaRight" fmla="*/ 1181160 w 1181160"/>
                <a:gd name="textAreaTop" fmla="*/ 0 h 2532240"/>
                <a:gd name="textAreaBottom" fmla="*/ 2532600 h 25322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84" name="Arc 18"/>
          <p:cNvSpPr/>
          <p:nvPr/>
        </p:nvSpPr>
        <p:spPr>
          <a:xfrm rot="15103800">
            <a:off x="6025680" y="4279320"/>
            <a:ext cx="1333800" cy="1216080"/>
          </a:xfrm>
          <a:custGeom>
            <a:avLst/>
            <a:gdLst>
              <a:gd name="textAreaLeft" fmla="*/ 0 w 1333800"/>
              <a:gd name="textAreaRight" fmla="*/ 1334160 w 133380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fill="none" w="21600" h="20829">
                <a:moveTo>
                  <a:pt x="19075" y="0"/>
                </a:moveTo>
                <a:cubicBezTo>
                  <a:pt x="20733" y="3120"/>
                  <a:pt x="21600" y="6599"/>
                  <a:pt x="21600" y="10133"/>
                </a:cubicBezTo>
                <a:cubicBezTo>
                  <a:pt x="21600" y="13883"/>
                  <a:pt x="20623" y="17570"/>
                  <a:pt x="18765" y="20828"/>
                </a:cubicBezTo>
              </a:path>
              <a:path stroke="0" w="21600" h="20829">
                <a:moveTo>
                  <a:pt x="19075" y="0"/>
                </a:moveTo>
                <a:cubicBezTo>
                  <a:pt x="20733" y="3120"/>
                  <a:pt x="21600" y="6599"/>
                  <a:pt x="21600" y="10133"/>
                </a:cubicBezTo>
                <a:cubicBezTo>
                  <a:pt x="21600" y="13883"/>
                  <a:pt x="20623" y="17570"/>
                  <a:pt x="18765" y="20828"/>
                </a:cubicBezTo>
                <a:lnTo>
                  <a:pt x="0" y="10133"/>
                </a:lnTo>
                <a:close/>
              </a:path>
            </a:pathLst>
          </a:custGeom>
          <a:noFill/>
          <a:ln w="381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5" name="Oval 19"/>
          <p:cNvSpPr/>
          <p:nvPr/>
        </p:nvSpPr>
        <p:spPr>
          <a:xfrm>
            <a:off x="6372360" y="4240080"/>
            <a:ext cx="712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6" name="Text Box 20"/>
          <p:cNvSpPr/>
          <p:nvPr/>
        </p:nvSpPr>
        <p:spPr>
          <a:xfrm>
            <a:off x="596160" y="105264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о: угол 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7" name="Text Box 22"/>
          <p:cNvSpPr/>
          <p:nvPr/>
        </p:nvSpPr>
        <p:spPr>
          <a:xfrm>
            <a:off x="5007600" y="5086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8" name="Text Box 23"/>
          <p:cNvSpPr/>
          <p:nvPr/>
        </p:nvSpPr>
        <p:spPr>
          <a:xfrm>
            <a:off x="6653520" y="52293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9" name="Text Box 24"/>
          <p:cNvSpPr/>
          <p:nvPr/>
        </p:nvSpPr>
        <p:spPr>
          <a:xfrm>
            <a:off x="666252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0" name="Text Box 25"/>
          <p:cNvSpPr/>
          <p:nvPr/>
        </p:nvSpPr>
        <p:spPr>
          <a:xfrm>
            <a:off x="114840" y="5818320"/>
            <a:ext cx="86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перь докажем, что построенный угол равен данном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91" name="Group 26"/>
          <p:cNvGrpSpPr/>
          <p:nvPr/>
        </p:nvGrpSpPr>
        <p:grpSpPr>
          <a:xfrm>
            <a:off x="-1174680" y="2283120"/>
            <a:ext cx="5816520" cy="5365440"/>
            <a:chOff x="-1174680" y="2283120"/>
            <a:chExt cx="5816520" cy="5365440"/>
          </a:xfrm>
        </p:grpSpPr>
        <p:grpSp>
          <p:nvGrpSpPr>
            <p:cNvPr id="1292" name="Group 27"/>
            <p:cNvGrpSpPr/>
            <p:nvPr/>
          </p:nvGrpSpPr>
          <p:grpSpPr>
            <a:xfrm>
              <a:off x="1753560" y="2283120"/>
              <a:ext cx="2888280" cy="3310560"/>
              <a:chOff x="1753560" y="2283120"/>
              <a:chExt cx="2888280" cy="3310560"/>
            </a:xfrm>
          </p:grpSpPr>
          <p:sp>
            <p:nvSpPr>
              <p:cNvPr id="1293" name="Freeform 28"/>
              <p:cNvSpPr/>
              <p:nvPr/>
            </p:nvSpPr>
            <p:spPr>
              <a:xfrm rot="1935000">
                <a:off x="2619000" y="2395440"/>
                <a:ext cx="1306440" cy="3061080"/>
              </a:xfrm>
              <a:custGeom>
                <a:avLst/>
                <a:gdLst>
                  <a:gd name="textAreaLeft" fmla="*/ 0 w 1306440"/>
                  <a:gd name="textAreaRight" fmla="*/ 1306800 w 1306440"/>
                  <a:gd name="textAreaTop" fmla="*/ 0 h 3061080"/>
                  <a:gd name="textAreaBottom" fmla="*/ 3061440 h 30610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94" name="Freeform 29"/>
              <p:cNvSpPr/>
              <p:nvPr/>
            </p:nvSpPr>
            <p:spPr>
              <a:xfrm rot="1935000">
                <a:off x="2865960" y="4957560"/>
                <a:ext cx="326520" cy="594720"/>
              </a:xfrm>
              <a:custGeom>
                <a:avLst/>
                <a:gdLst>
                  <a:gd name="textAreaLeft" fmla="*/ 0 w 326520"/>
                  <a:gd name="textAreaRight" fmla="*/ 326880 w 326520"/>
                  <a:gd name="textAreaTop" fmla="*/ 0 h 594720"/>
                  <a:gd name="textAreaBottom" fmla="*/ 595080 h 5947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95" name="Freeform 30"/>
              <p:cNvSpPr/>
              <p:nvPr/>
            </p:nvSpPr>
            <p:spPr>
              <a:xfrm rot="1935000">
                <a:off x="2958120" y="5340600"/>
                <a:ext cx="126000" cy="2260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26080"/>
                  <a:gd name="textAreaBottom" fmla="*/ 226440 h 2260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296" name="Group 31"/>
              <p:cNvGrpSpPr/>
              <p:nvPr/>
            </p:nvGrpSpPr>
            <p:grpSpPr>
              <a:xfrm>
                <a:off x="1753560" y="2350440"/>
                <a:ext cx="2823840" cy="2804760"/>
                <a:chOff x="1753560" y="2350440"/>
                <a:chExt cx="2823840" cy="2804760"/>
              </a:xfrm>
            </p:grpSpPr>
            <p:sp>
              <p:nvSpPr>
                <p:cNvPr id="1297" name="Freeform 32"/>
                <p:cNvSpPr/>
                <p:nvPr/>
              </p:nvSpPr>
              <p:spPr>
                <a:xfrm rot="1935000">
                  <a:off x="2841480" y="2457360"/>
                  <a:ext cx="1141200" cy="255744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2557440"/>
                    <a:gd name="textAreaBottom" fmla="*/ 2557440 h 255744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298" name="Group 33"/>
                <p:cNvGrpSpPr/>
                <p:nvPr/>
              </p:nvGrpSpPr>
              <p:grpSpPr>
                <a:xfrm>
                  <a:off x="1753560" y="2500560"/>
                  <a:ext cx="2087280" cy="2654640"/>
                  <a:chOff x="1753560" y="2500560"/>
                  <a:chExt cx="2087280" cy="2654640"/>
                </a:xfrm>
              </p:grpSpPr>
              <p:sp>
                <p:nvSpPr>
                  <p:cNvPr id="1299" name="Freeform 34"/>
                  <p:cNvSpPr/>
                  <p:nvPr/>
                </p:nvSpPr>
                <p:spPr>
                  <a:xfrm rot="1935000">
                    <a:off x="2500920" y="2374200"/>
                    <a:ext cx="367920" cy="2907000"/>
                  </a:xfrm>
                  <a:custGeom>
                    <a:avLst/>
                    <a:gdLst>
                      <a:gd name="textAreaLeft" fmla="*/ 0 w 367920"/>
                      <a:gd name="textAreaRight" fmla="*/ 367920 w 367920"/>
                      <a:gd name="textAreaTop" fmla="*/ 0 h 2907000"/>
                      <a:gd name="textAreaBottom" fmla="*/ 2907360 h 29070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0" name="Oval 35"/>
                  <p:cNvSpPr/>
                  <p:nvPr/>
                </p:nvSpPr>
                <p:spPr>
                  <a:xfrm rot="1935000">
                    <a:off x="3320640" y="2603520"/>
                    <a:ext cx="440640" cy="42552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301" name="Group 36"/>
            <p:cNvGrpSpPr/>
            <p:nvPr/>
          </p:nvGrpSpPr>
          <p:grpSpPr>
            <a:xfrm>
              <a:off x="-1174680" y="4323960"/>
              <a:ext cx="2853720" cy="3324600"/>
              <a:chOff x="-1174680" y="4323960"/>
              <a:chExt cx="2853720" cy="3324600"/>
            </a:xfrm>
          </p:grpSpPr>
          <p:sp>
            <p:nvSpPr>
              <p:cNvPr id="1302" name="Freeform 37"/>
              <p:cNvSpPr/>
              <p:nvPr/>
            </p:nvSpPr>
            <p:spPr>
              <a:xfrm rot="12676800">
                <a:off x="-474840" y="4470480"/>
                <a:ext cx="1306440" cy="3061080"/>
              </a:xfrm>
              <a:custGeom>
                <a:avLst/>
                <a:gdLst>
                  <a:gd name="textAreaLeft" fmla="*/ 0 w 1306440"/>
                  <a:gd name="textAreaRight" fmla="*/ 1306800 w 1306440"/>
                  <a:gd name="textAreaTop" fmla="*/ 0 h 3061080"/>
                  <a:gd name="textAreaBottom" fmla="*/ 3061440 h 30610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03" name="Freeform 38"/>
              <p:cNvSpPr/>
              <p:nvPr/>
            </p:nvSpPr>
            <p:spPr>
              <a:xfrm rot="12676800">
                <a:off x="231840" y="4366080"/>
                <a:ext cx="329760" cy="59472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594720"/>
                  <a:gd name="textAreaBottom" fmla="*/ 595080 h 5947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04" name="Freeform 39"/>
              <p:cNvSpPr/>
              <p:nvPr/>
            </p:nvSpPr>
            <p:spPr>
              <a:xfrm rot="12676800">
                <a:off x="340560" y="4356000"/>
                <a:ext cx="126000" cy="2260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26080"/>
                  <a:gd name="textAreaBottom" fmla="*/ 226440 h 2260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305" name="Group 40"/>
              <p:cNvGrpSpPr/>
              <p:nvPr/>
            </p:nvGrpSpPr>
            <p:grpSpPr>
              <a:xfrm>
                <a:off x="-1109880" y="4752000"/>
                <a:ext cx="2788920" cy="2830320"/>
                <a:chOff x="-1109880" y="4752000"/>
                <a:chExt cx="2788920" cy="2830320"/>
              </a:xfrm>
            </p:grpSpPr>
            <p:sp>
              <p:nvSpPr>
                <p:cNvPr id="1306" name="Freeform 41"/>
                <p:cNvSpPr/>
                <p:nvPr/>
              </p:nvSpPr>
              <p:spPr>
                <a:xfrm rot="12676800">
                  <a:off x="-528840" y="4914360"/>
                  <a:ext cx="1141200" cy="255744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2557440"/>
                    <a:gd name="textAreaBottom" fmla="*/ 2557440 h 255744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307" name="Group 42"/>
                <p:cNvGrpSpPr/>
                <p:nvPr/>
              </p:nvGrpSpPr>
              <p:grpSpPr>
                <a:xfrm>
                  <a:off x="-370080" y="4752000"/>
                  <a:ext cx="2049120" cy="2675520"/>
                  <a:chOff x="-370080" y="4752000"/>
                  <a:chExt cx="2049120" cy="2675520"/>
                </a:xfrm>
              </p:grpSpPr>
              <p:sp>
                <p:nvSpPr>
                  <p:cNvPr id="1308" name="Freeform 43"/>
                  <p:cNvSpPr/>
                  <p:nvPr/>
                </p:nvSpPr>
                <p:spPr>
                  <a:xfrm rot="12676800">
                    <a:off x="582840" y="4636080"/>
                    <a:ext cx="367920" cy="2907000"/>
                  </a:xfrm>
                  <a:custGeom>
                    <a:avLst/>
                    <a:gdLst>
                      <a:gd name="textAreaLeft" fmla="*/ 0 w 367920"/>
                      <a:gd name="textAreaRight" fmla="*/ 367920 w 367920"/>
                      <a:gd name="textAreaTop" fmla="*/ 0 h 2907000"/>
                      <a:gd name="textAreaBottom" fmla="*/ 2907360 h 29070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9" name="Oval 44"/>
                  <p:cNvSpPr/>
                  <p:nvPr/>
                </p:nvSpPr>
                <p:spPr>
                  <a:xfrm rot="12676800">
                    <a:off x="-291600" y="6902640"/>
                    <a:ext cx="440640" cy="4255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1310" name="Group 45"/>
          <p:cNvGrpSpPr/>
          <p:nvPr/>
        </p:nvGrpSpPr>
        <p:grpSpPr>
          <a:xfrm>
            <a:off x="54360" y="2496600"/>
            <a:ext cx="6193080" cy="5081040"/>
            <a:chOff x="54360" y="2496600"/>
            <a:chExt cx="6193080" cy="5081040"/>
          </a:xfrm>
        </p:grpSpPr>
        <p:grpSp>
          <p:nvGrpSpPr>
            <p:cNvPr id="1311" name="Group 46"/>
            <p:cNvGrpSpPr/>
            <p:nvPr/>
          </p:nvGrpSpPr>
          <p:grpSpPr>
            <a:xfrm>
              <a:off x="2804760" y="2496600"/>
              <a:ext cx="3442680" cy="2802960"/>
              <a:chOff x="2804760" y="2496600"/>
              <a:chExt cx="3442680" cy="2802960"/>
            </a:xfrm>
          </p:grpSpPr>
          <p:sp>
            <p:nvSpPr>
              <p:cNvPr id="1312" name="Freeform 47"/>
              <p:cNvSpPr/>
              <p:nvPr/>
            </p:nvSpPr>
            <p:spPr>
              <a:xfrm flipH="1" rot="3529800">
                <a:off x="3859920" y="2317320"/>
                <a:ext cx="1363680" cy="3161160"/>
              </a:xfrm>
              <a:custGeom>
                <a:avLst/>
                <a:gdLst>
                  <a:gd name="textAreaLeft" fmla="*/ 360 w 1363680"/>
                  <a:gd name="textAreaRight" fmla="*/ 1364400 w 1363680"/>
                  <a:gd name="textAreaTop" fmla="*/ 0 h 3161160"/>
                  <a:gd name="textAreaBottom" fmla="*/ 3161520 h 31611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13" name="Freeform 48"/>
              <p:cNvSpPr/>
              <p:nvPr/>
            </p:nvSpPr>
            <p:spPr>
              <a:xfrm flipH="1" rot="3529800">
                <a:off x="2984400" y="3807000"/>
                <a:ext cx="344520" cy="614520"/>
              </a:xfrm>
              <a:custGeom>
                <a:avLst/>
                <a:gdLst>
                  <a:gd name="textAreaLeft" fmla="*/ -360 w 344520"/>
                  <a:gd name="textAreaRight" fmla="*/ 344520 w 344520"/>
                  <a:gd name="textAreaTop" fmla="*/ 0 h 614520"/>
                  <a:gd name="textAreaBottom" fmla="*/ 614880 h 6145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154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14" name="Freeform 49"/>
              <p:cNvSpPr/>
              <p:nvPr/>
            </p:nvSpPr>
            <p:spPr>
              <a:xfrm flipH="1" rot="3529800">
                <a:off x="2890440" y="4006800"/>
                <a:ext cx="131760" cy="233280"/>
              </a:xfrm>
              <a:custGeom>
                <a:avLst/>
                <a:gdLst>
                  <a:gd name="textAreaLeft" fmla="*/ 360 w 131760"/>
                  <a:gd name="textAreaRight" fmla="*/ 132480 w 1317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15" name="Freeform 50"/>
              <p:cNvSpPr/>
              <p:nvPr/>
            </p:nvSpPr>
            <p:spPr>
              <a:xfrm flipH="1" rot="3529800">
                <a:off x="4144680" y="2435400"/>
                <a:ext cx="1190880" cy="2641680"/>
              </a:xfrm>
              <a:custGeom>
                <a:avLst/>
                <a:gdLst>
                  <a:gd name="textAreaLeft" fmla="*/ 360 w 1190880"/>
                  <a:gd name="textAreaRight" fmla="*/ 1191600 w 1190880"/>
                  <a:gd name="textAreaTop" fmla="*/ 0 h 2641680"/>
                  <a:gd name="textAreaBottom" fmla="*/ 2642040 h 264168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316" name="Group 51"/>
              <p:cNvGrpSpPr/>
              <p:nvPr/>
            </p:nvGrpSpPr>
            <p:grpSpPr>
              <a:xfrm>
                <a:off x="3021840" y="3407040"/>
                <a:ext cx="2967120" cy="1636920"/>
                <a:chOff x="3021840" y="3407040"/>
                <a:chExt cx="2967120" cy="1636920"/>
              </a:xfrm>
            </p:grpSpPr>
            <p:sp>
              <p:nvSpPr>
                <p:cNvPr id="1317" name="Freeform 52"/>
                <p:cNvSpPr/>
                <p:nvPr/>
              </p:nvSpPr>
              <p:spPr>
                <a:xfrm flipH="1" rot="4189800">
                  <a:off x="4304880" y="2845080"/>
                  <a:ext cx="383760" cy="3002040"/>
                </a:xfrm>
                <a:custGeom>
                  <a:avLst/>
                  <a:gdLst>
                    <a:gd name="textAreaLeft" fmla="*/ 360 w 383760"/>
                    <a:gd name="textAreaRight" fmla="*/ 384480 w 383760"/>
                    <a:gd name="textAreaTop" fmla="*/ 0 h 3002040"/>
                    <a:gd name="textAreaBottom" fmla="*/ 3002400 h 300204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8" name="Oval 53"/>
                <p:cNvSpPr/>
                <p:nvPr/>
              </p:nvSpPr>
              <p:spPr>
                <a:xfrm flipH="1" rot="4189800">
                  <a:off x="5473440" y="3478680"/>
                  <a:ext cx="459720" cy="43920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19" name="Group 54"/>
            <p:cNvGrpSpPr/>
            <p:nvPr/>
          </p:nvGrpSpPr>
          <p:grpSpPr>
            <a:xfrm>
              <a:off x="54360" y="4775760"/>
              <a:ext cx="3409920" cy="2801880"/>
              <a:chOff x="54360" y="4775760"/>
              <a:chExt cx="3409920" cy="2801880"/>
            </a:xfrm>
          </p:grpSpPr>
          <p:sp>
            <p:nvSpPr>
              <p:cNvPr id="1320" name="Freeform 55"/>
              <p:cNvSpPr/>
              <p:nvPr/>
            </p:nvSpPr>
            <p:spPr>
              <a:xfrm flipV="1" rot="3530400">
                <a:off x="1077120" y="4596120"/>
                <a:ext cx="1363680" cy="3160080"/>
              </a:xfrm>
              <a:custGeom>
                <a:avLst/>
                <a:gdLst>
                  <a:gd name="textAreaLeft" fmla="*/ 0 w 1363680"/>
                  <a:gd name="textAreaRight" fmla="*/ 1364040 w 1363680"/>
                  <a:gd name="textAreaTop" fmla="*/ 360 h 3160080"/>
                  <a:gd name="textAreaBottom" fmla="*/ 3160800 h 31600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321" name="Group 56"/>
              <p:cNvGrpSpPr/>
              <p:nvPr/>
            </p:nvGrpSpPr>
            <p:grpSpPr>
              <a:xfrm>
                <a:off x="315720" y="5030280"/>
                <a:ext cx="2967120" cy="1637280"/>
                <a:chOff x="315720" y="5030280"/>
                <a:chExt cx="2967120" cy="1637280"/>
              </a:xfrm>
            </p:grpSpPr>
            <p:sp>
              <p:nvSpPr>
                <p:cNvPr id="1322" name="Freeform 57"/>
                <p:cNvSpPr/>
                <p:nvPr/>
              </p:nvSpPr>
              <p:spPr>
                <a:xfrm flipV="1" rot="4190400">
                  <a:off x="1615320" y="4226760"/>
                  <a:ext cx="384120" cy="30020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-360 h 3002040"/>
                    <a:gd name="textAreaBottom" fmla="*/ 3002040 h 300204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3" name="Oval 58"/>
                <p:cNvSpPr/>
                <p:nvPr/>
              </p:nvSpPr>
              <p:spPr>
                <a:xfrm flipV="1" rot="4190400">
                  <a:off x="371160" y="6156000"/>
                  <a:ext cx="460080" cy="439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24" name="Oval 59"/>
          <p:cNvSpPr/>
          <p:nvPr/>
        </p:nvSpPr>
        <p:spPr>
          <a:xfrm>
            <a:off x="1631880" y="48704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5" name="Freeform 60"/>
          <p:cNvSpPr/>
          <p:nvPr/>
        </p:nvSpPr>
        <p:spPr>
          <a:xfrm>
            <a:off x="5207040" y="5084640"/>
            <a:ext cx="3936960" cy="374760"/>
          </a:xfrm>
          <a:custGeom>
            <a:avLst/>
            <a:gdLst>
              <a:gd name="textAreaLeft" fmla="*/ 0 w 3936960"/>
              <a:gd name="textAreaRight" fmla="*/ 3937320 w 39369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2480" h="236">
                <a:moveTo>
                  <a:pt x="0" y="0"/>
                </a:moveTo>
                <a:lnTo>
                  <a:pt x="2480" y="236"/>
                </a:lnTo>
              </a:path>
            </a:pathLst>
          </a:custGeom>
          <a:noFill/>
          <a:ln w="28440">
            <a:solidFill>
              <a:srgbClr val="40458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6" name="Oval 61"/>
          <p:cNvSpPr/>
          <p:nvPr/>
        </p:nvSpPr>
        <p:spPr>
          <a:xfrm>
            <a:off x="6607080" y="5176800"/>
            <a:ext cx="7164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0.34583 0.04953 E">
                                      <p:cBhvr>
                                        <p:cTn id="43" dur="2000" fill="hold"/>
                                        <p:tgtEl>
                                          <p:spTgt spid="1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70" dur="2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0.38229 0.02847 E">
                                      <p:cBhvr>
                                        <p:cTn id="79" dur="2000" fill="hold"/>
                                        <p:tgtEl>
                                          <p:spTgt spid="1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900000">
                                      <p:cBhvr>
                                        <p:cTn id="81" dur="2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84" dur="2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500"/>
                            </p:stCondLst>
                            <p:childTnLst>
                              <p:par>
                                <p:cTn id="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0.38351 0.02245 E">
                                      <p:cBhvr>
                                        <p:cTn id="118" dur="2000" fill="hold"/>
                                        <p:tgtEl>
                                          <p:spTgt spid="1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60000">
                                      <p:cBhvr>
                                        <p:cTn id="120" dur="2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520000">
                                      <p:cBhvr>
                                        <p:cTn id="123" dur="2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Freeform 2"/>
          <p:cNvSpPr/>
          <p:nvPr/>
        </p:nvSpPr>
        <p:spPr>
          <a:xfrm>
            <a:off x="4427640" y="2781360"/>
            <a:ext cx="1401840" cy="901800"/>
          </a:xfrm>
          <a:custGeom>
            <a:avLst/>
            <a:gdLst>
              <a:gd name="textAreaLeft" fmla="*/ 0 w 1401840"/>
              <a:gd name="textAreaRight" fmla="*/ 1402200 w 1401840"/>
              <a:gd name="textAreaTop" fmla="*/ 0 h 901800"/>
              <a:gd name="textAreaBottom" fmla="*/ 901800 h 901800"/>
            </a:gdLst>
            <a:ahLst/>
            <a:rect l="textAreaLeft" t="textAreaTop" r="textAreaRight" b="textAreaBottom"/>
            <a:pathLst>
              <a:path w="883" h="568">
                <a:moveTo>
                  <a:pt x="0" y="496"/>
                </a:moveTo>
                <a:lnTo>
                  <a:pt x="883" y="568"/>
                </a:lnTo>
                <a:lnTo>
                  <a:pt x="724" y="0"/>
                </a:lnTo>
                <a:lnTo>
                  <a:pt x="0" y="49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8" name="Freeform 3"/>
          <p:cNvSpPr/>
          <p:nvPr/>
        </p:nvSpPr>
        <p:spPr>
          <a:xfrm>
            <a:off x="900000" y="2619360"/>
            <a:ext cx="1424160" cy="924120"/>
          </a:xfrm>
          <a:custGeom>
            <a:avLst/>
            <a:gdLst>
              <a:gd name="textAreaLeft" fmla="*/ 0 w 1424160"/>
              <a:gd name="textAreaRight" fmla="*/ 1424520 w 1424160"/>
              <a:gd name="textAreaTop" fmla="*/ 0 h 924120"/>
              <a:gd name="textAreaBottom" fmla="*/ 924480 h 924120"/>
            </a:gdLst>
            <a:ahLst/>
            <a:rect l="textAreaLeft" t="textAreaTop" r="textAreaRight" b="textAreaBottom"/>
            <a:pathLst>
              <a:path w="897" h="582">
                <a:moveTo>
                  <a:pt x="0" y="510"/>
                </a:moveTo>
                <a:lnTo>
                  <a:pt x="897" y="582"/>
                </a:lnTo>
                <a:lnTo>
                  <a:pt x="741" y="0"/>
                </a:lnTo>
                <a:lnTo>
                  <a:pt x="0" y="51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9" name="Arc 4"/>
          <p:cNvSpPr/>
          <p:nvPr/>
        </p:nvSpPr>
        <p:spPr>
          <a:xfrm rot="21439800">
            <a:off x="4500360" y="2421000"/>
            <a:ext cx="1333440" cy="170964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709640"/>
              <a:gd name="textAreaBottom" fmla="*/ 1710000 h 1709640"/>
            </a:gdLst>
            <a:ahLst/>
            <a:rect l="textAreaLeft" t="textAreaTop" r="textAreaRight" b="textAreaBottom"/>
            <a:pathLst>
              <a:path fill="none" w="21600" h="29293">
                <a:moveTo>
                  <a:pt x="10986" y="0"/>
                </a:moveTo>
                <a:cubicBezTo>
                  <a:pt x="17564" y="3885"/>
                  <a:pt x="21600" y="10957"/>
                  <a:pt x="21600" y="18597"/>
                </a:cubicBezTo>
                <a:cubicBezTo>
                  <a:pt x="21600" y="22347"/>
                  <a:pt x="20623" y="26034"/>
                  <a:pt x="18765" y="29292"/>
                </a:cubicBezTo>
              </a:path>
              <a:path stroke="0" w="21600" h="29293">
                <a:moveTo>
                  <a:pt x="10986" y="0"/>
                </a:moveTo>
                <a:cubicBezTo>
                  <a:pt x="17564" y="3885"/>
                  <a:pt x="21600" y="10957"/>
                  <a:pt x="21600" y="18597"/>
                </a:cubicBezTo>
                <a:cubicBezTo>
                  <a:pt x="21600" y="22347"/>
                  <a:pt x="20623" y="26034"/>
                  <a:pt x="18765" y="29292"/>
                </a:cubicBezTo>
                <a:lnTo>
                  <a:pt x="0" y="18597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0" name="Arc 5"/>
          <p:cNvSpPr/>
          <p:nvPr/>
        </p:nvSpPr>
        <p:spPr>
          <a:xfrm>
            <a:off x="1011240" y="2297160"/>
            <a:ext cx="1333440" cy="170964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709640"/>
              <a:gd name="textAreaBottom" fmla="*/ 1710000 h 1709640"/>
            </a:gdLst>
            <a:ahLst/>
            <a:rect l="textAreaLeft" t="textAreaTop" r="textAreaRight" b="textAreaBottom"/>
            <a:pathLst>
              <a:path fill="none" w="21600" h="29293">
                <a:moveTo>
                  <a:pt x="10986" y="0"/>
                </a:moveTo>
                <a:cubicBezTo>
                  <a:pt x="17564" y="3885"/>
                  <a:pt x="21600" y="10957"/>
                  <a:pt x="21600" y="18597"/>
                </a:cubicBezTo>
                <a:cubicBezTo>
                  <a:pt x="21600" y="22347"/>
                  <a:pt x="20623" y="26034"/>
                  <a:pt x="18765" y="29292"/>
                </a:cubicBezTo>
              </a:path>
              <a:path stroke="0" w="21600" h="29293">
                <a:moveTo>
                  <a:pt x="10986" y="0"/>
                </a:moveTo>
                <a:cubicBezTo>
                  <a:pt x="17564" y="3885"/>
                  <a:pt x="21600" y="10957"/>
                  <a:pt x="21600" y="18597"/>
                </a:cubicBezTo>
                <a:cubicBezTo>
                  <a:pt x="21600" y="22347"/>
                  <a:pt x="20623" y="26034"/>
                  <a:pt x="18765" y="29292"/>
                </a:cubicBezTo>
                <a:lnTo>
                  <a:pt x="0" y="18597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1" name="Line 6"/>
          <p:cNvSpPr/>
          <p:nvPr/>
        </p:nvSpPr>
        <p:spPr>
          <a:xfrm flipH="1">
            <a:off x="901800" y="1557360"/>
            <a:ext cx="2735280" cy="18590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2" name="Freeform 7"/>
          <p:cNvSpPr/>
          <p:nvPr/>
        </p:nvSpPr>
        <p:spPr>
          <a:xfrm>
            <a:off x="901800" y="3416400"/>
            <a:ext cx="2587680" cy="228600"/>
          </a:xfrm>
          <a:custGeom>
            <a:avLst/>
            <a:gdLst>
              <a:gd name="textAreaLeft" fmla="*/ 0 w 2587680"/>
              <a:gd name="textAreaRight" fmla="*/ 2588040 w 2587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630" h="144">
                <a:moveTo>
                  <a:pt x="0" y="0"/>
                </a:moveTo>
                <a:lnTo>
                  <a:pt x="1630" y="144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3" name="Oval 8"/>
          <p:cNvSpPr/>
          <p:nvPr/>
        </p:nvSpPr>
        <p:spPr>
          <a:xfrm flipV="1">
            <a:off x="2043000" y="257652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4" name="Oval 9"/>
          <p:cNvSpPr/>
          <p:nvPr/>
        </p:nvSpPr>
        <p:spPr>
          <a:xfrm>
            <a:off x="2298600" y="3514680"/>
            <a:ext cx="698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5" name="Oval 10"/>
          <p:cNvSpPr/>
          <p:nvPr/>
        </p:nvSpPr>
        <p:spPr>
          <a:xfrm>
            <a:off x="861840" y="338292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6" name="Rectangle 11"/>
          <p:cNvSpPr/>
          <p:nvPr/>
        </p:nvSpPr>
        <p:spPr>
          <a:xfrm>
            <a:off x="567720" y="404640"/>
            <a:ext cx="58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  <a:ea typeface="Arial"/>
              </a:rPr>
              <a:t>Построение угла, равного данному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  <a:ea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7" name="Freeform 12"/>
          <p:cNvSpPr/>
          <p:nvPr/>
        </p:nvSpPr>
        <p:spPr>
          <a:xfrm>
            <a:off x="4429080" y="3575160"/>
            <a:ext cx="3927600" cy="323640"/>
          </a:xfrm>
          <a:custGeom>
            <a:avLst/>
            <a:gdLst>
              <a:gd name="textAreaLeft" fmla="*/ 0 w 3927600"/>
              <a:gd name="textAreaRight" fmla="*/ 3927960 w 39276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474" h="204">
                <a:moveTo>
                  <a:pt x="0" y="0"/>
                </a:moveTo>
                <a:lnTo>
                  <a:pt x="2474" y="204"/>
                </a:lnTo>
              </a:path>
            </a:pathLst>
          </a:custGeom>
          <a:noFill/>
          <a:ln w="28440">
            <a:solidFill>
              <a:srgbClr val="40458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8" name="Line 13"/>
          <p:cNvSpPr/>
          <p:nvPr/>
        </p:nvSpPr>
        <p:spPr>
          <a:xfrm flipH="1">
            <a:off x="4429080" y="1701720"/>
            <a:ext cx="2735280" cy="18590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9" name="Text Box 14"/>
          <p:cNvSpPr/>
          <p:nvPr/>
        </p:nvSpPr>
        <p:spPr>
          <a:xfrm>
            <a:off x="811800" y="9810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о: угол 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0" name="Text Box 15"/>
          <p:cNvSpPr/>
          <p:nvPr/>
        </p:nvSpPr>
        <p:spPr>
          <a:xfrm>
            <a:off x="464040" y="32860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1" name="Text Box 16"/>
          <p:cNvSpPr/>
          <p:nvPr/>
        </p:nvSpPr>
        <p:spPr>
          <a:xfrm>
            <a:off x="5360760" y="981000"/>
            <a:ext cx="29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троили угол 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2" name="Text Box 17"/>
          <p:cNvSpPr/>
          <p:nvPr/>
        </p:nvSpPr>
        <p:spPr>
          <a:xfrm>
            <a:off x="2333880" y="35751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3" name="Text Box 18"/>
          <p:cNvSpPr/>
          <p:nvPr/>
        </p:nvSpPr>
        <p:spPr>
          <a:xfrm>
            <a:off x="1906920" y="2062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4" name="Text Box 19"/>
          <p:cNvSpPr/>
          <p:nvPr/>
        </p:nvSpPr>
        <p:spPr>
          <a:xfrm>
            <a:off x="4204080" y="3575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5" name="Text Box 20"/>
          <p:cNvSpPr/>
          <p:nvPr/>
        </p:nvSpPr>
        <p:spPr>
          <a:xfrm>
            <a:off x="5789880" y="3645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6" name="Text Box 21"/>
          <p:cNvSpPr/>
          <p:nvPr/>
        </p:nvSpPr>
        <p:spPr>
          <a:xfrm>
            <a:off x="5438520" y="227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7" name="Text Box 22"/>
          <p:cNvSpPr/>
          <p:nvPr/>
        </p:nvSpPr>
        <p:spPr>
          <a:xfrm>
            <a:off x="-221760" y="4221000"/>
            <a:ext cx="942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казать:   А =   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казательство:  рассмотрим треугольники АВС и 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С=ОЕ, как радиусы одной окруж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В=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как радиусы одной окруж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С=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как радиусы одной окруж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ВС=    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  (3 приз.)            А =    О     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8" name="Rectangle 2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9" name="Object 24"/>
              <p:cNvSpPr txBox="1"/>
              <p:nvPr/>
            </p:nvSpPr>
            <p:spPr>
              <a:xfrm>
                <a:off x="1908000" y="4221000"/>
                <a:ext cx="443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0" name="Object 25"/>
              <p:cNvSpPr txBox="1"/>
              <p:nvPr/>
            </p:nvSpPr>
            <p:spPr>
              <a:xfrm>
                <a:off x="2700360" y="4221000"/>
                <a:ext cx="4428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1" name="Arc 26"/>
          <p:cNvSpPr/>
          <p:nvPr/>
        </p:nvSpPr>
        <p:spPr>
          <a:xfrm rot="16200000">
            <a:off x="5029200" y="2900520"/>
            <a:ext cx="1333440" cy="10951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095120"/>
              <a:gd name="textAreaBottom" fmla="*/ 1095480 h 1095120"/>
            </a:gdLst>
            <a:ahLst/>
            <a:rect l="textAreaLeft" t="textAreaTop" r="textAreaRight" b="textAreaBottom"/>
            <a:pathLst>
              <a:path fill="none" w="21600" h="18757">
                <a:moveTo>
                  <a:pt x="19075" y="0"/>
                </a:moveTo>
                <a:cubicBezTo>
                  <a:pt x="20733" y="3120"/>
                  <a:pt x="21600" y="6599"/>
                  <a:pt x="21600" y="10133"/>
                </a:cubicBezTo>
                <a:cubicBezTo>
                  <a:pt x="21600" y="13100"/>
                  <a:pt x="20988" y="16036"/>
                  <a:pt x="19803" y="18756"/>
                </a:cubicBezTo>
              </a:path>
              <a:path stroke="0" w="21600" h="18757">
                <a:moveTo>
                  <a:pt x="19075" y="0"/>
                </a:moveTo>
                <a:cubicBezTo>
                  <a:pt x="20733" y="3120"/>
                  <a:pt x="21600" y="6599"/>
                  <a:pt x="21600" y="10133"/>
                </a:cubicBezTo>
                <a:cubicBezTo>
                  <a:pt x="21600" y="13100"/>
                  <a:pt x="20988" y="16036"/>
                  <a:pt x="19803" y="18756"/>
                </a:cubicBezTo>
                <a:lnTo>
                  <a:pt x="0" y="10133"/>
                </a:lnTo>
                <a:close/>
              </a:path>
            </a:pathLst>
          </a:custGeom>
          <a:noFill/>
          <a:ln w="381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2" name="Oval 27"/>
          <p:cNvSpPr/>
          <p:nvPr/>
        </p:nvSpPr>
        <p:spPr>
          <a:xfrm>
            <a:off x="5800680" y="3654360"/>
            <a:ext cx="7164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3" name="Oval 28"/>
          <p:cNvSpPr/>
          <p:nvPr/>
        </p:nvSpPr>
        <p:spPr>
          <a:xfrm>
            <a:off x="5541840" y="2741760"/>
            <a:ext cx="71640" cy="72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54" name="Group 29"/>
          <p:cNvGrpSpPr/>
          <p:nvPr/>
        </p:nvGrpSpPr>
        <p:grpSpPr>
          <a:xfrm>
            <a:off x="1403280" y="2852640"/>
            <a:ext cx="3745080" cy="432000"/>
            <a:chOff x="1403280" y="2852640"/>
            <a:chExt cx="3745080" cy="432000"/>
          </a:xfrm>
        </p:grpSpPr>
        <p:sp>
          <p:nvSpPr>
            <p:cNvPr id="1355" name="Line 30"/>
            <p:cNvSpPr/>
            <p:nvPr/>
          </p:nvSpPr>
          <p:spPr>
            <a:xfrm>
              <a:off x="1403280" y="2852640"/>
              <a:ext cx="216000" cy="21600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6" name="Line 31"/>
            <p:cNvSpPr/>
            <p:nvPr/>
          </p:nvSpPr>
          <p:spPr>
            <a:xfrm>
              <a:off x="4932360" y="3068640"/>
              <a:ext cx="216000" cy="21600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357" name="Group 32"/>
          <p:cNvGrpSpPr/>
          <p:nvPr/>
        </p:nvGrpSpPr>
        <p:grpSpPr>
          <a:xfrm>
            <a:off x="1547640" y="3357720"/>
            <a:ext cx="3672000" cy="358560"/>
            <a:chOff x="1547640" y="3357720"/>
            <a:chExt cx="3672000" cy="358560"/>
          </a:xfrm>
        </p:grpSpPr>
        <p:grpSp>
          <p:nvGrpSpPr>
            <p:cNvPr id="1358" name="Group 33"/>
            <p:cNvGrpSpPr/>
            <p:nvPr/>
          </p:nvGrpSpPr>
          <p:grpSpPr>
            <a:xfrm>
              <a:off x="1547640" y="3357720"/>
              <a:ext cx="71640" cy="215640"/>
              <a:chOff x="1547640" y="3357720"/>
              <a:chExt cx="71640" cy="215640"/>
            </a:xfrm>
          </p:grpSpPr>
          <p:sp>
            <p:nvSpPr>
              <p:cNvPr id="1359" name="Line 34"/>
              <p:cNvSpPr/>
              <p:nvPr/>
            </p:nvSpPr>
            <p:spPr>
              <a:xfrm>
                <a:off x="1547640" y="3357720"/>
                <a:ext cx="0" cy="21564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60" name="Line 35"/>
              <p:cNvSpPr/>
              <p:nvPr/>
            </p:nvSpPr>
            <p:spPr>
              <a:xfrm>
                <a:off x="1619280" y="3357720"/>
                <a:ext cx="0" cy="21564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361" name="Group 36"/>
            <p:cNvGrpSpPr/>
            <p:nvPr/>
          </p:nvGrpSpPr>
          <p:grpSpPr>
            <a:xfrm>
              <a:off x="5148360" y="3500280"/>
              <a:ext cx="71280" cy="216000"/>
              <a:chOff x="5148360" y="3500280"/>
              <a:chExt cx="71280" cy="216000"/>
            </a:xfrm>
          </p:grpSpPr>
          <p:sp>
            <p:nvSpPr>
              <p:cNvPr id="1362" name="Line 37"/>
              <p:cNvSpPr/>
              <p:nvPr/>
            </p:nvSpPr>
            <p:spPr>
              <a:xfrm>
                <a:off x="5148360" y="3500280"/>
                <a:ext cx="0" cy="21600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63" name="Line 38"/>
              <p:cNvSpPr/>
              <p:nvPr/>
            </p:nvSpPr>
            <p:spPr>
              <a:xfrm>
                <a:off x="5219640" y="3500280"/>
                <a:ext cx="0" cy="21600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grpSp>
        <p:nvGrpSpPr>
          <p:cNvPr id="1364" name="Group 39"/>
          <p:cNvGrpSpPr/>
          <p:nvPr/>
        </p:nvGrpSpPr>
        <p:grpSpPr>
          <a:xfrm>
            <a:off x="2045880" y="2986920"/>
            <a:ext cx="3756960" cy="309600"/>
            <a:chOff x="2045880" y="2986920"/>
            <a:chExt cx="3756960" cy="309600"/>
          </a:xfrm>
        </p:grpSpPr>
        <p:grpSp>
          <p:nvGrpSpPr>
            <p:cNvPr id="1365" name="Group 40"/>
            <p:cNvGrpSpPr/>
            <p:nvPr/>
          </p:nvGrpSpPr>
          <p:grpSpPr>
            <a:xfrm>
              <a:off x="5574960" y="3131280"/>
              <a:ext cx="227880" cy="165240"/>
              <a:chOff x="5574960" y="3131280"/>
              <a:chExt cx="227880" cy="165240"/>
            </a:xfrm>
          </p:grpSpPr>
          <p:sp>
            <p:nvSpPr>
              <p:cNvPr id="1366" name="Line 41"/>
              <p:cNvSpPr/>
              <p:nvPr/>
            </p:nvSpPr>
            <p:spPr>
              <a:xfrm flipH="1">
                <a:off x="5574960" y="3131280"/>
                <a:ext cx="214560" cy="2160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67" name="Line 42"/>
              <p:cNvSpPr/>
              <p:nvPr/>
            </p:nvSpPr>
            <p:spPr>
              <a:xfrm flipH="1">
                <a:off x="5582160" y="3202200"/>
                <a:ext cx="214560" cy="2160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68" name="Line 43"/>
              <p:cNvSpPr/>
              <p:nvPr/>
            </p:nvSpPr>
            <p:spPr>
              <a:xfrm flipH="1">
                <a:off x="5588280" y="3274920"/>
                <a:ext cx="214560" cy="2160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369" name="Group 44"/>
            <p:cNvGrpSpPr/>
            <p:nvPr/>
          </p:nvGrpSpPr>
          <p:grpSpPr>
            <a:xfrm>
              <a:off x="2045880" y="2986920"/>
              <a:ext cx="227880" cy="165240"/>
              <a:chOff x="2045880" y="2986920"/>
              <a:chExt cx="227880" cy="165240"/>
            </a:xfrm>
          </p:grpSpPr>
          <p:sp>
            <p:nvSpPr>
              <p:cNvPr id="1370" name="Line 45"/>
              <p:cNvSpPr/>
              <p:nvPr/>
            </p:nvSpPr>
            <p:spPr>
              <a:xfrm flipH="1">
                <a:off x="2045880" y="2986920"/>
                <a:ext cx="214560" cy="2160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71" name="Line 46"/>
              <p:cNvSpPr/>
              <p:nvPr/>
            </p:nvSpPr>
            <p:spPr>
              <a:xfrm flipH="1">
                <a:off x="2053080" y="3057840"/>
                <a:ext cx="214560" cy="2160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72" name="Line 47"/>
              <p:cNvSpPr/>
              <p:nvPr/>
            </p:nvSpPr>
            <p:spPr>
              <a:xfrm flipH="1">
                <a:off x="2059200" y="3130560"/>
                <a:ext cx="214560" cy="2160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373" name="Rectangle 4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74" name="Group 49"/>
          <p:cNvGrpSpPr/>
          <p:nvPr/>
        </p:nvGrpSpPr>
        <p:grpSpPr>
          <a:xfrm>
            <a:off x="611280" y="6093000"/>
            <a:ext cx="1536480" cy="369720"/>
            <a:chOff x="611280" y="6093000"/>
            <a:chExt cx="1536480" cy="369720"/>
          </a:xfrm>
        </p:grpSpPr>
        <mc:AlternateContent>
          <mc:Choice xmlns:a14="http://schemas.microsoft.com/office/drawing/2010/main" Requires="a14">
            <p:sp>
              <p:nvSpPr>
                <p:cNvPr id="1375" name="Object 50"/>
                <p:cNvSpPr txBox="1"/>
                <p:nvPr/>
              </p:nvSpPr>
              <p:spPr>
                <a:xfrm>
                  <a:off x="611280" y="6093000"/>
                  <a:ext cx="31248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6" name="Object 51"/>
                <p:cNvSpPr txBox="1"/>
                <p:nvPr/>
              </p:nvSpPr>
              <p:spPr>
                <a:xfrm>
                  <a:off x="1835280" y="6093000"/>
                  <a:ext cx="31248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7" name="Object 52"/>
              <p:cNvSpPr txBox="1"/>
              <p:nvPr/>
            </p:nvSpPr>
            <p:spPr>
              <a:xfrm>
                <a:off x="4211640" y="6093000"/>
                <a:ext cx="5763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8" name="Group 53"/>
          <p:cNvGrpSpPr/>
          <p:nvPr/>
        </p:nvGrpSpPr>
        <p:grpSpPr>
          <a:xfrm>
            <a:off x="4859280" y="6093000"/>
            <a:ext cx="1379520" cy="409320"/>
            <a:chOff x="4859280" y="6093000"/>
            <a:chExt cx="1379520" cy="409320"/>
          </a:xfrm>
        </p:grpSpPr>
        <mc:AlternateContent>
          <mc:Choice xmlns:a14="http://schemas.microsoft.com/office/drawing/2010/main" Requires="a14">
            <p:sp>
              <p:nvSpPr>
                <p:cNvPr id="1379" name="Object 54"/>
                <p:cNvSpPr txBox="1"/>
                <p:nvPr/>
              </p:nvSpPr>
              <p:spPr>
                <a:xfrm>
                  <a:off x="4859280" y="609300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0" name="Object 55"/>
                <p:cNvSpPr txBox="1"/>
                <p:nvPr/>
              </p:nvSpPr>
              <p:spPr>
                <a:xfrm>
                  <a:off x="5796000" y="609300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Arc 2"/>
          <p:cNvSpPr/>
          <p:nvPr/>
        </p:nvSpPr>
        <p:spPr>
          <a:xfrm>
            <a:off x="2233440" y="3657600"/>
            <a:ext cx="1333800" cy="1943280"/>
          </a:xfrm>
          <a:custGeom>
            <a:avLst/>
            <a:gdLst>
              <a:gd name="textAreaLeft" fmla="*/ 0 w 1333800"/>
              <a:gd name="textAreaRight" fmla="*/ 1334160 w 133380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fill="none" w="21600" h="29894">
                <a:moveTo>
                  <a:pt x="9899" y="0"/>
                </a:moveTo>
                <a:cubicBezTo>
                  <a:pt x="17085" y="3705"/>
                  <a:pt x="21600" y="11113"/>
                  <a:pt x="21600" y="19198"/>
                </a:cubicBezTo>
                <a:cubicBezTo>
                  <a:pt x="21600" y="22948"/>
                  <a:pt x="20623" y="26635"/>
                  <a:pt x="18765" y="29893"/>
                </a:cubicBezTo>
              </a:path>
              <a:path stroke="0" w="21600" h="29894">
                <a:moveTo>
                  <a:pt x="9899" y="0"/>
                </a:moveTo>
                <a:cubicBezTo>
                  <a:pt x="17085" y="3705"/>
                  <a:pt x="21600" y="11113"/>
                  <a:pt x="21600" y="19198"/>
                </a:cubicBezTo>
                <a:cubicBezTo>
                  <a:pt x="21600" y="22948"/>
                  <a:pt x="20623" y="26635"/>
                  <a:pt x="18765" y="29893"/>
                </a:cubicBezTo>
                <a:lnTo>
                  <a:pt x="0" y="19198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2" name="Line 3"/>
          <p:cNvSpPr/>
          <p:nvPr/>
        </p:nvSpPr>
        <p:spPr>
          <a:xfrm flipH="1">
            <a:off x="2124000" y="2981160"/>
            <a:ext cx="2735280" cy="18734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3" name="Line 4"/>
          <p:cNvSpPr/>
          <p:nvPr/>
        </p:nvSpPr>
        <p:spPr>
          <a:xfrm>
            <a:off x="2124000" y="4854600"/>
            <a:ext cx="4824360" cy="4316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4" name="Arc 5"/>
          <p:cNvSpPr/>
          <p:nvPr/>
        </p:nvSpPr>
        <p:spPr>
          <a:xfrm>
            <a:off x="3246480" y="3633840"/>
            <a:ext cx="1333440" cy="11239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fill="none" w="21600" h="19253">
                <a:moveTo>
                  <a:pt x="20059" y="-1"/>
                </a:moveTo>
                <a:cubicBezTo>
                  <a:pt x="21077" y="2548"/>
                  <a:pt x="21600" y="5267"/>
                  <a:pt x="21600" y="8012"/>
                </a:cubicBezTo>
                <a:cubicBezTo>
                  <a:pt x="21600" y="11977"/>
                  <a:pt x="20508" y="15866"/>
                  <a:pt x="18444" y="19253"/>
                </a:cubicBezTo>
              </a:path>
              <a:path stroke="0" w="21600" h="19253">
                <a:moveTo>
                  <a:pt x="20059" y="-1"/>
                </a:moveTo>
                <a:cubicBezTo>
                  <a:pt x="21077" y="2548"/>
                  <a:pt x="21600" y="5267"/>
                  <a:pt x="21600" y="8012"/>
                </a:cubicBezTo>
                <a:cubicBezTo>
                  <a:pt x="21600" y="11977"/>
                  <a:pt x="20508" y="15866"/>
                  <a:pt x="18444" y="19253"/>
                </a:cubicBezTo>
                <a:lnTo>
                  <a:pt x="0" y="8012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5" name="Arc 6"/>
          <p:cNvSpPr/>
          <p:nvPr/>
        </p:nvSpPr>
        <p:spPr>
          <a:xfrm rot="201000">
            <a:off x="3512880" y="3713040"/>
            <a:ext cx="1309680" cy="127332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1273320"/>
              <a:gd name="textAreaBottom" fmla="*/ 1273680 h 1273320"/>
            </a:gdLst>
            <a:ahLst/>
            <a:rect l="textAreaLeft" t="textAreaTop" r="textAreaRight" b="textAreaBottom"/>
            <a:pathLst>
              <a:path fill="none" w="21209" h="20213">
                <a:moveTo>
                  <a:pt x="7615" y="0"/>
                </a:moveTo>
                <a:cubicBezTo>
                  <a:pt x="14640" y="2647"/>
                  <a:pt x="19787" y="8751"/>
                  <a:pt x="21209" y="16122"/>
                </a:cubicBezTo>
              </a:path>
              <a:path stroke="0" w="21209" h="20213">
                <a:moveTo>
                  <a:pt x="7615" y="0"/>
                </a:moveTo>
                <a:cubicBezTo>
                  <a:pt x="14640" y="2647"/>
                  <a:pt x="19787" y="8751"/>
                  <a:pt x="21209" y="16122"/>
                </a:cubicBezTo>
                <a:lnTo>
                  <a:pt x="0" y="20213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6" name="Text Box 7"/>
          <p:cNvSpPr/>
          <p:nvPr/>
        </p:nvSpPr>
        <p:spPr>
          <a:xfrm rot="20638800">
            <a:off x="5151600" y="333216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биссектри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7" name="Line 8"/>
          <p:cNvSpPr/>
          <p:nvPr/>
        </p:nvSpPr>
        <p:spPr>
          <a:xfrm flipV="1">
            <a:off x="2124000" y="3413160"/>
            <a:ext cx="5184720" cy="144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8" name="Oval 9"/>
          <p:cNvSpPr/>
          <p:nvPr/>
        </p:nvSpPr>
        <p:spPr>
          <a:xfrm>
            <a:off x="4543560" y="413532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9" name="Rectangle 10"/>
          <p:cNvSpPr/>
          <p:nvPr/>
        </p:nvSpPr>
        <p:spPr>
          <a:xfrm>
            <a:off x="685800" y="54936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строение биссектрисы угл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90" name="Group 11"/>
          <p:cNvGrpSpPr/>
          <p:nvPr/>
        </p:nvGrpSpPr>
        <p:grpSpPr>
          <a:xfrm>
            <a:off x="-730440" y="2224080"/>
            <a:ext cx="5719320" cy="5438520"/>
            <a:chOff x="-730440" y="2224080"/>
            <a:chExt cx="5719320" cy="5438520"/>
          </a:xfrm>
        </p:grpSpPr>
        <p:grpSp>
          <p:nvGrpSpPr>
            <p:cNvPr id="1391" name="Group 12"/>
            <p:cNvGrpSpPr/>
            <p:nvPr/>
          </p:nvGrpSpPr>
          <p:grpSpPr>
            <a:xfrm>
              <a:off x="2114640" y="2224080"/>
              <a:ext cx="2874240" cy="3321360"/>
              <a:chOff x="2114640" y="2224080"/>
              <a:chExt cx="2874240" cy="3321360"/>
            </a:xfrm>
          </p:grpSpPr>
          <p:sp>
            <p:nvSpPr>
              <p:cNvPr id="1392" name="Freeform 13"/>
              <p:cNvSpPr/>
              <p:nvPr/>
            </p:nvSpPr>
            <p:spPr>
              <a:xfrm rot="1866600">
                <a:off x="2950920" y="2355120"/>
                <a:ext cx="1352160" cy="3030480"/>
              </a:xfrm>
              <a:custGeom>
                <a:avLst/>
                <a:gdLst>
                  <a:gd name="textAreaLeft" fmla="*/ 0 w 1352160"/>
                  <a:gd name="textAreaRight" fmla="*/ 1352520 w 1352160"/>
                  <a:gd name="textAreaTop" fmla="*/ 0 h 3030480"/>
                  <a:gd name="textAreaBottom" fmla="*/ 3030840 h 30304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93" name="Freeform 14"/>
              <p:cNvSpPr/>
              <p:nvPr/>
            </p:nvSpPr>
            <p:spPr>
              <a:xfrm rot="1866600">
                <a:off x="3256560" y="4910400"/>
                <a:ext cx="341280" cy="58896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94" name="Freeform 15"/>
              <p:cNvSpPr/>
              <p:nvPr/>
            </p:nvSpPr>
            <p:spPr>
              <a:xfrm rot="1866600">
                <a:off x="3365280" y="5288760"/>
                <a:ext cx="130320" cy="2239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395" name="Group 16"/>
              <p:cNvGrpSpPr/>
              <p:nvPr/>
            </p:nvGrpSpPr>
            <p:grpSpPr>
              <a:xfrm>
                <a:off x="2114640" y="2291760"/>
                <a:ext cx="2808000" cy="2810880"/>
                <a:chOff x="2114640" y="2291760"/>
                <a:chExt cx="2808000" cy="2810880"/>
              </a:xfrm>
            </p:grpSpPr>
            <p:sp>
              <p:nvSpPr>
                <p:cNvPr id="1396" name="Freeform 17"/>
                <p:cNvSpPr/>
                <p:nvPr/>
              </p:nvSpPr>
              <p:spPr>
                <a:xfrm rot="1866600">
                  <a:off x="3171960" y="2414520"/>
                  <a:ext cx="1181160" cy="2531880"/>
                </a:xfrm>
                <a:custGeom>
                  <a:avLst/>
                  <a:gdLst>
                    <a:gd name="textAreaLeft" fmla="*/ 0 w 1181160"/>
                    <a:gd name="textAreaRight" fmla="*/ 1181520 w 1181160"/>
                    <a:gd name="textAreaTop" fmla="*/ 0 h 2531880"/>
                    <a:gd name="textAreaBottom" fmla="*/ 2532240 h 25318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397" name="Group 18"/>
                <p:cNvGrpSpPr/>
                <p:nvPr/>
              </p:nvGrpSpPr>
              <p:grpSpPr>
                <a:xfrm>
                  <a:off x="2114640" y="2442240"/>
                  <a:ext cx="2045880" cy="2660400"/>
                  <a:chOff x="2114640" y="2442240"/>
                  <a:chExt cx="2045880" cy="2660400"/>
                </a:xfrm>
              </p:grpSpPr>
              <p:sp>
                <p:nvSpPr>
                  <p:cNvPr id="1398" name="Freeform 19"/>
                  <p:cNvSpPr/>
                  <p:nvPr/>
                </p:nvSpPr>
                <p:spPr>
                  <a:xfrm rot="1866600">
                    <a:off x="2831040" y="2333160"/>
                    <a:ext cx="380520" cy="2877840"/>
                  </a:xfrm>
                  <a:custGeom>
                    <a:avLst/>
                    <a:gdLst>
                      <a:gd name="textAreaLeft" fmla="*/ 0 w 380520"/>
                      <a:gd name="textAreaRight" fmla="*/ 380880 w 380520"/>
                      <a:gd name="textAreaTop" fmla="*/ 0 h 2877840"/>
                      <a:gd name="textAreaBottom" fmla="*/ 2878200 h 2877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99" name="Oval 20"/>
                  <p:cNvSpPr/>
                  <p:nvPr/>
                </p:nvSpPr>
                <p:spPr>
                  <a:xfrm rot="1866600">
                    <a:off x="3628080" y="2548080"/>
                    <a:ext cx="456120" cy="42120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400" name="Group 21"/>
            <p:cNvGrpSpPr/>
            <p:nvPr/>
          </p:nvGrpSpPr>
          <p:grpSpPr>
            <a:xfrm>
              <a:off x="-730440" y="4333320"/>
              <a:ext cx="2839680" cy="3329280"/>
              <a:chOff x="-730440" y="4333320"/>
              <a:chExt cx="2839680" cy="3329280"/>
            </a:xfrm>
          </p:grpSpPr>
          <p:sp>
            <p:nvSpPr>
              <p:cNvPr id="1401" name="Freeform 22"/>
              <p:cNvSpPr/>
              <p:nvPr/>
            </p:nvSpPr>
            <p:spPr>
              <a:xfrm rot="12608400">
                <a:off x="-60840" y="4497480"/>
                <a:ext cx="1352160" cy="3030480"/>
              </a:xfrm>
              <a:custGeom>
                <a:avLst/>
                <a:gdLst>
                  <a:gd name="textAreaLeft" fmla="*/ 0 w 1352160"/>
                  <a:gd name="textAreaRight" fmla="*/ 1352520 w 1352160"/>
                  <a:gd name="textAreaTop" fmla="*/ 0 h 3030480"/>
                  <a:gd name="textAreaBottom" fmla="*/ 3030840 h 30304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02" name="Freeform 23"/>
              <p:cNvSpPr/>
              <p:nvPr/>
            </p:nvSpPr>
            <p:spPr>
              <a:xfrm rot="12608400">
                <a:off x="614880" y="4379040"/>
                <a:ext cx="341280" cy="58896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03" name="Freeform 24"/>
              <p:cNvSpPr/>
              <p:nvPr/>
            </p:nvSpPr>
            <p:spPr>
              <a:xfrm rot="12608400">
                <a:off x="720000" y="4367160"/>
                <a:ext cx="130320" cy="2239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404" name="Group 25"/>
              <p:cNvGrpSpPr/>
              <p:nvPr/>
            </p:nvGrpSpPr>
            <p:grpSpPr>
              <a:xfrm>
                <a:off x="-663120" y="4760640"/>
                <a:ext cx="2772360" cy="2835360"/>
                <a:chOff x="-663120" y="4760640"/>
                <a:chExt cx="2772360" cy="2835360"/>
              </a:xfrm>
            </p:grpSpPr>
            <p:sp>
              <p:nvSpPr>
                <p:cNvPr id="1405" name="Freeform 26"/>
                <p:cNvSpPr/>
                <p:nvPr/>
              </p:nvSpPr>
              <p:spPr>
                <a:xfrm rot="12608400">
                  <a:off x="-107280" y="4938480"/>
                  <a:ext cx="1181160" cy="2531880"/>
                </a:xfrm>
                <a:custGeom>
                  <a:avLst/>
                  <a:gdLst>
                    <a:gd name="textAreaLeft" fmla="*/ 0 w 1181160"/>
                    <a:gd name="textAreaRight" fmla="*/ 1181520 w 1181160"/>
                    <a:gd name="textAreaTop" fmla="*/ 0 h 2531880"/>
                    <a:gd name="textAreaBottom" fmla="*/ 2532240 h 25318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406" name="Group 27"/>
                <p:cNvGrpSpPr/>
                <p:nvPr/>
              </p:nvGrpSpPr>
              <p:grpSpPr>
                <a:xfrm>
                  <a:off x="101520" y="4760640"/>
                  <a:ext cx="2007720" cy="2679840"/>
                  <a:chOff x="101520" y="4760640"/>
                  <a:chExt cx="2007720" cy="2679840"/>
                </a:xfrm>
              </p:grpSpPr>
              <p:sp>
                <p:nvSpPr>
                  <p:cNvPr id="1407" name="Freeform 28"/>
                  <p:cNvSpPr/>
                  <p:nvPr/>
                </p:nvSpPr>
                <p:spPr>
                  <a:xfrm rot="12608400">
                    <a:off x="1031760" y="4661640"/>
                    <a:ext cx="380520" cy="2877840"/>
                  </a:xfrm>
                  <a:custGeom>
                    <a:avLst/>
                    <a:gdLst>
                      <a:gd name="textAreaLeft" fmla="*/ 0 w 380520"/>
                      <a:gd name="textAreaRight" fmla="*/ 380880 w 380520"/>
                      <a:gd name="textAreaTop" fmla="*/ 0 h 2877840"/>
                      <a:gd name="textAreaBottom" fmla="*/ 2878200 h 2877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08" name="Oval 29"/>
                  <p:cNvSpPr/>
                  <p:nvPr/>
                </p:nvSpPr>
                <p:spPr>
                  <a:xfrm rot="12608400">
                    <a:off x="176400" y="691812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1409" name="Group 30"/>
          <p:cNvGrpSpPr/>
          <p:nvPr/>
        </p:nvGrpSpPr>
        <p:grpSpPr>
          <a:xfrm>
            <a:off x="341640" y="1577160"/>
            <a:ext cx="5809680" cy="4981680"/>
            <a:chOff x="341640" y="1577160"/>
            <a:chExt cx="5809680" cy="4981680"/>
          </a:xfrm>
        </p:grpSpPr>
        <p:grpSp>
          <p:nvGrpSpPr>
            <p:cNvPr id="1410" name="Group 31"/>
            <p:cNvGrpSpPr/>
            <p:nvPr/>
          </p:nvGrpSpPr>
          <p:grpSpPr>
            <a:xfrm>
              <a:off x="3275280" y="1577160"/>
              <a:ext cx="2876040" cy="3167280"/>
              <a:chOff x="3275280" y="1577160"/>
              <a:chExt cx="2876040" cy="3167280"/>
            </a:xfrm>
          </p:grpSpPr>
          <p:sp>
            <p:nvSpPr>
              <p:cNvPr id="1411" name="Freeform 32"/>
              <p:cNvSpPr/>
              <p:nvPr/>
            </p:nvSpPr>
            <p:spPr>
              <a:xfrm rot="2117400">
                <a:off x="4163760" y="1665000"/>
                <a:ext cx="1246680" cy="2960640"/>
              </a:xfrm>
              <a:custGeom>
                <a:avLst/>
                <a:gdLst>
                  <a:gd name="textAreaLeft" fmla="*/ 0 w 1246680"/>
                  <a:gd name="textAreaRight" fmla="*/ 1247040 w 1246680"/>
                  <a:gd name="textAreaTop" fmla="*/ 0 h 2960640"/>
                  <a:gd name="textAreaBottom" fmla="*/ 2961000 h 29606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12" name="Freeform 33"/>
              <p:cNvSpPr/>
              <p:nvPr/>
            </p:nvSpPr>
            <p:spPr>
              <a:xfrm rot="2117400">
                <a:off x="4318200" y="4127400"/>
                <a:ext cx="316080" cy="578520"/>
              </a:xfrm>
              <a:custGeom>
                <a:avLst/>
                <a:gdLst>
                  <a:gd name="textAreaLeft" fmla="*/ 0 w 316080"/>
                  <a:gd name="textAreaRight" fmla="*/ 316440 w 31608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13" name="Freeform 34"/>
              <p:cNvSpPr/>
              <p:nvPr/>
            </p:nvSpPr>
            <p:spPr>
              <a:xfrm rot="2117400">
                <a:off x="4400280" y="4494960"/>
                <a:ext cx="120240" cy="2185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414" name="Group 35"/>
              <p:cNvGrpSpPr/>
              <p:nvPr/>
            </p:nvGrpSpPr>
            <p:grpSpPr>
              <a:xfrm>
                <a:off x="3275280" y="1645560"/>
                <a:ext cx="2815200" cy="2648160"/>
                <a:chOff x="3275280" y="1645560"/>
                <a:chExt cx="2815200" cy="2648160"/>
              </a:xfrm>
            </p:grpSpPr>
            <p:sp>
              <p:nvSpPr>
                <p:cNvPr id="1415" name="Freeform 36"/>
                <p:cNvSpPr/>
                <p:nvPr/>
              </p:nvSpPr>
              <p:spPr>
                <a:xfrm rot="2117400">
                  <a:off x="4386960" y="1732680"/>
                  <a:ext cx="1089000" cy="2473560"/>
                </a:xfrm>
                <a:custGeom>
                  <a:avLst/>
                  <a:gdLst>
                    <a:gd name="textAreaLeft" fmla="*/ 0 w 1089000"/>
                    <a:gd name="textAreaRight" fmla="*/ 1089360 w 1089000"/>
                    <a:gd name="textAreaTop" fmla="*/ 0 h 2473560"/>
                    <a:gd name="textAreaBottom" fmla="*/ 2473920 h 24735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416" name="Group 37"/>
                <p:cNvGrpSpPr/>
                <p:nvPr/>
              </p:nvGrpSpPr>
              <p:grpSpPr>
                <a:xfrm>
                  <a:off x="3275280" y="1775880"/>
                  <a:ext cx="2122560" cy="2497320"/>
                  <a:chOff x="3275280" y="1775880"/>
                  <a:chExt cx="2122560" cy="2497320"/>
                </a:xfrm>
              </p:grpSpPr>
              <p:sp>
                <p:nvSpPr>
                  <p:cNvPr id="1417" name="Freeform 38"/>
                  <p:cNvSpPr/>
                  <p:nvPr/>
                </p:nvSpPr>
                <p:spPr>
                  <a:xfrm rot="2117400">
                    <a:off x="4054680" y="1618920"/>
                    <a:ext cx="351000" cy="28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18" name="Oval 39"/>
                  <p:cNvSpPr/>
                  <p:nvPr/>
                </p:nvSpPr>
                <p:spPr>
                  <a:xfrm rot="2117400">
                    <a:off x="4897080" y="1884240"/>
                    <a:ext cx="420480" cy="41148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419" name="Group 40"/>
            <p:cNvGrpSpPr/>
            <p:nvPr/>
          </p:nvGrpSpPr>
          <p:grpSpPr>
            <a:xfrm>
              <a:off x="341640" y="3380400"/>
              <a:ext cx="2845080" cy="3178440"/>
              <a:chOff x="341640" y="3380400"/>
              <a:chExt cx="2845080" cy="3178440"/>
            </a:xfrm>
          </p:grpSpPr>
          <p:sp>
            <p:nvSpPr>
              <p:cNvPr id="1420" name="Freeform 41"/>
              <p:cNvSpPr/>
              <p:nvPr/>
            </p:nvSpPr>
            <p:spPr>
              <a:xfrm rot="12858600">
                <a:off x="1067400" y="3504240"/>
                <a:ext cx="1246680" cy="2960640"/>
              </a:xfrm>
              <a:custGeom>
                <a:avLst/>
                <a:gdLst>
                  <a:gd name="textAreaLeft" fmla="*/ 0 w 1246680"/>
                  <a:gd name="textAreaRight" fmla="*/ 1247040 w 1246680"/>
                  <a:gd name="textAreaTop" fmla="*/ 0 h 2960640"/>
                  <a:gd name="textAreaBottom" fmla="*/ 2961000 h 29606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21" name="Freeform 42"/>
              <p:cNvSpPr/>
              <p:nvPr/>
            </p:nvSpPr>
            <p:spPr>
              <a:xfrm rot="12858600">
                <a:off x="1818000" y="3418920"/>
                <a:ext cx="314640" cy="57528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575280"/>
                  <a:gd name="textAreaBottom" fmla="*/ 575640 h 57528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22" name="Freeform 43"/>
              <p:cNvSpPr/>
              <p:nvPr/>
            </p:nvSpPr>
            <p:spPr>
              <a:xfrm rot="12858600">
                <a:off x="1932480" y="3411000"/>
                <a:ext cx="120240" cy="2185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423" name="Group 44"/>
              <p:cNvGrpSpPr/>
              <p:nvPr/>
            </p:nvGrpSpPr>
            <p:grpSpPr>
              <a:xfrm>
                <a:off x="402120" y="3834360"/>
                <a:ext cx="2784600" cy="2657160"/>
                <a:chOff x="402120" y="3834360"/>
                <a:chExt cx="2784600" cy="2657160"/>
              </a:xfrm>
            </p:grpSpPr>
            <p:sp>
              <p:nvSpPr>
                <p:cNvPr id="1424" name="Freeform 45"/>
                <p:cNvSpPr/>
                <p:nvPr/>
              </p:nvSpPr>
              <p:spPr>
                <a:xfrm rot="12858600">
                  <a:off x="1004400" y="3926160"/>
                  <a:ext cx="1089000" cy="2473560"/>
                </a:xfrm>
                <a:custGeom>
                  <a:avLst/>
                  <a:gdLst>
                    <a:gd name="textAreaLeft" fmla="*/ 0 w 1089000"/>
                    <a:gd name="textAreaRight" fmla="*/ 1089360 w 1089000"/>
                    <a:gd name="textAreaTop" fmla="*/ 0 h 2473560"/>
                    <a:gd name="textAreaBottom" fmla="*/ 2473920 h 24735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425" name="Group 46"/>
                <p:cNvGrpSpPr/>
                <p:nvPr/>
              </p:nvGrpSpPr>
              <p:grpSpPr>
                <a:xfrm>
                  <a:off x="1098720" y="3836160"/>
                  <a:ext cx="2088000" cy="2520000"/>
                  <a:chOff x="1098720" y="3836160"/>
                  <a:chExt cx="2088000" cy="2520000"/>
                </a:xfrm>
              </p:grpSpPr>
              <p:sp>
                <p:nvSpPr>
                  <p:cNvPr id="1426" name="Freeform 47"/>
                  <p:cNvSpPr/>
                  <p:nvPr/>
                </p:nvSpPr>
                <p:spPr>
                  <a:xfrm rot="12858600">
                    <a:off x="2073600" y="3690360"/>
                    <a:ext cx="351000" cy="28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27" name="Oval 48"/>
                  <p:cNvSpPr/>
                  <p:nvPr/>
                </p:nvSpPr>
                <p:spPr>
                  <a:xfrm rot="12858600">
                    <a:off x="1177920" y="5839920"/>
                    <a:ext cx="420480" cy="411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1428" name="Group 49"/>
          <p:cNvGrpSpPr/>
          <p:nvPr/>
        </p:nvGrpSpPr>
        <p:grpSpPr>
          <a:xfrm>
            <a:off x="1899360" y="2155320"/>
            <a:ext cx="3336120" cy="5751000"/>
            <a:chOff x="1899360" y="2155320"/>
            <a:chExt cx="3336120" cy="5751000"/>
          </a:xfrm>
        </p:grpSpPr>
        <p:grpSp>
          <p:nvGrpSpPr>
            <p:cNvPr id="1429" name="Group 50"/>
            <p:cNvGrpSpPr/>
            <p:nvPr/>
          </p:nvGrpSpPr>
          <p:grpSpPr>
            <a:xfrm>
              <a:off x="3574440" y="2155320"/>
              <a:ext cx="1661040" cy="2930400"/>
              <a:chOff x="3574440" y="2155320"/>
              <a:chExt cx="1661040" cy="2930400"/>
            </a:xfrm>
          </p:grpSpPr>
          <p:sp>
            <p:nvSpPr>
              <p:cNvPr id="1430" name="Freeform 51"/>
              <p:cNvSpPr/>
              <p:nvPr/>
            </p:nvSpPr>
            <p:spPr>
              <a:xfrm rot="496200">
                <a:off x="3858480" y="2225880"/>
                <a:ext cx="1184040" cy="2764440"/>
              </a:xfrm>
              <a:custGeom>
                <a:avLst/>
                <a:gdLst>
                  <a:gd name="textAreaLeft" fmla="*/ 0 w 1184040"/>
                  <a:gd name="textAreaRight" fmla="*/ 1184400 w 1184040"/>
                  <a:gd name="textAreaTop" fmla="*/ 0 h 2764440"/>
                  <a:gd name="textAreaBottom" fmla="*/ 2764440 h 27644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31" name="Freeform 52"/>
              <p:cNvSpPr/>
              <p:nvPr/>
            </p:nvSpPr>
            <p:spPr>
              <a:xfrm rot="496200">
                <a:off x="4593960" y="4528080"/>
                <a:ext cx="298800" cy="538560"/>
              </a:xfrm>
              <a:custGeom>
                <a:avLst/>
                <a:gdLst>
                  <a:gd name="textAreaLeft" fmla="*/ 0 w 298800"/>
                  <a:gd name="textAreaRight" fmla="*/ 298800 w 298800"/>
                  <a:gd name="textAreaTop" fmla="*/ 0 h 538560"/>
                  <a:gd name="textAreaBottom" fmla="*/ 538920 h 5385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32" name="Freeform 53"/>
              <p:cNvSpPr/>
              <p:nvPr/>
            </p:nvSpPr>
            <p:spPr>
              <a:xfrm rot="496200">
                <a:off x="4749480" y="4859280"/>
                <a:ext cx="114120" cy="2041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433" name="Group 54"/>
              <p:cNvGrpSpPr/>
              <p:nvPr/>
            </p:nvGrpSpPr>
            <p:grpSpPr>
              <a:xfrm>
                <a:off x="3574440" y="2184120"/>
                <a:ext cx="1599840" cy="2881800"/>
                <a:chOff x="3574440" y="2184120"/>
                <a:chExt cx="1599840" cy="2881800"/>
              </a:xfrm>
            </p:grpSpPr>
            <p:sp>
              <p:nvSpPr>
                <p:cNvPr id="1434" name="Freeform 55"/>
                <p:cNvSpPr/>
                <p:nvPr/>
              </p:nvSpPr>
              <p:spPr>
                <a:xfrm rot="496200">
                  <a:off x="3979440" y="2246400"/>
                  <a:ext cx="1033920" cy="2309760"/>
                </a:xfrm>
                <a:custGeom>
                  <a:avLst/>
                  <a:gdLst>
                    <a:gd name="textAreaLeft" fmla="*/ 0 w 1033920"/>
                    <a:gd name="textAreaRight" fmla="*/ 1034280 w 1033920"/>
                    <a:gd name="textAreaTop" fmla="*/ 0 h 2309760"/>
                    <a:gd name="textAreaBottom" fmla="*/ 2309760 h 2309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435" name="Group 56"/>
                <p:cNvGrpSpPr/>
                <p:nvPr/>
              </p:nvGrpSpPr>
              <p:grpSpPr>
                <a:xfrm>
                  <a:off x="3574440" y="2375640"/>
                  <a:ext cx="914400" cy="2690280"/>
                  <a:chOff x="3574440" y="2375640"/>
                  <a:chExt cx="914400" cy="2690280"/>
                </a:xfrm>
              </p:grpSpPr>
              <p:sp>
                <p:nvSpPr>
                  <p:cNvPr id="1436" name="Freeform 57"/>
                  <p:cNvSpPr/>
                  <p:nvPr/>
                </p:nvSpPr>
                <p:spPr>
                  <a:xfrm rot="496200">
                    <a:off x="3761280" y="2430360"/>
                    <a:ext cx="333360" cy="262512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625120"/>
                      <a:gd name="textAreaBottom" fmla="*/ 2625480 h 26251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37" name="Oval 58"/>
                  <p:cNvSpPr/>
                  <p:nvPr/>
                </p:nvSpPr>
                <p:spPr>
                  <a:xfrm rot="496200">
                    <a:off x="4064040" y="2402280"/>
                    <a:ext cx="399240" cy="38412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438" name="Group 59"/>
            <p:cNvGrpSpPr/>
            <p:nvPr/>
          </p:nvGrpSpPr>
          <p:grpSpPr>
            <a:xfrm>
              <a:off x="1899360" y="4989960"/>
              <a:ext cx="1614240" cy="2916360"/>
              <a:chOff x="1899360" y="4989960"/>
              <a:chExt cx="1614240" cy="2916360"/>
            </a:xfrm>
          </p:grpSpPr>
          <p:sp>
            <p:nvSpPr>
              <p:cNvPr id="1439" name="Freeform 60"/>
              <p:cNvSpPr/>
              <p:nvPr/>
            </p:nvSpPr>
            <p:spPr>
              <a:xfrm rot="11237400">
                <a:off x="2069640" y="5077800"/>
                <a:ext cx="1184040" cy="2764440"/>
              </a:xfrm>
              <a:custGeom>
                <a:avLst/>
                <a:gdLst>
                  <a:gd name="textAreaLeft" fmla="*/ 0 w 1184040"/>
                  <a:gd name="textAreaRight" fmla="*/ 1184400 w 1184040"/>
                  <a:gd name="textAreaTop" fmla="*/ 0 h 2764440"/>
                  <a:gd name="textAreaBottom" fmla="*/ 2764440 h 27644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40" name="Freeform 61"/>
              <p:cNvSpPr/>
              <p:nvPr/>
            </p:nvSpPr>
            <p:spPr>
              <a:xfrm rot="11237400">
                <a:off x="2199960" y="5006520"/>
                <a:ext cx="298800" cy="537120"/>
              </a:xfrm>
              <a:custGeom>
                <a:avLst/>
                <a:gdLst>
                  <a:gd name="textAreaLeft" fmla="*/ 0 w 298800"/>
                  <a:gd name="textAreaRight" fmla="*/ 298800 w 298800"/>
                  <a:gd name="textAreaTop" fmla="*/ 0 h 537120"/>
                  <a:gd name="textAreaBottom" fmla="*/ 537480 h 5371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41" name="Freeform 62"/>
              <p:cNvSpPr/>
              <p:nvPr/>
            </p:nvSpPr>
            <p:spPr>
              <a:xfrm rot="11237400">
                <a:off x="2226240" y="5010480"/>
                <a:ext cx="114120" cy="2041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442" name="Group 63"/>
              <p:cNvGrpSpPr/>
              <p:nvPr/>
            </p:nvGrpSpPr>
            <p:grpSpPr>
              <a:xfrm>
                <a:off x="1959840" y="4992840"/>
                <a:ext cx="1553760" cy="2886120"/>
                <a:chOff x="1959840" y="4992840"/>
                <a:chExt cx="1553760" cy="2886120"/>
              </a:xfrm>
            </p:grpSpPr>
            <p:sp>
              <p:nvSpPr>
                <p:cNvPr id="1443" name="Freeform 64"/>
                <p:cNvSpPr/>
                <p:nvPr/>
              </p:nvSpPr>
              <p:spPr>
                <a:xfrm rot="11237400">
                  <a:off x="2102040" y="5512680"/>
                  <a:ext cx="1033920" cy="2309760"/>
                </a:xfrm>
                <a:custGeom>
                  <a:avLst/>
                  <a:gdLst>
                    <a:gd name="textAreaLeft" fmla="*/ 0 w 1033920"/>
                    <a:gd name="textAreaRight" fmla="*/ 1034280 w 1033920"/>
                    <a:gd name="textAreaTop" fmla="*/ 0 h 2309760"/>
                    <a:gd name="textAreaBottom" fmla="*/ 2309760 h 2309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444" name="Group 65"/>
                <p:cNvGrpSpPr/>
                <p:nvPr/>
              </p:nvGrpSpPr>
              <p:grpSpPr>
                <a:xfrm>
                  <a:off x="2643840" y="4992840"/>
                  <a:ext cx="869760" cy="2693520"/>
                  <a:chOff x="2643840" y="4992840"/>
                  <a:chExt cx="869760" cy="2693520"/>
                </a:xfrm>
              </p:grpSpPr>
              <p:sp>
                <p:nvSpPr>
                  <p:cNvPr id="1445" name="Freeform 66"/>
                  <p:cNvSpPr/>
                  <p:nvPr/>
                </p:nvSpPr>
                <p:spPr>
                  <a:xfrm rot="11237400">
                    <a:off x="3015000" y="5003280"/>
                    <a:ext cx="333360" cy="262512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625120"/>
                      <a:gd name="textAreaBottom" fmla="*/ 2625480 h 26251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46" name="Oval 67"/>
                  <p:cNvSpPr/>
                  <p:nvPr/>
                </p:nvSpPr>
                <p:spPr>
                  <a:xfrm rot="11237400">
                    <a:off x="2666520" y="7278120"/>
                    <a:ext cx="399240" cy="384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1447" name="Oval 68"/>
          <p:cNvSpPr/>
          <p:nvPr/>
        </p:nvSpPr>
        <p:spPr>
          <a:xfrm flipV="1">
            <a:off x="3544920" y="494172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8" name="Oval 69"/>
          <p:cNvSpPr/>
          <p:nvPr/>
        </p:nvSpPr>
        <p:spPr>
          <a:xfrm flipV="1">
            <a:off x="3260880" y="4006800"/>
            <a:ext cx="7272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9" name="Oval 70"/>
          <p:cNvSpPr/>
          <p:nvPr/>
        </p:nvSpPr>
        <p:spPr>
          <a:xfrm>
            <a:off x="2050920" y="4797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50" name="Picture 73" descr="gr30"/>
          <p:cNvPicPr/>
          <p:nvPr/>
        </p:nvPicPr>
        <p:blipFill>
          <a:blip r:embed="rId1"/>
          <a:stretch/>
        </p:blipFill>
        <p:spPr>
          <a:xfrm flipH="1" rot="20410800">
            <a:off x="1979280" y="3914280"/>
            <a:ext cx="408132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231" dur="2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265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480000">
                                      <p:cBhvr>
                                        <p:cTn id="293" dur="2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Freeform 2"/>
          <p:cNvSpPr/>
          <p:nvPr/>
        </p:nvSpPr>
        <p:spPr>
          <a:xfrm>
            <a:off x="1332000" y="4738680"/>
            <a:ext cx="2468520" cy="800280"/>
          </a:xfrm>
          <a:custGeom>
            <a:avLst/>
            <a:gdLst>
              <a:gd name="textAreaLeft" fmla="*/ 0 w 2468520"/>
              <a:gd name="textAreaRight" fmla="*/ 2468880 w 24685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555" h="504">
                <a:moveTo>
                  <a:pt x="0" y="445"/>
                </a:moveTo>
                <a:lnTo>
                  <a:pt x="1555" y="0"/>
                </a:lnTo>
                <a:lnTo>
                  <a:pt x="910" y="504"/>
                </a:lnTo>
                <a:lnTo>
                  <a:pt x="0" y="44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2" name="Freeform 3"/>
          <p:cNvSpPr/>
          <p:nvPr/>
        </p:nvSpPr>
        <p:spPr>
          <a:xfrm>
            <a:off x="1332000" y="4610160"/>
            <a:ext cx="2454120" cy="834840"/>
          </a:xfrm>
          <a:custGeom>
            <a:avLst/>
            <a:gdLst>
              <a:gd name="textAreaLeft" fmla="*/ 0 w 2454120"/>
              <a:gd name="textAreaRight" fmla="*/ 2454480 w 2454120"/>
              <a:gd name="textAreaTop" fmla="*/ 0 h 834840"/>
              <a:gd name="textAreaBottom" fmla="*/ 835200 h 834840"/>
            </a:gdLst>
            <a:ahLst/>
            <a:rect l="textAreaLeft" t="textAreaTop" r="textAreaRight" b="textAreaBottom"/>
            <a:pathLst>
              <a:path w="1546" h="526">
                <a:moveTo>
                  <a:pt x="0" y="526"/>
                </a:moveTo>
                <a:lnTo>
                  <a:pt x="748" y="0"/>
                </a:lnTo>
                <a:lnTo>
                  <a:pt x="1546" y="72"/>
                </a:lnTo>
                <a:lnTo>
                  <a:pt x="0" y="52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3" name="Freeform 9"/>
          <p:cNvSpPr/>
          <p:nvPr/>
        </p:nvSpPr>
        <p:spPr>
          <a:xfrm>
            <a:off x="2500200" y="4610160"/>
            <a:ext cx="1309680" cy="93348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825" h="588">
                <a:moveTo>
                  <a:pt x="0" y="0"/>
                </a:moveTo>
                <a:lnTo>
                  <a:pt x="825" y="72"/>
                </a:lnTo>
                <a:lnTo>
                  <a:pt x="171" y="588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4" name="Arc 10"/>
          <p:cNvSpPr/>
          <p:nvPr/>
        </p:nvSpPr>
        <p:spPr>
          <a:xfrm>
            <a:off x="1441440" y="4308480"/>
            <a:ext cx="1333440" cy="170964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709640"/>
              <a:gd name="textAreaBottom" fmla="*/ 1710000 h 1709640"/>
            </a:gdLst>
            <a:ahLst/>
            <a:rect l="textAreaLeft" t="textAreaTop" r="textAreaRight" b="textAreaBottom"/>
            <a:pathLst>
              <a:path fill="none" w="21600" h="29293">
                <a:moveTo>
                  <a:pt x="10986" y="0"/>
                </a:moveTo>
                <a:cubicBezTo>
                  <a:pt x="17564" y="3885"/>
                  <a:pt x="21600" y="10957"/>
                  <a:pt x="21600" y="18597"/>
                </a:cubicBezTo>
                <a:cubicBezTo>
                  <a:pt x="21600" y="22347"/>
                  <a:pt x="20623" y="26034"/>
                  <a:pt x="18765" y="29292"/>
                </a:cubicBezTo>
              </a:path>
              <a:path stroke="0" w="21600" h="29293">
                <a:moveTo>
                  <a:pt x="10986" y="0"/>
                </a:moveTo>
                <a:cubicBezTo>
                  <a:pt x="17564" y="3885"/>
                  <a:pt x="21600" y="10957"/>
                  <a:pt x="21600" y="18597"/>
                </a:cubicBezTo>
                <a:cubicBezTo>
                  <a:pt x="21600" y="22347"/>
                  <a:pt x="20623" y="26034"/>
                  <a:pt x="18765" y="29292"/>
                </a:cubicBezTo>
                <a:lnTo>
                  <a:pt x="0" y="18597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5" name="Line 11"/>
          <p:cNvSpPr/>
          <p:nvPr/>
        </p:nvSpPr>
        <p:spPr>
          <a:xfrm flipH="1">
            <a:off x="1332000" y="3554280"/>
            <a:ext cx="2735280" cy="18734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6" name="Line 12"/>
          <p:cNvSpPr/>
          <p:nvPr/>
        </p:nvSpPr>
        <p:spPr>
          <a:xfrm>
            <a:off x="1332000" y="5427720"/>
            <a:ext cx="3887640" cy="30636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7" name="Arc 13"/>
          <p:cNvSpPr/>
          <p:nvPr/>
        </p:nvSpPr>
        <p:spPr>
          <a:xfrm>
            <a:off x="2454120" y="4206960"/>
            <a:ext cx="1333800" cy="1123920"/>
          </a:xfrm>
          <a:custGeom>
            <a:avLst/>
            <a:gdLst>
              <a:gd name="textAreaLeft" fmla="*/ 0 w 1333800"/>
              <a:gd name="textAreaRight" fmla="*/ 1334160 w 13338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fill="none" w="21600" h="19253">
                <a:moveTo>
                  <a:pt x="20059" y="-1"/>
                </a:moveTo>
                <a:cubicBezTo>
                  <a:pt x="21077" y="2548"/>
                  <a:pt x="21600" y="5267"/>
                  <a:pt x="21600" y="8012"/>
                </a:cubicBezTo>
                <a:cubicBezTo>
                  <a:pt x="21600" y="11977"/>
                  <a:pt x="20508" y="15866"/>
                  <a:pt x="18444" y="19253"/>
                </a:cubicBezTo>
              </a:path>
              <a:path stroke="0" w="21600" h="19253">
                <a:moveTo>
                  <a:pt x="20059" y="-1"/>
                </a:moveTo>
                <a:cubicBezTo>
                  <a:pt x="21077" y="2548"/>
                  <a:pt x="21600" y="5267"/>
                  <a:pt x="21600" y="8012"/>
                </a:cubicBezTo>
                <a:cubicBezTo>
                  <a:pt x="21600" y="11977"/>
                  <a:pt x="20508" y="15866"/>
                  <a:pt x="18444" y="19253"/>
                </a:cubicBezTo>
                <a:lnTo>
                  <a:pt x="0" y="8012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8" name="Arc 14"/>
          <p:cNvSpPr/>
          <p:nvPr/>
        </p:nvSpPr>
        <p:spPr>
          <a:xfrm rot="201000">
            <a:off x="2719080" y="4420800"/>
            <a:ext cx="1333440" cy="107316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073160"/>
              <a:gd name="textAreaBottom" fmla="*/ 1073160 h 1073160"/>
            </a:gdLst>
            <a:ahLst/>
            <a:rect l="textAreaLeft" t="textAreaTop" r="textAreaRight" b="textAreaBottom"/>
            <a:pathLst>
              <a:path fill="none" w="21600" h="18366">
                <a:moveTo>
                  <a:pt x="12130" y="-1"/>
                </a:moveTo>
                <a:cubicBezTo>
                  <a:pt x="18053" y="4019"/>
                  <a:pt x="21600" y="10713"/>
                  <a:pt x="21600" y="17872"/>
                </a:cubicBezTo>
                <a:cubicBezTo>
                  <a:pt x="21600" y="18036"/>
                  <a:pt x="21598" y="18201"/>
                  <a:pt x="21594" y="18366"/>
                </a:cubicBezTo>
              </a:path>
              <a:path stroke="0" w="21600" h="18366">
                <a:moveTo>
                  <a:pt x="12130" y="-1"/>
                </a:moveTo>
                <a:cubicBezTo>
                  <a:pt x="18053" y="4019"/>
                  <a:pt x="21600" y="10713"/>
                  <a:pt x="21600" y="17872"/>
                </a:cubicBezTo>
                <a:cubicBezTo>
                  <a:pt x="21600" y="18036"/>
                  <a:pt x="21598" y="18201"/>
                  <a:pt x="21594" y="18366"/>
                </a:cubicBezTo>
                <a:lnTo>
                  <a:pt x="0" y="17872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9" name="Oval 15"/>
          <p:cNvSpPr/>
          <p:nvPr/>
        </p:nvSpPr>
        <p:spPr>
          <a:xfrm flipV="1">
            <a:off x="2463840" y="4583160"/>
            <a:ext cx="730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0" name="Oval 16"/>
          <p:cNvSpPr/>
          <p:nvPr/>
        </p:nvSpPr>
        <p:spPr>
          <a:xfrm flipV="1">
            <a:off x="2728800" y="550404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1" name="Line 17"/>
          <p:cNvSpPr/>
          <p:nvPr/>
        </p:nvSpPr>
        <p:spPr>
          <a:xfrm flipV="1">
            <a:off x="1332000" y="4365720"/>
            <a:ext cx="3816360" cy="1062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2" name="Oval 18"/>
          <p:cNvSpPr/>
          <p:nvPr/>
        </p:nvSpPr>
        <p:spPr>
          <a:xfrm>
            <a:off x="1306440" y="5384880"/>
            <a:ext cx="7308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3" name="Oval 19"/>
          <p:cNvSpPr/>
          <p:nvPr/>
        </p:nvSpPr>
        <p:spPr>
          <a:xfrm>
            <a:off x="3770280" y="4697280"/>
            <a:ext cx="7164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4" name="Text Box 20"/>
          <p:cNvSpPr/>
          <p:nvPr/>
        </p:nvSpPr>
        <p:spPr>
          <a:xfrm>
            <a:off x="-78480" y="328680"/>
            <a:ext cx="6728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Докажем, что луч АВ – биссектриса      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 Л А 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ое построени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кажем равенство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угольников ∆ АСВ и ∆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4045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4045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4045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вод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5" name="Object 21"/>
              <p:cNvSpPr txBox="1"/>
              <p:nvPr/>
            </p:nvSpPr>
            <p:spPr>
              <a:xfrm>
                <a:off x="5651640" y="333360"/>
                <a:ext cx="360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6" name="Text Box 22"/>
          <p:cNvSpPr/>
          <p:nvPr/>
        </p:nvSpPr>
        <p:spPr>
          <a:xfrm>
            <a:off x="685800" y="5226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7" name="Text Box 23"/>
          <p:cNvSpPr/>
          <p:nvPr/>
        </p:nvSpPr>
        <p:spPr>
          <a:xfrm>
            <a:off x="3925800" y="4146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8" name="Text Box 24"/>
          <p:cNvSpPr/>
          <p:nvPr/>
        </p:nvSpPr>
        <p:spPr>
          <a:xfrm>
            <a:off x="2268360" y="3930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9" name="Text Box 25"/>
          <p:cNvSpPr/>
          <p:nvPr/>
        </p:nvSpPr>
        <p:spPr>
          <a:xfrm>
            <a:off x="2701800" y="5586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  <a:ea typeface="Arial"/>
              </a:rPr>
              <a:t>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0" name="Text Box 28"/>
          <p:cNvSpPr/>
          <p:nvPr/>
        </p:nvSpPr>
        <p:spPr>
          <a:xfrm>
            <a:off x="610200" y="2241720"/>
            <a:ext cx="61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5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АС=А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, как радиусы одной окруж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4045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СВ=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DB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, как радиусы одной окруж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4045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АВ – общая сторо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1" name="Text Box 30"/>
          <p:cNvSpPr/>
          <p:nvPr/>
        </p:nvSpPr>
        <p:spPr>
          <a:xfrm>
            <a:off x="4356000" y="3068640"/>
            <a:ext cx="47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∆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АСВ = ∆ А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В, по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III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признаку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равенства треугольников                                 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2" name="Object 34"/>
              <p:cNvSpPr txBox="1"/>
              <p:nvPr/>
            </p:nvSpPr>
            <p:spPr>
              <a:xfrm>
                <a:off x="5219640" y="4365720"/>
                <a:ext cx="3637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СА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D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3" name="Text Box 36"/>
          <p:cNvSpPr/>
          <p:nvPr/>
        </p:nvSpPr>
        <p:spPr>
          <a:xfrm>
            <a:off x="5292720" y="5445000"/>
            <a:ext cx="33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Луч АВ – биссектриса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4" name="Freeform 37"/>
          <p:cNvSpPr/>
          <p:nvPr/>
        </p:nvSpPr>
        <p:spPr>
          <a:xfrm>
            <a:off x="1979640" y="4869000"/>
            <a:ext cx="117360" cy="155520"/>
          </a:xfrm>
          <a:custGeom>
            <a:avLst/>
            <a:gdLst>
              <a:gd name="textAreaLeft" fmla="*/ 0 w 117360"/>
              <a:gd name="textAreaRight" fmla="*/ 117720 w 1173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74" h="98">
                <a:moveTo>
                  <a:pt x="0" y="0"/>
                </a:moveTo>
                <a:lnTo>
                  <a:pt x="74" y="98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5" name="Freeform 38"/>
          <p:cNvSpPr/>
          <p:nvPr/>
        </p:nvSpPr>
        <p:spPr>
          <a:xfrm>
            <a:off x="3059280" y="4508640"/>
            <a:ext cx="52200" cy="231480"/>
          </a:xfrm>
          <a:custGeom>
            <a:avLst/>
            <a:gdLst>
              <a:gd name="textAreaLeft" fmla="*/ 0 w 52200"/>
              <a:gd name="textAreaRight" fmla="*/ 52560 w 522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33" h="146">
                <a:moveTo>
                  <a:pt x="33" y="0"/>
                </a:moveTo>
                <a:lnTo>
                  <a:pt x="0" y="146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6" name="Freeform 39"/>
          <p:cNvSpPr/>
          <p:nvPr/>
        </p:nvSpPr>
        <p:spPr>
          <a:xfrm>
            <a:off x="2124000" y="5373720"/>
            <a:ext cx="47880" cy="218880"/>
          </a:xfrm>
          <a:custGeom>
            <a:avLst/>
            <a:gdLst>
              <a:gd name="textAreaLeft" fmla="*/ 0 w 47880"/>
              <a:gd name="textAreaRight" fmla="*/ 48240 w 478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30" h="138">
                <a:moveTo>
                  <a:pt x="30" y="0"/>
                </a:moveTo>
                <a:lnTo>
                  <a:pt x="0" y="138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7" name="Freeform 40"/>
          <p:cNvSpPr/>
          <p:nvPr/>
        </p:nvSpPr>
        <p:spPr>
          <a:xfrm>
            <a:off x="3203640" y="5084640"/>
            <a:ext cx="122040" cy="176400"/>
          </a:xfrm>
          <a:custGeom>
            <a:avLst/>
            <a:gdLst>
              <a:gd name="textAreaLeft" fmla="*/ 0 w 122040"/>
              <a:gd name="textAreaRight" fmla="*/ 122400 w 122040"/>
              <a:gd name="textAreaTop" fmla="*/ 0 h 176400"/>
              <a:gd name="textAreaBottom" fmla="*/ 176400 h 176400"/>
            </a:gdLst>
            <a:ahLst/>
            <a:rect l="textAreaLeft" t="textAreaTop" r="textAreaRight" b="textAreaBottom"/>
            <a:pathLst>
              <a:path w="77" h="111">
                <a:moveTo>
                  <a:pt x="0" y="0"/>
                </a:moveTo>
                <a:lnTo>
                  <a:pt x="77" y="11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8" name="Freeform 41"/>
          <p:cNvSpPr/>
          <p:nvPr/>
        </p:nvSpPr>
        <p:spPr>
          <a:xfrm>
            <a:off x="2406600" y="4959360"/>
            <a:ext cx="336600" cy="254160"/>
          </a:xfrm>
          <a:custGeom>
            <a:avLst/>
            <a:gdLst>
              <a:gd name="textAreaLeft" fmla="*/ 0 w 336600"/>
              <a:gd name="textAreaRight" fmla="*/ 336960 w 336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2" h="160">
                <a:moveTo>
                  <a:pt x="0" y="160"/>
                </a:moveTo>
                <a:cubicBezTo>
                  <a:pt x="8" y="143"/>
                  <a:pt x="18" y="65"/>
                  <a:pt x="48" y="56"/>
                </a:cubicBezTo>
                <a:cubicBezTo>
                  <a:pt x="78" y="47"/>
                  <a:pt x="153" y="113"/>
                  <a:pt x="180" y="104"/>
                </a:cubicBezTo>
                <a:cubicBezTo>
                  <a:pt x="207" y="95"/>
                  <a:pt x="205" y="22"/>
                  <a:pt x="212" y="0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79" name="Group 44"/>
          <p:cNvGrpSpPr/>
          <p:nvPr/>
        </p:nvGrpSpPr>
        <p:grpSpPr>
          <a:xfrm>
            <a:off x="1724040" y="5157720"/>
            <a:ext cx="183960" cy="314280"/>
            <a:chOff x="1724040" y="5157720"/>
            <a:chExt cx="183960" cy="314280"/>
          </a:xfrm>
        </p:grpSpPr>
        <p:sp>
          <p:nvSpPr>
            <p:cNvPr id="1480" name="Freeform 7"/>
            <p:cNvSpPr/>
            <p:nvPr/>
          </p:nvSpPr>
          <p:spPr>
            <a:xfrm>
              <a:off x="1724040" y="5157720"/>
              <a:ext cx="142920" cy="1429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0" h="90">
                  <a:moveTo>
                    <a:pt x="0" y="0"/>
                  </a:moveTo>
                  <a:cubicBezTo>
                    <a:pt x="10" y="4"/>
                    <a:pt x="43" y="8"/>
                    <a:pt x="58" y="23"/>
                  </a:cubicBezTo>
                  <a:cubicBezTo>
                    <a:pt x="73" y="38"/>
                    <a:pt x="83" y="76"/>
                    <a:pt x="90" y="9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81" name="Freeform 8"/>
            <p:cNvSpPr/>
            <p:nvPr/>
          </p:nvSpPr>
          <p:spPr>
            <a:xfrm>
              <a:off x="1857240" y="5270400"/>
              <a:ext cx="50760" cy="201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2" h="127">
                  <a:moveTo>
                    <a:pt x="0" y="0"/>
                  </a:moveTo>
                  <a:cubicBezTo>
                    <a:pt x="5" y="11"/>
                    <a:pt x="28" y="47"/>
                    <a:pt x="30" y="68"/>
                  </a:cubicBezTo>
                  <a:cubicBezTo>
                    <a:pt x="32" y="89"/>
                    <a:pt x="15" y="115"/>
                    <a:pt x="11" y="1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0"/>
                            </p:stCondLst>
                            <p:childTnLst>
                              <p:par>
                                <p:cTn id="46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2" name="Group 3"/>
          <p:cNvGrpSpPr/>
          <p:nvPr/>
        </p:nvGrpSpPr>
        <p:grpSpPr>
          <a:xfrm>
            <a:off x="3087360" y="656640"/>
            <a:ext cx="2851560" cy="3070080"/>
            <a:chOff x="3087360" y="656640"/>
            <a:chExt cx="2851560" cy="3070080"/>
          </a:xfrm>
        </p:grpSpPr>
        <p:sp>
          <p:nvSpPr>
            <p:cNvPr id="1483" name="Freeform 4"/>
            <p:cNvSpPr/>
            <p:nvPr/>
          </p:nvSpPr>
          <p:spPr>
            <a:xfrm rot="21001200">
              <a:off x="4389120" y="744480"/>
              <a:ext cx="1270080" cy="289404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0 h 2894040"/>
                <a:gd name="textAreaBottom" fmla="*/ 289440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484" name="Group 5"/>
            <p:cNvGrpSpPr/>
            <p:nvPr/>
          </p:nvGrpSpPr>
          <p:grpSpPr>
            <a:xfrm>
              <a:off x="3087360" y="683640"/>
              <a:ext cx="2851560" cy="2999160"/>
              <a:chOff x="3087360" y="683640"/>
              <a:chExt cx="2851560" cy="2999160"/>
            </a:xfrm>
          </p:grpSpPr>
          <p:grpSp>
            <p:nvGrpSpPr>
              <p:cNvPr id="1485" name="Group 6"/>
              <p:cNvGrpSpPr/>
              <p:nvPr/>
            </p:nvGrpSpPr>
            <p:grpSpPr>
              <a:xfrm>
                <a:off x="5533200" y="2985840"/>
                <a:ext cx="405720" cy="544680"/>
                <a:chOff x="5533200" y="2985840"/>
                <a:chExt cx="405720" cy="544680"/>
              </a:xfrm>
            </p:grpSpPr>
            <p:sp>
              <p:nvSpPr>
                <p:cNvPr id="1486" name="Freeform 7"/>
                <p:cNvSpPr/>
                <p:nvPr/>
              </p:nvSpPr>
              <p:spPr>
                <a:xfrm>
                  <a:off x="5533200" y="2985840"/>
                  <a:ext cx="405720" cy="538200"/>
                </a:xfrm>
                <a:custGeom>
                  <a:avLst/>
                  <a:gdLst>
                    <a:gd name="textAreaLeft" fmla="*/ 0 w 405720"/>
                    <a:gd name="textAreaRight" fmla="*/ 406080 w 40572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7" name="Freeform 8"/>
                <p:cNvSpPr/>
                <p:nvPr/>
              </p:nvSpPr>
              <p:spPr>
                <a:xfrm>
                  <a:off x="5751720" y="3282840"/>
                  <a:ext cx="185400" cy="24768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88" name="Group 9"/>
              <p:cNvGrpSpPr/>
              <p:nvPr/>
            </p:nvGrpSpPr>
            <p:grpSpPr>
              <a:xfrm>
                <a:off x="3087360" y="683640"/>
                <a:ext cx="2667960" cy="2999160"/>
                <a:chOff x="3087360" y="683640"/>
                <a:chExt cx="2667960" cy="2999160"/>
              </a:xfrm>
            </p:grpSpPr>
            <p:sp>
              <p:nvSpPr>
                <p:cNvPr id="1489" name="Freeform 10"/>
                <p:cNvSpPr/>
                <p:nvPr/>
              </p:nvSpPr>
              <p:spPr>
                <a:xfrm rot="21001200">
                  <a:off x="4443480" y="761400"/>
                  <a:ext cx="1110600" cy="2417760"/>
                </a:xfrm>
                <a:custGeom>
                  <a:avLst/>
                  <a:gdLst>
                    <a:gd name="textAreaLeft" fmla="*/ 0 w 1110600"/>
                    <a:gd name="textAreaRight" fmla="*/ 1110960 w 1110600"/>
                    <a:gd name="textAreaTop" fmla="*/ 0 h 2417760"/>
                    <a:gd name="textAreaBottom" fmla="*/ 241812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490" name="Group 11"/>
                <p:cNvGrpSpPr/>
                <p:nvPr/>
              </p:nvGrpSpPr>
              <p:grpSpPr>
                <a:xfrm>
                  <a:off x="3087360" y="1023480"/>
                  <a:ext cx="1699920" cy="2659320"/>
                  <a:chOff x="3087360" y="1023480"/>
                  <a:chExt cx="1699920" cy="2659320"/>
                </a:xfrm>
              </p:grpSpPr>
              <p:sp>
                <p:nvSpPr>
                  <p:cNvPr id="1491" name="Freeform 12"/>
                  <p:cNvSpPr/>
                  <p:nvPr/>
                </p:nvSpPr>
                <p:spPr>
                  <a:xfrm rot="1453200">
                    <a:off x="3634920" y="982080"/>
                    <a:ext cx="357840" cy="274788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0 h 2747880"/>
                      <a:gd name="textAreaBottom" fmla="*/ 2748240 h 274788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92" name="Oval 13"/>
                  <p:cNvSpPr/>
                  <p:nvPr/>
                </p:nvSpPr>
                <p:spPr>
                  <a:xfrm rot="1453200">
                    <a:off x="4294440" y="1093680"/>
                    <a:ext cx="42912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1493" name="Group 14"/>
          <p:cNvGrpSpPr/>
          <p:nvPr/>
        </p:nvGrpSpPr>
        <p:grpSpPr>
          <a:xfrm>
            <a:off x="4428720" y="404640"/>
            <a:ext cx="418320" cy="5571360"/>
            <a:chOff x="4428720" y="404640"/>
            <a:chExt cx="418320" cy="5571360"/>
          </a:xfrm>
        </p:grpSpPr>
        <p:sp>
          <p:nvSpPr>
            <p:cNvPr id="1494" name="Text Box 15"/>
            <p:cNvSpPr/>
            <p:nvPr/>
          </p:nvSpPr>
          <p:spPr>
            <a:xfrm>
              <a:off x="4428720" y="5516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95" name="Text Box 16"/>
            <p:cNvSpPr/>
            <p:nvPr/>
          </p:nvSpPr>
          <p:spPr>
            <a:xfrm>
              <a:off x="4473720" y="404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96" name="Arc 17"/>
          <p:cNvSpPr/>
          <p:nvPr/>
        </p:nvSpPr>
        <p:spPr>
          <a:xfrm rot="20740200">
            <a:off x="3171600" y="556920"/>
            <a:ext cx="2746080" cy="5418000"/>
          </a:xfrm>
          <a:custGeom>
            <a:avLst/>
            <a:gdLst>
              <a:gd name="textAreaLeft" fmla="*/ 0 w 2746080"/>
              <a:gd name="textAreaRight" fmla="*/ 2746440 w 2746080"/>
              <a:gd name="textAreaTop" fmla="*/ 0 h 5418000"/>
              <a:gd name="textAreaBottom" fmla="*/ 5418360 h 5418000"/>
            </a:gdLst>
            <a:ahLst/>
            <a:rect l="textAreaLeft" t="textAreaTop" r="textAreaRight" b="textAreaBottom"/>
            <a:pathLst>
              <a:path fill="none" w="22069" h="41179">
                <a:moveTo>
                  <a:pt x="9591" y="-1"/>
                </a:moveTo>
                <a:cubicBezTo>
                  <a:pt x="17202" y="3545"/>
                  <a:pt x="22069" y="11181"/>
                  <a:pt x="22069" y="19579"/>
                </a:cubicBezTo>
                <a:cubicBezTo>
                  <a:pt x="22069" y="31508"/>
                  <a:pt x="12398" y="41179"/>
                  <a:pt x="469" y="41179"/>
                </a:cubicBezTo>
                <a:cubicBezTo>
                  <a:pt x="312" y="41179"/>
                  <a:pt x="156" y="41177"/>
                  <a:pt x="0" y="41173"/>
                </a:cubicBezTo>
              </a:path>
              <a:path stroke="0" w="22069" h="41179">
                <a:moveTo>
                  <a:pt x="9591" y="-1"/>
                </a:moveTo>
                <a:cubicBezTo>
                  <a:pt x="17202" y="3545"/>
                  <a:pt x="22069" y="11181"/>
                  <a:pt x="22069" y="19579"/>
                </a:cubicBezTo>
                <a:cubicBezTo>
                  <a:pt x="22069" y="31508"/>
                  <a:pt x="12398" y="41179"/>
                  <a:pt x="469" y="41179"/>
                </a:cubicBezTo>
                <a:cubicBezTo>
                  <a:pt x="312" y="41179"/>
                  <a:pt x="156" y="41177"/>
                  <a:pt x="0" y="41173"/>
                </a:cubicBezTo>
                <a:lnTo>
                  <a:pt x="469" y="19579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7" name="Arc 18"/>
          <p:cNvSpPr/>
          <p:nvPr/>
        </p:nvSpPr>
        <p:spPr>
          <a:xfrm flipH="1" rot="859800">
            <a:off x="3153600" y="500040"/>
            <a:ext cx="2808360" cy="5513760"/>
          </a:xfrm>
          <a:custGeom>
            <a:avLst/>
            <a:gdLst>
              <a:gd name="textAreaLeft" fmla="*/ -360 w 2808360"/>
              <a:gd name="textAreaRight" fmla="*/ 2808360 w 2808360"/>
              <a:gd name="textAreaTop" fmla="*/ 0 h 5513760"/>
              <a:gd name="textAreaBottom" fmla="*/ 5514120 h 5513760"/>
            </a:gdLst>
            <a:ahLst/>
            <a:rect l="textAreaLeft" t="textAreaTop" r="textAreaRight" b="textAreaBottom"/>
            <a:pathLst>
              <a:path fill="none" w="21600" h="40873">
                <a:moveTo>
                  <a:pt x="9570" y="0"/>
                </a:moveTo>
                <a:cubicBezTo>
                  <a:pt x="16937" y="3641"/>
                  <a:pt x="21600" y="11146"/>
                  <a:pt x="21600" y="19364"/>
                </a:cubicBezTo>
                <a:cubicBezTo>
                  <a:pt x="21600" y="30525"/>
                  <a:pt x="13095" y="-25687"/>
                  <a:pt x="1980" y="-24664"/>
                </a:cubicBezTo>
              </a:path>
              <a:path stroke="0" w="21600" h="40873">
                <a:moveTo>
                  <a:pt x="9570" y="0"/>
                </a:moveTo>
                <a:cubicBezTo>
                  <a:pt x="16937" y="3641"/>
                  <a:pt x="21600" y="11146"/>
                  <a:pt x="21600" y="19364"/>
                </a:cubicBezTo>
                <a:cubicBezTo>
                  <a:pt x="21600" y="30525"/>
                  <a:pt x="13095" y="-25687"/>
                  <a:pt x="1980" y="-24664"/>
                </a:cubicBezTo>
                <a:lnTo>
                  <a:pt x="0" y="19364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8" name="Oval 19"/>
          <p:cNvSpPr/>
          <p:nvPr/>
        </p:nvSpPr>
        <p:spPr>
          <a:xfrm>
            <a:off x="4500720" y="5950080"/>
            <a:ext cx="698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9" name="Oval 20"/>
          <p:cNvSpPr/>
          <p:nvPr/>
        </p:nvSpPr>
        <p:spPr>
          <a:xfrm>
            <a:off x="4491000" y="96192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0" name="Text Box 22"/>
          <p:cNvSpPr/>
          <p:nvPr/>
        </p:nvSpPr>
        <p:spPr>
          <a:xfrm>
            <a:off x="601344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1" name="Text Box 23"/>
          <p:cNvSpPr/>
          <p:nvPr/>
        </p:nvSpPr>
        <p:spPr>
          <a:xfrm>
            <a:off x="2557440" y="364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2" name="Freeform 24"/>
          <p:cNvSpPr/>
          <p:nvPr/>
        </p:nvSpPr>
        <p:spPr>
          <a:xfrm>
            <a:off x="1333440" y="3517920"/>
            <a:ext cx="6400800" cy="144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032" h="1">
                <a:moveTo>
                  <a:pt x="0" y="0"/>
                </a:moveTo>
                <a:lnTo>
                  <a:pt x="4032" y="0"/>
                </a:lnTo>
              </a:path>
            </a:pathLst>
          </a:custGeom>
          <a:noFill/>
          <a:ln w="381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03" name="Group 25"/>
          <p:cNvGrpSpPr/>
          <p:nvPr/>
        </p:nvGrpSpPr>
        <p:grpSpPr>
          <a:xfrm>
            <a:off x="4068720" y="3429000"/>
            <a:ext cx="503280" cy="581400"/>
            <a:chOff x="4068720" y="3429000"/>
            <a:chExt cx="503280" cy="581400"/>
          </a:xfrm>
        </p:grpSpPr>
        <p:sp>
          <p:nvSpPr>
            <p:cNvPr id="1504" name="Text Box 26"/>
            <p:cNvSpPr/>
            <p:nvPr/>
          </p:nvSpPr>
          <p:spPr>
            <a:xfrm>
              <a:off x="4068720" y="342900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05" name="Oval 27"/>
            <p:cNvSpPr/>
            <p:nvPr/>
          </p:nvSpPr>
          <p:spPr>
            <a:xfrm>
              <a:off x="4502160" y="3500280"/>
              <a:ext cx="69840" cy="71640"/>
            </a:xfrm>
            <a:prstGeom prst="ellipse">
              <a:avLst/>
            </a:prstGeom>
            <a:solidFill>
              <a:srgbClr val="0000cc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06" name="Group 28"/>
          <p:cNvGrpSpPr/>
          <p:nvPr/>
        </p:nvGrpSpPr>
        <p:grpSpPr>
          <a:xfrm>
            <a:off x="-129600" y="634680"/>
            <a:ext cx="6492240" cy="5662440"/>
            <a:chOff x="-129600" y="634680"/>
            <a:chExt cx="6492240" cy="5662440"/>
          </a:xfrm>
        </p:grpSpPr>
        <p:sp>
          <p:nvSpPr>
            <p:cNvPr id="1507" name="Freeform 29"/>
            <p:cNvSpPr/>
            <p:nvPr/>
          </p:nvSpPr>
          <p:spPr>
            <a:xfrm flipH="1" flipV="1" rot="4206600">
              <a:off x="811800" y="319680"/>
              <a:ext cx="1270080" cy="2894040"/>
            </a:xfrm>
            <a:custGeom>
              <a:avLst/>
              <a:gdLst>
                <a:gd name="textAreaLeft" fmla="*/ 360 w 1270080"/>
                <a:gd name="textAreaRight" fmla="*/ 1270800 w 1270080"/>
                <a:gd name="textAreaTop" fmla="*/ -360 h 2894040"/>
                <a:gd name="textAreaBottom" fmla="*/ 289404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508" name="Group 30"/>
            <p:cNvGrpSpPr/>
            <p:nvPr/>
          </p:nvGrpSpPr>
          <p:grpSpPr>
            <a:xfrm>
              <a:off x="-91440" y="634680"/>
              <a:ext cx="3284280" cy="2806920"/>
              <a:chOff x="-91440" y="634680"/>
              <a:chExt cx="3284280" cy="2806920"/>
            </a:xfrm>
          </p:grpSpPr>
          <p:grpSp>
            <p:nvGrpSpPr>
              <p:cNvPr id="1509" name="Group 31"/>
              <p:cNvGrpSpPr/>
              <p:nvPr/>
            </p:nvGrpSpPr>
            <p:grpSpPr>
              <a:xfrm>
                <a:off x="2072160" y="634680"/>
                <a:ext cx="599760" cy="492120"/>
                <a:chOff x="2072160" y="634680"/>
                <a:chExt cx="599760" cy="492120"/>
              </a:xfrm>
            </p:grpSpPr>
            <p:sp>
              <p:nvSpPr>
                <p:cNvPr id="1510" name="Freeform 32"/>
                <p:cNvSpPr/>
                <p:nvPr/>
              </p:nvSpPr>
              <p:spPr>
                <a:xfrm flipH="1" flipV="1" rot="4804800">
                  <a:off x="2169000" y="611280"/>
                  <a:ext cx="405720" cy="537840"/>
                </a:xfrm>
                <a:custGeom>
                  <a:avLst/>
                  <a:gdLst>
                    <a:gd name="textAreaLeft" fmla="*/ -360 w 405720"/>
                    <a:gd name="textAreaRight" fmla="*/ 405720 w 405720"/>
                    <a:gd name="textAreaTop" fmla="*/ 360 h 537840"/>
                    <a:gd name="textAreaBottom" fmla="*/ 538560 h 53784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1" name="Freeform 33"/>
                <p:cNvSpPr/>
                <p:nvPr/>
              </p:nvSpPr>
              <p:spPr>
                <a:xfrm flipH="1" flipV="1" rot="4804800">
                  <a:off x="2409840" y="623880"/>
                  <a:ext cx="185400" cy="247680"/>
                </a:xfrm>
                <a:custGeom>
                  <a:avLst/>
                  <a:gdLst>
                    <a:gd name="textAreaLeft" fmla="*/ -360 w 185400"/>
                    <a:gd name="textAreaRight" fmla="*/ 185400 w 185400"/>
                    <a:gd name="textAreaTop" fmla="*/ 360 h 247680"/>
                    <a:gd name="textAreaBottom" fmla="*/ 24840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12" name="Group 34"/>
              <p:cNvGrpSpPr/>
              <p:nvPr/>
            </p:nvGrpSpPr>
            <p:grpSpPr>
              <a:xfrm>
                <a:off x="-91440" y="894600"/>
                <a:ext cx="3284280" cy="2547000"/>
                <a:chOff x="-91440" y="894600"/>
                <a:chExt cx="3284280" cy="2547000"/>
              </a:xfrm>
            </p:grpSpPr>
            <p:sp>
              <p:nvSpPr>
                <p:cNvPr id="1513" name="Freeform 35"/>
                <p:cNvSpPr/>
                <p:nvPr/>
              </p:nvSpPr>
              <p:spPr>
                <a:xfrm flipH="1" flipV="1" rot="4206000">
                  <a:off x="678960" y="618480"/>
                  <a:ext cx="1109880" cy="2417760"/>
                </a:xfrm>
                <a:custGeom>
                  <a:avLst/>
                  <a:gdLst>
                    <a:gd name="textAreaLeft" fmla="*/ -360 w 1109880"/>
                    <a:gd name="textAreaRight" fmla="*/ 1109880 w 1109880"/>
                    <a:gd name="textAreaTop" fmla="*/ 360 h 2417760"/>
                    <a:gd name="textAreaBottom" fmla="*/ 241848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514" name="Group 36"/>
                <p:cNvGrpSpPr/>
                <p:nvPr/>
              </p:nvGrpSpPr>
              <p:grpSpPr>
                <a:xfrm>
                  <a:off x="404640" y="2169000"/>
                  <a:ext cx="2788200" cy="1272600"/>
                  <a:chOff x="404640" y="2169000"/>
                  <a:chExt cx="2788200" cy="1272600"/>
                </a:xfrm>
              </p:grpSpPr>
              <p:sp>
                <p:nvSpPr>
                  <p:cNvPr id="1515" name="Freeform 37"/>
                  <p:cNvSpPr/>
                  <p:nvPr/>
                </p:nvSpPr>
                <p:spPr>
                  <a:xfrm flipH="1" flipV="1" rot="6258000">
                    <a:off x="1638000" y="1554480"/>
                    <a:ext cx="357840" cy="274752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360 h 2747520"/>
                      <a:gd name="textAreaBottom" fmla="*/ 2748240 h 27475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6" name="Oval 38"/>
                  <p:cNvSpPr/>
                  <p:nvPr/>
                </p:nvSpPr>
                <p:spPr>
                  <a:xfrm flipH="1" flipV="1" rot="6258000">
                    <a:off x="437760" y="2225160"/>
                    <a:ext cx="428760" cy="402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517" name="Group 39"/>
            <p:cNvGrpSpPr/>
            <p:nvPr/>
          </p:nvGrpSpPr>
          <p:grpSpPr>
            <a:xfrm>
              <a:off x="3039840" y="3489120"/>
              <a:ext cx="3322800" cy="2808000"/>
              <a:chOff x="3039840" y="3489120"/>
              <a:chExt cx="3322800" cy="2808000"/>
            </a:xfrm>
          </p:grpSpPr>
          <p:sp>
            <p:nvSpPr>
              <p:cNvPr id="1518" name="Freeform 40"/>
              <p:cNvSpPr/>
              <p:nvPr/>
            </p:nvSpPr>
            <p:spPr>
              <a:xfrm rot="4206000">
                <a:off x="4151160" y="3718800"/>
                <a:ext cx="1269360" cy="2894040"/>
              </a:xfrm>
              <a:custGeom>
                <a:avLst/>
                <a:gdLst>
                  <a:gd name="textAreaLeft" fmla="*/ 0 w 1269360"/>
                  <a:gd name="textAreaRight" fmla="*/ 1269720 w 1269360"/>
                  <a:gd name="textAreaTop" fmla="*/ 0 h 2894040"/>
                  <a:gd name="textAreaBottom" fmla="*/ 2894400 h 28940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519" name="Group 41"/>
              <p:cNvGrpSpPr/>
              <p:nvPr/>
            </p:nvGrpSpPr>
            <p:grpSpPr>
              <a:xfrm>
                <a:off x="3039840" y="3489120"/>
                <a:ext cx="3284640" cy="2808000"/>
                <a:chOff x="3039840" y="3489120"/>
                <a:chExt cx="3284640" cy="2808000"/>
              </a:xfrm>
            </p:grpSpPr>
            <p:grpSp>
              <p:nvGrpSpPr>
                <p:cNvPr id="1520" name="Group 42"/>
                <p:cNvGrpSpPr/>
                <p:nvPr/>
              </p:nvGrpSpPr>
              <p:grpSpPr>
                <a:xfrm>
                  <a:off x="3559680" y="5803560"/>
                  <a:ext cx="599760" cy="493560"/>
                  <a:chOff x="3559680" y="5803560"/>
                  <a:chExt cx="599760" cy="493560"/>
                </a:xfrm>
              </p:grpSpPr>
              <p:sp>
                <p:nvSpPr>
                  <p:cNvPr id="1521" name="Freeform 43"/>
                  <p:cNvSpPr/>
                  <p:nvPr/>
                </p:nvSpPr>
                <p:spPr>
                  <a:xfrm rot="4804800">
                    <a:off x="3660840" y="5775840"/>
                    <a:ext cx="397440" cy="539280"/>
                  </a:xfrm>
                  <a:custGeom>
                    <a:avLst/>
                    <a:gdLst>
                      <a:gd name="textAreaLeft" fmla="*/ 0 w 397440"/>
                      <a:gd name="textAreaRight" fmla="*/ 397800 w 397440"/>
                      <a:gd name="textAreaTop" fmla="*/ 0 h 539280"/>
                      <a:gd name="textAreaBottom" fmla="*/ 539640 h 539280"/>
                    </a:gdLst>
                    <a:ahLst/>
                    <a:rect l="textAreaLeft" t="textAreaTop" r="textAreaRight" b="textAreaBottom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22" name="Freeform 44"/>
                  <p:cNvSpPr/>
                  <p:nvPr/>
                </p:nvSpPr>
                <p:spPr>
                  <a:xfrm rot="4804800">
                    <a:off x="3640320" y="6062040"/>
                    <a:ext cx="181800" cy="248400"/>
                  </a:xfrm>
                  <a:custGeom>
                    <a:avLst/>
                    <a:gdLst>
                      <a:gd name="textAreaLeft" fmla="*/ 0 w 181800"/>
                      <a:gd name="textAreaRight" fmla="*/ 182160 w 181800"/>
                      <a:gd name="textAreaTop" fmla="*/ 0 h 248400"/>
                      <a:gd name="textAreaBottom" fmla="*/ 248760 h 248400"/>
                    </a:gdLst>
                    <a:ahLst/>
                    <a:rect l="textAreaLeft" t="textAreaTop" r="textAreaRight" b="textAreaBottom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40458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23" name="Group 45"/>
                <p:cNvGrpSpPr/>
                <p:nvPr/>
              </p:nvGrpSpPr>
              <p:grpSpPr>
                <a:xfrm>
                  <a:off x="3039840" y="3489120"/>
                  <a:ext cx="3284640" cy="2547000"/>
                  <a:chOff x="3039840" y="3489120"/>
                  <a:chExt cx="3284640" cy="2547000"/>
                </a:xfrm>
              </p:grpSpPr>
              <p:sp>
                <p:nvSpPr>
                  <p:cNvPr id="1524" name="Freeform 46"/>
                  <p:cNvSpPr/>
                  <p:nvPr/>
                </p:nvSpPr>
                <p:spPr>
                  <a:xfrm rot="4206000">
                    <a:off x="4444200" y="3893760"/>
                    <a:ext cx="1109520" cy="2417760"/>
                  </a:xfrm>
                  <a:custGeom>
                    <a:avLst/>
                    <a:gdLst>
                      <a:gd name="textAreaLeft" fmla="*/ 0 w 1109520"/>
                      <a:gd name="textAreaRight" fmla="*/ 1109880 w 1109520"/>
                      <a:gd name="textAreaTop" fmla="*/ 0 h 2417760"/>
                      <a:gd name="textAreaBottom" fmla="*/ 2418120 h 241776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525" name="Group 47"/>
                  <p:cNvGrpSpPr/>
                  <p:nvPr/>
                </p:nvGrpSpPr>
                <p:grpSpPr>
                  <a:xfrm>
                    <a:off x="3039840" y="3489120"/>
                    <a:ext cx="2788200" cy="1272600"/>
                    <a:chOff x="3039840" y="3489120"/>
                    <a:chExt cx="2788200" cy="1272600"/>
                  </a:xfrm>
                </p:grpSpPr>
                <p:sp>
                  <p:nvSpPr>
                    <p:cNvPr id="1526" name="Freeform 48"/>
                    <p:cNvSpPr/>
                    <p:nvPr/>
                  </p:nvSpPr>
                  <p:spPr>
                    <a:xfrm rot="6258000">
                      <a:off x="4236120" y="2628720"/>
                      <a:ext cx="357840" cy="2747520"/>
                    </a:xfrm>
                    <a:custGeom>
                      <a:avLst/>
                      <a:gdLst>
                        <a:gd name="textAreaLeft" fmla="*/ 0 w 357840"/>
                        <a:gd name="textAreaRight" fmla="*/ 357840 w 357840"/>
                        <a:gd name="textAreaTop" fmla="*/ 0 h 2747520"/>
                        <a:gd name="textAreaBottom" fmla="*/ 2747880 h 2747520"/>
                      </a:gdLst>
                      <a:ahLst/>
                      <a:rect l="textAreaLeft" t="textAreaTop" r="textAreaRight" b="textAreaBottom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27" name="Oval 49"/>
                    <p:cNvSpPr/>
                    <p:nvPr/>
                  </p:nvSpPr>
                  <p:spPr>
                    <a:xfrm rot="6258000">
                      <a:off x="5365800" y="4303080"/>
                      <a:ext cx="428760" cy="40212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528" name="Group 50"/>
          <p:cNvGrpSpPr/>
          <p:nvPr/>
        </p:nvGrpSpPr>
        <p:grpSpPr>
          <a:xfrm>
            <a:off x="2673360" y="707760"/>
            <a:ext cx="6492240" cy="5662080"/>
            <a:chOff x="2673360" y="707760"/>
            <a:chExt cx="6492240" cy="5662080"/>
          </a:xfrm>
        </p:grpSpPr>
        <p:sp>
          <p:nvSpPr>
            <p:cNvPr id="1529" name="Freeform 51"/>
            <p:cNvSpPr/>
            <p:nvPr/>
          </p:nvSpPr>
          <p:spPr>
            <a:xfrm flipV="1" rot="17393400">
              <a:off x="6953400" y="392760"/>
              <a:ext cx="1270080" cy="289404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-360 h 2894040"/>
                <a:gd name="textAreaBottom" fmla="*/ 289404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530" name="Group 52"/>
            <p:cNvGrpSpPr/>
            <p:nvPr/>
          </p:nvGrpSpPr>
          <p:grpSpPr>
            <a:xfrm>
              <a:off x="5843160" y="707760"/>
              <a:ext cx="3284280" cy="2806920"/>
              <a:chOff x="5843160" y="707760"/>
              <a:chExt cx="3284280" cy="2806920"/>
            </a:xfrm>
          </p:grpSpPr>
          <p:grpSp>
            <p:nvGrpSpPr>
              <p:cNvPr id="1531" name="Group 53"/>
              <p:cNvGrpSpPr/>
              <p:nvPr/>
            </p:nvGrpSpPr>
            <p:grpSpPr>
              <a:xfrm>
                <a:off x="6364080" y="707760"/>
                <a:ext cx="599760" cy="492120"/>
                <a:chOff x="6364080" y="707760"/>
                <a:chExt cx="599760" cy="492120"/>
              </a:xfrm>
            </p:grpSpPr>
            <p:sp>
              <p:nvSpPr>
                <p:cNvPr id="1532" name="Freeform 54"/>
                <p:cNvSpPr/>
                <p:nvPr/>
              </p:nvSpPr>
              <p:spPr>
                <a:xfrm flipV="1" rot="16795200">
                  <a:off x="6460920" y="684360"/>
                  <a:ext cx="405720" cy="537840"/>
                </a:xfrm>
                <a:custGeom>
                  <a:avLst/>
                  <a:gdLst>
                    <a:gd name="textAreaLeft" fmla="*/ 0 w 405720"/>
                    <a:gd name="textAreaRight" fmla="*/ 406080 w 405720"/>
                    <a:gd name="textAreaTop" fmla="*/ 360 h 537840"/>
                    <a:gd name="textAreaBottom" fmla="*/ 538560 h 53784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3" name="Freeform 55"/>
                <p:cNvSpPr/>
                <p:nvPr/>
              </p:nvSpPr>
              <p:spPr>
                <a:xfrm flipV="1" rot="16795200">
                  <a:off x="6440400" y="696960"/>
                  <a:ext cx="185400" cy="24768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360 h 247680"/>
                    <a:gd name="textAreaBottom" fmla="*/ 24840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34" name="Group 56"/>
              <p:cNvGrpSpPr/>
              <p:nvPr/>
            </p:nvGrpSpPr>
            <p:grpSpPr>
              <a:xfrm>
                <a:off x="5843160" y="967680"/>
                <a:ext cx="3284280" cy="2547000"/>
                <a:chOff x="5843160" y="967680"/>
                <a:chExt cx="3284280" cy="2547000"/>
              </a:xfrm>
            </p:grpSpPr>
            <p:sp>
              <p:nvSpPr>
                <p:cNvPr id="1535" name="Freeform 57"/>
                <p:cNvSpPr/>
                <p:nvPr/>
              </p:nvSpPr>
              <p:spPr>
                <a:xfrm flipV="1" rot="17394000">
                  <a:off x="7246800" y="691560"/>
                  <a:ext cx="1109880" cy="2417760"/>
                </a:xfrm>
                <a:custGeom>
                  <a:avLst/>
                  <a:gdLst>
                    <a:gd name="textAreaLeft" fmla="*/ 0 w 1109880"/>
                    <a:gd name="textAreaRight" fmla="*/ 1110240 w 1109880"/>
                    <a:gd name="textAreaTop" fmla="*/ 360 h 2417760"/>
                    <a:gd name="textAreaBottom" fmla="*/ 241848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536" name="Group 58"/>
                <p:cNvGrpSpPr/>
                <p:nvPr/>
              </p:nvGrpSpPr>
              <p:grpSpPr>
                <a:xfrm>
                  <a:off x="5843160" y="2242080"/>
                  <a:ext cx="2788200" cy="1272600"/>
                  <a:chOff x="5843160" y="2242080"/>
                  <a:chExt cx="2788200" cy="1272600"/>
                </a:xfrm>
              </p:grpSpPr>
              <p:sp>
                <p:nvSpPr>
                  <p:cNvPr id="1537" name="Freeform 59"/>
                  <p:cNvSpPr/>
                  <p:nvPr/>
                </p:nvSpPr>
                <p:spPr>
                  <a:xfrm flipV="1" rot="15342000">
                    <a:off x="7039440" y="1627560"/>
                    <a:ext cx="357840" cy="274752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360 h 2747520"/>
                      <a:gd name="textAreaBottom" fmla="*/ 2748240 h 27475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8" name="Oval 60"/>
                  <p:cNvSpPr/>
                  <p:nvPr/>
                </p:nvSpPr>
                <p:spPr>
                  <a:xfrm flipV="1" rot="15342000">
                    <a:off x="8169120" y="2298240"/>
                    <a:ext cx="428760" cy="402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539" name="Group 61"/>
            <p:cNvGrpSpPr/>
            <p:nvPr/>
          </p:nvGrpSpPr>
          <p:grpSpPr>
            <a:xfrm>
              <a:off x="2673360" y="3562200"/>
              <a:ext cx="3322800" cy="2807640"/>
              <a:chOff x="2673360" y="3562200"/>
              <a:chExt cx="3322800" cy="2807640"/>
            </a:xfrm>
          </p:grpSpPr>
          <p:sp>
            <p:nvSpPr>
              <p:cNvPr id="1540" name="Freeform 62"/>
              <p:cNvSpPr/>
              <p:nvPr/>
            </p:nvSpPr>
            <p:spPr>
              <a:xfrm flipH="1" rot="17394000">
                <a:off x="3614760" y="3791880"/>
                <a:ext cx="1269360" cy="2894040"/>
              </a:xfrm>
              <a:custGeom>
                <a:avLst/>
                <a:gdLst>
                  <a:gd name="textAreaLeft" fmla="*/ 360 w 1269360"/>
                  <a:gd name="textAreaRight" fmla="*/ 1270080 w 1269360"/>
                  <a:gd name="textAreaTop" fmla="*/ 0 h 2894040"/>
                  <a:gd name="textAreaBottom" fmla="*/ 2894400 h 28940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541" name="Group 63"/>
              <p:cNvGrpSpPr/>
              <p:nvPr/>
            </p:nvGrpSpPr>
            <p:grpSpPr>
              <a:xfrm>
                <a:off x="2711520" y="3562200"/>
                <a:ext cx="3284640" cy="2807640"/>
                <a:chOff x="2711520" y="3562200"/>
                <a:chExt cx="3284640" cy="2807640"/>
              </a:xfrm>
            </p:grpSpPr>
            <p:grpSp>
              <p:nvGrpSpPr>
                <p:cNvPr id="1542" name="Group 64"/>
                <p:cNvGrpSpPr/>
                <p:nvPr/>
              </p:nvGrpSpPr>
              <p:grpSpPr>
                <a:xfrm>
                  <a:off x="4875480" y="5876640"/>
                  <a:ext cx="592920" cy="493200"/>
                  <a:chOff x="4875480" y="5876640"/>
                  <a:chExt cx="592920" cy="493200"/>
                </a:xfrm>
              </p:grpSpPr>
              <p:sp>
                <p:nvSpPr>
                  <p:cNvPr id="1543" name="Freeform 65"/>
                  <p:cNvSpPr/>
                  <p:nvPr/>
                </p:nvSpPr>
                <p:spPr>
                  <a:xfrm flipH="1" rot="16795200">
                    <a:off x="4969440" y="5855760"/>
                    <a:ext cx="404280" cy="531360"/>
                  </a:xfrm>
                  <a:custGeom>
                    <a:avLst/>
                    <a:gdLst>
                      <a:gd name="textAreaLeft" fmla="*/ -360 w 404280"/>
                      <a:gd name="textAreaRight" fmla="*/ 404280 w 404280"/>
                      <a:gd name="textAreaTop" fmla="*/ 0 h 531360"/>
                      <a:gd name="textAreaBottom" fmla="*/ 531720 h 531360"/>
                    </a:gdLst>
                    <a:ahLst/>
                    <a:rect l="textAreaLeft" t="textAreaTop" r="textAreaRight" b="textAreaBottom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4" name="Freeform 66"/>
                  <p:cNvSpPr/>
                  <p:nvPr/>
                </p:nvSpPr>
                <p:spPr>
                  <a:xfrm flipH="1" rot="16795200">
                    <a:off x="5214240" y="6135840"/>
                    <a:ext cx="184680" cy="244080"/>
                  </a:xfrm>
                  <a:custGeom>
                    <a:avLst/>
                    <a:gdLst>
                      <a:gd name="textAreaLeft" fmla="*/ -360 w 184680"/>
                      <a:gd name="textAreaRight" fmla="*/ 184680 w 1846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40458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45" name="Group 67"/>
                <p:cNvGrpSpPr/>
                <p:nvPr/>
              </p:nvGrpSpPr>
              <p:grpSpPr>
                <a:xfrm>
                  <a:off x="2711520" y="3562200"/>
                  <a:ext cx="3284640" cy="2547000"/>
                  <a:chOff x="2711520" y="3562200"/>
                  <a:chExt cx="3284640" cy="2547000"/>
                </a:xfrm>
              </p:grpSpPr>
              <p:sp>
                <p:nvSpPr>
                  <p:cNvPr id="1546" name="Freeform 68"/>
                  <p:cNvSpPr/>
                  <p:nvPr/>
                </p:nvSpPr>
                <p:spPr>
                  <a:xfrm flipH="1" rot="17394000">
                    <a:off x="3482280" y="3966840"/>
                    <a:ext cx="1109520" cy="2417760"/>
                  </a:xfrm>
                  <a:custGeom>
                    <a:avLst/>
                    <a:gdLst>
                      <a:gd name="textAreaLeft" fmla="*/ 360 w 1109520"/>
                      <a:gd name="textAreaRight" fmla="*/ 1110240 w 1109520"/>
                      <a:gd name="textAreaTop" fmla="*/ 0 h 2417760"/>
                      <a:gd name="textAreaBottom" fmla="*/ 2418120 h 241776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547" name="Group 69"/>
                  <p:cNvGrpSpPr/>
                  <p:nvPr/>
                </p:nvGrpSpPr>
                <p:grpSpPr>
                  <a:xfrm>
                    <a:off x="3207960" y="3562200"/>
                    <a:ext cx="2788200" cy="1272600"/>
                    <a:chOff x="3207960" y="3562200"/>
                    <a:chExt cx="2788200" cy="1272600"/>
                  </a:xfrm>
                </p:grpSpPr>
                <p:sp>
                  <p:nvSpPr>
                    <p:cNvPr id="1548" name="Freeform 70"/>
                    <p:cNvSpPr/>
                    <p:nvPr/>
                  </p:nvSpPr>
                  <p:spPr>
                    <a:xfrm flipH="1" rot="15342000">
                      <a:off x="4441320" y="2701800"/>
                      <a:ext cx="357840" cy="2747520"/>
                    </a:xfrm>
                    <a:custGeom>
                      <a:avLst/>
                      <a:gdLst>
                        <a:gd name="textAreaLeft" fmla="*/ 0 w 357840"/>
                        <a:gd name="textAreaRight" fmla="*/ 357840 w 357840"/>
                        <a:gd name="textAreaTop" fmla="*/ 0 h 2747520"/>
                        <a:gd name="textAreaBottom" fmla="*/ 2747880 h 2747520"/>
                      </a:gdLst>
                      <a:ahLst/>
                      <a:rect l="textAreaLeft" t="textAreaTop" r="textAreaRight" b="textAreaBottom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49" name="Oval 71"/>
                    <p:cNvSpPr/>
                    <p:nvPr/>
                  </p:nvSpPr>
                  <p:spPr>
                    <a:xfrm flipH="1" rot="15342000">
                      <a:off x="3241080" y="4376160"/>
                      <a:ext cx="428760" cy="40212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550" name="Freeform 72"/>
          <p:cNvSpPr/>
          <p:nvPr/>
        </p:nvSpPr>
        <p:spPr>
          <a:xfrm>
            <a:off x="4533840" y="660240"/>
            <a:ext cx="12600" cy="5473800"/>
          </a:xfrm>
          <a:custGeom>
            <a:avLst/>
            <a:gdLst>
              <a:gd name="textAreaLeft" fmla="*/ 0 w 12600"/>
              <a:gd name="textAreaRight" fmla="*/ 12960 w 12600"/>
              <a:gd name="textAreaTop" fmla="*/ 0 h 5473800"/>
              <a:gd name="textAreaBottom" fmla="*/ 5473800 h 5473800"/>
            </a:gdLst>
            <a:ahLst/>
            <a:rect l="textAreaLeft" t="textAreaTop" r="textAreaRight" b="textAreaBottom"/>
            <a:pathLst>
              <a:path w="8" h="3448">
                <a:moveTo>
                  <a:pt x="0" y="0"/>
                </a:moveTo>
                <a:lnTo>
                  <a:pt x="8" y="34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1" name="Arc 77"/>
          <p:cNvSpPr/>
          <p:nvPr/>
        </p:nvSpPr>
        <p:spPr>
          <a:xfrm rot="1735800">
            <a:off x="4776840" y="2997360"/>
            <a:ext cx="1307880" cy="91260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912600"/>
              <a:gd name="textAreaBottom" fmla="*/ 912960 h 912600"/>
            </a:gdLst>
            <a:ahLst/>
            <a:rect l="textAreaLeft" t="textAreaTop" r="textAreaRight" b="textAreaBottom"/>
            <a:pathLst>
              <a:path fill="none" w="21197" h="15620">
                <a:moveTo>
                  <a:pt x="14918" y="-1"/>
                </a:moveTo>
                <a:cubicBezTo>
                  <a:pt x="18145" y="3081"/>
                  <a:pt x="20338" y="7086"/>
                  <a:pt x="21196" y="11465"/>
                </a:cubicBezTo>
              </a:path>
              <a:path stroke="0" w="21197" h="15620">
                <a:moveTo>
                  <a:pt x="14918" y="-1"/>
                </a:moveTo>
                <a:cubicBezTo>
                  <a:pt x="18145" y="3081"/>
                  <a:pt x="20338" y="7086"/>
                  <a:pt x="21196" y="11465"/>
                </a:cubicBezTo>
                <a:lnTo>
                  <a:pt x="0" y="15620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52" name="Group 78"/>
          <p:cNvGrpSpPr/>
          <p:nvPr/>
        </p:nvGrpSpPr>
        <p:grpSpPr>
          <a:xfrm>
            <a:off x="1890000" y="601200"/>
            <a:ext cx="5240880" cy="5870880"/>
            <a:chOff x="1890000" y="601200"/>
            <a:chExt cx="5240880" cy="5870880"/>
          </a:xfrm>
        </p:grpSpPr>
        <p:grpSp>
          <p:nvGrpSpPr>
            <p:cNvPr id="1553" name="Group 79"/>
            <p:cNvGrpSpPr/>
            <p:nvPr/>
          </p:nvGrpSpPr>
          <p:grpSpPr>
            <a:xfrm>
              <a:off x="4537080" y="601200"/>
              <a:ext cx="2593800" cy="3381120"/>
              <a:chOff x="4537080" y="601200"/>
              <a:chExt cx="2593800" cy="3381120"/>
            </a:xfrm>
          </p:grpSpPr>
          <p:sp>
            <p:nvSpPr>
              <p:cNvPr id="1554" name="Freeform 80"/>
              <p:cNvSpPr/>
              <p:nvPr/>
            </p:nvSpPr>
            <p:spPr>
              <a:xfrm rot="1447800">
                <a:off x="5248440" y="732960"/>
                <a:ext cx="1306440" cy="3093840"/>
              </a:xfrm>
              <a:custGeom>
                <a:avLst/>
                <a:gdLst>
                  <a:gd name="textAreaLeft" fmla="*/ 0 w 1306440"/>
                  <a:gd name="textAreaRight" fmla="*/ 1306800 w 1306440"/>
                  <a:gd name="textAreaTop" fmla="*/ 0 h 3093840"/>
                  <a:gd name="textAreaBottom" fmla="*/ 3094200 h 30938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55" name="Freeform 81"/>
              <p:cNvSpPr/>
              <p:nvPr/>
            </p:nvSpPr>
            <p:spPr>
              <a:xfrm rot="1447800">
                <a:off x="5677200" y="3340440"/>
                <a:ext cx="326520" cy="601200"/>
              </a:xfrm>
              <a:custGeom>
                <a:avLst/>
                <a:gdLst>
                  <a:gd name="textAreaLeft" fmla="*/ 0 w 326520"/>
                  <a:gd name="textAreaRight" fmla="*/ 326880 w 326520"/>
                  <a:gd name="textAreaTop" fmla="*/ 0 h 601200"/>
                  <a:gd name="textAreaBottom" fmla="*/ 601560 h 60120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56" name="Freeform 82"/>
              <p:cNvSpPr/>
              <p:nvPr/>
            </p:nvSpPr>
            <p:spPr>
              <a:xfrm rot="1447800">
                <a:off x="5799960" y="3727440"/>
                <a:ext cx="126000" cy="22860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557" name="Group 83"/>
              <p:cNvGrpSpPr/>
              <p:nvPr/>
            </p:nvGrpSpPr>
            <p:grpSpPr>
              <a:xfrm>
                <a:off x="4537080" y="657720"/>
                <a:ext cx="2526480" cy="3025800"/>
                <a:chOff x="4537080" y="657720"/>
                <a:chExt cx="2526480" cy="3025800"/>
              </a:xfrm>
            </p:grpSpPr>
            <p:sp>
              <p:nvSpPr>
                <p:cNvPr id="1558" name="Freeform 84"/>
                <p:cNvSpPr/>
                <p:nvPr/>
              </p:nvSpPr>
              <p:spPr>
                <a:xfrm rot="1447800">
                  <a:off x="5443560" y="777960"/>
                  <a:ext cx="1141200" cy="258480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2584800"/>
                    <a:gd name="textAreaBottom" fmla="*/ 2585160 h 258480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559" name="Group 85"/>
                <p:cNvGrpSpPr/>
                <p:nvPr/>
              </p:nvGrpSpPr>
              <p:grpSpPr>
                <a:xfrm>
                  <a:off x="4537080" y="846720"/>
                  <a:ext cx="1767960" cy="2836800"/>
                  <a:chOff x="4537080" y="846720"/>
                  <a:chExt cx="1767960" cy="2836800"/>
                </a:xfrm>
              </p:grpSpPr>
              <p:sp>
                <p:nvSpPr>
                  <p:cNvPr id="1560" name="Freeform 86"/>
                  <p:cNvSpPr/>
                  <p:nvPr/>
                </p:nvSpPr>
                <p:spPr>
                  <a:xfrm rot="1447800">
                    <a:off x="5121360" y="799200"/>
                    <a:ext cx="367920" cy="2937600"/>
                  </a:xfrm>
                  <a:custGeom>
                    <a:avLst/>
                    <a:gdLst>
                      <a:gd name="textAreaLeft" fmla="*/ 0 w 367920"/>
                      <a:gd name="textAreaRight" fmla="*/ 367920 w 367920"/>
                      <a:gd name="textAreaTop" fmla="*/ 0 h 2937600"/>
                      <a:gd name="textAreaBottom" fmla="*/ 2937960 h 29376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1" name="Oval 87"/>
                  <p:cNvSpPr/>
                  <p:nvPr/>
                </p:nvSpPr>
                <p:spPr>
                  <a:xfrm rot="1447800">
                    <a:off x="5795640" y="918000"/>
                    <a:ext cx="440640" cy="42984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562" name="Group 88"/>
            <p:cNvGrpSpPr/>
            <p:nvPr/>
          </p:nvGrpSpPr>
          <p:grpSpPr>
            <a:xfrm>
              <a:off x="1890000" y="3083760"/>
              <a:ext cx="2552760" cy="3388320"/>
              <a:chOff x="1890000" y="3083760"/>
              <a:chExt cx="2552760" cy="3388320"/>
            </a:xfrm>
          </p:grpSpPr>
          <p:sp>
            <p:nvSpPr>
              <p:cNvPr id="1563" name="Freeform 89"/>
              <p:cNvSpPr/>
              <p:nvPr/>
            </p:nvSpPr>
            <p:spPr>
              <a:xfrm rot="12189600">
                <a:off x="2445840" y="3245760"/>
                <a:ext cx="1306440" cy="3093840"/>
              </a:xfrm>
              <a:custGeom>
                <a:avLst/>
                <a:gdLst>
                  <a:gd name="textAreaLeft" fmla="*/ 0 w 1306440"/>
                  <a:gd name="textAreaRight" fmla="*/ 1306800 w 1306440"/>
                  <a:gd name="textAreaTop" fmla="*/ 0 h 3093840"/>
                  <a:gd name="textAreaBottom" fmla="*/ 3094200 h 30938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64" name="Freeform 90"/>
              <p:cNvSpPr/>
              <p:nvPr/>
            </p:nvSpPr>
            <p:spPr>
              <a:xfrm rot="12189600">
                <a:off x="2967120" y="3124440"/>
                <a:ext cx="329760" cy="60120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601200"/>
                  <a:gd name="textAreaBottom" fmla="*/ 601560 h 60120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65" name="Freeform 91"/>
              <p:cNvSpPr/>
              <p:nvPr/>
            </p:nvSpPr>
            <p:spPr>
              <a:xfrm rot="12189600">
                <a:off x="3048480" y="3115440"/>
                <a:ext cx="126000" cy="22860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566" name="Group 92"/>
              <p:cNvGrpSpPr/>
              <p:nvPr/>
            </p:nvGrpSpPr>
            <p:grpSpPr>
              <a:xfrm>
                <a:off x="1957680" y="3372120"/>
                <a:ext cx="2485080" cy="3044880"/>
                <a:chOff x="1957680" y="3372120"/>
                <a:chExt cx="2485080" cy="3044880"/>
              </a:xfrm>
            </p:grpSpPr>
            <p:sp>
              <p:nvSpPr>
                <p:cNvPr id="1567" name="Freeform 93"/>
                <p:cNvSpPr/>
                <p:nvPr/>
              </p:nvSpPr>
              <p:spPr>
                <a:xfrm rot="12189600">
                  <a:off x="2419920" y="3711600"/>
                  <a:ext cx="1141200" cy="258480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2584800"/>
                    <a:gd name="textAreaBottom" fmla="*/ 2585160 h 258480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568" name="Group 94"/>
                <p:cNvGrpSpPr/>
                <p:nvPr/>
              </p:nvGrpSpPr>
              <p:grpSpPr>
                <a:xfrm>
                  <a:off x="2718000" y="3372120"/>
                  <a:ext cx="1724760" cy="2854080"/>
                  <a:chOff x="2718000" y="3372120"/>
                  <a:chExt cx="1724760" cy="2854080"/>
                </a:xfrm>
              </p:grpSpPr>
              <p:sp>
                <p:nvSpPr>
                  <p:cNvPr id="1569" name="Freeform 95"/>
                  <p:cNvSpPr/>
                  <p:nvPr/>
                </p:nvSpPr>
                <p:spPr>
                  <a:xfrm rot="12189600">
                    <a:off x="3511800" y="3325680"/>
                    <a:ext cx="367920" cy="2937600"/>
                  </a:xfrm>
                  <a:custGeom>
                    <a:avLst/>
                    <a:gdLst>
                      <a:gd name="textAreaLeft" fmla="*/ 0 w 367920"/>
                      <a:gd name="textAreaRight" fmla="*/ 367920 w 367920"/>
                      <a:gd name="textAreaTop" fmla="*/ 0 h 2937600"/>
                      <a:gd name="textAreaBottom" fmla="*/ 2937960 h 29376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0" name="Oval 96"/>
                  <p:cNvSpPr/>
                  <p:nvPr/>
                </p:nvSpPr>
                <p:spPr>
                  <a:xfrm rot="12189600">
                    <a:off x="2784600" y="5726880"/>
                    <a:ext cx="440640" cy="4298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1571" name="Arc 98"/>
          <p:cNvSpPr/>
          <p:nvPr/>
        </p:nvSpPr>
        <p:spPr>
          <a:xfrm flipH="1" rot="19864200">
            <a:off x="2986920" y="2997360"/>
            <a:ext cx="1320840" cy="884160"/>
          </a:xfrm>
          <a:custGeom>
            <a:avLst/>
            <a:gdLst>
              <a:gd name="textAreaLeft" fmla="*/ -360 w 1320840"/>
              <a:gd name="textAreaRight" fmla="*/ 1320840 w 132084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fill="none" w="21386" h="15141">
                <a:moveTo>
                  <a:pt x="15404" y="0"/>
                </a:moveTo>
                <a:cubicBezTo>
                  <a:pt x="18641" y="3293"/>
                  <a:pt x="20737" y="7536"/>
                  <a:pt x="21385" y="12108"/>
                </a:cubicBezTo>
              </a:path>
              <a:path stroke="0" w="21386" h="15141">
                <a:moveTo>
                  <a:pt x="15404" y="0"/>
                </a:moveTo>
                <a:cubicBezTo>
                  <a:pt x="18641" y="3293"/>
                  <a:pt x="20737" y="7536"/>
                  <a:pt x="21385" y="12108"/>
                </a:cubicBezTo>
                <a:lnTo>
                  <a:pt x="0" y="15141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72" name="Group 99"/>
          <p:cNvGrpSpPr/>
          <p:nvPr/>
        </p:nvGrpSpPr>
        <p:grpSpPr>
          <a:xfrm>
            <a:off x="2059560" y="609840"/>
            <a:ext cx="5017680" cy="5927400"/>
            <a:chOff x="2059560" y="609840"/>
            <a:chExt cx="5017680" cy="5927400"/>
          </a:xfrm>
        </p:grpSpPr>
        <p:grpSp>
          <p:nvGrpSpPr>
            <p:cNvPr id="1573" name="Group 100"/>
            <p:cNvGrpSpPr/>
            <p:nvPr/>
          </p:nvGrpSpPr>
          <p:grpSpPr>
            <a:xfrm>
              <a:off x="2059560" y="609840"/>
              <a:ext cx="2457720" cy="3358440"/>
              <a:chOff x="2059560" y="609840"/>
              <a:chExt cx="2457720" cy="3358440"/>
            </a:xfrm>
          </p:grpSpPr>
          <p:sp>
            <p:nvSpPr>
              <p:cNvPr id="1574" name="Freeform 101"/>
              <p:cNvSpPr/>
              <p:nvPr/>
            </p:nvSpPr>
            <p:spPr>
              <a:xfrm flipH="1" rot="20280000">
                <a:off x="2592000" y="733680"/>
                <a:ext cx="1262160" cy="3087360"/>
              </a:xfrm>
              <a:custGeom>
                <a:avLst/>
                <a:gdLst>
                  <a:gd name="textAreaLeft" fmla="*/ 360 w 1262160"/>
                  <a:gd name="textAreaRight" fmla="*/ 1262880 w 1262160"/>
                  <a:gd name="textAreaTop" fmla="*/ 0 h 3087360"/>
                  <a:gd name="textAreaBottom" fmla="*/ 3087720 h 30873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75" name="Freeform 102"/>
              <p:cNvSpPr/>
              <p:nvPr/>
            </p:nvSpPr>
            <p:spPr>
              <a:xfrm flipH="1" rot="20280000">
                <a:off x="3083400" y="3331080"/>
                <a:ext cx="315360" cy="599760"/>
              </a:xfrm>
              <a:custGeom>
                <a:avLst/>
                <a:gdLst>
                  <a:gd name="textAreaLeft" fmla="*/ 360 w 315360"/>
                  <a:gd name="textAreaRight" fmla="*/ 316080 w 315360"/>
                  <a:gd name="textAreaTop" fmla="*/ 0 h 599760"/>
                  <a:gd name="textAreaBottom" fmla="*/ 600120 h 5997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76" name="Freeform 103"/>
              <p:cNvSpPr/>
              <p:nvPr/>
            </p:nvSpPr>
            <p:spPr>
              <a:xfrm flipH="1" rot="20280000">
                <a:off x="3159720" y="3716280"/>
                <a:ext cx="121680" cy="227880"/>
              </a:xfrm>
              <a:custGeom>
                <a:avLst/>
                <a:gdLst>
                  <a:gd name="textAreaLeft" fmla="*/ 360 w 121680"/>
                  <a:gd name="textAreaRight" fmla="*/ 122400 w 12168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577" name="Group 104"/>
              <p:cNvGrpSpPr/>
              <p:nvPr/>
            </p:nvGrpSpPr>
            <p:grpSpPr>
              <a:xfrm>
                <a:off x="2125080" y="661680"/>
                <a:ext cx="2392200" cy="3057480"/>
                <a:chOff x="2125080" y="661680"/>
                <a:chExt cx="2392200" cy="3057480"/>
              </a:xfrm>
            </p:grpSpPr>
            <p:sp>
              <p:nvSpPr>
                <p:cNvPr id="1578" name="Freeform 105"/>
                <p:cNvSpPr/>
                <p:nvPr/>
              </p:nvSpPr>
              <p:spPr>
                <a:xfrm flipH="1" rot="20280000">
                  <a:off x="2568240" y="774000"/>
                  <a:ext cx="1101960" cy="2579760"/>
                </a:xfrm>
                <a:custGeom>
                  <a:avLst/>
                  <a:gdLst>
                    <a:gd name="textAreaLeft" fmla="*/ -360 w 1101960"/>
                    <a:gd name="textAreaRight" fmla="*/ 1101960 w 1101960"/>
                    <a:gd name="textAreaTop" fmla="*/ 0 h 2579760"/>
                    <a:gd name="textAreaBottom" fmla="*/ 2580120 h 2579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579" name="Group 106"/>
                <p:cNvGrpSpPr/>
                <p:nvPr/>
              </p:nvGrpSpPr>
              <p:grpSpPr>
                <a:xfrm>
                  <a:off x="2863440" y="854640"/>
                  <a:ext cx="1653840" cy="2864520"/>
                  <a:chOff x="2863440" y="854640"/>
                  <a:chExt cx="1653840" cy="2864520"/>
                </a:xfrm>
              </p:grpSpPr>
              <p:sp>
                <p:nvSpPr>
                  <p:cNvPr id="1580" name="Freeform 107"/>
                  <p:cNvSpPr/>
                  <p:nvPr/>
                </p:nvSpPr>
                <p:spPr>
                  <a:xfrm flipH="1" rot="20280000">
                    <a:off x="3624840" y="827640"/>
                    <a:ext cx="354960" cy="2931840"/>
                  </a:xfrm>
                  <a:custGeom>
                    <a:avLst/>
                    <a:gdLst>
                      <a:gd name="textAreaLeft" fmla="*/ 360 w 354960"/>
                      <a:gd name="textAreaRight" fmla="*/ 355680 w 354960"/>
                      <a:gd name="textAreaTop" fmla="*/ 0 h 2931840"/>
                      <a:gd name="textAreaBottom" fmla="*/ 2932200 h 2931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1" name="Oval 108"/>
                  <p:cNvSpPr/>
                  <p:nvPr/>
                </p:nvSpPr>
                <p:spPr>
                  <a:xfrm flipH="1" rot="20280000">
                    <a:off x="2928240" y="918360"/>
                    <a:ext cx="425160" cy="42912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582" name="Group 109"/>
            <p:cNvGrpSpPr/>
            <p:nvPr/>
          </p:nvGrpSpPr>
          <p:grpSpPr>
            <a:xfrm>
              <a:off x="4663440" y="3172320"/>
              <a:ext cx="2413800" cy="3364920"/>
              <a:chOff x="4663440" y="3172320"/>
              <a:chExt cx="2413800" cy="3364920"/>
            </a:xfrm>
          </p:grpSpPr>
          <p:sp>
            <p:nvSpPr>
              <p:cNvPr id="1583" name="Freeform 110"/>
              <p:cNvSpPr/>
              <p:nvPr/>
            </p:nvSpPr>
            <p:spPr>
              <a:xfrm flipH="1" rot="9538200">
                <a:off x="5302800" y="3325680"/>
                <a:ext cx="1262160" cy="3087720"/>
              </a:xfrm>
              <a:custGeom>
                <a:avLst/>
                <a:gdLst>
                  <a:gd name="textAreaLeft" fmla="*/ 360 w 1262160"/>
                  <a:gd name="textAreaRight" fmla="*/ 1262880 w 1262160"/>
                  <a:gd name="textAreaTop" fmla="*/ 0 h 3087720"/>
                  <a:gd name="textAreaBottom" fmla="*/ 3088080 h 308772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84" name="Freeform 111"/>
              <p:cNvSpPr/>
              <p:nvPr/>
            </p:nvSpPr>
            <p:spPr>
              <a:xfrm flipH="1" rot="9538200">
                <a:off x="5778720" y="3209040"/>
                <a:ext cx="318240" cy="599760"/>
              </a:xfrm>
              <a:custGeom>
                <a:avLst/>
                <a:gdLst>
                  <a:gd name="textAreaLeft" fmla="*/ 360 w 318240"/>
                  <a:gd name="textAreaRight" fmla="*/ 318960 w 318240"/>
                  <a:gd name="textAreaTop" fmla="*/ 0 h 599760"/>
                  <a:gd name="textAreaBottom" fmla="*/ 600120 h 5997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85" name="Freeform 112"/>
              <p:cNvSpPr/>
              <p:nvPr/>
            </p:nvSpPr>
            <p:spPr>
              <a:xfrm flipH="1" rot="9538200">
                <a:off x="5901840" y="3202560"/>
                <a:ext cx="121320" cy="227880"/>
              </a:xfrm>
              <a:custGeom>
                <a:avLst/>
                <a:gdLst>
                  <a:gd name="textAreaLeft" fmla="*/ -360 w 121320"/>
                  <a:gd name="textAreaRight" fmla="*/ 121320 w 12132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586" name="Group 113"/>
              <p:cNvGrpSpPr/>
              <p:nvPr/>
            </p:nvGrpSpPr>
            <p:grpSpPr>
              <a:xfrm>
                <a:off x="4663440" y="3411720"/>
                <a:ext cx="2347920" cy="3075120"/>
                <a:chOff x="4663440" y="3411720"/>
                <a:chExt cx="2347920" cy="3075120"/>
              </a:xfrm>
            </p:grpSpPr>
            <p:sp>
              <p:nvSpPr>
                <p:cNvPr id="1587" name="Freeform 114"/>
                <p:cNvSpPr/>
                <p:nvPr/>
              </p:nvSpPr>
              <p:spPr>
                <a:xfrm flipH="1" rot="9538200">
                  <a:off x="5483160" y="3795120"/>
                  <a:ext cx="1101960" cy="2579760"/>
                </a:xfrm>
                <a:custGeom>
                  <a:avLst/>
                  <a:gdLst>
                    <a:gd name="textAreaLeft" fmla="*/ -360 w 1101960"/>
                    <a:gd name="textAreaRight" fmla="*/ 1101960 w 1101960"/>
                    <a:gd name="textAreaTop" fmla="*/ 0 h 2579760"/>
                    <a:gd name="textAreaBottom" fmla="*/ 2580120 h 2579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588" name="Group 115"/>
                <p:cNvGrpSpPr/>
                <p:nvPr/>
              </p:nvGrpSpPr>
              <p:grpSpPr>
                <a:xfrm>
                  <a:off x="4663440" y="3411720"/>
                  <a:ext cx="1609200" cy="2880000"/>
                  <a:chOff x="4663440" y="3411720"/>
                  <a:chExt cx="1609200" cy="2880000"/>
                </a:xfrm>
              </p:grpSpPr>
              <p:sp>
                <p:nvSpPr>
                  <p:cNvPr id="1589" name="Freeform 116"/>
                  <p:cNvSpPr/>
                  <p:nvPr/>
                </p:nvSpPr>
                <p:spPr>
                  <a:xfrm flipH="1" rot="9538200">
                    <a:off x="5177880" y="3377160"/>
                    <a:ext cx="354960" cy="2932200"/>
                  </a:xfrm>
                  <a:custGeom>
                    <a:avLst/>
                    <a:gdLst>
                      <a:gd name="textAreaLeft" fmla="*/ 360 w 354960"/>
                      <a:gd name="textAreaRight" fmla="*/ 355680 w 354960"/>
                      <a:gd name="textAreaTop" fmla="*/ 0 h 2932200"/>
                      <a:gd name="textAreaBottom" fmla="*/ 2932560 h 29322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0" name="Oval 117"/>
                  <p:cNvSpPr/>
                  <p:nvPr/>
                </p:nvSpPr>
                <p:spPr>
                  <a:xfrm flipH="1" rot="9538200">
                    <a:off x="5784480" y="5800680"/>
                    <a:ext cx="425160" cy="42876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1591" name="Oval 97"/>
          <p:cNvSpPr/>
          <p:nvPr/>
        </p:nvSpPr>
        <p:spPr>
          <a:xfrm>
            <a:off x="3059280" y="3429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2" name="Oval 76"/>
          <p:cNvSpPr/>
          <p:nvPr/>
        </p:nvSpPr>
        <p:spPr>
          <a:xfrm>
            <a:off x="5867280" y="3429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93" name="Group 118"/>
          <p:cNvGrpSpPr/>
          <p:nvPr/>
        </p:nvGrpSpPr>
        <p:grpSpPr>
          <a:xfrm>
            <a:off x="5748120" y="5589720"/>
            <a:ext cx="3243600" cy="459720"/>
            <a:chOff x="5748120" y="5589720"/>
            <a:chExt cx="3243600" cy="459720"/>
          </a:xfrm>
        </p:grpSpPr>
        <p:sp>
          <p:nvSpPr>
            <p:cNvPr id="1594" name="Rectangle 119"/>
            <p:cNvSpPr/>
            <p:nvPr/>
          </p:nvSpPr>
          <p:spPr>
            <a:xfrm>
              <a:off x="5748120" y="5589720"/>
              <a:ext cx="32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Докажем, что </a:t>
              </a:r>
              <a:r>
                <a:rPr b="0" i="1" lang="ru-RU" sz="2400" spc="-1" strike="noStrike">
                  <a:solidFill>
                    <a:srgbClr val="000066"/>
                  </a:solidFill>
                  <a:latin typeface="Tahoma"/>
                </a:rPr>
                <a:t>а    </a:t>
              </a: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РМ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5" name="Object 120"/>
                <p:cNvSpPr txBox="1"/>
                <p:nvPr/>
              </p:nvSpPr>
              <p:spPr>
                <a:xfrm>
                  <a:off x="8099280" y="5662440"/>
                  <a:ext cx="333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1596" name="Group 121"/>
          <p:cNvGrpSpPr/>
          <p:nvPr/>
        </p:nvGrpSpPr>
        <p:grpSpPr>
          <a:xfrm>
            <a:off x="900360" y="1628640"/>
            <a:ext cx="1075320" cy="581400"/>
            <a:chOff x="900360" y="1628640"/>
            <a:chExt cx="1075320" cy="581400"/>
          </a:xfrm>
        </p:grpSpPr>
        <p:sp>
          <p:nvSpPr>
            <p:cNvPr id="1597" name="Text Box 122"/>
            <p:cNvSpPr/>
            <p:nvPr/>
          </p:nvSpPr>
          <p:spPr>
            <a:xfrm>
              <a:off x="900360" y="162864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М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8" name="Object 123"/>
                <p:cNvSpPr txBox="1"/>
                <p:nvPr/>
              </p:nvSpPr>
              <p:spPr>
                <a:xfrm>
                  <a:off x="1332000" y="1771560"/>
                  <a:ext cx="35892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9" name="Rectangle 124"/>
          <p:cNvSpPr/>
          <p:nvPr/>
        </p:nvSpPr>
        <p:spPr>
          <a:xfrm>
            <a:off x="109440" y="115920"/>
            <a:ext cx="32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строени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ерпендикулярных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ямы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40000">
                                      <p:cBhvr>
                                        <p:cTn id="492" dur="20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20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6000"/>
                            </p:stCondLst>
                            <p:childTnLst>
                              <p:par>
                                <p:cTn id="5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20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553" dur="2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2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0">
                                      <p:cBhvr>
                                        <p:cTn id="605" dur="2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2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0">
                                      <p:cBhvr>
                                        <p:cTn id="619" dur="2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2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6000"/>
                            </p:stCondLst>
                            <p:childTnLst>
                              <p:par>
                                <p:cTn id="6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8000"/>
                            </p:stCondLst>
                            <p:childTnLst>
                              <p:par>
                                <p:cTn id="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2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Text Box 71"/>
          <p:cNvSpPr/>
          <p:nvPr/>
        </p:nvSpPr>
        <p:spPr>
          <a:xfrm>
            <a:off x="-496440" y="4292640"/>
            <a:ext cx="104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окажем, что </a:t>
            </a:r>
            <a:r>
              <a:rPr b="0" i="1" lang="ru-RU" sz="2400" spc="-1" strike="noStrike">
                <a:solidFill>
                  <a:srgbClr val="000066"/>
                </a:solidFill>
                <a:latin typeface="Tahoma"/>
              </a:rPr>
              <a:t>а   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АМ=МВ, как радиусы одной окруж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АР=РВ, как радиусы одной окруж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АРВ р/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3. РМ медиана в р/б треугольнике  является также ВЫСОТОЙ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Значит, </a:t>
            </a:r>
            <a:r>
              <a:rPr b="0" i="1" lang="ru-RU" sz="2400" spc="-1" strike="noStrike">
                <a:solidFill>
                  <a:srgbClr val="000066"/>
                </a:solidFill>
                <a:latin typeface="Tahoma"/>
              </a:rPr>
              <a:t>а   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1" name="Freeform 2"/>
          <p:cNvSpPr/>
          <p:nvPr/>
        </p:nvSpPr>
        <p:spPr>
          <a:xfrm>
            <a:off x="3132000" y="797040"/>
            <a:ext cx="2735280" cy="2520720"/>
          </a:xfrm>
          <a:custGeom>
            <a:avLst/>
            <a:gdLst>
              <a:gd name="textAreaLeft" fmla="*/ 0 w 2735280"/>
              <a:gd name="textAreaRight" fmla="*/ 2735640 w 27352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1723" h="1588">
                <a:moveTo>
                  <a:pt x="0" y="1588"/>
                </a:moveTo>
                <a:lnTo>
                  <a:pt x="1723" y="1588"/>
                </a:lnTo>
                <a:lnTo>
                  <a:pt x="862" y="0"/>
                </a:lnTo>
                <a:lnTo>
                  <a:pt x="0" y="158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2" name="Freeform 3"/>
          <p:cNvSpPr/>
          <p:nvPr/>
        </p:nvSpPr>
        <p:spPr>
          <a:xfrm>
            <a:off x="3174840" y="798480"/>
            <a:ext cx="2718000" cy="2489400"/>
          </a:xfrm>
          <a:custGeom>
            <a:avLst/>
            <a:gdLst>
              <a:gd name="textAreaLeft" fmla="*/ 0 w 2718000"/>
              <a:gd name="textAreaRight" fmla="*/ 2718360 w 2718000"/>
              <a:gd name="textAreaTop" fmla="*/ 0 h 2489400"/>
              <a:gd name="textAreaBottom" fmla="*/ 2489760 h 2489400"/>
            </a:gdLst>
            <a:ahLst/>
            <a:rect l="textAreaLeft" t="textAreaTop" r="textAreaRight" b="textAreaBottom"/>
            <a:pathLst>
              <a:path w="1712" h="1568">
                <a:moveTo>
                  <a:pt x="0" y="1552"/>
                </a:moveTo>
                <a:lnTo>
                  <a:pt x="848" y="0"/>
                </a:lnTo>
                <a:lnTo>
                  <a:pt x="1712" y="1568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3" name="Arc 4"/>
          <p:cNvSpPr/>
          <p:nvPr/>
        </p:nvSpPr>
        <p:spPr>
          <a:xfrm rot="1735800">
            <a:off x="4716000" y="2696760"/>
            <a:ext cx="1308240" cy="91296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fill="none" w="21197" h="15620">
                <a:moveTo>
                  <a:pt x="14918" y="-1"/>
                </a:moveTo>
                <a:cubicBezTo>
                  <a:pt x="18145" y="3081"/>
                  <a:pt x="20338" y="7086"/>
                  <a:pt x="21196" y="11465"/>
                </a:cubicBezTo>
              </a:path>
              <a:path stroke="0" w="21197" h="15620">
                <a:moveTo>
                  <a:pt x="14918" y="-1"/>
                </a:moveTo>
                <a:cubicBezTo>
                  <a:pt x="18145" y="3081"/>
                  <a:pt x="20338" y="7086"/>
                  <a:pt x="21196" y="11465"/>
                </a:cubicBezTo>
                <a:lnTo>
                  <a:pt x="0" y="15620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4" name="Freeform 5"/>
          <p:cNvSpPr/>
          <p:nvPr/>
        </p:nvSpPr>
        <p:spPr>
          <a:xfrm>
            <a:off x="4533840" y="-27000"/>
            <a:ext cx="1800" cy="6210360"/>
          </a:xfrm>
          <a:custGeom>
            <a:avLst/>
            <a:gdLst>
              <a:gd name="textAreaLeft" fmla="*/ 0 w 1800"/>
              <a:gd name="textAreaRight" fmla="*/ 2160 w 1800"/>
              <a:gd name="textAreaTop" fmla="*/ 0 h 6210360"/>
              <a:gd name="textAreaBottom" fmla="*/ 6210720 h 6210360"/>
            </a:gdLst>
            <a:ahLst/>
            <a:rect l="textAreaLeft" t="textAreaTop" r="textAreaRight" b="textAreaBottom"/>
            <a:pathLst>
              <a:path w="1" h="3912">
                <a:moveTo>
                  <a:pt x="0" y="0"/>
                </a:moveTo>
                <a:lnTo>
                  <a:pt x="0" y="39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05" name="Group 6"/>
          <p:cNvGrpSpPr/>
          <p:nvPr/>
        </p:nvGrpSpPr>
        <p:grpSpPr>
          <a:xfrm>
            <a:off x="4539600" y="330120"/>
            <a:ext cx="1433520" cy="3045600"/>
            <a:chOff x="4539600" y="330120"/>
            <a:chExt cx="1433520" cy="3045600"/>
          </a:xfrm>
        </p:grpSpPr>
        <p:sp>
          <p:nvSpPr>
            <p:cNvPr id="1606" name="Freeform 7"/>
            <p:cNvSpPr/>
            <p:nvPr/>
          </p:nvSpPr>
          <p:spPr>
            <a:xfrm rot="78600">
              <a:off x="4654800" y="344160"/>
              <a:ext cx="1285200" cy="2893680"/>
            </a:xfrm>
            <a:custGeom>
              <a:avLst/>
              <a:gdLst>
                <a:gd name="textAreaLeft" fmla="*/ 0 w 1285200"/>
                <a:gd name="textAreaRight" fmla="*/ 1285560 w 1285200"/>
                <a:gd name="textAreaTop" fmla="*/ 0 h 2893680"/>
                <a:gd name="textAreaBottom" fmla="*/ 2894040 h 28936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07" name="Freeform 8"/>
            <p:cNvSpPr/>
            <p:nvPr/>
          </p:nvSpPr>
          <p:spPr>
            <a:xfrm rot="78600">
              <a:off x="5606640" y="2709360"/>
              <a:ext cx="324360" cy="56232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562320"/>
                <a:gd name="textAreaBottom" fmla="*/ 562320 h 56232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08" name="Freeform 9"/>
            <p:cNvSpPr/>
            <p:nvPr/>
          </p:nvSpPr>
          <p:spPr>
            <a:xfrm rot="78600">
              <a:off x="5796360" y="3045600"/>
              <a:ext cx="123840" cy="2134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609" name="Group 10"/>
            <p:cNvGrpSpPr/>
            <p:nvPr/>
          </p:nvGrpSpPr>
          <p:grpSpPr>
            <a:xfrm>
              <a:off x="4539600" y="348480"/>
              <a:ext cx="1368360" cy="3027240"/>
              <a:chOff x="4539600" y="348480"/>
              <a:chExt cx="1368360" cy="3027240"/>
            </a:xfrm>
          </p:grpSpPr>
          <p:sp>
            <p:nvSpPr>
              <p:cNvPr id="1610" name="Freeform 11"/>
              <p:cNvSpPr/>
              <p:nvPr/>
            </p:nvSpPr>
            <p:spPr>
              <a:xfrm rot="78600">
                <a:off x="4758120" y="360720"/>
                <a:ext cx="1122120" cy="2417760"/>
              </a:xfrm>
              <a:custGeom>
                <a:avLst/>
                <a:gdLst>
                  <a:gd name="textAreaLeft" fmla="*/ 0 w 1122120"/>
                  <a:gd name="textAreaRight" fmla="*/ 1122480 w 1122120"/>
                  <a:gd name="textAreaTop" fmla="*/ 0 h 2417760"/>
                  <a:gd name="textAreaBottom" fmla="*/ 2418120 h 241776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611" name="Group 12"/>
              <p:cNvGrpSpPr/>
              <p:nvPr/>
            </p:nvGrpSpPr>
            <p:grpSpPr>
              <a:xfrm>
                <a:off x="4539600" y="555480"/>
                <a:ext cx="643320" cy="2820240"/>
                <a:chOff x="4539600" y="555480"/>
                <a:chExt cx="643320" cy="2820240"/>
              </a:xfrm>
            </p:grpSpPr>
            <p:sp>
              <p:nvSpPr>
                <p:cNvPr id="1612" name="Freeform 13"/>
                <p:cNvSpPr/>
                <p:nvPr/>
              </p:nvSpPr>
              <p:spPr>
                <a:xfrm rot="78600">
                  <a:off x="4570920" y="623880"/>
                  <a:ext cx="361800" cy="2747880"/>
                </a:xfrm>
                <a:custGeom>
                  <a:avLst/>
                  <a:gdLst>
                    <a:gd name="textAreaLeft" fmla="*/ 0 w 361800"/>
                    <a:gd name="textAreaRight" fmla="*/ 362160 w 361800"/>
                    <a:gd name="textAreaTop" fmla="*/ 0 h 2747880"/>
                    <a:gd name="textAreaBottom" fmla="*/ 2748240 h 274788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13" name="Oval 14"/>
                <p:cNvSpPr/>
                <p:nvPr/>
              </p:nvSpPr>
              <p:spPr>
                <a:xfrm rot="78600">
                  <a:off x="4744800" y="560160"/>
                  <a:ext cx="433440" cy="4021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614" name="Line 15"/>
          <p:cNvSpPr/>
          <p:nvPr/>
        </p:nvSpPr>
        <p:spPr>
          <a:xfrm>
            <a:off x="2124000" y="3297240"/>
            <a:ext cx="5616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5" name="Oval 16"/>
          <p:cNvSpPr/>
          <p:nvPr/>
        </p:nvSpPr>
        <p:spPr>
          <a:xfrm>
            <a:off x="4500720" y="327024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6" name="Arc 17"/>
          <p:cNvSpPr/>
          <p:nvPr/>
        </p:nvSpPr>
        <p:spPr>
          <a:xfrm flipH="1" rot="19864200">
            <a:off x="3032280" y="2652480"/>
            <a:ext cx="1320480" cy="884160"/>
          </a:xfrm>
          <a:custGeom>
            <a:avLst/>
            <a:gdLst>
              <a:gd name="textAreaLeft" fmla="*/ 360 w 1320480"/>
              <a:gd name="textAreaRight" fmla="*/ 1321200 w 132048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fill="none" w="21386" h="15141">
                <a:moveTo>
                  <a:pt x="15404" y="0"/>
                </a:moveTo>
                <a:cubicBezTo>
                  <a:pt x="18641" y="3293"/>
                  <a:pt x="20737" y="7536"/>
                  <a:pt x="21385" y="12108"/>
                </a:cubicBezTo>
              </a:path>
              <a:path stroke="0" w="21386" h="15141">
                <a:moveTo>
                  <a:pt x="15404" y="0"/>
                </a:moveTo>
                <a:cubicBezTo>
                  <a:pt x="18641" y="3293"/>
                  <a:pt x="20737" y="7536"/>
                  <a:pt x="21385" y="12108"/>
                </a:cubicBezTo>
                <a:lnTo>
                  <a:pt x="0" y="15141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17" name="Group 18"/>
          <p:cNvGrpSpPr/>
          <p:nvPr/>
        </p:nvGrpSpPr>
        <p:grpSpPr>
          <a:xfrm>
            <a:off x="3159360" y="408960"/>
            <a:ext cx="2682360" cy="3053880"/>
            <a:chOff x="3159360" y="408960"/>
            <a:chExt cx="2682360" cy="3053880"/>
          </a:xfrm>
        </p:grpSpPr>
        <p:sp>
          <p:nvSpPr>
            <p:cNvPr id="1618" name="Freeform 19"/>
            <p:cNvSpPr/>
            <p:nvPr/>
          </p:nvSpPr>
          <p:spPr>
            <a:xfrm rot="21001200">
              <a:off x="4406040" y="488880"/>
              <a:ext cx="1175760" cy="2894040"/>
            </a:xfrm>
            <a:custGeom>
              <a:avLst/>
              <a:gdLst>
                <a:gd name="textAreaLeft" fmla="*/ 0 w 1175760"/>
                <a:gd name="textAreaRight" fmla="*/ 1176120 w 1175760"/>
                <a:gd name="textAreaTop" fmla="*/ 0 h 2894040"/>
                <a:gd name="textAreaBottom" fmla="*/ 289440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619" name="Group 20"/>
            <p:cNvGrpSpPr/>
            <p:nvPr/>
          </p:nvGrpSpPr>
          <p:grpSpPr>
            <a:xfrm>
              <a:off x="3159360" y="435240"/>
              <a:ext cx="2682360" cy="2986560"/>
              <a:chOff x="3159360" y="435240"/>
              <a:chExt cx="2682360" cy="2986560"/>
            </a:xfrm>
          </p:grpSpPr>
          <p:grpSp>
            <p:nvGrpSpPr>
              <p:cNvPr id="1620" name="Group 21"/>
              <p:cNvGrpSpPr/>
              <p:nvPr/>
            </p:nvGrpSpPr>
            <p:grpSpPr>
              <a:xfrm>
                <a:off x="5465520" y="2730240"/>
                <a:ext cx="376200" cy="544680"/>
                <a:chOff x="5465520" y="2730240"/>
                <a:chExt cx="376200" cy="544680"/>
              </a:xfrm>
            </p:grpSpPr>
            <p:sp>
              <p:nvSpPr>
                <p:cNvPr id="1621" name="Freeform 22"/>
                <p:cNvSpPr/>
                <p:nvPr/>
              </p:nvSpPr>
              <p:spPr>
                <a:xfrm>
                  <a:off x="5465520" y="2730240"/>
                  <a:ext cx="376200" cy="538200"/>
                </a:xfrm>
                <a:custGeom>
                  <a:avLst/>
                  <a:gdLst>
                    <a:gd name="textAreaLeft" fmla="*/ 0 w 376200"/>
                    <a:gd name="textAreaRight" fmla="*/ 376560 w 3762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22" name="Freeform 23"/>
                <p:cNvSpPr/>
                <p:nvPr/>
              </p:nvSpPr>
              <p:spPr>
                <a:xfrm>
                  <a:off x="5667840" y="3027240"/>
                  <a:ext cx="171720" cy="247680"/>
                </a:xfrm>
                <a:custGeom>
                  <a:avLst/>
                  <a:gdLst>
                    <a:gd name="textAreaLeft" fmla="*/ 0 w 171720"/>
                    <a:gd name="textAreaRight" fmla="*/ 172080 w 17172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23" name="Group 24"/>
              <p:cNvGrpSpPr/>
              <p:nvPr/>
            </p:nvGrpSpPr>
            <p:grpSpPr>
              <a:xfrm>
                <a:off x="3159360" y="435240"/>
                <a:ext cx="2527560" cy="2986560"/>
                <a:chOff x="3159360" y="435240"/>
                <a:chExt cx="2527560" cy="2986560"/>
              </a:xfrm>
            </p:grpSpPr>
            <p:sp>
              <p:nvSpPr>
                <p:cNvPr id="1624" name="Freeform 25"/>
                <p:cNvSpPr/>
                <p:nvPr/>
              </p:nvSpPr>
              <p:spPr>
                <a:xfrm rot="21001200">
                  <a:off x="4456800" y="505800"/>
                  <a:ext cx="1028160" cy="2417760"/>
                </a:xfrm>
                <a:custGeom>
                  <a:avLst/>
                  <a:gdLst>
                    <a:gd name="textAreaLeft" fmla="*/ 0 w 1028160"/>
                    <a:gd name="textAreaRight" fmla="*/ 1028520 w 1028160"/>
                    <a:gd name="textAreaTop" fmla="*/ 0 h 2417760"/>
                    <a:gd name="textAreaBottom" fmla="*/ 241812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625" name="Group 26"/>
                <p:cNvGrpSpPr/>
                <p:nvPr/>
              </p:nvGrpSpPr>
              <p:grpSpPr>
                <a:xfrm>
                  <a:off x="3159360" y="774360"/>
                  <a:ext cx="1621440" cy="2647440"/>
                  <a:chOff x="3159360" y="774360"/>
                  <a:chExt cx="1621440" cy="2647440"/>
                </a:xfrm>
              </p:grpSpPr>
              <p:sp>
                <p:nvSpPr>
                  <p:cNvPr id="1626" name="Freeform 27"/>
                  <p:cNvSpPr/>
                  <p:nvPr/>
                </p:nvSpPr>
                <p:spPr>
                  <a:xfrm rot="1453200">
                    <a:off x="3708000" y="726480"/>
                    <a:ext cx="331200" cy="2747880"/>
                  </a:xfrm>
                  <a:custGeom>
                    <a:avLst/>
                    <a:gdLst>
                      <a:gd name="textAreaLeft" fmla="*/ 0 w 331200"/>
                      <a:gd name="textAreaRight" fmla="*/ 331560 w 331200"/>
                      <a:gd name="textAreaTop" fmla="*/ 0 h 2747880"/>
                      <a:gd name="textAreaBottom" fmla="*/ 2748240 h 274788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27" name="Oval 28"/>
                  <p:cNvSpPr/>
                  <p:nvPr/>
                </p:nvSpPr>
                <p:spPr>
                  <a:xfrm rot="1453200">
                    <a:off x="4318560" y="838080"/>
                    <a:ext cx="39708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1628" name="Arc 29"/>
          <p:cNvSpPr/>
          <p:nvPr/>
        </p:nvSpPr>
        <p:spPr>
          <a:xfrm rot="20740200">
            <a:off x="3203280" y="364680"/>
            <a:ext cx="2687400" cy="5075280"/>
          </a:xfrm>
          <a:custGeom>
            <a:avLst/>
            <a:gdLst>
              <a:gd name="textAreaLeft" fmla="*/ 0 w 2687400"/>
              <a:gd name="textAreaRight" fmla="*/ 2687760 w 2687400"/>
              <a:gd name="textAreaTop" fmla="*/ 0 h 5075280"/>
              <a:gd name="textAreaBottom" fmla="*/ 5075640 h 5075280"/>
            </a:gdLst>
            <a:ahLst/>
            <a:rect l="textAreaLeft" t="textAreaTop" r="textAreaRight" b="textAreaBottom"/>
            <a:pathLst>
              <a:path fill="none" w="21600" h="41151">
                <a:moveTo>
                  <a:pt x="9122" y="-1"/>
                </a:moveTo>
                <a:cubicBezTo>
                  <a:pt x="16733" y="3545"/>
                  <a:pt x="21600" y="11181"/>
                  <a:pt x="21600" y="19579"/>
                </a:cubicBezTo>
                <a:cubicBezTo>
                  <a:pt x="21600" y="31078"/>
                  <a:pt x="12590" y="40561"/>
                  <a:pt x="1105" y="41150"/>
                </a:cubicBezTo>
              </a:path>
              <a:path stroke="0" w="21600" h="41151">
                <a:moveTo>
                  <a:pt x="9122" y="-1"/>
                </a:moveTo>
                <a:cubicBezTo>
                  <a:pt x="16733" y="3545"/>
                  <a:pt x="21600" y="11181"/>
                  <a:pt x="21600" y="19579"/>
                </a:cubicBezTo>
                <a:cubicBezTo>
                  <a:pt x="21600" y="31078"/>
                  <a:pt x="12590" y="40561"/>
                  <a:pt x="1105" y="41150"/>
                </a:cubicBezTo>
                <a:lnTo>
                  <a:pt x="0" y="19579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29" name="Group 30"/>
          <p:cNvGrpSpPr/>
          <p:nvPr/>
        </p:nvGrpSpPr>
        <p:grpSpPr>
          <a:xfrm>
            <a:off x="938880" y="198360"/>
            <a:ext cx="3077640" cy="3087000"/>
            <a:chOff x="938880" y="198360"/>
            <a:chExt cx="3077640" cy="3087000"/>
          </a:xfrm>
        </p:grpSpPr>
        <p:sp>
          <p:nvSpPr>
            <p:cNvPr id="1630" name="Freeform 31"/>
            <p:cNvSpPr/>
            <p:nvPr/>
          </p:nvSpPr>
          <p:spPr>
            <a:xfrm rot="16681200">
              <a:off x="1825560" y="-417960"/>
              <a:ext cx="1269000" cy="2894040"/>
            </a:xfrm>
            <a:custGeom>
              <a:avLst/>
              <a:gdLst>
                <a:gd name="textAreaLeft" fmla="*/ 0 w 1269000"/>
                <a:gd name="textAreaRight" fmla="*/ 1269000 w 1269000"/>
                <a:gd name="textAreaTop" fmla="*/ 0 h 2894040"/>
                <a:gd name="textAreaBottom" fmla="*/ 289440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631" name="Group 32"/>
            <p:cNvGrpSpPr/>
            <p:nvPr/>
          </p:nvGrpSpPr>
          <p:grpSpPr>
            <a:xfrm>
              <a:off x="968400" y="266400"/>
              <a:ext cx="3048120" cy="3018960"/>
              <a:chOff x="968400" y="266400"/>
              <a:chExt cx="3048120" cy="3018960"/>
            </a:xfrm>
          </p:grpSpPr>
          <p:grpSp>
            <p:nvGrpSpPr>
              <p:cNvPr id="1632" name="Group 33"/>
              <p:cNvGrpSpPr/>
              <p:nvPr/>
            </p:nvGrpSpPr>
            <p:grpSpPr>
              <a:xfrm>
                <a:off x="3373560" y="404640"/>
                <a:ext cx="642960" cy="551160"/>
                <a:chOff x="3373560" y="404640"/>
                <a:chExt cx="642960" cy="551160"/>
              </a:xfrm>
            </p:grpSpPr>
            <p:sp>
              <p:nvSpPr>
                <p:cNvPr id="1633" name="Freeform 34"/>
                <p:cNvSpPr/>
                <p:nvPr/>
              </p:nvSpPr>
              <p:spPr>
                <a:xfrm rot="17280000">
                  <a:off x="3487680" y="412560"/>
                  <a:ext cx="405720" cy="534960"/>
                </a:xfrm>
                <a:custGeom>
                  <a:avLst/>
                  <a:gdLst>
                    <a:gd name="textAreaLeft" fmla="*/ 0 w 405720"/>
                    <a:gd name="textAreaRight" fmla="*/ 406080 w 405720"/>
                    <a:gd name="textAreaTop" fmla="*/ 0 h 534960"/>
                    <a:gd name="textAreaBottom" fmla="*/ 535320 h 53496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34" name="Freeform 35"/>
                <p:cNvSpPr/>
                <p:nvPr/>
              </p:nvSpPr>
              <p:spPr>
                <a:xfrm rot="17280000">
                  <a:off x="3777840" y="500040"/>
                  <a:ext cx="185400" cy="24588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245880"/>
                    <a:gd name="textAreaBottom" fmla="*/ 246240 h 2458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5" name="Group 36"/>
              <p:cNvGrpSpPr/>
              <p:nvPr/>
            </p:nvGrpSpPr>
            <p:grpSpPr>
              <a:xfrm>
                <a:off x="968400" y="266400"/>
                <a:ext cx="2548800" cy="3018960"/>
                <a:chOff x="968400" y="266400"/>
                <a:chExt cx="2548800" cy="3018960"/>
              </a:xfrm>
            </p:grpSpPr>
            <p:sp>
              <p:nvSpPr>
                <p:cNvPr id="1636" name="Freeform 37"/>
                <p:cNvSpPr/>
                <p:nvPr/>
              </p:nvSpPr>
              <p:spPr>
                <a:xfrm rot="16681200">
                  <a:off x="1688040" y="-224280"/>
                  <a:ext cx="1109520" cy="2417760"/>
                </a:xfrm>
                <a:custGeom>
                  <a:avLst/>
                  <a:gdLst>
                    <a:gd name="textAreaLeft" fmla="*/ 0 w 1109520"/>
                    <a:gd name="textAreaRight" fmla="*/ 1109880 w 1109520"/>
                    <a:gd name="textAreaTop" fmla="*/ 0 h 2417760"/>
                    <a:gd name="textAreaBottom" fmla="*/ 241812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637" name="Group 38"/>
                <p:cNvGrpSpPr/>
                <p:nvPr/>
              </p:nvGrpSpPr>
              <p:grpSpPr>
                <a:xfrm>
                  <a:off x="1106280" y="947160"/>
                  <a:ext cx="2275560" cy="2338200"/>
                  <a:chOff x="1106280" y="947160"/>
                  <a:chExt cx="2275560" cy="2338200"/>
                </a:xfrm>
              </p:grpSpPr>
              <p:sp>
                <p:nvSpPr>
                  <p:cNvPr id="1638" name="Freeform 39"/>
                  <p:cNvSpPr/>
                  <p:nvPr/>
                </p:nvSpPr>
                <p:spPr>
                  <a:xfrm rot="18733800">
                    <a:off x="2064960" y="855720"/>
                    <a:ext cx="357840" cy="274788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0 h 2747880"/>
                      <a:gd name="textAreaBottom" fmla="*/ 2748240 h 274788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9" name="Oval 40"/>
                  <p:cNvSpPr/>
                  <p:nvPr/>
                </p:nvSpPr>
                <p:spPr>
                  <a:xfrm rot="18733800">
                    <a:off x="1234080" y="1039680"/>
                    <a:ext cx="42876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1640" name="Arc 41"/>
          <p:cNvSpPr/>
          <p:nvPr/>
        </p:nvSpPr>
        <p:spPr>
          <a:xfrm flipH="1" rot="859800">
            <a:off x="3203280" y="162000"/>
            <a:ext cx="2808360" cy="5311800"/>
          </a:xfrm>
          <a:custGeom>
            <a:avLst/>
            <a:gdLst>
              <a:gd name="textAreaLeft" fmla="*/ -360 w 2808360"/>
              <a:gd name="textAreaRight" fmla="*/ 2808360 w 2808360"/>
              <a:gd name="textAreaTop" fmla="*/ 0 h 5311800"/>
              <a:gd name="textAreaBottom" fmla="*/ 5312160 h 5311800"/>
            </a:gdLst>
            <a:ahLst/>
            <a:rect l="textAreaLeft" t="textAreaTop" r="textAreaRight" b="textAreaBottom"/>
            <a:pathLst>
              <a:path fill="none" w="21600" h="42365">
                <a:moveTo>
                  <a:pt x="5401" y="0"/>
                </a:moveTo>
                <a:cubicBezTo>
                  <a:pt x="14937" y="2463"/>
                  <a:pt x="21600" y="11065"/>
                  <a:pt x="21600" y="20914"/>
                </a:cubicBezTo>
                <a:cubicBezTo>
                  <a:pt x="21600" y="31863"/>
                  <a:pt x="13406" y="-24455"/>
                  <a:pt x="2532" y="-23171"/>
                </a:cubicBezTo>
              </a:path>
              <a:path stroke="0" w="21600" h="42365">
                <a:moveTo>
                  <a:pt x="5401" y="0"/>
                </a:moveTo>
                <a:cubicBezTo>
                  <a:pt x="14937" y="2463"/>
                  <a:pt x="21600" y="11065"/>
                  <a:pt x="21600" y="20914"/>
                </a:cubicBezTo>
                <a:cubicBezTo>
                  <a:pt x="21600" y="31863"/>
                  <a:pt x="13406" y="-24455"/>
                  <a:pt x="2532" y="-23171"/>
                </a:cubicBezTo>
                <a:lnTo>
                  <a:pt x="0" y="20914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41" name="Group 42"/>
          <p:cNvGrpSpPr/>
          <p:nvPr/>
        </p:nvGrpSpPr>
        <p:grpSpPr>
          <a:xfrm>
            <a:off x="4957200" y="210240"/>
            <a:ext cx="3074400" cy="3088080"/>
            <a:chOff x="4957200" y="210240"/>
            <a:chExt cx="3074400" cy="3088080"/>
          </a:xfrm>
        </p:grpSpPr>
        <p:sp>
          <p:nvSpPr>
            <p:cNvPr id="1642" name="Freeform 43"/>
            <p:cNvSpPr/>
            <p:nvPr/>
          </p:nvSpPr>
          <p:spPr>
            <a:xfrm flipH="1" rot="4918800">
              <a:off x="5875560" y="-406080"/>
              <a:ext cx="1269360" cy="2894040"/>
            </a:xfrm>
            <a:custGeom>
              <a:avLst/>
              <a:gdLst>
                <a:gd name="textAreaLeft" fmla="*/ 360 w 1269360"/>
                <a:gd name="textAreaRight" fmla="*/ 1270080 w 1269360"/>
                <a:gd name="textAreaTop" fmla="*/ 0 h 2894040"/>
                <a:gd name="textAreaBottom" fmla="*/ 289440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643" name="Group 44"/>
            <p:cNvGrpSpPr/>
            <p:nvPr/>
          </p:nvGrpSpPr>
          <p:grpSpPr>
            <a:xfrm>
              <a:off x="4957200" y="278640"/>
              <a:ext cx="3045240" cy="3019680"/>
              <a:chOff x="4957200" y="278640"/>
              <a:chExt cx="3045240" cy="3019680"/>
            </a:xfrm>
          </p:grpSpPr>
          <p:grpSp>
            <p:nvGrpSpPr>
              <p:cNvPr id="1644" name="Group 45"/>
              <p:cNvGrpSpPr/>
              <p:nvPr/>
            </p:nvGrpSpPr>
            <p:grpSpPr>
              <a:xfrm>
                <a:off x="4957200" y="416880"/>
                <a:ext cx="640440" cy="552240"/>
                <a:chOff x="4957200" y="416880"/>
                <a:chExt cx="640440" cy="552240"/>
              </a:xfrm>
            </p:grpSpPr>
            <p:sp>
              <p:nvSpPr>
                <p:cNvPr id="1645" name="Freeform 46"/>
                <p:cNvSpPr/>
                <p:nvPr/>
              </p:nvSpPr>
              <p:spPr>
                <a:xfrm flipH="1" rot="4320000">
                  <a:off x="5074920" y="423360"/>
                  <a:ext cx="405720" cy="539280"/>
                </a:xfrm>
                <a:custGeom>
                  <a:avLst/>
                  <a:gdLst>
                    <a:gd name="textAreaLeft" fmla="*/ -360 w 405720"/>
                    <a:gd name="textAreaRight" fmla="*/ 405720 w 405720"/>
                    <a:gd name="textAreaTop" fmla="*/ 0 h 539280"/>
                    <a:gd name="textAreaBottom" fmla="*/ 539640 h 53928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46" name="Freeform 47"/>
                <p:cNvSpPr/>
                <p:nvPr/>
              </p:nvSpPr>
              <p:spPr>
                <a:xfrm flipH="1" rot="4320000">
                  <a:off x="5010840" y="518400"/>
                  <a:ext cx="185400" cy="248400"/>
                </a:xfrm>
                <a:custGeom>
                  <a:avLst/>
                  <a:gdLst>
                    <a:gd name="textAreaLeft" fmla="*/ -360 w 185400"/>
                    <a:gd name="textAreaRight" fmla="*/ 185400 w 18540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47" name="Group 48"/>
              <p:cNvGrpSpPr/>
              <p:nvPr/>
            </p:nvGrpSpPr>
            <p:grpSpPr>
              <a:xfrm>
                <a:off x="5453640" y="278640"/>
                <a:ext cx="2548800" cy="3019680"/>
                <a:chOff x="5453640" y="278640"/>
                <a:chExt cx="2548800" cy="3019680"/>
              </a:xfrm>
            </p:grpSpPr>
            <p:sp>
              <p:nvSpPr>
                <p:cNvPr id="1648" name="Freeform 49"/>
                <p:cNvSpPr/>
                <p:nvPr/>
              </p:nvSpPr>
              <p:spPr>
                <a:xfrm flipH="1" rot="4918800">
                  <a:off x="6172920" y="-211680"/>
                  <a:ext cx="1109880" cy="2417760"/>
                </a:xfrm>
                <a:custGeom>
                  <a:avLst/>
                  <a:gdLst>
                    <a:gd name="textAreaLeft" fmla="*/ -360 w 1109880"/>
                    <a:gd name="textAreaRight" fmla="*/ 1109880 w 1109880"/>
                    <a:gd name="textAreaTop" fmla="*/ 0 h 2417760"/>
                    <a:gd name="textAreaBottom" fmla="*/ 241812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1649" name="Group 50"/>
                <p:cNvGrpSpPr/>
                <p:nvPr/>
              </p:nvGrpSpPr>
              <p:grpSpPr>
                <a:xfrm>
                  <a:off x="5589720" y="959760"/>
                  <a:ext cx="2275200" cy="2338560"/>
                  <a:chOff x="5589720" y="959760"/>
                  <a:chExt cx="2275200" cy="2338560"/>
                </a:xfrm>
              </p:grpSpPr>
              <p:sp>
                <p:nvSpPr>
                  <p:cNvPr id="1650" name="Freeform 51"/>
                  <p:cNvSpPr/>
                  <p:nvPr/>
                </p:nvSpPr>
                <p:spPr>
                  <a:xfrm flipH="1" rot="2866200">
                    <a:off x="6548040" y="868320"/>
                    <a:ext cx="357840" cy="274788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0 h 2747880"/>
                      <a:gd name="textAreaBottom" fmla="*/ 2748240 h 274788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1" name="Oval 52"/>
                  <p:cNvSpPr/>
                  <p:nvPr/>
                </p:nvSpPr>
                <p:spPr>
                  <a:xfrm flipH="1" rot="2866200">
                    <a:off x="7307280" y="1052280"/>
                    <a:ext cx="42876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1652" name="Oval 53"/>
          <p:cNvSpPr/>
          <p:nvPr/>
        </p:nvSpPr>
        <p:spPr>
          <a:xfrm>
            <a:off x="5867280" y="32446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3" name="Oval 54"/>
          <p:cNvSpPr/>
          <p:nvPr/>
        </p:nvSpPr>
        <p:spPr>
          <a:xfrm>
            <a:off x="3132000" y="324468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4" name="Oval 55"/>
          <p:cNvSpPr/>
          <p:nvPr/>
        </p:nvSpPr>
        <p:spPr>
          <a:xfrm>
            <a:off x="4500720" y="74772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5" name="Oval 56"/>
          <p:cNvSpPr/>
          <p:nvPr/>
        </p:nvSpPr>
        <p:spPr>
          <a:xfrm flipV="1">
            <a:off x="4500720" y="53881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6" name="Freeform 57"/>
          <p:cNvSpPr/>
          <p:nvPr/>
        </p:nvSpPr>
        <p:spPr>
          <a:xfrm>
            <a:off x="4508640" y="3071880"/>
            <a:ext cx="169560" cy="217440"/>
          </a:xfrm>
          <a:custGeom>
            <a:avLst/>
            <a:gdLst>
              <a:gd name="textAreaLeft" fmla="*/ 0 w 169560"/>
              <a:gd name="textAreaRight" fmla="*/ 169560 w 1695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07" h="137">
                <a:moveTo>
                  <a:pt x="107" y="137"/>
                </a:moveTo>
                <a:lnTo>
                  <a:pt x="104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7" name="Text Box 58"/>
          <p:cNvSpPr/>
          <p:nvPr/>
        </p:nvSpPr>
        <p:spPr>
          <a:xfrm>
            <a:off x="3997440" y="31701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58" name="Group 92"/>
          <p:cNvGrpSpPr/>
          <p:nvPr/>
        </p:nvGrpSpPr>
        <p:grpSpPr>
          <a:xfrm>
            <a:off x="468720" y="333360"/>
            <a:ext cx="1075320" cy="581400"/>
            <a:chOff x="468720" y="333360"/>
            <a:chExt cx="1075320" cy="581400"/>
          </a:xfrm>
        </p:grpSpPr>
        <p:sp>
          <p:nvSpPr>
            <p:cNvPr id="1659" name="Text Box 59"/>
            <p:cNvSpPr/>
            <p:nvPr/>
          </p:nvSpPr>
          <p:spPr>
            <a:xfrm>
              <a:off x="468720" y="33336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М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0" name="Object 60"/>
                <p:cNvSpPr txBox="1"/>
                <p:nvPr/>
              </p:nvSpPr>
              <p:spPr>
                <a:xfrm>
                  <a:off x="900000" y="476280"/>
                  <a:ext cx="35892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61" name="Text Box 61"/>
          <p:cNvSpPr/>
          <p:nvPr/>
        </p:nvSpPr>
        <p:spPr>
          <a:xfrm>
            <a:off x="7309800" y="2813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62" name="Group 62"/>
          <p:cNvGrpSpPr/>
          <p:nvPr/>
        </p:nvGrpSpPr>
        <p:grpSpPr>
          <a:xfrm>
            <a:off x="3099600" y="206280"/>
            <a:ext cx="1433160" cy="3045600"/>
            <a:chOff x="3099600" y="206280"/>
            <a:chExt cx="1433160" cy="3045600"/>
          </a:xfrm>
        </p:grpSpPr>
        <p:sp>
          <p:nvSpPr>
            <p:cNvPr id="1663" name="Freeform 63"/>
            <p:cNvSpPr/>
            <p:nvPr/>
          </p:nvSpPr>
          <p:spPr>
            <a:xfrm flipH="1" rot="21521400">
              <a:off x="3132360" y="220680"/>
              <a:ext cx="1285200" cy="2893680"/>
            </a:xfrm>
            <a:custGeom>
              <a:avLst/>
              <a:gdLst>
                <a:gd name="textAreaLeft" fmla="*/ 360 w 1285200"/>
                <a:gd name="textAreaRight" fmla="*/ 1285920 w 1285200"/>
                <a:gd name="textAreaTop" fmla="*/ 0 h 2893680"/>
                <a:gd name="textAreaBottom" fmla="*/ 2894040 h 28936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64" name="Freeform 64"/>
            <p:cNvSpPr/>
            <p:nvPr/>
          </p:nvSpPr>
          <p:spPr>
            <a:xfrm flipH="1" rot="21521400">
              <a:off x="3141000" y="2585520"/>
              <a:ext cx="324360" cy="561960"/>
            </a:xfrm>
            <a:custGeom>
              <a:avLst/>
              <a:gdLst>
                <a:gd name="textAreaLeft" fmla="*/ -360 w 324360"/>
                <a:gd name="textAreaRight" fmla="*/ 324360 w 3243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65" name="Freeform 65"/>
            <p:cNvSpPr/>
            <p:nvPr/>
          </p:nvSpPr>
          <p:spPr>
            <a:xfrm flipH="1" rot="21521400">
              <a:off x="3152520" y="2921760"/>
              <a:ext cx="123840" cy="21348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666" name="Group 66"/>
            <p:cNvGrpSpPr/>
            <p:nvPr/>
          </p:nvGrpSpPr>
          <p:grpSpPr>
            <a:xfrm>
              <a:off x="3164400" y="224640"/>
              <a:ext cx="1368360" cy="3027240"/>
              <a:chOff x="3164400" y="224640"/>
              <a:chExt cx="1368360" cy="3027240"/>
            </a:xfrm>
          </p:grpSpPr>
          <p:sp>
            <p:nvSpPr>
              <p:cNvPr id="1667" name="Freeform 67"/>
              <p:cNvSpPr/>
              <p:nvPr/>
            </p:nvSpPr>
            <p:spPr>
              <a:xfrm flipH="1" rot="21521400">
                <a:off x="3191760" y="236880"/>
                <a:ext cx="1122480" cy="2418120"/>
              </a:xfrm>
              <a:custGeom>
                <a:avLst/>
                <a:gdLst>
                  <a:gd name="textAreaLeft" fmla="*/ 360 w 1122480"/>
                  <a:gd name="textAreaRight" fmla="*/ 1123200 w 1122480"/>
                  <a:gd name="textAreaTop" fmla="*/ 0 h 2418120"/>
                  <a:gd name="textAreaBottom" fmla="*/ 2418480 h 241812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668" name="Group 68"/>
              <p:cNvGrpSpPr/>
              <p:nvPr/>
            </p:nvGrpSpPr>
            <p:grpSpPr>
              <a:xfrm>
                <a:off x="3889800" y="431640"/>
                <a:ext cx="642960" cy="2820240"/>
                <a:chOff x="3889800" y="431640"/>
                <a:chExt cx="642960" cy="2820240"/>
              </a:xfrm>
            </p:grpSpPr>
            <p:sp>
              <p:nvSpPr>
                <p:cNvPr id="1669" name="Freeform 69"/>
                <p:cNvSpPr/>
                <p:nvPr/>
              </p:nvSpPr>
              <p:spPr>
                <a:xfrm flipH="1" rot="21521400">
                  <a:off x="4138920" y="500040"/>
                  <a:ext cx="361800" cy="2747880"/>
                </a:xfrm>
                <a:custGeom>
                  <a:avLst/>
                  <a:gdLst>
                    <a:gd name="textAreaLeft" fmla="*/ -360 w 361800"/>
                    <a:gd name="textAreaRight" fmla="*/ 361800 w 361800"/>
                    <a:gd name="textAreaTop" fmla="*/ 0 h 2747880"/>
                    <a:gd name="textAreaBottom" fmla="*/ 2748240 h 274788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70" name="Oval 70"/>
                <p:cNvSpPr/>
                <p:nvPr/>
              </p:nvSpPr>
              <p:spPr>
                <a:xfrm flipH="1" rot="21521400">
                  <a:off x="3894120" y="436320"/>
                  <a:ext cx="433440" cy="40176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1671" name="Object 72"/>
              <p:cNvSpPr txBox="1"/>
              <p:nvPr/>
            </p:nvSpPr>
            <p:spPr>
              <a:xfrm>
                <a:off x="2443320" y="4221000"/>
                <a:ext cx="4665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672" name="Group 73"/>
          <p:cNvGrpSpPr/>
          <p:nvPr/>
        </p:nvGrpSpPr>
        <p:grpSpPr>
          <a:xfrm>
            <a:off x="2845440" y="3244680"/>
            <a:ext cx="3335760" cy="459720"/>
            <a:chOff x="2845440" y="3244680"/>
            <a:chExt cx="3335760" cy="459720"/>
          </a:xfrm>
        </p:grpSpPr>
        <p:sp>
          <p:nvSpPr>
            <p:cNvPr id="1673" name="Text Box 74"/>
            <p:cNvSpPr/>
            <p:nvPr/>
          </p:nvSpPr>
          <p:spPr>
            <a:xfrm>
              <a:off x="5797800" y="32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74" name="Text Box 75"/>
            <p:cNvSpPr/>
            <p:nvPr/>
          </p:nvSpPr>
          <p:spPr>
            <a:xfrm>
              <a:off x="2845440" y="324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675" name="Group 76"/>
          <p:cNvGrpSpPr/>
          <p:nvPr/>
        </p:nvGrpSpPr>
        <p:grpSpPr>
          <a:xfrm>
            <a:off x="4428720" y="293760"/>
            <a:ext cx="418320" cy="5571360"/>
            <a:chOff x="4428720" y="293760"/>
            <a:chExt cx="418320" cy="5571360"/>
          </a:xfrm>
        </p:grpSpPr>
        <p:sp>
          <p:nvSpPr>
            <p:cNvPr id="1676" name="Text Box 77"/>
            <p:cNvSpPr/>
            <p:nvPr/>
          </p:nvSpPr>
          <p:spPr>
            <a:xfrm>
              <a:off x="4428720" y="5405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77" name="Text Box 78"/>
            <p:cNvSpPr/>
            <p:nvPr/>
          </p:nvSpPr>
          <p:spPr>
            <a:xfrm>
              <a:off x="4473720" y="293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678" name="Group 79"/>
          <p:cNvGrpSpPr/>
          <p:nvPr/>
        </p:nvGrpSpPr>
        <p:grpSpPr>
          <a:xfrm>
            <a:off x="3780000" y="3173400"/>
            <a:ext cx="1439640" cy="216000"/>
            <a:chOff x="3780000" y="3173400"/>
            <a:chExt cx="1439640" cy="216000"/>
          </a:xfrm>
        </p:grpSpPr>
        <p:sp>
          <p:nvSpPr>
            <p:cNvPr id="1679" name="Line 80"/>
            <p:cNvSpPr/>
            <p:nvPr/>
          </p:nvSpPr>
          <p:spPr>
            <a:xfrm>
              <a:off x="3780000" y="3173400"/>
              <a:ext cx="0" cy="2160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80" name="Line 81"/>
            <p:cNvSpPr/>
            <p:nvPr/>
          </p:nvSpPr>
          <p:spPr>
            <a:xfrm>
              <a:off x="5219640" y="3173400"/>
              <a:ext cx="0" cy="2160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681" name="Group 82"/>
          <p:cNvGrpSpPr/>
          <p:nvPr/>
        </p:nvGrpSpPr>
        <p:grpSpPr>
          <a:xfrm>
            <a:off x="3708360" y="1878120"/>
            <a:ext cx="288720" cy="217440"/>
            <a:chOff x="3708360" y="1878120"/>
            <a:chExt cx="288720" cy="217440"/>
          </a:xfrm>
        </p:grpSpPr>
        <p:sp>
          <p:nvSpPr>
            <p:cNvPr id="1682" name="Line 83"/>
            <p:cNvSpPr/>
            <p:nvPr/>
          </p:nvSpPr>
          <p:spPr>
            <a:xfrm>
              <a:off x="3779640" y="1878120"/>
              <a:ext cx="217440" cy="144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83" name="Line 84"/>
            <p:cNvSpPr/>
            <p:nvPr/>
          </p:nvSpPr>
          <p:spPr>
            <a:xfrm>
              <a:off x="3708360" y="1950840"/>
              <a:ext cx="217440" cy="1447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684" name="Group 85"/>
          <p:cNvGrpSpPr/>
          <p:nvPr/>
        </p:nvGrpSpPr>
        <p:grpSpPr>
          <a:xfrm>
            <a:off x="5003640" y="1805040"/>
            <a:ext cx="288720" cy="217440"/>
            <a:chOff x="5003640" y="1805040"/>
            <a:chExt cx="288720" cy="217440"/>
          </a:xfrm>
        </p:grpSpPr>
        <p:sp>
          <p:nvSpPr>
            <p:cNvPr id="1685" name="Line 86"/>
            <p:cNvSpPr/>
            <p:nvPr/>
          </p:nvSpPr>
          <p:spPr>
            <a:xfrm flipH="1">
              <a:off x="5003640" y="1805040"/>
              <a:ext cx="217440" cy="144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86" name="Line 87"/>
            <p:cNvSpPr/>
            <p:nvPr/>
          </p:nvSpPr>
          <p:spPr>
            <a:xfrm flipH="1">
              <a:off x="5074920" y="1877760"/>
              <a:ext cx="217440" cy="1447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87" name="Object 88"/>
              <p:cNvSpPr txBox="1"/>
              <p:nvPr/>
            </p:nvSpPr>
            <p:spPr>
              <a:xfrm>
                <a:off x="1943280" y="6019920"/>
                <a:ext cx="468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500"/>
                            </p:stCondLst>
                            <p:childTnLst>
                              <p:par>
                                <p:cTn id="6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450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500"/>
                            </p:stCondLst>
                            <p:childTnLst>
                              <p:par>
                                <p:cTn id="7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6000"/>
                            </p:stCondLst>
                            <p:childTnLst>
                              <p:par>
                                <p:cTn id="7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8500"/>
                            </p:stCondLst>
                            <p:childTnLst>
                              <p:par>
                                <p:cTn id="7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45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2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2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2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000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1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1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0"/>
                            </p:stCondLst>
                            <p:childTnLst>
                              <p:par>
                                <p:cTn id="8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2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2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Freeform 2"/>
          <p:cNvSpPr/>
          <p:nvPr/>
        </p:nvSpPr>
        <p:spPr>
          <a:xfrm>
            <a:off x="4546440" y="851040"/>
            <a:ext cx="12960" cy="5752800"/>
          </a:xfrm>
          <a:custGeom>
            <a:avLst/>
            <a:gdLst>
              <a:gd name="textAreaLeft" fmla="*/ 0 w 12960"/>
              <a:gd name="textAreaRight" fmla="*/ 13320 w 12960"/>
              <a:gd name="textAreaTop" fmla="*/ 0 h 5752800"/>
              <a:gd name="textAreaBottom" fmla="*/ 5753160 h 5752800"/>
            </a:gdLst>
            <a:ahLst/>
            <a:rect l="textAreaLeft" t="textAreaTop" r="textAreaRight" b="textAreaBottom"/>
            <a:pathLst>
              <a:path w="8" h="3624">
                <a:moveTo>
                  <a:pt x="0" y="0"/>
                </a:moveTo>
                <a:lnTo>
                  <a:pt x="8" y="36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9" name="Line 3"/>
          <p:cNvSpPr/>
          <p:nvPr/>
        </p:nvSpPr>
        <p:spPr>
          <a:xfrm>
            <a:off x="2124000" y="3552840"/>
            <a:ext cx="5616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0" name="Arc 4"/>
          <p:cNvSpPr/>
          <p:nvPr/>
        </p:nvSpPr>
        <p:spPr>
          <a:xfrm rot="4762200">
            <a:off x="3019680" y="724680"/>
            <a:ext cx="2789280" cy="4426200"/>
          </a:xfrm>
          <a:custGeom>
            <a:avLst/>
            <a:gdLst>
              <a:gd name="textAreaLeft" fmla="*/ 0 w 2789280"/>
              <a:gd name="textAreaRight" fmla="*/ 2789640 w 2789280"/>
              <a:gd name="textAreaTop" fmla="*/ 0 h 4426200"/>
              <a:gd name="textAreaBottom" fmla="*/ 4426560 h 4426200"/>
            </a:gdLst>
            <a:ahLst/>
            <a:rect l="textAreaLeft" t="textAreaTop" r="textAreaRight" b="textAreaBottom"/>
            <a:pathLst>
              <a:path fill="none" w="21600" h="34205">
                <a:moveTo>
                  <a:pt x="15907" y="-1"/>
                </a:moveTo>
                <a:cubicBezTo>
                  <a:pt x="19568" y="3985"/>
                  <a:pt x="21600" y="9200"/>
                  <a:pt x="21600" y="14612"/>
                </a:cubicBezTo>
                <a:cubicBezTo>
                  <a:pt x="21600" y="23020"/>
                  <a:pt x="16719" y="30665"/>
                  <a:pt x="9092" y="34205"/>
                </a:cubicBezTo>
              </a:path>
              <a:path stroke="0" w="21600" h="34205">
                <a:moveTo>
                  <a:pt x="15907" y="-1"/>
                </a:moveTo>
                <a:cubicBezTo>
                  <a:pt x="19568" y="3985"/>
                  <a:pt x="21600" y="9200"/>
                  <a:pt x="21600" y="14612"/>
                </a:cubicBezTo>
                <a:cubicBezTo>
                  <a:pt x="21600" y="23020"/>
                  <a:pt x="16719" y="30665"/>
                  <a:pt x="9092" y="34205"/>
                </a:cubicBezTo>
                <a:lnTo>
                  <a:pt x="0" y="14612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1" name="Arc 5"/>
          <p:cNvSpPr/>
          <p:nvPr/>
        </p:nvSpPr>
        <p:spPr>
          <a:xfrm flipH="1" rot="859800">
            <a:off x="3485520" y="1054080"/>
            <a:ext cx="3297240" cy="5141880"/>
          </a:xfrm>
          <a:custGeom>
            <a:avLst/>
            <a:gdLst>
              <a:gd name="textAreaLeft" fmla="*/ -360 w 3297240"/>
              <a:gd name="textAreaRight" fmla="*/ 3297240 w 3297240"/>
              <a:gd name="textAreaTop" fmla="*/ 0 h 5141880"/>
              <a:gd name="textAreaBottom" fmla="*/ 5142240 h 5141880"/>
            </a:gdLst>
            <a:ahLst/>
            <a:rect l="textAreaLeft" t="textAreaTop" r="textAreaRight" b="textAreaBottom"/>
            <a:pathLst>
              <a:path fill="none" w="24534" h="38831">
                <a:moveTo>
                  <a:pt x="15959" y="-1"/>
                </a:moveTo>
                <a:cubicBezTo>
                  <a:pt x="21359" y="4082"/>
                  <a:pt x="24534" y="10460"/>
                  <a:pt x="24534" y="17231"/>
                </a:cubicBezTo>
                <a:cubicBezTo>
                  <a:pt x="24534" y="29160"/>
                  <a:pt x="14863" y="38831"/>
                  <a:pt x="2934" y="38831"/>
                </a:cubicBezTo>
                <a:cubicBezTo>
                  <a:pt x="1952" y="38831"/>
                  <a:pt x="972" y="38764"/>
                  <a:pt x="0" y="38630"/>
                </a:cubicBezTo>
              </a:path>
              <a:path stroke="0" w="24534" h="38831">
                <a:moveTo>
                  <a:pt x="15959" y="-1"/>
                </a:moveTo>
                <a:cubicBezTo>
                  <a:pt x="21359" y="4082"/>
                  <a:pt x="24534" y="10460"/>
                  <a:pt x="24534" y="17231"/>
                </a:cubicBezTo>
                <a:cubicBezTo>
                  <a:pt x="24534" y="29160"/>
                  <a:pt x="14863" y="38831"/>
                  <a:pt x="2934" y="38831"/>
                </a:cubicBezTo>
                <a:cubicBezTo>
                  <a:pt x="1952" y="38831"/>
                  <a:pt x="972" y="38764"/>
                  <a:pt x="0" y="38630"/>
                </a:cubicBezTo>
                <a:lnTo>
                  <a:pt x="2934" y="17231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2" name="Freeform 6"/>
          <p:cNvSpPr/>
          <p:nvPr/>
        </p:nvSpPr>
        <p:spPr>
          <a:xfrm>
            <a:off x="4546440" y="3286080"/>
            <a:ext cx="208080" cy="270000"/>
          </a:xfrm>
          <a:custGeom>
            <a:avLst/>
            <a:gdLst>
              <a:gd name="textAreaLeft" fmla="*/ 0 w 208080"/>
              <a:gd name="textAreaRight" fmla="*/ 208440 w 20808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31" h="170">
                <a:moveTo>
                  <a:pt x="128" y="170"/>
                </a:moveTo>
                <a:lnTo>
                  <a:pt x="131" y="0"/>
                </a:lnTo>
                <a:lnTo>
                  <a:pt x="0" y="2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3" name="Text Box 8"/>
          <p:cNvSpPr/>
          <p:nvPr/>
        </p:nvSpPr>
        <p:spPr>
          <a:xfrm>
            <a:off x="730980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4" name="Text Box 12"/>
          <p:cNvSpPr/>
          <p:nvPr/>
        </p:nvSpPr>
        <p:spPr>
          <a:xfrm>
            <a:off x="4645440" y="558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5" name="Arc 15"/>
          <p:cNvSpPr/>
          <p:nvPr/>
        </p:nvSpPr>
        <p:spPr>
          <a:xfrm rot="20419800">
            <a:off x="2690640" y="919080"/>
            <a:ext cx="2903760" cy="5099040"/>
          </a:xfrm>
          <a:custGeom>
            <a:avLst/>
            <a:gdLst>
              <a:gd name="textAreaLeft" fmla="*/ 0 w 2903760"/>
              <a:gd name="textAreaRight" fmla="*/ 2904120 w 2903760"/>
              <a:gd name="textAreaTop" fmla="*/ 0 h 5099040"/>
              <a:gd name="textAreaBottom" fmla="*/ 5099400 h 5099040"/>
            </a:gdLst>
            <a:ahLst/>
            <a:rect l="textAreaLeft" t="textAreaTop" r="textAreaRight" b="textAreaBottom"/>
            <a:pathLst>
              <a:path fill="none" w="21600" h="38505">
                <a:moveTo>
                  <a:pt x="13440" y="0"/>
                </a:moveTo>
                <a:cubicBezTo>
                  <a:pt x="18595" y="4098"/>
                  <a:pt x="21600" y="10323"/>
                  <a:pt x="21600" y="16909"/>
                </a:cubicBezTo>
                <a:cubicBezTo>
                  <a:pt x="21600" y="28672"/>
                  <a:pt x="12187" y="-27264"/>
                  <a:pt x="425" y="-27032"/>
                </a:cubicBezTo>
              </a:path>
              <a:path stroke="0" w="21600" h="38505">
                <a:moveTo>
                  <a:pt x="13440" y="0"/>
                </a:moveTo>
                <a:cubicBezTo>
                  <a:pt x="18595" y="4098"/>
                  <a:pt x="21600" y="10323"/>
                  <a:pt x="21600" y="16909"/>
                </a:cubicBezTo>
                <a:cubicBezTo>
                  <a:pt x="21600" y="28672"/>
                  <a:pt x="12187" y="-27264"/>
                  <a:pt x="425" y="-27032"/>
                </a:cubicBezTo>
                <a:lnTo>
                  <a:pt x="0" y="16909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6" name="Oval 16"/>
          <p:cNvSpPr/>
          <p:nvPr/>
        </p:nvSpPr>
        <p:spPr>
          <a:xfrm>
            <a:off x="4525920" y="58024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97" name="Group 17"/>
          <p:cNvGrpSpPr/>
          <p:nvPr/>
        </p:nvGrpSpPr>
        <p:grpSpPr>
          <a:xfrm>
            <a:off x="2171160" y="-2144160"/>
            <a:ext cx="4701240" cy="7269120"/>
            <a:chOff x="2171160" y="-2144160"/>
            <a:chExt cx="4701240" cy="7269120"/>
          </a:xfrm>
        </p:grpSpPr>
        <p:grpSp>
          <p:nvGrpSpPr>
            <p:cNvPr id="1698" name="Group 18"/>
            <p:cNvGrpSpPr/>
            <p:nvPr/>
          </p:nvGrpSpPr>
          <p:grpSpPr>
            <a:xfrm>
              <a:off x="2171160" y="1496160"/>
              <a:ext cx="2874240" cy="3628800"/>
              <a:chOff x="2171160" y="1496160"/>
              <a:chExt cx="2874240" cy="3628800"/>
            </a:xfrm>
          </p:grpSpPr>
          <p:sp>
            <p:nvSpPr>
              <p:cNvPr id="1699" name="Freeform 19"/>
              <p:cNvSpPr/>
              <p:nvPr/>
            </p:nvSpPr>
            <p:spPr>
              <a:xfrm rot="8311200">
                <a:off x="3011400" y="2186280"/>
                <a:ext cx="1229760" cy="2894040"/>
              </a:xfrm>
              <a:custGeom>
                <a:avLst/>
                <a:gdLst>
                  <a:gd name="textAreaLeft" fmla="*/ 0 w 1229760"/>
                  <a:gd name="textAreaRight" fmla="*/ 1229760 w 1229760"/>
                  <a:gd name="textAreaTop" fmla="*/ 0 h 2894040"/>
                  <a:gd name="textAreaBottom" fmla="*/ 2894400 h 28940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700" name="Group 20"/>
              <p:cNvGrpSpPr/>
              <p:nvPr/>
            </p:nvGrpSpPr>
            <p:grpSpPr>
              <a:xfrm>
                <a:off x="2171160" y="1496160"/>
                <a:ext cx="2794680" cy="3574440"/>
                <a:chOff x="2171160" y="1496160"/>
                <a:chExt cx="2794680" cy="3574440"/>
              </a:xfrm>
            </p:grpSpPr>
            <p:grpSp>
              <p:nvGrpSpPr>
                <p:cNvPr id="1701" name="Group 21"/>
                <p:cNvGrpSpPr/>
                <p:nvPr/>
              </p:nvGrpSpPr>
              <p:grpSpPr>
                <a:xfrm>
                  <a:off x="2171160" y="2749680"/>
                  <a:ext cx="619560" cy="669600"/>
                  <a:chOff x="2171160" y="2749680"/>
                  <a:chExt cx="619560" cy="669600"/>
                </a:xfrm>
              </p:grpSpPr>
              <p:sp>
                <p:nvSpPr>
                  <p:cNvPr id="1702" name="Freeform 22"/>
                  <p:cNvSpPr/>
                  <p:nvPr/>
                </p:nvSpPr>
                <p:spPr>
                  <a:xfrm rot="8910000">
                    <a:off x="2284200" y="2811960"/>
                    <a:ext cx="393120" cy="544320"/>
                  </a:xfrm>
                  <a:custGeom>
                    <a:avLst/>
                    <a:gdLst>
                      <a:gd name="textAreaLeft" fmla="*/ 0 w 393120"/>
                      <a:gd name="textAreaRight" fmla="*/ 393480 w 393120"/>
                      <a:gd name="textAreaTop" fmla="*/ 0 h 544320"/>
                      <a:gd name="textAreaBottom" fmla="*/ 544680 h 544320"/>
                    </a:gdLst>
                    <a:ahLst/>
                    <a:rect l="textAreaLeft" t="textAreaTop" r="textAreaRight" b="textAreaBottom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03" name="Freeform 23"/>
                  <p:cNvSpPr/>
                  <p:nvPr/>
                </p:nvSpPr>
                <p:spPr>
                  <a:xfrm rot="8910000">
                    <a:off x="2224440" y="2892240"/>
                    <a:ext cx="179640" cy="250560"/>
                  </a:xfrm>
                  <a:custGeom>
                    <a:avLst/>
                    <a:gdLst>
                      <a:gd name="textAreaLeft" fmla="*/ 0 w 179640"/>
                      <a:gd name="textAreaRight" fmla="*/ 180000 w 17964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40458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04" name="Group 24"/>
                <p:cNvGrpSpPr/>
                <p:nvPr/>
              </p:nvGrpSpPr>
              <p:grpSpPr>
                <a:xfrm>
                  <a:off x="2558880" y="1496160"/>
                  <a:ext cx="2406960" cy="3574440"/>
                  <a:chOff x="2558880" y="1496160"/>
                  <a:chExt cx="2406960" cy="3574440"/>
                </a:xfrm>
              </p:grpSpPr>
              <p:sp>
                <p:nvSpPr>
                  <p:cNvPr id="1705" name="Freeform 25"/>
                  <p:cNvSpPr/>
                  <p:nvPr/>
                </p:nvSpPr>
                <p:spPr>
                  <a:xfrm rot="8311200">
                    <a:off x="3224520" y="2599920"/>
                    <a:ext cx="1075320" cy="2417760"/>
                  </a:xfrm>
                  <a:custGeom>
                    <a:avLst/>
                    <a:gdLst>
                      <a:gd name="textAreaLeft" fmla="*/ 0 w 1075320"/>
                      <a:gd name="textAreaRight" fmla="*/ 1075680 w 1075320"/>
                      <a:gd name="textAreaTop" fmla="*/ 0 h 2417760"/>
                      <a:gd name="textAreaBottom" fmla="*/ 2418120 h 241776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706" name="Group 26"/>
                  <p:cNvGrpSpPr/>
                  <p:nvPr/>
                </p:nvGrpSpPr>
                <p:grpSpPr>
                  <a:xfrm>
                    <a:off x="4192920" y="1496160"/>
                    <a:ext cx="691920" cy="2867400"/>
                    <a:chOff x="4192920" y="1496160"/>
                    <a:chExt cx="691920" cy="2867400"/>
                  </a:xfrm>
                </p:grpSpPr>
                <p:sp>
                  <p:nvSpPr>
                    <p:cNvPr id="1707" name="Freeform 27"/>
                    <p:cNvSpPr/>
                    <p:nvPr/>
                  </p:nvSpPr>
                  <p:spPr>
                    <a:xfrm rot="10363800">
                      <a:off x="4365360" y="1506600"/>
                      <a:ext cx="346680" cy="2747880"/>
                    </a:xfrm>
                    <a:custGeom>
                      <a:avLst/>
                      <a:gdLst>
                        <a:gd name="textAreaLeft" fmla="*/ 0 w 346680"/>
                        <a:gd name="textAreaRight" fmla="*/ 347040 w 346680"/>
                        <a:gd name="textAreaTop" fmla="*/ 0 h 2747880"/>
                        <a:gd name="textAreaBottom" fmla="*/ 2748240 h 2747880"/>
                      </a:gdLst>
                      <a:ahLst/>
                      <a:rect l="textAreaLeft" t="textAreaTop" r="textAreaRight" b="textAreaBottom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708" name="Oval 28"/>
                    <p:cNvSpPr/>
                    <p:nvPr/>
                  </p:nvSpPr>
                  <p:spPr>
                    <a:xfrm rot="10363800">
                      <a:off x="4311720" y="3936960"/>
                      <a:ext cx="415440" cy="40176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</p:grpSp>
        <p:grpSp>
          <p:nvGrpSpPr>
            <p:cNvPr id="1709" name="Group 29"/>
            <p:cNvGrpSpPr/>
            <p:nvPr/>
          </p:nvGrpSpPr>
          <p:grpSpPr>
            <a:xfrm>
              <a:off x="4033440" y="-2144160"/>
              <a:ext cx="2838960" cy="3627360"/>
              <a:chOff x="4033440" y="-2144160"/>
              <a:chExt cx="2838960" cy="3627360"/>
            </a:xfrm>
          </p:grpSpPr>
          <p:sp>
            <p:nvSpPr>
              <p:cNvPr id="1710" name="Freeform 30"/>
              <p:cNvSpPr/>
              <p:nvPr/>
            </p:nvSpPr>
            <p:spPr>
              <a:xfrm flipH="1" flipV="1" rot="8311800">
                <a:off x="4837320" y="-2099880"/>
                <a:ext cx="1230840" cy="2894040"/>
              </a:xfrm>
              <a:custGeom>
                <a:avLst/>
                <a:gdLst>
                  <a:gd name="textAreaLeft" fmla="*/ -360 w 1230840"/>
                  <a:gd name="textAreaRight" fmla="*/ 1230840 w 1230840"/>
                  <a:gd name="textAreaTop" fmla="*/ 360 h 2894040"/>
                  <a:gd name="textAreaBottom" fmla="*/ 2894760 h 28940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711" name="Group 31"/>
              <p:cNvGrpSpPr/>
              <p:nvPr/>
            </p:nvGrpSpPr>
            <p:grpSpPr>
              <a:xfrm>
                <a:off x="4193280" y="-1384200"/>
                <a:ext cx="691560" cy="2867400"/>
                <a:chOff x="4193280" y="-1384200"/>
                <a:chExt cx="691560" cy="2867400"/>
              </a:xfrm>
            </p:grpSpPr>
            <p:sp>
              <p:nvSpPr>
                <p:cNvPr id="1712" name="Freeform 32"/>
                <p:cNvSpPr/>
                <p:nvPr/>
              </p:nvSpPr>
              <p:spPr>
                <a:xfrm flipH="1" flipV="1" rot="10363800">
                  <a:off x="4365360" y="-1275120"/>
                  <a:ext cx="346320" cy="2747880"/>
                </a:xfrm>
                <a:custGeom>
                  <a:avLst/>
                  <a:gdLst>
                    <a:gd name="textAreaLeft" fmla="*/ 360 w 346320"/>
                    <a:gd name="textAreaRight" fmla="*/ 347040 w 346320"/>
                    <a:gd name="textAreaTop" fmla="*/ -360 h 2747880"/>
                    <a:gd name="textAreaBottom" fmla="*/ 2747880 h 274788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13" name="Oval 33"/>
                <p:cNvSpPr/>
                <p:nvPr/>
              </p:nvSpPr>
              <p:spPr>
                <a:xfrm flipH="1" flipV="1" rot="10363800">
                  <a:off x="4349880" y="-1359720"/>
                  <a:ext cx="415080" cy="40176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714" name="Oval 34"/>
          <p:cNvSpPr/>
          <p:nvPr/>
        </p:nvSpPr>
        <p:spPr>
          <a:xfrm>
            <a:off x="4513320" y="14256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5" name="Text Box 35"/>
          <p:cNvSpPr/>
          <p:nvPr/>
        </p:nvSpPr>
        <p:spPr>
          <a:xfrm>
            <a:off x="3997440" y="12682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16" name="Group 36"/>
          <p:cNvGrpSpPr/>
          <p:nvPr/>
        </p:nvGrpSpPr>
        <p:grpSpPr>
          <a:xfrm>
            <a:off x="-1207800" y="834480"/>
            <a:ext cx="7626960" cy="5457960"/>
            <a:chOff x="-1207800" y="834480"/>
            <a:chExt cx="7626960" cy="5457960"/>
          </a:xfrm>
        </p:grpSpPr>
        <p:grpSp>
          <p:nvGrpSpPr>
            <p:cNvPr id="1717" name="Group 37"/>
            <p:cNvGrpSpPr/>
            <p:nvPr/>
          </p:nvGrpSpPr>
          <p:grpSpPr>
            <a:xfrm>
              <a:off x="2607480" y="3414240"/>
              <a:ext cx="3811680" cy="2878200"/>
              <a:chOff x="2607480" y="3414240"/>
              <a:chExt cx="3811680" cy="2878200"/>
            </a:xfrm>
          </p:grpSpPr>
          <p:sp>
            <p:nvSpPr>
              <p:cNvPr id="1718" name="Freeform 38"/>
              <p:cNvSpPr/>
              <p:nvPr/>
            </p:nvSpPr>
            <p:spPr>
              <a:xfrm rot="3367200">
                <a:off x="4092120" y="3279600"/>
                <a:ext cx="1332000" cy="3106440"/>
              </a:xfrm>
              <a:custGeom>
                <a:avLst/>
                <a:gdLst>
                  <a:gd name="textAreaLeft" fmla="*/ 0 w 1332000"/>
                  <a:gd name="textAreaRight" fmla="*/ 1332360 w 1332000"/>
                  <a:gd name="textAreaTop" fmla="*/ 0 h 3106440"/>
                  <a:gd name="textAreaBottom" fmla="*/ 3106800 h 31064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719" name="Group 39"/>
              <p:cNvGrpSpPr/>
              <p:nvPr/>
            </p:nvGrpSpPr>
            <p:grpSpPr>
              <a:xfrm>
                <a:off x="2607480" y="3506040"/>
                <a:ext cx="3759120" cy="2786400"/>
                <a:chOff x="2607480" y="3506040"/>
                <a:chExt cx="3759120" cy="2786400"/>
              </a:xfrm>
            </p:grpSpPr>
            <p:grpSp>
              <p:nvGrpSpPr>
                <p:cNvPr id="1720" name="Group 40"/>
                <p:cNvGrpSpPr/>
                <p:nvPr/>
              </p:nvGrpSpPr>
              <p:grpSpPr>
                <a:xfrm>
                  <a:off x="3663360" y="5666400"/>
                  <a:ext cx="703440" cy="626040"/>
                  <a:chOff x="3663360" y="5666400"/>
                  <a:chExt cx="703440" cy="626040"/>
                </a:xfrm>
              </p:grpSpPr>
              <p:sp>
                <p:nvSpPr>
                  <p:cNvPr id="1721" name="Freeform 41"/>
                  <p:cNvSpPr/>
                  <p:nvPr/>
                </p:nvSpPr>
                <p:spPr>
                  <a:xfrm rot="3966600">
                    <a:off x="3803400" y="5686200"/>
                    <a:ext cx="422640" cy="582120"/>
                  </a:xfrm>
                  <a:custGeom>
                    <a:avLst/>
                    <a:gdLst>
                      <a:gd name="textAreaLeft" fmla="*/ 0 w 422640"/>
                      <a:gd name="textAreaRight" fmla="*/ 423000 w 422640"/>
                      <a:gd name="textAreaTop" fmla="*/ 0 h 582120"/>
                      <a:gd name="textAreaBottom" fmla="*/ 582120 h 582120"/>
                    </a:gdLst>
                    <a:ahLst/>
                    <a:rect l="textAreaLeft" t="textAreaTop" r="textAreaRight" b="textAreaBottom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2" name="Freeform 42"/>
                  <p:cNvSpPr/>
                  <p:nvPr/>
                </p:nvSpPr>
                <p:spPr>
                  <a:xfrm rot="3966600">
                    <a:off x="3820320" y="6015960"/>
                    <a:ext cx="193320" cy="267840"/>
                  </a:xfrm>
                  <a:custGeom>
                    <a:avLst/>
                    <a:gdLst>
                      <a:gd name="textAreaLeft" fmla="*/ 0 w 193320"/>
                      <a:gd name="textAreaRight" fmla="*/ 193680 w 193320"/>
                      <a:gd name="textAreaTop" fmla="*/ 0 h 267840"/>
                      <a:gd name="textAreaBottom" fmla="*/ 268200 h 267840"/>
                    </a:gdLst>
                    <a:ahLst/>
                    <a:rect l="textAreaLeft" t="textAreaTop" r="textAreaRight" b="textAreaBottom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40458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23" name="Group 43"/>
                <p:cNvGrpSpPr/>
                <p:nvPr/>
              </p:nvGrpSpPr>
              <p:grpSpPr>
                <a:xfrm>
                  <a:off x="2607480" y="3506040"/>
                  <a:ext cx="3759120" cy="2413440"/>
                  <a:chOff x="2607480" y="3506040"/>
                  <a:chExt cx="3759120" cy="2413440"/>
                </a:xfrm>
              </p:grpSpPr>
              <p:sp>
                <p:nvSpPr>
                  <p:cNvPr id="1724" name="Freeform 44"/>
                  <p:cNvSpPr/>
                  <p:nvPr/>
                </p:nvSpPr>
                <p:spPr>
                  <a:xfrm rot="3367200">
                    <a:off x="4382280" y="3415320"/>
                    <a:ext cx="1164960" cy="2594520"/>
                  </a:xfrm>
                  <a:custGeom>
                    <a:avLst/>
                    <a:gdLst>
                      <a:gd name="textAreaLeft" fmla="*/ 0 w 1164960"/>
                      <a:gd name="textAreaRight" fmla="*/ 1165320 w 1164960"/>
                      <a:gd name="textAreaTop" fmla="*/ 0 h 2594520"/>
                      <a:gd name="textAreaBottom" fmla="*/ 2594520 h 259452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725" name="Group 45"/>
                  <p:cNvGrpSpPr/>
                  <p:nvPr/>
                </p:nvGrpSpPr>
                <p:grpSpPr>
                  <a:xfrm>
                    <a:off x="2607480" y="3548160"/>
                    <a:ext cx="3029760" cy="626760"/>
                    <a:chOff x="2607480" y="3548160"/>
                    <a:chExt cx="3029760" cy="626760"/>
                  </a:xfrm>
                </p:grpSpPr>
                <p:sp>
                  <p:nvSpPr>
                    <p:cNvPr id="1726" name="Freeform 46"/>
                    <p:cNvSpPr/>
                    <p:nvPr/>
                  </p:nvSpPr>
                  <p:spPr>
                    <a:xfrm rot="5419200">
                      <a:off x="3895200" y="2269800"/>
                      <a:ext cx="375480" cy="2948760"/>
                    </a:xfrm>
                    <a:custGeom>
                      <a:avLst/>
                      <a:gdLst>
                        <a:gd name="textAreaLeft" fmla="*/ 0 w 375480"/>
                        <a:gd name="textAreaRight" fmla="*/ 375840 w 375480"/>
                        <a:gd name="textAreaTop" fmla="*/ 0 h 2948760"/>
                        <a:gd name="textAreaBottom" fmla="*/ 2948760 h 2948760"/>
                      </a:gdLst>
                      <a:ahLst/>
                      <a:rect l="textAreaLeft" t="textAreaTop" r="textAreaRight" b="textAreaBottom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727" name="Oval 47"/>
                    <p:cNvSpPr/>
                    <p:nvPr/>
                  </p:nvSpPr>
                  <p:spPr>
                    <a:xfrm rot="5419200">
                      <a:off x="5195520" y="3733200"/>
                      <a:ext cx="450000" cy="43092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</p:grpSp>
        <p:grpSp>
          <p:nvGrpSpPr>
            <p:cNvPr id="1728" name="Group 48"/>
            <p:cNvGrpSpPr/>
            <p:nvPr/>
          </p:nvGrpSpPr>
          <p:grpSpPr>
            <a:xfrm>
              <a:off x="-1207800" y="834480"/>
              <a:ext cx="3808080" cy="2837520"/>
              <a:chOff x="-1207800" y="834480"/>
              <a:chExt cx="3808080" cy="2837520"/>
            </a:xfrm>
          </p:grpSpPr>
          <p:sp>
            <p:nvSpPr>
              <p:cNvPr id="1729" name="Freeform 49"/>
              <p:cNvSpPr/>
              <p:nvPr/>
            </p:nvSpPr>
            <p:spPr>
              <a:xfrm flipH="1" flipV="1" rot="3367800">
                <a:off x="-213120" y="700200"/>
                <a:ext cx="1332720" cy="3105720"/>
              </a:xfrm>
              <a:custGeom>
                <a:avLst/>
                <a:gdLst>
                  <a:gd name="textAreaLeft" fmla="*/ 360 w 1332720"/>
                  <a:gd name="textAreaRight" fmla="*/ 1333440 w 1332720"/>
                  <a:gd name="textAreaTop" fmla="*/ -360 h 3105720"/>
                  <a:gd name="textAreaBottom" fmla="*/ 3105720 h 310572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730" name="Group 50"/>
              <p:cNvGrpSpPr/>
              <p:nvPr/>
            </p:nvGrpSpPr>
            <p:grpSpPr>
              <a:xfrm>
                <a:off x="-429120" y="2910960"/>
                <a:ext cx="3029400" cy="626400"/>
                <a:chOff x="-429120" y="2910960"/>
                <a:chExt cx="3029400" cy="626400"/>
              </a:xfrm>
            </p:grpSpPr>
            <p:sp>
              <p:nvSpPr>
                <p:cNvPr id="1731" name="Freeform 51"/>
                <p:cNvSpPr/>
                <p:nvPr/>
              </p:nvSpPr>
              <p:spPr>
                <a:xfrm flipH="1" flipV="1" rot="5419200">
                  <a:off x="936720" y="1866960"/>
                  <a:ext cx="375120" cy="2948760"/>
                </a:xfrm>
                <a:custGeom>
                  <a:avLst/>
                  <a:gdLst>
                    <a:gd name="textAreaLeft" fmla="*/ 360 w 375120"/>
                    <a:gd name="textAreaRight" fmla="*/ 375840 w 375120"/>
                    <a:gd name="textAreaTop" fmla="*/ 0 h 2948760"/>
                    <a:gd name="textAreaBottom" fmla="*/ 2948760 h 294876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32" name="Oval 52"/>
                <p:cNvSpPr/>
                <p:nvPr/>
              </p:nvSpPr>
              <p:spPr>
                <a:xfrm flipH="1" flipV="1" rot="5419200">
                  <a:off x="-437400" y="2921760"/>
                  <a:ext cx="449640" cy="43056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33" name="Group 53"/>
          <p:cNvGrpSpPr/>
          <p:nvPr/>
        </p:nvGrpSpPr>
        <p:grpSpPr>
          <a:xfrm>
            <a:off x="3117240" y="662040"/>
            <a:ext cx="6627960" cy="5779440"/>
            <a:chOff x="3117240" y="662040"/>
            <a:chExt cx="6627960" cy="5779440"/>
          </a:xfrm>
        </p:grpSpPr>
        <p:grpSp>
          <p:nvGrpSpPr>
            <p:cNvPr id="1734" name="Group 54"/>
            <p:cNvGrpSpPr/>
            <p:nvPr/>
          </p:nvGrpSpPr>
          <p:grpSpPr>
            <a:xfrm>
              <a:off x="3117240" y="3537720"/>
              <a:ext cx="3413880" cy="2903760"/>
              <a:chOff x="3117240" y="3537720"/>
              <a:chExt cx="3413880" cy="2903760"/>
            </a:xfrm>
          </p:grpSpPr>
          <p:sp>
            <p:nvSpPr>
              <p:cNvPr id="1735" name="Freeform 55"/>
              <p:cNvSpPr/>
              <p:nvPr/>
            </p:nvSpPr>
            <p:spPr>
              <a:xfrm flipV="1" rot="6568200">
                <a:off x="4085640" y="3790440"/>
                <a:ext cx="1312200" cy="2982600"/>
              </a:xfrm>
              <a:custGeom>
                <a:avLst/>
                <a:gdLst>
                  <a:gd name="textAreaLeft" fmla="*/ 0 w 1312200"/>
                  <a:gd name="textAreaRight" fmla="*/ 1312560 w 1312200"/>
                  <a:gd name="textAreaTop" fmla="*/ -360 h 2982600"/>
                  <a:gd name="textAreaBottom" fmla="*/ 2982600 h 298260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736" name="Group 56"/>
              <p:cNvGrpSpPr/>
              <p:nvPr/>
            </p:nvGrpSpPr>
            <p:grpSpPr>
              <a:xfrm>
                <a:off x="3155760" y="3537720"/>
                <a:ext cx="3375360" cy="2903760"/>
                <a:chOff x="3155760" y="3537720"/>
                <a:chExt cx="3375360" cy="2903760"/>
              </a:xfrm>
            </p:grpSpPr>
            <p:grpSp>
              <p:nvGrpSpPr>
                <p:cNvPr id="1737" name="Group 57"/>
                <p:cNvGrpSpPr/>
                <p:nvPr/>
              </p:nvGrpSpPr>
              <p:grpSpPr>
                <a:xfrm>
                  <a:off x="5393160" y="5935320"/>
                  <a:ext cx="606240" cy="506160"/>
                  <a:chOff x="5393160" y="5935320"/>
                  <a:chExt cx="606240" cy="506160"/>
                </a:xfrm>
              </p:grpSpPr>
              <p:sp>
                <p:nvSpPr>
                  <p:cNvPr id="1738" name="Freeform 58"/>
                  <p:cNvSpPr/>
                  <p:nvPr/>
                </p:nvSpPr>
                <p:spPr>
                  <a:xfrm flipV="1" rot="5969400">
                    <a:off x="5487120" y="5913360"/>
                    <a:ext cx="417960" cy="545040"/>
                  </a:xfrm>
                  <a:custGeom>
                    <a:avLst/>
                    <a:gdLst>
                      <a:gd name="textAreaLeft" fmla="*/ 0 w 417960"/>
                      <a:gd name="textAreaRight" fmla="*/ 418320 w 417960"/>
                      <a:gd name="textAreaTop" fmla="*/ 360 h 545040"/>
                      <a:gd name="textAreaBottom" fmla="*/ 545760 h 545040"/>
                    </a:gdLst>
                    <a:ahLst/>
                    <a:rect l="textAreaLeft" t="textAreaTop" r="textAreaRight" b="textAreaBottom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9" name="Freeform 59"/>
                  <p:cNvSpPr/>
                  <p:nvPr/>
                </p:nvSpPr>
                <p:spPr>
                  <a:xfrm flipV="1" rot="5969400">
                    <a:off x="5743080" y="6201360"/>
                    <a:ext cx="190800" cy="250200"/>
                  </a:xfrm>
                  <a:custGeom>
                    <a:avLst/>
                    <a:gdLst>
                      <a:gd name="textAreaLeft" fmla="*/ 0 w 190800"/>
                      <a:gd name="textAreaRight" fmla="*/ 191160 w 190800"/>
                      <a:gd name="textAreaTop" fmla="*/ -360 h 250200"/>
                      <a:gd name="textAreaBottom" fmla="*/ 250200 h 250200"/>
                    </a:gdLst>
                    <a:ahLst/>
                    <a:rect l="textAreaLeft" t="textAreaTop" r="textAreaRight" b="textAreaBottom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40458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40" name="Group 60"/>
                <p:cNvGrpSpPr/>
                <p:nvPr/>
              </p:nvGrpSpPr>
              <p:grpSpPr>
                <a:xfrm>
                  <a:off x="3155760" y="3537720"/>
                  <a:ext cx="3375360" cy="2636640"/>
                  <a:chOff x="3155760" y="3537720"/>
                  <a:chExt cx="3375360" cy="2636640"/>
                </a:xfrm>
              </p:grpSpPr>
              <p:sp>
                <p:nvSpPr>
                  <p:cNvPr id="1741" name="Freeform 61"/>
                  <p:cNvSpPr/>
                  <p:nvPr/>
                </p:nvSpPr>
                <p:spPr>
                  <a:xfrm flipV="1" rot="6568200">
                    <a:off x="3947400" y="3972600"/>
                    <a:ext cx="1147320" cy="2491200"/>
                  </a:xfrm>
                  <a:custGeom>
                    <a:avLst/>
                    <a:gdLst>
                      <a:gd name="textAreaLeft" fmla="*/ 0 w 1147320"/>
                      <a:gd name="textAreaRight" fmla="*/ 1147320 w 1147320"/>
                      <a:gd name="textAreaTop" fmla="*/ 360 h 2491200"/>
                      <a:gd name="textAreaBottom" fmla="*/ 2491920 h 249120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742" name="Group 62"/>
                  <p:cNvGrpSpPr/>
                  <p:nvPr/>
                </p:nvGrpSpPr>
                <p:grpSpPr>
                  <a:xfrm>
                    <a:off x="3660480" y="3537720"/>
                    <a:ext cx="2870640" cy="1334160"/>
                    <a:chOff x="3660480" y="3537720"/>
                    <a:chExt cx="2870640" cy="1334160"/>
                  </a:xfrm>
                </p:grpSpPr>
                <p:sp>
                  <p:nvSpPr>
                    <p:cNvPr id="1743" name="Freeform 63"/>
                    <p:cNvSpPr/>
                    <p:nvPr/>
                  </p:nvSpPr>
                  <p:spPr>
                    <a:xfrm flipV="1" rot="4516200">
                      <a:off x="4929840" y="2660400"/>
                      <a:ext cx="369720" cy="2831040"/>
                    </a:xfrm>
                    <a:custGeom>
                      <a:avLst/>
                      <a:gdLst>
                        <a:gd name="textAreaLeft" fmla="*/ 0 w 369720"/>
                        <a:gd name="textAreaRight" fmla="*/ 370080 w 369720"/>
                        <a:gd name="textAreaTop" fmla="*/ 360 h 2831040"/>
                        <a:gd name="textAreaBottom" fmla="*/ 2831760 h 2831040"/>
                      </a:gdLst>
                      <a:ahLst/>
                      <a:rect l="textAreaLeft" t="textAreaTop" r="textAreaRight" b="textAreaBottom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744" name="Oval 64"/>
                    <p:cNvSpPr/>
                    <p:nvPr/>
                  </p:nvSpPr>
                  <p:spPr>
                    <a:xfrm flipV="1" rot="4516200">
                      <a:off x="3695040" y="4397760"/>
                      <a:ext cx="443160" cy="41364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</p:grpSp>
        <p:grpSp>
          <p:nvGrpSpPr>
            <p:cNvPr id="1745" name="Group 65"/>
            <p:cNvGrpSpPr/>
            <p:nvPr/>
          </p:nvGrpSpPr>
          <p:grpSpPr>
            <a:xfrm>
              <a:off x="6342480" y="662040"/>
              <a:ext cx="3402720" cy="2855520"/>
              <a:chOff x="6342480" y="662040"/>
              <a:chExt cx="3402720" cy="2855520"/>
            </a:xfrm>
          </p:grpSpPr>
          <p:sp>
            <p:nvSpPr>
              <p:cNvPr id="1746" name="Freeform 66"/>
              <p:cNvSpPr/>
              <p:nvPr/>
            </p:nvSpPr>
            <p:spPr>
              <a:xfrm flipH="1" rot="6567600">
                <a:off x="7464600" y="286560"/>
                <a:ext cx="1312560" cy="2981520"/>
              </a:xfrm>
              <a:custGeom>
                <a:avLst/>
                <a:gdLst>
                  <a:gd name="textAreaLeft" fmla="*/ 360 w 1312560"/>
                  <a:gd name="textAreaRight" fmla="*/ 1313280 w 1312560"/>
                  <a:gd name="textAreaTop" fmla="*/ 0 h 2981520"/>
                  <a:gd name="textAreaBottom" fmla="*/ 2981880 h 298152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747" name="Group 67"/>
              <p:cNvGrpSpPr/>
              <p:nvPr/>
            </p:nvGrpSpPr>
            <p:grpSpPr>
              <a:xfrm>
                <a:off x="6342480" y="2184120"/>
                <a:ext cx="2869920" cy="1333440"/>
                <a:chOff x="6342480" y="2184120"/>
                <a:chExt cx="2869920" cy="1333440"/>
              </a:xfrm>
            </p:grpSpPr>
            <p:sp>
              <p:nvSpPr>
                <p:cNvPr id="1748" name="Freeform 68"/>
                <p:cNvSpPr/>
                <p:nvPr/>
              </p:nvSpPr>
              <p:spPr>
                <a:xfrm flipH="1" rot="4516200">
                  <a:off x="7572960" y="1563120"/>
                  <a:ext cx="369360" cy="2830680"/>
                </a:xfrm>
                <a:custGeom>
                  <a:avLst/>
                  <a:gdLst>
                    <a:gd name="textAreaLeft" fmla="*/ 360 w 369360"/>
                    <a:gd name="textAreaRight" fmla="*/ 370080 w 369360"/>
                    <a:gd name="textAreaTop" fmla="*/ 0 h 2830680"/>
                    <a:gd name="textAreaBottom" fmla="*/ 2831040 h 283068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49" name="Oval 69"/>
                <p:cNvSpPr/>
                <p:nvPr/>
              </p:nvSpPr>
              <p:spPr>
                <a:xfrm flipH="1" rot="4516200">
                  <a:off x="8734680" y="2243880"/>
                  <a:ext cx="442800" cy="41364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50" name="Group 70"/>
          <p:cNvGrpSpPr/>
          <p:nvPr/>
        </p:nvGrpSpPr>
        <p:grpSpPr>
          <a:xfrm>
            <a:off x="2556000" y="3500280"/>
            <a:ext cx="3888720" cy="73080"/>
            <a:chOff x="2556000" y="3500280"/>
            <a:chExt cx="3888720" cy="73080"/>
          </a:xfrm>
        </p:grpSpPr>
        <p:sp>
          <p:nvSpPr>
            <p:cNvPr id="1751" name="Oval 71"/>
            <p:cNvSpPr/>
            <p:nvPr/>
          </p:nvSpPr>
          <p:spPr>
            <a:xfrm>
              <a:off x="6370920" y="3500280"/>
              <a:ext cx="7380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2" name="Oval 72"/>
            <p:cNvSpPr/>
            <p:nvPr/>
          </p:nvSpPr>
          <p:spPr>
            <a:xfrm>
              <a:off x="2556000" y="3500280"/>
              <a:ext cx="7272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53" name="Rectangle 75"/>
          <p:cNvSpPr/>
          <p:nvPr/>
        </p:nvSpPr>
        <p:spPr>
          <a:xfrm>
            <a:off x="250560" y="260280"/>
            <a:ext cx="64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строение перпендикулярных прямы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54" name="Group 9"/>
          <p:cNvGrpSpPr/>
          <p:nvPr/>
        </p:nvGrpSpPr>
        <p:grpSpPr>
          <a:xfrm>
            <a:off x="5734080" y="5084640"/>
            <a:ext cx="3211920" cy="459720"/>
            <a:chOff x="5734080" y="5084640"/>
            <a:chExt cx="3211920" cy="459720"/>
          </a:xfrm>
        </p:grpSpPr>
        <p:sp>
          <p:nvSpPr>
            <p:cNvPr id="1755" name="Rectangle 10"/>
            <p:cNvSpPr/>
            <p:nvPr/>
          </p:nvSpPr>
          <p:spPr>
            <a:xfrm>
              <a:off x="5734080" y="5084640"/>
              <a:ext cx="32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Докажем, что </a:t>
              </a:r>
              <a:r>
                <a:rPr b="0" i="1" lang="ru-RU" sz="2400" spc="-1" strike="noStrike">
                  <a:solidFill>
                    <a:srgbClr val="000066"/>
                  </a:solidFill>
                  <a:latin typeface="Tahoma"/>
                </a:rPr>
                <a:t>а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MN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6" name="Object 11"/>
                <p:cNvSpPr txBox="1"/>
                <p:nvPr/>
              </p:nvSpPr>
              <p:spPr>
                <a:xfrm>
                  <a:off x="8099280" y="5157360"/>
                  <a:ext cx="333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1757" name="Group 76"/>
          <p:cNvGrpSpPr/>
          <p:nvPr/>
        </p:nvGrpSpPr>
        <p:grpSpPr>
          <a:xfrm>
            <a:off x="1043280" y="1773360"/>
            <a:ext cx="1075320" cy="581400"/>
            <a:chOff x="1043280" y="1773360"/>
            <a:chExt cx="1075320" cy="581400"/>
          </a:xfrm>
        </p:grpSpPr>
        <p:sp>
          <p:nvSpPr>
            <p:cNvPr id="1758" name="Text Box 7"/>
            <p:cNvSpPr/>
            <p:nvPr/>
          </p:nvSpPr>
          <p:spPr>
            <a:xfrm>
              <a:off x="1043280" y="177336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М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9" name="Object 14"/>
                <p:cNvSpPr txBox="1"/>
                <p:nvPr/>
              </p:nvSpPr>
              <p:spPr>
                <a:xfrm>
                  <a:off x="1474560" y="1844280"/>
                  <a:ext cx="419040" cy="50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∉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600000">
                                      <p:cBhvr>
                                        <p:cTn id="869" dur="2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2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2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0">
                                      <p:cBhvr>
                                        <p:cTn id="900" dur="2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2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2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100000">
                                      <p:cBhvr>
                                        <p:cTn id="914" dur="2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2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6000"/>
                            </p:stCondLst>
                            <p:childTnLst>
                              <p:par>
                                <p:cTn id="9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8000"/>
                            </p:stCondLst>
                            <p:childTnLst>
                              <p:par>
                                <p:cTn id="9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2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3" dur="2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ёха</dc:creator>
  <dc:description/>
  <dc:language>en-US</dc:language>
  <cp:lastModifiedBy>Ирина</cp:lastModifiedBy>
  <dcterms:modified xsi:type="dcterms:W3CDTF">2020-01-03T10:37:40Z</dcterms:modified>
  <cp:revision>128</cp:revision>
  <dc:subject/>
  <dc:title>Презентация PowerPoint</dc:title>
</cp:coreProperties>
</file>