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BCB-921B-4E40-91F8-F01981D9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201-8D1B-42C6-A072-FCEDB8FC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FD6-3745-43AE-97AF-4F0E3350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3C3-6C98-4170-B147-2E322C6C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DB86-A8A0-4AAD-A96B-E6A43B8B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0DD9-BFEC-4C68-9451-F9056499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3A01-C9F5-41ED-972B-BD234AE4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082F-6A97-4A3B-B24E-EBDEA1B5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AC4B-407F-4C4A-83BD-1BD86B4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A6A4-92BA-41A0-91B2-343426E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A899-2F82-44E1-AF68-C70CE939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A96-F182-43EE-8619-282819D8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9D39-F085-4E2D-953A-23D3427F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38DD-E5AE-418C-8957-E0E48D3A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5F01-D308-42BB-ACC6-8930778C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55C4-A88A-40FF-A102-39E44FC5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4ED9-B352-4E98-B0B2-84B2AE27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CD8-8DD6-4FFF-BDD4-F210D823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30B-2243-42D6-B131-3820271F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E90-DD08-474D-80E1-40B63B48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CDD-6F0B-447F-86DF-9EB5CE21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7B8-F9F5-43AB-937A-14129201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7D2-7792-481E-A9A0-2B535B13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1EB-23A0-4508-B1A6-B9DF226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9D63-4473-4B7E-BED7-C48966B5AA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6AEB-CFEF-441B-8C43-F17AF390A1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Фразеологизмы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делаем вывод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жите о фразеологиз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такие объявления вызовут улыб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Вставляю палки в ко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Обучаю игре на нер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Куплю хорошо подвешенный копчены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Умн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лая г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дезь премудр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а па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и пядей во л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а на пле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дрый как царь Солом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а не зани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164360" y="5229360"/>
            <a:ext cx="863640" cy="720720"/>
          </a:xfrm>
          <a:prstGeom prst="smileyFace">
            <a:avLst>
              <a:gd name="adj" fmla="val 928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к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пром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мую т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бло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 бровь, а в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7164360" y="5229360"/>
            <a:ext cx="863640" cy="720720"/>
          </a:xfrm>
          <a:prstGeom prst="smileyFace">
            <a:avLst>
              <a:gd name="adj" fmla="val 928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дчинятьс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онить гол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ть себе хомут на ше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ясать под чужую ду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ить по стру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ти на по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ь под каблу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овиться на кол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7164360" y="5229360"/>
            <a:ext cx="863640" cy="720720"/>
          </a:xfrm>
          <a:prstGeom prst="smileyFace">
            <a:avLst>
              <a:gd name="adj" fmla="val 928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угоду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ходит как до жи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ходит на трети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ходит как до утки на пятые су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164360" y="5229360"/>
            <a:ext cx="863640" cy="720720"/>
          </a:xfrm>
          <a:prstGeom prst="smileyFace">
            <a:avLst>
              <a:gd name="adj" fmla="val 928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есто фразеологии в системе стилей реч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Organization Chart 42"/>
          <p:cNvGrpSpPr/>
          <p:nvPr/>
        </p:nvGrpSpPr>
        <p:grpSpPr>
          <a:xfrm>
            <a:off x="324000" y="1469880"/>
            <a:ext cx="8350920" cy="4550400"/>
            <a:chOff x="324000" y="1469880"/>
            <a:chExt cx="8350920" cy="4550400"/>
          </a:xfrm>
        </p:grpSpPr>
        <p:cxnSp>
          <p:nvCxnSpPr>
            <p:cNvPr id="94" name="_s1028"/>
            <p:cNvCxnSpPr>
              <a:stCxn id="95" idx="0"/>
              <a:endCxn id="96" idx="2"/>
            </p:cNvCxnSpPr>
            <p:nvPr/>
          </p:nvCxnSpPr>
          <p:spPr>
            <a:xfrm flipV="1" rot="16200000">
              <a:off x="5507280" y="2284560"/>
              <a:ext cx="910800" cy="2920320"/>
            </a:xfrm>
            <a:prstGeom prst="bentConnector3">
              <a:avLst>
                <a:gd name="adj1" fmla="val 130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029"/>
            <p:cNvCxnSpPr>
              <a:stCxn id="98" idx="0"/>
              <a:endCxn id="96" idx="2"/>
            </p:cNvCxnSpPr>
            <p:nvPr/>
          </p:nvCxnSpPr>
          <p:spPr>
            <a:xfrm flipV="1">
              <a:off x="4502520" y="3289680"/>
              <a:ext cx="3240" cy="91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030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2584080" y="2281680"/>
              <a:ext cx="910800" cy="2926800"/>
            </a:xfrm>
            <a:prstGeom prst="bentConnector3">
              <a:avLst>
                <a:gd name="adj1" fmla="val 130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1031"/>
            <p:cNvSpPr/>
            <p:nvPr/>
          </p:nvSpPr>
          <p:spPr>
            <a:xfrm>
              <a:off x="3246840" y="1469880"/>
              <a:ext cx="2505240" cy="1820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или речи, в которых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зможно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пользование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разеологизмов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2"/>
            <p:cNvSpPr/>
            <p:nvPr/>
          </p:nvSpPr>
          <p:spPr>
            <a:xfrm>
              <a:off x="324000" y="4200120"/>
              <a:ext cx="2505240" cy="1820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зговорный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3"/>
            <p:cNvSpPr/>
            <p:nvPr/>
          </p:nvSpPr>
          <p:spPr>
            <a:xfrm>
              <a:off x="3246840" y="4200120"/>
              <a:ext cx="2505240" cy="1820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удожественный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4"/>
            <p:cNvSpPr/>
            <p:nvPr/>
          </p:nvSpPr>
          <p:spPr>
            <a:xfrm>
              <a:off x="6169680" y="4200120"/>
              <a:ext cx="2505240" cy="1820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ублицистический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Фразеологизм – экспрессивно окрашенное сочетание сл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7" descr="2-1"/>
          <p:cNvPicPr/>
          <p:nvPr/>
        </p:nvPicPr>
        <p:blipFill>
          <a:blip r:embed="rId1"/>
          <a:stretch/>
        </p:blipFill>
        <p:spPr>
          <a:xfrm>
            <a:off x="4356000" y="3357720"/>
            <a:ext cx="138132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8" descr="176_4001"/>
          <p:cNvPicPr/>
          <p:nvPr/>
        </p:nvPicPr>
        <p:blipFill>
          <a:blip r:embed="rId2"/>
          <a:stretch/>
        </p:blipFill>
        <p:spPr>
          <a:xfrm>
            <a:off x="1116000" y="321300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running_pup"/>
          <p:cNvPicPr/>
          <p:nvPr/>
        </p:nvPicPr>
        <p:blipFill>
          <a:blip r:embed="rId3"/>
          <a:stretch/>
        </p:blipFill>
        <p:spPr>
          <a:xfrm>
            <a:off x="1403280" y="1341360"/>
            <a:ext cx="1368360" cy="82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Pic_0001_2"/>
          <p:cNvPicPr/>
          <p:nvPr/>
        </p:nvPicPr>
        <p:blipFill>
          <a:blip r:embed="rId4"/>
          <a:stretch/>
        </p:blipFill>
        <p:spPr>
          <a:xfrm>
            <a:off x="4356000" y="1413000"/>
            <a:ext cx="1933560" cy="1457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1"/>
          <p:cNvSpPr/>
          <p:nvPr/>
        </p:nvSpPr>
        <p:spPr>
          <a:xfrm>
            <a:off x="468360" y="2060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ускаться науте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6"/>
          <p:cNvSpPr/>
          <p:nvPr/>
        </p:nvSpPr>
        <p:spPr>
          <a:xfrm>
            <a:off x="684360" y="2565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Унос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ог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7"/>
          <p:cNvSpPr/>
          <p:nvPr/>
        </p:nvSpPr>
        <p:spPr>
          <a:xfrm>
            <a:off x="1187280" y="335772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8"/>
          <p:cNvSpPr/>
          <p:nvPr/>
        </p:nvSpPr>
        <p:spPr>
          <a:xfrm>
            <a:off x="1763640" y="2349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Смазать пятк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9"/>
          <p:cNvSpPr/>
          <p:nvPr/>
        </p:nvSpPr>
        <p:spPr>
          <a:xfrm>
            <a:off x="971640" y="5445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Рад сквозь землю провалитьс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0"/>
          <p:cNvSpPr/>
          <p:nvPr/>
        </p:nvSpPr>
        <p:spPr>
          <a:xfrm>
            <a:off x="5651640" y="443700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Кожа да кост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1"/>
          <p:cNvSpPr/>
          <p:nvPr/>
        </p:nvSpPr>
        <p:spPr>
          <a:xfrm>
            <a:off x="4356000" y="530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ожно ребра пересчита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2"/>
          <p:cNvSpPr/>
          <p:nvPr/>
        </p:nvSpPr>
        <p:spPr>
          <a:xfrm>
            <a:off x="4716360" y="306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Быть на седьмом неб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предел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зеологизм – это целое неразделимое устойчивое вы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, составляющие фразеологизм, ВСЕ ВМЕСТЕ значат совсем не то, что они же значат по отд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ЧТО ТЫ, БАБА, БЕЛЕНЫ ОБЪЕЛАСЬ?» - спросил старик у старухи в сказке 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амените фразеологизмы лексическими синонимами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го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3280" y="1773000"/>
            <a:ext cx="2089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еч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агате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84360" y="2349360"/>
            <a:ext cx="287964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Как в воду кануть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иять как медный самовар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оставить точку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быть вне себя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устроить разнос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лезть на рожон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набрать в рот вод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рятать глаз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716360" y="2166840"/>
            <a:ext cx="25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Что есть моч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ию минуту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без зазрения совест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ежу понятно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374000" y="4437000"/>
            <a:ext cx="356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тальные нерв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вольный как ветер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за словом в карман не полезет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встать не с той ног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240160" y="32846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на скорую рук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дберите фразеологизм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24000" y="155700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одчиня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Мет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угод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456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0920" y="162828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Ум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95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берите фразеологизмы к картинкам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4"/>
          <p:cNvPicPr/>
          <p:nvPr/>
        </p:nvPicPr>
        <p:blipFill>
          <a:blip r:embed="rId1"/>
          <a:stretch/>
        </p:blipFill>
        <p:spPr>
          <a:xfrm>
            <a:off x="971640" y="1989000"/>
            <a:ext cx="2628720" cy="1724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1"/>
          <p:cNvPicPr/>
          <p:nvPr/>
        </p:nvPicPr>
        <p:blipFill>
          <a:blip r:embed="rId2"/>
          <a:stretch/>
        </p:blipFill>
        <p:spPr>
          <a:xfrm>
            <a:off x="5796000" y="1844640"/>
            <a:ext cx="2276280" cy="1714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2"/>
          <p:cNvPicPr/>
          <p:nvPr/>
        </p:nvPicPr>
        <p:blipFill>
          <a:blip r:embed="rId3"/>
          <a:stretch/>
        </p:blipFill>
        <p:spPr>
          <a:xfrm>
            <a:off x="1187280" y="4292640"/>
            <a:ext cx="201960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6"/>
          <p:cNvPicPr/>
          <p:nvPr/>
        </p:nvPicPr>
        <p:blipFill>
          <a:blip r:embed="rId4"/>
          <a:stretch/>
        </p:blipFill>
        <p:spPr>
          <a:xfrm>
            <a:off x="5724360" y="4005360"/>
            <a:ext cx="232416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одберите лексические антонимы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к фразеологизма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сучив рук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арить ка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 на подъ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есь оп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ь на седьмом н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лять палки в ко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оль фразеологизм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зеологизмы – эт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редства выразительности язы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ни делают нашу речь эмоциональной, выразительной и яр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 выражения: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К нам неожиданно приехали гости» и «Гости свалились как снег на голов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7:37:18Z</dcterms:created>
  <dc:creator>USER</dc:creator>
  <dc:description/>
  <dc:language>en-US</dc:language>
  <cp:lastModifiedBy>1</cp:lastModifiedBy>
  <dcterms:modified xsi:type="dcterms:W3CDTF">2014-02-16T13:18:42Z</dcterms:modified>
  <cp:revision>18</cp:revision>
  <dc:subject/>
  <dc:title>фразеология</dc:title>
</cp:coreProperties>
</file>