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EAB-7040-44F9-A532-72079C13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1D9-9A25-4796-AE9F-3BB75E76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226-011B-4C2B-8806-D65C641F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995-9278-4BC8-BC9C-2F058450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3F0C-DA43-446F-A4C6-1A05FA22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2A9B-F448-4741-A325-5E67BAFE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2F2-5C59-4763-BB49-D8E0F398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342-7770-4374-8F89-947E877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BB04-CA5A-46D1-80FE-CF5361E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F284-E7B1-4AA0-978F-FED860D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11D-2362-4969-8521-847B5F6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4B5-E5F5-42A3-8B65-00A0D3BB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A788-E6F4-4130-955F-85C8E36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A262-1902-4754-B8F8-1F5CEB7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0C48-85C1-43B1-AA88-AF1F84A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4BFF-BCA6-4760-AA2A-DF583A2D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3370-FA1D-4669-82D4-8FB13C55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12EA3-5B68-4CDB-91CF-6AC02352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1CE6C-330D-427D-A410-42C3BC6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CE353-3BC9-4AF0-A767-06FD1249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27D12-7835-4BF9-9945-7372247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FFFDD-6675-4EF6-B256-4266BC21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632-8942-47C0-87E7-49DF93B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521A5-0206-4D0E-B0C1-CF1CEE0A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8DFE2-ABAB-4412-B263-22093A2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77AA0-FE12-4861-A2E0-AC55ED2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25081-FEB9-4158-8993-FAB05CE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C0D56-E13D-428D-8E18-3E67B3B9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BF35E-BA4D-4691-BE20-1C8F3B59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40AB9-1A29-4EEC-8004-0B4B0DAD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799F-E586-4935-8A4F-42E5A04A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017F-21B1-4892-B8BC-8D23B67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6D3F-D915-4B69-94D6-35E419A0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69B-BC37-4E2B-8F1F-B16C7A83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7D8A-033D-4E80-AAD7-9A1422E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E7F3-1596-4239-B15C-4242F138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1162-BDCD-4A28-BE44-AEC84713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F4D3-9651-44AB-A52E-83FA6A7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A1DC-B698-4AEB-B3D4-EF1252F7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D4DE-733F-4846-9FCF-BBE4F2C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8D8A-142A-4BE3-977A-40E4322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2D85-9680-41E0-9272-1BCF1CFD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40E5-67DE-4708-8E17-A7638EFE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9D1A2-91CB-4AF3-816A-67BD7400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997-AE97-4435-A4EA-2DC6BB4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39FEC-8D9C-485E-BF83-1E478D79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F43F6-A763-44EA-BAC2-BD39779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D3599-03BD-40A8-BAB6-E6B23001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BF360-B2EB-4C2D-B891-45CB6D02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9FE0C-6DCB-42EA-8976-B5B42A4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4E7CB-B2E3-4C5F-A265-7A7E059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BD16A-5F6A-49E1-8B26-2C05F39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5464D-B91C-4B75-A276-C5059C79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23A6B-1A0A-4F36-817D-728C3B2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807C5-2E60-4831-A65B-4610DD3E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124-B549-472B-9AD1-80F9CB5F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B706A-1592-4EE1-BDCF-B30A9F02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33942-3A0A-4AE4-A147-87702F3F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7B18C-806D-4B70-ABDE-1BA9141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1D340-C687-46EE-BD64-1AA758A9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93668-B4D5-4FEF-AA1C-3CB1C9A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ECC27-E6B8-4A0A-9CDD-9E2769C8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D53B6-5CD8-4379-B93D-34BE9829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DF185-10C9-4445-85B1-BB23A3A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8C523-3ADA-4CD0-9CA9-930A50C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656A0-0A07-429F-9699-DCFAE47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7F8-9335-45CF-B793-BA9CE4F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673F3-0E6B-44FC-9028-2DB8378B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E7C28-E02D-4EA5-8B2B-8EDBFCD3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E75AC-1C76-4492-BA7F-D3711FDB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AF213-B25B-4FFD-9D87-38C43AE2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23634-2E4F-4C91-BA98-AED0794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62DB9-2657-4E21-8E54-079273F0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18134-8B5E-420E-A8E0-6CB16D35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FDA76-3E24-430D-832A-54008511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0AC12-190A-436D-A3F0-5E45CCF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73102-2432-4881-8149-D088AE1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B97-D3B6-41B4-BEAF-5FBBEB3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9EA0A-FD00-478B-A6CC-528DC44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D3505-D5AC-4062-8DB4-6E5BCDA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E756A-C5DB-4EB1-830D-B4A7AFF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D439F-50D1-46D0-B606-1FFF3D1B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70325-C1C3-494C-B0B4-310E0A03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DB6-08DC-4CE6-B91E-A63D49F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89BC-C0C8-4961-A8E7-591D6E76D85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9F76-7F6B-49EE-982B-213A3A4B419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3D1-2F88-4619-BEBE-7BC09FFC6F7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66C-4273-471A-B9C8-A784C523F39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E64A-B6F6-4E4B-BC6B-D74139F87D5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919F-9380-43B5-9B84-A7D381F2B50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690-0673-448C-B7FB-ACB383C3A72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https://avatars.mds.yandex.net/get-pdb/2365395/bfb64380-ade9-48a0-b479-01d78d65c34d/s1200"/>
          <p:cNvPicPr/>
          <p:nvPr/>
        </p:nvPicPr>
        <p:blipFill>
          <a:blip r:embed="rId1"/>
          <a:stretch/>
        </p:blipFill>
        <p:spPr>
          <a:xfrm>
            <a:off x="235080" y="457200"/>
            <a:ext cx="845172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71520" y="580680"/>
            <a:ext cx="754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c3e42"/>
                </a:solidFill>
                <a:latin typeface="Monotype Corsiva"/>
              </a:rPr>
              <a:t>Вместе тесно, а врозь скучно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https://ds03.infourok.ru/uploads/ex/0a0f/000303c6-cbb9c583/3/hello_html_m1cd3b1a5.jpg"/>
          <p:cNvPicPr/>
          <p:nvPr/>
        </p:nvPicPr>
        <p:blipFill>
          <a:blip r:embed="rId1"/>
          <a:stretch/>
        </p:blipFill>
        <p:spPr>
          <a:xfrm>
            <a:off x="1854360" y="3076560"/>
            <a:ext cx="53449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28640" y="1149480"/>
            <a:ext cx="775008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добро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При солнышке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матери -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тепло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1" lang="ru-RU" sz="5000" spc="-1" strike="noStrike">
                <a:solidFill>
                  <a:srgbClr val="000000"/>
                </a:solidFill>
                <a:latin typeface="Monotype Corsiva"/>
              </a:rPr>
              <a:t>при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320760" y="-993240"/>
            <a:ext cx="7908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и солнышке тепло, при матери - добр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4" descr="https://mywishcard.com/s/i2/a3/4/470x0_ayESpCAcdVzTGdgf8q297RECevSoMACs___jpg____4_90889317.jpg"/>
          <p:cNvPicPr/>
          <p:nvPr/>
        </p:nvPicPr>
        <p:blipFill>
          <a:blip r:embed="rId1"/>
          <a:stretch/>
        </p:blipFill>
        <p:spPr>
          <a:xfrm>
            <a:off x="1185840" y="3830760"/>
            <a:ext cx="6523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60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75f6d"/>
                </a:solidFill>
                <a:latin typeface="Century Schoolbook"/>
              </a:rPr>
              <a:t>"СОСТАВЬ СЛОВО"  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360" y="1260000"/>
            <a:ext cx="38685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Ямьсе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едоилит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Беёркно 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Дмо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1211400"/>
            <a:ext cx="36576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одители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ебёнок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Дом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5200" y="2176920"/>
            <a:ext cx="41760" cy="496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tIns="3960" bIns="396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025480" y="2184840"/>
            <a:ext cx="65520" cy="417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tIns="-3960" bIns="-396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https://znanio.ru/static/files/cache/d8/fa/d8fa67337b2a2d4a83520ff837b184a5.jpg"/>
          <p:cNvPicPr/>
          <p:nvPr/>
        </p:nvPicPr>
        <p:blipFill>
          <a:blip r:embed="rId1"/>
          <a:stretch/>
        </p:blipFill>
        <p:spPr>
          <a:xfrm>
            <a:off x="852480" y="534960"/>
            <a:ext cx="7958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C:\Users\user\Desktop\Новая папка\IMG-20181027-WA0032.jpg"/>
          <p:cNvPicPr/>
          <p:nvPr/>
        </p:nvPicPr>
        <p:blipFill>
          <a:blip r:embed="rId1"/>
          <a:stretch/>
        </p:blipFill>
        <p:spPr>
          <a:xfrm>
            <a:off x="235080" y="173160"/>
            <a:ext cx="87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82480" y="506520"/>
            <a:ext cx="7032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У меня есть мама,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У меня есть папа,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У меня есть дедушка,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У меня есть бабушка,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А у них есть я.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Monotype Corsiva"/>
              </a:rPr>
              <a:t>Что это? </a:t>
            </a:r>
            <a:br>
              <a:rPr sz="3600"/>
            </a:br>
            <a:endParaRPr b="0" lang="en-US" sz="5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https://w-dog.ru/wallpapers/11/11/516272292078089/cvety-golubye-cvetochki-krasivye-belyj-fon.jpg"/>
          <p:cNvPicPr/>
          <p:nvPr/>
        </p:nvPicPr>
        <p:blipFill>
          <a:blip r:embed="rId1"/>
          <a:stretch/>
        </p:blipFill>
        <p:spPr>
          <a:xfrm>
            <a:off x="235080" y="4151160"/>
            <a:ext cx="3670200" cy="224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 rot="20907000">
            <a:off x="1658520" y="455040"/>
            <a:ext cx="66391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7030a0"/>
                </a:solidFill>
                <a:latin typeface="Monotype Corsiva"/>
              </a:rPr>
              <a:t>СЕМЬЯ</a:t>
            </a:r>
            <a:endParaRPr b="0" lang="en-US" sz="13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6" descr="https://avatars.mds.yandex.net/get-pdb/2365395/bfb64380-ade9-48a0-b479-01d78d65c34d/s1200"/>
          <p:cNvPicPr/>
          <p:nvPr/>
        </p:nvPicPr>
        <p:blipFill>
          <a:blip r:embed="rId1"/>
          <a:stretch/>
        </p:blipFill>
        <p:spPr>
          <a:xfrm>
            <a:off x="235080" y="2722680"/>
            <a:ext cx="79531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072040" y="2076120"/>
            <a:ext cx="337968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1"/>
          <p:cNvSpPr/>
          <p:nvPr/>
        </p:nvSpPr>
        <p:spPr>
          <a:xfrm>
            <a:off x="655560" y="716040"/>
            <a:ext cx="796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«Храни меня от бед, семья моя!»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7" descr="http://ecsssdm.ru/wp-content/uploads/2019/04/dibujo-familia.jpg"/>
          <p:cNvPicPr/>
          <p:nvPr/>
        </p:nvPicPr>
        <p:blipFill>
          <a:blip r:embed="rId1"/>
          <a:stretch/>
        </p:blipFill>
        <p:spPr>
          <a:xfrm>
            <a:off x="3855960" y="3693960"/>
            <a:ext cx="4986360" cy="26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373560" y="2211480"/>
            <a:ext cx="5178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https://avatars.mds.yandex.net/get-pdb/1604805/bbcb3d62-10e3-4075-9036-dcc369ba4c5c/s1200"/>
          <p:cNvPicPr/>
          <p:nvPr/>
        </p:nvPicPr>
        <p:blipFill>
          <a:blip r:embed="rId1"/>
          <a:stretch/>
        </p:blipFill>
        <p:spPr>
          <a:xfrm>
            <a:off x="309600" y="198360"/>
            <a:ext cx="8451720" cy="64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360160" y="704880"/>
            <a:ext cx="61549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      </a:t>
            </a: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«Дружная         семья       гору свернёт</a:t>
            </a:r>
            <a:r>
              <a:rPr b="1" lang="ru-RU" sz="6100" spc="-1" strike="noStrike">
                <a:solidFill>
                  <a:srgbClr val="0070c0"/>
                </a:solidFill>
                <a:latin typeface="Monotype Corsiva"/>
              </a:rPr>
              <a:t>»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6" descr="https://avatars.mds.yandex.net/get-zen_doc/46847/pub_5d047e68af8bd4147ddca530_5d047e9f97d1910df8505fa4/scale_1200"/>
          <p:cNvPicPr/>
          <p:nvPr/>
        </p:nvPicPr>
        <p:blipFill>
          <a:blip r:embed="rId1"/>
          <a:stretch/>
        </p:blipFill>
        <p:spPr>
          <a:xfrm>
            <a:off x="160200" y="2360520"/>
            <a:ext cx="27432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71440" y="790560"/>
            <a:ext cx="8244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на месте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вместе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Когда  все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душа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 и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09600" y="542520"/>
            <a:ext cx="820584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Monotype Corsiva"/>
              </a:rPr>
              <a:t>Когда все вместе, то и  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Monotype Corsiva"/>
              </a:rPr>
              <a:t>душа на месте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https://pbs.twimg.com/media/C2upydyXUAA8faC.jpg:large"/>
          <p:cNvPicPr/>
          <p:nvPr/>
        </p:nvPicPr>
        <p:blipFill>
          <a:blip r:embed="rId1"/>
          <a:stretch/>
        </p:blipFill>
        <p:spPr>
          <a:xfrm>
            <a:off x="2162160" y="2641680"/>
            <a:ext cx="47293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55120" y="704520"/>
            <a:ext cx="795996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тесно,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скучно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а врозь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Вместе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9:53:58Z</dcterms:created>
  <dc:creator>Инна</dc:creator>
  <dc:description/>
  <dc:language>en-US</dc:language>
  <cp:lastModifiedBy>Администратор</cp:lastModifiedBy>
  <dcterms:modified xsi:type="dcterms:W3CDTF">2019-12-16T11:54:30Z</dcterms:modified>
  <cp:revision>13</cp:revision>
  <dc:subject/>
  <dc:title>Презентация PowerPoint</dc:title>
</cp:coreProperties>
</file>