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0FE9-F25E-4298-B30D-7FA4777A90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B674-27AA-4927-85C8-1D73682C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FD34-CC98-43B8-B9DC-AF50AECF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7CB9-CD44-4526-8CDD-D3A6F2FB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2FAD-1D06-45BD-858F-035D66F8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C999-659C-40B7-9CD6-DA529361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8424-B12D-41EB-B19F-34242E56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FD9F-F4DB-4E6B-AC4E-34C16D1E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5117-E9DB-4DE2-A33E-27F6A95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DB0F-9D7D-43D6-902F-662A0989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4CFC-30CE-4B35-8B4A-925AD91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D1F2-E8EF-409C-8920-9A688E1D61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5280" y="404640"/>
            <a:ext cx="8353440" cy="6120000"/>
          </a:xfrm>
          <a:custGeom>
            <a:avLst/>
            <a:gdLst/>
            <a:ahLst/>
            <a:rect l="l" t="t" r="r" b="b"/>
            <a:pathLst>
              <a:path w="23203" h="18240">
                <a:moveTo>
                  <a:pt x="17621" y="0"/>
                </a:moveTo>
                <a:lnTo>
                  <a:pt x="14702" y="0"/>
                </a:lnTo>
                <a:lnTo>
                  <a:pt x="8501" y="8501"/>
                </a:lnTo>
                <a:lnTo>
                  <a:pt x="270" y="90"/>
                </a:lnTo>
                <a:lnTo>
                  <a:pt x="23203" y="-619"/>
                </a:lnTo>
                <a:lnTo>
                  <a:pt x="17621" y="17621"/>
                </a:lnTo>
                <a:lnTo>
                  <a:pt x="0" y="90"/>
                </a:lnTo>
                <a:lnTo>
                  <a:pt x="8501" y="17002"/>
                </a:lnTo>
                <a:lnTo>
                  <a:pt x="8501" y="8501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4bac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5997600" y="0"/>
            <a:ext cx="3144960" cy="186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89000"/>
          </a:bodyPr>
          <a:p>
            <a:pPr marL="3052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95280" y="404640"/>
            <a:ext cx="8353440" cy="6120000"/>
          </a:xfrm>
          <a:custGeom>
            <a:avLst/>
            <a:gdLst/>
            <a:ahLst/>
            <a:rect l="l" t="t" r="r" b="b"/>
            <a:pathLst>
              <a:path w="23203" h="18240">
                <a:moveTo>
                  <a:pt x="17621" y="0"/>
                </a:moveTo>
                <a:lnTo>
                  <a:pt x="14702" y="0"/>
                </a:lnTo>
                <a:lnTo>
                  <a:pt x="8501" y="8501"/>
                </a:lnTo>
                <a:lnTo>
                  <a:pt x="270" y="90"/>
                </a:lnTo>
                <a:lnTo>
                  <a:pt x="23203" y="-619"/>
                </a:lnTo>
                <a:lnTo>
                  <a:pt x="17621" y="17621"/>
                </a:lnTo>
                <a:lnTo>
                  <a:pt x="0" y="90"/>
                </a:lnTo>
                <a:lnTo>
                  <a:pt x="8501" y="17002"/>
                </a:lnTo>
                <a:lnTo>
                  <a:pt x="8501" y="8501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4bac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5997600" y="0"/>
            <a:ext cx="3144960" cy="1860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4.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35DDCDB2-4B42-4BE3-98C9-CAA57FAB5F67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404640"/>
            <a:ext cx="8353440" cy="6120000"/>
          </a:xfrm>
          <a:custGeom>
            <a:avLst/>
            <a:gdLst/>
            <a:ahLst/>
            <a:rect l="l" t="t" r="r" b="b"/>
            <a:pathLst>
              <a:path w="23203" h="18240">
                <a:moveTo>
                  <a:pt x="17621" y="0"/>
                </a:moveTo>
                <a:lnTo>
                  <a:pt x="14702" y="0"/>
                </a:lnTo>
                <a:lnTo>
                  <a:pt x="8501" y="8501"/>
                </a:lnTo>
                <a:lnTo>
                  <a:pt x="270" y="90"/>
                </a:lnTo>
                <a:lnTo>
                  <a:pt x="23203" y="-619"/>
                </a:lnTo>
                <a:lnTo>
                  <a:pt x="17621" y="17621"/>
                </a:lnTo>
                <a:lnTo>
                  <a:pt x="0" y="90"/>
                </a:lnTo>
                <a:lnTo>
                  <a:pt x="8501" y="17002"/>
                </a:lnTo>
                <a:lnTo>
                  <a:pt x="8501" y="8501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4bac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97600" y="0"/>
            <a:ext cx="3144960" cy="1860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89000"/>
          </a:bodyPr>
          <a:p>
            <a:pPr marL="3052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82840" y="1500120"/>
            <a:ext cx="444024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ши про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И в шутку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всерьё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43160" y="500040"/>
            <a:ext cx="36435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МБОУ СОШ с.Сласт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32160" y="1224000"/>
            <a:ext cx="25002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РУССКИЙ ЯЗЫ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0000" y="4464000"/>
            <a:ext cx="385740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ученица 2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Шаповалова П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Руководитель: Курылева Оксан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45d0"/>
                </a:solidFill>
                <a:latin typeface="Calibri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4.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27897CD6-390F-4DC7-8288-D43D3C9036A3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786120" y="4000680"/>
            <a:ext cx="1868400" cy="1939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solidFill>
            <a:srgbClr val="0045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обрать занимательн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ридумать задания, для выполнения которых требуются знания по русскому язы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4.1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BDF2B1-3567-4F01-8E94-00049BD394A5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128000" y="1224000"/>
            <a:ext cx="1800000" cy="144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7280" y="144360"/>
            <a:ext cx="662472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каждом слове не хватает одной буквы. Чтобы отгадать слово. Необходимо вспомнить как называются рисунки и с какой буквы они начин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31640" y="1655640"/>
            <a:ext cx="68407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0360" y="503280"/>
            <a:ext cx="61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 этом задании надо дописать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09560" y="1152360"/>
            <a:ext cx="67788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4.1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9E0E57-C749-4424-9ED1-55B7CAB0D9DB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128000" y="1224000"/>
            <a:ext cx="1800000" cy="1442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360" y="71280"/>
            <a:ext cx="71992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ставим небольшой рассказ. Вместо некоторых слов у нас рису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rcRect l="0" t="8130" r="0" b="0"/>
          <a:stretch/>
        </p:blipFill>
        <p:spPr>
          <a:xfrm>
            <a:off x="33480" y="836640"/>
            <a:ext cx="565452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4.1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306926-373F-4CE9-9EF2-426DB3E5262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128000" y="1224000"/>
            <a:ext cx="1800000" cy="1442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20720" y="144360"/>
            <a:ext cx="61912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гадаем кроссворд, используя рису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1655640"/>
            <a:ext cx="7343640" cy="45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4.1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E7CAA4-1E74-4E12-823D-93A4792C6690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128000" y="1224000"/>
            <a:ext cx="1800000" cy="1442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31640" y="360360"/>
            <a:ext cx="604836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https://урок.рф/library/proekt_po_russkomu_yaziku_vo_2_klasse_i_v_shutku_i_1810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