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FB4-4946-4863-A5AC-EEB76525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C8D-EC29-41AB-92B4-67497B55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633-F948-4D65-9C56-40BBD576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AA8-BB9F-44DA-96EF-47D92BAC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E22F-4B6D-45BA-99F9-7D6530B6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BC93-8D49-43BD-A138-D12C843D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F792-63A6-40D7-B6AD-5625DFAE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D8A2-58D4-4B5E-A77E-C9E40960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03EB-4669-4A55-A8C8-6E21B3AF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E665-C36E-4072-B3A9-CD5E3BCE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AC4D-500E-4A1E-B8F3-F8D408B3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67A-803C-4E5F-8F11-21E8E1DB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9026-71CB-477B-8625-4CCC3EA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D272-F7AC-428E-8AD8-E4DC2375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F6B2-0A50-4703-A31D-27C84212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5EBB-422C-4930-8220-A2FFF47F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F64E-2C00-43D3-B009-B6ADE3A0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6DB-FEF1-4F8F-B142-A2C7048A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552-45E9-44D9-A995-9077DA82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B8A-939A-40A1-B1C3-30CD93BF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21F-B13A-4729-87BD-11BAB0AE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E51-FE28-4673-9B4F-63ACF60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A14-95D3-43FE-BB3C-18C9AFB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11A-99DA-4EC8-A7B4-430B69D6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B021-1135-432B-AA74-8DE02B5DE745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7760-5504-4823-94A0-C117AE80B46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2a3d7a"/>
                </a:solidFill>
                <a:latin typeface="Times New Roman"/>
              </a:rPr>
              <a:t>Агинская окружная гимназия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роек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3880" y="28195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Лаборатория под открытым небо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сновные мероприяти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оведение научно-познавательной экспедиции «Ожерелье Алханая»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жегодная организация экологической практики в Международном эколого-образовательном центре МЭОЦ «Истомино» при Сибирском отделении РАН на Байкале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рганизация познавательной экскурсий по природным достопримечательностям родного кра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рганизация учебно-научных исследований учеников по различным областям знаний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Участие в научно-практических конференциях, встречах  и круглых столах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Участие в различных конкурсах исследовательских работ, олимпиадах, интеллектуальных марафонах, соревнованиях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Алханай-долина Убжогое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 Ожерелье Алханая»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33"/>
                </a:solidFill>
                <a:latin typeface="Times New Roman"/>
              </a:rPr>
              <a:t>Здравствуй,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ff33"/>
                </a:solidFill>
                <a:latin typeface="Times New Roman"/>
              </a:rPr>
              <a:t>Алханай! Мы пришли к тебе 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33"/>
                </a:solidFill>
                <a:latin typeface="Times New Roman"/>
              </a:rPr>
              <a:t>Ты раскроешь перед нами свои тайны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33"/>
                </a:solidFill>
                <a:latin typeface="Times New Roman"/>
              </a:rPr>
              <a:t>Мы будем рады заглянуть за таинственный занавес твоего прошлого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33"/>
                </a:solidFill>
                <a:latin typeface="Times New Roman"/>
              </a:rPr>
              <a:t>И познать его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33"/>
                </a:solidFill>
                <a:latin typeface="Times New Roman"/>
              </a:rPr>
              <a:t>Вместе с тобой порадуемся твоему прекрасному настоящему и будущем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Алханай-Храм-Ворота 3"/>
          <p:cNvPicPr/>
          <p:nvPr/>
        </p:nvPicPr>
        <p:blipFill>
          <a:blip r:embed="rId1"/>
          <a:stretch/>
        </p:blipFill>
        <p:spPr>
          <a:xfrm>
            <a:off x="0" y="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122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358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1"/>
          <p:cNvPicPr/>
          <p:nvPr/>
        </p:nvPicPr>
        <p:blipFill>
          <a:blip r:embed="rId3"/>
          <a:stretch/>
        </p:blipFill>
        <p:spPr>
          <a:xfrm>
            <a:off x="4343400" y="3276720"/>
            <a:ext cx="4800600" cy="3581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0" y="342900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о родному кра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WordArt 20"/>
          <p:cNvSpPr txBox="1"/>
          <p:nvPr/>
        </p:nvSpPr>
        <p:spPr>
          <a:xfrm>
            <a:off x="990720" y="2514600"/>
            <a:ext cx="7772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 родному краю 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4" descr="скалы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80960" y="1752480"/>
            <a:ext cx="866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Лесистых гор полуовалы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Касанье голубых лекал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И скалы срезанные валом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И небо павшее в Байкал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.Сергеев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27" descr="baikal"/>
          <p:cNvPicPr/>
          <p:nvPr/>
        </p:nvPicPr>
        <p:blipFill>
          <a:blip r:embed="rId2"/>
          <a:srcRect l="9675" t="0" r="0" b="6255"/>
          <a:stretch/>
        </p:blipFill>
        <p:spPr>
          <a:xfrm>
            <a:off x="0" y="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28"/>
          <p:cNvSpPr txBox="1"/>
          <p:nvPr/>
        </p:nvSpPr>
        <p:spPr>
          <a:xfrm>
            <a:off x="3124080" y="533520"/>
            <a:ext cx="4038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Байкал – океан тайн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рогнозируемый результат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знание мира, и его экологических ( глобальных и локальных проблем), раскрытие  фантазии, творчества, проницательности, интуиции, учатся быть мудрыми и милосердными, открывают свои сердца для добра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Экологическая культура, умение принимать решения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владение навыками исследовательской работ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Проблемы, которые изучают школьники в своих работах</a:t>
            </a: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отличаются оригинальностью, новизной и актуальностью. Тематика научно-исследовательских работ самая разнообразная.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«Алханай: экология и экономика»  (Галсанова Х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«Пещера Хээтэй – геологический памятник природы Забайкалья и проблемы его сохранения»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(Дамдинов С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«Будаланская воронка –уникальный памятник природы»(Шойжилов 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«Петроглифы Забайкалья» Максаров 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«Антропогенное влияние на озеро Барун-Торей и его окрестности» (Линхоева Э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«Минералы В АБАО»(Балданова Б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286000" y="24382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Picture 6" descr="Алханай-Храм-Ворота 3"/>
          <p:cNvPicPr/>
          <p:nvPr/>
        </p:nvPicPr>
        <p:blipFill>
          <a:blip r:embed="rId1"/>
          <a:stretch/>
        </p:blipFill>
        <p:spPr>
          <a:xfrm>
            <a:off x="0" y="0"/>
            <a:ext cx="4648320" cy="35672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1902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8" name="Picture 12" descr="Алханай-памятник 15"/>
          <p:cNvPicPr/>
          <p:nvPr/>
        </p:nvPicPr>
        <p:blipFill>
          <a:blip r:embed="rId2"/>
          <a:stretch/>
        </p:blipFill>
        <p:spPr>
          <a:xfrm>
            <a:off x="4648320" y="3576600"/>
            <a:ext cx="4495680" cy="32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http://nature.zabspu.ru/Reserves/Images/Sokhondo/image012.jpg"/>
          <p:cNvPicPr/>
          <p:nvPr/>
        </p:nvPicPr>
        <p:blipFill>
          <a:blip r:embed="rId3"/>
          <a:stretch/>
        </p:blipFill>
        <p:spPr>
          <a:xfrm>
            <a:off x="4648320" y="0"/>
            <a:ext cx="464796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les"/>
          <p:cNvPicPr/>
          <p:nvPr/>
        </p:nvPicPr>
        <p:blipFill>
          <a:blip r:embed="rId4"/>
          <a:stretch/>
        </p:blipFill>
        <p:spPr>
          <a:xfrm>
            <a:off x="0" y="3546360"/>
            <a:ext cx="4648320" cy="3311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0" y="274320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аборатория под открытым неб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3d7a"/>
                </a:solidFill>
                <a:latin typeface="Times New Roman"/>
              </a:rPr>
              <a:t>Паспорт проектной работы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Название проекта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«Лаборатория под открытым небом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Учебные года 2015 –202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Автор проекта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оектная группа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атомункуева А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ондокова Е.Э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Анандаева А.Б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Цырендашиева Б.Р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реамбул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27080" indent="-4554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Мы вступили в критический момент в нашей истории, когда человечество должно выбрать свое будущее, так как мир становится все более и более взаимозависимым и хрупким, будущее представляет собой и большую опасность и большую надежду.Охрана окружающей среды от загрязнения и разрушения, сбережение генетического разнообразия биосферы, сохранение здоровья человека стали глобальными проблемами, которые требуют неотложного решения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ипотез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рирода Земли уже не в состоянии нейтрализовать негативные последствия человеческой деятельности. Сегодня стало очевидным, что изменить ситуацию можно лишь перестроив отношение человека к природе: ответственное и бережное отношение должно прийти на смену потребительскому. На перестройку этого отношения и нацелено экологическое образование в Агинской окружной гимназии. Одним из действенных путей является активное познание. Активное познание в области экологии предполагает большую самостоятельную работу в исследований окружающей природ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пособствовать развитию экологически целесообразной культуры поведения в окружающей среде, гражданской ответственности за ее сохранение, умение принимать решения и разрешать экологические проблем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Реализовать возможность приобщиться к исследовательской, общественно-полезной деятельност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аучить понимать сущность экологических проблем, осознавать их актуальность для человечества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ыявлять места экологических проблем с тем, чтобы в дальнейшем развернуть работу по устранен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Формировать навыки самостоятельного познания, организовывать исследования природных объектов, позволяющих поставить познание на качественно новую ступень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Формировать умение оценивать и отслеживать нагрузку человеческой деятельности на природ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Основные механизмы реализации проект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Экологические экспедиции и организация отчето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раеведческие экскурси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Экологические десант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Исследовательская и проектная деятельност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роведение и участие научно-практических конференци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Участие в олимпиадах, конкурсах и соревнования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ринцип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ультуросообразность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Экологическая целостность и единство мир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циальная и экономическая справедливость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емократичность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2:59:19Z</dcterms:created>
  <dc:creator>гимназия</dc:creator>
  <dc:description/>
  <dc:language>en-US</dc:language>
  <cp:lastModifiedBy>Пользователь</cp:lastModifiedBy>
  <dcterms:modified xsi:type="dcterms:W3CDTF">2020-01-04T04:05:03Z</dcterms:modified>
  <cp:revision>36</cp:revision>
  <dc:subject/>
  <dc:title>Презентация PowerPoint</dc:title>
</cp:coreProperties>
</file>