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7.png" ContentType="image/png"/>
  <Override PartName="/ppt/media/image33.jpeg" ContentType="image/jpeg"/>
  <Override PartName="/ppt/media/image23.png" ContentType="image/png"/>
  <Override PartName="/ppt/media/image22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3.png" ContentType="image/png"/>
  <Override PartName="/ppt/media/image12.jpeg" ContentType="image/jpeg"/>
  <Override PartName="/ppt/media/image34.jpeg" ContentType="image/jpeg"/>
  <Override PartName="/ppt/media/image10.jpeg" ContentType="image/jpeg"/>
  <Override PartName="/ppt/media/image35.jpeg" ContentType="image/jpeg"/>
  <Override PartName="/ppt/media/image8.jpeg" ContentType="image/jpeg"/>
  <Override PartName="/ppt/media/image39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7.jpeg" ContentType="image/jpeg"/>
  <Override PartName="/ppt/media/image28.png" ContentType="image/pn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36.jpeg" ContentType="image/jpeg"/>
  <Override PartName="/ppt/media/image2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11F58-B549-424E-B824-F1A7A44E2ECD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39A58-340D-4659-A7A1-B172D7F2D4B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41852-6B73-4C10-8399-FFD2B38C64A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AAFAF-EFCF-46AB-A788-8201956F8E9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224CF-EF8B-4BBB-8244-F9FBC90AD16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0644-DC24-4CCF-913F-705E55FB0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CF3F-4DCC-4F1E-911D-90C896D6E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A2CC-2B7C-4ED0-B00D-55E99F784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3F70-2F8B-457C-9BC4-77D59565E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35B8-F920-4882-9259-4FC1D6782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2150-151D-48C4-8C4C-CAF79462E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C6C4-087A-4344-A469-CC616B017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C406-E626-4B64-8AD3-ED61B6E43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6757-CEC1-4CD8-8C7E-826E5090D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3845-D503-49AA-89CB-6ABC5387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F3D5-0AE2-4229-AB60-FCBF296C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9F3B-B294-48B4-82AB-6BE06200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92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63D62-FF51-4059-9CA4-0B92EDE788F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C:\Users\Татьяна\Pictures\Шок алёнка.jpg"/>
          <p:cNvPicPr/>
          <p:nvPr/>
        </p:nvPicPr>
        <p:blipFill>
          <a:blip r:embed="rId1"/>
          <a:stretch/>
        </p:blipFill>
        <p:spPr>
          <a:xfrm>
            <a:off x="0" y="1928880"/>
            <a:ext cx="4935600" cy="467676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500040" y="428760"/>
            <a:ext cx="8143920" cy="15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>
                    <a:alpha val="73000"/>
                  </a:srgbClr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>
                  <a:alpha val="73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285840" y="143640"/>
            <a:ext cx="8643960" cy="65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3300"/>
                </a:solidFill>
                <a:latin typeface="Times New Roman"/>
                <a:ea typeface="Calibri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Calibri"/>
              </a:rPr>
              <a:t>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  <a:ea typeface="Calibri"/>
              </a:rPr>
              <a:t>Работу выполнили: ученицы 2 класс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  <a:ea typeface="Calibri"/>
              </a:rPr>
              <a:t>                                                                                    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  <a:ea typeface="Calibri"/>
              </a:rPr>
              <a:t>Фоминых Валерия и Кондратьева Дарь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  <a:ea typeface="Calibri"/>
              </a:rPr>
              <a:t>                               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  <a:ea typeface="Calibri"/>
              </a:rPr>
              <a:t>Руководитель: учитель первой категори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  <a:ea typeface="Calibri"/>
              </a:rPr>
              <a:t>                               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  <a:ea typeface="Calibri"/>
              </a:rPr>
              <a:t>Полушина Лилия Степанов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Прямоугольник 6"/>
          <p:cNvSpPr/>
          <p:nvPr/>
        </p:nvSpPr>
        <p:spPr>
          <a:xfrm>
            <a:off x="1214280" y="714240"/>
            <a:ext cx="750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  <a:ea typeface="Calibri"/>
              </a:rPr>
              <a:t>Шоколад – польза или вред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Какую марку производителя</a:t>
            </a:r>
            <a:br>
              <a:rPr sz="4000"/>
            </a:br>
            <a:r>
              <a:rPr b="1" lang="ru-RU" sz="4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 шоколадных изделий вы предпочитаете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5" name="Содержимое 6" descr=""/>
          <p:cNvPicPr/>
          <p:nvPr/>
        </p:nvPicPr>
        <p:blipFill>
          <a:blip r:embed="rId1"/>
          <a:stretch/>
        </p:blipFill>
        <p:spPr>
          <a:xfrm>
            <a:off x="500040" y="2500200"/>
            <a:ext cx="771516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9680" y="428760"/>
            <a:ext cx="818676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За шоколадом в магазин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7" name="Содержимое 4" descr="C:\Documents and Settings\User\Мои документы\IMG_20170411_141004.jpg"/>
          <p:cNvPicPr/>
          <p:nvPr/>
        </p:nvPicPr>
        <p:blipFill>
          <a:blip r:embed="rId1"/>
          <a:stretch/>
        </p:blipFill>
        <p:spPr>
          <a:xfrm>
            <a:off x="214200" y="1571760"/>
            <a:ext cx="4143600" cy="3071520"/>
          </a:xfrm>
          <a:prstGeom prst="rect">
            <a:avLst/>
          </a:prstGeom>
          <a:ln w="0">
            <a:noFill/>
          </a:ln>
        </p:spPr>
      </p:pic>
      <p:pic>
        <p:nvPicPr>
          <p:cNvPr id="108" name="Содержимое 5" descr="C:\Documents and Settings\User\Мои документы\IMG_20170411_141539.jpg"/>
          <p:cNvPicPr/>
          <p:nvPr/>
        </p:nvPicPr>
        <p:blipFill>
          <a:blip r:embed="rId2"/>
          <a:stretch/>
        </p:blipFill>
        <p:spPr>
          <a:xfrm>
            <a:off x="4643280" y="3286080"/>
            <a:ext cx="414360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олезные свойства шоколада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57120" y="14288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Улучшает настроени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Вызывает прилив сил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Заряжает бодростью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Стимулирует память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Полезен для сердц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Шоколад источник энергии 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Жиры и сахар, которых много в шоколаде- основные поставщики энергии для организм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9680" y="380520"/>
            <a:ext cx="818676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Какой вред приносит шоколад?</a:t>
            </a:r>
            <a:br>
              <a:rPr sz="4000"/>
            </a:b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ортит зубы </a:t>
            </a:r>
            <a:br>
              <a:rPr sz="3200"/>
            </a:b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Аллергия</a:t>
            </a:r>
            <a:br>
              <a:rPr sz="3200"/>
            </a:b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Много сахара </a:t>
            </a:r>
            <a:br>
              <a:rPr sz="3200"/>
            </a:b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От него полнеют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663300"/>
                </a:solidFill>
                <a:latin typeface="Tahoma"/>
              </a:rPr>
              <a:t>Как бы не был полезен шоколад, главное, соблюдать меру – по 2-3 дольки в день !</a:t>
            </a: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2" name="Рисунок 2" descr="российский шоколад.jpg"/>
          <p:cNvPicPr/>
          <p:nvPr/>
        </p:nvPicPr>
        <p:blipFill>
          <a:blip r:embed="rId1"/>
          <a:stretch/>
        </p:blipFill>
        <p:spPr>
          <a:xfrm>
            <a:off x="4286160" y="1428840"/>
            <a:ext cx="3732480" cy="22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Дегустация шоколада в классе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4" name="Содержимое 3" descr="C:\Documents and Settings\User\Мои документы\Мои рисунки\IMG_20170413_075658.jpg"/>
          <p:cNvPicPr/>
          <p:nvPr/>
        </p:nvPicPr>
        <p:blipFill>
          <a:blip r:embed="rId1"/>
          <a:stretch/>
        </p:blipFill>
        <p:spPr>
          <a:xfrm>
            <a:off x="214200" y="1428840"/>
            <a:ext cx="4714920" cy="350028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4" descr="C:\Documents and Settings\User\Мои документы\Мои рисунки\IMG_20170413_075831.jpg"/>
          <p:cNvPicPr/>
          <p:nvPr/>
        </p:nvPicPr>
        <p:blipFill>
          <a:blip r:embed="rId2"/>
          <a:stretch/>
        </p:blipFill>
        <p:spPr>
          <a:xfrm>
            <a:off x="5072040" y="3286080"/>
            <a:ext cx="385776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Свой шоколад вкуснее!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7" name="Содержимое 3" descr="C:\Documents and Settings\User\Мои документы\Мои рисунки\IMG_20170413_080019.jpg"/>
          <p:cNvPicPr/>
          <p:nvPr/>
        </p:nvPicPr>
        <p:blipFill>
          <a:blip r:embed="rId1"/>
          <a:stretch/>
        </p:blipFill>
        <p:spPr>
          <a:xfrm>
            <a:off x="214200" y="1357200"/>
            <a:ext cx="4714920" cy="342900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4" descr="C:\Documents and Settings\User\Мои документы\Мои рисунки\IMG_20170413_080627.jpg"/>
          <p:cNvPicPr/>
          <p:nvPr/>
        </p:nvPicPr>
        <p:blipFill>
          <a:blip r:embed="rId2"/>
          <a:stretch/>
        </p:blipFill>
        <p:spPr>
          <a:xfrm>
            <a:off x="4429080" y="3286080"/>
            <a:ext cx="4429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Употребляйте шоколад в небольших количества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Чем больше в шоколаде какао-масла, тем он полезнее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Самый полезный шоколад – горьк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Шоколад – лучшее средство от плохого настро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Шоколад не вредит зуба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Не следует давать шоколад детям  младше шести лет.         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Для восстановления сил нужно съесть горький шоколад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714240" y="3567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Выводы</a:t>
            </a:r>
            <a:r>
              <a:rPr b="1" lang="ru-RU" sz="40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58040" cy="626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Любят все и стар, и млад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Наш Российский шоколад!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Говорят все: «Ну и ну,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Это чудо наяву!»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Чудо это, скажем так,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Вовсе даже не пустяк.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Витамины в нём, белки, 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Микроэлементы,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Шоколадки всем нужны: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Стареньким и детям!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ользы он приносит много, 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Но съедать не нужно много.</a:t>
            </a:r>
            <a:br>
              <a:rPr sz="28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2" name="i-main-pic" descr="Картинка 83 из 64000"/>
          <p:cNvPicPr/>
          <p:nvPr/>
        </p:nvPicPr>
        <p:blipFill>
          <a:blip r:embed="rId1"/>
          <a:stretch/>
        </p:blipFill>
        <p:spPr>
          <a:xfrm rot="16200000">
            <a:off x="4066920" y="1714320"/>
            <a:ext cx="507672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Источники информации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1.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Журнал «Мурзилка», «Полезное лакомство», № 4 автор А. Семенов, 2001 год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2.НЯМ - Большая энциклопедия детского питания ст.338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3.Фунтиков А.Б Книга о вкусной и здоровой пище. 10 000 кулинарных чудес от..., ст. 234 ., Москв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4.</a:t>
            </a:r>
            <a:r>
              <a:rPr b="0" lang="ru-RU" sz="1600" spc="-1" strike="noStrike" u="sng">
                <a:solidFill>
                  <a:srgbClr val="663300"/>
                </a:solidFill>
                <a:uFillTx/>
                <a:latin typeface="Times New Roman"/>
                <a:ea typeface="Times New Roman"/>
              </a:rPr>
              <a:t>http://festival.1september.ru/articles/560655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5.</a:t>
            </a:r>
            <a:r>
              <a:rPr b="0" lang="ru-RU" sz="1600" spc="-1" strike="noStrike" u="sng">
                <a:solidFill>
                  <a:srgbClr val="663300"/>
                </a:solidFill>
                <a:uFillTx/>
                <a:latin typeface="Times New Roman"/>
                <a:ea typeface="Times New Roman"/>
              </a:rPr>
              <a:t>http://www.maam.ru/detskijsad/tema-shokolad-vred-ili-polza.htm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6.</a:t>
            </a:r>
            <a:r>
              <a:rPr b="0" lang="ru-RU" sz="1600" spc="-1" strike="noStrike" u="sng">
                <a:solidFill>
                  <a:srgbClr val="663300"/>
                </a:solidFill>
                <a:uFillTx/>
                <a:latin typeface="Times New Roman"/>
                <a:ea typeface="Times New Roman"/>
              </a:rPr>
              <a:t>http://pedportal.net/nachalnye-klassy/raznoe/issledovatelskaya-rabota-quot-moy-lyubimyy-shokolad-quot-1235426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7.</a:t>
            </a:r>
            <a:r>
              <a:rPr b="0" lang="ru-RU" sz="1600" spc="-1" strike="noStrike" u="sng">
                <a:solidFill>
                  <a:srgbClr val="663300"/>
                </a:solidFill>
                <a:uFillTx/>
                <a:latin typeface="Times New Roman"/>
                <a:ea typeface="Times New Roman"/>
              </a:rPr>
              <a:t>http://bigslide.ru/biologiya/9038-shokolad.htm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 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8.</a:t>
            </a:r>
            <a:r>
              <a:rPr b="0" lang="ru-RU" sz="1600" spc="-1" strike="noStrike" u="sng">
                <a:solidFill>
                  <a:srgbClr val="663300"/>
                </a:solidFill>
                <a:uFillTx/>
                <a:latin typeface="Times New Roman"/>
                <a:ea typeface="Times New Roman"/>
              </a:rPr>
              <a:t>http://festival.1september.ru/articles/619260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6" name="Содержимое 5" descr="20090120-schokolade.jpg"/>
          <p:cNvPicPr/>
          <p:nvPr/>
        </p:nvPicPr>
        <p:blipFill>
          <a:blip r:embed="rId1"/>
          <a:stretch/>
        </p:blipFill>
        <p:spPr>
          <a:xfrm>
            <a:off x="5429160" y="1928880"/>
            <a:ext cx="3129120" cy="336528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3"/>
          <p:cNvSpPr/>
          <p:nvPr/>
        </p:nvSpPr>
        <p:spPr>
          <a:xfrm>
            <a:off x="285840" y="2286000"/>
            <a:ext cx="657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Если плохое настроение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риходит пару дней подряд,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ридет на помощь без сомнения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Любой на выбор шоколад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Содержимое 2"/>
          <p:cNvSpPr/>
          <p:nvPr/>
        </p:nvSpPr>
        <p:spPr>
          <a:xfrm>
            <a:off x="250920" y="476280"/>
            <a:ext cx="9586800" cy="55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выявление полезных и вредных свойств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шокола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ahoma"/>
              </a:rPr>
              <a:t>Задач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Ознакомиться с историей возникновения шоколад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Классификация шоколада, её соста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Изучить полезные и негативные свойства шоколад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ровести анкетирование учеников 2 - 5  класс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олучить шоколад в домашних условия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Гипотеза: </a:t>
            </a: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считаем, что шоколад – это не прост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сладкое  лакомство, но еще и очень полезный продукт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PA040113"/>
          <p:cNvPicPr/>
          <p:nvPr/>
        </p:nvPicPr>
        <p:blipFill>
          <a:blip r:embed="rId1"/>
          <a:stretch/>
        </p:blipFill>
        <p:spPr>
          <a:xfrm rot="20672400">
            <a:off x="3093840" y="2908080"/>
            <a:ext cx="1326960" cy="3024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PA040116"/>
          <p:cNvPicPr/>
          <p:nvPr/>
        </p:nvPicPr>
        <p:blipFill>
          <a:blip r:embed="rId2"/>
          <a:stretch/>
        </p:blipFill>
        <p:spPr>
          <a:xfrm>
            <a:off x="5500800" y="3571920"/>
            <a:ext cx="1542960" cy="3024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PA040115"/>
          <p:cNvPicPr/>
          <p:nvPr/>
        </p:nvPicPr>
        <p:blipFill>
          <a:blip r:embed="rId3"/>
          <a:srcRect l="0" t="0" r="-150" b="0"/>
          <a:stretch/>
        </p:blipFill>
        <p:spPr>
          <a:xfrm>
            <a:off x="285840" y="4000680"/>
            <a:ext cx="2881080" cy="1199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PA040117"/>
          <p:cNvPicPr/>
          <p:nvPr/>
        </p:nvPicPr>
        <p:blipFill>
          <a:blip r:embed="rId4"/>
          <a:stretch/>
        </p:blipFill>
        <p:spPr>
          <a:xfrm>
            <a:off x="5357880" y="1214280"/>
            <a:ext cx="3024000" cy="1362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PA040109"/>
          <p:cNvPicPr/>
          <p:nvPr/>
        </p:nvPicPr>
        <p:blipFill>
          <a:blip r:embed="rId5"/>
          <a:srcRect l="0" t="0" r="-85" b="0"/>
          <a:stretch/>
        </p:blipFill>
        <p:spPr>
          <a:xfrm>
            <a:off x="1000080" y="1285920"/>
            <a:ext cx="2952720" cy="1168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PA040110"/>
          <p:cNvPicPr/>
          <p:nvPr/>
        </p:nvPicPr>
        <p:blipFill>
          <a:blip r:embed="rId6"/>
          <a:stretch/>
        </p:blipFill>
        <p:spPr>
          <a:xfrm>
            <a:off x="357120" y="2357280"/>
            <a:ext cx="2881440" cy="1386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рус"/>
          <p:cNvPicPr/>
          <p:nvPr/>
        </p:nvPicPr>
        <p:blipFill>
          <a:blip r:embed="rId7"/>
          <a:stretch/>
        </p:blipFill>
        <p:spPr>
          <a:xfrm rot="20536800">
            <a:off x="4060800" y="1066320"/>
            <a:ext cx="1366920" cy="2952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шок"/>
          <p:cNvPicPr/>
          <p:nvPr/>
        </p:nvPicPr>
        <p:blipFill>
          <a:blip r:embed="rId8"/>
          <a:stretch/>
        </p:blipFill>
        <p:spPr>
          <a:xfrm>
            <a:off x="6715080" y="2500200"/>
            <a:ext cx="1154160" cy="2979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" descr="коркунов"/>
          <p:cNvPicPr/>
          <p:nvPr/>
        </p:nvPicPr>
        <p:blipFill>
          <a:blip r:embed="rId9"/>
          <a:stretch/>
        </p:blipFill>
        <p:spPr>
          <a:xfrm rot="870600">
            <a:off x="7381440" y="3470400"/>
            <a:ext cx="1594080" cy="3240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" descr="риттер спорт"/>
          <p:cNvPicPr/>
          <p:nvPr/>
        </p:nvPicPr>
        <p:blipFill>
          <a:blip r:embed="rId10"/>
          <a:stretch/>
        </p:blipFill>
        <p:spPr>
          <a:xfrm>
            <a:off x="3857760" y="4500720"/>
            <a:ext cx="2016000" cy="1612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6" descr="несквик"/>
          <p:cNvPicPr/>
          <p:nvPr/>
        </p:nvPicPr>
        <p:blipFill>
          <a:blip r:embed="rId11"/>
          <a:stretch/>
        </p:blipFill>
        <p:spPr>
          <a:xfrm>
            <a:off x="0" y="5373720"/>
            <a:ext cx="3168720" cy="126504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12" descr=""/>
          <p:cNvPicPr/>
          <p:nvPr/>
        </p:nvPicPr>
        <p:blipFill>
          <a:blip r:embed="rId12"/>
          <a:stretch/>
        </p:blipFill>
        <p:spPr>
          <a:xfrm>
            <a:off x="639720" y="360360"/>
            <a:ext cx="8077320" cy="7063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8400" y="499680"/>
            <a:ext cx="815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История шоколада началась очень давно, </a:t>
            </a:r>
            <a:br>
              <a:rPr sz="3200"/>
            </a:br>
            <a:r>
              <a:rPr b="1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более 3000 лет назад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285840" y="1643040"/>
            <a:ext cx="2547720" cy="339084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67" name="Picture 4" descr="Дикорастущее дерево какао достигает в высоту 12 м"/>
          <p:cNvPicPr/>
          <p:nvPr/>
        </p:nvPicPr>
        <p:blipFill>
          <a:blip r:embed="rId2"/>
          <a:stretch/>
        </p:blipFill>
        <p:spPr>
          <a:xfrm>
            <a:off x="3286080" y="1857240"/>
            <a:ext cx="2573280" cy="381636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pic>
        <p:nvPicPr>
          <p:cNvPr id="68" name="Picture 8" descr="i?id=295464154-58-72&amp;n=21"/>
          <p:cNvPicPr/>
          <p:nvPr/>
        </p:nvPicPr>
        <p:blipFill>
          <a:blip r:embed="rId3"/>
          <a:stretch/>
        </p:blipFill>
        <p:spPr>
          <a:xfrm>
            <a:off x="6215040" y="1857240"/>
            <a:ext cx="2685960" cy="335772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5"/>
          <p:cNvSpPr/>
          <p:nvPr/>
        </p:nvSpPr>
        <p:spPr>
          <a:xfrm>
            <a:off x="-571680" y="5904000"/>
            <a:ext cx="971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В Европе первые какао – бобы появились благодаря Христофору Колумбу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Прямоугольник 6"/>
          <p:cNvSpPr/>
          <p:nvPr/>
        </p:nvSpPr>
        <p:spPr>
          <a:xfrm>
            <a:off x="7854840" y="3600360"/>
            <a:ext cx="22860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20"/>
          <p:cNvGrpSpPr/>
          <p:nvPr/>
        </p:nvGrpSpPr>
        <p:grpSpPr>
          <a:xfrm>
            <a:off x="304920" y="1295280"/>
            <a:ext cx="2590560" cy="2717640"/>
            <a:chOff x="304920" y="1295280"/>
            <a:chExt cx="2590560" cy="2717640"/>
          </a:xfrm>
        </p:grpSpPr>
        <p:pic>
          <p:nvPicPr>
            <p:cNvPr id="72" name="Picture 9" descr="молочный(8)"/>
            <p:cNvPicPr/>
            <p:nvPr/>
          </p:nvPicPr>
          <p:blipFill>
            <a:blip r:embed="rId1"/>
            <a:stretch/>
          </p:blipFill>
          <p:spPr>
            <a:xfrm>
              <a:off x="304920" y="1295280"/>
              <a:ext cx="2590560" cy="27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Rectangle 7"/>
            <p:cNvSpPr/>
            <p:nvPr/>
          </p:nvSpPr>
          <p:spPr>
            <a:xfrm>
              <a:off x="464400" y="3479400"/>
              <a:ext cx="182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c00ff"/>
                  </a:solidFill>
                  <a:latin typeface="Tahoma"/>
                </a:rPr>
                <a:t> </a:t>
              </a:r>
              <a:r>
                <a:rPr b="0" lang="ru-RU" sz="2400" spc="-1" strike="noStrike">
                  <a:solidFill>
                    <a:srgbClr val="cc00ff"/>
                  </a:solidFill>
                  <a:latin typeface="Tahoma"/>
                </a:rPr>
                <a:t>молочный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4" name="Group 19"/>
          <p:cNvGrpSpPr/>
          <p:nvPr/>
        </p:nvGrpSpPr>
        <p:grpSpPr>
          <a:xfrm>
            <a:off x="3200400" y="1219320"/>
            <a:ext cx="2590560" cy="2666880"/>
            <a:chOff x="3200400" y="1219320"/>
            <a:chExt cx="2590560" cy="2666880"/>
          </a:xfrm>
        </p:grpSpPr>
        <p:pic>
          <p:nvPicPr>
            <p:cNvPr id="75" name="Picture 6" descr="i (8)"/>
            <p:cNvPicPr/>
            <p:nvPr/>
          </p:nvPicPr>
          <p:blipFill>
            <a:blip r:embed="rId2">
              <a:lum bright="-6000"/>
            </a:blip>
            <a:stretch/>
          </p:blipFill>
          <p:spPr>
            <a:xfrm>
              <a:off x="3200400" y="1219320"/>
              <a:ext cx="259056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Rectangle 12"/>
            <p:cNvSpPr/>
            <p:nvPr/>
          </p:nvSpPr>
          <p:spPr>
            <a:xfrm>
              <a:off x="3646800" y="3367440"/>
              <a:ext cx="164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cc00ff"/>
                  </a:solidFill>
                  <a:latin typeface="Tahoma"/>
                </a:rPr>
                <a:t>белый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7" name="Group 18"/>
          <p:cNvGrpSpPr/>
          <p:nvPr/>
        </p:nvGrpSpPr>
        <p:grpSpPr>
          <a:xfrm>
            <a:off x="5943600" y="1357200"/>
            <a:ext cx="2926800" cy="2194560"/>
            <a:chOff x="5943600" y="1357200"/>
            <a:chExt cx="2926800" cy="2194560"/>
          </a:xfrm>
        </p:grpSpPr>
        <p:pic>
          <p:nvPicPr>
            <p:cNvPr id="78" name="Picture 13" descr="горьки)"/>
            <p:cNvPicPr/>
            <p:nvPr/>
          </p:nvPicPr>
          <p:blipFill>
            <a:blip r:embed="rId3"/>
            <a:stretch/>
          </p:blipFill>
          <p:spPr>
            <a:xfrm>
              <a:off x="5943600" y="1357200"/>
              <a:ext cx="2843280" cy="218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Rectangle 14"/>
            <p:cNvSpPr/>
            <p:nvPr/>
          </p:nvSpPr>
          <p:spPr>
            <a:xfrm>
              <a:off x="6012000" y="3092040"/>
              <a:ext cx="285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Tahoma"/>
                </a:rPr>
                <a:t>чёрный (горький)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80" name="Picture 16" descr="i (2)"/>
          <p:cNvPicPr/>
          <p:nvPr/>
        </p:nvPicPr>
        <p:blipFill>
          <a:blip r:embed="rId4"/>
          <a:stretch/>
        </p:blipFill>
        <p:spPr>
          <a:xfrm>
            <a:off x="3429000" y="4343400"/>
            <a:ext cx="2819520" cy="2057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7" descr="диабетический)"/>
          <p:cNvPicPr/>
          <p:nvPr/>
        </p:nvPicPr>
        <p:blipFill>
          <a:blip r:embed="rId5"/>
          <a:stretch/>
        </p:blipFill>
        <p:spPr>
          <a:xfrm>
            <a:off x="6659640" y="4114800"/>
            <a:ext cx="2027160" cy="25146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22"/>
          <p:cNvGrpSpPr/>
          <p:nvPr/>
        </p:nvGrpSpPr>
        <p:grpSpPr>
          <a:xfrm>
            <a:off x="122040" y="4267080"/>
            <a:ext cx="3277440" cy="2405160"/>
            <a:chOff x="122040" y="4267080"/>
            <a:chExt cx="3277440" cy="2405160"/>
          </a:xfrm>
        </p:grpSpPr>
        <p:pic>
          <p:nvPicPr>
            <p:cNvPr id="83" name="Picture 15" descr="i (19)"/>
            <p:cNvPicPr/>
            <p:nvPr/>
          </p:nvPicPr>
          <p:blipFill>
            <a:blip r:embed="rId6"/>
            <a:stretch/>
          </p:blipFill>
          <p:spPr>
            <a:xfrm>
              <a:off x="228600" y="4343400"/>
              <a:ext cx="3048120" cy="23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Rectangle 21"/>
            <p:cNvSpPr/>
            <p:nvPr/>
          </p:nvSpPr>
          <p:spPr>
            <a:xfrm>
              <a:off x="122040" y="4267080"/>
              <a:ext cx="327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Tahoma"/>
                </a:rPr>
                <a:t>шоколад в  порошке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Rectangle 23"/>
          <p:cNvSpPr/>
          <p:nvPr/>
        </p:nvSpPr>
        <p:spPr>
          <a:xfrm>
            <a:off x="3899880" y="3889440"/>
            <a:ext cx="16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пористы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Rectangle 24"/>
          <p:cNvSpPr/>
          <p:nvPr/>
        </p:nvSpPr>
        <p:spPr>
          <a:xfrm>
            <a:off x="6543360" y="3660840"/>
            <a:ext cx="24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диабетическ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Прямоугольник 20"/>
          <p:cNvSpPr/>
          <p:nvPr/>
        </p:nvSpPr>
        <p:spPr>
          <a:xfrm>
            <a:off x="500040" y="357120"/>
            <a:ext cx="785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Виды шоколад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8" descr="2009_08_08_19_54_58.jpg"/>
          <p:cNvPicPr/>
          <p:nvPr/>
        </p:nvPicPr>
        <p:blipFill>
          <a:blip r:embed="rId1"/>
          <a:stretch/>
        </p:blipFill>
        <p:spPr>
          <a:xfrm>
            <a:off x="395280" y="1844640"/>
            <a:ext cx="3780000" cy="426708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6" descr="f_17420125.jpg"/>
          <p:cNvPicPr/>
          <p:nvPr/>
        </p:nvPicPr>
        <p:blipFill>
          <a:blip r:embed="rId2"/>
          <a:stretch/>
        </p:blipFill>
        <p:spPr>
          <a:xfrm>
            <a:off x="4572000" y="1700280"/>
            <a:ext cx="4103640" cy="44654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4"/>
          <p:cNvSpPr/>
          <p:nvPr/>
        </p:nvSpPr>
        <p:spPr>
          <a:xfrm>
            <a:off x="395280" y="333360"/>
            <a:ext cx="41036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ahoma"/>
              </a:rPr>
              <a:t>Более 3000 л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ahoma"/>
              </a:rPr>
              <a:t>Мекси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Rectangle 15"/>
          <p:cNvSpPr/>
          <p:nvPr/>
        </p:nvSpPr>
        <p:spPr>
          <a:xfrm>
            <a:off x="4500720" y="404640"/>
            <a:ext cx="41036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ahoma"/>
              </a:rPr>
              <a:t>Христофор Колум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ahoma"/>
              </a:rPr>
              <a:t>Европа 17 ве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04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Состав шоколада:</a:t>
            </a:r>
            <a:br>
              <a:rPr sz="4000"/>
            </a:br>
            <a:r>
              <a:rPr b="1" lang="ru-RU" sz="4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какао-порошок, какао –масло, сахар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Содержимое 4" descr="C:\Documents and Settings\User\Мои документы\IMG_20170411_141018.jpg"/>
          <p:cNvPicPr/>
          <p:nvPr/>
        </p:nvPicPr>
        <p:blipFill>
          <a:blip r:embed="rId1"/>
          <a:stretch/>
        </p:blipFill>
        <p:spPr>
          <a:xfrm>
            <a:off x="285840" y="1571760"/>
            <a:ext cx="4143240" cy="3357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D:\фотографии с телефона мама\IMG_20170328_101459.jpg"/>
          <p:cNvPicPr/>
          <p:nvPr/>
        </p:nvPicPr>
        <p:blipFill>
          <a:blip r:embed="rId2"/>
          <a:stretch/>
        </p:blipFill>
        <p:spPr>
          <a:xfrm>
            <a:off x="4500720" y="3286080"/>
            <a:ext cx="428616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Анкетирование учащихся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929040" y="1285560"/>
            <a:ext cx="475776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Какие разновидности шоколада в плитках вы  предпочитаете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Диаграмма 10" descr=""/>
          <p:cNvPicPr/>
          <p:nvPr/>
        </p:nvPicPr>
        <p:blipFill>
          <a:blip r:embed="rId1"/>
          <a:stretch/>
        </p:blipFill>
        <p:spPr>
          <a:xfrm>
            <a:off x="4357800" y="3071880"/>
            <a:ext cx="4572000" cy="3103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99680" y="1428840"/>
            <a:ext cx="399564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ahoma"/>
              </a:rPr>
              <a:t>Любите ли вы шоколад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Диаграмма 14" descr=""/>
          <p:cNvPicPr/>
          <p:nvPr/>
        </p:nvPicPr>
        <p:blipFill>
          <a:blip r:embed="rId2"/>
          <a:stretch/>
        </p:blipFill>
        <p:spPr>
          <a:xfrm>
            <a:off x="571680" y="3000240"/>
            <a:ext cx="40003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1" name="Содержимое 7" descr=""/>
          <p:cNvPicPr/>
          <p:nvPr/>
        </p:nvPicPr>
        <p:blipFill>
          <a:blip r:embed="rId1"/>
          <a:stretch/>
        </p:blipFill>
        <p:spPr>
          <a:xfrm>
            <a:off x="642960" y="2214720"/>
            <a:ext cx="8043840" cy="41148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Прямоугольник 6"/>
          <p:cNvSpPr/>
          <p:nvPr/>
        </p:nvSpPr>
        <p:spPr>
          <a:xfrm>
            <a:off x="357120" y="571680"/>
            <a:ext cx="8286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 </a:t>
            </a:r>
            <a:r>
              <a:rPr b="1" lang="ru-RU" sz="4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Какие разновидности шоколада в плитках вы  предпочитаете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03:21:36Z</dcterms:created>
  <dc:creator>1</dc:creator>
  <dc:description/>
  <dc:language>en-US</dc:language>
  <cp:lastModifiedBy>Пользователь</cp:lastModifiedBy>
  <dcterms:modified xsi:type="dcterms:W3CDTF">2020-01-02T11:01:09Z</dcterms:modified>
  <cp:revision>42</cp:revision>
  <dc:subject/>
  <dc:title>Слайд 1</dc:title>
</cp:coreProperties>
</file>