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CA8-7BA1-4EB0-B978-3D1C824A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FD1-E9C8-40CA-AC53-D35514AE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1CB-702C-4547-93F5-9819D020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B2A-3AD5-4A16-8853-F39A4FDC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4F0-4AB5-45A6-A1DC-1F2D2EC4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70B1-8D63-49A6-8012-16A6DF33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B6AF-CDD1-4D24-9920-0F97ACE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41BF-9CEB-469E-84EA-1FA6A865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5BD6-720B-4233-8122-583E000F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981B-D3B9-4310-B8AA-EB321A2A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ACC0-61D9-49FD-893E-650416C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AC9-889B-4A88-B3EC-44DB12D4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989B-788D-4981-BEA2-2624384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063E-7B25-429C-8508-4431C2A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5D6-3CC3-4DDC-AA96-A52F0E2D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99F6-87AD-41A0-8EEE-81EEC6CF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61A4-5B27-4D6E-92E3-11FAACCA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1E23-2C83-42B6-B32A-10703D89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100B-359F-4170-A2F3-EC2BF1B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493E-210C-4F8D-A792-A637A45E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DC4E-9717-4DBF-A651-A2F21833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B612-3804-4317-BDAE-8CF5B5ED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58F-12B2-4333-B87E-96970BD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B734-98A8-4DCE-9925-EEBC8714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E15D-3C32-46F2-B504-99C4C07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3DA9-98F7-4145-BF81-62BE2F14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DCDA-4126-4631-A422-60F714F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5286-8278-4A0D-8C5A-65C0128E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25A6-244E-4965-9205-43E6FFB8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E583-3BA2-42B8-8900-4CD6B174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0B76-908A-4F3B-AB82-4C4646E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AC57-96A9-4253-9498-F5769A7B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CBF6-D43B-4F76-B680-5BF34B04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09E-3E83-416C-996B-35279E74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1224-17D2-4ABC-BC3F-4833C3CC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9E54-C4FD-4E0C-897D-15CF106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BF64-BAC9-4B54-A127-6165B45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7C1B-3898-48AC-B1F5-9014DBD4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071D-93F4-4478-AD64-420D31C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7418-7503-48BB-8095-3220147D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AB93-8935-433D-BB59-D191C003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A920-44CD-453F-A861-E1D50B1D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EB2C-376F-4AAE-AA9C-ED19A3DB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3DF-2084-4A73-828D-6A53AF0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007-02A0-4033-9231-979B7DB1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814-168A-4AD0-BD90-DB1FD29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74D-660C-44EA-83B2-86A91E0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E1F-2902-40F2-8D03-C68D3EB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6D2D-3AA3-4173-91A3-8BA26B8F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141D-B9D4-4558-A0AD-05D00A8BE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854-8267-44A4-B2A6-DD31352CE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6F25-DB2E-4976-8808-3C8A584F9B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57200" y="2708280"/>
          <a:ext cx="8229600" cy="4089240"/>
        </p:xfrm>
        <a:graphic>
          <a:graphicData uri="http://schemas.openxmlformats.org/drawingml/2006/table">
            <a:tbl>
              <a:tblPr/>
              <a:tblGrid>
                <a:gridCol w="3035160"/>
                <a:gridCol w="1079640"/>
                <a:gridCol w="3060720"/>
                <a:gridCol w="105408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4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716280" y="5138640"/>
            <a:ext cx="63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72000" y="4014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16280" y="293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02720" y="401472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02720" y="288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58080" y="513864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2000" y="288936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40593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62360" y="522936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67360" y="405936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58080" y="609588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65560" y="611820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1640" y="2889360"/>
            <a:ext cx="29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18 + 0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38760" y="292428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9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0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6640" y="405936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10 +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1280" y="522936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│+ │-3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51640" y="288936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27720" y="4048200"/>
            <a:ext cx="23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0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67360" y="5229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81640" y="526248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│+ │10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1448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95560" y="54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7164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73520" y="560520"/>
            <a:ext cx="63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25560" y="549360"/>
            <a:ext cx="85428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1628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549360"/>
            <a:ext cx="85428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3556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80200" y="59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9128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54936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4520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80200" y="59364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0092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592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592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97000" y="1584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7020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51280" y="153828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2556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15494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8128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3556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9128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4520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15040" y="1550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0092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25920" y="15382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72000" y="593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51280" y="15382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81640" y="158436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158436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6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6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6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6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6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6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16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6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9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39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19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" fill="hold"/>
                                        <p:tgtEl>
                                          <p:spTgt spid="3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2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62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95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25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5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88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3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18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48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81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3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11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442360" y="0"/>
            <a:ext cx="482400" cy="70956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385920" y="233280"/>
            <a:ext cx="8551440" cy="2610000"/>
            <a:chOff x="385920" y="233280"/>
            <a:chExt cx="8551440" cy="2610000"/>
          </a:xfrm>
        </p:grpSpPr>
        <p:sp>
          <p:nvSpPr>
            <p:cNvPr id="362" name=""/>
            <p:cNvSpPr txBox="1"/>
            <p:nvPr/>
          </p:nvSpPr>
          <p:spPr>
            <a:xfrm>
              <a:off x="385920" y="233280"/>
              <a:ext cx="7764840" cy="261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С    О    Е    И 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1369080" y="754920"/>
              <a:ext cx="7568280" cy="176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Л   Ж   Н   Е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1827360" y="3249720"/>
            <a:ext cx="5624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50196"/>
                      </a:srgbClr>
                    </a:gs>
                    <a:gs pos="50000">
                      <a:srgbClr val="000075"/>
                    </a:gs>
                    <a:gs pos="100000">
                      <a:srgbClr val="0000ff">
                        <a:alpha val="50196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РИЦАТЕЛЬНЫХ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>
                      <a:alpha val="50196"/>
                    </a:srgbClr>
                  </a:gs>
                  <a:gs pos="50000">
                    <a:srgbClr val="000075"/>
                  </a:gs>
                  <a:gs pos="100000">
                    <a:srgbClr val="0000ff">
                      <a:alpha val="50196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006640" y="4778280"/>
            <a:ext cx="531180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СЕЛ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92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192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192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192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661240" y="0"/>
            <a:ext cx="482760" cy="7095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62640"/>
        </p:xfrm>
        <a:graphic>
          <a:graphicData uri="http://schemas.openxmlformats.org/drawingml/2006/table">
            <a:tbl>
              <a:tblPr/>
              <a:tblGrid>
                <a:gridCol w="784080"/>
                <a:gridCol w="855720"/>
                <a:gridCol w="1619280"/>
                <a:gridCol w="1711440"/>
                <a:gridCol w="1619280"/>
                <a:gridCol w="1639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2467080" y="234936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02000" y="23493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21280" y="23511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97720" y="23493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4200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7672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79680" y="31129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0736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200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7672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3236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0736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85920" y="468000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67360" y="4689360"/>
            <a:ext cx="84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86280" y="466740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27720" y="4676760"/>
            <a:ext cx="13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67000" y="540864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42000" y="5408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22720" y="5397480"/>
            <a:ext cx="8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07360" y="536724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67000" y="1538280"/>
            <a:ext cx="148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47000" y="1719360"/>
            <a:ext cx="17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2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"/>
                            </p:stCondLst>
                            <p:childTnLst>
                              <p:par>
                                <p:cTn id="2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"/>
                            </p:stCondLst>
                            <p:childTnLst>
                              <p:par>
                                <p:cTn id="2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200"/>
                            </p:stCondLst>
                            <p:childTnLst>
                              <p:par>
                                <p:cTn id="2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3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"/>
                            </p:stCondLst>
                            <p:childTnLst>
                              <p:par>
                                <p:cTn id="27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"/>
                            </p:stCondLst>
                            <p:childTnLst>
                              <p:par>
                                <p:cTn id="2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"/>
                            </p:stCondLst>
                            <p:childTnLst>
                              <p:par>
                                <p:cTn id="2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"/>
                            </p:stCondLst>
                            <p:childTnLst>
                              <p:par>
                                <p:cTn id="2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3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Arial"/>
                <a:ea typeface="Arial"/>
              </a:rPr>
              <a:t>Правило</a:t>
            </a: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 сложения </a:t>
            </a: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отрицательных чисе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-360" y="1449000"/>
            <a:ext cx="889308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бы сложить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, над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ff99"/>
                </a:solidFill>
                <a:latin typeface="Arial"/>
              </a:rPr>
              <a:t>Сложить модули этих чис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ff99"/>
                </a:solidFill>
                <a:latin typeface="Arial"/>
              </a:rPr>
              <a:t>Поставить перед сумм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99ff99"/>
                </a:solidFill>
                <a:latin typeface="Arial"/>
              </a:rPr>
              <a:t>знак мин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8920" y="5273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- a + (-b) = - (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  <a:ea typeface="Arial"/>
              </a:rPr>
              <a:t>│-a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│ + │-b │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50"/>
                            </p:stCondLst>
                            <p:childTnLst>
                              <p:par>
                                <p:cTn id="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206280" y="324000"/>
            <a:ext cx="8731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"/>
              </a:rPr>
              <a:t>Брахмагупта 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135900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ндийский математик и астроном, первый сформулировал правила действий с  отрицатель-ными числами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2000" y="4194000"/>
            <a:ext cx="86216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Эти правила он состави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_628_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году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25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з книги Брахмагуп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8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Имущество и имущество есть имуще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Сумма двух долгов есть долг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Сумма долга и нуля есть долг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Сумма имущества и нуля есть имуще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Сумма двух нулей есть  _____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97360" y="4890960"/>
            <a:ext cx="13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500" autoRev="1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5" dur="500" autoRev="1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6" dur="500" autoRev="1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57200" y="1600200"/>
          <a:ext cx="8524800" cy="4525920"/>
        </p:xfrm>
        <a:graphic>
          <a:graphicData uri="http://schemas.openxmlformats.org/drawingml/2006/table">
            <a:tbl>
              <a:tblPr/>
              <a:tblGrid>
                <a:gridCol w="1054080"/>
                <a:gridCol w="3060720"/>
                <a:gridCol w="1079640"/>
                <a:gridCol w="33303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08:20Z</dcterms:created>
  <dc:creator>ANNASKOLA</dc:creator>
  <dc:description/>
  <dc:language>en-US</dc:language>
  <cp:lastModifiedBy>админ</cp:lastModifiedBy>
  <dcterms:modified xsi:type="dcterms:W3CDTF">2013-03-26T18:43:20Z</dcterms:modified>
  <cp:revision>93</cp:revision>
  <dc:subject/>
  <dc:title>Слайд 1</dc:title>
</cp:coreProperties>
</file>