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884F-3426-4EC4-8859-7C6E6C03C71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gdgg</a:t>
            </a:r>
            <a:endParaRPr b="0" lang="en-US" sz="1200" spc="-1" strike="noStrike">
              <a:solidFill>
                <a:srgbClr val="000000"/>
              </a:solidFill>
              <a:latin typeface="Calibri"/>
            </a:endParaRPr>
          </a:p>
        </p:txBody>
      </p:sp>
      <p:sp>
        <p:nvSpPr>
          <p:cNvPr id="1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9264-8D2E-41E2-B824-349BD6F0CDC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2D70F-642B-416D-ADD9-F2B5535D2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9E843-DA50-426B-B473-983347EFF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6307E-5748-4E2D-BF30-6D463F88E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E9133-9AD3-4418-AB55-0704BE4AD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C6989-94EF-4AD9-94AD-A20EEAEC4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5D773-57D4-4D12-B699-535BB38CB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86A02-977F-4ABB-BE96-FBBD3392D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2DF44-8808-48E3-ABBB-ADD54E696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B975D-D75F-4D2A-A056-3867F4AAC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9FD49-7D84-4EB4-B453-A3CDC54B0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E6220-FF1D-42A2-AC18-DEBEE49F4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966E0-C6E8-4433-AA1A-A8EFA2554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346C9-88EB-4499-8771-6D5A561BA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89C6A-E6AD-4AD8-A916-A2ED6D836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9CD37-5EFB-4951-BE8A-9B93F8C88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40B91-435F-48F5-8E94-AB422F703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B0AE5-12E4-4D91-B886-692AAA24E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3C787-417B-4267-AAEB-545D1BA64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17019-FE8F-4CD7-AB90-366F27B46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AF844-9773-48DD-A98C-3F5F82AFB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1A092-5057-4157-A6FE-E004CC982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E42E6-3DDB-46D5-8672-FEF0B415A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8B403-F26F-4870-8800-8F6F0300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E7379-0075-49E5-B55D-26637FBC6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039B-A09C-4666-89CC-D43F9F64EE15}"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5827-4A34-40CA-BE6D-361AB9653220}"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charks.ru/plankton/index.shtm" TargetMode="External"/><Relationship Id="rId2" Type="http://schemas.openxmlformats.org/officeDocument/2006/relationships/hyperlink" Target="http://scharks.ru/vidy/bythya/index.shtm" TargetMode="External"/><Relationship Id="rId3" Type="http://schemas.openxmlformats.org/officeDocument/2006/relationships/hyperlink" Target="http://scharks.ru/raznoe/osmos/index.s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2280" y="1371600"/>
            <a:ext cx="82296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800" spc="-1" strike="noStrike">
              <a:solidFill>
                <a:srgbClr val="ffffff"/>
              </a:solidFill>
              <a:latin typeface="Arial"/>
            </a:endParaRPr>
          </a:p>
        </p:txBody>
      </p:sp>
      <p:sp>
        <p:nvSpPr>
          <p:cNvPr id="90" name="PlaceHolder 2"/>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pic>
        <p:nvPicPr>
          <p:cNvPr id="91" name="Picture 2" descr=""/>
          <p:cNvPicPr/>
          <p:nvPr/>
        </p:nvPicPr>
        <p:blipFill>
          <a:blip r:embed="rId1"/>
          <a:stretch/>
        </p:blipFill>
        <p:spPr>
          <a:xfrm>
            <a:off x="285840" y="500040"/>
            <a:ext cx="8643960" cy="57150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10" name="Picture 3" descr=""/>
          <p:cNvPicPr/>
          <p:nvPr/>
        </p:nvPicPr>
        <p:blipFill>
          <a:blip r:embed="rId1"/>
          <a:stretch/>
        </p:blipFill>
        <p:spPr>
          <a:xfrm>
            <a:off x="144360" y="144360"/>
            <a:ext cx="8999640" cy="2998800"/>
          </a:xfrm>
          <a:prstGeom prst="rect">
            <a:avLst/>
          </a:prstGeom>
          <a:ln w="0">
            <a:noFill/>
          </a:ln>
        </p:spPr>
      </p:pic>
      <p:sp>
        <p:nvSpPr>
          <p:cNvPr id="111" name=""/>
          <p:cNvSpPr txBox="1"/>
          <p:nvPr/>
        </p:nvSpPr>
        <p:spPr>
          <a:xfrm>
            <a:off x="0" y="3214800"/>
            <a:ext cx="9144000" cy="36432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водах Мирового океана насчитывается более 400 различных видов акул, каждый из этих видов, по-своему, уникален.</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от лишь некоторые из уникальных свойств организма акул, выдвинувших этих рыб в передовые ряды наиболее эффективных хищников океана.</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sp>
        <p:nvSpPr>
          <p:cNvPr id="113" name=""/>
          <p:cNvSpPr txBox="1"/>
          <p:nvPr/>
        </p:nvSpPr>
        <p:spPr>
          <a:xfrm>
            <a:off x="0" y="0"/>
            <a:ext cx="9144000" cy="685800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Как и любой хищник, акула добывает себе пищу, убивая и поедая животных. Поэтому ее организм приспособлен, в первую очередь, к эффективному достижению именно этой цели. Акулы очень прожорливы и вечно голодные. </a:t>
            </a:r>
            <a:br>
              <a:rPr sz="2200"/>
            </a:br>
            <a:r>
              <a:rPr b="0" lang="ru-RU" sz="2200" spc="-1" strike="noStrike">
                <a:solidFill>
                  <a:srgbClr val="ffffff"/>
                </a:solidFill>
                <a:latin typeface="Times New Roman"/>
              </a:rPr>
              <a:t>Это не удивительно - ввиду особенностей строения организма акулы вынуждены постоянно находиться в движении, от первого до последнего мгновения своей жизни. А движение требует затрат энергии, которая восполняется органической пищей. На редкость крепкий желудок акулы может переварить все, что ей случается проглотить. Обильно выделяемые желудочные соки, одной из основных частей которых является соляная кислота, с такой быстротой растворяют питательные вещества, что не приходится удивляться тому, какой неутолимый голод всегда гложет акул. Желудочные соки акул настолько сильны, что они растворяют лак, металлические предметы. Желудок акул обладает способностью растягиваться. Непонятно и трудно поверить, чтобы акулы умудрялись переваривать подковы и одновременно устраивали у себя в желудке склад.</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Любопытен факт, что некоторые виды акул, например тигровая акула, способны вывернуть свой желудок через рот наизнанку, для того, чтобы изрыгнуть неудобоваримую пищу и прополоскать его стенки. Самое поразительное в этом процессе то, что при такой манипуляции желудком, акула умудряется не повредить его своими острейшими зубами</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sp>
        <p:nvSpPr>
          <p:cNvPr id="115" name=""/>
          <p:cNvSpPr txBox="1"/>
          <p:nvPr/>
        </p:nvSpPr>
        <p:spPr>
          <a:xfrm>
            <a:off x="0" y="213840"/>
            <a:ext cx="9144000" cy="6643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ила природного инстинкта удовлетворения чувства голода у большинства видов акул развита настолько, что они могут поглощать буквально любой предмет, хоть отдаленно напоминающий пищу. Особенно "славятся" в этом плане тигровые акулы, в желудках которых находили множество самых неожиданных вещей. Недаром за этими акулами закрепилось название "морской мусорщик".</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Голубая акула, попав в густую стаю кальмаров, начинает их с жадностью хватать и поглощать до тех пор, пока не набьет желудок до отказа. Однако она не останавливается на этом - срыгнув избыток пищи из желудка, она начинает пиршество вновь.</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sp>
        <p:nvSpPr>
          <p:cNvPr id="117" name=""/>
          <p:cNvSpPr txBox="1"/>
          <p:nvPr/>
        </p:nvSpPr>
        <p:spPr>
          <a:xfrm>
            <a:off x="0" y="2214720"/>
            <a:ext cx="9144000" cy="4929120"/>
          </a:xfrm>
          <a:prstGeom prst="rect">
            <a:avLst/>
          </a:prstGeom>
          <a:noFill/>
          <a:ln w="0">
            <a:noFill/>
          </a:ln>
        </p:spPr>
        <p:txBody>
          <a:bodyPr anchor="t">
            <a:normAutofit/>
          </a:bodyPr>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рупная печень акул, содержащая большое количество жира, способствует им в плавании, выполняя роль своеобразного поплавка, и позволяет откладывать питательные вещества "про запас".</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кулы очень живучи и, очевидно, не обладают такой болевой чувствительностью, как другие позвоночные животные. Известны случаи, когда пойманная, выпотрошенная и снова выброшенная в воду акула хватала крючок, наживленный ее собственными внутренностями. Извлеченная на палубу судна акула, даже когда в ее глазах погаснет последняя искра жизни, представляет угрозу для любого, кто неосторожно приблизится к ее телу. Многие зеваки поплатились за такое ротозейство конечностями и частями тела.</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кулы обладают достаточно развитой нервной системой и вооружены органами чувств, позволяющими разыскивать пищу в самых неблагоприятных, по человеческим понятиям, условиях - в полной темноте, в воде с нулевой видимостью и даже обнаруживать укрывшуюся в грунт добычу, а так же чувствовать присутствие пищи на значительном расстоянии.</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последнее время популярны теории, согласно которым акулы имеют необычайно развитое чувство вкуса. Согласно этим гипотезам, акулы уже с первого укуса определяют, насколько калорийна пойманная добыча, сколько энергии они получат после ее поглощения и прочую полезную информацию.</a:t>
            </a:r>
            <a:endParaRPr b="0" lang="en-US" sz="1800" spc="-1" strike="noStrike">
              <a:solidFill>
                <a:srgbClr val="ffffff"/>
              </a:solidFill>
              <a:latin typeface="Times New Roman"/>
            </a:endParaRPr>
          </a:p>
        </p:txBody>
      </p:sp>
      <p:pic>
        <p:nvPicPr>
          <p:cNvPr id="118" name="Picture 2" descr=""/>
          <p:cNvPicPr/>
          <p:nvPr/>
        </p:nvPicPr>
        <p:blipFill>
          <a:blip r:embed="rId1"/>
          <a:stretch/>
        </p:blipFill>
        <p:spPr>
          <a:xfrm>
            <a:off x="0" y="0"/>
            <a:ext cx="9144000" cy="226368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571680"/>
            <a:ext cx="8186760" cy="84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sp>
        <p:nvSpPr>
          <p:cNvPr id="120" name=""/>
          <p:cNvSpPr txBox="1"/>
          <p:nvPr/>
        </p:nvSpPr>
        <p:spPr>
          <a:xfrm>
            <a:off x="0" y="3143520"/>
            <a:ext cx="9144000" cy="3714840"/>
          </a:xfrm>
          <a:prstGeom prst="rect">
            <a:avLst/>
          </a:prstGeom>
          <a:noFill/>
          <a:ln w="0">
            <a:noFill/>
          </a:ln>
        </p:spPr>
        <p:txBody>
          <a:bodyPr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Никто из ученых не будет оспаривать утверждение, что для эффективной охоты важнейшую роль играет уникальное обоняние акул. Акулы - профессиональные хищники и всегда ищут пищу. Они не обладают, по мнению специалистов, выдающимся зрением. Конечно, они могут увидеть любой предмет в чистой морской воде и даже над поверхностью моря. Однако в вопросе добывания пищи зрение играет, все же, второстепенную роль, особенно для хищниц, обитающих в значительных глубинах и мутной воде.</a:t>
            </a:r>
            <a:endParaRPr b="0" lang="en-US" sz="2600" spc="-1" strike="noStrike">
              <a:solidFill>
                <a:srgbClr val="ffffff"/>
              </a:solidFill>
              <a:latin typeface="Times New Roman"/>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121" name="Picture 2" descr=""/>
          <p:cNvPicPr/>
          <p:nvPr/>
        </p:nvPicPr>
        <p:blipFill>
          <a:blip r:embed="rId1"/>
          <a:stretch/>
        </p:blipFill>
        <p:spPr>
          <a:xfrm>
            <a:off x="0" y="0"/>
            <a:ext cx="9144000" cy="31431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28400" y="213840"/>
            <a:ext cx="8258040" cy="12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sp>
        <p:nvSpPr>
          <p:cNvPr id="93" name=""/>
          <p:cNvSpPr txBox="1"/>
          <p:nvPr/>
        </p:nvSpPr>
        <p:spPr>
          <a:xfrm>
            <a:off x="457200" y="213840"/>
            <a:ext cx="8229600" cy="635796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С давних времен человек любовался морем - оно прекрасно и в тихую солнечную погоду, и когда владыка Нептун, в безрассудном гневе, превращает его в разбушевавшуюся стихию, с грохотом бросающую на берег пенящиеся волны. </a:t>
            </a:r>
            <a:br>
              <a:rPr sz="2000"/>
            </a:br>
            <a:r>
              <a:rPr b="0" i="1" lang="ru-RU" sz="2000" spc="-1" strike="noStrike">
                <a:solidFill>
                  <a:srgbClr val="ffffff"/>
                </a:solidFill>
                <a:latin typeface="Times New Roman"/>
              </a:rPr>
              <a:t>Но мало кто из ценителей красоты морских пейзажей без опаски согласился бы поплавать в открытом море, любуясь его величием и безбрежностью. </a:t>
            </a:r>
            <a:br>
              <a:rPr sz="2000"/>
            </a:br>
            <a:r>
              <a:rPr b="0" i="1" lang="ru-RU" sz="2000" spc="-1" strike="noStrike">
                <a:solidFill>
                  <a:srgbClr val="ffffff"/>
                </a:solidFill>
                <a:latin typeface="Times New Roman"/>
              </a:rPr>
              <a:t>И основная причина человеческого страха - возможность встречи с акулами - величавыми и грозными хозяйками морских вод.</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Из всех хищников, обитающих на Земле, акулы вызывают у человека наибольший страх, граничащий с безотчетным ужасом. Это существо словно создано Всевышним, чтобы напоминать людям о том, что они не является венцом природного творения, и есть силы, способные в одно мгновение развеять такое высокое самомнение. </a:t>
            </a:r>
            <a:br>
              <a:rPr sz="2000"/>
            </a:br>
            <a:r>
              <a:rPr b="0" i="1" lang="ru-RU" sz="2000" spc="-1" strike="noStrike">
                <a:solidFill>
                  <a:srgbClr val="ffffff"/>
                </a:solidFill>
                <a:latin typeface="Times New Roman"/>
              </a:rPr>
              <a:t>Акула - идеальный хищник, которого природа удачно создала еще миллионы лет назад. Почему удачно? Да потому, что трудно найти более совершенный, и, в то же время, более древний организм, столь приспособленный к хищническому образу жизни, как акула. Устройство ее организма было настолько удачно отточено эволюцией, что акула выжила в многовековой борьбе за существование с разными, часто очень могучими хищниками, при этом мало изменившись в строении органов и тела.</a:t>
            </a:r>
            <a:endParaRPr b="0" lang="en-US" sz="2000" spc="-1" strike="noStrike">
              <a:solidFill>
                <a:srgbClr val="ffffff"/>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sp>
        <p:nvSpPr>
          <p:cNvPr id="95" name=""/>
          <p:cNvSpPr txBox="1"/>
          <p:nvPr/>
        </p:nvSpPr>
        <p:spPr>
          <a:xfrm>
            <a:off x="457200" y="3643200"/>
            <a:ext cx="8229600" cy="266544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Times New Roman"/>
              </a:rPr>
              <a:t>Акулы существовали на Земле задолго до появления человека. Они живут в водах всего мира, в каждом океане, и даже в некоторых реках и озерах. Можно с полной уверенностью сказать, что они будут жить еще многие миллионы лет, поскольку являются важнейшей биологической составляющей морей и океанов, как и любой хищник в своей среде обитания.</a:t>
            </a:r>
            <a:endParaRPr b="0" lang="en-US" sz="2600" spc="-1" strike="noStrike">
              <a:solidFill>
                <a:srgbClr val="ffffff"/>
              </a:solidFill>
              <a:latin typeface="Times New Roman"/>
            </a:endParaRPr>
          </a:p>
        </p:txBody>
      </p:sp>
      <p:pic>
        <p:nvPicPr>
          <p:cNvPr id="96" name="Picture 2" descr=""/>
          <p:cNvPicPr/>
          <p:nvPr/>
        </p:nvPicPr>
        <p:blipFill>
          <a:blip r:embed="rId1"/>
          <a:stretch/>
        </p:blipFill>
        <p:spPr>
          <a:xfrm>
            <a:off x="144360" y="144360"/>
            <a:ext cx="8570880" cy="321336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98" name="Picture 2" descr=""/>
          <p:cNvPicPr/>
          <p:nvPr/>
        </p:nvPicPr>
        <p:blipFill>
          <a:blip r:embed="rId1"/>
          <a:stretch/>
        </p:blipFill>
        <p:spPr>
          <a:xfrm>
            <a:off x="0" y="0"/>
            <a:ext cx="9144000" cy="6858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00" name="Picture 2" descr=""/>
          <p:cNvPicPr/>
          <p:nvPr/>
        </p:nvPicPr>
        <p:blipFill>
          <a:blip r:embed="rId1"/>
          <a:stretch/>
        </p:blipFill>
        <p:spPr>
          <a:xfrm>
            <a:off x="0" y="0"/>
            <a:ext cx="9361440" cy="68580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02" name="Picture 2" descr=""/>
          <p:cNvPicPr/>
          <p:nvPr/>
        </p:nvPicPr>
        <p:blipFill>
          <a:blip r:embed="rId1"/>
          <a:stretch/>
        </p:blipFill>
        <p:spPr>
          <a:xfrm>
            <a:off x="-500040" y="0"/>
            <a:ext cx="9644040" cy="6858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04" name="Picture 2" descr=""/>
          <p:cNvPicPr/>
          <p:nvPr/>
        </p:nvPicPr>
        <p:blipFill>
          <a:blip r:embed="rId1"/>
          <a:stretch/>
        </p:blipFill>
        <p:spPr>
          <a:xfrm>
            <a:off x="0" y="0"/>
            <a:ext cx="9144000" cy="68580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sp>
        <p:nvSpPr>
          <p:cNvPr id="106" name=""/>
          <p:cNvSpPr txBox="1"/>
          <p:nvPr/>
        </p:nvSpPr>
        <p:spPr>
          <a:xfrm>
            <a:off x="457200" y="285840"/>
            <a:ext cx="8229600" cy="6022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кулы - кто они?</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ля начала давайте уточним, - что же это за существа такие, акулы? </a:t>
            </a:r>
            <a:br>
              <a:rPr sz="2800"/>
            </a:br>
            <a:r>
              <a:rPr b="0" lang="ru-RU" sz="2800" spc="-1" strike="noStrike">
                <a:solidFill>
                  <a:srgbClr val="ffffff"/>
                </a:solidFill>
                <a:latin typeface="Times New Roman"/>
              </a:rPr>
              <a:t>Акулы - это водные животные, принадлежащие классу рыб, если быть точнее - к классу хрящевых рыб, к которому принадлежат и их ближайшие родственники - скаты. Не следует путать их с животными-млекопитающими, обитающими в морях и океанах - китами, дельфинами, касатками, тюленями и другими водными млекопитающими. Акулы - это рыбы.</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sp>
        <p:nvSpPr>
          <p:cNvPr id="108" name=""/>
          <p:cNvSpPr txBox="1"/>
          <p:nvPr/>
        </p:nvSpPr>
        <p:spPr>
          <a:xfrm>
            <a:off x="0" y="0"/>
            <a:ext cx="9144000" cy="685800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ледует уточнить, что все акулы - хищные рыбы, т.е. для пропитания они используют животный корм - от мельчайших </a:t>
            </a:r>
            <a:r>
              <a:rPr b="0" lang="ru-RU" sz="2200" spc="-1" strike="noStrike" u="sng">
                <a:solidFill>
                  <a:srgbClr val="17bbfd"/>
                </a:solidFill>
                <a:uFillTx/>
                <a:latin typeface="Times New Roman"/>
                <a:hlinkClick r:id="rId1"/>
              </a:rPr>
              <a:t>планктонных животных</a:t>
            </a:r>
            <a:r>
              <a:rPr b="0" lang="ru-RU" sz="2200" spc="-1" strike="noStrike">
                <a:solidFill>
                  <a:srgbClr val="ffffff"/>
                </a:solidFill>
                <a:latin typeface="Times New Roman"/>
              </a:rPr>
              <a:t>, до крупных обитателей морских вод. Все акулы плотоядны, независимо от того, что является их пищей - планктон или гигантские черепахи, независимо от размеров и среды обитания.</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реда обитания акул - почти исключительно морские и океанические воды. Среди редких исключений - </a:t>
            </a:r>
            <a:r>
              <a:rPr b="0" lang="ru-RU" sz="2200" spc="-1" strike="noStrike" u="sng">
                <a:solidFill>
                  <a:srgbClr val="17bbfd"/>
                </a:solidFill>
                <a:uFillTx/>
                <a:latin typeface="Times New Roman"/>
                <a:hlinkClick r:id="rId2"/>
              </a:rPr>
              <a:t>серая бычья</a:t>
            </a:r>
            <a:r>
              <a:rPr b="0" lang="ru-RU" sz="2200" spc="-1" strike="noStrike">
                <a:solidFill>
                  <a:srgbClr val="ffffff"/>
                </a:solidFill>
                <a:latin typeface="Times New Roman"/>
              </a:rPr>
              <a:t> (тупорылая) акула и несколько видов, так называемых, </a:t>
            </a:r>
            <a:r>
              <a:rPr b="0" lang="ru-RU" sz="2200" spc="-1" strike="noStrike" u="sng">
                <a:solidFill>
                  <a:srgbClr val="17bbfd"/>
                </a:solidFill>
                <a:uFillTx/>
                <a:latin typeface="Times New Roman"/>
                <a:hlinkClick r:id="rId3"/>
              </a:rPr>
              <a:t>речных акул</a:t>
            </a:r>
            <a:r>
              <a:rPr b="0" lang="ru-RU" sz="2200" spc="-1" strike="noStrike">
                <a:solidFill>
                  <a:srgbClr val="ffffff"/>
                </a:solidFill>
                <a:latin typeface="Times New Roman"/>
              </a:rPr>
              <a:t>, которые способны долгое время жить в опресненной и пресной воде. Существует даже один вид, особи, которого всю жизнь живут в пресноводном озере, не зная вкуса морской воды (акула озера Никарагуа).</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Какие же необычные качества организма присущи этим хищным рыбам? </a:t>
            </a:r>
            <a:br>
              <a:rPr sz="2200"/>
            </a:br>
            <a:r>
              <a:rPr b="0" lang="ru-RU" sz="2200" spc="-1" strike="noStrike">
                <a:solidFill>
                  <a:srgbClr val="ffffff"/>
                </a:solidFill>
                <a:latin typeface="Times New Roman"/>
              </a:rPr>
              <a:t>Все существа, живущие под водой, имеют определенные общие характеристики. Все они нуждаются в кислороде, все они должны уметь воспроизводить себя, чтобы обеспечить продолжение рода, все они должны питаться и уметь защититься от врагов. </a:t>
            </a:r>
            <a:br>
              <a:rPr sz="2200"/>
            </a:br>
            <a:r>
              <a:rPr b="0" lang="ru-RU" sz="2200" spc="-1" strike="noStrike">
                <a:solidFill>
                  <a:srgbClr val="ffffff"/>
                </a:solidFill>
                <a:latin typeface="Times New Roman"/>
              </a:rPr>
              <a:t>Однако каждый тип, класс и даже вид организмов имеет особые, уникальные свойства, которых нет у прочих разновидностей. То же самое можно сказать и об акулах</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8T06:15:39Z</dcterms:created>
  <dc:creator>User</dc:creator>
  <dc:description/>
  <dc:language>en-US</dc:language>
  <cp:lastModifiedBy>я</cp:lastModifiedBy>
  <dcterms:modified xsi:type="dcterms:W3CDTF">2013-01-18T15:58:21Z</dcterms:modified>
  <cp:revision>6</cp:revision>
  <dc:subject/>
  <dc:title>Слайд 22</dc:title>
</cp:coreProperties>
</file>