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E6F-247C-4585-A774-DACA1D1C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9D1-4512-41D7-B2C1-13BAD816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89A-E93C-4D37-B55E-89C65442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876-FE5A-4530-A131-61F336C9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0ED2-6FA2-49AB-B424-0D2FF09E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0B04-971A-4418-AF72-0E81072B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90FD-1160-4884-9718-34DE17E8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B597-FAE5-43B3-A239-366FB306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3CEF-3989-4ED3-BEBA-F22407DD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EB8E-D1B7-42BC-94F2-EEB17BAB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51E2-02CC-42B9-B5B7-0872399D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C1C-1F97-4D85-B46D-92B72DD9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7968-3106-48E2-AA1A-8D67D2B6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68D5-EFBF-423A-B8BF-92F80606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6E46-3BF7-4F4A-9489-DC064E74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619B-80D5-49D0-9967-54F28951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9D69-73A5-459B-B7AE-6D205850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139A5-578C-4FE7-A5F8-AFD88873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7DDC2-F602-458D-BEA6-049478B7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9F664-7958-4DD5-89AC-57DE13EE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F2AA-FE22-457A-8DE5-0B33C851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EFDD4-DCA1-4FD1-A182-3417F290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2E9-2140-4871-B762-BB3BB9B5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E7C4-6674-4336-B29E-8E0F3B61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B9A28-C89A-4144-A3E3-5878E53D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0C72-439A-4EFB-8A78-619DA43B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0534-84EC-4F26-BFB7-F2D233F5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2433A-5037-4D0E-98E9-AEDFC579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0903-7A80-4A2A-99FA-64E9C663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6184C-A856-4A9B-A9D9-A191B53E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C8F2E-73AC-4A8A-8A42-5025CCFF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4986D-553D-4C03-A9AB-6D7B442C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B553C-B023-40BA-B627-8055187C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747-56C1-4019-880F-C5AD47BA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59E0E-DA6B-4DBB-B1A5-731C59F9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23EFA-614A-4197-BED3-91337943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04BF7-F8EC-4814-B023-7E5A5ECB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D4CFA-4B2F-4CBD-9CFD-6AAB02A8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B4A24-7EAE-4A52-A16C-0B525454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732F9-E0AD-4D9C-9410-76D5264C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778B6-5354-4FF1-9C5A-59F8D244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3DC4-D716-46C0-B1F5-26796A36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73036-8E22-4867-B341-162B30CC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AB3-0A60-48B7-A391-C237A472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7A9-1A68-4D38-94E1-6DD1DF06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7B4-5A3A-4C7B-936D-106F2F4B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43C-D0E7-4285-828C-2F1E5F79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FC9-07CA-4483-9B62-0F0FB34B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32E2-49C3-48A6-9323-2A2E0C80A4CE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D5BC-BE87-4D9A-A0BC-187AE74F249C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9CF9-75DD-45F3-B562-CB5B4789E80B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42B6-1245-4573-8B26-5CB65BE9716B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6320" y="0"/>
            <a:ext cx="8383320" cy="30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fd9"/>
                </a:solidFill>
                <a:latin typeface="Century Gothic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a304a"/>
                </a:solidFill>
                <a:latin typeface="Times New Roman"/>
                <a:ea typeface="Times New Roman"/>
              </a:rPr>
              <a:t>МБДОУ «ДЕТСКИЙ САД № 3 «ХРУСТАЛЬНЫЙ БАШМАЧОК» </a:t>
            </a:r>
            <a:br>
              <a:rPr sz="1800"/>
            </a:br>
            <a:r>
              <a:rPr b="1" lang="ru-RU" sz="18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r>
              <a:rPr b="1" lang="ru-RU" sz="2900" spc="-1" strike="noStrike">
                <a:solidFill>
                  <a:srgbClr val="ffff00"/>
                </a:solidFill>
                <a:latin typeface="Sitka Display"/>
              </a:rPr>
              <a:t>ИГРОВОЙ НАБОР</a:t>
            </a:r>
            <a:br>
              <a:rPr sz="2900"/>
            </a:br>
            <a:r>
              <a:rPr b="1" lang="ru-RU" sz="2900" spc="-1" strike="noStrike">
                <a:solidFill>
                  <a:srgbClr val="ffff00"/>
                </a:solidFill>
                <a:latin typeface="Sitka Display"/>
              </a:rPr>
              <a:t> «ДАРЫ  ФРЕБЕЛЯ» В РАЗВИТИИ  ДОШКОЛЬНИКОВ</a:t>
            </a:r>
            <a:br>
              <a:rPr sz="2800"/>
            </a:b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3" name="Picture 4" descr="Набор_Дары_Фребеля"/>
          <p:cNvPicPr/>
          <p:nvPr/>
        </p:nvPicPr>
        <p:blipFill>
          <a:blip r:embed="rId1"/>
          <a:stretch/>
        </p:blipFill>
        <p:spPr>
          <a:xfrm>
            <a:off x="1692360" y="2652840"/>
            <a:ext cx="5149800" cy="290484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1"/>
          <p:cNvSpPr/>
          <p:nvPr/>
        </p:nvSpPr>
        <p:spPr>
          <a:xfrm>
            <a:off x="-252360" y="557064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Подготовила воспита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Кузьмина Елена Ива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Sitka Display"/>
              </a:rPr>
              <a:t>ПЯТЫЙ И ШЕСТОЙ ДАР –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Sitka Display"/>
              </a:rPr>
              <a:t> КУБИК РАЗДЕЛЕННЫЙ НА    27   ЧАСТЕЙ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10544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71440" indent="-271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ПЯТЫЙ ДАР —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КУБИК, РАЗДЕЛЕННЫЙ НА 27 МАЛЕНЬКИХ КУБИКОВ,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девять из них разделены на более мелкие части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ШЕСТОЙ ДАР —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КУБИК, РАЗДЕЛЕННЫЙ ТОЖЕ НА 27 КУБИКОВ, многие из которых разделены еще на две части: на плитки, по диагонали и пр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Последние два дара дают большое разнообразие самых различных геометрических форм, необходимых для строительных игр ребенка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8" name="Picture 11" descr="11"/>
          <p:cNvPicPr/>
          <p:nvPr/>
        </p:nvPicPr>
        <p:blipFill>
          <a:blip r:embed="rId1"/>
          <a:stretch/>
        </p:blipFill>
        <p:spPr>
          <a:xfrm>
            <a:off x="4132440" y="1413000"/>
            <a:ext cx="4760640" cy="1944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bcf03beef9a29f810d7e49a8979e8eb4"/>
          <p:cNvPicPr/>
          <p:nvPr/>
        </p:nvPicPr>
        <p:blipFill>
          <a:blip r:embed="rId2"/>
          <a:stretch/>
        </p:blipFill>
        <p:spPr>
          <a:xfrm>
            <a:off x="5076720" y="3506760"/>
            <a:ext cx="338292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Sitka Display"/>
              </a:rPr>
              <a:t>ДРУГИЕ ДАРЫ ФРЁБЕЛ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7" descr="sistema-frebelia-igry9"/>
          <p:cNvPicPr/>
          <p:nvPr/>
        </p:nvPicPr>
        <p:blipFill>
          <a:blip r:embed="rId1"/>
          <a:stretch/>
        </p:blipFill>
        <p:spPr>
          <a:xfrm>
            <a:off x="2000160" y="1184400"/>
            <a:ext cx="5112000" cy="27381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19240" y="3922200"/>
            <a:ext cx="8673840" cy="27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Фридрих Фребель разработал так называемые </a:t>
            </a:r>
            <a:r>
              <a:rPr b="1" i="1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«формы жизни», </a:t>
            </a: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которые можно было построить из деталей такого первого дидактического конструктора для детей: здания, мосты, башни, мебель, транспорт. Дети могли сделать их по образцу – картинке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А еще он предложил </a:t>
            </a:r>
            <a:r>
              <a:rPr b="1" i="1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«формы красоты» (формы познания).</a:t>
            </a: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С помощью форм красоты малыши постигают азы геометрии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4" name="Picture 7" descr="40"/>
          <p:cNvPicPr/>
          <p:nvPr/>
        </p:nvPicPr>
        <p:blipFill>
          <a:blip r:embed="rId1"/>
          <a:stretch/>
        </p:blipFill>
        <p:spPr>
          <a:xfrm>
            <a:off x="2411280" y="115920"/>
            <a:ext cx="4608720" cy="34653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5"/>
          <p:cNvSpPr/>
          <p:nvPr/>
        </p:nvSpPr>
        <p:spPr>
          <a:xfrm>
            <a:off x="219240" y="1989000"/>
            <a:ext cx="8673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Использование данного пособия помогает развитию у детей строительных навыков и одновременно создает у них представление о форме, величине, пространственных отношениях, числах. Кроме приведенных шести даров Фребель предлагал впоследствии давать детям дополнительный строительный материал (арки и т. д.), а также рекомендовал проводить с ними занятия лепкой, рисованием, игры-занятия с палочками, плетение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7" name="Picture 7" descr="http://www.sveto.ru/images/catalog/big/4908.jpg"/>
          <p:cNvPicPr/>
          <p:nvPr/>
        </p:nvPicPr>
        <p:blipFill>
          <a:blip r:embed="rId1"/>
          <a:stretch/>
        </p:blipFill>
        <p:spPr>
          <a:xfrm>
            <a:off x="250920" y="692280"/>
            <a:ext cx="4692600" cy="58402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4943520" y="692280"/>
            <a:ext cx="4200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Фребель верил, что все эти игровые материалы наиболее эффективны в начальном воспитании детей и в то же время развивают их внутренние потребности. Первоначально он разработал только несколько видов образовательных материалов, позднее их количество возросло до 20. Сегодня на рынке детских пособий обычно встречается четырнадцать видов материалов Фребеля с точно такими же образовательными функц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7"/>
          <p:cNvSpPr/>
          <p:nvPr/>
        </p:nvSpPr>
        <p:spPr>
          <a:xfrm>
            <a:off x="179280" y="333360"/>
            <a:ext cx="878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Игровой набор «Дары Фрёбеля» в практической деятельности с детьми можно использовать дл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ffd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развития социальных и коммуникативных умен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ffd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сенсорного развит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-   развития мелкой мотори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ffd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развития познавательно-исследовательской и продуктивной (конструктивной) деятельн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ffd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формирования элементарных математических представл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ffd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развития логических способнос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ffd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развития потребности взаимодействия с окружающим мир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ffd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при организации психолого-педагогической работы по освоению детьми образовательных обла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Пример изображения"/>
          <p:cNvPicPr/>
          <p:nvPr/>
        </p:nvPicPr>
        <p:blipFill>
          <a:blip r:embed="rId1"/>
          <a:stretch/>
        </p:blipFill>
        <p:spPr>
          <a:xfrm>
            <a:off x="2411280" y="333360"/>
            <a:ext cx="4608720" cy="300816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"/>
          <p:cNvSpPr/>
          <p:nvPr/>
        </p:nvSpPr>
        <p:spPr>
          <a:xfrm>
            <a:off x="250920" y="3573360"/>
            <a:ext cx="871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Детский сад должен был не освободить матерей от тягот воспитания, а, наоборот, помочь им стать настоящими, правильными воспитателями. Фребель считал, что для наилучшего результата требуется воспитательское партнерство родителей и воспитателей. Детский сад был призван предоставить родителям широкое поле для содействия, в качестве места встреч, где родители и дети могли бы глубже познавать друг дру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2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Sitka Display"/>
              </a:rPr>
              <a:t>ФРИДРИХ ВИЛЬГЕЛЬМ ФРЁБЕЛЬ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1782-1852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6" name="Picture 7" descr="Froebel400px"/>
          <p:cNvPicPr/>
          <p:nvPr/>
        </p:nvPicPr>
        <p:blipFill>
          <a:blip r:embed="rId1"/>
          <a:stretch/>
        </p:blipFill>
        <p:spPr>
          <a:xfrm>
            <a:off x="611280" y="1844640"/>
            <a:ext cx="2612880" cy="35496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19640" y="1476360"/>
            <a:ext cx="5256000" cy="46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 – </a:t>
            </a: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известный немецкий педагог, создатель первого в мире детского сада для детей дошкольного возраста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ры Ф. Фребеля</a:t>
            </a: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 – самый первый обучающий (дидактический) материал для детей дошкольного возраста в мире, который известен и используется до сих пор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50560" y="188640"/>
            <a:ext cx="856908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Ядром педагогики детского сада Фребель считал игру. Раскрывая игру, он доказывал, что игра для ребенка — влечение, инстинкт, основная его деятельность, стихия, в которой он живет. Фребель широко использовал игру как одно из средств нравственного воспитания. По его мнению, игра способствует развитию воображения и фантазии, необходимых для детского творчества. С «дарами» можно начинать играть с самого раннего возраста.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Для развития ребенка Фребель предложил 6 «даров».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 flipH="1">
            <a:off x="108000" y="260280"/>
            <a:ext cx="89280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дать возможность каждому ребёнку стать развитой лично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етоды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ffd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Игровой (дидактические игры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ffd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Наглядный (просмотр презентации «Дары Фребеля», рассматривание дидактических пособий, предметов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ffd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Практический – показ способов действия с предметами, эксперим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ормы организ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ffd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групп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ffd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подгрупп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ffd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6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Sitka Display"/>
              </a:rPr>
              <a:t>ПЕРВЫЙ ДАР- ШЕРСТЯНОЙ МЯ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7" descr="thumbgiftonelrg-jpg"/>
          <p:cNvPicPr/>
          <p:nvPr/>
        </p:nvPicPr>
        <p:blipFill>
          <a:blip r:embed="rId1"/>
          <a:stretch/>
        </p:blipFill>
        <p:spPr>
          <a:xfrm>
            <a:off x="2195640" y="1341360"/>
            <a:ext cx="4321080" cy="2801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160" y="3922560"/>
            <a:ext cx="8629560" cy="260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70000"/>
              </a:lnSpc>
              <a:spcBef>
                <a:spcPts val="2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f496f"/>
                </a:solidFill>
                <a:latin typeface="Century Gothic"/>
              </a:rPr>
              <a:t> </a:t>
            </a:r>
            <a:endParaRPr b="0" lang="en-US" sz="1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Мячи должны быть небольшие, мягкие, связанные из шерсти, окрашенные в различные цвета: красный, оранжевый, зеленый, синий, фиолетовый (т. е. цвета радуги) и белый. Каждый шар — мяч на ниточке. Развиваются умения различать цвета, ребенок знакомится с пространственными отношениями, утверждениями и отрицаниями, геометрическими фигурами. Фребель считал шар «единством в единстве», шар — символ движения, шар — символ бесконечности.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881676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Sitka Display"/>
              </a:rPr>
              <a:t>ОБРАЗОВАТЕЛЬНАЯ ОБЛАСТЬ «ПОЗНАНИЕ»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Sitka Display"/>
              </a:rPr>
              <a:t>ОЗНАКОМЛЕНИЕ С ПРОСТРАНСТВЕННЫМИ ОТНОШЕНИЯМИ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Picture 11" descr="igry-froebel-5"/>
          <p:cNvPicPr/>
          <p:nvPr/>
        </p:nvPicPr>
        <p:blipFill>
          <a:blip r:embed="rId1"/>
          <a:stretch/>
        </p:blipFill>
        <p:spPr>
          <a:xfrm>
            <a:off x="108000" y="1628640"/>
            <a:ext cx="4338720" cy="2880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-8-1024"/>
          <p:cNvPicPr/>
          <p:nvPr/>
        </p:nvPicPr>
        <p:blipFill>
          <a:blip r:embed="rId2"/>
          <a:stretch/>
        </p:blipFill>
        <p:spPr>
          <a:xfrm>
            <a:off x="4446720" y="3681360"/>
            <a:ext cx="458928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Sitka Display"/>
              </a:rPr>
              <a:t>ВТОРОЙ ДАР –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Sitka Display"/>
              </a:rPr>
              <a:t>НЕБОЛЬШИЕ ДЕРЕВЯННЫЕ ШАР, КУБИК, ЦИЛИНДР</a:t>
            </a:r>
            <a:r>
              <a:rPr b="0" lang="ru-RU" sz="3200" spc="-1" strike="noStrike">
                <a:solidFill>
                  <a:srgbClr val="ffff00"/>
                </a:solidFill>
                <a:latin typeface="Sitka Display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995560" y="1628640"/>
            <a:ext cx="589752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С их помощью ребенок знакомится с разными формами предметов. Кубик своей формой и устойчивостью является противоположностью шара. Шар рассматривается Фребелем как символ движения, кубик же — как символ покоя и символ «единства в многообразии» (куб един, но вид его различен в зависимости от того, как он представлен взору: ребром, стороной или вершиной). Цилиндр совмещает и свойства шара, и свойства кубика: он устойчив, если поставлен на основание, и подвижен, если положен.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7720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Диаметр шара, основание цилиндра и сторона кубика одинаковые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8" name="Picture 10" descr="Пример изображения"/>
          <p:cNvPicPr/>
          <p:nvPr/>
        </p:nvPicPr>
        <p:blipFill>
          <a:blip r:embed="rId1"/>
          <a:stretch/>
        </p:blipFill>
        <p:spPr>
          <a:xfrm>
            <a:off x="179280" y="1844640"/>
            <a:ext cx="2816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8673840" cy="11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ЕТИЙ ДАР —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УБ, РАЗДЕЛЕННЫЙ НА ВОСЕМЬ КУБИКОВ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0" name="Picture 7" descr="9"/>
          <p:cNvPicPr/>
          <p:nvPr/>
        </p:nvPicPr>
        <p:blipFill>
          <a:blip r:embed="rId1"/>
          <a:stretch/>
        </p:blipFill>
        <p:spPr>
          <a:xfrm>
            <a:off x="468360" y="1413000"/>
            <a:ext cx="5486400" cy="215568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"/>
          <p:cNvSpPr/>
          <p:nvPr/>
        </p:nvSpPr>
        <p:spPr>
          <a:xfrm>
            <a:off x="5954760" y="1441440"/>
            <a:ext cx="27702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cffd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куб разрезан пополам, каждая половина — на четыре ч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324000" y="3933720"/>
            <a:ext cx="8569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cffd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Посредством этого дара, ребенок, получает представление о целом и составляющих его частях («ложное единство», «единство и многообразие»); с его помощью он имеет возможность развивать свое творчество, строить из кубиков, различно их комбинируя</a:t>
            </a:r>
            <a:r>
              <a:rPr b="0" lang="ru-RU" sz="2000" spc="-1" strike="noStrike">
                <a:solidFill>
                  <a:srgbClr val="fcffd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Sitka Display"/>
              </a:rPr>
              <a:t>ЧЕТВЕРТЫЙ ДАР —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Sitka Display"/>
              </a:rPr>
              <a:t>КУБИК, РАЗДЕЛЕННЫЙ НА ВОСЕМЬ ПЛИТОК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Picture 7" descr="10"/>
          <p:cNvPicPr/>
          <p:nvPr/>
        </p:nvPicPr>
        <p:blipFill>
          <a:blip r:embed="rId1"/>
          <a:stretch/>
        </p:blipFill>
        <p:spPr>
          <a:xfrm>
            <a:off x="1808280" y="1370160"/>
            <a:ext cx="5494320" cy="252864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219240" y="3933720"/>
            <a:ext cx="86738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Кубик делится пополам, а каждая половина — на четыре удлиненные плитки; длина каждой плитки равна стороне кубика, толщина равна одной четвертой этой стор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cffd9"/>
                </a:solidFill>
                <a:latin typeface="Times New Roman"/>
                <a:ea typeface="Times New Roman"/>
              </a:rPr>
              <a:t>Возможность строительных комбинаций в данном случае значительно расширяется: с прибавлением каждого нового дара прежние, с которыми ребенок уже освоился, не изыма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13:56:57Z</dcterms:created>
  <dc:creator>Макс</dc:creator>
  <dc:description/>
  <dc:language>en-US</dc:language>
  <cp:lastModifiedBy>Пользователь Windows</cp:lastModifiedBy>
  <dcterms:modified xsi:type="dcterms:W3CDTF">2020-01-05T15:28:29Z</dcterms:modified>
  <cp:revision>21</cp:revision>
  <dc:subject/>
  <dc:title>Использование игрового набора «Дары  Фрёбеля» в образовательной деятельности с дошкольниками </dc:title>
</cp:coreProperties>
</file>