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3D6B-736C-467B-99FC-E4AB4271EE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F5EA-17CD-4F09-B7EC-C07A55DAF3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20C6-18DC-4B3A-BF73-1914539EBD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851D-5D24-4E53-9FC8-D0EB3E85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0CCB-1448-42E8-899E-CD4F94EE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7354A-EB8B-4762-852F-1A83EB95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6C9BA-E87F-40A8-90E8-7E659D2B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9ADD2-5340-4D58-B2EB-949DD252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DE836-A267-4EFE-85AA-0C206EB9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868C5-70AB-4D69-AFC4-4EB59B7E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8D981-A47C-4E9D-8692-E04AF251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6E1E3-3DBC-43F9-91E5-6A3831D5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1ECB0-8A04-4917-841A-570C8317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55C4F-AD8A-45F7-9556-42CE3231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1B8-1391-4CCD-9573-15AC635B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ED3C-F557-476D-88EB-ADBDB1F7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27FF0-9392-40B7-9204-57AF8009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CC6D9-6422-4A7C-AE35-F759F958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9525D-B21C-4425-A551-37BE0F73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E8A1E-60A6-4908-BC92-43C97320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5F568-B797-497F-8BF7-E7A13804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206AE-5C34-4E1A-A0E1-C9F7E55C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58971-F07B-48EC-B22E-C7056849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37235-E1D5-485E-A896-4AEF710E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04583-1A53-48EB-8C85-E51EB457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2CC5-6191-4326-841C-38243013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88F07-F794-4BCF-BE29-B9696248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0BB09-3311-4294-908D-428C7166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AFC0E-E92E-42FD-9C55-D2AE5864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8C9FB-2E59-4B18-B2C8-57610E17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DDD39-76D5-4B88-9936-9E1B326E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48EE2-9DA9-40A5-8357-1B3DD508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24F52-3B51-4F62-B451-6466B3BB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43560-8924-41F5-B9D0-DD3E4EBB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41D05-7914-4550-87C8-A01B6486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64FB8-1FCF-43C9-BE92-D88AF948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939F-0805-4B96-A565-41EDBA6A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2F29C-878D-4871-9232-14F4B933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F9028-27B2-4DC2-A84F-5EA4932B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9C22A-BC15-445B-B43F-17B029EE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0D7E8-74C0-422C-8CCA-13AB6DB1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FA7B5-5F7C-4C40-8755-D268F891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67ECC-4203-46EF-8401-EEFE908C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61430-7B60-4C30-BAF0-004DD192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5DF8F-7869-4718-AE64-A5544E2D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E69C0-3D6D-4152-A66F-62D67BA5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7E92C-5831-4411-AB41-C98EDB82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0C91-D28D-4019-BAC6-7E737757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63F96-A1A6-4BAE-BB8F-88C2A331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A06BD-6E36-40BC-99EC-EF963E7F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FC45A-7461-45B4-B780-AADCE51A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CBDD1-84C1-4CB6-A71B-49F51A26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5BF89-2F83-4891-AEC6-26E2BF71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EF82A-FC13-4803-A29E-7FF7E74E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3AE38-11DB-4186-A19E-ED23315D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105F1-AC97-4883-AE25-6E891B3C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DA4412-CD08-4DD4-B0EC-5B8ACF4A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A785F7-0DAA-41FD-A7BF-8BAE27C9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3E64-23BC-434B-B46F-C090F017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1D6738-2036-4B08-891C-C3346AA8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F9C156-6657-4338-ACCD-66F01DAE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E59385-2904-4006-AAD0-265F54E4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3379D4-C8BA-4CF9-B8ED-05FE0E1E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7A37B-F590-490D-A2EC-6031C0B5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31121C-AEF6-4863-8366-41CE37C7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3AB2E4-DAD9-4CDA-9A04-7DD91210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6C67D3-F85E-41E6-AF3A-DD3401F8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45D75-BA97-4D3E-836A-CA4C943F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2934B1-3227-4307-B5F9-4F97554D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4164-E49D-4551-A03E-53151FDF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F6F01D-B13E-46D1-A275-76CFE82B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34C98B-DEF5-4645-9942-56146599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EF9EFE-CBF0-430F-B517-A13974E9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6EF570-C4AC-4EC3-B1FA-6411F9FB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E37DB0-ACE7-4EFC-8C56-2BF98FC0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361266-D1CA-4A39-A9F8-1191C40A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6B012F-3F30-4BF7-BEEC-ABE7203A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35B52D-AADC-448D-9A57-D9B302CE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16ACB2-A232-4EB0-A40D-FAB9CC98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2149A0-469C-43F4-8CEB-CD18F914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CAB1-216F-4960-BDB9-0B9F3C59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257E57-CEC7-4601-9C4F-E198BE70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7B041B-1A15-4FEF-903F-799481E5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E84AC3-7085-4904-9E7F-73E775A9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AB4E7B-D158-4EC2-99DE-FE09FE93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818F30-E1CE-44F6-803D-BD6DAFE5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0ECDFE-1F8B-49D0-9517-67EB5DDF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AD5DB8-FF97-43A9-8B0A-64F85954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F51F5-92BA-45A1-BF5B-BB6B1F36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2E1E3C-34FF-4EC9-B201-78E4951D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4EC050-87CB-41AB-97CC-B8316E55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1AE6-3039-43CF-B079-C8D963D0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152BA2-E1BF-4D94-B45E-6FA10D7D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66AB3E-6471-43CB-886B-BBC8F2BC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6448B2-B16B-4B3F-BFD3-A2F32997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C06AF8-9C97-4067-A495-9E3EEBBD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1BA831-8230-4AD8-99D5-1D8F6500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DCCA50-0A9F-4F2C-ABDD-138235A8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D105A9-5A86-480A-A8F9-245D80AD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4A2704-02D1-416A-99F3-4E3EB57E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45C4D0-5DFC-4542-B4D2-B630DE74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985D3C-489E-4A78-AF77-940AC61B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277C-CCD9-4FFC-BEC5-DDD8BFB5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6573-4507-4FB3-A824-FE35DEDC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6FD0A8-4C2A-4EAF-BCCA-50BE511C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47BF03-0ACC-4870-8759-B7474AEC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69FE06-D861-466F-8153-13F96DCC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07654D-6D90-490C-B039-09C00C77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8336DF-444F-4245-92C4-DDDF1872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016B-EAB3-4151-A657-DF393E9C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FD0F-6AA3-4ACB-9A99-935904E1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1BD7-D9BB-4FFE-9070-F99654F8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29AF-991F-4CC9-9B4F-97F0167A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73F99-58A4-40B6-BD0E-49E742B6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28B80-4718-4573-8E1A-50156962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5E6B1-A6E7-4510-BC55-B6C8395C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EF3F0-7BD0-4990-8599-28989868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F2F73-775F-4FAA-932E-1F8FB4E0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36A1-09EC-4D6C-9E5E-8164C25E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36CE5-CD10-4FDA-A755-A3E50BFE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AC9EF-31C2-4390-90A2-3CEEEB71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7A430-7131-430B-A83E-0F4F53B7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E3120-4E3E-4D61-8E97-9197F353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1853F-19BD-4660-8F9D-F9FF69C4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E3648-DB9E-4D94-B5EE-EDD1ADB7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3C9BD-1E64-481E-AB9B-B91EAB5B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79A58-B4B0-4965-87B1-C6C3BFE6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F49A1-66C5-4981-B105-058B78A6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52661-831D-46B3-A7A9-244555E3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8443-AA04-49AB-AE7A-503E63A2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A53C5-9C45-4EC9-BB12-54DA7152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262CE-3358-4DDE-B421-F6E59AAE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5B42F-BE3B-42A5-A0B7-6F6B525A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22828-154A-4527-B8A5-F8AF9290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63E6C-440A-47FE-8BED-96AB0170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AC593-34DC-4647-A477-A0B08632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2B53B-CA5E-4F68-8B70-1B9190FF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6A2C1-548A-407E-A6B8-18BDDDC0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E0326-003C-4BC7-902E-D221B7A8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51EA6-817F-4A0E-896A-1CA37733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C513-2226-40DB-B1F5-995F18F4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D8A5D-D22C-4782-9E5E-BEE008B4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F751A-9EFE-432D-A143-72B6A765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6ED83-3DA5-42DD-9D18-0C4BAFD9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92448-C337-4085-9A07-D3306E71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0A575-1223-4F7F-B7AB-CE2DB112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BD36E-69A0-4154-948D-7C029694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0C3EB-67BF-41F9-ACFC-0ED04907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C7251-9B5D-42B6-9B7E-C961F779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CBC11-F9D3-422F-AAEA-2DC2F5F3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BA984-7797-48E3-A2A6-AF452CBE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8B16-6D3C-4621-94D8-7442E9BF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D0C24-38B2-4D94-A742-9991C481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6E81C-F1F2-4BC9-8465-64610374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BD4EB-2CE1-4AC9-9108-138001C5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BB096-4463-48FF-ABAC-DBD3B88B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E61A2-849D-4B24-8328-022697AE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95239-BBEC-490A-97C0-DF6D7DB7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E210E-0969-4667-9038-98949341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1D1BB-F07B-4E92-8EF5-E13384F2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A371E-278A-4872-B228-114AE7B0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C7542-6811-4538-9657-1E0F0141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B64-AD8B-4B4C-B09E-CEEB821B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5AC2D-05CA-4395-999E-C2C87FCC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7E81F-62C0-4CC5-8E4D-27A0BB86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60CE5-7482-4631-8F45-DBDD2349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C1D8E-2546-4B8E-AFCB-A16C295F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DC067-0C82-423F-9E25-F904B058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117B3-7027-4742-ABA7-37A67CB2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DEA66-A0EC-466C-87F4-4C84DC6D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66741-75BD-4386-A4DA-BD27F479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92536-0347-432E-BC4F-B629DBBE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74503-7336-4E12-A30D-A77853F5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5161-F2DA-49F9-9204-5EBF697C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44A1C-0BC0-4448-9DEF-5389D07B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5DCDC-843C-4053-9ACF-1C1FD3C9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3925A-DBCE-440F-86AE-08B72983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51B54-46B3-4592-8964-C395FD28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F598F-4FB7-4148-AFA5-CD9F2368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C8361-ACA7-4C48-8810-06F56792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0BE4C-4BA1-45F1-8463-FBDEF95D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B09E5-F269-4E62-9EAB-C36163FE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59140-ECE4-42AF-877C-AE4C6EA0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F6E79-348D-4F59-8B72-AAA1512E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D840-6937-4167-A94F-E0342636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D79A6-936C-44F3-8D5C-5AD9C7A0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26011-3394-4639-89AB-8F789E22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EF0FF-6734-4794-A22C-3D7BE46A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924E2-6F44-455A-9971-B781BAEA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A8596-EE0F-4800-98AF-F1A97870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84E80-1FF7-4F9F-8D47-B7CD375D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30BA4-7BE7-44B0-A81D-46CC16CD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289AC-255F-4043-82BD-ECCDC9E8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42740-06F6-4883-BFAF-E67923AA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29448-62A9-4B7E-882C-B539C541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935A-22ED-4A1A-B2B2-4B2BB9F994F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8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9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30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C11C-F973-489D-A2C3-423506FC86A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6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6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8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6C65-D078-493F-BA5C-B649816D823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2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3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5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 type="sldNum" idx="36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D9D9-A9DB-4880-B8A7-762144A70A3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0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2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9682-15F0-4D17-B9C3-E2FA316339A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6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9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2DCD-D5E1-413A-9F33-FDAD9B979AC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4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4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6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 type="sldNum" idx="4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6FED-7955-41A9-B379-BDCD19EC7CB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1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18" name="Freeform 27"/>
            <p:cNvSpPr/>
            <p:nvPr/>
          </p:nvSpPr>
          <p:spPr>
            <a:xfrm>
              <a:off x="1680480" y="3960"/>
              <a:ext cx="102600" cy="781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9" name="Freeform 28"/>
            <p:cNvSpPr/>
            <p:nvPr/>
          </p:nvSpPr>
          <p:spPr>
            <a:xfrm>
              <a:off x="1789200" y="80640"/>
              <a:ext cx="87840" cy="2808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0" name="Freeform 29"/>
            <p:cNvSpPr/>
            <p:nvPr/>
          </p:nvSpPr>
          <p:spPr>
            <a:xfrm>
              <a:off x="1883880" y="108360"/>
              <a:ext cx="89280" cy="1728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1" name="Freeform 30"/>
            <p:cNvSpPr/>
            <p:nvPr/>
          </p:nvSpPr>
          <p:spPr>
            <a:xfrm>
              <a:off x="1783080" y="81720"/>
              <a:ext cx="114480" cy="39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2" name="Freeform 31"/>
            <p:cNvSpPr/>
            <p:nvPr/>
          </p:nvSpPr>
          <p:spPr>
            <a:xfrm>
              <a:off x="20520" y="0"/>
              <a:ext cx="360" cy="685332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2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E4B5-22B2-4BC9-8C74-373C7CB7DD3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A76F-13C2-490C-9A09-22FE28C7F50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1502-6A58-4B38-B3D7-31E9FB6FAF3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3977-A3B8-4383-9F8C-0F188D75B99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5723-320D-44F6-99A0-E21F9374F84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3C32-C00F-4983-86BD-C9E83935924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BBE3-9494-4CB3-AC80-28B93F4C821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47ED-A73F-4B46-BE49-5E11B042F4D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8068-D1A3-4727-888A-D961801758B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71040" y="-963720"/>
            <a:ext cx="84726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ГРОВЫЕ ТЕХНОЛОГИИ </a:t>
            </a:r>
            <a:br>
              <a:rPr sz="3600"/>
            </a:br>
            <a:r>
              <a:rPr b="1" lang="en-U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 ДЕТСКОМ САДУ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74" name="Picture 5" descr="Детский садик 89 г.Пенза Солнышко :: Художественно-эстетическое развитие"/>
          <p:cNvPicPr/>
          <p:nvPr/>
        </p:nvPicPr>
        <p:blipFill>
          <a:blip r:embed="rId2"/>
          <a:stretch/>
        </p:blipFill>
        <p:spPr>
          <a:xfrm>
            <a:off x="-19080" y="2362320"/>
            <a:ext cx="6624720" cy="4486320"/>
          </a:xfrm>
          <a:prstGeom prst="rect">
            <a:avLst/>
          </a:prstGeom>
          <a:ln w="0">
            <a:noFill/>
          </a:ln>
        </p:spPr>
      </p:pic>
      <p:sp>
        <p:nvSpPr>
          <p:cNvPr id="1175" name="Rectangle 2"/>
          <p:cNvSpPr/>
          <p:nvPr/>
        </p:nvSpPr>
        <p:spPr>
          <a:xfrm>
            <a:off x="5651640" y="5732640"/>
            <a:ext cx="451296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отошкова Ю.С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оломинова Е.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Прямоугольник 1"/>
          <p:cNvSpPr/>
          <p:nvPr/>
        </p:nvSpPr>
        <p:spPr>
          <a:xfrm>
            <a:off x="4319640" y="12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гра порождает радос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у, довольство, покой в себ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коло себя, мир с миром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идрих Фребел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1000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36836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Century Gothic"/>
              </a:rPr>
              <a:t>Символическая</a:t>
            </a:r>
            <a:r>
              <a:rPr b="1" lang="ru-RU" sz="3600" spc="-1" strike="noStrike">
                <a:solidFill>
                  <a:srgbClr val="fb4a18"/>
                </a:solidFill>
                <a:latin typeface="Century Gothic"/>
              </a:rPr>
              <a:t> </a:t>
            </a:r>
            <a:r>
              <a:rPr b="1" lang="ru-RU" sz="3600" spc="-1" strike="noStrike">
                <a:solidFill>
                  <a:srgbClr val="cc00ff"/>
                </a:solidFill>
                <a:latin typeface="Century Gothic"/>
              </a:rPr>
              <a:t>аналоги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Rectangle 3"/>
          <p:cNvSpPr/>
          <p:nvPr/>
        </p:nvSpPr>
        <p:spPr>
          <a:xfrm>
            <a:off x="1187280" y="992160"/>
            <a:ext cx="77724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хождение краткого символического описания задач или объект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ча или объект обозначается символа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Сказка «Репка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0" name="Picture 5" descr="репка 1"/>
          <p:cNvPicPr/>
          <p:nvPr/>
        </p:nvPicPr>
        <p:blipFill>
          <a:blip r:embed="rId2"/>
          <a:stretch/>
        </p:blipFill>
        <p:spPr>
          <a:xfrm>
            <a:off x="1038240" y="3500280"/>
            <a:ext cx="7921440" cy="266400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2340000" y="18900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Century Gothic"/>
              </a:rPr>
              <a:t>Символическая</a:t>
            </a:r>
            <a:r>
              <a:rPr b="1" lang="ru-RU" sz="3600" spc="-1" strike="noStrike">
                <a:solidFill>
                  <a:srgbClr val="fb4a18"/>
                </a:solidFill>
                <a:latin typeface="Century Gothic"/>
              </a:rPr>
              <a:t> </a:t>
            </a:r>
            <a:r>
              <a:rPr b="1" lang="ru-RU" sz="3600" spc="-1" strike="noStrike">
                <a:solidFill>
                  <a:srgbClr val="cc00ff"/>
                </a:solidFill>
                <a:latin typeface="Century Gothic"/>
              </a:rPr>
              <a:t>аналоги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1258920" y="836640"/>
            <a:ext cx="80074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Видом символической аналогии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является </a:t>
            </a:r>
            <a:r>
              <a:rPr b="1" lang="ru-RU" sz="2400" spc="-1" strike="noStrike">
                <a:solidFill>
                  <a:srgbClr val="ff5050"/>
                </a:solidFill>
                <a:latin typeface="Century Gothic"/>
              </a:rPr>
              <a:t>ГРАФИЧЕСКАЯ АНАЛОГИЯ,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в которо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изображения еще более упрощен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Century Gothic"/>
              </a:rPr>
              <a:t>Сказка «Реп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3" name="Picture 6" descr="репка2"/>
          <p:cNvPicPr/>
          <p:nvPr/>
        </p:nvPicPr>
        <p:blipFill>
          <a:blip r:embed="rId2"/>
          <a:stretch/>
        </p:blipFill>
        <p:spPr>
          <a:xfrm>
            <a:off x="1476360" y="3141720"/>
            <a:ext cx="7189920" cy="284472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b4a18"/>
                </a:solidFill>
                <a:latin typeface="Century Gothic"/>
              </a:rPr>
              <a:t> </a:t>
            </a:r>
            <a:r>
              <a:rPr b="1" lang="ru-RU" sz="3600" spc="-1" strike="noStrike">
                <a:solidFill>
                  <a:srgbClr val="cc00ff"/>
                </a:solidFill>
                <a:latin typeface="Century Gothic"/>
              </a:rPr>
              <a:t>Фантастическая аналоги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5" name="Rectangle 3"/>
          <p:cNvSpPr/>
          <p:nvPr/>
        </p:nvSpPr>
        <p:spPr>
          <a:xfrm>
            <a:off x="971640" y="1844640"/>
            <a:ext cx="381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Century Gothic"/>
              </a:rPr>
              <a:t>Цель: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Перенесение проблемы в сказку, фантастику, легенд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Century Gothic"/>
              </a:rPr>
              <a:t>Вид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По внешнему признак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По характер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По назначени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Rectangle 4"/>
          <p:cNvSpPr/>
          <p:nvPr/>
        </p:nvSpPr>
        <p:spPr>
          <a:xfrm>
            <a:off x="4784760" y="1700280"/>
            <a:ext cx="3813120" cy="4114800"/>
          </a:xfrm>
          <a:prstGeom prst="rect">
            <a:avLst/>
          </a:prstGeom>
          <a:solidFill>
            <a:srgbClr val="fbfbb3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c00ff"/>
                </a:solidFill>
                <a:latin typeface="Century Gothic"/>
              </a:rPr>
              <a:t>Игра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Вы пришли в детский сад, а там нет взрослых. Кого вы нарисуете вместо Юлии Александровн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Бабу Ягу (лохматая, злая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Золушку (добрая, красивая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724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ff5050"/>
                </a:solidFill>
                <a:latin typeface="Arial"/>
              </a:rPr>
              <a:t>Эмпатия</a:t>
            </a:r>
            <a:r>
              <a:rPr b="0" lang="ru-RU" sz="2500" spc="-1" strike="noStrike">
                <a:solidFill>
                  <a:srgbClr val="ff5050"/>
                </a:solidFill>
                <a:latin typeface="Arial"/>
              </a:rPr>
              <a:t> -</a:t>
            </a:r>
            <a:r>
              <a:rPr b="0" lang="ru-RU" sz="1800" spc="-1" strike="noStrike">
                <a:solidFill>
                  <a:srgbClr val="ff5050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способность перенестись на место другого предмета или человека</a:t>
            </a:r>
            <a:br>
              <a:rPr sz="2200"/>
            </a:b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Rectangle 3"/>
          <p:cNvSpPr/>
          <p:nvPr/>
        </p:nvSpPr>
        <p:spPr>
          <a:xfrm>
            <a:off x="971640" y="1628640"/>
            <a:ext cx="3887640" cy="4970520"/>
          </a:xfrm>
          <a:prstGeom prst="rect">
            <a:avLst/>
          </a:prstGeom>
          <a:solidFill>
            <a:srgbClr val="f4dce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c00ff"/>
                </a:solidFill>
                <a:latin typeface="Century Gothic"/>
              </a:rPr>
              <a:t>Младший возраст</a:t>
            </a:r>
            <a:r>
              <a:rPr b="1" lang="ru-RU" sz="2400" spc="-1" strike="noStrike">
                <a:solidFill>
                  <a:srgbClr val="fb4a18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Поиграть в «киску», «МАМУ», «бабочку»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c00ff"/>
                </a:solidFill>
                <a:latin typeface="Century Gothic"/>
              </a:rPr>
              <a:t>Старший возраст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Я чувствую, что я превращаюс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-в ветерок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-в песенку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-в цвето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-Я-светлячок…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Rectangle 4"/>
          <p:cNvSpPr/>
          <p:nvPr/>
        </p:nvSpPr>
        <p:spPr>
          <a:xfrm>
            <a:off x="4917960" y="1125360"/>
            <a:ext cx="3927600" cy="5472360"/>
          </a:xfrm>
          <a:prstGeom prst="rect">
            <a:avLst/>
          </a:prstGeom>
          <a:solidFill>
            <a:srgbClr val="b0fec4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Century Gothic"/>
              </a:rPr>
              <a:t>Игр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Century Gothic"/>
              </a:rPr>
              <a:t>«Точка зрения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Century Gothic"/>
              </a:rPr>
              <a:t>Дети изображают не говорящие предметы , но говорят от их лиц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Century Gothic"/>
              </a:rPr>
              <a:t>«СТУЛ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Что чувствует стул вечером, когда уже все ушл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Century Gothic"/>
              </a:rPr>
              <a:t>«Колобок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Что чувствует Колобок когда лиса его съел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А что чувствует лиса, когда хочет съесть Колобк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А что чувствует дорожка в лесу, по которой катится Колобок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4720" y="420840"/>
            <a:ext cx="6875280" cy="12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СПАСИБО ЗА ВНИМАНИЕ!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21" name="Picture 4" descr="Сенсорная комната в детском саду Ласточка Детский сад"/>
          <p:cNvPicPr/>
          <p:nvPr/>
        </p:nvPicPr>
        <p:blipFill>
          <a:blip r:embed="rId2"/>
          <a:stretch/>
        </p:blipFill>
        <p:spPr>
          <a:xfrm>
            <a:off x="1944720" y="1719360"/>
            <a:ext cx="6514920" cy="4886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Прямоугольник 4"/>
          <p:cNvSpPr/>
          <p:nvPr/>
        </p:nvSpPr>
        <p:spPr>
          <a:xfrm>
            <a:off x="1476360" y="982800"/>
            <a:ext cx="726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гра представляет собой особую деятельность, которая расцветает в детские годы и сопровождает человека на протяжении всей его жизни. Не удивительно, что проблема игры привлекала и привлекает к себе внимание исследователей: педагогов, психологов, философов, социологов, искусствоведов, биолог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Прямоугольник 5"/>
          <p:cNvSpPr/>
          <p:nvPr/>
        </p:nvSpPr>
        <p:spPr>
          <a:xfrm>
            <a:off x="1235160" y="15084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79" name="Picture 2" descr="Сайт Детского Сада 19 - Фотоальбомы: Игровая комната"/>
          <p:cNvPicPr/>
          <p:nvPr/>
        </p:nvPicPr>
        <p:blipFill>
          <a:blip r:embed="rId2"/>
          <a:srcRect l="0" t="13439" r="0" b="0"/>
          <a:stretch/>
        </p:blipFill>
        <p:spPr>
          <a:xfrm>
            <a:off x="1979640" y="2736720"/>
            <a:ext cx="5715000" cy="4121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Что такое технология?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971280" y="901800"/>
            <a:ext cx="432252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 любая технология, педагогическая представляет собой процесс, при котором происходит качественное изменение воздействия на обучаемого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2" name="Picture 5" descr="Планшетные компьютеры заменили воспитанникам ростовского детского сада кукол, кубики и машинки - Первый канал"/>
          <p:cNvPicPr/>
          <p:nvPr/>
        </p:nvPicPr>
        <p:blipFill>
          <a:blip r:embed="rId2"/>
          <a:stretch/>
        </p:blipFill>
        <p:spPr>
          <a:xfrm>
            <a:off x="0" y="3449520"/>
            <a:ext cx="5435640" cy="3429000"/>
          </a:xfrm>
          <a:prstGeom prst="rect">
            <a:avLst/>
          </a:prstGeom>
          <a:ln w="0">
            <a:noFill/>
          </a:ln>
        </p:spPr>
      </p:pic>
      <p:pic>
        <p:nvPicPr>
          <p:cNvPr id="1183" name="Схема 1" descr=""/>
          <p:cNvPicPr/>
          <p:nvPr/>
        </p:nvPicPr>
        <p:blipFill>
          <a:blip r:embed="rId3"/>
          <a:stretch/>
        </p:blipFill>
        <p:spPr>
          <a:xfrm>
            <a:off x="4211640" y="1249200"/>
            <a:ext cx="6095880" cy="407844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Объект 3" descr=""/>
          <p:cNvPicPr/>
          <p:nvPr/>
        </p:nvPicPr>
        <p:blipFill>
          <a:blip r:embed="rId2"/>
          <a:stretch/>
        </p:blipFill>
        <p:spPr>
          <a:xfrm>
            <a:off x="828720" y="762120"/>
            <a:ext cx="7705800" cy="5181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Объект 4" descr=""/>
          <p:cNvPicPr/>
          <p:nvPr/>
        </p:nvPicPr>
        <p:blipFill>
          <a:blip r:embed="rId2"/>
          <a:stretch/>
        </p:blipFill>
        <p:spPr>
          <a:xfrm>
            <a:off x="2627280" y="476280"/>
            <a:ext cx="8064360" cy="591804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2" descr="Триз в доу - Большой архив книг"/>
          <p:cNvPicPr/>
          <p:nvPr/>
        </p:nvPicPr>
        <p:blipFill>
          <a:blip r:embed="rId3"/>
          <a:stretch/>
        </p:blipFill>
        <p:spPr>
          <a:xfrm>
            <a:off x="27000" y="223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7" name="Объект 3" descr=""/>
          <p:cNvPicPr/>
          <p:nvPr/>
        </p:nvPicPr>
        <p:blipFill>
          <a:blip r:embed="rId2"/>
          <a:stretch/>
        </p:blipFill>
        <p:spPr>
          <a:xfrm>
            <a:off x="1938240" y="36360"/>
            <a:ext cx="7066080" cy="6632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835280" y="9000"/>
            <a:ext cx="65894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ТЕХНОЛОГИИ В МКДОУ №8 г. СИМ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Прямоугольник 3"/>
          <p:cNvSpPr/>
          <p:nvPr/>
        </p:nvSpPr>
        <p:spPr>
          <a:xfrm>
            <a:off x="2627280" y="1125360"/>
            <a:ext cx="624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Book Antiqua"/>
              </a:rPr>
              <a:t>«Каждый ребенок изначальн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Book Antiqua"/>
              </a:rPr>
              <a:t>талантлив и даже гениален, но его надо научить ориентироваться в современном мире, чтобы при минимуме затрат достичь максимального        эффекта»                                                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Book Antiqua"/>
              </a:rPr>
              <a:t>(Г. С. Альтшуллер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Прямоугольник 4"/>
          <p:cNvSpPr/>
          <p:nvPr/>
        </p:nvSpPr>
        <p:spPr>
          <a:xfrm>
            <a:off x="341280" y="26370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Book Antiqua"/>
              </a:rPr>
              <a:t> </a:t>
            </a:r>
            <a:r>
              <a:rPr b="1" lang="ru-RU" sz="1800" spc="-1" strike="noStrike">
                <a:solidFill>
                  <a:srgbClr val="000080"/>
                </a:solidFill>
                <a:latin typeface="Book Antiqua"/>
              </a:rPr>
              <a:t>Эта эффектная и звонкая аббревиатура - </a:t>
            </a:r>
            <a:r>
              <a:rPr b="1" lang="ru-RU" sz="3600" spc="-1" strike="noStrike">
                <a:solidFill>
                  <a:srgbClr val="000080"/>
                </a:solidFill>
                <a:latin typeface="Book Antiqua"/>
              </a:rPr>
              <a:t>ТРИЗ </a:t>
            </a:r>
            <a:r>
              <a:rPr b="1" lang="ru-RU" sz="1800" spc="-1" strike="noStrike">
                <a:solidFill>
                  <a:srgbClr val="000080"/>
                </a:solidFill>
                <a:latin typeface="Book Antiqua"/>
              </a:rPr>
              <a:t>- расшифровывается как "Теория решения изобретательских задач". Ее создателем в 1948 г. стал Генрих Саулович Альтшуллер, который был известен широкой публике в 60-е гг. как писатель-фантаст под псевдонимом Г. Альт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Book Antiqua"/>
              </a:rPr>
              <a:t>Творческое наследие Генриха Альтшуллера адаптировали для развития дошкольников около 20 лет назад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Прямоугольник 5"/>
          <p:cNvSpPr/>
          <p:nvPr/>
        </p:nvSpPr>
        <p:spPr>
          <a:xfrm>
            <a:off x="5381640" y="4724280"/>
            <a:ext cx="376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Book Antiqua"/>
              </a:rPr>
              <a:t>Самая главная цель, которую ставит перед собой ТРИЗ-педагог, - формирование у детей творческого мышления, т.е. воспитание творческой личност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6984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entury Gothic"/>
              </a:rPr>
              <a:t>РАССМОТРИМ ОДИН ИЗ МЕТОДОВ ТРИЗА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pSp>
        <p:nvGrpSpPr>
          <p:cNvPr id="1193" name="Diagram 6"/>
          <p:cNvGrpSpPr/>
          <p:nvPr/>
        </p:nvGrpSpPr>
        <p:grpSpPr>
          <a:xfrm>
            <a:off x="2136240" y="1190880"/>
            <a:ext cx="5883120" cy="4865400"/>
            <a:chOff x="2136240" y="1190880"/>
            <a:chExt cx="5883120" cy="4865400"/>
          </a:xfrm>
        </p:grpSpPr>
        <p:sp>
          <p:nvSpPr>
            <p:cNvPr id="1194" name="_s1028"/>
            <p:cNvSpPr/>
            <p:nvPr/>
          </p:nvSpPr>
          <p:spPr>
            <a:xfrm flipH="1" flipV="1">
              <a:off x="3624480" y="3407040"/>
              <a:ext cx="726840" cy="202680"/>
            </a:xfrm>
            <a:prstGeom prst="line">
              <a:avLst/>
            </a:prstGeom>
            <a:ln w="28440">
              <a:solidFill>
                <a:srgbClr val="e3ea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5" name="_s1029"/>
            <p:cNvSpPr/>
            <p:nvPr/>
          </p:nvSpPr>
          <p:spPr>
            <a:xfrm>
              <a:off x="2136240" y="2550960"/>
              <a:ext cx="1527120" cy="1310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e7e1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СРАВНЕНИЕ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ЖИВЫХ И НЕЖИВЫХ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ПРЕДМЕТОВ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6" name="_s1030"/>
            <p:cNvSpPr/>
            <p:nvPr/>
          </p:nvSpPr>
          <p:spPr>
            <a:xfrm flipH="1">
              <a:off x="4179960" y="4342320"/>
              <a:ext cx="448200" cy="530280"/>
            </a:xfrm>
            <a:prstGeom prst="line">
              <a:avLst/>
            </a:prstGeom>
            <a:ln w="28440">
              <a:solidFill>
                <a:srgbClr val="e3ea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7" name="_s1031"/>
            <p:cNvSpPr/>
            <p:nvPr/>
          </p:nvSpPr>
          <p:spPr>
            <a:xfrm>
              <a:off x="2967840" y="4746240"/>
              <a:ext cx="1527120" cy="1310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e7e1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ЭМПАТИЯ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8" name="_s1032"/>
            <p:cNvSpPr/>
            <p:nvPr/>
          </p:nvSpPr>
          <p:spPr>
            <a:xfrm>
              <a:off x="5525280" y="4342320"/>
              <a:ext cx="450360" cy="530280"/>
            </a:xfrm>
            <a:prstGeom prst="line">
              <a:avLst/>
            </a:prstGeom>
            <a:ln w="28440">
              <a:solidFill>
                <a:srgbClr val="e3ea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9" name="_s1033"/>
            <p:cNvSpPr/>
            <p:nvPr/>
          </p:nvSpPr>
          <p:spPr>
            <a:xfrm>
              <a:off x="5660280" y="4746240"/>
              <a:ext cx="1527120" cy="1310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e7e1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ФАНТАСТИЧЕСКАЯ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АНАЛОГИ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0" name="_s1034"/>
            <p:cNvSpPr/>
            <p:nvPr/>
          </p:nvSpPr>
          <p:spPr>
            <a:xfrm flipV="1">
              <a:off x="5802120" y="3407040"/>
              <a:ext cx="728640" cy="202680"/>
            </a:xfrm>
            <a:prstGeom prst="line">
              <a:avLst/>
            </a:prstGeom>
            <a:ln w="28440">
              <a:solidFill>
                <a:srgbClr val="e3ea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1" name="_s1035"/>
            <p:cNvSpPr/>
            <p:nvPr/>
          </p:nvSpPr>
          <p:spPr>
            <a:xfrm>
              <a:off x="6492240" y="2549160"/>
              <a:ext cx="1527120" cy="13100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e7e1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СИМВОЛИЧЕСКА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АНАЛОГИ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2" name="_s1036"/>
            <p:cNvSpPr/>
            <p:nvPr/>
          </p:nvSpPr>
          <p:spPr>
            <a:xfrm flipV="1">
              <a:off x="5076720" y="2501280"/>
              <a:ext cx="0" cy="656640"/>
            </a:xfrm>
            <a:prstGeom prst="line">
              <a:avLst/>
            </a:prstGeom>
            <a:ln w="28440">
              <a:solidFill>
                <a:srgbClr val="e3ea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3" name="_s1037"/>
            <p:cNvSpPr/>
            <p:nvPr/>
          </p:nvSpPr>
          <p:spPr>
            <a:xfrm>
              <a:off x="4313160" y="1190880"/>
              <a:ext cx="1527120" cy="1310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e7e1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ПРЯМАЯ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АНАЛОГИЯ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4" name="_s1038"/>
            <p:cNvSpPr/>
            <p:nvPr/>
          </p:nvSpPr>
          <p:spPr>
            <a:xfrm>
              <a:off x="4313160" y="3157920"/>
              <a:ext cx="1527120" cy="13100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b931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5050"/>
                  </a:solidFill>
                  <a:latin typeface="Comic Sans MS"/>
                </a:rPr>
                <a:t>МЕТОД </a:t>
              </a:r>
              <a:br>
                <a:rPr sz="2400"/>
              </a:br>
              <a:r>
                <a:rPr b="1" lang="en-US" sz="2400" spc="-1" strike="noStrike">
                  <a:solidFill>
                    <a:srgbClr val="ff5050"/>
                  </a:solidFill>
                  <a:latin typeface="Comic Sans MS"/>
                </a:rPr>
                <a:t>СИНЕКТИКИ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cc00ff"/>
                </a:solidFill>
                <a:latin typeface="Century Gothic"/>
              </a:rPr>
              <a:t>Прямая аналогия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Rectangle 3"/>
          <p:cNvSpPr/>
          <p:nvPr/>
        </p:nvSpPr>
        <p:spPr>
          <a:xfrm>
            <a:off x="539640" y="1290600"/>
            <a:ext cx="4442040" cy="52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Century Gothic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Учить сравнивать предмет с различными объектами (на что похож?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Century Gothic"/>
              </a:rPr>
              <a:t>Критерии прямой аналоги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о форме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о цвету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о структуре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о ситуаци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о свойствам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о характеру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Rectangle 4"/>
          <p:cNvSpPr/>
          <p:nvPr/>
        </p:nvSpPr>
        <p:spPr>
          <a:xfrm>
            <a:off x="5186520" y="1989000"/>
            <a:ext cx="3927240" cy="4538880"/>
          </a:xfrm>
          <a:prstGeom prst="rect">
            <a:avLst/>
          </a:prstGeom>
          <a:solidFill>
            <a:srgbClr val="e1ffe9"/>
          </a:solidFill>
          <a:ln cap="rnd" w="9360">
            <a:solidFill>
              <a:srgbClr val="19bb0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90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Игра «Цепочка слов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190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ДОМ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1904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9bb0d"/>
                </a:solidFill>
                <a:latin typeface="Times New Roman"/>
                <a:ea typeface="Times New Roman"/>
              </a:rPr>
              <a:t>Как печень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1904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9bb0d"/>
                </a:solidFill>
                <a:latin typeface="Times New Roman"/>
                <a:ea typeface="Times New Roman"/>
              </a:rPr>
              <a:t>Как ел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1904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9bb0d"/>
                </a:solidFill>
                <a:latin typeface="Times New Roman"/>
                <a:ea typeface="Times New Roman"/>
              </a:rPr>
              <a:t>Как куби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1904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9bb0d"/>
                </a:solidFill>
                <a:latin typeface="Times New Roman"/>
                <a:ea typeface="Times New Roman"/>
              </a:rPr>
              <a:t>Бабушки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1904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9bb0d"/>
                </a:solidFill>
                <a:latin typeface="Times New Roman"/>
                <a:ea typeface="Times New Roman"/>
              </a:rPr>
              <a:t>Тепл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1904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9bb0d"/>
                </a:solidFill>
                <a:latin typeface="Times New Roman"/>
                <a:ea typeface="Times New Roman"/>
              </a:rPr>
              <a:t>Добр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190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1904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0:12:11Z</dcterms:created>
  <dc:creator>User</dc:creator>
  <dc:description/>
  <dc:language>en-US</dc:language>
  <cp:lastModifiedBy>КилееваГИ</cp:lastModifiedBy>
  <dcterms:modified xsi:type="dcterms:W3CDTF">2014-11-27T12:45:48Z</dcterms:modified>
  <cp:revision>28</cp:revision>
  <dc:subject/>
  <dc:title>ИГРОВЫЕ ТЕХНОЛОГИИ</dc:title>
</cp:coreProperties>
</file>