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17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D6C4-7963-4BDA-9075-8C6DBD45F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A1E-B996-4BB8-8643-71FE747973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338-861C-4D33-A62C-9F07C509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640-CB73-4E06-919B-FC844E9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2B6-26C1-49ED-850D-A33B60CF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DDE-D1E1-4B67-BB41-8E296CC9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103-8860-40A0-BE8F-ACC319FF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6CB-1FE4-46AD-A211-E2D1E3D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97A-0280-4404-86E8-6CC598F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A15-4FF4-4170-9E5F-661B9E8C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FD8-C73F-4907-A754-8226496E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F25-658F-4E4A-88E4-E8AA92E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383-0051-439C-8103-BCF3B46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FA9-32BB-4B26-918F-BBEEBECD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5CEF-CAE2-436B-B384-211E5B1F9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ультация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6836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географически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79280" y="3798720"/>
            <a:ext cx="87854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остроение профиля рельеф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Часовые пояса Росс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Выдающиеся географические откры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126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, правильно ли указаны высоты точки А на левой вертикальной шкале и точки В на правой вертикальной шка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ую высоту точки определяют при помощи горизонталей (линий, соединяющих точки с одинаковой высотой). Горизонтали подписаны: посмотрите, на карте есть линии с обозначениями 90, 100 и 110 (значения перевернуты)). Мы видим в легенде карты комментарий, что горизонтали проведены через 2,5 м. Значит, можем рассчитать высоту точек на всех горизонталя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Так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 на третьей горизонтали после 100 (т.е. высота точки больше 100, но меньше 110). Получается, что высота точки В 100м+2,5м+2,5м+2,5м=107,5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     Абсолютную высоту какой-либо точки местности, отметка которой на карте не подписана, определяют по отметке ближайшей к ней горизонтали. Поэтому необходимо уметь определять отметки горизонталей, используя отметки других горизонталей и характерных точек местности, подписанных на карт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     Например, отметку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м по горизонтали 100 (см.в левом верхнем углу). От уровня реки к точке а движемся вверх по склону. Считаем, сколько горизонталей от горизонтали высотой 100м до точки А: 100м+2,5м+половина шага между горизонталями 1,25=103,75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на рисунке с предложенными профилями проверяем ответы по первому критерию: точка А приблизительно 104м, точка В - 107,5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мере этим требованиям соответствует только профил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мером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126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роверяем профиль на соответствие изображению рельефа мест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от точки А к точке В мы спускаемся с горы по достаточно крутому склону (об этом свидетельствуют близко расположенные друг к другу горизонтали на фрагменте карты) к рек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еки к точке В движемся вверх по относительно пологому склону холм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критерию 2 тоже соответствует профиль по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ом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ланке ответов пишем номер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224316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85.142.162.126/os/docs/0FA4DA9E3AE2BA1547B75F0B08EF6445/docs/GIA.GEO.2010.HC_04.05/xs3docsrcAAE23A944B9887504F94C9A98637B9FC_2_1396695798.jpg"/>
          <p:cNvPicPr/>
          <p:nvPr/>
        </p:nvPicPr>
        <p:blipFill>
          <a:blip r:embed="rId1"/>
          <a:stretch/>
        </p:blipFill>
        <p:spPr>
          <a:xfrm>
            <a:off x="179280" y="744480"/>
            <a:ext cx="5705640" cy="422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ttp://85.142.162.126/os/docs/0FA4DA9E3AE2BA1547B75F0B08EF6445/questions/GIA.GEO.2010.22.05/xs3qvrsrc96ABCD6629FC95014146D9B70FE6A8AB_2_1396695812.jpg"/>
          <p:cNvPicPr/>
          <p:nvPr/>
        </p:nvPicPr>
        <p:blipFill>
          <a:blip r:embed="rId2"/>
          <a:stretch/>
        </p:blipFill>
        <p:spPr>
          <a:xfrm>
            <a:off x="6516720" y="5229360"/>
            <a:ext cx="224784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http://85.142.162.126/os/docs/0FA4DA9E3AE2BA1547B75F0B08EF6445/questions/GIA.GEO.2010.22.05/xs3qvrsrcEAC96A0158D3B2144D453D767C835D1F_2_1396695809.jpg"/>
          <p:cNvPicPr/>
          <p:nvPr/>
        </p:nvPicPr>
        <p:blipFill>
          <a:blip r:embed="rId3"/>
          <a:stretch/>
        </p:blipFill>
        <p:spPr>
          <a:xfrm>
            <a:off x="6516720" y="3645000"/>
            <a:ext cx="223848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http://85.142.162.126/os/docs/0FA4DA9E3AE2BA1547B75F0B08EF6445/questions/GIA.GEO.2010.22.05/xs3qvrsrcCBF2CF42790296BC40FA4DBEC8D5D779_2_1396695807.jpg"/>
          <p:cNvPicPr/>
          <p:nvPr/>
        </p:nvPicPr>
        <p:blipFill>
          <a:blip r:embed="rId4"/>
          <a:stretch/>
        </p:blipFill>
        <p:spPr>
          <a:xfrm>
            <a:off x="6516720" y="2060640"/>
            <a:ext cx="2238480" cy="108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http://85.142.162.126/os/docs/0FA4DA9E3AE2BA1547B75F0B08EF6445/questions/GIA.GEO.2010.22.05/xs3qvrsrcBD021790EA6A99C645772D2CC213D90A_2_1396695803.jpg"/>
          <p:cNvPicPr/>
          <p:nvPr/>
        </p:nvPicPr>
        <p:blipFill>
          <a:blip r:embed="rId5"/>
          <a:stretch/>
        </p:blipFill>
        <p:spPr>
          <a:xfrm>
            <a:off x="6516720" y="544680"/>
            <a:ext cx="2219400" cy="105696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" descr=""/>
          <p:cNvPicPr/>
          <p:nvPr/>
        </p:nvPicPr>
        <p:blipFill>
          <a:blip r:embed="rId6"/>
          <a:stretch/>
        </p:blipFill>
        <p:spPr>
          <a:xfrm>
            <a:off x="6076800" y="811080"/>
            <a:ext cx="3668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2" descr=""/>
          <p:cNvPicPr/>
          <p:nvPr/>
        </p:nvPicPr>
        <p:blipFill>
          <a:blip r:embed="rId7"/>
          <a:stretch/>
        </p:blipFill>
        <p:spPr>
          <a:xfrm>
            <a:off x="6089760" y="2335320"/>
            <a:ext cx="366480" cy="523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3" descr=""/>
          <p:cNvPicPr/>
          <p:nvPr/>
        </p:nvPicPr>
        <p:blipFill>
          <a:blip r:embed="rId8"/>
          <a:stretch/>
        </p:blipFill>
        <p:spPr>
          <a:xfrm>
            <a:off x="6089760" y="3913200"/>
            <a:ext cx="366480" cy="5256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4" descr=""/>
          <p:cNvPicPr/>
          <p:nvPr/>
        </p:nvPicPr>
        <p:blipFill>
          <a:blip r:embed="rId9"/>
          <a:stretch/>
        </p:blipFill>
        <p:spPr>
          <a:xfrm>
            <a:off x="6089760" y="5499000"/>
            <a:ext cx="366480" cy="517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7"/>
          <p:cNvSpPr/>
          <p:nvPr/>
        </p:nvSpPr>
        <p:spPr>
          <a:xfrm>
            <a:off x="179280" y="532872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ах представлены варианты профиля рельефа местности, построенные на основе карты по линии А – В разными учащимися. Какой из профилей построен верно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5"/>
          <p:cNvSpPr/>
          <p:nvPr/>
        </p:nvSpPr>
        <p:spPr>
          <a:xfrm>
            <a:off x="6076800" y="5495760"/>
            <a:ext cx="379440" cy="524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224316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5937120" y="811080"/>
            <a:ext cx="371520" cy="5241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2" descr=""/>
          <p:cNvPicPr/>
          <p:nvPr/>
        </p:nvPicPr>
        <p:blipFill>
          <a:blip r:embed="rId2"/>
          <a:stretch/>
        </p:blipFill>
        <p:spPr>
          <a:xfrm>
            <a:off x="5937120" y="2335320"/>
            <a:ext cx="371520" cy="5238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3" descr=""/>
          <p:cNvPicPr/>
          <p:nvPr/>
        </p:nvPicPr>
        <p:blipFill>
          <a:blip r:embed="rId3"/>
          <a:stretch/>
        </p:blipFill>
        <p:spPr>
          <a:xfrm>
            <a:off x="5937120" y="3913200"/>
            <a:ext cx="371520" cy="5256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4" descr=""/>
          <p:cNvPicPr/>
          <p:nvPr/>
        </p:nvPicPr>
        <p:blipFill>
          <a:blip r:embed="rId4"/>
          <a:stretch/>
        </p:blipFill>
        <p:spPr>
          <a:xfrm>
            <a:off x="5937120" y="5499000"/>
            <a:ext cx="371520" cy="517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7"/>
          <p:cNvSpPr/>
          <p:nvPr/>
        </p:nvSpPr>
        <p:spPr>
          <a:xfrm>
            <a:off x="179280" y="532872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ах представлены варианты профиля рельефа местности, построенные на основе карты по линии А – В разными учащимися. Какой из профилей построен верно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85.142.162.126/os/docs/0FA4DA9E3AE2BA1547B75F0B08EF6445/docs/4502ABAF0EC69C6D4AC4A1055DA4B306/xs3docsrc4502ABAF0EC69C6D4AC4A1055DA4B306_2_1300284090.jpg"/>
          <p:cNvPicPr/>
          <p:nvPr/>
        </p:nvPicPr>
        <p:blipFill>
          <a:blip r:embed="rId5"/>
          <a:stretch/>
        </p:blipFill>
        <p:spPr>
          <a:xfrm>
            <a:off x="106200" y="620640"/>
            <a:ext cx="5931000" cy="408168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5"/>
          <p:cNvSpPr/>
          <p:nvPr/>
        </p:nvSpPr>
        <p:spPr>
          <a:xfrm>
            <a:off x="5918040" y="3911760"/>
            <a:ext cx="381240" cy="523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undefined"/>
          <p:cNvPicPr/>
          <p:nvPr/>
        </p:nvPicPr>
        <p:blipFill>
          <a:blip r:embed="rId6"/>
          <a:stretch/>
        </p:blipFill>
        <p:spPr>
          <a:xfrm>
            <a:off x="6372360" y="612720"/>
            <a:ext cx="2676240" cy="120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undefined"/>
          <p:cNvPicPr/>
          <p:nvPr/>
        </p:nvPicPr>
        <p:blipFill>
          <a:blip r:embed="rId7"/>
          <a:stretch/>
        </p:blipFill>
        <p:spPr>
          <a:xfrm>
            <a:off x="6396120" y="2133720"/>
            <a:ext cx="2676600" cy="120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undefined"/>
          <p:cNvPicPr/>
          <p:nvPr/>
        </p:nvPicPr>
        <p:blipFill>
          <a:blip r:embed="rId8"/>
          <a:stretch/>
        </p:blipFill>
        <p:spPr>
          <a:xfrm>
            <a:off x="6372360" y="3716280"/>
            <a:ext cx="2676240" cy="120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undefined"/>
          <p:cNvPicPr/>
          <p:nvPr/>
        </p:nvPicPr>
        <p:blipFill>
          <a:blip r:embed="rId9"/>
          <a:stretch/>
        </p:blipFill>
        <p:spPr>
          <a:xfrm>
            <a:off x="6372360" y="5229360"/>
            <a:ext cx="26762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://maps.at.ua/karta-Cities-2/Timezones-Ross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404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ожите регионы России в той последовательности, в которой их жители встречают Новый год. Запишите в таблицу получившуюся последовательность циф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Республика Кар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Забайкаль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3949560" y="5389560"/>
            <a:ext cx="12448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404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ожите регионы России в той последовательности, в которой их жители встречают Новый год. Запишите в таблицу получившуюся последовательность циф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мч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Забайкаль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4" descr=""/>
          <p:cNvPicPr/>
          <p:nvPr/>
        </p:nvPicPr>
        <p:blipFill>
          <a:blip r:embed="rId1"/>
          <a:stretch/>
        </p:blipFill>
        <p:spPr>
          <a:xfrm>
            <a:off x="3949560" y="5389560"/>
            <a:ext cx="12448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бъект 2"/>
          <p:cNvSpPr/>
          <p:nvPr/>
        </p:nvSpPr>
        <p:spPr>
          <a:xfrm>
            <a:off x="179280" y="374760"/>
            <a:ext cx="87854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оризонтали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инии, соединяющие точки земной поверхности с одинак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бсолютной выс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studfiles.ru/html/2706/278/html_NfeLKhZyvz.Pvig/htmlconvd-yHWJFh_html_5814a7bc.png"/>
          <p:cNvPicPr/>
          <p:nvPr/>
        </p:nvPicPr>
        <p:blipFill>
          <a:blip r:embed="rId1"/>
          <a:stretch/>
        </p:blipFill>
        <p:spPr>
          <a:xfrm>
            <a:off x="179280" y="1830240"/>
            <a:ext cx="87854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бъект 2"/>
          <p:cNvSpPr/>
          <p:nvPr/>
        </p:nvSpPr>
        <p:spPr>
          <a:xfrm>
            <a:off x="179280" y="374760"/>
            <a:ext cx="87854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чение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ность двух высот соседних горизонталей. Чем меньше сечение рельефа, тем он изображен подробн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studfiles.ru/html/2706/278/html_NfeLKhZyvz.Pvig/htmlconvd-yHWJFh_html_5814a7bc.png"/>
          <p:cNvPicPr/>
          <p:nvPr/>
        </p:nvPicPr>
        <p:blipFill>
          <a:blip r:embed="rId1"/>
          <a:stretch/>
        </p:blipFill>
        <p:spPr>
          <a:xfrm>
            <a:off x="179280" y="1830240"/>
            <a:ext cx="8785440" cy="447840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2"/>
          <p:cNvCxnSpPr/>
          <p:nvPr/>
        </p:nvCxnSpPr>
        <p:spPr>
          <a:xfrm flipV="1">
            <a:off x="3492360" y="4068360"/>
            <a:ext cx="648360" cy="224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pic>
        <p:nvPicPr>
          <p:cNvPr id="56" name="Прямоугольник 6" descr=""/>
          <p:cNvPicPr/>
          <p:nvPr/>
        </p:nvPicPr>
        <p:blipFill>
          <a:blip r:embed="rId2"/>
          <a:stretch/>
        </p:blipFill>
        <p:spPr>
          <a:xfrm>
            <a:off x="3456000" y="3790800"/>
            <a:ext cx="5428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24000" y="2840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оризонтали помогают определить крутизну скл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ем ближе расположены горизонтали одна к другой, тем круче скл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http://www.studfiles.ru/html/2706/576/html_wfXydNqsgK.ikxW/htmlconvd-JwaJE9_html_m6426ac66.jpg"/>
          <p:cNvPicPr/>
          <p:nvPr/>
        </p:nvPicPr>
        <p:blipFill>
          <a:blip r:embed="rId1"/>
          <a:srcRect l="12330" t="0" r="0" b="50013"/>
          <a:stretch/>
        </p:blipFill>
        <p:spPr>
          <a:xfrm>
            <a:off x="500040" y="1916280"/>
            <a:ext cx="77295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ъект 2"/>
          <p:cNvSpPr/>
          <p:nvPr/>
        </p:nvSpPr>
        <p:spPr>
          <a:xfrm>
            <a:off x="179280" y="374760"/>
            <a:ext cx="87854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ргштрих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большой штрих, проведенный перпендикулярно горизонталям, указывающий, в какую сторону идет понижение рельеф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ok-t.ru/helpiksorg/baza2/159031987222.files/image040.gif"/>
          <p:cNvPicPr/>
          <p:nvPr/>
        </p:nvPicPr>
        <p:blipFill>
          <a:blip r:embed="rId1"/>
          <a:srcRect l="182" t="0" r="-175" b="0"/>
          <a:stretch/>
        </p:blipFill>
        <p:spPr>
          <a:xfrm>
            <a:off x="244440" y="1592280"/>
            <a:ext cx="8712360" cy="2435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3"/>
          <p:cNvSpPr/>
          <p:nvPr/>
        </p:nvSpPr>
        <p:spPr>
          <a:xfrm>
            <a:off x="1187280" y="3213000"/>
            <a:ext cx="144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9"/>
          <p:cNvSpPr/>
          <p:nvPr/>
        </p:nvSpPr>
        <p:spPr>
          <a:xfrm>
            <a:off x="1763640" y="3213000"/>
            <a:ext cx="14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0"/>
          <p:cNvSpPr/>
          <p:nvPr/>
        </p:nvSpPr>
        <p:spPr>
          <a:xfrm>
            <a:off x="3348000" y="3284640"/>
            <a:ext cx="14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>
            <a:off x="3635280" y="3284640"/>
            <a:ext cx="144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4859280" y="3284640"/>
            <a:ext cx="144360" cy="158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4"/>
          <p:cNvSpPr/>
          <p:nvPr/>
        </p:nvSpPr>
        <p:spPr>
          <a:xfrm>
            <a:off x="5651640" y="3429000"/>
            <a:ext cx="14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5"/>
          <p:cNvSpPr/>
          <p:nvPr/>
        </p:nvSpPr>
        <p:spPr>
          <a:xfrm flipV="1">
            <a:off x="6300720" y="3284280"/>
            <a:ext cx="142920" cy="68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7"/>
          <p:cNvSpPr/>
          <p:nvPr/>
        </p:nvSpPr>
        <p:spPr>
          <a:xfrm flipH="1">
            <a:off x="6803640" y="3429000"/>
            <a:ext cx="136440" cy="71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21"/>
          <p:cNvSpPr/>
          <p:nvPr/>
        </p:nvSpPr>
        <p:spPr>
          <a:xfrm>
            <a:off x="7236000" y="3371760"/>
            <a:ext cx="14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2"/>
          <p:cNvSpPr/>
          <p:nvPr/>
        </p:nvSpPr>
        <p:spPr>
          <a:xfrm>
            <a:off x="7667640" y="3378240"/>
            <a:ext cx="14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23"/>
          <p:cNvSpPr/>
          <p:nvPr/>
        </p:nvSpPr>
        <p:spPr>
          <a:xfrm>
            <a:off x="8244000" y="3435480"/>
            <a:ext cx="144360" cy="29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studfiles.ru/html/2706/278/html_NfeLKhZyvz.Pvig/htmlconvd-yHWJFh_html_5814a7bc.png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478040"/>
          </a:xfrm>
          <a:prstGeom prst="rect">
            <a:avLst/>
          </a:prstGeom>
          <a:ln w="0">
            <a:noFill/>
          </a:ln>
        </p:spPr>
      </p:pic>
      <p:sp>
        <p:nvSpPr>
          <p:cNvPr id="74" name="Объект 2"/>
          <p:cNvSpPr/>
          <p:nvPr/>
        </p:nvSpPr>
        <p:spPr>
          <a:xfrm>
            <a:off x="179280" y="374760"/>
            <a:ext cx="8785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бсолютные высо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ершин или впадин на картах подписываются циф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Какое утверждение о передвижении между точками В, 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 вер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school\Desktop\2016-11 (ноя)\сканирование0002.jpg"/>
          <p:cNvPicPr/>
          <p:nvPr/>
        </p:nvPicPr>
        <p:blipFill>
          <a:blip r:embed="rId1"/>
          <a:srcRect l="6199" t="6417" r="6410" b="5245"/>
          <a:stretch/>
        </p:blipFill>
        <p:spPr>
          <a:xfrm>
            <a:off x="1476360" y="907920"/>
            <a:ext cx="5688000" cy="424980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179280" y="5157720"/>
            <a:ext cx="865368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дти из точки С в точку В, то нужно спуск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дти из точ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чку Е, то нужно спуск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дти из точ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чку Е, то нужно подниматься по очень крутому скл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дти из точки С в точку В, то нужно подниматься по очень крутому скл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1"/>
          <p:cNvSpPr/>
          <p:nvPr/>
        </p:nvSpPr>
        <p:spPr>
          <a:xfrm>
            <a:off x="179280" y="5732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01300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Э строить профиль не требуется, но его нужно уметь чит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245520" y="800640"/>
            <a:ext cx="85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уменьшенное изображ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ьной проекции местности по заданному направл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108000" y="189000"/>
            <a:ext cx="87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иль мес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http://s.neznaka.ru/images/original/9/258248/551057e6e8b70e8b188b88c7.png"/>
          <p:cNvPicPr/>
          <p:nvPr/>
        </p:nvPicPr>
        <p:blipFill>
          <a:blip r:embed="rId1"/>
          <a:srcRect l="17221" t="62039" r="20272" b="0"/>
          <a:stretch/>
        </p:blipFill>
        <p:spPr>
          <a:xfrm>
            <a:off x="684360" y="1844640"/>
            <a:ext cx="7424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sites.google.com/site/podgotovkakegeioge/_/rsrc/1417544441961/oge-po-geografii/zadania-18---21-1/zadanie-21/1.JPG"/>
          <p:cNvPicPr/>
          <p:nvPr/>
        </p:nvPicPr>
        <p:blipFill>
          <a:blip r:embed="rId1"/>
          <a:srcRect l="0" t="17093" r="0" b="0"/>
          <a:stretch/>
        </p:blipFill>
        <p:spPr>
          <a:xfrm>
            <a:off x="1476360" y="0"/>
            <a:ext cx="5543640" cy="36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s://sites.google.com/site/podgotovkakegeioge/_/rsrc/1417547011407/oge-po-geografii/zadania-18---21-1/zadanie-21/2.JPG"/>
          <p:cNvPicPr/>
          <p:nvPr/>
        </p:nvPicPr>
        <p:blipFill>
          <a:blip r:embed="rId2"/>
          <a:srcRect l="0" t="7803" r="0" b="11910"/>
          <a:stretch/>
        </p:blipFill>
        <p:spPr>
          <a:xfrm>
            <a:off x="873000" y="3645000"/>
            <a:ext cx="65343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20:34:37Z</dcterms:created>
  <dc:creator>Deafult User</dc:creator>
  <dc:description/>
  <dc:language>en-US</dc:language>
  <cp:lastModifiedBy>Дом</cp:lastModifiedBy>
  <dcterms:modified xsi:type="dcterms:W3CDTF">2020-01-05T20:02:29Z</dcterms:modified>
  <cp:revision>38</cp:revision>
  <dc:subject/>
  <dc:title>Презентация PowerPoint</dc:title>
</cp:coreProperties>
</file>