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BC0-D9C2-4A3E-A537-DA4545D7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510-4840-41B7-A747-C4993BE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0E8-E46E-42F0-9874-B32EFC3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A7E-7A6B-49F6-9229-DF13CB4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06E6-AE32-4C6B-AE99-A9DCE74C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705-D207-4BCE-8CC7-25A756A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4668-AE4F-4E65-B67D-695B3719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33BF-633E-4E64-9D3F-23484C75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F1EB-15CB-4D9F-A831-641F2115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D162-FA19-4FB3-AC01-9A77087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696D-3C37-4872-9D5D-9295C7C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856-3981-46BF-B9DF-6062028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986-4A64-4257-A9DC-3602096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E0E5-17FD-4753-8B9B-5216307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5CD-0A65-4056-8AF7-34DCA8B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6314-1CF3-4179-BBBF-69F2D704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57C-2065-41E8-B7DD-2AACA48B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716-552D-4868-B409-01FC135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A72-01DF-4BF0-84DD-CFCF8CF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720-8CF0-4B94-851F-351858A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3C3-3048-4825-98A7-A375CA1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7CB-FE74-44BD-8DFB-A3E696D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07E-947A-4860-B7A0-0DE25BD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D75-AC16-43AF-9DAB-E7C0697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7AAB-FF6C-4B98-A319-BF35BE8E98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561-356A-434B-BFD3-3F172959C2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080" y="1916280"/>
            <a:ext cx="31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4581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Презентация подготовлена на основе игрового дидак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материала «Береги живое» студией «Весна. Дизайн» г. К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2050920" y="5373000"/>
            <a:ext cx="581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Вы скачали эту презентацию на</a:t>
            </a:r>
            <a:r>
              <a:rPr b="0" lang="ru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сайте-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Monotype Corsiva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Берюхов</cp:lastModifiedBy>
  <dcterms:modified xsi:type="dcterms:W3CDTF">2007-10-27T06:25:50Z</dcterms:modified>
  <cp:revision>6</cp:revision>
  <dc:subject/>
  <dc:title>Слайд 1</dc:title>
</cp:coreProperties>
</file>