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"/>
          <p:cNvSpPr/>
          <p:nvPr/>
        </p:nvSpPr>
        <p:spPr>
          <a:xfrm>
            <a:off x="7400520" y="63086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99"/>
                </a:solidFill>
                <a:latin typeface="Arial"/>
              </a:rPr>
              <a:t>Page </a:t>
            </a:r>
            <a:fld id="{8ABDFEF4-1A39-422C-A167-C9E28DB660C8}" type="slidenum">
              <a:rPr b="1" lang="fr-FR" sz="18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5" descr="Imcxwlezpage1fdslldsImage1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131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s://sites.google.com/site/podgotovkakegeioge/oge-po-geografii/zadania-7-8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4" descr="Imcxwlezpage1fdsll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7" descr="http://www.1zoom.me/big2/88/210854-Sepik.jpg"/>
          <p:cNvPicPr/>
          <p:nvPr/>
        </p:nvPicPr>
        <p:blipFill>
          <a:blip r:embed="rId2"/>
          <a:stretch/>
        </p:blipFill>
        <p:spPr>
          <a:xfrm>
            <a:off x="-6480" y="0"/>
            <a:ext cx="917604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Text Box 6"/>
          <p:cNvSpPr/>
          <p:nvPr/>
        </p:nvSpPr>
        <p:spPr>
          <a:xfrm>
            <a:off x="0" y="101448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ка к ГИ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ение заданий по теме </a:t>
            </a:r>
            <a:r>
              <a:rPr b="1" i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Клима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4"/>
          <p:cNvSpPr/>
          <p:nvPr/>
        </p:nvSpPr>
        <p:spPr>
          <a:xfrm>
            <a:off x="5364000" y="458136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едор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читель геогра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ОУ СОШ № 2 п. Спир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358920" y="9684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смотрим пример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https://otvet.imgsmail.ru/download/212149986_63031b64ef6f3fe9ba26be83819e406e_800.png"/>
          <p:cNvPicPr/>
          <p:nvPr/>
        </p:nvPicPr>
        <p:blipFill>
          <a:blip r:embed="rId2"/>
          <a:stretch/>
        </p:blipFill>
        <p:spPr>
          <a:xfrm>
            <a:off x="468360" y="765000"/>
            <a:ext cx="8281800" cy="48247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7"/>
          <p:cNvSpPr/>
          <p:nvPr/>
        </p:nvSpPr>
        <p:spPr>
          <a:xfrm>
            <a:off x="216000" y="5589720"/>
            <a:ext cx="882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0. Какой из перечисленных городов находится в зоне действия антициклон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8"/>
          <p:cNvSpPr/>
          <p:nvPr/>
        </p:nvSpPr>
        <p:spPr>
          <a:xfrm>
            <a:off x="179280" y="6165720"/>
            <a:ext cx="8820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) Воронеж           2) Мурманск          3) Салехард           4) Сыктывка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"/>
          <p:cNvSpPr/>
          <p:nvPr/>
        </p:nvSpPr>
        <p:spPr>
          <a:xfrm>
            <a:off x="358920" y="9684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лгоритм реш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7"/>
          <p:cNvSpPr/>
          <p:nvPr/>
        </p:nvSpPr>
        <p:spPr>
          <a:xfrm>
            <a:off x="539640" y="1446120"/>
            <a:ext cx="8364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мотреть фрагмент карты и усло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Найти концентрические окружности – зо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ия циклона (Н) и антициклона (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Найти все указанный города на фрагмен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В соответствие с условиями 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 нужный г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3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"/>
          <p:cNvSpPr/>
          <p:nvPr/>
        </p:nvSpPr>
        <p:spPr>
          <a:xfrm>
            <a:off x="358920" y="9684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смотрим пример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https://otvet.imgsmail.ru/download/212149986_63031b64ef6f3fe9ba26be83819e406e_800.png"/>
          <p:cNvPicPr/>
          <p:nvPr/>
        </p:nvPicPr>
        <p:blipFill>
          <a:blip r:embed="rId2"/>
          <a:stretch/>
        </p:blipFill>
        <p:spPr>
          <a:xfrm>
            <a:off x="468360" y="765000"/>
            <a:ext cx="8281800" cy="48247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7"/>
          <p:cNvSpPr/>
          <p:nvPr/>
        </p:nvSpPr>
        <p:spPr>
          <a:xfrm>
            <a:off x="216000" y="5589720"/>
            <a:ext cx="882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Какой из перечисленных городов находится в зоне действия антициклон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8"/>
          <p:cNvSpPr/>
          <p:nvPr/>
        </p:nvSpPr>
        <p:spPr>
          <a:xfrm>
            <a:off x="179280" y="6165720"/>
            <a:ext cx="8820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) Воронеж           2) Мурманск          3) Салехард           4) Сыктывка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5"/>
          <p:cNvSpPr/>
          <p:nvPr/>
        </p:nvSpPr>
        <p:spPr>
          <a:xfrm>
            <a:off x="6443640" y="3068640"/>
            <a:ext cx="23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Прямая со стрелкой 19"/>
          <p:cNvCxnSpPr/>
          <p:nvPr/>
        </p:nvCxnSpPr>
        <p:spPr>
          <a:xfrm flipH="1">
            <a:off x="5435280" y="3068640"/>
            <a:ext cx="1008720" cy="72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0" name="Овал 20"/>
          <p:cNvSpPr/>
          <p:nvPr/>
        </p:nvSpPr>
        <p:spPr>
          <a:xfrm rot="18203400">
            <a:off x="5302080" y="2955960"/>
            <a:ext cx="574560" cy="1044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24"/>
          <p:cNvSpPr/>
          <p:nvPr/>
        </p:nvSpPr>
        <p:spPr>
          <a:xfrm rot="19569000">
            <a:off x="4033800" y="1004760"/>
            <a:ext cx="687600" cy="112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25"/>
          <p:cNvSpPr/>
          <p:nvPr/>
        </p:nvSpPr>
        <p:spPr>
          <a:xfrm rot="18633600">
            <a:off x="3939120" y="2680200"/>
            <a:ext cx="594000" cy="1125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26"/>
          <p:cNvSpPr/>
          <p:nvPr/>
        </p:nvSpPr>
        <p:spPr>
          <a:xfrm rot="19569000">
            <a:off x="1866600" y="3123720"/>
            <a:ext cx="515880" cy="104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22"/>
          <p:cNvSpPr/>
          <p:nvPr/>
        </p:nvSpPr>
        <p:spPr>
          <a:xfrm>
            <a:off x="4643280" y="6550200"/>
            <a:ext cx="1594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8770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3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"/>
          <p:cNvSpPr/>
          <p:nvPr/>
        </p:nvSpPr>
        <p:spPr>
          <a:xfrm>
            <a:off x="358920" y="9684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полни самостоятель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395280" y="696960"/>
            <a:ext cx="8245440" cy="61167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ая соединительная линия 5"/>
          <p:cNvSpPr/>
          <p:nvPr/>
        </p:nvSpPr>
        <p:spPr>
          <a:xfrm>
            <a:off x="6443640" y="674208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3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"/>
          <p:cNvSpPr/>
          <p:nvPr/>
        </p:nvSpPr>
        <p:spPr>
          <a:xfrm>
            <a:off x="358920" y="9684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смотрим пример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7"/>
          <p:cNvSpPr/>
          <p:nvPr/>
        </p:nvSpPr>
        <p:spPr>
          <a:xfrm>
            <a:off x="216000" y="5300640"/>
            <a:ext cx="8820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1. Карта погоды составлена на 16 мая. В каком из перечисленных городов на следующий день наиболее вероятно существенное понижение температуры воздух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8"/>
          <p:cNvSpPr/>
          <p:nvPr/>
        </p:nvSpPr>
        <p:spPr>
          <a:xfrm>
            <a:off x="179280" y="6284880"/>
            <a:ext cx="8820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) Астрахань     2) Новороссийск        3) Омск         4) Санкт-Петербург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539640" y="677880"/>
            <a:ext cx="8064720" cy="4603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"/>
          <p:cNvSpPr/>
          <p:nvPr/>
        </p:nvSpPr>
        <p:spPr>
          <a:xfrm>
            <a:off x="358920" y="9684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лгоритм реш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7"/>
          <p:cNvSpPr/>
          <p:nvPr/>
        </p:nvSpPr>
        <p:spPr>
          <a:xfrm>
            <a:off x="539640" y="1446120"/>
            <a:ext cx="8496360" cy="48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мотреть фрагмент карты и усло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о заданию определить какие изме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нозируются (похолодание / потепл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Найти на карте в соответствии с зада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лодный или теплый фронт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е его пере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Найти на карте города (варианты ответ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оложенные на пути движения фро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3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"/>
          <p:cNvSpPr/>
          <p:nvPr/>
        </p:nvSpPr>
        <p:spPr>
          <a:xfrm>
            <a:off x="358920" y="9684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смотрим пример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216000" y="5300640"/>
            <a:ext cx="8820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1. Карта погоды составлена на 16 мая. В каком из перечисленных городов на следующий день наиболее вероятно существенное понижение температуры воздух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8"/>
          <p:cNvSpPr/>
          <p:nvPr/>
        </p:nvSpPr>
        <p:spPr>
          <a:xfrm>
            <a:off x="179280" y="6284880"/>
            <a:ext cx="8820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) Астрахань     2) Новороссийск        3) Омск         4) Санкт-Петербург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539640" y="677880"/>
            <a:ext cx="8064720" cy="460368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ая соединительная линия 5"/>
          <p:cNvSpPr/>
          <p:nvPr/>
        </p:nvSpPr>
        <p:spPr>
          <a:xfrm>
            <a:off x="6372360" y="2349360"/>
            <a:ext cx="22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Прямая со стрелкой 7"/>
          <p:cNvCxnSpPr/>
          <p:nvPr/>
        </p:nvCxnSpPr>
        <p:spPr>
          <a:xfrm flipH="1">
            <a:off x="5076000" y="2349000"/>
            <a:ext cx="1296360" cy="359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2" name="Прямая со стрелкой 11"/>
          <p:cNvCxnSpPr/>
          <p:nvPr/>
        </p:nvCxnSpPr>
        <p:spPr>
          <a:xfrm flipH="1" flipV="1">
            <a:off x="2050560" y="1557000"/>
            <a:ext cx="4322160" cy="79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3" name="Прямая соединительная линия 16"/>
          <p:cNvSpPr/>
          <p:nvPr/>
        </p:nvSpPr>
        <p:spPr>
          <a:xfrm>
            <a:off x="2519280" y="6237360"/>
            <a:ext cx="298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19"/>
          <p:cNvCxnSpPr/>
          <p:nvPr/>
        </p:nvCxnSpPr>
        <p:spPr>
          <a:xfrm flipH="1">
            <a:off x="1692360" y="1699920"/>
            <a:ext cx="358920" cy="649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5" name="Прямая со стрелкой 23"/>
          <p:cNvCxnSpPr/>
          <p:nvPr/>
        </p:nvCxnSpPr>
        <p:spPr>
          <a:xfrm>
            <a:off x="4625640" y="2852640"/>
            <a:ext cx="370440" cy="937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6" name="Овал 25"/>
          <p:cNvSpPr/>
          <p:nvPr/>
        </p:nvSpPr>
        <p:spPr>
          <a:xfrm rot="18701400">
            <a:off x="1873080" y="4414680"/>
            <a:ext cx="487440" cy="98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26"/>
          <p:cNvSpPr/>
          <p:nvPr/>
        </p:nvSpPr>
        <p:spPr>
          <a:xfrm rot="19275000">
            <a:off x="734760" y="3609720"/>
            <a:ext cx="517320" cy="1127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27"/>
          <p:cNvSpPr/>
          <p:nvPr/>
        </p:nvSpPr>
        <p:spPr>
          <a:xfrm rot="17837400">
            <a:off x="4897440" y="4600440"/>
            <a:ext cx="399960" cy="850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8"/>
          <p:cNvSpPr/>
          <p:nvPr/>
        </p:nvSpPr>
        <p:spPr>
          <a:xfrm rot="19569000">
            <a:off x="2449080" y="1560240"/>
            <a:ext cx="397080" cy="1249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29"/>
          <p:cNvSpPr/>
          <p:nvPr/>
        </p:nvSpPr>
        <p:spPr>
          <a:xfrm>
            <a:off x="6318360" y="6669000"/>
            <a:ext cx="250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87708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3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"/>
          <p:cNvSpPr/>
          <p:nvPr/>
        </p:nvSpPr>
        <p:spPr>
          <a:xfrm>
            <a:off x="358920" y="9684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полни самостоятель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684360" y="655560"/>
            <a:ext cx="7343640" cy="4702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3"/>
          <a:stretch/>
        </p:blipFill>
        <p:spPr>
          <a:xfrm>
            <a:off x="684360" y="5229360"/>
            <a:ext cx="7848360" cy="143352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ая соединительная линия 5"/>
          <p:cNvSpPr/>
          <p:nvPr/>
        </p:nvSpPr>
        <p:spPr>
          <a:xfrm>
            <a:off x="2556000" y="652464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792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2"/>
          <p:cNvSpPr/>
          <p:nvPr/>
        </p:nvSpPr>
        <p:spPr>
          <a:xfrm>
            <a:off x="423720" y="1413000"/>
            <a:ext cx="82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27 направлено на проверку знаний географических закономерностей и умений их применять для изучения территор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предложены два источника информации: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климатическая диаграмм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же карта, на которой нужно определить соответствующую характеристикам территор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7920"/>
            <a:ext cx="9156600" cy="6877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ttps://im0-tub-ru.yandex.net/i?id=f535c663a6237d7e73fdf0e9b59d2827-l&amp;n=13"/>
          <p:cNvPicPr/>
          <p:nvPr/>
        </p:nvPicPr>
        <p:blipFill>
          <a:blip r:embed="rId2"/>
          <a:stretch/>
        </p:blipFill>
        <p:spPr>
          <a:xfrm>
            <a:off x="-4680" y="1413000"/>
            <a:ext cx="9105840" cy="5452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792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539640" y="1692360"/>
            <a:ext cx="806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кзаменационной работе по географии значительное внимание уделяется проверке сформированности умений анализировать и интерпретировать географическую информацию, представленную в различных формах. Это касается, в том числе, и заданий на тему «Клима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данной темы Вам пригодятся при выполнении заданий 10, 11 и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3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216000" y="11592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уктура климат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http://www.dereksiz.org/tema-atmosfera-sostav-stroenie-cirkulyaciya-raspredelenie-tepl/157737_html_m548f4bf1.png"/>
          <p:cNvPicPr/>
          <p:nvPr/>
        </p:nvPicPr>
        <p:blipFill>
          <a:blip r:embed="rId2"/>
          <a:stretch/>
        </p:blipFill>
        <p:spPr>
          <a:xfrm>
            <a:off x="1403280" y="1557360"/>
            <a:ext cx="6256440" cy="4464000"/>
          </a:xfrm>
          <a:prstGeom prst="rect">
            <a:avLst/>
          </a:prstGeom>
          <a:ln w="0">
            <a:noFill/>
          </a:ln>
        </p:spPr>
      </p:pic>
      <p:sp>
        <p:nvSpPr>
          <p:cNvPr id="179" name="Скругленный прямоугольник 6"/>
          <p:cNvSpPr/>
          <p:nvPr/>
        </p:nvSpPr>
        <p:spPr>
          <a:xfrm>
            <a:off x="63360" y="1197000"/>
            <a:ext cx="227664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Годовой ход темп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Прямая со стрелкой 10"/>
          <p:cNvCxnSpPr>
            <a:stCxn id="179" idx="2"/>
          </p:cNvCxnSpPr>
          <p:nvPr/>
        </p:nvCxnSpPr>
        <p:spPr>
          <a:xfrm>
            <a:off x="1201320" y="2133360"/>
            <a:ext cx="2794680" cy="165636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181" name="Скругленный прямоугольник 12"/>
          <p:cNvSpPr/>
          <p:nvPr/>
        </p:nvSpPr>
        <p:spPr>
          <a:xfrm>
            <a:off x="6242040" y="1197000"/>
            <a:ext cx="227664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Количество осад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Прямая со стрелкой 13"/>
          <p:cNvCxnSpPr>
            <a:stCxn id="181" idx="2"/>
          </p:cNvCxnSpPr>
          <p:nvPr/>
        </p:nvCxnSpPr>
        <p:spPr>
          <a:xfrm flipH="1">
            <a:off x="4284000" y="2133360"/>
            <a:ext cx="3096360" cy="82764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183" name="Скругленный прямоугольник 16"/>
          <p:cNvSpPr/>
          <p:nvPr/>
        </p:nvSpPr>
        <p:spPr>
          <a:xfrm>
            <a:off x="6759720" y="2577960"/>
            <a:ext cx="22762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Среднегодовое количество осад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Прямая со стрелкой 17"/>
          <p:cNvCxnSpPr>
            <a:stCxn id="183" idx="2"/>
          </p:cNvCxnSpPr>
          <p:nvPr/>
        </p:nvCxnSpPr>
        <p:spPr>
          <a:xfrm flipH="1">
            <a:off x="4931640" y="3514320"/>
            <a:ext cx="2966040" cy="99468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185" name="Левая фигурная скобка 18"/>
          <p:cNvSpPr/>
          <p:nvPr/>
        </p:nvSpPr>
        <p:spPr>
          <a:xfrm rot="16200000">
            <a:off x="4275000" y="3419280"/>
            <a:ext cx="504720" cy="5131080"/>
          </a:xfrm>
          <a:custGeom>
            <a:avLst/>
            <a:gdLst>
              <a:gd name="textAreaLeft" fmla="*/ 322560 w 504720"/>
              <a:gd name="textAreaRight" fmla="*/ 505080 w 504720"/>
              <a:gd name="textAreaTop" fmla="*/ 395280 h 5131080"/>
              <a:gd name="textAreaBottom" fmla="*/ 4735800 h 513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60"/>
                  <a:pt x="10800" y="5320"/>
                </a:cubicBezTo>
                <a:lnTo>
                  <a:pt x="10800" y="5655"/>
                </a:lnTo>
                <a:cubicBezTo>
                  <a:pt x="10800" y="8315"/>
                  <a:pt x="5400" y="10975"/>
                  <a:pt x="0" y="10975"/>
                </a:cubicBezTo>
                <a:cubicBezTo>
                  <a:pt x="5400" y="10975"/>
                  <a:pt x="10800" y="13635"/>
                  <a:pt x="10800" y="16295"/>
                </a:cubicBezTo>
                <a:lnTo>
                  <a:pt x="10800" y="16280"/>
                </a:lnTo>
                <a:cubicBezTo>
                  <a:pt x="10800" y="1894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bbe0e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кругленный прямоугольник 20"/>
          <p:cNvSpPr/>
          <p:nvPr/>
        </p:nvSpPr>
        <p:spPr>
          <a:xfrm>
            <a:off x="3448080" y="6308640"/>
            <a:ext cx="2276280" cy="46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меся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3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"/>
          <p:cNvSpPr/>
          <p:nvPr/>
        </p:nvSpPr>
        <p:spPr>
          <a:xfrm>
            <a:off x="358920" y="9684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лгоритм реш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7"/>
          <p:cNvSpPr/>
          <p:nvPr/>
        </p:nvSpPr>
        <p:spPr>
          <a:xfrm>
            <a:off x="539640" y="1446120"/>
            <a:ext cx="84963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мотрите линию годового хода темпер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онижение температуры (зим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январе – это климатограмма север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шар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онижение температуры (зим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юле – это климатограмма юж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ша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линия практически прямая – насел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 находится в районе экв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Дуга 4"/>
          <p:cNvSpPr/>
          <p:nvPr/>
        </p:nvSpPr>
        <p:spPr>
          <a:xfrm rot="20158800">
            <a:off x="7143480" y="2658600"/>
            <a:ext cx="1800000" cy="1625760"/>
          </a:xfrm>
          <a:custGeom>
            <a:avLst/>
            <a:gdLst/>
            <a:ahLst/>
            <a:rect l="l" t="t" r="r" b="b"/>
            <a:pathLst>
              <a:path stroke="0" w="1800225" h="1625600">
                <a:moveTo>
                  <a:pt x="395943" y="139466"/>
                </a:moveTo>
                <a:cubicBezTo>
                  <a:pt x="654845" y="-18606"/>
                  <a:pt x="986020" y="-44096"/>
                  <a:pt x="1270813" y="72130"/>
                </a:cubicBezTo>
                <a:cubicBezTo>
                  <a:pt x="1593104" y="203658"/>
                  <a:pt x="1800225" y="493430"/>
                  <a:pt x="1800225" y="812800"/>
                </a:cubicBezTo>
                <a:lnTo>
                  <a:pt x="900113" y="812800"/>
                </a:lnTo>
                <a:lnTo>
                  <a:pt x="395943" y="139466"/>
                </a:lnTo>
                <a:close/>
              </a:path>
              <a:path fill="none" w="1800225" h="1625600">
                <a:moveTo>
                  <a:pt x="395943" y="139466"/>
                </a:moveTo>
                <a:cubicBezTo>
                  <a:pt x="654845" y="-18606"/>
                  <a:pt x="986020" y="-44096"/>
                  <a:pt x="1270813" y="72130"/>
                </a:cubicBezTo>
                <a:cubicBezTo>
                  <a:pt x="1593104" y="203658"/>
                  <a:pt x="1800225" y="493430"/>
                  <a:pt x="1800225" y="81280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Дуга 7"/>
          <p:cNvSpPr/>
          <p:nvPr/>
        </p:nvSpPr>
        <p:spPr>
          <a:xfrm rot="9204000">
            <a:off x="7144560" y="2925360"/>
            <a:ext cx="1800360" cy="1627200"/>
          </a:xfrm>
          <a:custGeom>
            <a:avLst/>
            <a:gdLst/>
            <a:ahLst/>
            <a:rect l="l" t="t" r="r" b="b"/>
            <a:pathLst>
              <a:path stroke="0" w="1800225" h="1627187">
                <a:moveTo>
                  <a:pt x="395605" y="139809"/>
                </a:moveTo>
                <a:cubicBezTo>
                  <a:pt x="654645" y="-18657"/>
                  <a:pt x="986128" y="-44208"/>
                  <a:pt x="1271114" y="72324"/>
                </a:cubicBezTo>
                <a:cubicBezTo>
                  <a:pt x="1593242" y="204043"/>
                  <a:pt x="1800226" y="494021"/>
                  <a:pt x="1800226" y="813594"/>
                </a:cubicBezTo>
                <a:lnTo>
                  <a:pt x="900113" y="813594"/>
                </a:lnTo>
                <a:lnTo>
                  <a:pt x="395605" y="139809"/>
                </a:lnTo>
                <a:close/>
              </a:path>
              <a:path fill="none" w="1800225" h="1627187">
                <a:moveTo>
                  <a:pt x="395605" y="139809"/>
                </a:moveTo>
                <a:cubicBezTo>
                  <a:pt x="654645" y="-18657"/>
                  <a:pt x="986128" y="-44208"/>
                  <a:pt x="1271114" y="72324"/>
                </a:cubicBezTo>
                <a:cubicBezTo>
                  <a:pt x="1593242" y="204043"/>
                  <a:pt x="1800226" y="494021"/>
                  <a:pt x="1800226" y="813594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3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"/>
          <p:cNvSpPr/>
          <p:nvPr/>
        </p:nvSpPr>
        <p:spPr>
          <a:xfrm>
            <a:off x="358920" y="9684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лгоритм реш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7"/>
          <p:cNvSpPr/>
          <p:nvPr/>
        </p:nvSpPr>
        <p:spPr>
          <a:xfrm>
            <a:off x="539640" y="1446120"/>
            <a:ext cx="84963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Рассмотрите показатели темпер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t +24-+26 в течении всего года – значит это экваториальный поя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амплитуда t незначительная (3–7 градуса) выше +20, значит – это субэкваториальный поя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амплитуда больше, но зимние температуры не опускаются ниже +10, то это тропический поя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зимние температуры около нуля, +3-+5, то это субтроп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оявляются отрицательные температуры, то это умеренный, субполярный или полярный поя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3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"/>
          <p:cNvSpPr/>
          <p:nvPr/>
        </p:nvSpPr>
        <p:spPr>
          <a:xfrm>
            <a:off x="358920" y="9684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лгоритм реш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7"/>
          <p:cNvSpPr/>
          <p:nvPr/>
        </p:nvSpPr>
        <p:spPr>
          <a:xfrm>
            <a:off x="468360" y="2293920"/>
            <a:ext cx="8496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Рассмотрите количество осад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ьшее количество осадков в приморских район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меньшее – во внутриконтинентальных район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216000" y="126036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Если два объекта находя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одном климатическ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3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1"/>
          <p:cNvSpPr/>
          <p:nvPr/>
        </p:nvSpPr>
        <p:spPr>
          <a:xfrm>
            <a:off x="358920" y="9684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ссмотрим приме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https://sites.google.com/site/podgotovkakegeioge/_/rsrc/1428511113387/oge-po-geografii/zadanie-24/27.1.JPG"/>
          <p:cNvPicPr/>
          <p:nvPr/>
        </p:nvPicPr>
        <p:blipFill>
          <a:blip r:embed="rId2"/>
          <a:stretch/>
        </p:blipFill>
        <p:spPr>
          <a:xfrm>
            <a:off x="1252440" y="2205000"/>
            <a:ext cx="7856640" cy="4614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https://sites.google.com/site/podgotovkakegeioge/_/rsrc/1428511091954/oge-po-geografii/zadanie-24/21.JPG"/>
          <p:cNvPicPr/>
          <p:nvPr/>
        </p:nvPicPr>
        <p:blipFill>
          <a:blip r:embed="rId3"/>
          <a:stretch/>
        </p:blipFill>
        <p:spPr>
          <a:xfrm>
            <a:off x="431640" y="739800"/>
            <a:ext cx="3711600" cy="2587680"/>
          </a:xfrm>
          <a:prstGeom prst="rect">
            <a:avLst/>
          </a:prstGeom>
          <a:ln w="0">
            <a:noFill/>
          </a:ln>
        </p:spPr>
      </p:pic>
      <p:sp>
        <p:nvSpPr>
          <p:cNvPr id="212" name="Полилиния 5"/>
          <p:cNvSpPr/>
          <p:nvPr/>
        </p:nvSpPr>
        <p:spPr>
          <a:xfrm>
            <a:off x="977760" y="1839960"/>
            <a:ext cx="2608560" cy="1028520"/>
          </a:xfrm>
          <a:custGeom>
            <a:avLst/>
            <a:gdLst/>
            <a:ahLst/>
            <a:rect l="l" t="t" r="r" b="b"/>
            <a:pathLst>
              <a:path w="2607552" h="1027945">
                <a:moveTo>
                  <a:pt x="0" y="1027945"/>
                </a:moveTo>
                <a:cubicBezTo>
                  <a:pt x="138545" y="997927"/>
                  <a:pt x="277091" y="967909"/>
                  <a:pt x="387927" y="875545"/>
                </a:cubicBezTo>
                <a:cubicBezTo>
                  <a:pt x="498763" y="783181"/>
                  <a:pt x="563418" y="589217"/>
                  <a:pt x="665018" y="473763"/>
                </a:cubicBezTo>
                <a:cubicBezTo>
                  <a:pt x="766618" y="358309"/>
                  <a:pt x="886691" y="254400"/>
                  <a:pt x="997527" y="182818"/>
                </a:cubicBezTo>
                <a:cubicBezTo>
                  <a:pt x="1108363" y="111236"/>
                  <a:pt x="1228436" y="71981"/>
                  <a:pt x="1330036" y="44272"/>
                </a:cubicBezTo>
                <a:cubicBezTo>
                  <a:pt x="1431636" y="16563"/>
                  <a:pt x="1510145" y="-22691"/>
                  <a:pt x="1607127" y="16563"/>
                </a:cubicBezTo>
                <a:cubicBezTo>
                  <a:pt x="1704109" y="55817"/>
                  <a:pt x="1817254" y="187435"/>
                  <a:pt x="1911927" y="279799"/>
                </a:cubicBezTo>
                <a:cubicBezTo>
                  <a:pt x="2006600" y="372163"/>
                  <a:pt x="2064328" y="459908"/>
                  <a:pt x="2175164" y="570745"/>
                </a:cubicBezTo>
                <a:cubicBezTo>
                  <a:pt x="2286000" y="681581"/>
                  <a:pt x="2514600" y="887091"/>
                  <a:pt x="2576945" y="944818"/>
                </a:cubicBezTo>
                <a:cubicBezTo>
                  <a:pt x="2639290" y="1002545"/>
                  <a:pt x="2594263" y="959827"/>
                  <a:pt x="2549236" y="91710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7"/>
          <p:cNvSpPr/>
          <p:nvPr/>
        </p:nvSpPr>
        <p:spPr>
          <a:xfrm>
            <a:off x="1619280" y="1557360"/>
            <a:ext cx="865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С.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9"/>
          <p:cNvSpPr/>
          <p:nvPr/>
        </p:nvSpPr>
        <p:spPr>
          <a:xfrm>
            <a:off x="431640" y="2565360"/>
            <a:ext cx="763920" cy="84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11"/>
          <p:cNvSpPr/>
          <p:nvPr/>
        </p:nvSpPr>
        <p:spPr>
          <a:xfrm>
            <a:off x="3564000" y="5373720"/>
            <a:ext cx="43164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13"/>
          <p:cNvSpPr/>
          <p:nvPr/>
        </p:nvSpPr>
        <p:spPr>
          <a:xfrm flipH="1">
            <a:off x="3634920" y="5373720"/>
            <a:ext cx="36036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18"/>
          <p:cNvSpPr/>
          <p:nvPr/>
        </p:nvSpPr>
        <p:spPr>
          <a:xfrm>
            <a:off x="7236000" y="5229360"/>
            <a:ext cx="431640" cy="57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19"/>
          <p:cNvSpPr/>
          <p:nvPr/>
        </p:nvSpPr>
        <p:spPr>
          <a:xfrm flipH="1">
            <a:off x="7308360" y="5229360"/>
            <a:ext cx="358920" cy="57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ая соединительная линия 20"/>
          <p:cNvSpPr/>
          <p:nvPr/>
        </p:nvSpPr>
        <p:spPr>
          <a:xfrm>
            <a:off x="4140360" y="2997360"/>
            <a:ext cx="431640" cy="57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21"/>
          <p:cNvSpPr/>
          <p:nvPr/>
        </p:nvSpPr>
        <p:spPr>
          <a:xfrm flipH="1">
            <a:off x="4211280" y="2997360"/>
            <a:ext cx="360360" cy="57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22"/>
          <p:cNvSpPr/>
          <p:nvPr/>
        </p:nvSpPr>
        <p:spPr>
          <a:xfrm>
            <a:off x="5003640" y="2720880"/>
            <a:ext cx="763920" cy="636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877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1177920" y="2421000"/>
            <a:ext cx="7966080" cy="4365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3"/>
          <a:stretch/>
        </p:blipFill>
        <p:spPr>
          <a:xfrm>
            <a:off x="46080" y="620640"/>
            <a:ext cx="2995560" cy="254952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58920" y="9684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полни самостоятель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5"/>
          <p:cNvSpPr/>
          <p:nvPr/>
        </p:nvSpPr>
        <p:spPr>
          <a:xfrm>
            <a:off x="6804000" y="3789360"/>
            <a:ext cx="763560" cy="635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3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"/>
          <p:cNvSpPr/>
          <p:nvPr/>
        </p:nvSpPr>
        <p:spPr>
          <a:xfrm>
            <a:off x="611280" y="968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полни самостояте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7"/>
          <p:cNvSpPr/>
          <p:nvPr/>
        </p:nvSpPr>
        <p:spPr>
          <a:xfrm>
            <a:off x="324000" y="1197000"/>
            <a:ext cx="849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олни задания по теме «Климат». В таблице, в строке с номером задания, закрась квадраты, с правильным, на твой взгляд, вариантом ответа. Увидишь, что получится, если ты все правильно выполн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692360" y="3573360"/>
          <a:ext cx="6264360" cy="2664000"/>
        </p:xfrm>
        <a:graphic>
          <a:graphicData uri="http://schemas.openxmlformats.org/drawingml/2006/table">
            <a:tbl>
              <a:tblPr/>
              <a:tblGrid>
                <a:gridCol w="1779480"/>
                <a:gridCol w="582480"/>
                <a:gridCol w="582840"/>
                <a:gridCol w="582480"/>
                <a:gridCol w="584280"/>
                <a:gridCol w="617400"/>
                <a:gridCol w="1535400"/>
              </a:tblGrid>
              <a:tr h="533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1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1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692360" y="3573360"/>
          <a:ext cx="6264360" cy="2664000"/>
        </p:xfrm>
        <a:graphic>
          <a:graphicData uri="http://schemas.openxmlformats.org/drawingml/2006/table">
            <a:tbl>
              <a:tblPr/>
              <a:tblGrid>
                <a:gridCol w="1779480"/>
                <a:gridCol w="582480"/>
                <a:gridCol w="582840"/>
                <a:gridCol w="582480"/>
                <a:gridCol w="584280"/>
                <a:gridCol w="617400"/>
                <a:gridCol w="1535400"/>
              </a:tblGrid>
              <a:tr h="533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1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1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slow">
    <p:diamond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4" descr="Imcxwlezpage1fdsll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5" descr=""/>
          <p:cNvPicPr/>
          <p:nvPr/>
        </p:nvPicPr>
        <p:blipFill>
          <a:blip r:embed="rId2"/>
          <a:stretch/>
        </p:blipFill>
        <p:spPr>
          <a:xfrm>
            <a:off x="573120" y="476280"/>
            <a:ext cx="7997760" cy="925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Users\Лена\Pictures\чудики\ббб.png"/>
          <p:cNvPicPr/>
          <p:nvPr/>
        </p:nvPicPr>
        <p:blipFill>
          <a:blip r:embed="rId3"/>
          <a:stretch/>
        </p:blipFill>
        <p:spPr>
          <a:xfrm>
            <a:off x="5111640" y="2832120"/>
            <a:ext cx="4032360" cy="4025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792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423720" y="110664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10 – 11 проверяют умение читать синоптическую кар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"/>
          <p:cNvSpPr/>
          <p:nvPr/>
        </p:nvSpPr>
        <p:spPr>
          <a:xfrm>
            <a:off x="250920" y="2289240"/>
            <a:ext cx="87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ноптическ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географическая карта, на которую цифрами и символами нанесены результаты наблюдений на сети метеорологических станций в определенные моменты времени.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s://11379b76-a-62cb3a1a-s-sites.googlegroups.com/site/podgotovkakegeioge/oge-po-geografii/zadania-10---11/%D0%B7%D0%B0%D0%B4%D0%B0%D0%BD%D0%B8%D1%8F%2010-11-%D1%81%D0%B8%D0%BD%D0%BE%D0%BF%D1%82.%20%D0%BA%D0%B0%D1%80%D1%82%D0%B0.jpg?attachauth=ANoY7cp3WPzskeSDLOrOmP2jDTYKtjSAxXWLrEfU-QrAfDOiGyBt-Twwr8evwFJuHS6zlNEZa7g_XP6ACNc4wDrAG4qVU8D7FGvyUdVAvUpzTHeh77oAIe0yMHnLx27j3eNqxSx32-2-atF8tAX4yhBtEFxKu8H1TxmQiTGbx8npjTBmsnQBSczZ4dGZnW1qGNLeGdMaVd_Q9wGLXi7JQI2jVfxLWNPY5Zp13vGA36_xbv6lYiOaZO7s3059W9aVGj4iKahEMEd1i3Wuxi5sYKNBXoNrvupf7b1VEFvBHV3jW4FD6c0qvqfyW9XzDIKL_hHdaonJFRwEXZzWCQzQS5kBle93z8zHgzsnmCq8GIAVKlsd3GeKQQSSZ7qBs1Ak8XD7yZTRL8m_DVfoMD41a-t0ClynaNER5Q%3D%3D&amp;attredirects=0"/>
          <p:cNvPicPr/>
          <p:nvPr/>
        </p:nvPicPr>
        <p:blipFill>
          <a:blip r:embed="rId2"/>
          <a:stretch/>
        </p:blipFill>
        <p:spPr>
          <a:xfrm>
            <a:off x="539640" y="3522600"/>
            <a:ext cx="3816360" cy="2859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s://otvet.imgsmail.ru/download/212149986_63031b64ef6f3fe9ba26be83819e406e_800.png"/>
          <p:cNvPicPr/>
          <p:nvPr/>
        </p:nvPicPr>
        <p:blipFill>
          <a:blip r:embed="rId3"/>
          <a:stretch/>
        </p:blipFill>
        <p:spPr>
          <a:xfrm>
            <a:off x="5003640" y="3500280"/>
            <a:ext cx="3456000" cy="2884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"/>
          <p:cNvSpPr/>
          <p:nvPr/>
        </p:nvSpPr>
        <p:spPr>
          <a:xfrm>
            <a:off x="358920" y="-2700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 чем нам может рассказ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ноптическая ка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s://otvet.imgsmail.ru/download/212149986_63031b64ef6f3fe9ba26be83819e406e_800.png"/>
          <p:cNvPicPr/>
          <p:nvPr/>
        </p:nvPicPr>
        <p:blipFill>
          <a:blip r:embed="rId2"/>
          <a:stretch/>
        </p:blipFill>
        <p:spPr>
          <a:xfrm>
            <a:off x="179280" y="1484280"/>
            <a:ext cx="8748720" cy="5097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179280" y="11592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помним важные понят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216000" y="1125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к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368280" y="1773360"/>
            <a:ext cx="8596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громный атмосферный вихрь с пониженным давлением возд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шные массы в циклоне всегда перемещаются против часовой стрелки в северном полушарии и по часовой стрелке в южн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никают благодаря вращению Зем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он обладает огромной энергией и несёт с собой сильные ветры осадки, включая грозы, и прочие не очень приятные явления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sites.google.com/site/podgotovkakegeioge/_/rsrc/1415434636889/oge-po-geografii/zadania-10---11/%D0%97%D0%B0%D0%B4%D0%B0%D0%BD%D0%B8%D0%B5%2010-11.%20%D1%86%D0%B8%D0%BA%D0%BB%D0%BE%D0%BD%20%D0%B8%20%D0%B0%D0%BD%D1%82%D0%B8%D1%86%D0%B8%D0%BA%D0%BB%D0%BE%D0%BD.jpg"/>
          <p:cNvPicPr/>
          <p:nvPr/>
        </p:nvPicPr>
        <p:blipFill>
          <a:blip r:embed="rId2"/>
          <a:stretch/>
        </p:blipFill>
        <p:spPr>
          <a:xfrm>
            <a:off x="755640" y="4327560"/>
            <a:ext cx="7743960" cy="2414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179280" y="18900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помним важные понят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216000" y="1125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цик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468360" y="1773360"/>
            <a:ext cx="842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вление в антициклоне повыш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ащается по часовой стрелке в северном и против часовой стрелки в южном полуша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в антициклоне опускается вни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ициклон в отличие от циклона стабилизирует погоду - на территории, над которой он проходит, на несколько дней устанавливается умеренная малооблачная погода, летом - жаркая, зимой - мороз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s://sites.google.com/site/podgotovkakegeioge/_/rsrc/1415434636889/oge-po-geografii/zadania-10---11/%D0%97%D0%B0%D0%B4%D0%B0%D0%BD%D0%B8%D0%B5%2010-11.%20%D1%86%D0%B8%D0%BA%D0%BB%D0%BE%D0%BD%20%D0%B8%20%D0%B0%D0%BD%D1%82%D0%B8%D1%86%D0%B8%D0%BA%D0%BB%D0%BE%D0%BD.jpg"/>
          <p:cNvPicPr/>
          <p:nvPr/>
        </p:nvPicPr>
        <p:blipFill>
          <a:blip r:embed="rId2"/>
          <a:stretch/>
        </p:blipFill>
        <p:spPr>
          <a:xfrm>
            <a:off x="971640" y="4327560"/>
            <a:ext cx="7242120" cy="2414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358920" y="11592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тите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468360" y="148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о циклоне и антициклоне могут встретиться в тесте и в виде рисунка с вопросом: что изображе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s://sites.google.com/site/podgotovkakegeioge/_/rsrc/1415435113540/oge-po-geografii/zadania-10---11/1307464120_8.jpg"/>
          <p:cNvPicPr/>
          <p:nvPr/>
        </p:nvPicPr>
        <p:blipFill>
          <a:blip r:embed="rId2"/>
          <a:stretch/>
        </p:blipFill>
        <p:spPr>
          <a:xfrm>
            <a:off x="1042920" y="2492280"/>
            <a:ext cx="7056360" cy="302436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6" descr=""/>
          <p:cNvPicPr/>
          <p:nvPr/>
        </p:nvPicPr>
        <p:blipFill>
          <a:blip r:embed="rId3"/>
          <a:stretch/>
        </p:blipFill>
        <p:spPr>
          <a:xfrm>
            <a:off x="139680" y="5662440"/>
            <a:ext cx="652320" cy="7686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ая соединительная линия 9"/>
          <p:cNvSpPr/>
          <p:nvPr/>
        </p:nvSpPr>
        <p:spPr>
          <a:xfrm>
            <a:off x="795240" y="6237360"/>
            <a:ext cx="28400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12" descr=""/>
          <p:cNvPicPr/>
          <p:nvPr/>
        </p:nvPicPr>
        <p:blipFill>
          <a:blip r:embed="rId4"/>
          <a:stretch/>
        </p:blipFill>
        <p:spPr>
          <a:xfrm>
            <a:off x="4675320" y="5662440"/>
            <a:ext cx="658800" cy="7686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13"/>
          <p:cNvSpPr/>
          <p:nvPr/>
        </p:nvSpPr>
        <p:spPr>
          <a:xfrm>
            <a:off x="5332320" y="6237360"/>
            <a:ext cx="28400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0"/>
          <p:cNvSpPr/>
          <p:nvPr/>
        </p:nvSpPr>
        <p:spPr>
          <a:xfrm>
            <a:off x="795240" y="5732640"/>
            <a:ext cx="28400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цик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5"/>
          <p:cNvSpPr/>
          <p:nvPr/>
        </p:nvSpPr>
        <p:spPr>
          <a:xfrm>
            <a:off x="5332320" y="5732640"/>
            <a:ext cx="28400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антицик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3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"/>
          <p:cNvSpPr/>
          <p:nvPr/>
        </p:nvSpPr>
        <p:spPr>
          <a:xfrm>
            <a:off x="216000" y="16344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помним важные понят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214200" y="111600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мосферный фро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611280" y="1700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ходная зона между двумя воздушными массами с различными физическими свой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162000" y="2811600"/>
            <a:ext cx="390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пл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фронт, который перемещается в сторону холодного воздуха, т.к. теплый воздух является более активным. Холодный воздух медленно отступает. В целом теплый фронт приносит тепло и вла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s://sites.google.com/site/podgotovkakegeioge/_/rsrc/1415435648454/oge-po-geografii/zadania-10---11/%D0%97%D0%B0%D0%B4%D0%B0%D0%BD%D0%B8%D0%B5%2010-11-%D0%B0%D1%82%D0%BC%D0%BE%D1%81%D1%84%D0%B5%D1%80%D0%BD%D1%8B%D0%B5%20%D1%84%D1%80%D0%BE%D0%BD%D1%82%D1%8B.jpg"/>
          <p:cNvPicPr/>
          <p:nvPr/>
        </p:nvPicPr>
        <p:blipFill>
          <a:blip r:embed="rId2"/>
          <a:stretch/>
        </p:blipFill>
        <p:spPr>
          <a:xfrm>
            <a:off x="4145040" y="3357720"/>
            <a:ext cx="4897440" cy="2735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http://picsview.ru/images/342254_slaid-fon-geografiya.jpg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8770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7380360" y="6237360"/>
            <a:ext cx="16556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235080" y="13500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помним важные понят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216000" y="118728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мосферный фро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611280" y="18064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ходная зона между двумя воздушными массами с различными физическими свой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235080" y="2970360"/>
            <a:ext cx="390528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Холодный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фронт возникает, когда холодный воздух оттесняет с территории теплый воздух. Прохождение фронта приводит к смене теплой воздушной массы на холодную, а следовательно, понижению температур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s://sites.google.com/site/podgotovkakegeioge/_/rsrc/1415435648454/oge-po-geografii/zadania-10---11/%D0%97%D0%B0%D0%B4%D0%B0%D0%BD%D0%B8%D0%B5%2010-11-%D0%B0%D1%82%D0%BC%D0%BE%D1%81%D1%84%D0%B5%D1%80%D0%BD%D1%8B%D0%B5%20%D1%84%D1%80%D0%BE%D0%BD%D1%82%D1%8B.jpg"/>
          <p:cNvPicPr/>
          <p:nvPr/>
        </p:nvPicPr>
        <p:blipFill>
          <a:blip r:embed="rId2"/>
          <a:stretch/>
        </p:blipFill>
        <p:spPr>
          <a:xfrm>
            <a:off x="4067280" y="3441600"/>
            <a:ext cx="4957560" cy="27241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Дом</cp:lastModifiedBy>
  <dcterms:modified xsi:type="dcterms:W3CDTF">2020-01-05T20:27:56Z</dcterms:modified>
  <cp:revision>69</cp:revision>
  <dc:subject/>
  <dc:title>Flash Earth</dc:title>
</cp:coreProperties>
</file>