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6.png" ContentType="image/png"/>
  <Override PartName="/ppt/media/image8.png" ContentType="image/png"/>
  <Override PartName="/ppt/media/image3.png" ContentType="image/png"/>
  <Override PartName="/ppt/media/image2.png" ContentType="image/png"/>
  <Override PartName="/ppt/media/image22.gif" ContentType="image/gif"/>
  <Override PartName="/ppt/media/image10.png" ContentType="image/png"/>
  <Override PartName="/ppt/media/image5.png" ContentType="image/png"/>
  <Override PartName="/ppt/media/image27.png" ContentType="image/png"/>
  <Override PartName="/ppt/media/image26.wmf" ContentType="image/x-wmf"/>
  <Override PartName="/ppt/media/image25.wmf" ContentType="image/x-wmf"/>
  <Override PartName="/ppt/media/image14.png" ContentType="image/png"/>
  <Override PartName="/ppt/media/image24.wmf" ContentType="image/x-wmf"/>
  <Override PartName="/ppt/media/image21.gif" ContentType="image/gif"/>
  <Override PartName="/ppt/media/image19.gif" ContentType="image/gif"/>
  <Override PartName="/ppt/media/image23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1AF0-4F3E-45E3-B8EA-356F863B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4D14-9124-44E2-A1A6-604892B8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B43C-131F-4FAD-8731-10D7AF1E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29F4-8FA7-4DA3-B152-CECBAE80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B0EA-1FB7-47F8-B522-61873F49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CD00-F521-41C9-8B5A-AC5DFE7C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5717-B226-497F-9CFA-8A6C05C5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83BC-DA59-4051-93C7-E10CECC2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869A-B706-4CB0-A11F-E8A92B68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B083-FD4D-4E3F-93F3-DE564811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76EB-1FC1-460F-9C20-6A9561F1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D6BF-0D42-4322-8E26-E67B9341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07F3-9167-43AA-89B7-AAD3D19D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4F5D-EEED-4193-9789-EEE23702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6A62-66FB-4B7A-9ECE-C777E187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9169-AD16-4511-A659-0C989BF5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3DC7-0009-4173-91EC-D07A680E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72298-2553-4D0F-809F-41083341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24D7D-A6C9-4373-B149-69E34E90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2E49F-7617-40C8-A244-2DAEAE20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C866B-716D-4585-AB8C-C68A0F00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88CC0-79ED-4502-928F-C1D4C15B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CB33-2209-4EA8-B517-0E0A6AF7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49663-3F51-41E7-99E3-99827A48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A8828-DC28-4D0C-811D-4AEDF6C7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B8A15-26A7-40B2-9F8D-554994E2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8E998-36C7-4CFC-BC5D-B5867AAF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38A95-6765-4146-A3F8-3F610A9A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E3C51-7CE9-42DE-A9CE-AE4222CC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E91EF-B2AE-4CD7-82A5-F689FCE7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DD897-7CF4-4BE5-9797-8D663808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985DF-D9A0-4AED-87F3-E01126B6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7B994-833E-4BD5-A2BE-25C706E3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9E32-09D2-452D-92AB-20CC7CCC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34964-5ACC-4D9D-AB93-2059C63D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8DF7C-4CC4-4171-B7B1-70CBC7CE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E3228-3241-4CBA-B9A3-6B939147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8AF05-E4AE-4368-817E-39BFAAA3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A92C4-35E4-4157-ACB3-8E511E06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33FC9-46A7-47A7-B95C-5AF04F93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A125A-408B-4943-AEC8-5534423A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92C48-B88F-495C-A5E2-A5344EA8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13CD8-D1D6-4C32-97FB-9A50749C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5861E-1F8E-4EB2-A225-C199A2D9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07F-B52F-422D-9F45-93FA6F3E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F96C5-BC68-4A92-B970-AE535CA5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DCB3B-680A-455B-BAA9-110459DE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AFEF6-2113-4782-860C-59B280EA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B422D-DBAE-4AD1-A32D-8D947C2A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1587C-198E-47FA-A32C-2915001D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2A287-6C27-4165-825F-41A9AABF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7FAD2-0A45-4D28-846A-3C5A642C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962C2-C93E-46EB-A5E2-12E1E5BA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0EF65-A0EA-474E-9E85-15F356A8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C15FC-BC46-4982-89D7-E76056D4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D9CB-3E3E-4D2B-818E-D2A3B3EC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951FE-C18B-4EE0-8342-FF74EB71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FC829-A0A8-41F4-96A1-D4BA92DB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D2CED-7DA3-47DB-9E17-5BD4922A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F91DF-3334-4D9A-A87B-E68386C8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5A561-3B73-415E-B091-6C392967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6C3B9-9E5C-4854-ADD8-D3DC5F28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5EFB0-FB0C-4EED-B962-D7671E96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ED09F-CA00-45D6-AF4B-5013A638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08C33-0032-4C4B-BA2A-94D388FD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97F21-E4C7-4E54-9FF8-0AEB978E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A2D-E9C5-4B65-AFD5-ACCAA280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0E4BF-F030-49C0-B4A9-FAF21443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A1CF6-6009-438D-BC66-8CFCBC5C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4ED8F-A802-43C0-83FD-3297BF3C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D4663-297F-4E1D-BFB4-7B635BEC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32E15-3AFE-4015-AB9F-3CCED2BD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F61CF-9AF6-41D4-809B-62F7C6A1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8AD7E-9CB4-48CF-B7D7-988A9359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E4004-A034-478D-8DD9-F0CFFE3A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9A85C-AF42-4BC1-A74B-DE529619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1276C-FE3D-42EC-88D5-2141CE28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C18-9BD8-4523-88B3-22F09728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D799E-2B32-4736-804A-58D5CD7D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47FFF-8406-46BE-8B95-391A6BF3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7E8BB-CBF8-44CD-A35B-F85D875C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64230-B7BE-48E3-8942-1CE5E38B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D31E5-B40B-4A12-896A-F0CA05C7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C74DB-E581-410D-93B2-02C9E0FA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CC691-05D6-4D0B-A21D-3112FB19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1C769-FEE9-4DE0-AD34-F2C70512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5B486-E783-4209-ADCC-06DF5E5A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90C00-2E92-4AF7-8F54-6559AB5E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1DA-AC7B-4DA7-AD6F-7EA6770D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79E13-3F5B-460B-9C13-837FDD60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2FDB4-0561-4076-80F5-2CF99293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BFC29-4890-4D8E-9211-4A13538A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9DAF8-7F5E-4671-9BAA-D642E804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B10C4-EBA5-419E-B7DD-39EFE5F9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125A8-0631-4DA6-B1B0-CE80B591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2C193-0ACE-468F-B789-85321F86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BD86-87EF-4B04-9CC9-87A8C333F9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E985-5967-4170-A538-7B722946623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7617-01B8-47A5-A440-5508C2D5FD1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521E-6CBA-42CF-9219-68D7FC8DD10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411C-F293-4D11-9C92-8696D8D4828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009D-6A9D-4004-84E6-5BC3970C823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F86A-0570-490B-B8B9-C1D28715FC9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57" name="Прямая соединительная линия 20"/>
            <p:cNvSpPr/>
            <p:nvPr/>
          </p:nvSpPr>
          <p:spPr>
            <a:xfrm>
              <a:off x="8580960" y="1217520"/>
              <a:ext cx="640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Прямая соединительная линия 23"/>
            <p:cNvSpPr/>
            <p:nvPr/>
          </p:nvSpPr>
          <p:spPr>
            <a:xfrm>
              <a:off x="8516520" y="12826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Прямая соединительная линия 24"/>
            <p:cNvSpPr/>
            <p:nvPr/>
          </p:nvSpPr>
          <p:spPr>
            <a:xfrm flipV="1">
              <a:off x="8580960" y="1282320"/>
              <a:ext cx="640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61" name="Прямая соединительная линия 26"/>
            <p:cNvSpPr/>
            <p:nvPr/>
          </p:nvSpPr>
          <p:spPr>
            <a:xfrm>
              <a:off x="8733960" y="1370160"/>
              <a:ext cx="644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Прямая соединительная линия 27"/>
            <p:cNvSpPr/>
            <p:nvPr/>
          </p:nvSpPr>
          <p:spPr>
            <a:xfrm>
              <a:off x="8669520" y="1435320"/>
              <a:ext cx="910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Прямая соединительная линия 28"/>
            <p:cNvSpPr/>
            <p:nvPr/>
          </p:nvSpPr>
          <p:spPr>
            <a:xfrm flipV="1">
              <a:off x="8733960" y="143496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65" name="Прямая соединительная линия 30"/>
            <p:cNvSpPr/>
            <p:nvPr/>
          </p:nvSpPr>
          <p:spPr>
            <a:xfrm>
              <a:off x="8385840" y="1473120"/>
              <a:ext cx="644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Прямая соединительная линия 31"/>
            <p:cNvSpPr/>
            <p:nvPr/>
          </p:nvSpPr>
          <p:spPr>
            <a:xfrm>
              <a:off x="8321400" y="15382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Прямая соединительная линия 32"/>
            <p:cNvSpPr/>
            <p:nvPr/>
          </p:nvSpPr>
          <p:spPr>
            <a:xfrm flipV="1">
              <a:off x="8385840" y="153792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2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3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4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D9E3-53B6-49EB-8478-CAD5970B6A6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1.gif"/><Relationship Id="rId12" Type="http://schemas.openxmlformats.org/officeDocument/2006/relationships/image" Target="../media/image22.gif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00000"/>
                </a:solidFill>
                <a:latin typeface="Times New Roman"/>
              </a:rPr>
              <a:t>Урок математики </a:t>
            </a:r>
            <a:br>
              <a:rPr sz="4800"/>
            </a:br>
            <a:r>
              <a:rPr b="0" lang="ru-RU" sz="4800" spc="-1" strike="noStrike">
                <a:solidFill>
                  <a:srgbClr val="b00000"/>
                </a:solidFill>
                <a:latin typeface="Times New Roman"/>
              </a:rPr>
              <a:t>6 клас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700000" y="357300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5" name="Object 4"/>
              <p:cNvSpPr txBox="1"/>
              <p:nvPr/>
            </p:nvSpPr>
            <p:spPr>
              <a:xfrm>
                <a:off x="1258920" y="1341360"/>
                <a:ext cx="410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5"/>
              <p:cNvSpPr txBox="1"/>
              <p:nvPr/>
            </p:nvSpPr>
            <p:spPr>
              <a:xfrm>
                <a:off x="1187280" y="2637000"/>
                <a:ext cx="4334040" cy="11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6"/>
              <p:cNvSpPr txBox="1"/>
              <p:nvPr/>
            </p:nvSpPr>
            <p:spPr>
              <a:xfrm>
                <a:off x="1042920" y="3933720"/>
                <a:ext cx="452592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TextBox 7"/>
          <p:cNvSpPr/>
          <p:nvPr/>
        </p:nvSpPr>
        <p:spPr>
          <a:xfrm>
            <a:off x="2411280" y="69228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числит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8" descr="Картинка 18 из 3210"/>
          <p:cNvPicPr/>
          <p:nvPr/>
        </p:nvPicPr>
        <p:blipFill>
          <a:blip r:embed="rId1"/>
          <a:stretch/>
        </p:blipFill>
        <p:spPr>
          <a:xfrm>
            <a:off x="5340240" y="1620720"/>
            <a:ext cx="356580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AutoShape 6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7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fd13b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8"/>
          <p:cNvSpPr/>
          <p:nvPr/>
        </p:nvSpPr>
        <p:spPr>
          <a:xfrm rot="19871400">
            <a:off x="6084360" y="765000"/>
            <a:ext cx="1795680" cy="1603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9" descr="05_moon_meteorit_alh-81005"/>
          <p:cNvPicPr/>
          <p:nvPr/>
        </p:nvPicPr>
        <p:blipFill>
          <a:blip r:embed="rId1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0" descr="05_moon_meteorit_alh-81005"/>
          <p:cNvPicPr/>
          <p:nvPr/>
        </p:nvPicPr>
        <p:blipFill>
          <a:blip r:embed="rId2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11"/>
          <p:cNvSpPr/>
          <p:nvPr/>
        </p:nvSpPr>
        <p:spPr>
          <a:xfrm>
            <a:off x="1042920" y="4797360"/>
            <a:ext cx="936720" cy="8636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2"/>
          <p:cNvSpPr/>
          <p:nvPr/>
        </p:nvSpPr>
        <p:spPr>
          <a:xfrm>
            <a:off x="3635280" y="549360"/>
            <a:ext cx="1224000" cy="1079280"/>
          </a:xfrm>
          <a:prstGeom prst="pie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3"/>
          <p:cNvSpPr/>
          <p:nvPr/>
        </p:nvSpPr>
        <p:spPr>
          <a:xfrm rot="19975200">
            <a:off x="6283440" y="3414240"/>
            <a:ext cx="1731960" cy="1656000"/>
          </a:xfrm>
          <a:prstGeom prst="pie">
            <a:avLst/>
          </a:pr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4"/>
          <p:cNvSpPr/>
          <p:nvPr/>
        </p:nvSpPr>
        <p:spPr>
          <a:xfrm rot="19975200">
            <a:off x="779040" y="1011240"/>
            <a:ext cx="1587600" cy="1511280"/>
          </a:xfrm>
          <a:prstGeom prst="pie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5"/>
          <p:cNvSpPr/>
          <p:nvPr/>
        </p:nvSpPr>
        <p:spPr>
          <a:xfrm rot="19975200">
            <a:off x="3566880" y="4804920"/>
            <a:ext cx="1873080" cy="1736640"/>
          </a:xfrm>
          <a:prstGeom prst="pie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16" descr="earth"/>
          <p:cNvPicPr/>
          <p:nvPr/>
        </p:nvPicPr>
        <p:blipFill>
          <a:blip r:embed="rId3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7" descr="42"/>
          <p:cNvPicPr/>
          <p:nvPr/>
        </p:nvPicPr>
        <p:blipFill>
          <a:blip r:embed="rId4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8" descr="mars"/>
          <p:cNvPicPr/>
          <p:nvPr/>
        </p:nvPicPr>
        <p:blipFill>
          <a:blip r:embed="rId5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9" descr="112"/>
          <p:cNvPicPr/>
          <p:nvPr/>
        </p:nvPicPr>
        <p:blipFill>
          <a:blip r:embed="rId6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0" descr="upiter"/>
          <p:cNvPicPr/>
          <p:nvPr/>
        </p:nvPicPr>
        <p:blipFill>
          <a:blip r:embed="rId7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1" descr="r4"/>
          <p:cNvPicPr/>
          <p:nvPr/>
        </p:nvPicPr>
        <p:blipFill>
          <a:blip r:embed="rId8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2" descr="r4"/>
          <p:cNvPicPr/>
          <p:nvPr/>
        </p:nvPicPr>
        <p:blipFill>
          <a:blip r:embed="rId9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3" descr="r4"/>
          <p:cNvPicPr/>
          <p:nvPr/>
        </p:nvPicPr>
        <p:blipFill>
          <a:blip r:embed="rId10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4" descr="r7"/>
          <p:cNvPicPr/>
          <p:nvPr/>
        </p:nvPicPr>
        <p:blipFill>
          <a:blip r:embed="rId11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5" descr="56r2"/>
          <p:cNvPicPr/>
          <p:nvPr/>
        </p:nvPicPr>
        <p:blipFill>
          <a:blip r:embed="rId12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530" name="Физминутка - Хлопай-Топай (www.hotplayer.ru).mp3" descr=""/>
          <p:cNvPicPr/>
          <p:nvPr/>
        </p:nvPicPr>
        <p:blipFill>
          <a:blip r:embed="rId13"/>
          <a:stretch/>
        </p:blipFill>
        <p:spPr>
          <a:xfrm>
            <a:off x="685800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73" dur="3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0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298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30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303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30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308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3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3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3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3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357" dur="3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366" dur="3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5" dur="3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387" dur="3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95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4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3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3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63500"/>
                            </p:stCondLst>
                            <p:childTnLst>
                              <p:par>
                                <p:cTn id="406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66500"/>
                            </p:stCondLst>
                            <p:childTnLst>
                              <p:par>
                                <p:cTn id="4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411" dur="3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3" dur="3000" fill="hold"/>
                                        <p:tgtEl>
                                          <p:spTgt spid="52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69500"/>
                            </p:stCondLst>
                            <p:childTnLst>
                              <p:par>
                                <p:cTn id="4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6" dur="2000" fill="hold"/>
                                        <p:tgtEl>
                                          <p:spTgt spid="5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71500"/>
                            </p:stCondLst>
                            <p:childTnLst>
                              <p:par>
                                <p:cTn id="4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72500"/>
                            </p:stCondLst>
                            <p:childTnLst>
                              <p:par>
                                <p:cTn id="4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73500"/>
                            </p:stCondLst>
                            <p:childTnLst>
                              <p:par>
                                <p:cTn id="4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74000"/>
                            </p:stCondLst>
                            <p:childTnLst>
                              <p:par>
                                <p:cTn id="4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86748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85880" y="1643040"/>
            <a:ext cx="7400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ваших партах лежат карточки с заданиями. Вам необходимо найти значения данных произвед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жно вычислить и соотнести  ответы с букв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  должны  получить слово-задание, которое нужно применить к рисун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8143920" y="2174760"/>
            <a:ext cx="542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льчик купил ¾ кг конфет по 160 рублей за килограмм  и 3/5 кг печенья по 120  рублей за килограмм. Сколько рублей останется у покупателя после покупки, если первоначально у него было 500 рублей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стафете 8 этапов по 5/8 км. Девочка бежит 3 этапа, а мальчик бежит 5 этапов. Какое расстояние пробежит девочка, а какое мальчи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шина ехала ¾ ч, со скоростью 80 км/ч, и 4/5 ч со скоростью 60 км/ч. Какое расстояние проехала машина за все врем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500040" y="285840"/>
            <a:ext cx="822960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годня я узнал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ыло интересно узнать, ч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е все понятно,  у меня вс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ается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меня еще есть ошибк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 я стараюс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ничего не понимаю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меня ничего не получается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Рисунок 6" descr="MCj04404240000[1]"/>
          <p:cNvPicPr/>
          <p:nvPr/>
        </p:nvPicPr>
        <p:blipFill>
          <a:blip r:embed="rId1"/>
          <a:stretch/>
        </p:blipFill>
        <p:spPr>
          <a:xfrm flipH="1">
            <a:off x="5785920" y="142884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547" name="Рисунок 7" descr="MCj04404100000[1]"/>
          <p:cNvPicPr/>
          <p:nvPr/>
        </p:nvPicPr>
        <p:blipFill>
          <a:blip r:embed="rId2"/>
          <a:stretch/>
        </p:blipFill>
        <p:spPr>
          <a:xfrm>
            <a:off x="6072120" y="2786040"/>
            <a:ext cx="1479600" cy="1486080"/>
          </a:xfrm>
          <a:prstGeom prst="rect">
            <a:avLst/>
          </a:prstGeom>
          <a:ln w="0">
            <a:noFill/>
          </a:ln>
        </p:spPr>
      </p:pic>
      <p:pic>
        <p:nvPicPr>
          <p:cNvPr id="548" name="Рисунок 8" descr="MCj04377890000[1]"/>
          <p:cNvPicPr/>
          <p:nvPr/>
        </p:nvPicPr>
        <p:blipFill>
          <a:blip r:embed="rId3"/>
          <a:stretch/>
        </p:blipFill>
        <p:spPr>
          <a:xfrm>
            <a:off x="6286680" y="4214880"/>
            <a:ext cx="1643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учить правило с. 64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99680" y="1714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28400" y="2286000"/>
            <a:ext cx="5786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3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84(повторе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88(задача от мудрой сов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3280" y="1642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000480" y="2357280"/>
            <a:ext cx="26845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ез знания математики человек не может сформироваться как гармоничная личность, а значит мы с вами продолжим осваивать математику, добывая каждый день новые и новые знания, которые помогут нам при изучении новых предметов, а, главное, помогут в нашей практической жиз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джер Бэк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Прямоугольник 3"/>
          <p:cNvSpPr/>
          <p:nvPr/>
        </p:nvSpPr>
        <p:spPr>
          <a:xfrm>
            <a:off x="1285920" y="2428920"/>
            <a:ext cx="6858000" cy="92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Прямоугольник 4" descr=""/>
          <p:cNvPicPr/>
          <p:nvPr/>
        </p:nvPicPr>
        <p:blipFill>
          <a:blip r:embed="rId1"/>
          <a:stretch/>
        </p:blipFill>
        <p:spPr>
          <a:xfrm>
            <a:off x="1352520" y="2077920"/>
            <a:ext cx="6797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extBox 1" descr=""/>
          <p:cNvPicPr/>
          <p:nvPr/>
        </p:nvPicPr>
        <p:blipFill>
          <a:blip r:embed="rId1"/>
          <a:stretch/>
        </p:blipFill>
        <p:spPr>
          <a:xfrm>
            <a:off x="585720" y="2755800"/>
            <a:ext cx="8197920" cy="1182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3" name="Object 2"/>
              <p:cNvSpPr txBox="1"/>
              <p:nvPr/>
            </p:nvSpPr>
            <p:spPr>
              <a:xfrm>
                <a:off x="928800" y="3929040"/>
                <a:ext cx="1903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3"/>
              <p:cNvSpPr txBox="1"/>
              <p:nvPr/>
            </p:nvSpPr>
            <p:spPr>
              <a:xfrm>
                <a:off x="3286080" y="4000680"/>
                <a:ext cx="17733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у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4"/>
              <p:cNvSpPr txBox="1"/>
              <p:nvPr/>
            </p:nvSpPr>
            <p:spPr>
              <a:xfrm>
                <a:off x="5715000" y="3857760"/>
                <a:ext cx="15494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у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TextBox 9"/>
          <p:cNvSpPr/>
          <p:nvPr/>
        </p:nvSpPr>
        <p:spPr>
          <a:xfrm>
            <a:off x="2214720" y="4429080"/>
            <a:ext cx="571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10"/>
          <p:cNvSpPr/>
          <p:nvPr/>
        </p:nvSpPr>
        <p:spPr>
          <a:xfrm>
            <a:off x="3786120" y="4000680"/>
            <a:ext cx="285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Box 11"/>
          <p:cNvSpPr/>
          <p:nvPr/>
        </p:nvSpPr>
        <p:spPr>
          <a:xfrm>
            <a:off x="6072120" y="3857760"/>
            <a:ext cx="357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Прямоугольник 12"/>
          <p:cNvSpPr/>
          <p:nvPr/>
        </p:nvSpPr>
        <p:spPr>
          <a:xfrm>
            <a:off x="6047280" y="4500720"/>
            <a:ext cx="540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ЕШАЕМ УСТН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улируйте основное свойство дроб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1"/>
          <p:cNvSpPr/>
          <p:nvPr/>
        </p:nvSpPr>
        <p:spPr>
          <a:xfrm>
            <a:off x="857160" y="5486400"/>
            <a:ext cx="6357960" cy="77616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Прямоугольник 2"/>
          <p:cNvSpPr/>
          <p:nvPr/>
        </p:nvSpPr>
        <p:spPr>
          <a:xfrm>
            <a:off x="857160" y="4710240"/>
            <a:ext cx="5440320" cy="77616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Прямоугольник 4"/>
          <p:cNvSpPr/>
          <p:nvPr/>
        </p:nvSpPr>
        <p:spPr>
          <a:xfrm>
            <a:off x="857160" y="1325520"/>
            <a:ext cx="1341360" cy="63504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Прямоугольник 5"/>
          <p:cNvSpPr/>
          <p:nvPr/>
        </p:nvSpPr>
        <p:spPr>
          <a:xfrm>
            <a:off x="857160" y="1960560"/>
            <a:ext cx="2048040" cy="70488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Прямоугольник 6"/>
          <p:cNvSpPr/>
          <p:nvPr/>
        </p:nvSpPr>
        <p:spPr>
          <a:xfrm>
            <a:off x="857160" y="2665440"/>
            <a:ext cx="2895840" cy="70488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Прямоугольник 7"/>
          <p:cNvSpPr/>
          <p:nvPr/>
        </p:nvSpPr>
        <p:spPr>
          <a:xfrm>
            <a:off x="857160" y="3370320"/>
            <a:ext cx="3814920" cy="70632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Прямоугольник 8"/>
          <p:cNvSpPr/>
          <p:nvPr/>
        </p:nvSpPr>
        <p:spPr>
          <a:xfrm>
            <a:off x="857160" y="4076640"/>
            <a:ext cx="4662720" cy="63360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2"/>
              <p:cNvSpPr txBox="1"/>
              <p:nvPr/>
            </p:nvSpPr>
            <p:spPr>
              <a:xfrm>
                <a:off x="6500880" y="4619520"/>
                <a:ext cx="4716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3"/>
              <p:cNvSpPr txBox="1"/>
              <p:nvPr/>
            </p:nvSpPr>
            <p:spPr>
              <a:xfrm>
                <a:off x="5786280" y="3909960"/>
                <a:ext cx="5004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4"/>
              <p:cNvSpPr txBox="1"/>
              <p:nvPr/>
            </p:nvSpPr>
            <p:spPr>
              <a:xfrm>
                <a:off x="4786200" y="3262320"/>
                <a:ext cx="7146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5"/>
              <p:cNvSpPr txBox="1"/>
              <p:nvPr/>
            </p:nvSpPr>
            <p:spPr>
              <a:xfrm>
                <a:off x="3929040" y="2619360"/>
                <a:ext cx="5475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6"/>
              <p:cNvSpPr txBox="1"/>
              <p:nvPr/>
            </p:nvSpPr>
            <p:spPr>
              <a:xfrm>
                <a:off x="3000240" y="1905120"/>
                <a:ext cx="7812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7"/>
              <p:cNvSpPr txBox="1"/>
              <p:nvPr/>
            </p:nvSpPr>
            <p:spPr>
              <a:xfrm>
                <a:off x="2214720" y="1262160"/>
                <a:ext cx="714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8"/>
              <p:cNvSpPr txBox="1"/>
              <p:nvPr/>
            </p:nvSpPr>
            <p:spPr>
              <a:xfrm>
                <a:off x="1714680" y="976320"/>
                <a:ext cx="5126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6" name="Picture 11" descr="0301"/>
          <p:cNvPicPr/>
          <p:nvPr/>
        </p:nvPicPr>
        <p:blipFill>
          <a:blip r:embed="rId1"/>
          <a:stretch/>
        </p:blipFill>
        <p:spPr>
          <a:xfrm>
            <a:off x="7429680" y="5119560"/>
            <a:ext cx="1079280" cy="114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7" name="Object 9"/>
              <p:cNvSpPr txBox="1"/>
              <p:nvPr/>
            </p:nvSpPr>
            <p:spPr>
              <a:xfrm>
                <a:off x="6429240" y="5548320"/>
                <a:ext cx="4320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0"/>
              <p:cNvSpPr txBox="1"/>
              <p:nvPr/>
            </p:nvSpPr>
            <p:spPr>
              <a:xfrm>
                <a:off x="5572080" y="4762440"/>
                <a:ext cx="4348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1"/>
              <p:cNvSpPr txBox="1"/>
              <p:nvPr/>
            </p:nvSpPr>
            <p:spPr>
              <a:xfrm>
                <a:off x="4929120" y="4048200"/>
                <a:ext cx="3128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12"/>
              <p:cNvSpPr txBox="1"/>
              <p:nvPr/>
            </p:nvSpPr>
            <p:spPr>
              <a:xfrm>
                <a:off x="4000680" y="3405240"/>
                <a:ext cx="3412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13"/>
              <p:cNvSpPr txBox="1"/>
              <p:nvPr/>
            </p:nvSpPr>
            <p:spPr>
              <a:xfrm>
                <a:off x="3214800" y="2690640"/>
                <a:ext cx="250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14"/>
              <p:cNvSpPr txBox="1"/>
              <p:nvPr/>
            </p:nvSpPr>
            <p:spPr>
              <a:xfrm>
                <a:off x="2428920" y="2190600"/>
                <a:ext cx="2350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15"/>
              <p:cNvSpPr txBox="1"/>
              <p:nvPr/>
            </p:nvSpPr>
            <p:spPr>
              <a:xfrm>
                <a:off x="1643040" y="1333440"/>
                <a:ext cx="331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44" name="Picture 23" descr=""/>
          <p:cNvPicPr/>
          <p:nvPr/>
        </p:nvPicPr>
        <p:blipFill>
          <a:blip r:embed="rId2"/>
          <a:stretch/>
        </p:blipFill>
        <p:spPr>
          <a:xfrm>
            <a:off x="1000080" y="40464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445" name="Прямоугольник 33" descr=""/>
          <p:cNvPicPr/>
          <p:nvPr/>
        </p:nvPicPr>
        <p:blipFill>
          <a:blip r:embed="rId3"/>
          <a:stretch/>
        </p:blipFill>
        <p:spPr>
          <a:xfrm>
            <a:off x="4857840" y="554040"/>
            <a:ext cx="346860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68085E-006 L -0.13386 -0.10638 E">
                                      <p:cBhvr>
                                        <p:cTn id="112" dur="1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86 -0.10638 L -0.21406 -0.21739 E">
                                      <p:cBhvr>
                                        <p:cTn id="131" dur="1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141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406 -0.21739 L -0.30851 -0.31174 E">
                                      <p:cBhvr>
                                        <p:cTn id="150" dur="1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160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851 -0.31174 L -0.40295 -0.41674 E">
                                      <p:cBhvr>
                                        <p:cTn id="169" dur="1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99"/>
                                      </p:to>
                                    </p:animClr>
                                    <p:set>
                                      <p:cBhvr>
                                        <p:cTn id="179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296 -0.41674 L -0.49757 -0.53214 E">
                                      <p:cBhvr>
                                        <p:cTn id="188" dur="1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98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57 -0.53214 L -0.58386 -0.61725 E">
                                      <p:cBhvr>
                                        <p:cTn id="207" dur="1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set>
                                      <p:cBhvr>
                                        <p:cTn id="217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8386 -0.61725 L -0.67865 -0.72086 E">
                                      <p:cBhvr>
                                        <p:cTn id="226" dur="1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Выделите целую часть из неправильной дроб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1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13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,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2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,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30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,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8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,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4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,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         15        5          50       60       9       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3" descr=""/>
          <p:cNvPicPr/>
          <p:nvPr/>
        </p:nvPicPr>
        <p:blipFill>
          <a:blip r:embed="rId1"/>
          <a:srcRect l="4203" t="0" r="68447" b="0"/>
          <a:stretch/>
        </p:blipFill>
        <p:spPr>
          <a:xfrm>
            <a:off x="1517760" y="2168640"/>
            <a:ext cx="811080" cy="23288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"/>
          <p:cNvPicPr/>
          <p:nvPr/>
        </p:nvPicPr>
        <p:blipFill>
          <a:blip r:embed="rId2"/>
          <a:srcRect l="4198" t="0" r="68446" b="0"/>
          <a:stretch/>
        </p:blipFill>
        <p:spPr>
          <a:xfrm>
            <a:off x="2970360" y="2127240"/>
            <a:ext cx="777600" cy="22320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"/>
          <p:cNvPicPr/>
          <p:nvPr/>
        </p:nvPicPr>
        <p:blipFill>
          <a:blip r:embed="rId3"/>
          <a:srcRect l="4206" t="0" r="68438" b="0"/>
          <a:stretch/>
        </p:blipFill>
        <p:spPr>
          <a:xfrm>
            <a:off x="6826320" y="2114640"/>
            <a:ext cx="807840" cy="2316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"/>
          <p:cNvPicPr/>
          <p:nvPr/>
        </p:nvPicPr>
        <p:blipFill>
          <a:blip r:embed="rId4"/>
          <a:srcRect l="4202" t="0" r="68449" b="0"/>
          <a:stretch/>
        </p:blipFill>
        <p:spPr>
          <a:xfrm>
            <a:off x="4272120" y="2154240"/>
            <a:ext cx="792000" cy="22716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" descr=""/>
          <p:cNvPicPr/>
          <p:nvPr/>
        </p:nvPicPr>
        <p:blipFill>
          <a:blip r:embed="rId5"/>
          <a:srcRect l="4204" t="0" r="68442" b="0"/>
          <a:stretch/>
        </p:blipFill>
        <p:spPr>
          <a:xfrm>
            <a:off x="5580000" y="2154240"/>
            <a:ext cx="795240" cy="2279520"/>
          </a:xfrm>
          <a:prstGeom prst="rect">
            <a:avLst/>
          </a:prstGeom>
          <a:ln w="0">
            <a:noFill/>
          </a:ln>
        </p:spPr>
      </p:pic>
      <p:sp>
        <p:nvSpPr>
          <p:cNvPr id="453" name="TextBox 2"/>
          <p:cNvSpPr/>
          <p:nvPr/>
        </p:nvSpPr>
        <p:spPr>
          <a:xfrm>
            <a:off x="468360" y="1628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лько   сока   содержится  в  5   бутылка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TextBox 6" descr=""/>
          <p:cNvPicPr/>
          <p:nvPr/>
        </p:nvPicPr>
        <p:blipFill>
          <a:blip r:embed="rId6"/>
          <a:stretch/>
        </p:blipFill>
        <p:spPr>
          <a:xfrm>
            <a:off x="1096920" y="927000"/>
            <a:ext cx="6542280" cy="712800"/>
          </a:xfrm>
          <a:prstGeom prst="rect">
            <a:avLst/>
          </a:prstGeom>
          <a:ln w="0">
            <a:noFill/>
          </a:ln>
        </p:spPr>
      </p:pic>
      <p:sp>
        <p:nvSpPr>
          <p:cNvPr id="455" name="TextBox 1"/>
          <p:cNvSpPr/>
          <p:nvPr/>
        </p:nvSpPr>
        <p:spPr>
          <a:xfrm>
            <a:off x="642960" y="2858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Решить задач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Прямоугольник 1"/>
          <p:cNvSpPr/>
          <p:nvPr/>
        </p:nvSpPr>
        <p:spPr>
          <a:xfrm>
            <a:off x="971640" y="765000"/>
            <a:ext cx="74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дача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литка ползет со скоростью              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н.    Как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стояние проползет улитка за 3 ми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Рисунок 1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961920" cy="83808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28"/>
          <p:cNvGrpSpPr/>
          <p:nvPr/>
        </p:nvGrpSpPr>
        <p:grpSpPr>
          <a:xfrm>
            <a:off x="684360" y="2924280"/>
            <a:ext cx="8043480" cy="838080"/>
            <a:chOff x="684360" y="2924280"/>
            <a:chExt cx="8043480" cy="838080"/>
          </a:xfrm>
        </p:grpSpPr>
        <p:grpSp>
          <p:nvGrpSpPr>
            <p:cNvPr id="459" name="Group 5"/>
            <p:cNvGrpSpPr/>
            <p:nvPr/>
          </p:nvGrpSpPr>
          <p:grpSpPr>
            <a:xfrm>
              <a:off x="684360" y="2924280"/>
              <a:ext cx="8030880" cy="171000"/>
              <a:chOff x="684360" y="2924280"/>
              <a:chExt cx="8030880" cy="171000"/>
            </a:xfrm>
          </p:grpSpPr>
          <p:grpSp>
            <p:nvGrpSpPr>
              <p:cNvPr id="460" name="Group 6"/>
              <p:cNvGrpSpPr/>
              <p:nvPr/>
            </p:nvGrpSpPr>
            <p:grpSpPr>
              <a:xfrm>
                <a:off x="684360" y="2943000"/>
                <a:ext cx="3563280" cy="152280"/>
                <a:chOff x="684360" y="2943000"/>
                <a:chExt cx="3563280" cy="152280"/>
              </a:xfrm>
            </p:grpSpPr>
            <p:grpSp>
              <p:nvGrpSpPr>
                <p:cNvPr id="461" name="Group 7"/>
                <p:cNvGrpSpPr/>
                <p:nvPr/>
              </p:nvGrpSpPr>
              <p:grpSpPr>
                <a:xfrm>
                  <a:off x="684360" y="2943000"/>
                  <a:ext cx="1782000" cy="152280"/>
                  <a:chOff x="684360" y="2943000"/>
                  <a:chExt cx="1782000" cy="152280"/>
                </a:xfrm>
              </p:grpSpPr>
              <p:grpSp>
                <p:nvGrpSpPr>
                  <p:cNvPr id="462" name="Group 8"/>
                  <p:cNvGrpSpPr/>
                  <p:nvPr/>
                </p:nvGrpSpPr>
                <p:grpSpPr>
                  <a:xfrm>
                    <a:off x="684360" y="2943000"/>
                    <a:ext cx="894960" cy="152280"/>
                    <a:chOff x="684360" y="2943000"/>
                    <a:chExt cx="894960" cy="152280"/>
                  </a:xfrm>
                </p:grpSpPr>
                <p:sp>
                  <p:nvSpPr>
                    <p:cNvPr id="463" name="Line 9"/>
                    <p:cNvSpPr/>
                    <p:nvPr/>
                  </p:nvSpPr>
                  <p:spPr>
                    <a:xfrm>
                      <a:off x="684360" y="2943000"/>
                      <a:ext cx="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Line 10"/>
                    <p:cNvSpPr/>
                    <p:nvPr/>
                  </p:nvSpPr>
                  <p:spPr>
                    <a:xfrm>
                      <a:off x="684360" y="3031920"/>
                      <a:ext cx="8949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5" name="Group 11"/>
                  <p:cNvGrpSpPr/>
                  <p:nvPr/>
                </p:nvGrpSpPr>
                <p:grpSpPr>
                  <a:xfrm>
                    <a:off x="1571040" y="2943000"/>
                    <a:ext cx="895320" cy="152280"/>
                    <a:chOff x="1571040" y="2943000"/>
                    <a:chExt cx="895320" cy="152280"/>
                  </a:xfrm>
                </p:grpSpPr>
                <p:sp>
                  <p:nvSpPr>
                    <p:cNvPr id="466" name="Line 12"/>
                    <p:cNvSpPr/>
                    <p:nvPr/>
                  </p:nvSpPr>
                  <p:spPr>
                    <a:xfrm>
                      <a:off x="1571040" y="2943000"/>
                      <a:ext cx="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Line 13"/>
                    <p:cNvSpPr/>
                    <p:nvPr/>
                  </p:nvSpPr>
                  <p:spPr>
                    <a:xfrm>
                      <a:off x="1571040" y="3031920"/>
                      <a:ext cx="89532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68" name="Group 14"/>
                <p:cNvGrpSpPr/>
                <p:nvPr/>
              </p:nvGrpSpPr>
              <p:grpSpPr>
                <a:xfrm>
                  <a:off x="2466360" y="2943000"/>
                  <a:ext cx="1781280" cy="152280"/>
                  <a:chOff x="2466360" y="2943000"/>
                  <a:chExt cx="1781280" cy="152280"/>
                </a:xfrm>
              </p:grpSpPr>
              <p:grpSp>
                <p:nvGrpSpPr>
                  <p:cNvPr id="469" name="Group 15"/>
                  <p:cNvGrpSpPr/>
                  <p:nvPr/>
                </p:nvGrpSpPr>
                <p:grpSpPr>
                  <a:xfrm>
                    <a:off x="2466360" y="2943000"/>
                    <a:ext cx="894960" cy="152280"/>
                    <a:chOff x="2466360" y="2943000"/>
                    <a:chExt cx="894960" cy="152280"/>
                  </a:xfrm>
                </p:grpSpPr>
                <p:sp>
                  <p:nvSpPr>
                    <p:cNvPr id="470" name="Line 16"/>
                    <p:cNvSpPr/>
                    <p:nvPr/>
                  </p:nvSpPr>
                  <p:spPr>
                    <a:xfrm>
                      <a:off x="2466360" y="2943000"/>
                      <a:ext cx="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Line 17"/>
                    <p:cNvSpPr/>
                    <p:nvPr/>
                  </p:nvSpPr>
                  <p:spPr>
                    <a:xfrm>
                      <a:off x="2466360" y="3031920"/>
                      <a:ext cx="8949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2" name="Group 18"/>
                  <p:cNvGrpSpPr/>
                  <p:nvPr/>
                </p:nvGrpSpPr>
                <p:grpSpPr>
                  <a:xfrm>
                    <a:off x="3352680" y="2943000"/>
                    <a:ext cx="894960" cy="152280"/>
                    <a:chOff x="3352680" y="2943000"/>
                    <a:chExt cx="894960" cy="152280"/>
                  </a:xfrm>
                </p:grpSpPr>
                <p:sp>
                  <p:nvSpPr>
                    <p:cNvPr id="473" name="Line 19"/>
                    <p:cNvSpPr/>
                    <p:nvPr/>
                  </p:nvSpPr>
                  <p:spPr>
                    <a:xfrm>
                      <a:off x="3352680" y="2943000"/>
                      <a:ext cx="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Line 20"/>
                    <p:cNvSpPr/>
                    <p:nvPr/>
                  </p:nvSpPr>
                  <p:spPr>
                    <a:xfrm>
                      <a:off x="3352680" y="3031920"/>
                      <a:ext cx="8949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75" name="Group 21"/>
              <p:cNvGrpSpPr/>
              <p:nvPr/>
            </p:nvGrpSpPr>
            <p:grpSpPr>
              <a:xfrm>
                <a:off x="4256280" y="2943000"/>
                <a:ext cx="1781280" cy="152280"/>
                <a:chOff x="4256280" y="2943000"/>
                <a:chExt cx="1781280" cy="152280"/>
              </a:xfrm>
            </p:grpSpPr>
            <p:grpSp>
              <p:nvGrpSpPr>
                <p:cNvPr id="476" name="Group 22"/>
                <p:cNvGrpSpPr/>
                <p:nvPr/>
              </p:nvGrpSpPr>
              <p:grpSpPr>
                <a:xfrm>
                  <a:off x="4256280" y="2943000"/>
                  <a:ext cx="894960" cy="152280"/>
                  <a:chOff x="4256280" y="2943000"/>
                  <a:chExt cx="894960" cy="152280"/>
                </a:xfrm>
              </p:grpSpPr>
              <p:sp>
                <p:nvSpPr>
                  <p:cNvPr id="477" name="Line 23"/>
                  <p:cNvSpPr/>
                  <p:nvPr/>
                </p:nvSpPr>
                <p:spPr>
                  <a:xfrm>
                    <a:off x="4256280" y="294300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Line 24"/>
                  <p:cNvSpPr/>
                  <p:nvPr/>
                </p:nvSpPr>
                <p:spPr>
                  <a:xfrm>
                    <a:off x="4256280" y="3031920"/>
                    <a:ext cx="8949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9" name="Group 25"/>
                <p:cNvGrpSpPr/>
                <p:nvPr/>
              </p:nvGrpSpPr>
              <p:grpSpPr>
                <a:xfrm>
                  <a:off x="5142600" y="2943000"/>
                  <a:ext cx="894960" cy="152280"/>
                  <a:chOff x="5142600" y="2943000"/>
                  <a:chExt cx="894960" cy="152280"/>
                </a:xfrm>
              </p:grpSpPr>
              <p:sp>
                <p:nvSpPr>
                  <p:cNvPr id="480" name="Line 26"/>
                  <p:cNvSpPr/>
                  <p:nvPr/>
                </p:nvSpPr>
                <p:spPr>
                  <a:xfrm>
                    <a:off x="5142600" y="294300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Line 27"/>
                  <p:cNvSpPr/>
                  <p:nvPr/>
                </p:nvSpPr>
                <p:spPr>
                  <a:xfrm>
                    <a:off x="5142600" y="3031920"/>
                    <a:ext cx="8949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2" name="Group 28"/>
              <p:cNvGrpSpPr/>
              <p:nvPr/>
            </p:nvGrpSpPr>
            <p:grpSpPr>
              <a:xfrm>
                <a:off x="6038280" y="2943000"/>
                <a:ext cx="894960" cy="152280"/>
                <a:chOff x="6038280" y="2943000"/>
                <a:chExt cx="894960" cy="152280"/>
              </a:xfrm>
            </p:grpSpPr>
            <p:sp>
              <p:nvSpPr>
                <p:cNvPr id="483" name="Line 29"/>
                <p:cNvSpPr/>
                <p:nvPr/>
              </p:nvSpPr>
              <p:spPr>
                <a:xfrm>
                  <a:off x="6038280" y="2943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Line 30"/>
                <p:cNvSpPr/>
                <p:nvPr/>
              </p:nvSpPr>
              <p:spPr>
                <a:xfrm>
                  <a:off x="6038280" y="3031920"/>
                  <a:ext cx="894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Group 31"/>
              <p:cNvGrpSpPr/>
              <p:nvPr/>
            </p:nvGrpSpPr>
            <p:grpSpPr>
              <a:xfrm>
                <a:off x="6924960" y="2943000"/>
                <a:ext cx="894960" cy="152280"/>
                <a:chOff x="6924960" y="2943000"/>
                <a:chExt cx="894960" cy="152280"/>
              </a:xfrm>
            </p:grpSpPr>
            <p:sp>
              <p:nvSpPr>
                <p:cNvPr id="486" name="Line 32"/>
                <p:cNvSpPr/>
                <p:nvPr/>
              </p:nvSpPr>
              <p:spPr>
                <a:xfrm>
                  <a:off x="6924960" y="2943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Line 33"/>
                <p:cNvSpPr/>
                <p:nvPr/>
              </p:nvSpPr>
              <p:spPr>
                <a:xfrm>
                  <a:off x="6924960" y="3031920"/>
                  <a:ext cx="894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8" name="Line 34"/>
              <p:cNvSpPr/>
              <p:nvPr/>
            </p:nvSpPr>
            <p:spPr>
              <a:xfrm>
                <a:off x="7820280" y="294300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Line 35"/>
              <p:cNvSpPr/>
              <p:nvPr/>
            </p:nvSpPr>
            <p:spPr>
              <a:xfrm>
                <a:off x="7820280" y="30319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Line 36"/>
              <p:cNvSpPr/>
              <p:nvPr/>
            </p:nvSpPr>
            <p:spPr>
              <a:xfrm>
                <a:off x="8706960" y="29242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Line 38"/>
            <p:cNvSpPr/>
            <p:nvPr/>
          </p:nvSpPr>
          <p:spPr>
            <a:xfrm>
              <a:off x="684360" y="3090960"/>
              <a:ext cx="1800" cy="67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39"/>
            <p:cNvSpPr/>
            <p:nvPr/>
          </p:nvSpPr>
          <p:spPr>
            <a:xfrm>
              <a:off x="8702640" y="3073320"/>
              <a:ext cx="1800" cy="67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40"/>
            <p:cNvSpPr/>
            <p:nvPr/>
          </p:nvSpPr>
          <p:spPr>
            <a:xfrm>
              <a:off x="684360" y="3581280"/>
              <a:ext cx="804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41"/>
            <p:cNvSpPr/>
            <p:nvPr/>
          </p:nvSpPr>
          <p:spPr>
            <a:xfrm>
              <a:off x="4185360" y="3162240"/>
              <a:ext cx="8028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Прямоугольник 41"/>
          <p:cNvSpPr/>
          <p:nvPr/>
        </p:nvSpPr>
        <p:spPr>
          <a:xfrm>
            <a:off x="4356000" y="3716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5"/>
              <p:cNvSpPr txBox="1"/>
              <p:nvPr/>
            </p:nvSpPr>
            <p:spPr>
              <a:xfrm>
                <a:off x="5072040" y="928800"/>
                <a:ext cx="235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03704E-006 C 0.02205 -0.02754 0.10139 -0.02037 0.11858 -0.02083 C 0.15486 -0.02152 0.19097 -0.02199 0.22726 -0.02268 C 0.23993 -0.0206 0.25209 -0.01851 0.26441 -0.01319 C 0.26858 -0.00949 0.27344 -0.0081 0.27726 -0.0037 C 0.27986 -0.00069 0.28438 0.00579 0.28438 0.00579 C 0.29618 0.00278 0.30764 -0.00763 0.31858 -0.00949 C 0.34879 -0.01481 0.37969 -0.01504 0.41007 -0.01712 C 0.47379 -0.01597 0.50139 -0.02893 0.54722 -0.00949 C 0.55209 -0.00254 0.55903 -0.00277 0.5658 7.03704E-006 C 0.57066 0.00695 0.56597 0.00163 0.57292 0.00579 C 0.57674 0.00811 0.58438 0.01343 0.58438 0.01343 C 0.59427 0.01019 0.58941 0.00903 0.59584 0.00209 C 0.59931 -0.00162 0.60434 -0.00185 0.60868 -0.0037 C 0.62066 -0.00902 0.63334 -0.01018 0.64584 -0.01134 C 0.65903 -0.02013 0.67622 -0.01805 0.69011 -0.01898 C 0.71302 -0.01828 0.73577 -0.01828 0.75868 -0.01712 C 0.77049 -0.01643 0.78247 -0.00763 0.79288 -0.00185 C 0.79809 0.00093 0.80469 0.00209 0.81007 0.00394 C 0.82101 0.0132 0.84566 0.01876 0.85868 0.02107 C 0.86389 0.02338 0.86146 0.022 0.8658 0.02477 E">
                                      <p:cBhvr>
                                        <p:cTn id="253" dur="5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.  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3+3+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∙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7    7   7          7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7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Равно 8"/>
          <p:cNvSpPr/>
          <p:nvPr/>
        </p:nvSpPr>
        <p:spPr>
          <a:xfrm>
            <a:off x="3929040" y="1857240"/>
            <a:ext cx="428760" cy="285840"/>
          </a:xfrm>
          <a:prstGeom prst="pi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Равно 11"/>
          <p:cNvSpPr/>
          <p:nvPr/>
        </p:nvSpPr>
        <p:spPr>
          <a:xfrm>
            <a:off x="1785960" y="1928880"/>
            <a:ext cx="428760" cy="285840"/>
          </a:xfrm>
          <a:prstGeom prst="pi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Равно 12"/>
          <p:cNvSpPr/>
          <p:nvPr/>
        </p:nvSpPr>
        <p:spPr>
          <a:xfrm>
            <a:off x="5715000" y="1857240"/>
            <a:ext cx="428760" cy="285840"/>
          </a:xfrm>
          <a:prstGeom prst="pi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Равно 13"/>
          <p:cNvSpPr/>
          <p:nvPr/>
        </p:nvSpPr>
        <p:spPr>
          <a:xfrm>
            <a:off x="7072200" y="1928880"/>
            <a:ext cx="428760" cy="285840"/>
          </a:xfrm>
          <a:prstGeom prst="pi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Тема урока 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«Умножение дроби на натуральное число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Цел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учиться умножать дробь на числ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ять правило умножения дроби на число при выполнении упражн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19-10-14T05:24:34Z</dcterms:modified>
  <cp:revision>116</cp:revision>
  <dc:subject/>
  <dc:title>Слайд 1</dc:title>
</cp:coreProperties>
</file>