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94204-66A1-4170-A4CF-D6F45F164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35378-8C52-4C3C-B21E-BAB3E17F7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F35A5-F385-4939-AEF2-22DA6AD07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FDAA2-9FB6-4E6E-9A24-BCD4005AF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F5A38-64B8-49B3-BF35-97D88A8A6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810E5-B939-41D4-A1F0-114CA3701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F71EE-D118-450C-8967-12F8E62D5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83DF4-BFF5-4DC4-8D32-371550E1F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BD23D-77DD-4151-99E0-060383EE7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D1AB6-41B8-430F-B7CE-7CC4EB29B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53F7E-FBE3-48B5-89CF-E15A68F4F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A8211-5B6E-4783-9DB5-327C33419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D11F6-7EFA-436B-87D4-5FFBAECAEF6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28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ун-Муринская средняя школ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30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6000"/>
          </a:bodyPr>
          <a:p>
            <a:pPr marL="226080" indent="-226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6080" indent="-226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Тема</a:t>
            </a:r>
            <a:r>
              <a:rPr b="1" lang="ru-RU" sz="5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: Мудрость и мораль басен Элбэка Манзарова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226080" indent="-226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226080" indent="-226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Шобоева Янжима 10 клас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6080" indent="-226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Объект 3" descr=""/>
          <p:cNvPicPr/>
          <p:nvPr/>
        </p:nvPicPr>
        <p:blipFill>
          <a:blip r:embed="rId1"/>
          <a:stretch/>
        </p:blipFill>
        <p:spPr>
          <a:xfrm>
            <a:off x="971640" y="1052640"/>
            <a:ext cx="6618240" cy="50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Объект 3" descr=""/>
          <p:cNvPicPr/>
          <p:nvPr/>
        </p:nvPicPr>
        <p:blipFill>
          <a:blip r:embed="rId1"/>
          <a:stretch/>
        </p:blipFill>
        <p:spPr>
          <a:xfrm>
            <a:off x="1116000" y="1197000"/>
            <a:ext cx="6473880" cy="49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Объект 3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842160" cy="50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Объект 3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842160" cy="50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Спасибо за внимание!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428840" y="3357720"/>
            <a:ext cx="6200640" cy="307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40404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Изучить биографию Э. Манзаров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40404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рочитать  и проанализировать  басни  Э.С Манзаров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40404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Нарисовать иллюстрации к басня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40404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оздать короткометражный филь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40404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Прямоугольник 1" descr=""/>
          <p:cNvPicPr/>
          <p:nvPr/>
        </p:nvPicPr>
        <p:blipFill>
          <a:blip r:embed="rId1"/>
          <a:stretch/>
        </p:blipFill>
        <p:spPr>
          <a:xfrm>
            <a:off x="969840" y="1127160"/>
            <a:ext cx="72597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0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главление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веде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ая часть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1 Жизнь и творческая деятельность Э.Манзаров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2 Анализ басен. Иллюстрации  к басням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3 Создание короткометражного фильм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Заключение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Список использованной литературы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2" descr="H:\DCIM\Camera\IMG_20140313_211822.jpg"/>
          <p:cNvPicPr/>
          <p:nvPr/>
        </p:nvPicPr>
        <p:blipFill>
          <a:blip r:embed="rId1"/>
          <a:stretch/>
        </p:blipFill>
        <p:spPr>
          <a:xfrm>
            <a:off x="900000" y="274680"/>
            <a:ext cx="7344000" cy="660384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1258920" y="5805360"/>
            <a:ext cx="720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Элбэк   Манзаров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аснописец Элбэк Манзаров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2" descr="H:\DCIM\Camera\IMG_20140313_214608.jpg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оробей – эмигрант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C:\Users\Сережа\Desktop\алина\IMG_20140312_212116.jpg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Басня  «Спор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C:\Users\Сережа\Desktop\алина\SAM_3665.JPG"/>
          <p:cNvPicPr/>
          <p:nvPr/>
        </p:nvPicPr>
        <p:blipFill>
          <a:blip r:embed="rId1"/>
          <a:stretch/>
        </p:blipFill>
        <p:spPr>
          <a:xfrm>
            <a:off x="549360" y="1600200"/>
            <a:ext cx="80452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уриная любов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C:\Users\Сережа\Desktop\алина\IMG_20140312_212054.jpg"/>
          <p:cNvPicPr/>
          <p:nvPr/>
        </p:nvPicPr>
        <p:blipFill>
          <a:blip r:embed="rId1"/>
          <a:stretch/>
        </p:blipFill>
        <p:spPr>
          <a:xfrm>
            <a:off x="826920" y="549360"/>
            <a:ext cx="6840720" cy="531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Объект 3" descr=""/>
          <p:cNvPicPr/>
          <p:nvPr/>
        </p:nvPicPr>
        <p:blipFill>
          <a:blip r:embed="rId1"/>
          <a:stretch/>
        </p:blipFill>
        <p:spPr>
          <a:xfrm>
            <a:off x="826920" y="981000"/>
            <a:ext cx="6762960" cy="514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3T11:08:00Z</dcterms:created>
  <dc:creator>Windows User</dc:creator>
  <dc:description/>
  <dc:language>en-US</dc:language>
  <cp:lastModifiedBy>Microsoft</cp:lastModifiedBy>
  <dcterms:modified xsi:type="dcterms:W3CDTF">2020-01-05T08:04:36Z</dcterms:modified>
  <cp:revision>64</cp:revision>
  <dc:subject/>
  <dc:title>Зун-Муринская средняя общеобразовательная школа</dc:title>
</cp:coreProperties>
</file>