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9BE8-D97C-4E29-8FD7-80006120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969-72B8-4025-A864-DA966F88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85F-A3F1-4896-AA03-3B1EB854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B25-8199-45BC-9887-D0926B1E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A439-B9DB-4123-8571-3E60C825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FD08-BDEB-40F7-948D-00F5F4B1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9122-EE20-44B4-8FBA-4E9FF32D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B1B9-64DD-4F49-87BE-0BB4F518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68F8-50F8-4AAD-B033-499B15AC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CFDD-3C85-4B86-ACD0-3DBAF8F0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7F69-CDDD-4C5E-B654-6BA73FDA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709-1EB2-4969-B7BA-F4D9B911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39B3-8AF3-474A-A58E-89C5DD10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F3C4-32AC-4748-B503-60703F9E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B44E-DE58-4CE3-A783-E88116AA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44B5-C192-4646-88A2-2467AD78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41B2-86DE-4EEB-9B54-9403E4BD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0F8EF-BEE9-4F9C-A264-D973F7ED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B7842-D4F6-4F84-9A58-9A014628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ABF0B-A324-40A5-9F91-80D40E66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9BC9B-04E2-43B0-8961-2A59A0DD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8D430-420C-4DEA-BE5F-BCD045B6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8E2-E329-4A35-8C3B-64F7F869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53E12-1236-4B48-9788-4274AE70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0758F-E555-4AC7-8111-BE79E783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08DC6-CAC5-4764-90C0-9D9320B1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49288-BF41-4A40-B3C5-F0B3B29D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26DB1-50AA-418B-9F5B-65F8C40A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90FBD-D66C-49AC-8C20-1611406C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81B19-0DE2-40A1-95C4-97358328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D8619-4FFA-41F3-AB2C-F8B16ED8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28875-2EBB-43FE-A3FE-156B1F9E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CC166-E9F0-4A6E-9E42-FEB8FD28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705-EDFC-4074-83E3-10A571BA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937A5-6972-49C4-83B3-5C77C5D4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A7FD6-70A4-4454-9E06-9C35B254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4566E-0382-45A0-A712-177D4793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4F54F-79DC-4093-A729-04E2F401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D153F-8724-438D-84B2-EA03DB0C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B94D3-7955-4C58-9418-B0CF3BBF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13B0D-EA9A-4ED2-8753-69DD5229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E5345-E93A-4CCC-BB9D-F0E4C3E6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F299D-D524-43E3-829F-EC2A1458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97FB3-6CE1-49A6-A047-045A8BBB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C0D-21A6-4424-AC0A-A6593323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D3831-75A7-499D-8C96-0ECED985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E3AA7-83A1-4FDF-9536-31B09761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101C6-84A7-4867-BC9A-D191D690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6BA4D-F7AB-48C5-9886-CBC81271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0E984-34BA-4E12-A727-B997930D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838D5-345C-4DC4-BCE5-0193515F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06A22-2AB6-484F-B229-383C5D25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DC1D9-2739-4221-9B1D-F8AD16E6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48FDB-30E2-470C-ADB4-E6B83AE5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FA116-72A6-4FC6-B351-ED595A5D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2CD-DBDE-4C5A-A306-6D094E7F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476FB-0D54-4309-BBF9-50520B6B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F52D4-867C-4F2C-9B27-23009459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13035-F4D4-4E10-93A1-BF528EC1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9361E-76D8-4ADA-8E25-403DCA08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714C3-E688-4B70-BDE0-0740C8A8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A74BD-6A10-4C6E-B630-C8A70E53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07977-55FC-4C11-AB95-7273B28D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B4105-B13D-418B-BC3C-5D6D5E90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7F42C-E92D-4246-9FA2-77C38654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66D39-0873-4FDF-9527-1F28B315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F9EF-5882-4728-B333-4AB4642E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AC969-AD88-4CA6-BD6E-55EF1F11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ABC5B-CDD4-4563-97C4-61F88734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F1A47-13A3-4325-8420-4BCA8684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179A4-5AD2-4471-8A98-14D1E22F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E3406-081F-4E89-AC0F-B4BBF8EF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E3DBF-B4C2-4B87-9D08-CA0C0BF7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538FB-1401-4B03-8F11-B6BEABFB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01547-21ED-4767-BCB5-B40F8F69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F9D1D-739D-4A4B-A7A7-9C840F56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5D00F-FEB1-4D6C-A1B8-D7DDB8D5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82E4-9465-4924-96FD-63C72BE4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958C0-D72F-444C-8D4C-D89F452A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99C84-1518-4341-8CB5-5160B606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EB84C-E430-4404-B1EC-79F0574D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4AA2F-4883-4451-A1FF-0993CA5E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62D79-DE93-4660-AD10-DCBC3FBD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09A-D7E7-402E-AD12-F9DA12FF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45E5-8588-42B7-B898-74FB44A63ED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78A7-B22F-44EC-9B7E-76526922F80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D37A-310A-4785-A20E-62A2A3AC252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3BE0-B850-42F5-BD12-8ED1763DA1D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888B-DE1E-4FBC-B150-DA42A2FE107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FB1E-8D3B-4779-94C8-A377DEFF6ED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7E32-86F2-46CB-85BC-FE9E558FC39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Государственное бюджетное дошкольное образовательное учреждение детский сад № 21»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ЛИЯНИЕ НЕТРАДИЦИОННЫХ ТЕХНИК РИСОВАНИЯ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НА РАЗВИТИЕ  МЕЛКОЙ МОТОРИКИ 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 ДЕТЕЙ ЧЕТВЕРТОГО ГОДА ЖИЗНИ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еломестнова Татьяна Юрьевна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i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оспитатель 10 группы</a:t>
            </a:r>
            <a:br>
              <a:rPr sz="2000"/>
            </a:br>
            <a:r>
              <a:rPr b="0" i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r>
              <a:rPr b="0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анкт-Петербург</a:t>
            </a:r>
            <a:br>
              <a:rPr sz="1600"/>
            </a:br>
            <a:r>
              <a:rPr b="0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2018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1041480" y="836640"/>
            <a:ext cx="3592440" cy="2736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5915160" y="873000"/>
            <a:ext cx="3182760" cy="2652840"/>
          </a:xfrm>
          <a:prstGeom prst="rect">
            <a:avLst/>
          </a:prstGeom>
          <a:ln w="0">
            <a:noFill/>
          </a:ln>
        </p:spPr>
      </p:pic>
      <p:sp>
        <p:nvSpPr>
          <p:cNvPr id="344" name="TextBox 7"/>
          <p:cNvSpPr/>
          <p:nvPr/>
        </p:nvSpPr>
        <p:spPr>
          <a:xfrm>
            <a:off x="3348000" y="26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ладошкам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TextBox 8"/>
          <p:cNvSpPr/>
          <p:nvPr/>
        </p:nvSpPr>
        <p:spPr>
          <a:xfrm>
            <a:off x="-9360" y="43419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миног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TextBox 9"/>
          <p:cNvSpPr/>
          <p:nvPr/>
        </p:nvSpPr>
        <p:spPr>
          <a:xfrm>
            <a:off x="4984920" y="4341960"/>
            <a:ext cx="41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тички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TextBox 10"/>
          <p:cNvSpPr/>
          <p:nvPr/>
        </p:nvSpPr>
        <p:spPr>
          <a:xfrm>
            <a:off x="1131840" y="4830840"/>
            <a:ext cx="77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тором этапе работы мы приступили к рисованию ладошками. Эту работу мы проводили с группой. Мы рисовали осьминога и птичек. Когда дети рисуют с помощью отпечатка ладони они не бояться ошибиться, сделать работу неаккуратной - это способствует созданию комфортной психологической обстановки для детей. В процессе таких занятий дети получают не только знания и навыки, а также удовольствие, радость от своих маленьких успехов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3" descr="IMG_20170518_202447"/>
          <p:cNvPicPr/>
          <p:nvPr/>
        </p:nvPicPr>
        <p:blipFill>
          <a:blip r:embed="rId1"/>
          <a:stretch/>
        </p:blipFill>
        <p:spPr>
          <a:xfrm>
            <a:off x="3851280" y="1149480"/>
            <a:ext cx="2484360" cy="33084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7"/>
          <p:cNvSpPr/>
          <p:nvPr/>
        </p:nvSpPr>
        <p:spPr>
          <a:xfrm>
            <a:off x="1547640" y="260280"/>
            <a:ext cx="63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рисования «оттиск поролон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Прямоугольник 1"/>
          <p:cNvSpPr/>
          <p:nvPr/>
        </p:nvSpPr>
        <p:spPr>
          <a:xfrm>
            <a:off x="3995640" y="445788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Компот из яблок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Прямоугольник 9"/>
          <p:cNvSpPr/>
          <p:nvPr/>
        </p:nvSpPr>
        <p:spPr>
          <a:xfrm flipV="1" rot="10800000">
            <a:off x="1547280" y="522108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 мы развивали мелкую моторику через использование нетрадиционной техники рисования «оттиск поролоном». Нам удалось выполнить коллективную работу «Компот из яблок»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Рисунок 3" descr="C:\Users\Admin\Desktop\DSCF0079.JPG"/>
          <p:cNvPicPr/>
          <p:nvPr/>
        </p:nvPicPr>
        <p:blipFill>
          <a:blip r:embed="rId1"/>
          <a:stretch/>
        </p:blipFill>
        <p:spPr>
          <a:xfrm>
            <a:off x="4048200" y="1413000"/>
            <a:ext cx="3692520" cy="2382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IMG_20170516_211459"/>
          <p:cNvPicPr/>
          <p:nvPr/>
        </p:nvPicPr>
        <p:blipFill>
          <a:blip r:embed="rId2"/>
          <a:stretch/>
        </p:blipFill>
        <p:spPr>
          <a:xfrm>
            <a:off x="1116000" y="1376280"/>
            <a:ext cx="1811520" cy="24195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8"/>
          <p:cNvSpPr/>
          <p:nvPr/>
        </p:nvSpPr>
        <p:spPr>
          <a:xfrm>
            <a:off x="3635280" y="19080"/>
            <a:ext cx="24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жный коллаж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TextBox 9"/>
          <p:cNvSpPr/>
          <p:nvPr/>
        </p:nvSpPr>
        <p:spPr>
          <a:xfrm>
            <a:off x="1116000" y="4076640"/>
            <a:ext cx="754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интересно прошла работа по созданию коллажа «Бумажная фея». Здесь мы решали целый ряд задач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детей со свойствами бумаг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использованием бумаги в жизни человека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инать салфетку комочком, наклеивать на изображение соответственно замыслу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мышление мелкую моторику кистей рук, воображение, чувство композици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44280"/>
            <a:ext cx="78915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ключ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71640" y="1341000"/>
            <a:ext cx="7921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indent="284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мы видим, что примененные нетрадиционные техники рисования и работа с родителями оказались эффективными в проведенной исследовательской работе и является эффективным средством для развития мелкой моторики рук детей  четвертого года жизн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 indent="284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то правда, ну чего же тут скрывать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любят, очень любят рисовать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умаге, на асфальте, на стен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трамвае на окне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Успенск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971280" y="1196640"/>
            <a:ext cx="8064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3553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работ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учения влияния  использования  нетрадиционной техники рисования на развитие мелкой моторики у детей  4-го года жизн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95400" indent="3553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95400" indent="3553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ать характеристику  нетрадиционным техникам рисовани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95400" indent="3553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обрать наиболее эффективные техники рисования   для развития мелкой моторики у детей  4-го года жизни и апробировать их на практик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95400" indent="3553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ставить рекомендации для работы с родителя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95400" indent="35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43920"/>
            <a:ext cx="7499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вед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042560" y="105228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90360" indent="337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детство рассматривается как самый важный период в жизни детей. Именно в этом возрасте каждый ребенок – это маленький исследователь, который с радостью и удивлением открывает для себя богатство окружающего мира. Чем разнообразнее детская деятельность, тем успешнее идет процесс разностороннего развития растущего человека, реализуются его потенциальные возможности, способности и первые проявления творчеств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90360" indent="337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дошкольных учреждениях довольно много детей с теми или иными нарушениями в развитии речи. Эти нарушения, а также недостаточная развитость мелкой моторики рук затрудняют подготовку ребенка к школьному обучени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90360" indent="337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90360" indent="337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891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адиционных техник рисова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й проблемой занимались зарубежные и отечественные психологи  и педагоги (М.М. Кольцова, В.В. Цвынтарный, Л.В. Фомина, Л.С. Выготский,  А.В. Запорожец, Ж. Пиаже,  Дж. Брунер  и другие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м влияния нетрадиционного рисования на всестороннее развитие детей занимались         И.А. Лыкова, Е.Г. Солдатова, А.В. Никитина,        Т.Л. Махова, С.В. Погодина, указывавшие в своих работах на гармоничное развитие и эмоциональный всплеск у детей при общении с этим "необычным и завораживающим чудом"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2560" y="1440"/>
            <a:ext cx="789156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лияние использования нетрадиционных техник рисования на развитие  дете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71640" y="1844640"/>
            <a:ext cx="78897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шается уровень развития мелкой моторики рук и тактильного восприят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уют развитию глазомера и зрительного восприятия, пространственной ориентировке на листе бумаги, внимания и усидчивости, наблюдатель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казывает психотерапевтическое воздействие                  (позволяют снять напряжение, отреагировать негативные эмоции в движениях, уравновесить эмоциональное состояние ребенка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ют толчок к развитию детского интеллекта, активизируют творческую активность детей, учат мыслить нестандартно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навыков контроля и самоконтрол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1" descr=""/>
          <p:cNvPicPr/>
          <p:nvPr/>
        </p:nvPicPr>
        <p:blipFill>
          <a:blip r:embed="rId1"/>
          <a:srcRect l="35039" t="19706" r="34644" b="8883"/>
          <a:stretch/>
        </p:blipFill>
        <p:spPr>
          <a:xfrm>
            <a:off x="3924360" y="142920"/>
            <a:ext cx="5219640" cy="6711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http://detsad78.ru/files/DSCN1731.jpg"/>
          <p:cNvPicPr/>
          <p:nvPr/>
        </p:nvPicPr>
        <p:blipFill>
          <a:blip r:embed="rId2"/>
          <a:stretch/>
        </p:blipFill>
        <p:spPr>
          <a:xfrm>
            <a:off x="1042920" y="3481560"/>
            <a:ext cx="3176640" cy="2382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3"/>
          <a:stretch/>
        </p:blipFill>
        <p:spPr>
          <a:xfrm>
            <a:off x="1042920" y="189000"/>
            <a:ext cx="317664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IMG_20170516_211548"/>
          <p:cNvPicPr/>
          <p:nvPr/>
        </p:nvPicPr>
        <p:blipFill>
          <a:blip r:embed="rId1"/>
          <a:stretch/>
        </p:blipFill>
        <p:spPr>
          <a:xfrm>
            <a:off x="6227640" y="1344600"/>
            <a:ext cx="2470320" cy="330192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1" descr=""/>
          <p:cNvPicPr/>
          <p:nvPr/>
        </p:nvPicPr>
        <p:blipFill>
          <a:blip r:embed="rId2"/>
          <a:srcRect l="4292" t="1287" r="6380" b="3374"/>
          <a:stretch/>
        </p:blipFill>
        <p:spPr>
          <a:xfrm>
            <a:off x="1817640" y="1341360"/>
            <a:ext cx="2424240" cy="3289320"/>
          </a:xfrm>
          <a:prstGeom prst="rect">
            <a:avLst/>
          </a:prstGeom>
          <a:ln w="0">
            <a:noFill/>
          </a:ln>
        </p:spPr>
      </p:pic>
      <p:sp>
        <p:nvSpPr>
          <p:cNvPr id="332" name="TextBox 2"/>
          <p:cNvSpPr/>
          <p:nvPr/>
        </p:nvSpPr>
        <p:spPr>
          <a:xfrm>
            <a:off x="1290600" y="4803840"/>
            <a:ext cx="74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ждик»                                                          «Мухомор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TextBox 8"/>
          <p:cNvSpPr/>
          <p:nvPr/>
        </p:nvSpPr>
        <p:spPr>
          <a:xfrm>
            <a:off x="2108160" y="982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пальцам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TextBox 14"/>
          <p:cNvSpPr/>
          <p:nvPr/>
        </p:nvSpPr>
        <p:spPr>
          <a:xfrm>
            <a:off x="1290600" y="53006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первое занятие было на тему «Мой любимый дождик». Мы показали детям как нужно правильно окунать палец в краску и рисовать дождик. Затем мы провели занятие «Мухомор - лекарство для животных»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ёжик"/>
          <p:cNvPicPr/>
          <p:nvPr/>
        </p:nvPicPr>
        <p:blipFill>
          <a:blip r:embed="rId1"/>
          <a:stretch/>
        </p:blipFill>
        <p:spPr>
          <a:xfrm>
            <a:off x="971640" y="1195560"/>
            <a:ext cx="1766880" cy="2355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20170310_095201"/>
          <p:cNvPicPr/>
          <p:nvPr/>
        </p:nvPicPr>
        <p:blipFill>
          <a:blip r:embed="rId2"/>
          <a:stretch/>
        </p:blipFill>
        <p:spPr>
          <a:xfrm>
            <a:off x="7373880" y="1216080"/>
            <a:ext cx="1592280" cy="21207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рыбки"/>
          <p:cNvPicPr/>
          <p:nvPr/>
        </p:nvPicPr>
        <p:blipFill>
          <a:blip r:embed="rId3"/>
          <a:stretch/>
        </p:blipFill>
        <p:spPr>
          <a:xfrm>
            <a:off x="3954600" y="1195560"/>
            <a:ext cx="2363760" cy="17794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10"/>
          <p:cNvSpPr/>
          <p:nvPr/>
        </p:nvSpPr>
        <p:spPr>
          <a:xfrm>
            <a:off x="496800" y="546120"/>
            <a:ext cx="55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с использованием круп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817560" y="4560840"/>
            <a:ext cx="48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Ёжик»                                  «Рыбки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TextBox 13"/>
          <p:cNvSpPr/>
          <p:nvPr/>
        </p:nvSpPr>
        <p:spPr>
          <a:xfrm>
            <a:off x="6946920" y="4809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ой штамп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TextBox 14"/>
          <p:cNvSpPr/>
          <p:nvPr/>
        </p:nvSpPr>
        <p:spPr>
          <a:xfrm>
            <a:off x="1293840" y="5407200"/>
            <a:ext cx="78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ндивидуальной работе нам удалось сделать работы с помощью круп (колючий ёжик, рыбки) и техники штампа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7T23:10:59Z</dcterms:created>
  <dc:creator>Беломестнова Татьяна</dc:creator>
  <dc:description/>
  <dc:language>en-US</dc:language>
  <cp:lastModifiedBy>АЛЕКСАНДР БЕЛОМЕСТНОВ</cp:lastModifiedBy>
  <dcterms:modified xsi:type="dcterms:W3CDTF">2020-01-04T21:02:42Z</dcterms:modified>
  <cp:revision>50</cp:revision>
  <dc:subject/>
  <dc:title>Комитет по образованию Государственное бюджетное профессиональное образовательное учреждение «Педагогический колледж № 4 Санкт-Петербурга»    Дипломная работа ИСПОЛЬЗОВАНИЕ НЕТРАДИЦИОННЫХ ТЕХНИК РИСОВАНИЯ КАК СРЕДСТВА РАЗВИТИЯ  МЕЛКОЙ МОТОРИКИ У ДЕТЕЙ ЧЕТВЕРТ</dc:title>
</cp:coreProperties>
</file>