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A15B-ACD1-405E-A733-1C88D142BEC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4A909-8670-417F-BF8B-F405FCBC993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Rectangle 3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11" name="Rectangle 13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14" name="Rectangle 16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" name="Group 18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17" name="Rectangle 19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735480" indent="-28296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113148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158400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0" descr="E:\9f7333afa737.gif"/>
          <p:cNvPicPr/>
          <p:nvPr/>
        </p:nvPicPr>
        <p:blipFill>
          <a:blip r:embed="rId1"/>
          <a:stretch/>
        </p:blipFill>
        <p:spPr>
          <a:xfrm>
            <a:off x="642960" y="3429000"/>
            <a:ext cx="2000160" cy="2709720"/>
          </a:xfrm>
          <a:prstGeom prst="rect">
            <a:avLst/>
          </a:prstGeom>
          <a:ln w="38160">
            <a:solidFill>
              <a:srgbClr val="00b050"/>
            </a:solidFill>
            <a:miter/>
          </a:ln>
        </p:spPr>
      </p:pic>
      <p:sp>
        <p:nvSpPr>
          <p:cNvPr id="65" name="Управляющая кнопка: далее 6">
            <a:hlinkClick r:id="" action="ppaction://hlinkshowjump?jump=nextslide"/>
          </p:cNvPr>
          <p:cNvSpPr/>
          <p:nvPr/>
        </p:nvSpPr>
        <p:spPr>
          <a:xfrm>
            <a:off x="8572680" y="6286680"/>
            <a:ext cx="571320" cy="571320"/>
          </a:xfrm>
          <a:custGeom>
            <a:avLst/>
            <a:gdLst>
              <a:gd name="textAreaLeft" fmla="*/ 36720 w 571320"/>
              <a:gd name="textAreaRight" fmla="*/ 534600 w 57132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8" descr="https://5sec.info/files/images/large/vasilij-tropinin-pushkin.jpg"/>
          <p:cNvPicPr/>
          <p:nvPr/>
        </p:nvPicPr>
        <p:blipFill>
          <a:blip r:embed="rId2"/>
          <a:stretch/>
        </p:blipFill>
        <p:spPr>
          <a:xfrm>
            <a:off x="539640" y="476280"/>
            <a:ext cx="2087640" cy="26654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1"/>
          <p:cNvSpPr/>
          <p:nvPr/>
        </p:nvSpPr>
        <p:spPr>
          <a:xfrm flipV="1" rot="10800000">
            <a:off x="2987640" y="789480"/>
            <a:ext cx="51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нылая пора! Очей очарованье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ятна мне твоя прощальная краса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лю я пышное природы увядань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багрец и в золото одетые лес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х сенях ветра шум и свежее дыхань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мглой волнистою покрыты небес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редкий солнца луч, и первые морозы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тдаленные седой зимы угроз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С. Пушк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Детективное агенство «Причастие»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1557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аспорт причастия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88" name="Рисунок 3" descr="https://urok.1sept.ru/%D1%81%D1%82%D0%B0%D1%82%D1%8C%D0%B8/630938/img1.gif"/>
          <p:cNvPicPr/>
          <p:nvPr/>
        </p:nvPicPr>
        <p:blipFill>
          <a:blip r:embed="rId1"/>
          <a:stretch/>
        </p:blipFill>
        <p:spPr>
          <a:xfrm>
            <a:off x="1835280" y="2060640"/>
            <a:ext cx="525780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по учебнику. Упр.152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436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222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1. Кусты (какие?) затихшие  - причастие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222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2. Н.Ф. – затихший, пост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действ., прош. вр., сов.в.;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ст. - полное, Вин.п., мн.ч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20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 Кусты (какие?) затихшие(определение)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2222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222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1. Поля (каковы?) убраны  - причастие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222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2. Н.Ф. – убранный, пост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страд., прош. вр., сов.в.;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ст. - краткое,  мн.ч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2222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3.Поля (каковы?)  убраны(сказуемое)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2"/>
          <p:cNvSpPr/>
          <p:nvPr/>
        </p:nvSpPr>
        <p:spPr>
          <a:xfrm>
            <a:off x="482760" y="1197000"/>
            <a:ext cx="81435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 время морфологического разбора обращаем внимание на значение, на вопрос, на нач. форму, на постоянные и непостоянные признаки, на синтаксическую роль в предложении. Причастие обозначает временный признак, связанный с действием предмета; могут быть действительными и страдательными; различаются по времени, виду, возвратности; изменяются по числам, падежам, в единственном числе – по родам. В предложении бывает определением, в краткой форме- сказуемы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частие, обладающее энергией глагола и живописной силой прилагательного, «дорисовывает», «живописует» действие, придавая тексту особую выразительнос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Прямоугольник 6"/>
          <p:cNvSpPr/>
          <p:nvPr/>
        </p:nvSpPr>
        <p:spPr>
          <a:xfrm>
            <a:off x="3215520" y="500040"/>
            <a:ext cx="336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делаем вывод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Управляющая кнопка: далее 8">
            <a:hlinkClick r:id="" action="ppaction://hlinkshowjump?jump=nextslide"/>
          </p:cNvPr>
          <p:cNvSpPr/>
          <p:nvPr/>
        </p:nvSpPr>
        <p:spPr>
          <a:xfrm>
            <a:off x="8572680" y="6286680"/>
            <a:ext cx="571320" cy="571320"/>
          </a:xfrm>
          <a:custGeom>
            <a:avLst/>
            <a:gdLst>
              <a:gd name="textAreaLeft" fmla="*/ 36720 w 571320"/>
              <a:gd name="textAreaRight" fmla="*/ 534600 w 57132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квейн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Monotype Corsiva"/>
              </a:rPr>
              <a:t>Причастие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Monotype Corsiva"/>
              </a:rPr>
              <a:t>Полное, краткое.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Monotype Corsiva"/>
              </a:rPr>
              <a:t>Изменяется, обозначает, отвечает.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Monotype Corsiva"/>
              </a:rPr>
              <a:t>Имеет признаки и прилагательного.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Monotype Corsiva"/>
              </a:rPr>
              <a:t>Форма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"/>
          <p:cNvSpPr/>
          <p:nvPr/>
        </p:nvSpPr>
        <p:spPr>
          <a:xfrm>
            <a:off x="500040" y="642960"/>
            <a:ext cx="814392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ведём итоги урока!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ончите предложени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Прямоугольник 2"/>
          <p:cNvSpPr/>
          <p:nvPr/>
        </p:nvSpPr>
        <p:spPr>
          <a:xfrm>
            <a:off x="928800" y="2133720"/>
            <a:ext cx="7286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егодня на уроке я повторил(а)  … 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егодня на уроке я узнал(а)  … 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вою работу на уроке я оцениваю на  … 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6" descr="E:\ucheniki_w450_h468.jpg"/>
          <p:cNvPicPr/>
          <p:nvPr/>
        </p:nvPicPr>
        <p:blipFill>
          <a:blip r:embed="rId1"/>
          <a:stretch/>
        </p:blipFill>
        <p:spPr>
          <a:xfrm>
            <a:off x="3378240" y="3716280"/>
            <a:ext cx="2387520" cy="2482920"/>
          </a:xfrm>
          <a:prstGeom prst="rect">
            <a:avLst/>
          </a:prstGeom>
          <a:ln w="0">
            <a:noFill/>
          </a:ln>
        </p:spPr>
      </p:pic>
      <p:sp>
        <p:nvSpPr>
          <p:cNvPr id="99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572680" y="6286680"/>
            <a:ext cx="571320" cy="571320"/>
          </a:xfrm>
          <a:custGeom>
            <a:avLst/>
            <a:gdLst>
              <a:gd name="textAreaLeft" fmla="*/ 36720 w 571320"/>
              <a:gd name="textAreaRight" fmla="*/ 534600 w 57132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125000"/>
            <a:ext cx="7772400" cy="15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2060"/>
                </a:solidFill>
                <a:latin typeface="Arial Narrow"/>
              </a:rPr>
              <a:t>Домашнее задание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2781000"/>
            <a:ext cx="6400800" cy="285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Monotype Corsiva"/>
              </a:rPr>
              <a:t>Выучить порядок морфологического разбора.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Упр. 152: письменный разбор причастий.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"/>
          <p:cNvSpPr/>
          <p:nvPr/>
        </p:nvSpPr>
        <p:spPr>
          <a:xfrm>
            <a:off x="977760" y="1010520"/>
            <a:ext cx="7143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Monotype Corsiva"/>
              </a:rPr>
              <a:t>Спасибо за работу на уроке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572680" y="6286680"/>
            <a:ext cx="571320" cy="571320"/>
          </a:xfrm>
          <a:custGeom>
            <a:avLst/>
            <a:gdLst>
              <a:gd name="textAreaLeft" fmla="*/ 36720 w 571320"/>
              <a:gd name="textAreaRight" fmla="*/ 534600 w 57132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3059280" y="2997360"/>
            <a:ext cx="3290760" cy="312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4920" y="836280"/>
            <a:ext cx="8286840" cy="185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ма «Морфологический разбор причастия»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9400" y="5686200"/>
            <a:ext cx="8165880" cy="59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0" name="Picture 7" descr="j0312180"/>
          <p:cNvPicPr/>
          <p:nvPr/>
        </p:nvPicPr>
        <p:blipFill>
          <a:blip r:embed="rId1"/>
          <a:stretch/>
        </p:blipFill>
        <p:spPr>
          <a:xfrm flipH="1">
            <a:off x="3016080" y="2708280"/>
            <a:ext cx="3168720" cy="2676600"/>
          </a:xfrm>
          <a:prstGeom prst="rect">
            <a:avLst/>
          </a:prstGeom>
          <a:ln w="0">
            <a:noFill/>
          </a:ln>
        </p:spPr>
      </p:pic>
      <p:sp>
        <p:nvSpPr>
          <p:cNvPr id="71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572680" y="6286680"/>
            <a:ext cx="571320" cy="571320"/>
          </a:xfrm>
          <a:custGeom>
            <a:avLst/>
            <a:gdLst>
              <a:gd name="textAreaLeft" fmla="*/ 36720 w 571320"/>
              <a:gd name="textAreaRight" fmla="*/ 534600 w 57132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 урока: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1916280"/>
            <a:ext cx="6400800" cy="372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8580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условия для изучения новой темы;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68580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торить морфологические признаки причастия;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68580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ся с порядком морфологического разбора;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68580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учиться выполнять морфологический разбор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русная атака.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… действительные причастия прошедшего времени образуются с помощью суффиксов -ущ-/-ющ- и -ащ-/-ящ-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… причастия не имеют формы будущего времени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… краткие причастия в предложении являются определением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… причастие совмещает в себе признаки глагола и прилагательного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… причастия делятся на действительные и страдательные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… причастие вместе с зависимыми словами образует причастный оборот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… причастия согласуются с существительными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… причастный оборот обособляется, когда стоит перед определяемым словом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Причастие не имеет  синонимов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Отглагольные прилагательные образуются от глаголов совершенного вида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Причастия образуются от глаголов несовершенного вида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тективное агенство «Причастие»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Опознание»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85800" indent="-34272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Петя Васечкин сидел с отсутствующим видом.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685800" indent="-34272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Отсутствующих  учитель отметил в журнале.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685800" indent="-34272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Дежурный назвал ребят, отсутствующих в классе.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тективное агенство «Причастие»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верь себя</a:t>
            </a:r>
            <a:r>
              <a:rPr b="0" lang="ru-RU" sz="4000" spc="-1" strike="noStrike">
                <a:solidFill>
                  <a:srgbClr val="ff0000"/>
                </a:solidFill>
                <a:latin typeface="Arial Narrow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1844280"/>
            <a:ext cx="7772400" cy="425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Петя Васечкин сидел с отсутствующим (каким ?)видом.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  безучастным видом, с  задумчивым видом)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Отсутствующих(кого?)  учитель отметил в журнале.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Дежурный назвал ребят(каких?), отсутствующих в классе.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Детективное агенство «Причастие»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енний лес.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ив и печален русский лес в ранние осенние дни. На золотом фоне пожелтевшей листвы выделяются яркие пятна клёнов и осин  раскрашенных осенью. Шелестит под ногами листва  опавшая с деревьев. Кое-где виднеется шляпка позднего подосиновика. Тонко просвистит рябчик прокричат в небе пролетающие косяком  журавли. 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Детективное агенство «Причастие»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ь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наки глагол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и        прилагательного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ющийся инструмент      В строящемся доме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ымившуюся палк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шующим морем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чущие всадник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зеленевшие деревья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ушенный до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ющему правду другу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хо слыш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затоптанном ковре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еблемый ветерко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хранящихс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нигах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Детективное агенство «Причастие»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наки  глагол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вид, время, возвратность (постоянный признак)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наки прилагательног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падеж, число, род.(непостоянный признак)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08:01:56Z</dcterms:created>
  <dc:creator>Стефанова Л. М.</dc:creator>
  <dc:description/>
  <dc:language>en-US</dc:language>
  <cp:lastModifiedBy>Windows</cp:lastModifiedBy>
  <dcterms:modified xsi:type="dcterms:W3CDTF">2020-01-05T16:54:34Z</dcterms:modified>
  <cp:revision>184</cp:revision>
  <dc:subject/>
  <dc:title>Презентация к уроку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60b0000000000010250300207f7000400038000</vt:lpwstr>
  </property>
</Properties>
</file>