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1E58-7593-4113-8A3D-1D35C6D5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B8F0-BBFA-400E-97BE-9A43AC0B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624C-F07D-4D3E-B907-784EB9BB1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C03A-3C2A-4929-97E9-B0067817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C895-FB58-4F4B-B917-9E66A89B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AB1A-0A75-437F-973A-E8C1E319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9A8A-4725-420E-A08A-89CE30AF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6F39-4331-4FB7-8173-723F0D0E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C8B5-BFD5-475B-93F5-A6E89D01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E802-1609-470C-99EF-0076EF6E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D684-EBE4-49D6-ACA9-3C720E8E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969F-FFCC-4907-A315-BA25B662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F334-CDAB-4BEE-9142-A089870B37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3573360"/>
            <a:ext cx="6048360" cy="1727280"/>
          </a:xfrm>
          <a:prstGeom prst="rect">
            <a:avLst/>
          </a:prstGeom>
          <a:solidFill>
            <a:srgbClr val="77933c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имвол год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5373360"/>
            <a:ext cx="5976720" cy="1079640"/>
          </a:xfrm>
          <a:prstGeom prst="rect">
            <a:avLst/>
          </a:prstGeom>
          <a:solidFill>
            <a:srgbClr val="77933c"/>
          </a:solidFill>
          <a:ln w="93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: воспитатель первой квалификационной категории Должникова Е.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ктябрьский детский сад №8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ы педагога и родител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Анастасия\Desktop\нов год 2019\DSCN1725.JPG"/>
          <p:cNvPicPr/>
          <p:nvPr/>
        </p:nvPicPr>
        <p:blipFill>
          <a:blip r:embed="rId1"/>
          <a:stretch/>
        </p:blipFill>
        <p:spPr>
          <a:xfrm>
            <a:off x="1332000" y="1773360"/>
            <a:ext cx="1224000" cy="1631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Users\Анастасия\Desktop\нов год 2019\DSCN1727.JPG"/>
          <p:cNvPicPr/>
          <p:nvPr/>
        </p:nvPicPr>
        <p:blipFill>
          <a:blip r:embed="rId2"/>
          <a:stretch/>
        </p:blipFill>
        <p:spPr>
          <a:xfrm>
            <a:off x="1403280" y="3933720"/>
            <a:ext cx="1081080" cy="1440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Users\Анастасия\Desktop\нов год 2019\DSCN1736.JPG"/>
          <p:cNvPicPr/>
          <p:nvPr/>
        </p:nvPicPr>
        <p:blipFill>
          <a:blip r:embed="rId3"/>
          <a:stretch/>
        </p:blipFill>
        <p:spPr>
          <a:xfrm>
            <a:off x="6875640" y="1628640"/>
            <a:ext cx="1027080" cy="1368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C:\Users\Анастасия\Desktop\нов год 2019\DSCN1726.JPG"/>
          <p:cNvPicPr/>
          <p:nvPr/>
        </p:nvPicPr>
        <p:blipFill>
          <a:blip r:embed="rId4"/>
          <a:stretch/>
        </p:blipFill>
        <p:spPr>
          <a:xfrm>
            <a:off x="6804000" y="4221000"/>
            <a:ext cx="1081080" cy="1440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:\Users\Анастасия\Desktop\не ммотрелаа\DSCN1712.JPG"/>
          <p:cNvPicPr/>
          <p:nvPr/>
        </p:nvPicPr>
        <p:blipFill>
          <a:blip r:embed="rId5"/>
          <a:stretch/>
        </p:blipFill>
        <p:spPr>
          <a:xfrm>
            <a:off x="3419640" y="1484280"/>
            <a:ext cx="2447640" cy="3125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C:\Users\Анастасия\Desktop\нов год 2019\DSCN1734.JPG"/>
          <p:cNvPicPr/>
          <p:nvPr/>
        </p:nvPicPr>
        <p:blipFill>
          <a:blip r:embed="rId6"/>
          <a:stretch/>
        </p:blipFill>
        <p:spPr>
          <a:xfrm>
            <a:off x="3851280" y="4941720"/>
            <a:ext cx="1873080" cy="14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-выставка «Щелкунчик и мышиный король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Users\Анастасия\Desktop\не ммотрелаа\DSCN1715.JPG"/>
          <p:cNvPicPr/>
          <p:nvPr/>
        </p:nvPicPr>
        <p:blipFill>
          <a:blip r:embed="rId1"/>
          <a:stretch/>
        </p:blipFill>
        <p:spPr>
          <a:xfrm>
            <a:off x="1476360" y="1557360"/>
            <a:ext cx="6191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77933c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реализации проекта дети были увлечены различными видами деятельности по тем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мая работа объединяла детей, создавала праздничную предновогоднюю атмосферу в коллектив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ные знания дети использовали в игровой деятельности, делились полученными знаниями с родителями и друзья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удовольствием вспоминают о новогодних праздниках, рассматривают  свои игрушки, и фотографии, поют новогодние песни, узнают мелоди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пришли к выводу, что проведенные в процессе реализации проекта мероприятия объединяют детей впечатлениями, переживаниями, наполняют новыми знаниями и умениями. А также то, что в реализации проекта приняли участие родители, они были очень заинтересованы в результате всеобщего труда, и по окончании проекта все были очень рады увидеть полученный результат на выстав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solidFill>
            <a:srgbClr val="77933c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нотация к проекту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ориентирован на детей старшего  дошкольного возраста и направлен на совместное сотрудничество детей, их родителей, педагогов дошкольного учрежд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новогодних праздников – это время волшебства и таинственных превращений, время красивой, доброй сказки, которая приходит в каждый дом. Все ждут с нетерпением встречи нового год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изготовления игрушек для нового года  объединял, сплачивал всю семью, каждый старался сделать, что то, особенное, неповторимое для украшения своей ёлки или  дом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екте дети знакомятся с традициями русского народа празднования нового года, с   технологией изготовления игрушки символом нового год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 с  классическими произведениями музыки и литературы расширяют кругозор детей дошкольников. Слушание музыкальных произведений способствует развитию внимания, музыкального  слуха, эмоциональной сферы детей. В процессе  просмотра и чтения художественных произведений, мы знакомим детей с творчеством известных авторов, закрепляем знаний о жанрах художественных произведе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матик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информационный, творческ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оставу участн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групповой, дети старшей группы в количестве17 челове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рокам реализ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краткосрочный (две недел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ти старшей группы, родители, педагог группы, музыкальный руководитель;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формирования представлений о Новом годе, как веселом и добром празднике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ознавательных и творческих способностей детей в процессе реализации творческого проекта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эффективности детско-родительских отношен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77933c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деть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ширить представления детей о праздновании Нового год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знакомить детей  с историей новогодней елки, символом года  - крысы, с произведениями художественной  классики и художественной литературы  (сказка «Щелкунчик», балет  «Щелкунчик», мультфильм «Щелкунчик и мышиный король»)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 детей навыки партнерской деятельности и сотрудничества, умение взаимодействовать друг с другом, умение презентовать свой труд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ть достижения детей, воспитывать чувство гордости за результаты собственного и  совместного  тру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с родител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ить доверительные и партнерские отношения с родителями и объединить усилия для развития и воспитания де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ь взрослых к совместной деятельности с детьми.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мые итоги реализации проект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еть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ширятся представления детей о традициях, символах Нового год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формируются  творческие способности детей при подготовке к празднику через изготовление подело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родител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уются творческие, партнерские отношения ребенок-родител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 проектной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-выставка «Символ нового года»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Щелкунчик и мышиный король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проект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этап. Подготовительны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паспорта проек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материала по произведению  «Щелкунчик»  художественной литературы для чтения, музыкальных произведений, сюжетных картинок и иллюстраци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методическим материалом, литературой по данной теме, разработка конспектов в разделе «Художественный труд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этап. Выполнение проек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 «Что такое праздник?», «К нам приходит Новый год!», «Символ года», «Как мы проводим новогодние вечера дома?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художественной литературы детям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картин, рисование рисунков, слушание отрывков из музыкального произведения «Щелкунчик» Проведение с детьми Н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п. Результа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создании мини-выставки «Символ нового года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Щелкунчик и мышиный король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й проект «Символ года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Щелкунчик и мышиный король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C:\Users\Анастасия\Desktop\не ммотрелаа\DSCN1710.JPG"/>
          <p:cNvPicPr/>
          <p:nvPr/>
        </p:nvPicPr>
        <p:blipFill>
          <a:blip r:embed="rId1"/>
          <a:stretch/>
        </p:blipFill>
        <p:spPr>
          <a:xfrm>
            <a:off x="6588000" y="3860640"/>
            <a:ext cx="1368720" cy="1824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Users\Анастасия\Desktop\не ммотрелаа\DSCN1717.JPG"/>
          <p:cNvPicPr/>
          <p:nvPr/>
        </p:nvPicPr>
        <p:blipFill>
          <a:blip r:embed="rId2"/>
          <a:stretch/>
        </p:blipFill>
        <p:spPr>
          <a:xfrm>
            <a:off x="3564000" y="2924280"/>
            <a:ext cx="1295280" cy="1728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C:\Users\Анастасия\Desktop\не ммотрелаа\DSCN1709.JPG"/>
          <p:cNvPicPr/>
          <p:nvPr/>
        </p:nvPicPr>
        <p:blipFill>
          <a:blip r:embed="rId3"/>
          <a:stretch/>
        </p:blipFill>
        <p:spPr>
          <a:xfrm>
            <a:off x="1403280" y="2060640"/>
            <a:ext cx="12240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ы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Анастасия\Desktop\не ммотрелаа\DSCN1716.JPG"/>
          <p:cNvPicPr/>
          <p:nvPr/>
        </p:nvPicPr>
        <p:blipFill>
          <a:blip r:embed="rId1"/>
          <a:stretch/>
        </p:blipFill>
        <p:spPr>
          <a:xfrm>
            <a:off x="900000" y="1989000"/>
            <a:ext cx="1944720" cy="1457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Анастасия\Desktop\не ммотрелаа\DSCN1720.JPG"/>
          <p:cNvPicPr/>
          <p:nvPr/>
        </p:nvPicPr>
        <p:blipFill>
          <a:blip r:embed="rId2"/>
          <a:stretch/>
        </p:blipFill>
        <p:spPr>
          <a:xfrm>
            <a:off x="6084720" y="1989000"/>
            <a:ext cx="1825920" cy="1368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Анастасия\Desktop\не ммотрелаа\DSCN1722.JPG"/>
          <p:cNvPicPr/>
          <p:nvPr/>
        </p:nvPicPr>
        <p:blipFill>
          <a:blip r:embed="rId3"/>
          <a:stretch/>
        </p:blipFill>
        <p:spPr>
          <a:xfrm>
            <a:off x="6372360" y="4149720"/>
            <a:ext cx="1968480" cy="147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Users\Анастасия\Desktop\не ммотрелаа\DSCN1711.JPG"/>
          <p:cNvPicPr/>
          <p:nvPr/>
        </p:nvPicPr>
        <p:blipFill>
          <a:blip r:embed="rId4"/>
          <a:stretch/>
        </p:blipFill>
        <p:spPr>
          <a:xfrm>
            <a:off x="1116000" y="4149720"/>
            <a:ext cx="1944720" cy="1457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C:\Users\Анастасия\Desktop\нов год 2019\DSCN1735.JPG"/>
          <p:cNvPicPr/>
          <p:nvPr/>
        </p:nvPicPr>
        <p:blipFill>
          <a:blip r:embed="rId5"/>
          <a:stretch/>
        </p:blipFill>
        <p:spPr>
          <a:xfrm>
            <a:off x="3635280" y="2852640"/>
            <a:ext cx="193536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9T12:33:17Z</dcterms:created>
  <dc:creator>Анастасия</dc:creator>
  <dc:description/>
  <dc:language>en-US</dc:language>
  <cp:lastModifiedBy>Анастасия</cp:lastModifiedBy>
  <dcterms:modified xsi:type="dcterms:W3CDTF">2020-01-05T14:19:38Z</dcterms:modified>
  <cp:revision>25</cp:revision>
  <dc:subject/>
  <dc:title>Проект «Символ года»</dc:title>
</cp:coreProperties>
</file>