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D20-ED0E-4FC9-810B-1E49692C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576-28FC-4A78-AA4E-8F3BBAB8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FD8-7E1E-4789-A409-E2020C25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C69-47F1-4FD8-B4BD-00E9B0C2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0C4-AF7D-4873-9CC9-CD880669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170-9BA7-4CA9-A360-B7E67A74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75B-B189-4447-B9EA-CAEF5206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854-C87B-4872-8FE3-AB5F98CB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21F-B722-41BE-8D25-5107B7C1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C11-EEAD-4265-9F19-51FC2855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FDA-CFFA-41E2-9B8B-90644090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76F-F07D-4649-B137-98836E2E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54B4-516C-4AA8-9603-E6ACB4643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Зимняя сказ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 воспитатель первой квалификационной категории Должникова Е.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ктябрьский детский сад №8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ое план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484280"/>
          <a:ext cx="9144000" cy="5126040"/>
        </p:xfrm>
        <a:graphic>
          <a:graphicData uri="http://schemas.openxmlformats.org/drawingml/2006/table">
            <a:tbl>
              <a:tblPr/>
              <a:tblGrid>
                <a:gridCol w="324000"/>
                <a:gridCol w="4679640"/>
                <a:gridCol w="414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 взаимодействия. Те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 .«Зимующие птицы», «Обитатели Южного Урала», «Природа Зимой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убить, закрепить, упорядочить знания детей о зиме, как времени года, о  животных и растени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ый труд. «Береза», «Ел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ть умение создавать зимние деревья по образц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Кто что делает зимой»,«Чьи следы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йди такую же снежинку», «Что изменилось в природе?» (заметить, что изменилось в природе), «Угадай, на что похожи?» (узоры на окнах), «Сравни деревья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ить представления об особенностях зимы как времени года. Закрепить знания об  основных изменениях, происходящих в неживой и живой природ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.«Почему мне нравится зима»,«Как звери в лесу зимуют», «Почему  идет  снег?», «Помоги животным»,«Красота зимнего леса», «Зимний пейзаж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 элементарные представления о времени года - зима, о живых и неживых объектах прир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000" y="1341000"/>
            <a:ext cx="8351640" cy="531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роекта дети  узнали много нового и интересного о зиме, обитателях леса и природ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лись технологией изготовления зимних деревьев. Научились  изготавливать их самостоятельн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проект позволил расширить знания детей в области  познания и расширил представления о  Зиме и обитателях леса, (живых и неживых объектах природы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сблизил  детей в преддверии праздника, помог в организации  и оформлении выстав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ый проект считаем удачным, интересным и познавательны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«Зимняя сказ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Анастасия\Desktop\не ммотрелаа\DSCN1708.JPG"/>
          <p:cNvPicPr/>
          <p:nvPr/>
        </p:nvPicPr>
        <p:blipFill>
          <a:blip r:embed="rId1"/>
          <a:stretch/>
        </p:blipFill>
        <p:spPr>
          <a:xfrm>
            <a:off x="1042920" y="1555920"/>
            <a:ext cx="684216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Волшебная Сказка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пушистый на ветках полёг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нежинок весёлая маск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ет домашний чертог..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ойдя в белоснежные двери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в волненье примолкнут сердца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есные доверчиво звери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ткроют на зиму глаза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 – творческий, исследовательский, игровой, информационно-познавательный, групповой, краткосроч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 – дети старшей группы, педаго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блем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за днём снегопады: хлопья снега быстро летят из низких тёмных туч, заволакивают всё вокруг белой пеленой. Снег укрывает всю землю белым покрывалом, лежит на ветвях деревьев и кустарник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 становится серебристым, праздничным, прекрасным и неповторимым. А чтобы научить детей видеть красоту окружающего мира и совершенствовать технические стороны изобразительной деятельности, мы подготовили  проект «Зимняя сказка». Научить детей раскрывать свои эстетические, творческие способности, конкретизировать представление детей о зиме, как о времени года его неповторимости и красоте поможет наш проек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своими руками и украсить  интерьер группы  в совместной деятельности детей с взрослыми, для  благоприятной художественно-эстетической обстановки, отображения реальной действительности времени года «Зима», и праздничного новогоднего настро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ить оптимальные условия для развития позитивных качеств личности каждого ребенка  в творческой, поисковой деятельности дет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с явлениями неживой природы (морозы,  идет снег, метут метели),  с объектами живой природы (березы, ели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ять и расширять об образе жизни диких животных зимой (заяц, лиса, волк, медведь и белк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художественно-эстетические способности, умения и навыки продуктив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взаимодействию детей друг с другом в творческой, поисковой деятельности при  заключительном оформлении готового  пейзаж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детей дошкольного возраста в духе взаимодействия при создании детской творческой, совместной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ть положительнее эмоции, чувства восхищения  неповторимостью красотой прир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й результа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могу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ть зависимость жизни растений и животных от изменений в прир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но правильно относиться к растениям и живот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с помощью художественно-эстетических средств изготовить деревья для украшения  интерь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этап. (Формулировка проблем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очный этап. (Планирование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. (Работа над проект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 этап. (Презентационный. Оформление выставки «Зимняя сказка»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ая деятельность детей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4T13:01:37Z</dcterms:created>
  <dc:creator>Анастасия</dc:creator>
  <dc:description/>
  <dc:language>en-US</dc:language>
  <cp:lastModifiedBy>Анастасия</cp:lastModifiedBy>
  <dcterms:modified xsi:type="dcterms:W3CDTF">2020-01-05T14:11:31Z</dcterms:modified>
  <cp:revision>19</cp:revision>
  <dc:subject/>
  <dc:title>Прект «Зимняя сказка»</dc:title>
</cp:coreProperties>
</file>