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  <p:sldId id="281" r:id="rId61"/>
    <p:sldId id="282" r:id="rId62"/>
    <p:sldId id="283" r:id="rId63"/>
    <p:sldId id="284" r:id="rId64"/>
    <p:sldId id="285" r:id="rId65"/>
    <p:sldId id="286" r:id="rId66"/>
    <p:sldId id="287" r:id="rId67"/>
    <p:sldId id="288" r:id="rId68"/>
    <p:sldId id="289" r:id="rId69"/>
    <p:sldId id="290" r:id="rId70"/>
    <p:sldId id="291" r:id="rId71"/>
    <p:sldId id="292" r:id="rId72"/>
    <p:sldId id="293" r:id="rId73"/>
    <p:sldId id="294" r:id="rId74"/>
    <p:sldId id="295" r:id="rId75"/>
    <p:sldId id="296" r:id="rId76"/>
    <p:sldId id="297" r:id="rId77"/>
    <p:sldId id="298" r:id="rId78"/>
    <p:sldId id="299" r:id="rId79"/>
    <p:sldId id="300" r:id="rId80"/>
    <p:sldId id="301" r:id="rId81"/>
    <p:sldId id="302" r:id="rId82"/>
    <p:sldId id="303" r:id="rId83"/>
    <p:sldId id="304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slide" Target="slides/slide26.xml"/><Relationship Id="rId62" Type="http://schemas.openxmlformats.org/officeDocument/2006/relationships/slide" Target="slides/slide27.xml"/><Relationship Id="rId63" Type="http://schemas.openxmlformats.org/officeDocument/2006/relationships/slide" Target="slides/slide28.xml"/><Relationship Id="rId64" Type="http://schemas.openxmlformats.org/officeDocument/2006/relationships/slide" Target="slides/slide29.xml"/><Relationship Id="rId65" Type="http://schemas.openxmlformats.org/officeDocument/2006/relationships/slide" Target="slides/slide30.xml"/><Relationship Id="rId66" Type="http://schemas.openxmlformats.org/officeDocument/2006/relationships/slide" Target="slides/slide31.xml"/><Relationship Id="rId67" Type="http://schemas.openxmlformats.org/officeDocument/2006/relationships/slide" Target="slides/slide32.xml"/><Relationship Id="rId68" Type="http://schemas.openxmlformats.org/officeDocument/2006/relationships/slide" Target="slides/slide33.xml"/><Relationship Id="rId69" Type="http://schemas.openxmlformats.org/officeDocument/2006/relationships/slide" Target="slides/slide34.xml"/><Relationship Id="rId70" Type="http://schemas.openxmlformats.org/officeDocument/2006/relationships/slide" Target="slides/slide35.xml"/><Relationship Id="rId71" Type="http://schemas.openxmlformats.org/officeDocument/2006/relationships/slide" Target="slides/slide36.xml"/><Relationship Id="rId72" Type="http://schemas.openxmlformats.org/officeDocument/2006/relationships/slide" Target="slides/slide37.xml"/><Relationship Id="rId73" Type="http://schemas.openxmlformats.org/officeDocument/2006/relationships/slide" Target="slides/slide38.xml"/><Relationship Id="rId74" Type="http://schemas.openxmlformats.org/officeDocument/2006/relationships/slide" Target="slides/slide39.xml"/><Relationship Id="rId75" Type="http://schemas.openxmlformats.org/officeDocument/2006/relationships/slide" Target="slides/slide40.xml"/><Relationship Id="rId76" Type="http://schemas.openxmlformats.org/officeDocument/2006/relationships/slide" Target="slides/slide41.xml"/><Relationship Id="rId77" Type="http://schemas.openxmlformats.org/officeDocument/2006/relationships/slide" Target="slides/slide42.xml"/><Relationship Id="rId78" Type="http://schemas.openxmlformats.org/officeDocument/2006/relationships/slide" Target="slides/slide43.xml"/><Relationship Id="rId79" Type="http://schemas.openxmlformats.org/officeDocument/2006/relationships/slide" Target="slides/slide44.xml"/><Relationship Id="rId80" Type="http://schemas.openxmlformats.org/officeDocument/2006/relationships/slide" Target="slides/slide45.xml"/><Relationship Id="rId81" Type="http://schemas.openxmlformats.org/officeDocument/2006/relationships/slide" Target="slides/slide46.xml"/><Relationship Id="rId82" Type="http://schemas.openxmlformats.org/officeDocument/2006/relationships/slide" Target="slides/slide47.xml"/><Relationship Id="rId83" Type="http://schemas.openxmlformats.org/officeDocument/2006/relationships/slide" Target="slides/slide48.xml"/><Relationship Id="rId84" Type="http://schemas.openxmlformats.org/officeDocument/2006/relationships/slide" Target="slides/slide49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C5C-0474-42F6-9A29-A68CAB63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339-AC46-4764-AF96-70D19F78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D8E17-8184-47A4-BD61-0AD0BDEF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4B00B-E2E9-42FC-948C-2FDD5A1E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39324-80B3-41A7-A8D1-41D0CDC9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D3DFF-8580-42B7-BE23-B7E5DC6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50B48-80B4-414D-9C3C-04627DDA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62126-7D6F-4124-B53E-E523998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B031A-1906-4F70-9038-3141383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329ED-099A-44D4-A0C8-21C4E9AF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9F4AF-AA9E-4E10-8F05-BE1F24E9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16E93-DCD8-4748-9EF4-672EFD49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D16-41A1-4A66-A7F8-D606C449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D4091-EC59-4AF6-8696-27325639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4D326-16F6-4371-8099-DC7642A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38306-05D5-453D-9F25-00B732E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1A32F-3B1B-4DFE-8FA2-0D74485C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9B249-5BFD-422F-8A6C-8D88B8BC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17BDA-C16A-4790-9896-DF66F1C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C6B57-BB67-4D89-B33E-0FDA9CB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94B55-718E-4BF2-AA11-0C201844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84701-E672-4ADA-909C-8137D98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84F1E-4972-4BC0-96EE-FC9F70C4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1A4-ABCD-41B8-B74D-F3BEE4A8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660CC-F70E-432D-AE85-134507B6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72765-66D1-497D-A36B-F9AB1326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9ACAC-EBAD-4071-8C50-91633FBE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DDF7F-1528-49B4-B9EE-065EA11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1BDC4-5E53-4C39-A5F4-D65BDC7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A2D31-C20B-4A31-ADA2-2798BD31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F9F1F-C6AE-4F25-B201-5E41B9F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A6FB5-6043-44F3-A258-E8CD8B4D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DAC3-05C9-4485-AAD6-0E48FDA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AE5D-F418-42FE-B522-A96C4B7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9221-F17C-46C2-AB6A-17980700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6A2D2-4EE5-4EB7-839D-EE1ED1D4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BB9F2-6A0B-4253-A6E3-351BDF10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4669C-5515-4A95-A25F-29D0ED5C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B410-B3B8-453E-8D44-ED265C26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4A0E6-07F6-4C69-B46F-D4BACDF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7A14A-82F2-4F3C-A15A-C6E9E68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A768F-308A-4E37-8760-7FC0E47E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47C84-C2CA-4B11-B7FD-A146B339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1434F-BD61-4EF0-BF35-D42C9159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637CC-9E87-46D2-B9A1-5CF1F32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5AD-6951-4DFD-9EB9-DC345ED0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600BE-AD78-4D39-8CBD-9BB0A0C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1F301-A06D-492B-9164-19E83C1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0FE4C-622F-4C24-BB5B-5CFC8F30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648C1-3295-47EA-82B4-EBF2AC7F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9B90E-95C6-49AA-B59C-BE438934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B4C0C-6E38-419B-B83C-3F56F0E2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59814-FC81-444E-BD24-0CA45EF3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6D7BC-66CD-44FD-8311-23CF878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9A2CF-D5C8-4667-950D-F30555C4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AF2CC-EA54-4426-991F-ECE30B21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ABC4-E38D-4AA7-B721-794B7CB1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F7937-DD20-44EC-B3D0-B3B670D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07EF5-E8BE-4779-A77A-B02BF79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DC4CF-764A-4949-9495-0B75B52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20B3F-3B7D-4DB3-82F7-431B952E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012EA-4D00-4CB8-916A-20845DA5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E66C4-4548-45B9-8638-6D4A8B2B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F2179-C43D-4BD2-B3B8-4EC33E40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23C3A-FEAF-4511-B202-B5BA87D4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FCC54-9C98-4C3F-A7AB-C7FDC54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63B6E-2DA6-428F-A3F0-223FCA50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C5EB-1726-4CF1-824C-286A73FE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F60EE-DAA0-41DB-9BC6-9DA53E4C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CCDCC-D8B4-46F0-A4A1-96E5423A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34A78-63FF-492B-99A0-61670FC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70A4C-36E6-4F60-8E18-2D1B1F4F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DF742-BC98-416A-AD2B-5C49C1ED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42F89-4956-486F-A66B-932ED90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02B01-05FB-4F68-85F3-6BE6EEBB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C365A-B2B3-4438-914A-2AA00043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E1200-E255-4A44-8857-223CF783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87293-7279-456B-AB4C-07479A74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79A3-1799-4915-A104-C1C85FC3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B67B9-F665-40AD-A74E-FBEBAB9C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99C26-1DBA-41B4-B152-8CB719A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469AC-D1CC-4BF3-ACB3-4596D4EA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D08F7-2AF0-4597-8E73-1BD45C60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C0282-AF24-4C91-8A53-41D66FB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1B695-11C6-4ABD-8A8F-C1B685B6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DC380-A817-4B7C-B0DB-91B626F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028DD-E6D1-422B-B30A-60A65C9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2ABD5-BA45-4634-BC17-C07C3B6E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91799-E925-42F1-84E8-6E87885B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6AEA-FF78-4D6D-B485-79DFAF3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FE97B-EEB9-444E-8E30-44139476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E6712-FAC4-4CE5-A689-26EF7D3B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380DD-86C3-45E9-A23B-0EA7D271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9E764-2698-4E87-B0A3-509252C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ADD51-8233-48F1-B23E-DB3B08A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D3501-0C61-4A80-8E31-DF21015C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B05EB-0482-41D6-BB44-2F1EBE4D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48D91-2737-42F8-B08F-83AB02C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5F502-DEA0-47CA-8D1E-37E3ADA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A3C96-9563-402A-A689-6064B02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05C3-0D0C-4ADB-9389-EC091AD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DA191-35F6-4AA2-B2B4-5975005F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DFE7E-7CC8-48D5-98AD-6B801983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18367D-3E9A-4D9F-80EF-34E44E14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2A7FE-B927-4B4E-A91C-2D29E0F0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9F20B-4DF6-4F96-9CD7-3B29BF1B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BE8BE-4E3F-43E0-8F2B-7B852C0E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0B484-AC78-4ACF-ABD5-65D11BBB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4D72C-1FA0-4819-AE72-7272BF3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D08D8-0734-4DCD-8916-5F5247E7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01419-1234-4E5A-B69C-91A0946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2ED-A0EF-4392-9D90-210E0586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1E2-12B0-498F-95F8-CB2C98C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CE17D-5789-490E-9ED8-7DBEFFA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1B5FF-FE7D-4E44-AB75-4446B67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7896C-9944-4DA4-B803-BAD10A2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375B9-0A3C-4A5D-85EB-00335121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2CAB1-D976-4F50-860D-3E787197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42E0C-DE1F-42DB-94A5-934B0AC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A8D75-67BA-4ACE-86C1-9ECB185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31F94-F851-48AB-982D-8AFCF21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CCA96-F6EE-4F4E-9253-AF011CB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223D8-46F0-4644-B40E-848891F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5E1A-89CD-4B1F-BAC5-EA2BBD33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7B0C5-FB55-41A4-8620-7B56317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036BE-D3F0-430F-AB8F-7F580302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6164E-930E-4984-BB95-E442D80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2113C-6D86-4436-8547-1A04482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52D13-B14C-478D-B46D-1A5F5F89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CC746-5F79-4D48-977C-AE454247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7142B-74E0-465A-8CBE-C878B694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A1FF44-F2B1-47E8-AB61-230D5C3D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E361E-CE22-4F95-987C-BA81142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59B08-EA6D-4332-9D5B-BE83F1D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B101-3F8E-49C2-8489-87E77658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58A29-C4A8-4B71-8C8D-DCBA43C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D1EFC-EFF7-424D-BA23-8848BCEB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FC4E9-8CDB-4DD8-91E8-C3BE3F5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827DF-C25C-4458-9AB7-26EE06C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CCF41-BBD6-485A-8B5E-328BE26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9B6A2-6718-466A-AC07-BD813E8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BDEC3-49CD-42AF-8454-7BD296DA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76902-10A4-43C2-B921-EE3CC6ED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85C34-6FD1-4898-ACD5-FF651CEA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60352-0D98-423E-8760-DFDF9DB6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278F-0260-49EE-ADCD-8B1A828E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4C82F-DC31-441E-98DA-952827F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BACA1-DA4E-4F4B-98FB-D0984E14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987C5-E292-463C-B0FA-E436DB60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30D7C-00E3-41BF-B6B6-77D8F018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5A9F2-E2F5-414A-A08B-EBB6E21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5AB4E-5DD2-4454-BED5-D1083F4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829EE-BEA4-415B-8F4D-512C48C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F4CCD-4C46-4E37-BDFB-54E7445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A4C55-5C97-4389-8755-E6E498C8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5C33C-A4BB-4DDD-8D68-8838D1EC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FE74-97A6-4A66-B270-DB0F9225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F92DB-B5EA-46E8-B42E-518B0BBC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EA90D-0BB1-4201-8F4D-1FDE22E5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153006-E5B5-46FF-9404-7225111F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07C17-3987-43D8-9864-78E58484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3B9436-D836-4BB4-9A6E-1D2A35A8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0EFC0B-DE52-4FEA-BC0D-346B054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B0A28-A391-4AF2-B532-B4E21AB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A3BE9-D472-4516-878A-5FE3C10F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E0D42-FD3D-46C1-B3E1-0487E31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C4076-D6D3-4342-8FB3-DED47F3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422C-8F2B-4EE2-B959-3E17610F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1AA20-6D86-44F2-9299-2D7019BB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141D7B-747C-48E2-A520-348BA197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6AD87-1038-491F-AF07-5B883311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C40BA1-ED9E-476F-9A8F-43A88988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E69237-8A5C-4349-8F38-F4080B43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569C16-DC44-4199-AA4C-77ABD3E5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D0DD98B-4304-4218-B1E9-13D1FA7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1792D0D-A930-4F24-9CE3-3AC1020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8B0466-4514-48EE-8EF5-EF03E3B0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8EB845-259D-417C-86B6-B2CF535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5952-2522-4BE2-AC99-C1B8E94E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8D4D62-A291-46FF-967B-6BA89F0D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B30B67-2B81-4526-A765-9A3D4811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A427F8-B5AA-4642-A24A-69AC5186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C46264-088D-400C-80F7-5F2EB7E6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6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6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791077-9844-4A71-815D-B94FC588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DEE6C-7839-4144-92C6-CAE37872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F52C8-39BA-4B9B-AB80-29201C9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B1C82A-5B56-4D18-873F-7B35A47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5F995-00EF-456D-997F-60322CE0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1257D-43BE-48DE-8D16-F3EBCFD1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B9B3-FC0F-443B-B525-F9329B3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37FF75-5B7B-427E-B051-9D818D36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0BCDAB-AC77-42B4-8ED8-BB39970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613C7-3347-4E47-A3E9-2AABEA80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01CBD8-526C-4EE6-8CA0-2D669B6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F3DE9-DE32-4C83-A785-1BB60334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8B7E27-282E-4CD0-A267-845156B7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74A397-EE93-4260-98A5-33DBB4BC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D33AE-949D-4D33-AD2D-7614B0CF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789F01-4561-44FF-B10E-AAED4A63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5CDCF3-CBEE-4210-9652-810CDFC4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B75A-2091-4364-A00D-D5F2EE6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AD8AC4-B4E5-4220-ABF7-1CD935D3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CF8C3-570D-437B-B589-38FD1CD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4D41C-A7EA-43B9-AC32-461B48C6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B30A3E-4CA3-4C59-B029-D2FD867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B6CD1A-B510-4472-957A-54A2B7A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6D3496-DA09-4996-A701-31A52E1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3CADD6-31EA-4670-BEE0-5EEB92C3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16BC0B-AF7D-4D18-9887-F29D7B18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ED3A6C-FB29-4E43-BA11-8211B92C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FB76AA-F6F8-44CB-9234-19EFC48E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EFB4-C115-42F1-80B9-F7E4E782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5B2ED9-648F-4C2E-BB82-0D510428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069630-CDE7-42B7-9AB8-3ECA52F9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AA871F-A6CB-4EE7-9407-36EA65D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937B51-8751-4A27-8299-3C169AC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0A546C-B3AA-4714-AAB2-749F72D5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45578A-1981-43B9-82E5-BC5E1CB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4F0EBA-5B93-4AB7-8B71-CDB29E2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06CA40-12AC-4DFC-AD86-029BE1B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68A26D-D31D-4524-A9AA-113EA86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12AAA4-156D-456F-BAC4-E96EF1FD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85D-A1A7-4537-9399-A312FC6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D707-6CA0-4D79-8FC0-5485A53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32E05C-BC6C-4C47-912C-01C1DFFD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DC28F0-593C-4E07-AD4D-B29A293B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63BA10-F68D-4781-A512-A2C9C5CC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9B54F-1EDC-462B-8347-C50D180A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972723-CF4A-44BE-9175-23FD1199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A41A5B-FB30-4549-8401-C298C08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18B19E-E835-4265-8C89-9FAB16A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7DE6F3-18D9-4251-BB50-EE8BAE2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2E3948-B9CC-4973-B285-1810557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68DC6A-3084-4490-AF3A-87EA9E0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821A-A62E-452B-8EE8-88E1029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93CDE9-94BF-447E-A806-8E9AEE07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120A1E-F9B8-4221-A939-41B8E249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B257E5-42D8-456D-B691-2C70C145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4FD6E9-56D6-4DB5-BC3E-48D1E46C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EE4FAE-3819-41CB-BB0D-C8025E2D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6AEED0-8982-49F9-AF72-FE2E1485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CD2EEC-0D12-4630-9CCE-63E0B466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934B9D-7FFC-4C97-A382-E0344EF9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0ECFFE-4E73-4AC6-969D-211F219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1952AC-6575-42B9-8E56-DCB8A91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B8C6-F96B-492B-BED6-FFBD17D8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BCDC8A-4227-4EB2-A28E-58A97FD7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D99981-2191-463E-BC63-3F5F5CE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5A243E-9D26-4F85-8636-7D67C42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669508-83C5-4E96-9B28-F0B847AF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5B9AF6-2A8B-44ED-BB21-BA9ADAEE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812AC9-EF3D-4778-9C0B-5052F12E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35D251-034B-4491-8566-611B53D5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81763C-A7CE-4776-9C1D-0C0C96C5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DE277E-CBC8-4A6E-80B5-1C9D526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1EF8B4-4063-436A-9816-59D1D1D7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5CC9-F436-44AC-ACDC-594E3A39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16DDBA-3100-4509-B2C2-00249DCB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EC8D18-4C5D-4AA3-927F-96EBEA3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055351-2D69-40EC-A1EC-CC44E88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3079FB-4EE3-4DA8-852E-DBE33D9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5DEB8F-04DD-459C-AC4E-EC1A5BA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01FCF6-0BB4-4EDD-8A0D-DD775A94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63F019-91B5-4BD9-8B68-96881FAC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F631CA-CA46-4BF0-B1D5-D9216752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ACC50C-20AA-4DFB-94DB-9E7248C1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BC1BA6-08B3-46AF-88C6-ACF7D2C4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7BE7-2528-402D-BFFE-04600288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F62397-1102-4F6C-A203-DE0B1E9B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FC7519-F154-4DFE-ABFA-7C15CF8E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A1B11D-30EC-4C04-AC7B-14EA134E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361F97-2AB5-450D-BAD4-11C0350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57730B-CA96-4C4F-B7EB-9E1E769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4FC6B1-4DFC-49C4-809F-0DE37D75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FFD5C7-CA71-483D-A854-6D69FB9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89A313-5A4D-4255-B0C5-E6B4323F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0A18ED-59AE-4A3D-AD7A-B1CA5388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E492A5-BCAA-4E00-8D17-B08179DD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376F-9C6E-49B8-9D3A-E59306D0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B237F8-83DD-4C8F-BD57-09759134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5202B9-D88D-4B3B-9712-D5D0682A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1917DF-FD53-4958-8FB2-942891CF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EA4D40-1BE7-4A59-9BFF-166C8EF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B64326-D322-44B8-A0A2-FA99FDE2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ED88FB-9A68-4E7E-B2E1-129ED7B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00D432-AF3C-4C3F-A0CB-680FB71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4C64E0-8BA8-42DF-BB0E-DEABAA0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F88284-3AEC-413E-9AA5-A8F9AC4D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0ABE33-D90E-4BE1-8332-418DE0A7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BA37-5897-4943-BDAC-D57695CB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33563C-69AD-4B80-9F72-2E9CB825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E912427-6D56-4CD1-8FC1-1FAA1437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5399864-AE2A-4A2E-AFBD-38F7834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DB25D97-DDD0-4971-A8C9-5227058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85B9C4A-592B-421C-869F-EF00C99F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F73FAC0-2ED5-4C50-8E9A-123E7720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C9B4C1A-2DD8-42BE-8155-B57C7EB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80C110D-91A9-4D2B-9936-65BA34E7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FA4D676-70F5-47E4-8C6E-1D10269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85B0EB7-CF8B-4EE2-A368-0E19548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479A-54D3-49D1-A549-1BDA211D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070D298-FB89-4EB1-B1C6-E840F61C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2AA02C5-4E68-4444-9A60-AB08A1B8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F7FA7F4-D57D-40CB-8CEE-743ABE9C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AD3927A-8AD6-4C3D-9C9F-36FDD84E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C8B8AD8-1D80-40A9-949C-F8B6C3E3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2BA0566-98B4-47DD-BEAD-0248E74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405E0EA-BC59-4F13-81D7-3045F528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8F0614D-2CD0-4349-852E-BA72A2E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9589154-B7AD-4236-BAC7-8A39966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CDD0BFE-6013-4D0C-9534-16D77FFF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4C00-7616-4395-80AB-9AE3DDA7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4FE4193-6B83-4280-B287-0A18387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F2CE819-630E-4BCB-B13F-4E50B2D7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18488DF-8F22-4C5F-9415-C6F94028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59569C4-B881-4816-997E-BD7978FD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FD7874D-5F67-47E5-9F98-77D58721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0D510E-21ED-4B23-AED8-82220CC1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9DE99E-890F-45BE-999C-D4C4729A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892FEC-CCA2-441D-BC81-CB99935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1E8937-0507-4D57-980D-15D56A6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378E79-9AEB-472F-A51B-F0ADDE4E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B805-1455-4B3A-8068-A5730E13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BCB6BA-05D2-4867-934D-71794A09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E76428-4BCC-4937-BA5B-34D2988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BDE85C-8126-4AF4-99B7-BF68666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FC9CA3-1E74-4D6A-A9C1-53E966B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3E132A-72D8-4DBD-B890-8B1BF77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646624-62BC-4E80-8A25-B3B3D70A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9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9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82D413-3E7D-47D6-A659-1EC8B3FB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63D4F8-79BB-46D6-9396-EE1E72FD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BDE6C14-3DBA-46E5-801C-9F23141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7761964-B23D-4CA9-8588-3940FA3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CD8-4B41-4811-958C-43F94CB2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17CB-738E-43D3-A2F4-3B599CEF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E324013-9DDB-47F5-83B8-6CB8D5DB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0E601D-3E6E-4036-B015-12A59898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07080FE-94BC-43BD-9EF9-D62E147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BE4481-EE12-49FF-ACFC-CF445B1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620606B-CC35-4ADD-AE96-991F34AA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F45A533-5F59-44EE-9CE1-5F22FFC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0C8DABE-DD5A-4F2B-A2F9-BE720B03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1CB3BA-1444-4F88-9E8F-4331D2C2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9A3D76-0C21-45ED-9D63-19A64529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AF051-6054-4FBD-A7F8-0924E08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82EB-0693-44B1-86F3-C150D4B5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444A-6C13-464C-8287-3831DA6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F90C-6776-4F10-AE3E-DA5E48E5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F720-3B0A-4E78-8045-2BCA904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FCAA-0C48-4541-986D-29FAA55B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FF39-D850-4834-863F-C5C8394B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85A1-1058-4E75-A825-13257380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6234-D78B-44B5-8A10-52881D35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EEA-C710-4268-92EF-7C00755D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1AC36-BD4F-4460-9040-712AB34A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E983-04D6-4B95-8DEE-8CFCF46F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0950-5362-4153-A06F-F86B0874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7306-A21A-441A-86A9-7EFAA4C4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E6EB7-4125-496F-A252-965A9345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1F5E-E120-4539-B0C2-21DDA288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6E74A-128D-4E79-BF4F-492FCBB6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CE7CB-19FF-4FB8-9E0A-F9014A2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F3DD3-FE58-4534-9BBB-5883D50F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C9B2-3DCA-4F74-83EB-CD212317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111-FDC6-431B-A7C8-646EBC9F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F58B9-0919-4224-967B-FE817AAB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97F4-AE29-4BE7-B39D-4D51C82D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CBF9-000F-41E9-99BE-0A1EA81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B7D74-F6CC-4643-8D94-90FA18AF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B5AFD-032C-4050-B512-C2B009CE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2544-0906-4BE8-8581-6AC1661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89F09-A6ED-4E39-8C6B-B574371A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E1577-A4D5-4E1F-9D1C-6E30A85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6A869-3C10-4BC6-878A-496E643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33F8-A15D-4278-BD71-CA7854E5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4AB-6F42-46B7-94EB-2CFB6AE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93A8-A05C-4E26-85B2-E4ACAC8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4D47-D5C4-4625-AA72-B2D87B37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7F60-E8B4-4940-82C2-6699AF30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A2746-ADDC-476A-AF2F-8C970383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0F136-06BF-41E0-A122-8180D063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A41E3-AB79-41C4-B4E8-D2177ED4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576C7-0D39-432F-9B5B-D9718175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2CE7-A6A9-4ED4-994F-9A0E7C0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9ACC-E1F2-4B7B-B795-A0E6C62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0B07F-89F5-4ACC-9DD0-092F2638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145-E011-4378-9CE8-DC095FC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B152-FBC4-47CA-8DBE-AD83297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8D932-95A1-4F16-B41A-D3349D6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FA147-DF78-455A-B841-1CA2B2BF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6441-E028-49A4-BD3D-B3965931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A1A0-4C6B-404A-85FF-9655D721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ABEC-AC1F-4DCB-8678-847D0A23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88255-82ED-4137-AB1F-6C94665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B5453-5B5E-435C-867A-FC2E1FC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415BA-3472-48BD-9C8A-3306B17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9887-2B98-4DD3-979E-5AF03FA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01C-22EB-4322-9909-757FC39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82B49-D9C5-4FD5-9513-954903A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78A0-7032-40F5-9534-B7F3AA8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5A4FD-1214-41F1-B050-8F9B6C9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90AC-4032-4F8E-8384-0B6BF568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899F-D618-45C5-804D-4A27E638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7949-58AA-4834-816C-97AE6F6B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C076-7B8E-4B0A-A549-53185C4C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C7997-02A5-40F4-BB0A-AE3027A8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C93DD-AF86-49CE-86AE-8DC90795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CCEC4-161A-4B59-A2A0-44463E6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EA03-50E0-4F47-A90B-7EDCF3BAF0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0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0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1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3EA6-62DD-4F16-B4E9-AB353C9CFA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5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7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668C-3CC4-4A99-A666-DEAB4196614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600E-1FC2-48C7-A155-08367EAD5449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8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9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9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9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0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654-C99A-4797-A01B-E0E10238ED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5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85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85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B7EE-7FB8-457B-A92E-6017D107FB0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0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665-0DE0-4D62-8115-BF86F36105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5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9D87-89B8-4AF8-958C-BED508CD98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03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3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3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3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04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4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046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047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5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5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1056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059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062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1065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1068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071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07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07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080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083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08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08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9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9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9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101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10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107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1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112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11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11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121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3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124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12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13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13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13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139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42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16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16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17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17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17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176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1177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9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118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2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118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186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8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1189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1192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119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7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119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0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1201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3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120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6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1207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9" name="Group 45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1210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1213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121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121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122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1225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1228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123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3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1234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6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123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1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1242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4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1245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1248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125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125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6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1257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9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1260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2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1263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5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1266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126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1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1272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3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7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127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1276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128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3BB4-BCC5-4712-B37B-1EF9E89C81A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66bb"/>
          </a:solidFill>
          <a:ln w="9360">
            <a:solidFill>
              <a:srgbClr val="ac6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66bb"/>
          </a:solidFill>
          <a:ln w="9360">
            <a:solidFill>
              <a:srgbClr val="ac6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13f9a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b13f9a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ac66b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ac66b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ac66b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ac66b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E47-EE29-4217-AB49-F6F041C5E7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8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7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1AE4-8AD9-4346-A494-482F7431E0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87D1-ADA0-400D-8DFF-EE84E890D4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1463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14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5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1466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8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500F-62ED-4467-A9A2-2E90CFA7B0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54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Constantia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Constanti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dt" idx="6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ftr" idx="62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 type="sldNum" idx="63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13D1-2917-48B0-A8A8-9ADFDE846C1A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59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9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0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7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9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11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13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8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2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D097-D573-4713-93B2-738FEE441C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6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68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0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2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CADA-33D3-42F6-8BEB-1BBEF6927E0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7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7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7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702E-610E-4B69-996E-1D5F8FA6421B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7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7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7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B052-CE5C-466A-86DD-0D7282DF9410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5f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ftr" idx="7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 type="dt" idx="7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 type="sldNum" idx="7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51D8-B42B-4A42-98F6-CCBF297377CC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944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 type="dt" idx="7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 type="ftr" idx="8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 type="sldNum" idx="8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472B-B26B-46C8-B425-EB62E9882066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944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5f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 type="dt" idx="8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 type="ftr" idx="8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 type="sldNum" idx="8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61FF-1A31-4E7F-9857-DFB83277882C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8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8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8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FFEE-D277-4374-A993-4F44049CC603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D732-7FB8-47E0-94D5-557CBB329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 type="dt" idx="8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 type="ftr" idx="8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 type="sldNum" idx="9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546C-7A21-480F-AF6C-5D449AAC694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f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 type="sldNum" idx="9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B875-1D07-4D3C-8B1F-B153F836BA1F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 type="dt" idx="9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 type="ftr" idx="9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f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 type="sldNum" idx="9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74D-3635-4EBF-8E57-7674C6269A22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 type="dt" idx="9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 type="ftr" idx="9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 type="dt" idx="9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 type="ftr" idx="9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 type="sldNum" idx="9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B0C-FD66-4744-BE61-00F1CC47A387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1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1000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f000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e1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b0f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 type="sldNum" idx="10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1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96EC-3536-48D7-AA0D-B5757BB9A211}" type="slidenum">
              <a:rPr b="0" lang="ru-RU" sz="1600" spc="-1" strike="noStrike">
                <a:solidFill>
                  <a:srgbClr val="e1000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 type="dt" idx="10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 type="ftr" idx="10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EDC0-48CF-4A4B-A966-6BC98BED1B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20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21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1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217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218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22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27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30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33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236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239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242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24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248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251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54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5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6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63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6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6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272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75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78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283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8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8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292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295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98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30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304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307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310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313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413A-9247-426D-98CB-D0A6D056708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13f9a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b13f9a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ac66b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ac66b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ac66b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ac66b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66bb"/>
          </a:solidFill>
          <a:ln w="9360">
            <a:solidFill>
              <a:srgbClr val="ac6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0FBD-0099-494E-9A62-4D3A1649F9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2073-4792-4E99-807F-F753D629C4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DDAF-87DD-4A44-9C38-7D3264F5257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7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8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8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504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50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507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Constantia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9CA-1A99-4DEF-AEA9-53BF2C3A00C0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58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28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8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8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8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/>
          </p:nvPr>
        </p:nvSpPr>
        <p:spPr>
          <a:xfrm>
            <a:off x="179280" y="250488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Укажите предложение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метафора</a:t>
            </a: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1) И только на свой родной дом я стараюсь не глядеть и обхожу его стороной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2) Я вытравлю из сердца это прошлое, никогда больше не вернусь к нему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3) Что счётная машина действует быстрее миллиона деревенских счетоводов, что..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4) Мы с братом нашли тебя на пастбище, на вахрунинской горе. </a:t>
            </a:r>
            <a:endParaRPr b="0" lang="en-US" sz="1800" spc="-1" strike="noStrike">
              <a:solidFill>
                <a:srgbClr val="0000ff"/>
              </a:solidFill>
              <a:latin typeface="Georgi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Укажите предложение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эпитет</a:t>
            </a: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1) Человек должен вырастать сыном своей страны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2) Это ты и я с нашим миром чувств, нашими радостями и заботами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3) Корни питают дерево, связывают его с землёй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4) Это славные имена полководцев, поэтов и борцов за народное дело.</a:t>
            </a:r>
            <a:endParaRPr b="0" lang="en-US" sz="1800" spc="-1" strike="noStrike">
              <a:solidFill>
                <a:srgbClr val="0000ff"/>
              </a:solidFill>
              <a:latin typeface="Georgi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Georgia"/>
              </a:rPr>
              <a:t>Задание 3</a:t>
            </a:r>
            <a:br>
              <a:rPr sz="6000"/>
            </a:br>
            <a:endParaRPr b="0" lang="en-US" sz="6000" spc="-1" strike="noStrike">
              <a:solidFill>
                <a:srgbClr val="e1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215640" y="4868640"/>
            <a:ext cx="87850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Задание Среди предложений 6—14 найдите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сложное предложение с бессоюзной и союзной подчинительной связью</a:t>
            </a: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 между частями. Напишите номер этого предложения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(6)Почему же она воет?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–  (7)Откуда  я  знаю.  (8)Она  каждый  день  воет.  (9)До  пяти  часов.  (10)В  пять  перестаё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(11)Мой папа говорит: если не умеешь ухаживать, не заводи собак..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(12)Взглянув на часы и махнув рукой Юре, Валерка в прихожей торопливо намотал шарф, надел пальто. (13)Выбежав на улицу, перевёл дух и нашёл на фасаде дома Юркины окна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(14)Три окна на девятом этаже над квартирой Хлопотовых были неуютно темны.</a:t>
            </a:r>
            <a:br>
              <a:rPr sz="1800"/>
            </a:br>
            <a:endParaRPr b="0" lang="en-US" sz="1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61" name="Прямоугольник 3"/>
          <p:cNvSpPr/>
          <p:nvPr/>
        </p:nvSpPr>
        <p:spPr>
          <a:xfrm>
            <a:off x="2283120" y="765000"/>
            <a:ext cx="465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1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79280" y="3633480"/>
            <a:ext cx="88567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1. Как Вы понимаете значение словосочетания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«Любовь к Родине»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?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2. Как Вы понимаете значение словосочетания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«Чувство Родины»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?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3. Как Вы понимаете значение словосочетания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«Родная земля»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63" name="TextBox 3"/>
          <p:cNvSpPr/>
          <p:nvPr/>
        </p:nvSpPr>
        <p:spPr>
          <a:xfrm>
            <a:off x="684360" y="530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формулируйте данное Вами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94429"/>
                </a:solidFill>
                <a:latin typeface="Georgia"/>
              </a:rPr>
              <a:t>ПРАВОПИСАНИЕ </a:t>
            </a:r>
            <a:r>
              <a:rPr b="1" lang="en-US" sz="3300" spc="-1" strike="noStrike">
                <a:solidFill>
                  <a:srgbClr val="494429"/>
                </a:solidFill>
                <a:latin typeface="Georgia"/>
              </a:rPr>
              <a:t> </a:t>
            </a:r>
            <a:r>
              <a:rPr b="1" lang="ru-RU" sz="3300" spc="-1" strike="noStrike">
                <a:solidFill>
                  <a:srgbClr val="494429"/>
                </a:solidFill>
                <a:latin typeface="Georgia"/>
              </a:rPr>
              <a:t>-Н- И -НН- В РАЗЛИЧНЫХ ЧАСТЯХ РЕЧИ</a:t>
            </a:r>
            <a:endParaRPr b="0" lang="en-US" sz="33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785880" y="2857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6600" spc="-1" strike="noStrike">
                <a:solidFill>
                  <a:srgbClr val="880089"/>
                </a:solidFill>
                <a:latin typeface="Georgia"/>
              </a:rPr>
              <a:t>В </a:t>
            </a:r>
            <a:r>
              <a:rPr b="0" lang="ru-RU" sz="5400" spc="-1" strike="noStrike">
                <a:solidFill>
                  <a:srgbClr val="880089"/>
                </a:solidFill>
                <a:latin typeface="Georgia"/>
              </a:rPr>
              <a:t>ПРИЛАГАТЕЛЬНЫХ</a:t>
            </a:r>
            <a:endParaRPr b="0" lang="en-US" sz="54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66" name="Прямоугольник 4"/>
          <p:cNvSpPr/>
          <p:nvPr/>
        </p:nvSpPr>
        <p:spPr>
          <a:xfrm>
            <a:off x="2214720" y="78588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Georgia"/>
              </a:rPr>
              <a:t>-Н- и -НН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Одна буква Н пишется: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В суффиксах </a:t>
            </a:r>
            <a:r>
              <a:rPr b="1" lang="ru-RU" sz="2600" spc="-1" strike="noStrike">
                <a:solidFill>
                  <a:srgbClr val="0000ff"/>
                </a:solidFill>
                <a:latin typeface="Georgia"/>
              </a:rPr>
              <a:t>-ан- (-ян-) -ын- (-ин-) 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отыменных прилагательных: 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лед</a:t>
            </a:r>
            <a:r>
              <a:rPr b="1" lang="ru-RU" sz="2600" spc="-1" strike="noStrike">
                <a:solidFill>
                  <a:srgbClr val="0000ff"/>
                </a:solidFill>
                <a:latin typeface="Georgia"/>
              </a:rPr>
              <a:t>ян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ой ← лёд 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песч</a:t>
            </a:r>
            <a:r>
              <a:rPr b="1" lang="ru-RU" sz="2600" spc="-1" strike="noStrike">
                <a:solidFill>
                  <a:srgbClr val="0000ff"/>
                </a:solidFill>
                <a:latin typeface="Georgia"/>
              </a:rPr>
              <a:t>ан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ый ← песок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серебр</a:t>
            </a:r>
            <a:r>
              <a:rPr b="1" lang="ru-RU" sz="2600" spc="-1" strike="noStrike">
                <a:solidFill>
                  <a:srgbClr val="0000ff"/>
                </a:solidFill>
                <a:latin typeface="Georgia"/>
              </a:rPr>
              <a:t>ян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ый ← серебро 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комар</a:t>
            </a:r>
            <a:r>
              <a:rPr b="1" lang="ru-RU" sz="2600" spc="-1" strike="noStrike">
                <a:solidFill>
                  <a:srgbClr val="0000ff"/>
                </a:solidFill>
                <a:latin typeface="Georgia"/>
              </a:rPr>
              <a:t>ин</a:t>
            </a:r>
            <a:r>
              <a:rPr b="0" lang="ru-RU" sz="2600" spc="-1" strike="noStrike">
                <a:solidFill>
                  <a:srgbClr val="0000ff"/>
                </a:solidFill>
                <a:latin typeface="Georgia"/>
              </a:rPr>
              <a:t>ый ← комар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Исключение: 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стекл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янн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ый, олов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янн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ый, дерев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янн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Примечание: 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В прилагательных типа солов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ь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иный, мурав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ь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иный перед суффиксом    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-ин 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пишется </a:t>
            </a:r>
            <a:r>
              <a:rPr b="1" i="1" lang="ru-RU" sz="2600" spc="-1" strike="noStrike">
                <a:solidFill>
                  <a:srgbClr val="0000ff"/>
                </a:solidFill>
                <a:latin typeface="Georgia"/>
              </a:rPr>
              <a:t>ь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10000"/>
                </a:solidFill>
                <a:latin typeface="Georgia"/>
              </a:rPr>
              <a:t>Одна буква Н пишется в словах:</a:t>
            </a:r>
            <a:endParaRPr b="0" lang="en-US" sz="40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4800" spc="-1" strike="noStrike">
                <a:solidFill>
                  <a:srgbClr val="0000ff"/>
                </a:solidFill>
                <a:latin typeface="Georgia"/>
              </a:rPr>
              <a:t>Багряный, зеленый, пряный, пьяный,  рдяный рьяный, румяный, свиной, синий, юный, бараний, тюлений и др.</a:t>
            </a:r>
            <a:endParaRPr b="0" lang="en-US" sz="48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Две буквы НН пишутся: 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В отыменных прилагательных, образованных от основ на 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-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, 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-мя 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при помощи суффикса 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-н-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: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кам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 ← кам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ь,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плам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е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 ← пл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мя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ос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ий ←ос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ь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вес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ий ← вес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а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сем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ой ← с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мя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, сем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а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врем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 ← вр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мя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, врем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а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Две буквы НН пишутся: 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10000"/>
              </a:lnSpc>
              <a:spcBef>
                <a:spcPts val="825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В суффиксах </a:t>
            </a:r>
            <a:r>
              <a:rPr b="1" lang="ru-RU" sz="3300" spc="-1" strike="noStrike">
                <a:solidFill>
                  <a:srgbClr val="0000ff"/>
                </a:solidFill>
                <a:latin typeface="Georgia"/>
              </a:rPr>
              <a:t>-енн-</a:t>
            </a: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, </a:t>
            </a:r>
            <a:r>
              <a:rPr b="1" lang="ru-RU" sz="3300" spc="-1" strike="noStrike">
                <a:solidFill>
                  <a:srgbClr val="0000ff"/>
                </a:solidFill>
                <a:latin typeface="Georgia"/>
              </a:rPr>
              <a:t>-онн- </a:t>
            </a: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отыменных прилагательных:</a:t>
            </a:r>
            <a:endParaRPr b="0" lang="en-US" sz="3300" spc="-1" strike="noStrike">
              <a:solidFill>
                <a:srgbClr val="0000ff"/>
              </a:solidFill>
              <a:latin typeface="Georgia"/>
            </a:endParaRPr>
          </a:p>
          <a:p>
            <a:pPr marL="498960" indent="-49896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торжеств</a:t>
            </a:r>
            <a:r>
              <a:rPr b="1" lang="ru-RU" sz="3300" spc="-1" strike="noStrike">
                <a:solidFill>
                  <a:srgbClr val="0000ff"/>
                </a:solidFill>
                <a:latin typeface="Georgia"/>
              </a:rPr>
              <a:t>енн</a:t>
            </a: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ый ← торжество</a:t>
            </a:r>
            <a:endParaRPr b="0" lang="en-US" sz="3300" spc="-1" strike="noStrike">
              <a:solidFill>
                <a:srgbClr val="0000ff"/>
              </a:solidFill>
              <a:latin typeface="Georgia"/>
            </a:endParaRPr>
          </a:p>
          <a:p>
            <a:pPr marL="498960" indent="-49896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традици</a:t>
            </a:r>
            <a:r>
              <a:rPr b="1" lang="ru-RU" sz="3300" spc="-1" strike="noStrike">
                <a:solidFill>
                  <a:srgbClr val="0000ff"/>
                </a:solidFill>
                <a:latin typeface="Georgia"/>
              </a:rPr>
              <a:t>онн</a:t>
            </a:r>
            <a:r>
              <a:rPr b="0" lang="ru-RU" sz="3300" spc="-1" strike="noStrike">
                <a:solidFill>
                  <a:srgbClr val="0000ff"/>
                </a:solidFill>
                <a:latin typeface="Georgia"/>
              </a:rPr>
              <a:t>ый ← традиция</a:t>
            </a:r>
            <a:endParaRPr b="0" lang="en-US" sz="3300" spc="-1" strike="noStrike">
              <a:solidFill>
                <a:srgbClr val="0000ff"/>
              </a:solidFill>
              <a:latin typeface="Georgia"/>
            </a:endParaRPr>
          </a:p>
          <a:p>
            <a:pPr marL="498960" indent="-49896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3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i="1" lang="ru-RU" sz="2600" spc="-1" strike="noStrike">
                <a:solidFill>
                  <a:srgbClr val="0000ff"/>
                </a:solidFill>
                <a:latin typeface="Georgia"/>
              </a:rPr>
              <a:t>Прилагательные с суффиксом -енн могут выражать субъективную оценку (большую меру признака): здоровенный тяжеленный высоченный (ср. здоровый, тяжелый, высокий)</a:t>
            </a:r>
            <a:endParaRPr b="0" lang="en-US" sz="2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Исключение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ВЕТРЕНЫЙ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Образовалось не от существительного ВЕТЕР, а от устаревшего глагола ВЕ´ТРИТЬ с помощью суффикса </a:t>
            </a: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Georgia"/>
              </a:rPr>
              <a:t>Ветре</a:t>
            </a:r>
            <a:r>
              <a:rPr b="1" i="1" lang="ru-RU" sz="27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2700" spc="-1" strike="noStrike">
                <a:solidFill>
                  <a:srgbClr val="0000ff"/>
                </a:solidFill>
                <a:latin typeface="Georgia"/>
              </a:rPr>
              <a:t>ый человек , ветря</a:t>
            </a:r>
            <a:r>
              <a:rPr b="1" i="1" lang="ru-RU" sz="27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2700" spc="-1" strike="noStrike">
                <a:solidFill>
                  <a:srgbClr val="0000ff"/>
                </a:solidFill>
                <a:latin typeface="Georgia"/>
              </a:rPr>
              <a:t>ой двигатель,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НО: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Georgia"/>
              </a:rPr>
              <a:t>обветре</a:t>
            </a:r>
            <a:r>
              <a:rPr b="1" i="1" lang="ru-RU" sz="27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2700" spc="-1" strike="noStrike">
                <a:solidFill>
                  <a:srgbClr val="0000ff"/>
                </a:solidFill>
                <a:latin typeface="Georgia"/>
              </a:rPr>
              <a:t>ый, безветре</a:t>
            </a:r>
            <a:r>
              <a:rPr b="1" i="1" lang="ru-RU" sz="27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27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Краткие прилагательные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В кратких прилагательных пишется столько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 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, сколько было в полной форме: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56320" indent="-256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речь торжеств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а (торжеств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ая)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56320" indent="-256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девушка ветр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а  (ветр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ая)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56320" indent="-256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	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722160" y="260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4 </a:t>
            </a:r>
            <a:endParaRPr b="0" lang="en-US" sz="60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45" name="TextBox 3"/>
          <p:cNvSpPr/>
          <p:nvPr/>
        </p:nvSpPr>
        <p:spPr>
          <a:xfrm>
            <a:off x="198360" y="2708280"/>
            <a:ext cx="882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 предложений 8—13 выпишите слово, правописание которого определяется правилом «В отрицательных местоимениях в безударном положении пишется приставка НИ-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8)Надо быть современным. (9)Надо быть безжалостным к прошлому. (10)Довольно ходить по пепелищам родной Тимонихи, сидеть на опечках. (11)Надо помнить о том, что день и ночь на земле — как говорил поэт Хикмет — работают реакторы и фазотроны. (12)Что счётная машина действует быстрее миллиона деревенских счетоводов, что... (13)В общем не надо глядеть на родной дом, не надо заходить туда, ничего не н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Имя существительное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В существительных, образованных от соответствующих основ, пишется столько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 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, сколько их было в прилагательном: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61720" indent="-261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нефтя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к, конопля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к,           гости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ца, бессребре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к родстве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к, имени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к, листве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ца, мали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ик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1356840" y="2786040"/>
            <a:ext cx="684396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800" spc="-1" strike="noStrike">
                <a:solidFill>
                  <a:srgbClr val="880089"/>
                </a:solidFill>
                <a:latin typeface="Georgia"/>
              </a:rPr>
              <a:t>в причастиях </a:t>
            </a:r>
            <a:br>
              <a:rPr sz="4800"/>
            </a:br>
            <a:r>
              <a:rPr b="0" lang="ru-RU" sz="4800" spc="-1" strike="noStrike">
                <a:solidFill>
                  <a:srgbClr val="880089"/>
                </a:solidFill>
                <a:latin typeface="Georgia"/>
              </a:rPr>
              <a:t>и </a:t>
            </a:r>
            <a:br>
              <a:rPr sz="4800"/>
            </a:br>
            <a:r>
              <a:rPr b="0" lang="ru-RU" sz="4800" spc="-1" strike="noStrike">
                <a:solidFill>
                  <a:srgbClr val="880089"/>
                </a:solidFill>
                <a:latin typeface="Georgia"/>
              </a:rPr>
              <a:t>отглагольных прилагательных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82" name="Прямоугольник 5"/>
          <p:cNvSpPr/>
          <p:nvPr/>
        </p:nvSpPr>
        <p:spPr>
          <a:xfrm>
            <a:off x="2786040" y="714240"/>
            <a:ext cx="46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Georgia"/>
              </a:rPr>
              <a:t>-Н- и -НН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e10000"/>
                </a:solidFill>
                <a:latin typeface="Georgia"/>
              </a:rPr>
              <a:t>В суффиксах причастий пишется НН.</a:t>
            </a:r>
            <a:br>
              <a:rPr sz="3300"/>
            </a:br>
            <a:r>
              <a:rPr b="0" lang="ru-RU" sz="3300" spc="-1" strike="noStrike">
                <a:solidFill>
                  <a:srgbClr val="e10000"/>
                </a:solidFill>
                <a:latin typeface="Georgia"/>
              </a:rPr>
              <a:t> Указателем на это         является:</a:t>
            </a: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500040" y="192888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Наличие приставки: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полом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, исправл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5f0060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Наличие зависимых слов: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лом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Georgia"/>
              </a:rPr>
              <a:t>на мелкие куски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правл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ая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Georgia"/>
              </a:rPr>
              <a:t>редактором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  рукопись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5f006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Бесприставочные образования от глаголов совершенного вида: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Брош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, купл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85" name="Половина рамки 5"/>
          <p:cNvSpPr/>
          <p:nvPr/>
        </p:nvSpPr>
        <p:spPr>
          <a:xfrm>
            <a:off x="1857240" y="2428920"/>
            <a:ext cx="571680" cy="142920"/>
          </a:xfrm>
          <a:custGeom>
            <a:avLst/>
            <a:gdLst/>
            <a:ahLst/>
            <a:rect l="l" t="t" r="r" b="b"/>
            <a:pathLst>
              <a:path w="571500" h="142875">
                <a:moveTo>
                  <a:pt x="0" y="0"/>
                </a:moveTo>
                <a:lnTo>
                  <a:pt x="571500" y="0"/>
                </a:lnTo>
                <a:lnTo>
                  <a:pt x="381002" y="47625"/>
                </a:lnTo>
                <a:lnTo>
                  <a:pt x="47625" y="47625"/>
                </a:lnTo>
                <a:lnTo>
                  <a:pt x="47625" y="130969"/>
                </a:lnTo>
                <a:lnTo>
                  <a:pt x="0" y="142875"/>
                </a:lnTo>
                <a:lnTo>
                  <a:pt x="0" y="0"/>
                </a:lnTo>
                <a:close/>
              </a:path>
            </a:pathLst>
          </a:custGeom>
          <a:solidFill>
            <a:srgbClr val="5f0060"/>
          </a:solidFill>
          <a:ln w="11520">
            <a:solidFill>
              <a:srgbClr val="440044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Половина рамки 6"/>
          <p:cNvSpPr/>
          <p:nvPr/>
        </p:nvSpPr>
        <p:spPr>
          <a:xfrm>
            <a:off x="4429080" y="2428920"/>
            <a:ext cx="571680" cy="142920"/>
          </a:xfrm>
          <a:custGeom>
            <a:avLst/>
            <a:gdLst/>
            <a:ahLst/>
            <a:rect l="l" t="t" r="r" b="b"/>
            <a:pathLst>
              <a:path w="571500" h="142875">
                <a:moveTo>
                  <a:pt x="0" y="0"/>
                </a:moveTo>
                <a:lnTo>
                  <a:pt x="571500" y="0"/>
                </a:lnTo>
                <a:lnTo>
                  <a:pt x="381002" y="47625"/>
                </a:lnTo>
                <a:lnTo>
                  <a:pt x="47625" y="47625"/>
                </a:lnTo>
                <a:lnTo>
                  <a:pt x="47625" y="130969"/>
                </a:lnTo>
                <a:lnTo>
                  <a:pt x="0" y="142875"/>
                </a:lnTo>
                <a:lnTo>
                  <a:pt x="0" y="0"/>
                </a:lnTo>
                <a:close/>
              </a:path>
            </a:pathLst>
          </a:custGeom>
          <a:solidFill>
            <a:srgbClr val="5f0060"/>
          </a:solidFill>
          <a:ln w="11520">
            <a:solidFill>
              <a:srgbClr val="440044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prstDash val="sysDash"/>
            <a:miter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При переходе причастия в имя прилагательное  возможно изменение лексического значения слова: 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назва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ый брат, посаже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ый отец, смышле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ый ребенок, проще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ое воскресенье</a:t>
            </a:r>
            <a:r>
              <a:rPr b="0" i="1" lang="en-US" sz="36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67120" indent="-2671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Эти же слова в прямом их значении будут причастиями, т.е.  будут иметь 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: 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67120" indent="-2671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назва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ая пьеса, проще</a:t>
            </a: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600" spc="-1" strike="noStrike">
                <a:solidFill>
                  <a:srgbClr val="0000ff"/>
                </a:solidFill>
                <a:latin typeface="Georgia"/>
              </a:rPr>
              <a:t>ые долги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Краткие причастия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Краткие страдательные причастия прошедшего времени пишутся с  одной буквой 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: 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план выполн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работа выполн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а 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задание выполн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расчеты выполне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ы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0000"/>
                </a:solidFill>
                <a:latin typeface="Georgia"/>
              </a:rPr>
              <a:t>Отглагольные прилагательные</a:t>
            </a:r>
            <a:endParaRPr b="0" lang="en-US" sz="44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5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В отглагольных прилагательных пишется 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: 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пече</a:t>
            </a:r>
            <a:r>
              <a:rPr b="1" i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кош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лом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правл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.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259200" indent="-25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Такие прилагательные образуются от глаголов несовершенного вида и не имеют ни приставок, ни пояснительных слова.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  <a:p>
            <a:pPr marL="259200" indent="-25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1" i="1" lang="ru-RU" sz="3000" spc="-1" strike="noStrike">
                <a:solidFill>
                  <a:srgbClr val="0000ff"/>
                </a:solidFill>
                <a:latin typeface="Georgia"/>
              </a:rPr>
              <a:t>Исключения: 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дел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жел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жем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медл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свяще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чв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, чека</a:t>
            </a:r>
            <a:r>
              <a:rPr b="1" lang="ru-RU" sz="3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3000" spc="-1" strike="noStrike">
                <a:solidFill>
                  <a:srgbClr val="0000ff"/>
                </a:solidFill>
                <a:latin typeface="Georgia"/>
              </a:rPr>
              <a:t>ый и нек. др.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Суффиксы -ованн- - -еванн-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 суффиксах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-ованн- - -еванн- 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олных и кратких отглагольных прилагательных пишется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зволн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ова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н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ая мать - мать взволн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ова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риск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ова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е дело - дело осуществимо, но риск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ова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prstDash val="sysDash"/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Следует отличать отглагольные прилагательные </a:t>
            </a: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кова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ый, жева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ый, клева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ый,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 в которых пишется одна буква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, так как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-ов-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 и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-ев- 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входят в состав корня, от причастий, в которых пишутся две буквы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 нн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:</a:t>
            </a: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ff"/>
              </a:solidFill>
              <a:latin typeface="Georgia"/>
            </a:endParaRPr>
          </a:p>
          <a:p>
            <a:pPr marL="256320" indent="-2563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подкова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ый, разжева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ый, исклева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40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prstDash val="sysDash"/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От кратких форм прилагательных необходимо отличать  краткие формы причастий, которые пишутся с </a:t>
            </a: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 и, как правило, требуют пояснения: </a:t>
            </a:r>
            <a:endParaRPr b="0" lang="en-US" sz="40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дорога изъезже</a:t>
            </a: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а (кем?)</a:t>
            </a:r>
            <a:endParaRPr b="0" lang="en-US" sz="40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дети избалова</a:t>
            </a: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</a:rPr>
              <a:t>ы (кем?)</a:t>
            </a:r>
            <a:endParaRPr b="0" lang="en-US" sz="40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Имена существительные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 существительных, образованных от страдательных причастий и отглагольных прилагательных, пишется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 или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 в соответствии с  производящей основой: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48040" indent="-248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свящ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ик ←свящ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48040" indent="-248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ута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ик ← пута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48040" indent="-248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оспита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сть ← воспита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48040" indent="-248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ар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ик ← вар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48040" indent="-24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Исключение: </a:t>
            </a:r>
            <a:r>
              <a:rPr b="0" i="1" lang="ru-RU" sz="3200" spc="-1" strike="noStrike">
                <a:solidFill>
                  <a:srgbClr val="0000ff"/>
                </a:solidFill>
                <a:latin typeface="Georgia"/>
              </a:rPr>
              <a:t>прида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i="1" lang="ru-RU" sz="3200" spc="-1" strike="noStrike">
                <a:solidFill>
                  <a:srgbClr val="0000ff"/>
                </a:solidFill>
                <a:latin typeface="Georgia"/>
              </a:rPr>
              <a:t>ое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Прямоугольник 3"/>
          <p:cNvSpPr/>
          <p:nvPr/>
        </p:nvSpPr>
        <p:spPr>
          <a:xfrm>
            <a:off x="2496600" y="836640"/>
            <a:ext cx="42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TextBox 4"/>
          <p:cNvSpPr/>
          <p:nvPr/>
        </p:nvSpPr>
        <p:spPr>
          <a:xfrm>
            <a:off x="198360" y="263700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 предложений 1–8 выпишите слово, правописание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иставк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 в котором определяется правилом «На конце приставки пишется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– З-,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если после неё следует звонкий согласны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1)Из чего же вырастает огромная человеческая любовь ко всему, что умещается в одном слове - Род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2)Родина – это очень много. (3)Это и тропинка с бродом через ручей, и пространство в одну шестую всей земной карты. (4)Это самолёт в небе, и птицы, летящие на север над нашим домом. (5)Родина – это растущие города и малые, в десять дворов, деревеньки. (6) Это имена людей, названия рек и озёр, памятные даты истории и планы на завтрашний день. (7)Это ты и я с нашим миром чувств, нашими радостями и забо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8)Родина подобна огромному дереву, на котором не сосчитать лист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Наречия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 наречиях пишется столько ж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 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, сколько и в слове, от которого оно образовано: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Торжеств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ый – торжестве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ечаль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ый - печаль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ыглядеть изыска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  - изыска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н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285920" y="642960"/>
            <a:ext cx="7143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2f2f2"/>
                </a:solidFill>
                <a:latin typeface="Georgia"/>
              </a:rPr>
              <a:t>Упражнения</a:t>
            </a:r>
            <a:endParaRPr b="0" lang="en-US" sz="8000" spc="-1" strike="noStrike">
              <a:solidFill>
                <a:srgbClr val="e1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0000"/>
                </a:solidFill>
                <a:latin typeface="Georgia"/>
              </a:rPr>
              <a:t>Вставьте пропущенные буквы</a:t>
            </a:r>
            <a:endParaRPr b="0" lang="en-US" sz="44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Карти…ая галерея, деревя…ая ложка, мыши…ая возня, безветре…ый день,  торжестве…ый момент, дровя…ой склад, соловьи…ая песня, кухо…ый стол, огне…ый шквал, листве…ый лес, багря…ый закат, новая гости…ая, были…ый богатырь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03" name="TextBox 5"/>
          <p:cNvSpPr/>
          <p:nvPr/>
        </p:nvSpPr>
        <p:spPr>
          <a:xfrm>
            <a:off x="6143760" y="5929200"/>
            <a:ext cx="22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0060"/>
                </a:solidFill>
                <a:uFillTx/>
                <a:latin typeface="Georgia"/>
                <a:hlinkClick r:id="rId1" action="ppaction://hlinksldjump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Проверь себя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Картинная галерея, деревянная ложка, мышиная возня, безветренный день,  торжественный момент, дровяной склад, соловьиная песня, кухонный стол, огненный шквал, лиственный лес, багряный закат, новая гостиная, былинный богатырь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0000"/>
                </a:solidFill>
                <a:latin typeface="Georgia"/>
              </a:rPr>
              <a:t>Вставьте пропущенные буквы</a:t>
            </a:r>
            <a:endParaRPr b="0" lang="en-US" sz="44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Жаре…ая рыба, изране…ый зверь, невида…ый успех, богатое прида…ое, примерный труже…ик, домотка…ая скатерть, мой воспита…ик,  сгуще…ое молоко,  писа…ая акварелью картина, он говорил взволнова…о, произошла сплошная пута…ица, газирова…ая  вода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08" name="TextBox 3"/>
          <p:cNvSpPr/>
          <p:nvPr/>
        </p:nvSpPr>
        <p:spPr>
          <a:xfrm>
            <a:off x="6572160" y="59292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0060"/>
                </a:solidFill>
                <a:uFillTx/>
                <a:latin typeface="Georgia"/>
                <a:hlinkClick r:id="rId1" action="ppaction://hlinksldjump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Проверь себя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214200" y="152712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Жареная рыба, израненный зверь, невиданный успех, богатое приданое, примерный труженик, домотканая скатерть, мой воспитанник, сгущенное молоко,  писанная акварелью картина, он говорил взволнованно, произошла сплошная путаница, газированная вода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0000"/>
                </a:solidFill>
                <a:latin typeface="Georgia"/>
              </a:rPr>
              <a:t>Вставьте пропущенные буквы</a:t>
            </a:r>
            <a:endParaRPr b="0" lang="en-US" sz="44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5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Семена рассея…ы. Вы всегда рассея…ы. Земли ограниче…ы морем. Мои желания ограниче…ы. Его предки были возвыше…ы Иваном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</a:rPr>
              <a:t>IV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. Его запросы возвыше…ы. Степь была пусты…а. Свеча была погаше…а. Она была рассея…а и невнимательна. У меня любовь к книге воспита…а с детства. Стены домика выкраше…ы масляной краской. Дочь избалова…а, упряма и ветре…а.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13" name="TextBox 3"/>
          <p:cNvSpPr/>
          <p:nvPr/>
        </p:nvSpPr>
        <p:spPr>
          <a:xfrm>
            <a:off x="6072120" y="592920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0060"/>
                </a:solidFill>
                <a:uFillTx/>
                <a:latin typeface="Georgia"/>
                <a:hlinkClick r:id="rId1" action="ppaction://hlinksldjump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Проверь себя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15" name=""/>
          <p:cNvSpPr txBox="1"/>
          <p:nvPr/>
        </p:nvSpPr>
        <p:spPr>
          <a:xfrm>
            <a:off x="285840" y="1500120"/>
            <a:ext cx="8501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5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Семена рассеяны. Вы всегда рассеянны. Земли ограничены морем. Мои желания ограниченны. Его предки были возвышены Иваном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</a:rPr>
              <a:t>IV</a:t>
            </a:r>
            <a:r>
              <a:rPr b="0" lang="ru-RU" sz="3000" spc="-1" strike="noStrike">
                <a:solidFill>
                  <a:srgbClr val="0000ff"/>
                </a:solidFill>
                <a:latin typeface="Georgia"/>
              </a:rPr>
              <a:t>. Его запросы возвышенны. Степь была пустынна. Свеча была погашена. Она была рассеянна и невнимательна. У меня любовь к книге воспитана с детства. Стены домика выкрашены масляной краской.  Дочь избалованна, упряма и ветрена. </a:t>
            </a:r>
            <a:endParaRPr b="0" lang="en-US" sz="30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0000"/>
                </a:solidFill>
                <a:latin typeface="Georgia"/>
              </a:rPr>
              <a:t>Вставьте пропущенные буквы</a:t>
            </a:r>
            <a:endParaRPr b="0" lang="en-US" sz="4400" spc="-1" strike="noStrike">
              <a:solidFill>
                <a:srgbClr val="e10000"/>
              </a:solidFill>
              <a:latin typeface="Georgia"/>
            </a:endParaRPr>
          </a:p>
        </p:txBody>
      </p:sp>
      <p:graphicFrame>
        <p:nvGraphicFramePr>
          <p:cNvPr id="2417" name=""/>
          <p:cNvGraphicFramePr/>
          <p:nvPr/>
        </p:nvGraphicFramePr>
        <p:xfrm>
          <a:off x="214200" y="1357200"/>
          <a:ext cx="8715600" cy="502920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олоче..ая поверх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ле..ые гри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а поставле..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жаре..ый л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иса..ая субордин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роги, пече..ые с лу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чая..ое по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арширова..ые яй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лирова..ая  меб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мотка..ый ков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латокова..ый ларе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глаже..ый 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теса..ые брев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оше..ый пидж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на сложе..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ышле..ый малы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отрел бессмысле..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ле..ые бабушкой гри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ира..ая в  машине скат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не..ый в ногу бо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писа..ое пись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яза.ый сви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8" name="TextBox 4"/>
          <p:cNvSpPr/>
          <p:nvPr/>
        </p:nvSpPr>
        <p:spPr>
          <a:xfrm>
            <a:off x="6357960" y="628668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0060"/>
                </a:solidFill>
                <a:uFillTx/>
                <a:latin typeface="Georgia"/>
                <a:hlinkClick r:id="rId1" action="ppaction://hlinksldjump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Проверь себя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graphicFrame>
        <p:nvGraphicFramePr>
          <p:cNvPr id="2420" name=""/>
          <p:cNvGraphicFramePr/>
          <p:nvPr/>
        </p:nvGraphicFramePr>
        <p:xfrm>
          <a:off x="214200" y="1357200"/>
          <a:ext cx="8715600" cy="5029200"/>
        </p:xfrm>
        <a:graphic>
          <a:graphicData uri="http://schemas.openxmlformats.org/drawingml/2006/table">
            <a:tbl>
              <a:tblPr/>
              <a:tblGrid>
                <a:gridCol w="4562640"/>
                <a:gridCol w="4152960"/>
              </a:tblGrid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олоченая поверх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леные гри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а постав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жаренный л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исаная субордин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роги, печеные с лу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чаянное по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аршированные яй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лированная  меб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мотканый ков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латокованый ларе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глаженый 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тесаные брев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ошенный пидж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на слож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ышленый малы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мотрел бессмыслен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ленные бабушкой гри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иранная в  машине скат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ненный в ногу бо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писанное пись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язаный сви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6 </a:t>
            </a:r>
            <a:endParaRPr b="0" lang="en-US" sz="60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49" name="TextBox 3"/>
          <p:cNvSpPr/>
          <p:nvPr/>
        </p:nvSpPr>
        <p:spPr>
          <a:xfrm>
            <a:off x="179280" y="2781360"/>
            <a:ext cx="878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мените разговорное слово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писанина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редложении 19 стилистически нейтральным синонимом. Напишите этот сино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19)Но однажды я комкаю в кулаке свою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исанину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и бросаю в угол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мените книжное слово 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пращур»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в предложении 15 стилистически нейтральным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инонимом.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пишите этот сино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15)Это наши деды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ащуры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908000" y="1052280"/>
            <a:ext cx="5486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2f2f2"/>
                </a:solidFill>
                <a:latin typeface="Georgia"/>
              </a:rPr>
              <a:t>Тест</a:t>
            </a:r>
            <a:endParaRPr b="0" lang="en-US" sz="9600" spc="-1" strike="noStrike">
              <a:solidFill>
                <a:srgbClr val="e1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Вопрос № 1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 каком ряду в каждое слово необходимо вставить  только одну букву н?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голуби...ый, ю...ый, стекля...ый, осе...и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оловя...ый, масля...ый, наследстве...ый, муравьи...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деревя...ый, ра...ий, благослове...ый, пусты...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пья...ый, серебря...ый, сви...ой, пря...ый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Вопрос № 2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Найдите словосочетание с прилагательным с суффиксом </a:t>
            </a:r>
            <a:r>
              <a:rPr b="0" i="1" lang="ru-RU" sz="3200" spc="-1" strike="noStrike">
                <a:solidFill>
                  <a:srgbClr val="0000ff"/>
                </a:solidFill>
                <a:latin typeface="Georgia"/>
              </a:rPr>
              <a:t>-ян-.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масл...ные руки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масл...ный голос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масл...ные краски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масл...ная бумага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Вопрос № 3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301320" y="1428840"/>
            <a:ext cx="8504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кажите верное объяснение написания выделенного слова.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Берега Онежского озера были освое…ы ещё в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III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тысячелетии до нашей эры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ишутся две буквы НН, так как это прилагательное образовано от местоимения </a:t>
            </a:r>
            <a:r>
              <a:rPr b="0" i="1" lang="ru-RU" sz="2400" spc="-1" strike="noStrike">
                <a:solidFill>
                  <a:srgbClr val="0000ff"/>
                </a:solidFill>
                <a:latin typeface="Georgia"/>
              </a:rPr>
              <a:t>свой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с помощью суффикса -ЕНН-.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ишется одна буква Н, так как это краткая форма причастия, образованного от глагола </a:t>
            </a:r>
            <a:r>
              <a:rPr b="0" i="1" lang="ru-RU" sz="2400" spc="-1" strike="noStrike">
                <a:solidFill>
                  <a:srgbClr val="0000ff"/>
                </a:solidFill>
                <a:latin typeface="Georgia"/>
              </a:rPr>
              <a:t>освоить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ишется одна буква Н, так как это причастие без пояснительных слов.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ишутся две буквы НН, так как это прилагательное, а не причастие; в кратком прилагательном сохраняется написание -НН-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Вопрос № 4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 каком слове на месте пропуска пишется НН?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1) большие золоче..ые ложки 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2) змеи..ый яд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3) деревня освобожде..а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4) рискова..ый поступок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Вопрос № 5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 каком примере пишется Н?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1) плете..ое кресло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2) погаше..ый свет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3) слома..ая спица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4) затеря..ый мир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10000"/>
                </a:solidFill>
                <a:latin typeface="Georgia"/>
              </a:rPr>
              <a:t>Вопрос № 6</a:t>
            </a:r>
            <a:endParaRPr b="0" lang="en-US" sz="4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В каком варианте ответа правильно указаны все цифры, на месте которых пишется одна буква Н? 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Искусно выполне(1)ые кова(2)ые балко(3)ые решётки Петербурга – одно из украшений города.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  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1) 1, 2</a:t>
            </a: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2)2</a:t>
            </a: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3)2, 3</a:t>
            </a: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4)1, 3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10000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e10000"/>
                </a:solidFill>
                <a:latin typeface="Georgia"/>
              </a:rPr>
              <a:t>ОТВЕТЫ</a:t>
            </a:r>
            <a:endParaRPr b="0" lang="en-US" sz="54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301320" y="1527120"/>
            <a:ext cx="177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spcBef>
                <a:spcPts val="9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spcBef>
                <a:spcPts val="9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spcBef>
                <a:spcPts val="9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spcBef>
                <a:spcPts val="9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spcBef>
                <a:spcPts val="901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5f006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36" name="TextBox 7"/>
          <p:cNvSpPr/>
          <p:nvPr/>
        </p:nvSpPr>
        <p:spPr>
          <a:xfrm>
            <a:off x="2428920" y="1643040"/>
            <a:ext cx="650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вы допустили много ошибок, повторите правила еще раз и выполните тренировочные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все ваши ответы верны,  эту тему вы знае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дачи на экзаме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Задание 3 – 2; 4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Задание 4 – ничего; взрастившая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Задание 6 – записи; предокродоначальник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Задание 8 – хорошмир; корнипитаютсвязывают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Задание 9 – 6; 25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Задание 10 – 3; 34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Задание 14 – 3; 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11.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4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1. </a:t>
            </a: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Любовь к родине 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означает любовь к родной земле и живущему на ней народу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2. «</a:t>
            </a: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Чувство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 </a:t>
            </a: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родины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" - это любовь к тому месту, где ты родился и прожил много лет, провёл детство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5f006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3. </a:t>
            </a:r>
            <a:r>
              <a:rPr b="1" lang="ru-RU" sz="2700" spc="-1" strike="noStrike">
                <a:solidFill>
                  <a:srgbClr val="0000ff"/>
                </a:solidFill>
                <a:latin typeface="Georgia"/>
              </a:rPr>
              <a:t>«Родная земля» </a:t>
            </a:r>
            <a:r>
              <a:rPr b="0" lang="ru-RU" sz="2700" spc="-1" strike="noStrike">
                <a:solidFill>
                  <a:srgbClr val="0000ff"/>
                </a:solidFill>
                <a:latin typeface="Georgia"/>
              </a:rPr>
              <a:t>- это та, которую ты видишь первой в жизни и запоминаешь до самого горизонта - улицу, лес, поле, реку, родные детский садик и школу.</a:t>
            </a:r>
            <a:endParaRPr b="0" lang="en-US" sz="27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722160" y="40464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8</a:t>
            </a:r>
            <a:endParaRPr b="0" lang="en-US" sz="60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51" name="TextBox 4"/>
          <p:cNvSpPr/>
          <p:nvPr/>
        </p:nvSpPr>
        <p:spPr>
          <a:xfrm>
            <a:off x="216000" y="285264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шите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 грамматическую основу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ложения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12)Корни питают дерево, связывают его с земл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Выпишите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грамматическую основу </a:t>
            </a: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предложения 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(50)И так хорош этот неоглядный зелёный мир моей родины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15640" y="5013000"/>
            <a:ext cx="87850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Среди предложений 1—12 найдите предложение с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обособленным определением</a:t>
            </a: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. Напишите номер этого предлож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1)Вот уже две недели живу я в родной деревне, где не был много лет. (2)Всё уже узнано за это время, всё обойдено, переговорено почти со всеми. (3)И только на свой родной дом я стараюсь не глядеть и обхожу его стороной. (4)Я думаю: зачем бередить прошлое?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(5) Для чего вспоминать то, что забыто даже моими земляками?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(6) Всё ушло навсегда — хорошее и плохое, — плохое не жалко, а хорошего не вернёшь. (7)Я вытравлю из сердца это прошлое, никогда больше не вернусь к нему. (8)Надо быть современным. (9)Надо быть безжалостным к прошлому. (10)Довольно ходить по пепелищам родной Тимонихи, сидеть на опечках. (11)Надо помнить о том, что день и ночь на земле — как говорил поэт Хикмет — работают реакторы и фазотроны. (12)Что счётная машина действует быстрее миллиона деревенских счетоводов, что... </a:t>
            </a:r>
            <a:endParaRPr b="0" lang="en-US" sz="18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53" name="Прямоугольник 3"/>
          <p:cNvSpPr/>
          <p:nvPr/>
        </p:nvSpPr>
        <p:spPr>
          <a:xfrm>
            <a:off x="2595600" y="836640"/>
            <a:ext cx="40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722160" y="3330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9</a:t>
            </a:r>
            <a:endParaRPr b="0" lang="en-US" sz="60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55" name="TextBox 3"/>
          <p:cNvSpPr/>
          <p:nvPr/>
        </p:nvSpPr>
        <p:spPr>
          <a:xfrm>
            <a:off x="216000" y="2492280"/>
            <a:ext cx="878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и предложений 19 – 25 найдите предложение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 обособленным обстоятельством.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пишите номер этого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19)Без прошлого невозможно ни понять хорошо, ни оценить по достоинству настоящего. (20)Дерево нашей Родины – одно целое: зелёная крона и корни, глубоко уходящие в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21) С детской игрушки, с народной сказки, с первой школьной беседы об окружающем мире… (22)Представление о Родине у человека должно складываться из прошлого и настоящего. (23)Только при этом условии вырастет человек, способный заглянуть в завтра, способный гордиться своим Отечеством, верить в него, защищать е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24) Человек должен вырастать сыном сво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25)Совершая дела великие, мы должны знать, откуда пошли и откуда всё начина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722160" y="3330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10</a:t>
            </a:r>
            <a:endParaRPr b="0" lang="en-US" sz="60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57" name="TextBox 3"/>
          <p:cNvSpPr/>
          <p:nvPr/>
        </p:nvSpPr>
        <p:spPr>
          <a:xfrm>
            <a:off x="108000" y="2492280"/>
            <a:ext cx="878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приведённых ниже предложениях из прочитанного текста пронумерованы все запятые. Выпишите цифру(-ы), обозначаюшую(-ие) запятую(-ые)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и вводном(-ых) слове(-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омню, (1) была весна, (2) и твои листочки уже проклюнулись. Правда ведь,(3) ты еле выжила,(4)два лета листочки были мелкие, (5) блед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приведённых ниже предложениях из прочитанного текста пронумерованы все запятые. Выпишите цифры, обозначающие запятые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и обращени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Шарик стал лизать мои руки,(1) щёки,(2) в нём неожиданно появилось что-то из давних лет — из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Ну ладно,(3) старина,(4) прощай. Прости меня за всё,(5) если смож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722160" y="260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eorgia"/>
              </a:rPr>
              <a:t>Задание 14</a:t>
            </a:r>
            <a:endParaRPr b="0" lang="en-US" sz="6000" spc="-1" strike="noStrike">
              <a:solidFill>
                <a:srgbClr val="e10000"/>
              </a:solidFill>
              <a:latin typeface="Georgia"/>
            </a:endParaRPr>
          </a:p>
        </p:txBody>
      </p:sp>
      <p:sp>
        <p:nvSpPr>
          <p:cNvPr id="2359" name="TextBox 3"/>
          <p:cNvSpPr/>
          <p:nvPr/>
        </p:nvSpPr>
        <p:spPr>
          <a:xfrm>
            <a:off x="179280" y="2852640"/>
            <a:ext cx="88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ние Среди предложений 1–5 найдите сложное предложение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 бессоюзной и союзной подчинительной связью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между частями. Напишите номер этого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1)Отца своего, который погиб на фронте, Авалбёк не помнил. (2)Первый раз он увидел его в кино, когда мальчику было лет п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3)Фильм был про войну, Авалбёк сидел с матерью и чувствовал, как она вздрагивала,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экране стреляли. (4)Ему было не очень страш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иногда даже, наоборот, весело, когда падали фашисты. (5)А когда падали наши, ему казалось, что они потом вста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lad 2017</dc:creator>
  <dc:description/>
  <dc:language>en-US</dc:language>
  <cp:lastModifiedBy>Vlad 2017</cp:lastModifiedBy>
  <dcterms:modified xsi:type="dcterms:W3CDTF">2017-11-24T18:17:46Z</dcterms:modified>
  <cp:revision>72</cp:revision>
  <dc:subject/>
  <dc:title>Орфографический практикум № 6</dc:title>
</cp:coreProperties>
</file>