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4F7-7C0E-4FF2-ABD6-B5B93C0A4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749-5E24-4376-B60F-5F3021E50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1F21-7C21-4546-83A4-46A97401B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EA22-1AD0-48F9-9689-FA8D6C9BC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DED-1A02-44F5-8589-A81AF308E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5C6-BCEE-42A1-9CBE-682171E4F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AFFC-4EAC-4618-9482-35ECC5849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0CF-CDEF-4BB2-AD36-93FFC1979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7257-1DCD-4E04-9CA3-A068E0598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701-2564-4006-86E3-5306DDF9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A18-6AC7-4FFF-B7F1-590733FB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662-921E-4A4F-8CDB-F76A8EB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8EB-F901-4D0B-91E5-920202D8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D5E-3A19-498A-A21A-9B6EED15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020-4087-411F-A51D-302E3D8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9D5-E45C-46F3-9156-5A9671C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325-F04C-40C1-A500-9A91AA6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9A9-EE11-4EFC-8A1D-89D65D8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28A-730E-4E0C-9986-0933908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2AD-5339-4584-8C58-328ECD1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9D9-33B5-47D5-A973-4DE4B07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E78-7E70-4C4B-A4CF-80564F73E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erb_Kursk2"/>
          <p:cNvPicPr/>
          <p:nvPr/>
        </p:nvPicPr>
        <p:blipFill>
          <a:blip r:embed="rId1"/>
          <a:stretch/>
        </p:blipFill>
        <p:spPr>
          <a:xfrm>
            <a:off x="179280" y="189000"/>
            <a:ext cx="2095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Gerb_Kursk2"/>
          <p:cNvPicPr/>
          <p:nvPr/>
        </p:nvPicPr>
        <p:blipFill>
          <a:blip r:embed="rId2"/>
          <a:stretch/>
        </p:blipFill>
        <p:spPr>
          <a:xfrm>
            <a:off x="6588000" y="4221000"/>
            <a:ext cx="2338560" cy="2438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68360" y="1557360"/>
            <a:ext cx="4824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286000" y="158256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haroni"/>
              </a:rPr>
              <a:t>ЗАОЧНАЯ ВСТРЕЧА С ПИСАТЕЛЯМИ КУР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е времена на Курской земле жили талантливые люди, чувствующие природу и людей родного края. Широко известны в нашей стране и за рубежом уроженцы земли Курской, писатели и поэты: Гайдар и Воробьёв, Фет и Носов, Гребнев и Наливайко  и другие.  И сегодня в нашем крае живут и творят писатели и поэты. Все они – это наследие земли Курской. Нам есть чем гордиться!                                                                                Вот и подошёл к концу наш классный час. Спасибо за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Gerb_Kursk2"/>
          <p:cNvPicPr/>
          <p:nvPr/>
        </p:nvPicPr>
        <p:blipFill>
          <a:blip r:embed="rId1"/>
          <a:stretch/>
        </p:blipFill>
        <p:spPr>
          <a:xfrm>
            <a:off x="7596360" y="260280"/>
            <a:ext cx="1288800" cy="134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erb_Kursk2"/>
          <p:cNvPicPr/>
          <p:nvPr/>
        </p:nvPicPr>
        <p:blipFill>
          <a:blip r:embed="rId2"/>
          <a:stretch/>
        </p:blipFill>
        <p:spPr>
          <a:xfrm>
            <a:off x="324000" y="189000"/>
            <a:ext cx="1285560" cy="134136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2124000" y="40464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857160" y="100008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erb_Kursk2"/>
          <p:cNvPicPr/>
          <p:nvPr/>
        </p:nvPicPr>
        <p:blipFill>
          <a:blip r:embed="rId1"/>
          <a:stretch/>
        </p:blipFill>
        <p:spPr>
          <a:xfrm>
            <a:off x="179280" y="189000"/>
            <a:ext cx="2095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Gerb_Kursk2"/>
          <p:cNvPicPr/>
          <p:nvPr/>
        </p:nvPicPr>
        <p:blipFill>
          <a:blip r:embed="rId2"/>
          <a:stretch/>
        </p:blipFill>
        <p:spPr>
          <a:xfrm>
            <a:off x="6588000" y="4221000"/>
            <a:ext cx="233856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2700360" y="549360"/>
            <a:ext cx="5448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 и задачи: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50560" y="1916280"/>
            <a:ext cx="5761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ознакомить обучающихся со знаменитыми писателями и поэтами Кур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оказать, что не только природа и знаменитые курские соловьи являются поводом для гордости кур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Способствовать воспитанию у обучающихся любви к литературе и писателям Ку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24360" y="836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Известный советский поэт Николай Николаевич Асеев, родился 27 июня (9 июля) 1889 года в городе Льгове Курской губернии. "Я лирик по сплаву своей души, по самой строчечной сути", - сказал поэт о себе. И это действительно определяло сильную сторону его сложного таланта. Поэт-лирик широко и активно воспринимал явления общественной жизни, стремился передать высокий пафос рождения нового ми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5 из 620"/>
          <p:cNvPicPr/>
          <p:nvPr/>
        </p:nvPicPr>
        <p:blipFill>
          <a:blip r:embed="rId1"/>
          <a:stretch/>
        </p:blipFill>
        <p:spPr>
          <a:xfrm>
            <a:off x="324000" y="692280"/>
            <a:ext cx="32544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24360" y="836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Константин Дмитриевич Воробьев родился 24 сентября 1919 года в селе Нижний Реутец Медвенского района Курской области. Недолог был творческий путь талантливого советского писателя Константина Воробьева - всего 20 лет. Но, несмотря на это, замечательные повести его вошли в сокровищницу советской литера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4 из 1323"/>
          <p:cNvPicPr/>
          <p:nvPr/>
        </p:nvPicPr>
        <p:blipFill>
          <a:blip r:embed="rId1"/>
          <a:stretch/>
        </p:blipFill>
        <p:spPr>
          <a:xfrm>
            <a:off x="324000" y="260280"/>
            <a:ext cx="371952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24360" y="836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Замечательный детский писатель Аркадий Петрович Гайдар (Голиков) родился 9(22) февраля 1904 года в городе Льгове Курской губернии. Здесь прошли первые пять лет его жизни. Детская память сохранила о Льгове лишь немногие отрывочные воспоминания. Больше всего запомнились сказки, которые мальчику рассказывала мать. "Не знаю о чем они были, - вспоминал впоследствии А.П. Гайдар - о красной шапочке или сером Волке? Но на всю жизнь запомнилась большая мечта о хорошей жизн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15 из 1351"/>
          <p:cNvPicPr/>
          <p:nvPr/>
        </p:nvPicPr>
        <p:blipFill>
          <a:blip r:embed="rId1"/>
          <a:stretch/>
        </p:blipFill>
        <p:spPr>
          <a:xfrm>
            <a:off x="395280" y="62064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24360" y="1844280"/>
            <a:ext cx="468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Выдающийся русский писатель Евгений Иванович Носов родился 15 января 1925 года в селе Толмачево под Курском. Несмотря на препоны и преграды цензуры Е. Носов всегда писал правду, одну правду. В этом неувядаемая сила его повестей и расск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а 9 из 73"/>
          <p:cNvPicPr/>
          <p:nvPr/>
        </p:nvPicPr>
        <p:blipFill>
          <a:blip r:embed="rId1"/>
          <a:stretch/>
        </p:blipFill>
        <p:spPr>
          <a:xfrm>
            <a:off x="468360" y="765000"/>
            <a:ext cx="3465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356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ебнев Николай Ив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9 августа 1944 года в селе Черничено Конышевского района Курской области. Окончил Государственный педагогический институт, Академию общественны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путь начал в 1961 году учителем Озёрковой восьмилетней школы Беловского района. В 1965-1973 годах работал в аппарате Беловского райкома комсомола и Курского обкома ВЛКСМ. С 1974 по 1980 - редактор газеты «Молодая гвардия», заместитель главного редактора газеты «Курская правд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95 года по настоящее время Н. Гребнев возглавляет ООО Издательский дом «Славя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назначен председателем Правления Курского регионального отделения Союза писателей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10 года - член Общественной палаты Курской области. С 2003 - руководитель общественной приемной полномочного представителя президента РФ в ЦФО по Кур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едения Н. Гребнева печатались в курских газетах, журналах, альманахах. Издал книги "Чужая родня", "Тимошка прилетел!". Редактировал ряд курских газет, организатор газеты "Славянк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уреат Международной премии славянского единства "Боян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ление Союза писателей России наградило Гребнева Н.И. в связи с 70 – летием со дня рождения медалью «Василий Шукш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http://mkukcbs.ru/images/stories/1iunya/ubil.jpg"/>
          <p:cNvPicPr/>
          <p:nvPr/>
        </p:nvPicPr>
        <p:blipFill>
          <a:blip r:embed="rId1"/>
          <a:stretch/>
        </p:blipFill>
        <p:spPr>
          <a:xfrm>
            <a:off x="785880" y="1631880"/>
            <a:ext cx="3071880" cy="401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Г.Наливай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Гаврилович родился в селе Захарково Конышевского района Курской области в далеком довоенном 1938-м году. Детские воспоминания времен войны нашли отражение в печально суровых поэтических строчках, среди которых поражают своей обжигающей правдой, точностью интонации и выразительной скупостью портретных и бытовых деталей стихотворения «Полина», «1946 год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ленный от природы изобразительным даром, в 50-х годах Леонид Наливайко поступил на художественно-графический факультет пединститута, но почти сразу перевелся на историко-филологический. А после двух лет учебы завербовался в архангельскую тайгу валить лес.Были в его трудовой биографии Урал и Сибирь, а также далекая Игарка. Но дороги эти в конце концов привели его на родную землю, а впечатления иных краев не заслонили близких сердцу курских пейзажей, дорогих воспоминаний и родных лиц. Ко всему этому надо добавить, что, уже давно живя в поселке Горшечное, он не забывает свои родовые крестьянские корни, свои унаследованные навыки – «соль… родительской земл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йко Л.Г. - автор стихотворных сборников: «Встреча» (1983), «Тропы полевые» (1996), «С вершины прожитого оглянусь» (1998), «Земли родимой притяженье», «Памятью душа моя жива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http://tribuna.ucoz.net/_ph/1/568043198.jpg"/>
          <p:cNvPicPr/>
          <p:nvPr/>
        </p:nvPicPr>
        <p:blipFill>
          <a:blip r:embed="rId1"/>
          <a:stretch/>
        </p:blipFill>
        <p:spPr>
          <a:xfrm>
            <a:off x="357120" y="1143000"/>
            <a:ext cx="43578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закончить наше знакомство с удивительным талантом нашей малой родины можно стихотворением «Я – дома»( Наливайко Л.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– ДО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здесь всему и всем родня, –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 правда ль, ивы?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есь даже чибис у мен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 спросит: «Чьи вы?»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х, соловей! Как он поёт,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всем, как прежний, –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не звуки на душу кладё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рёю вешней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цветах и травах дождь звени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то два коленца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д шляхом радуга висит,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полотенце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Цвети над миром и свети,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шар-одуванчик!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юбил не эти ли цветы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алёкий мальчик?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ь будет радость без конц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тёплым – лето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Жаль, нет на празднике отц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мамы нету…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сядешь тихо на порог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обувь снимешь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стоки здесь твоих дорог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здесь твой финиш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Gerb_Kursk2"/>
          <p:cNvPicPr/>
          <p:nvPr/>
        </p:nvPicPr>
        <p:blipFill>
          <a:blip r:embed="rId1"/>
          <a:stretch/>
        </p:blipFill>
        <p:spPr>
          <a:xfrm>
            <a:off x="7596360" y="260280"/>
            <a:ext cx="1288800" cy="134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Gerb_Kursk2"/>
          <p:cNvPicPr/>
          <p:nvPr/>
        </p:nvPicPr>
        <p:blipFill>
          <a:blip r:embed="rId2"/>
          <a:stretch/>
        </p:blipFill>
        <p:spPr>
          <a:xfrm>
            <a:off x="324000" y="189000"/>
            <a:ext cx="1285560" cy="1341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1979640" y="40464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0:15:26Z</dcterms:created>
  <dc:creator>Стас</dc:creator>
  <dc:description/>
  <dc:language>en-US</dc:language>
  <cp:lastModifiedBy>Пользователь</cp:lastModifiedBy>
  <dcterms:modified xsi:type="dcterms:W3CDTF">2020-01-05T13:35:28Z</dcterms:modified>
  <cp:revision>7</cp:revision>
  <dc:subject/>
  <dc:title>Слайд 1</dc:title>
</cp:coreProperties>
</file>