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explode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07B-A98C-428D-A405-4535A377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EB9-6C7C-4FF2-A86B-B99E5B89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9B9-30F2-41A9-B4B0-204D693E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C01-251D-4D8B-BE61-1B54B6BD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064-A5D8-46C9-B90C-AD9DBEE1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0D6-C149-4252-A1DE-C4168139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6F0-1E26-4410-A798-5B6573B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751-A54E-4FEA-9EC2-DFE8FDF0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841-A6F0-4BAF-92F0-204E05A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822-6613-4E2D-B2C0-ADB6E824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CDD-0E9C-4FDB-80F7-06C4C733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7F6-3172-41FC-BEFF-8E9BCFF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5083-1442-4EC2-81C4-39A0F7A35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explode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440000" y="1844640"/>
            <a:ext cx="62640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огопедическая игра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«Посвистим и пошипим»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скачать картинки на телефон бесплатно"/>
          <p:cNvPicPr/>
          <p:nvPr/>
        </p:nvPicPr>
        <p:blipFill>
          <a:blip r:embed="rId2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22280" y="464400"/>
            <a:ext cx="835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закрепить навык различения в произношении звуков С и Ш на уровне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научить дифференцировать звуки С и Ш на слу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научить дифференцировать звуки С и Ш при произношении в слов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395280" y="4240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Игр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«Волшебные деревь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дифференциация звуков С и 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Ход игры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Пока шарик летит до дерев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роизноси звук 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ока снежинка летит до дерева, произноси звук 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формат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снежное дерево" descr="Экстремалка ДДД"/>
          <p:cNvPicPr/>
          <p:nvPr/>
        </p:nvPicPr>
        <p:blipFill>
          <a:blip r:embed="rId2"/>
          <a:stretch/>
        </p:blipFill>
        <p:spPr>
          <a:xfrm>
            <a:off x="5580000" y="333360"/>
            <a:ext cx="2852640" cy="2943360"/>
          </a:xfrm>
          <a:prstGeom prst="rect">
            <a:avLst/>
          </a:prstGeom>
          <a:ln w="0">
            <a:noFill/>
          </a:ln>
        </p:spPr>
      </p:pic>
      <p:pic>
        <p:nvPicPr>
          <p:cNvPr id="50" name="весеннее дерево" descr="Birthdays Illustrations and Clip Art. 72,034 Birthdays royalty free illustrations, drawings and graphics available to search fro"/>
          <p:cNvPicPr/>
          <p:nvPr/>
        </p:nvPicPr>
        <p:blipFill>
          <a:blip r:embed="rId3"/>
          <a:stretch/>
        </p:blipFill>
        <p:spPr>
          <a:xfrm>
            <a:off x="5796000" y="3716280"/>
            <a:ext cx="2787480" cy="2787840"/>
          </a:xfrm>
          <a:prstGeom prst="rect">
            <a:avLst/>
          </a:prstGeom>
          <a:ln w="0">
            <a:noFill/>
          </a:ln>
        </p:spPr>
      </p:pic>
      <p:grpSp>
        <p:nvGrpSpPr>
          <p:cNvPr id="51" name="Полилиния 10"/>
          <p:cNvGrpSpPr/>
          <p:nvPr/>
        </p:nvGrpSpPr>
        <p:grpSpPr>
          <a:xfrm>
            <a:off x="1560600" y="1542960"/>
            <a:ext cx="5078160" cy="4003920"/>
            <a:chOff x="1560600" y="1542960"/>
            <a:chExt cx="5078160" cy="4003920"/>
          </a:xfrm>
        </p:grpSpPr>
        <p:pic>
          <p:nvPicPr>
            <p:cNvPr id="52" name="Полилиния 10" descr=""/>
            <p:cNvPicPr/>
            <p:nvPr/>
          </p:nvPicPr>
          <p:blipFill>
            <a:blip r:embed="rId4"/>
            <a:stretch/>
          </p:blipFill>
          <p:spPr>
            <a:xfrm>
              <a:off x="1560600" y="1542960"/>
              <a:ext cx="5078160" cy="40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658880" y="1633680"/>
              <a:ext cx="487224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шарик" descr="Клипарт - Воздушные шарики. Обсуждение на LiveInternet - Российский Сервис Онлайн-Дневников"/>
          <p:cNvPicPr/>
          <p:nvPr/>
        </p:nvPicPr>
        <p:blipFill>
          <a:blip r:embed="rId5"/>
          <a:stretch/>
        </p:blipFill>
        <p:spPr>
          <a:xfrm>
            <a:off x="900000" y="1052640"/>
            <a:ext cx="9032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55" name="Полилиния 11"/>
          <p:cNvGrpSpPr/>
          <p:nvPr/>
        </p:nvGrpSpPr>
        <p:grpSpPr>
          <a:xfrm>
            <a:off x="1719360" y="1725480"/>
            <a:ext cx="5114880" cy="3675240"/>
            <a:chOff x="1719360" y="1725480"/>
            <a:chExt cx="5114880" cy="3675240"/>
          </a:xfrm>
        </p:grpSpPr>
        <p:pic>
          <p:nvPicPr>
            <p:cNvPr id="56" name="Полилиния 11" descr=""/>
            <p:cNvPicPr/>
            <p:nvPr/>
          </p:nvPicPr>
          <p:blipFill>
            <a:blip r:embed="rId6"/>
            <a:stretch/>
          </p:blipFill>
          <p:spPr>
            <a:xfrm>
              <a:off x="1719360" y="1725480"/>
              <a:ext cx="5114880" cy="36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803240" y="1803240"/>
              <a:ext cx="49374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снежинка" descr="Клипарт новогодние снежинки на прозрачном фоне. Обсуждение н…"/>
          <p:cNvPicPr/>
          <p:nvPr/>
        </p:nvPicPr>
        <p:blipFill>
          <a:blip r:embed="rId7"/>
          <a:stretch/>
        </p:blipFill>
        <p:spPr>
          <a:xfrm>
            <a:off x="755640" y="4581360"/>
            <a:ext cx="1584360" cy="14274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C 0.00937 -0.00833 0.00816 -0.02153 0.01423 -0.0324 C 0.0158 -0.03518 0.01805 -0.0375 0.01996 -0.04004 C 0.02361 -0.06018 0.01805 -0.03565 0.02569 -0.05324 C 0.02673 -0.05555 0.02639 -0.05856 0.02708 -0.06088 C 0.02986 -0.07014 0.03559 -0.08495 0.04132 -0.09143 C 0.04983 -0.10092 0.0625 -0.10139 0.07274 -0.10278 C 0.07535 -0.10208 0.09184 -0.0993 0.09705 -0.09328 C 0.10173 -0.08796 0.10555 -0.08194 0.10989 -0.07615 C 0.11128 -0.0743 0.11423 -0.07037 0.11423 -0.07037 C 0.11944 -0.05578 0.12778 -0.04352 0.13281 -0.02847 C 0.13385 -0.02546 0.13403 -0.02176 0.13559 -0.01898 C 0.13802 -0.01458 0.14427 -0.00764 0.14427 -0.00764 C 0.14618 0.0081 0.14809 0.02454 0.15417 0.0382 C 0.15816 0.06875 0.16597 0.09861 0.15712 0.12963 C 0.15451 0.13866 0.13733 0.15347 0.13142 0.15996 C 0.12708 0.16482 0.11562 0.1676 0.11562 0.1676 C 0.10347 0.16273 0.09826 0.16297 0.09271 0.14861 C 0.08958 0.13172 0.08281 0.13102 0.08993 0.10672 C 0.09114 0.10278 0.09583 0.10324 0.09844 0.10093 C 0.10017 0.09954 0.10139 0.09722 0.10278 0.09537 C 0.11059 0.07408 0.13264 0.06412 0.14705 0.05139 C 0.15278 0.0463 0.16562 0.04005 0.16562 0.04005 C 0.18889 0.04121 0.2125 0.04005 0.23559 0.04375 C 0.24097 0.04468 0.24531 0.05023 0.25 0.05347 C 0.26736 0.06574 0.2816 0.08241 0.29844 0.09537 C 0.30486 0.10764 0.31528 0.11551 0.31996 0.12963 C 0.32483 0.14422 0.3151 0.12269 0.32708 0.14676 C 0.32795 0.14861 0.32986 0.15232 0.32986 0.15232 C 0.33472 0.17408 0.33663 0.19676 0.33993 0.21898 C 0.33889 0.2551 0.33819 0.29144 0.33698 0.32755 C 0.33611 0.35116 0.33368 0.37871 0.32274 0.39815 C 0.32083 0.40625 0.31805 0.4081 0.31285 0.41343 C 0.29757 0.40903 0.29687 0.39236 0.28559 0.37917 C 0.2743 0.36597 0.26944 0.36597 0.26285 0.35232 C 0.26302 0.3507 0.26406 0.3338 0.26562 0.32963 C 0.26892 0.3206 0.27882 0.31551 0.28559 0.3125 C 0.29375 0.30417 0.30121 0.30278 0.31128 0.30093 C 0.32187 0.29398 0.33246 0.29283 0.34427 0.29144 C 0.35417 0.29213 0.36423 0.29167 0.37413 0.29329 C 0.38368 0.29491 0.39392 0.31042 0.40278 0.31621 C 0.4059 0.32037 0.40989 0.32315 0.41285 0.32755 C 0.41875 0.33681 0.42222 0.34885 0.42847 0.3581 C 0.43316 0.36505 0.4375 0.36945 0.44132 0.37685 C 0.4441 0.38889 0.45851 0.40579 0.46701 0.40949 C 0.47743 0.41922 0.48489 0.42269 0.49705 0.42871 C 0.49896 0.42963 0.50087 0.43102 0.50278 0.43241 C 0.50434 0.43357 0.50555 0.43519 0.50712 0.43611 C 0.5151 0.44028 0.51875 0.44028 0.52708 0.4419 C 0.53871 0.44676 0.53489 0.44607 0.55712 0.4419 C 0.55885 0.44167 0.56128 0.4382 0.56128 0.4382 E">
                                      <p:cBhvr>
                                        <p:cTn id="6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96296E-006 C 0.00052 -0.00254 4.16667000000003E-006 -0.00555 0.00139 -0.0074 C 0.00382 -0.01064 0.00816 -0.00926 0.01128 -0.01134 C 0.01649 -0.01481 0.02135 -0.01828 0.02708 -0.02083 C 0.03316 -0.02893 0.03923 -0.03472 0.04705 -0.03981 C 0.05555 -0.05648 0.06961 -0.06435 0.08142 -0.07615 C 0.08611 -0.08078 0.09461 -0.08842 0.09843 -0.09514 C 0.10833 -0.11296 0.09739 -0.09745 0.10711 -0.11041 C 0.11024 -0.12361 0.10781 -0.11898 0.11284 -0.12569 C 0.1118 -0.13889 0.11267 -0.15277 0.10989 -0.16551 C 0.10868 -0.1706 0.10416 -0.17314 0.10139 -0.17708 C 0.08993 -0.19375 0.07795 -0.20787 0.06128 -0.21504 C 0.05521 -0.18194 0.0743 -0.15833 0.08142 -0.12939 C 0.0842 -0.11805 0.08663 -0.10926 0.09427 -0.10277 C 0.09722 -0.09074 0.1026 -0.08009 0.10989 -0.07222 C 0.11198 -0.0699 0.11302 -0.06574 0.11562 -0.06458 C 0.11927 -0.06319 0.12326 -0.06342 0.12708 -0.06273 C 0.15382 -0.06527 0.16041 -0.06111 0.17847 -0.07037 C 0.19375 -0.07824 0.20607 -0.09884 0.22135 -0.10277 C 0.22326 -0.10463 0.225 -0.10694 0.22708 -0.10856 C 0.22934 -0.11018 0.23211 -0.11041 0.2342 -0.11226 C 0.23559 -0.11365 0.23576 -0.11666 0.23715 -0.11805 C 0.23871 -0.1199 0.24114 -0.12014 0.24288 -0.12176 C 0.24479 -0.12338 0.2467 -0.12546 0.24843 -0.12754 C 0.25347 -0.1331 0.25642 -0.14097 0.26128 -0.14652 C 0.26857 -0.15486 0.2776 -0.16527 0.28559 -0.17314 C 0.29305 -0.18796 0.30347 -0.20046 0.31128 -0.21504 C 0.31475 -0.22129 0.31666 -0.22963 0.31996 -0.23611 C 0.32309 -0.24236 0.33021 -0.25301 0.33281 -0.26088 C 0.33732 -0.2743 0.33333 -0.27083 0.33993 -0.28379 C 0.3434 -0.29051 0.34791 -0.29606 0.35139 -0.30277 C 0.3533 -0.30648 0.35711 -0.30764 0.35989 -0.31041 C 0.36406 -0.31458 0.36701 -0.32014 0.36996 -0.32569 C 0.37118 -0.33032 0.37326 -0.33426 0.3743 -0.33889 C 0.37517 -0.34259 0.375 -0.34676 0.37569 -0.35046 C 0.37639 -0.35439 0.37847 -0.3618 0.37847 -0.3618 C 0.38211 -0.40139 0.38073 -0.38032 0.37708 -0.45509 C 0.37673 -0.46088 0.37639 -0.46713 0.3743 -0.47222 C 0.37257 -0.47615 0.36701 -0.48171 0.36701 -0.48171 C 0.36302 -0.49259 0.35642 -0.50092 0.35277 -0.51226 C 0.34965 -0.52199 0.35034 -0.52754 0.34427 -0.53333 C 0.34027 -0.53703 0.33559 -0.53935 0.33142 -0.54282 C 0.32482 -0.55532 0.31996 -0.55 0.30711 -0.54838 C 0.30121 -0.54097 0.29809 -0.53032 0.29566 -0.5199 C 0.29097 -0.46875 0.28628 -0.42384 0.31284 -0.38842 C 0.31649 -0.37338 0.32396 -0.36458 0.33281 -0.35416 C 0.3375 -0.34884 0.34201 -0.34189 0.34705 -0.33703 C 0.35503 -0.32939 0.36753 -0.32708 0.37708 -0.32361 C 0.39618 -0.325 0.4151 -0.32569 0.43402 -0.32754 C 0.44166 -0.32824 0.44722 -0.33588 0.45416 -0.33889 C 0.46354 -0.34722 0.47014 -0.35231 0.48142 -0.35601 C 0.49548 -0.37569 0.47517 -0.34953 0.49132 -0.36365 C 0.49271 -0.36504 0.49288 -0.36782 0.49427 -0.36944 C 0.49687 -0.37245 0.5 -0.37453 0.50277 -0.37708 C 0.5059 -0.37986 0.50555 -0.38148 0.5085 -0.38472 C 0.5125 -0.38912 0.52135 -0.39606 0.52135 -0.39606 C 0.52309 -0.40347 0.52743 -0.40902 0.53142 -0.41504 C 0.53975 -0.42777 0.54861 -0.43865 0.55711 -0.45139 E">
                                      <p:cBhvr>
                                        <p:cTn id="14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1590840" y="785880"/>
            <a:ext cx="7010280" cy="30733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95280" y="50040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Игр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«Веселые сл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пределение места звука в слов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дифференциация С и Ш в слов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Ход игры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: Подарить Шурику слов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начинающиеся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со звука 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одарить Свете слова, 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начинающиеся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с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звука 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фон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8"/>
          <p:cNvSpPr/>
          <p:nvPr/>
        </p:nvSpPr>
        <p:spPr>
          <a:xfrm>
            <a:off x="548280" y="26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Шур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694800" y="371628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в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винья" descr="счастливые свиньи Картинки-Векторные картинки-свободный вектор Скачать бесплатно"/>
          <p:cNvPicPr/>
          <p:nvPr/>
        </p:nvPicPr>
        <p:blipFill>
          <a:blip r:embed="rId2"/>
          <a:stretch/>
        </p:blipFill>
        <p:spPr>
          <a:xfrm>
            <a:off x="3598920" y="30960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мешок" descr="sack gifts grandfather frost Подарки и мешок деда мороза &quot; ALLDAY - народный сайт о дизайне"/>
          <p:cNvPicPr/>
          <p:nvPr/>
        </p:nvPicPr>
        <p:blipFill>
          <a:blip r:embed="rId3"/>
          <a:stretch/>
        </p:blipFill>
        <p:spPr>
          <a:xfrm>
            <a:off x="6012000" y="404640"/>
            <a:ext cx="836640" cy="982800"/>
          </a:xfrm>
          <a:prstGeom prst="rect">
            <a:avLst/>
          </a:prstGeom>
          <a:ln w="0">
            <a:noFill/>
          </a:ln>
        </p:spPr>
      </p:pic>
      <p:pic>
        <p:nvPicPr>
          <p:cNvPr id="68" name="слон" descr="дети, детское, дитя и мать Записи в рубрике дети, детское, дитя и мать Дневник fatima62 : Дневники на КП"/>
          <p:cNvPicPr/>
          <p:nvPr/>
        </p:nvPicPr>
        <p:blipFill>
          <a:blip r:embed="rId4"/>
          <a:stretch/>
        </p:blipFill>
        <p:spPr>
          <a:xfrm>
            <a:off x="7380360" y="260280"/>
            <a:ext cx="1293840" cy="1343160"/>
          </a:xfrm>
          <a:prstGeom prst="rect">
            <a:avLst/>
          </a:prstGeom>
          <a:ln w="0">
            <a:noFill/>
          </a:ln>
        </p:spPr>
      </p:pic>
      <p:pic>
        <p:nvPicPr>
          <p:cNvPr id="69" name="машинка" descr="Toys Хороши у нас игрушки Куклы, мишки и хлопушки &quot; PixelBrush - Портал о дизайне. Скачать фото, картинки, обои, рисунки, иконки"/>
          <p:cNvPicPr/>
          <p:nvPr/>
        </p:nvPicPr>
        <p:blipFill>
          <a:blip r:embed="rId5"/>
          <a:stretch/>
        </p:blipFill>
        <p:spPr>
          <a:xfrm>
            <a:off x="3708360" y="1989000"/>
            <a:ext cx="15130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шоколадка" descr="Thermometer Clip Art For Kids"/>
          <p:cNvPicPr/>
          <p:nvPr/>
        </p:nvPicPr>
        <p:blipFill>
          <a:blip r:embed="rId6"/>
          <a:stretch/>
        </p:blipFill>
        <p:spPr>
          <a:xfrm>
            <a:off x="5867280" y="2133720"/>
            <a:ext cx="1295640" cy="892080"/>
          </a:xfrm>
          <a:prstGeom prst="rect">
            <a:avLst/>
          </a:prstGeom>
          <a:ln w="0">
            <a:noFill/>
          </a:ln>
        </p:spPr>
      </p:pic>
      <p:pic>
        <p:nvPicPr>
          <p:cNvPr id="71" name="подсолнух" descr="Удалённая работа Работа фрилансера Yudkin Alexander Vanmaler Подсолнух"/>
          <p:cNvPicPr/>
          <p:nvPr/>
        </p:nvPicPr>
        <p:blipFill>
          <a:blip r:embed="rId7"/>
          <a:stretch/>
        </p:blipFill>
        <p:spPr>
          <a:xfrm>
            <a:off x="7740720" y="1628640"/>
            <a:ext cx="1079280" cy="998640"/>
          </a:xfrm>
          <a:prstGeom prst="rect">
            <a:avLst/>
          </a:prstGeom>
          <a:ln w="0">
            <a:noFill/>
          </a:ln>
        </p:spPr>
      </p:pic>
      <p:pic>
        <p:nvPicPr>
          <p:cNvPr id="72" name="шуба" descr="Clip Art Images Halloween Stock Photos Clipart Halloween Pictures"/>
          <p:cNvPicPr/>
          <p:nvPr/>
        </p:nvPicPr>
        <p:blipFill>
          <a:blip r:embed="rId8"/>
          <a:stretch/>
        </p:blipFill>
        <p:spPr>
          <a:xfrm>
            <a:off x="3851280" y="3213000"/>
            <a:ext cx="1206360" cy="1557360"/>
          </a:xfrm>
          <a:prstGeom prst="rect">
            <a:avLst/>
          </a:prstGeom>
          <a:ln w="0">
            <a:noFill/>
          </a:ln>
        </p:spPr>
      </p:pic>
      <p:pic>
        <p:nvPicPr>
          <p:cNvPr id="73" name="капуста" descr="Lettuce Clip Art Black And White"/>
          <p:cNvPicPr/>
          <p:nvPr/>
        </p:nvPicPr>
        <p:blipFill>
          <a:blip r:embed="rId9"/>
          <a:stretch/>
        </p:blipFill>
        <p:spPr>
          <a:xfrm>
            <a:off x="5580000" y="3284640"/>
            <a:ext cx="1440000" cy="1346040"/>
          </a:xfrm>
          <a:prstGeom prst="rect">
            <a:avLst/>
          </a:prstGeom>
          <a:ln w="0">
            <a:noFill/>
          </a:ln>
        </p:spPr>
      </p:pic>
      <p:pic>
        <p:nvPicPr>
          <p:cNvPr id="74" name="шапка" descr="Вязаная шапка с помпонами Фото большого размера CLIPARTO"/>
          <p:cNvPicPr/>
          <p:nvPr/>
        </p:nvPicPr>
        <p:blipFill>
          <a:blip r:embed="rId10"/>
          <a:stretch/>
        </p:blipFill>
        <p:spPr>
          <a:xfrm>
            <a:off x="7812000" y="3357720"/>
            <a:ext cx="1041480" cy="1360440"/>
          </a:xfrm>
          <a:prstGeom prst="rect">
            <a:avLst/>
          </a:prstGeom>
          <a:ln w="0">
            <a:noFill/>
          </a:ln>
        </p:spPr>
      </p:pic>
      <p:pic>
        <p:nvPicPr>
          <p:cNvPr id="75" name="сандали" descr="обувь &quot; PixelBrush - Портал о дизайне. Скачать фото, картинки, обои, рисунки, иконки, клипарты, векторный клипарт бесплатно, шаб"/>
          <p:cNvPicPr/>
          <p:nvPr/>
        </p:nvPicPr>
        <p:blipFill>
          <a:blip r:embed="rId11"/>
          <a:stretch/>
        </p:blipFill>
        <p:spPr>
          <a:xfrm>
            <a:off x="3635280" y="5373720"/>
            <a:ext cx="1513080" cy="782640"/>
          </a:xfrm>
          <a:prstGeom prst="rect">
            <a:avLst/>
          </a:prstGeom>
          <a:ln w="0">
            <a:noFill/>
          </a:ln>
        </p:spPr>
      </p:pic>
      <p:pic>
        <p:nvPicPr>
          <p:cNvPr id="76" name="велосипед" descr="Kids Bicycle Clip Art"/>
          <p:cNvPicPr/>
          <p:nvPr/>
        </p:nvPicPr>
        <p:blipFill>
          <a:blip r:embed="rId12"/>
          <a:stretch/>
        </p:blipFill>
        <p:spPr>
          <a:xfrm>
            <a:off x="6012000" y="515772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77" name="шкаф" descr="Блоги - Привет.ру - Интересы и обсуждения пользователей интернет дневников на Привет.ру"/>
          <p:cNvPicPr/>
          <p:nvPr/>
        </p:nvPicPr>
        <p:blipFill>
          <a:blip r:embed="rId13"/>
          <a:stretch/>
        </p:blipFill>
        <p:spPr>
          <a:xfrm>
            <a:off x="7885080" y="5445000"/>
            <a:ext cx="1019160" cy="1068480"/>
          </a:xfrm>
          <a:prstGeom prst="rect">
            <a:avLst/>
          </a:prstGeom>
          <a:ln w="0">
            <a:noFill/>
          </a:ln>
        </p:spPr>
      </p:pic>
      <p:pic>
        <p:nvPicPr>
          <p:cNvPr id="78" name="девочка" descr="Free to Use &amp; Public Domain Toy Clip Art - Page 2 - ClipArt Best - ClipArt Best"/>
          <p:cNvPicPr/>
          <p:nvPr/>
        </p:nvPicPr>
        <p:blipFill>
          <a:blip r:embed="rId14"/>
          <a:stretch/>
        </p:blipFill>
        <p:spPr>
          <a:xfrm>
            <a:off x="539640" y="4221000"/>
            <a:ext cx="174492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мальчик" descr="Клипарт дети рисованые , Клипарты, Клипарты дети рисованые"/>
          <p:cNvPicPr/>
          <p:nvPr/>
        </p:nvPicPr>
        <p:blipFill>
          <a:blip r:embed="rId15"/>
          <a:srcRect l="24080" t="9264" r="27793" b="34"/>
          <a:stretch/>
        </p:blipFill>
        <p:spPr>
          <a:xfrm>
            <a:off x="611280" y="692280"/>
            <a:ext cx="1528560" cy="2879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edge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1.38778E-017 -5.55556E-006 C -0.01007 0.00069 -0.02014 0.00022 -0.03003 0.00184 C -0.03264 0.00231 -0.03472 0.00462 -0.03715 0.00578 C -0.04132 0.00786 -0.05 0.01134 -0.05 0.01134 C -0.05955 0.02083 -0.07048 0.02661 -0.08003 0.0361 C -0.08698 0.04328 -0.09097 0.05462 -0.09722 0.06296 C -0.10208 0.078 -0.10555 0.09328 -0.11007 0.10856 C -0.11163 0.12059 -0.11441 0.1324 -0.11441 0.14467 C -0.11441 0.23101 -0.11719 0.28958 -0.10573 0.36573 C -0.10312 0.38286 -0.10347 0.39953 -0.09583 0.41342 C -0.09479 0.41712 -0.09392 0.42106 -0.09288 0.42476 C -0.09114 0.43124 -0.08437 0.44189 -0.08437 0.44189 C -0.08264 0.44953 -0.08055 0.45624 -0.07725 0.46296 C -0.07569 0.47499 -0.07239 0.48286 -0.07014 0.49513 C -0.06788 0.53981 -0.05486 0.59745 -0.08003 0.6324 C -0.08333 0.64629 -0.07864 0.62962 -0.08576 0.64374 C -0.08663 0.64536 -0.08611 0.64814 -0.08715 0.64953 C -0.08819 0.65092 -0.10087 0.66134 -0.10295 0.66296 C -0.12083 0.67615 -0.14184 0.67962 -0.16146 0.68564 C -0.17014 0.68819 -0.1783 0.69143 -0.18715 0.69143 E">
                                      <p:cBhvr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4.72222E-006 -1.73472E-018 C 0.00955 -0.02476 0.00278 -0.04884 -0.00851 -0.06851 C -0.01094 -0.07291 -0.01198 -0.07916 -0.01563 -0.08171 C -0.02361 -0.08726 -0.01927 -0.08472 -0.02847 -0.08935 C -0.03663 -0.09861 -0.04132 -0.10138 -0.05139 -0.10463 C -0.06024 -0.1125 -0.07274 -0.11111 -0.08281 -0.11226 C -0.10469 -0.11111 -0.12674 -0.10902 -0.14861 -0.10856 C -0.16233 -0.10833 -0.17622 -0.10879 -0.18993 -0.11041 C -0.19288 -0.11064 -0.19861 -0.11412 -0.19861 -0.11412 C -0.20261 -0.11759 -0.2059 -0.12245 -0.2099 -0.12569 C -0.21111 -0.12685 -0.21285 -0.12662 -0.21424 -0.12754 C -0.2158 -0.12847 -0.21719 -0.13009 -0.21858 -0.13125 C -0.22136 -0.14305 -0.23108 -0.15972 -0.23993 -0.16365 C -0.2441 -0.17175 -0.24983 -0.17592 -0.25434 -0.18287 C -0.2566 -0.18634 -0.25747 -0.1912 -0.2599 -0.19421 C -0.26285 -0.19791 -0.26563 -0.20185 -0.26858 -0.20555 C -0.2691 -0.2074 -0.26997 -0.21134 -0.26997 -0.21134 E">
                                      <p:cBhvr>
                                        <p:cTn id="3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3.33333E-006 -4.07407E-006 C -0.02014 -0.02523 -0.06858 0.00625 -0.09289 0.01713 C -0.10278 0.02593 -0.09827 0.02338 -0.10573 0.02662 C -0.1158 0.04005 -0.11042 0.03681 -0.12014 0.04005 C -0.12726 0.0463 -0.13195 0.0507 -0.14011 0.05324 C -0.14827 0.06088 -0.15782 0.05949 -0.16719 0.06296 C -0.17014 0.06412 -0.17292 0.06551 -0.1757 0.06667 C -0.17865 0.06783 -0.18438 0.07037 -0.18438 0.07037 C -0.19219 0.07732 -0.19948 0.07847 -0.20868 0.08009 C -0.23698 0.09259 -0.26997 0.07755 -0.29861 0.07037 C -0.31441 0.06204 -0.33125 0.06204 -0.34723 0.05533 C -0.35452 0.04861 -0.36146 0.04583 -0.37014 0.04375 C -0.37431 0.04005 -0.3783 0.03843 -0.38299 0.03611 C -0.39289 0.02662 -0.40226 0.01829 -0.41441 0.01528 C -0.41875 0.00903 -0.42396 0.00926 -0.43004 0.00764 C -0.43542 0.00046 -0.43993 0.00046 -0.44723 -0.00185 C -0.454 -0.0081 -0.45 -0.00509 -0.46007 -0.00949 C -0.46146 -0.01018 -0.46441 -0.01134 -0.46441 -0.01134 C -0.46927 -0.01574 -0.47518 -0.02292 -0.48143 -0.02292 E">
                                      <p:cBhvr>
                                        <p:cTn id="4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-0.07344 0.0375 C -0.07552 0.05023 -0.07986 0.06643 -0.0849 0.07755 C -0.08715 0.09282 -0.08906 0.10764 -0.09063 0.12315 C -0.09184 0.13565 -0.09202 0.14722 -0.09497 0.15926 C -0.09636 0.17755 -0.09566 0.19792 -0.10209 0.21458 C -0.10417 0.23194 -0.10573 0.24954 -0.11059 0.26597 C -0.11198 0.27755 -0.11389 0.28773 -0.11771 0.29838 C -0.1217 0.32685 -0.12639 0.35602 -0.13212 0.38403 C -0.13264 0.39051 -0.13281 0.39676 -0.13351 0.40324 C -0.1342 0.41088 -0.13629 0.42593 -0.13629 0.42593 C -0.13733 0.44491 -0.13715 0.50903 -0.15209 0.52893 C -0.15955 0.54977 -0.19427 0.55625 -0.21059 0.55926 C -0.21632 0.56042 -0.22205 0.56296 -0.22778 0.56319 C -0.26736 0.56551 -0.30677 0.56574 -0.34636 0.5669 C -0.36233 0.56944 -0.37917 0.57083 -0.39497 0.57639 C -0.39792 0.57731 -0.4007 0.5787 -0.40347 0.58032 C -0.40608 0.58194 -0.40799 0.58495 -0.41059 0.58611 C -0.41615 0.58866 -0.42205 0.58843 -0.42778 0.58981 C -0.43837 0.59699 -0.43004 0.59259 -0.44775 0.5956 C -0.45018 0.59606 -0.45261 0.59653 -0.45486 0.59745 C -0.45729 0.59838 -0.45955 0.60069 -0.46198 0.60116 C -0.46858 0.60255 -0.47535 0.60255 -0.48212 0.60324 C -0.49375 0.60833 -0.50504 0.61412 -0.51632 0.62037 C -0.52709 0.6338 -0.50486 0.60718 -0.54063 0.63171 C -0.57275 0.6537 -0.60226 0.64514 -0.64202 0.64514 E">
                                      <p:cBhvr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0.06267 0.01134 C -0.06666 0.01898 -0.07239 0.02222 -0.07708 0.02847 C -0.0842 0.03773 -0.08506 0.04166 -0.09409 0.0456 C -0.096 0.04815 -0.09826 0.05046 -0.09982 0.05324 C -0.10104 0.05555 -0.10138 0.05856 -0.10277 0.06088 C -0.1092 0.07153 -0.11822 0.08171 -0.12552 0.09143 C -0.13281 0.10115 -0.14913 0.10069 -0.1585 0.10463 C -0.2269 0.16921 -0.32604 0.10995 -0.40989 0.10856 C -0.41944 0.10416 -0.42899 0.10115 -0.43836 0.09699 C -0.45208 0.09074 -0.46493 0.08125 -0.47847 0.0743 C -0.4842 0.06643 -0.48836 0.06481 -0.49548 0.05903 C -0.50086 0.05486 -0.50486 0.04815 -0.50989 0.04375 C -0.51631 0.03796 -0.52586 0.03565 -0.53263 0.03032 C -0.53767 0.02639 -0.54218 0.02153 -0.54704 0.01713 C -0.5519 0.01273 -0.55642 0.0081 -0.56128 0.0037 C -0.56527 2.59258999999986E-006 -0.57274 -0.00764 -0.57274 -0.00764 C -0.57725 -0.01713 -0.59236 -0.02755 -0.59982 -0.03635 C -0.60868 -0.04676 -0.61631 -0.05903 -0.62413 -0.0706 C -0.62673 -0.07454 -0.63038 -0.07755 -0.63263 -0.08195 C -0.63611 -0.08889 -0.63819 -0.09514 -0.6427 -0.10093 C -0.64652 -0.11135 -0.65138 -0.11875 -0.65694 -0.12778 C -0.65989 -0.13843 -0.65642 -0.12847 -0.66267 -0.13912 C -0.66475 -0.14283 -0.6684 -0.15047 -0.6684 -0.15047 C -0.67048 -0.15903 -0.67447 -0.16528 -0.67708 -0.17338 C -0.68576 -0.20047 -0.67725 -0.18264 -0.6842 -0.1963 C -0.68628 -0.21852 -0.68559 -0.20648 -0.68559 -0.23241 E">
                                      <p:cBhvr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0.03803 -0.09074 C -0.03455 -0.11019 -0.04757 -0.12199 -0.0566 -0.13472 C -0.06789 -0.1713 -0.1007 -0.17477 -0.12657 -0.17847 C -0.16511 -0.17778 -0.20382 -0.17778 -0.24237 -0.17662 C -0.25504 -0.17616 -0.27448 -0.16597 -0.28664 -0.15949 C -0.30365 -0.15023 -0.32118 -0.14445 -0.33941 -0.14213 C -0.38039 -0.14375 -0.4191 -0.15093 -0.45955 -0.15556 C -0.47518 -0.16273 -0.48976 -0.17407 -0.50521 -0.18218 C -0.5125 -0.1919 -0.51962 -0.1956 -0.52952 -0.19931 C -0.53525 -0.20695 -0.54757 -0.21574 -0.55521 -0.21852 C -0.56789 -0.23032 -0.58091 -0.24282 -0.59237 -0.25648 C -0.59705 -0.26204 -0.60157 -0.26852 -0.6066 -0.27361 C -0.61303 -0.27986 -0.61945 -0.28519 -0.62518 -0.29282 C -0.629 -0.29792 -0.63316 -0.30532 -0.63525 -0.31181 C -0.63577 -0.31366 -0.63577 -0.31574 -0.63664 -0.31736 C -0.64358 -0.3287 -0.65191 -0.3375 -0.65799 -0.34977 C -0.66216 -0.37593 -0.65608 -0.34236 -0.66372 -0.36898 C -0.66719 -0.38079 -0.66667 -0.39607 -0.67379 -0.40509 C -0.67813 -0.41713 -0.67796 -0.43171 -0.6823 -0.44329 C -0.68421 -0.44838 -0.68803 -0.45833 -0.68803 -0.45833 C -0.68907 -0.47037 -0.68976 -0.48009 -0.69375 -0.49074 E">
                                      <p:cBhvr>
                                        <p:cTn id="7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1.38889E-006 3.7037E-007 C 0.0033 0.02292 0.00122 0.01435 0.00434 0.02662 C 0.00486 0.03171 0.0059 0.0368 0.00573 0.0419 C 0.00538 0.05092 0.00573 0.06134 0.00156 0.06852 C -0.01163 0.09097 -0.02396 0.08958 -0.04288 0.09907 C -0.13715 0.09606 -0.07969 0.10208 -0.11285 0.09143 C -0.11649 0.08842 -0.12066 0.0868 -0.12431 0.0838 C -0.1309 0.07801 -0.13767 0.06921 -0.14427 0.06296 C -0.14618 0.06111 -0.14688 0.05764 -0.14844 0.05532 C -0.15278 0.04884 -0.15799 0.04236 -0.16285 0.03634 C -0.1691 0.02847 -0.1783 0.01088 -0.18559 0.00764 C -0.20521 -0.01227 -0.21389 -0.03403 -0.24132 -0.03611 C -0.2533 -0.03704 -0.2651 -0.03611 -0.27708 -0.03611 E">
                                      <p:cBhvr>
                                        <p:cTn id="8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скачать картинки на телефон бесплатно"/>
          <p:cNvPicPr/>
          <p:nvPr/>
        </p:nvPicPr>
        <p:blipFill>
          <a:blip r:embed="rId1"/>
          <a:srcRect l="0" t="0" r="106" b="97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" descr=""/>
          <p:cNvPicPr/>
          <p:nvPr/>
        </p:nvPicPr>
        <p:blipFill>
          <a:blip r:embed="rId2"/>
          <a:stretch/>
        </p:blipFill>
        <p:spPr>
          <a:xfrm>
            <a:off x="1231920" y="719280"/>
            <a:ext cx="668664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6:08:50Z</dcterms:created>
  <dc:creator>Фивейские</dc:creator>
  <dc:description/>
  <dc:language>en-US</dc:language>
  <cp:lastModifiedBy>ирина</cp:lastModifiedBy>
  <dcterms:modified xsi:type="dcterms:W3CDTF">2016-03-10T12:23:51Z</dcterms:modified>
  <cp:revision>10</cp:revision>
  <dc:subject/>
  <dc:title>PowerPoint Presentation</dc:title>
</cp:coreProperties>
</file>