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EFD2-1A39-455A-A616-6D010A6B0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0AE2-041A-4E90-987A-1F1C4D1D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DF87-91BD-4CC5-8673-06999BE85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9683-59CB-4C5B-97E6-0B568ACC6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55F2-0C72-4CF9-A62E-5BD094A6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3EF2-208E-41EE-ADB7-D0299592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D5DE-BF6D-444C-B145-398AE97C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A118-F174-48A6-9A4F-6CFF03CC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8682-2399-420A-88A4-A19DC113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648B-40F6-49FD-98A8-6346A22C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7A79-162E-4FB4-B6F8-8EB44689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EBF4-A26A-4D07-8EFC-28481EFE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9CD7-8CD9-4700-9DB0-8AF927F07D8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3880" y="214200"/>
            <a:ext cx="7743960" cy="33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ер-класс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узыкально-педагогической технологии « Хор рук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методике Т. Боров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86240" y="3714840"/>
            <a:ext cx="357192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менкова А.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й руковод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детского сада №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Ярцева Смоле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admin\Desktop\хор\IMG_624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admin\Desktop\хор\IMG_E625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357120" y="214200"/>
            <a:ext cx="83581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ле того, как дети с уверенностью справляются в «одноголосием» можно начать работу над «двухголосием». Здесь дошкольники делятся на две партии, где поначалу ведущими дирижерами выступают один из детей и один взрослый. А со временем, накопив опыт двигательных навыков и справившись с застенчивостью, дети самостоятельно выступают в роли дирижеров всех пар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admin\Desktop\хор\IMG_62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admin\Desktop\хор\IMG_626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admin\Desktop\хор\IMG_626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468360" y="189000"/>
            <a:ext cx="828036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обенностями технологии являе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Применение формы для самых разнообразных ситуаций: от занятия до концертного пок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Может быть использована в работе с воспитанниками самого разного возра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 Простота в исполнении позволяет быть в роли ведущего любому ребенку, в том числе и тому, кто застенчив, испытывает внутреннюю неловкость, робок, стремится не выказывать личной инициативы. Именно данная форма предлагает каждому их детей попробовать себя в роли лид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324000" y="476280"/>
            <a:ext cx="896436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Это одна из форм арттерапии, артпедагогики, музыкотерапии, как активная релакс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. Форма «двигательного двухголосия», заложенная в основе технологии, активизирует внимание и способности подражания, а также развивает слуховое восприятие, чувство ритма, ансамблевую слаженность, способности к двигательной импровизации и творческое вообра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. Ведущим может быть любой взрослый, а не только музыкальный руководитель. Поэтому эту форму могут использовать педагоги, не имея специального музыкального образования. (я рекомендую Вам, уважаемые коллег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539640" y="549360"/>
            <a:ext cx="7920000" cy="43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щение к данной технологии в работе с дошкольниками позволило добиться следующих результа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далось создать на музыкальных занятиях, праздниках атмосферу радостного общения, приподнятого настро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и стали более активными и раскрепощенными, в их действиях постепенно исчезают страх и неуверенност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и развиваются творчески в процессе игрового, радостного и естественного общения с музыкой, (без лишних «натаскиваний» и заучивани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539640" y="549360"/>
            <a:ext cx="8425080" cy="50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йчас я предлагаю вам поучаствовать в хоре рук, начнем мы тоже с одноголосия. Я приготовила для вас атрибуты – это цветочки. Мы будем руками изображать красивую цветочную полянку. Пока я буду выполнять роль ведущего – дирижера (показ, затем дирижера выбираю из участников)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 теперь предлагаю поучаствовать в двухголосном хоре, для этого нам понадобятся два ведущих дирижера, одним из них буду я. Цветочки у нас уже есть, мы к ним добавим бабочек. Наверное, многим из нас хочется, чтоб наступило лето, давайте сами попробуем создать летнее яркое настроение. Я предлагаю вам прослушать музыкальный фрагмент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Isol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исполнении камерного оркестра Ron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eneziano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), представить образ и его изобразить движениями рук, (слушаем, беседуем о музыке, показываем хор рук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11280" y="476280"/>
          <a:ext cx="7942320" cy="4887720"/>
        </p:xfrm>
        <a:graphic>
          <a:graphicData uri="http://schemas.openxmlformats.org/drawingml/2006/table">
            <a:tbl>
              <a:tblPr/>
              <a:tblGrid>
                <a:gridCol w="7942320"/>
              </a:tblGrid>
              <a:tr h="4887720">
                <a:tc>
                  <a:txBody>
                    <a:bodyPr lIns="114480" rIns="11448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Кем бы не стал в дальнейшем    ребенок- музыкантом, врачом, ученым или рабочим, задача педагога- воспитать в нем творческое начало, творческое мышление».  К. Орф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Rectangle 9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 мастер - класса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98600" y="1773000"/>
            <a:ext cx="814680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уровня профессиональной компетентности педагогов путем овладения технологией «Хор рук» (автор Т.Боровик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592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79280" y="1125360"/>
            <a:ext cx="864072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30816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продемонстрировать коллегам  этапы реализации технолог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30816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прокомментировать эффективность применения методов в различных видах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30816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отработать приемы в деятельностно - имитационном режи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308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920" y="115560"/>
            <a:ext cx="864216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й из главных задач ФГОС является сохранение и поддержка индивидуальности ребенка, развитие его способностей и творческого потенциал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постоянной заботой педагогов является выбор наиболее эффективных средств обучения и воспитания. Использование инновационных педагогических технологий открывает новые возможности воспитания и обучения дошкольников. Одной из инновационных форм музыкального развития дошкольников является музыкально педагогическая технология «Хор рук», автор которой наш современник Татьяна Боровик- русский музыковед, педагог, исследовател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 А. Боровик закончила Минскую Академию музыки. Стажировалась в Швеции как музыкотерапевт. Практикует в области музыкального профессионального, общего и коррекционного воспитания и образования детей. С 1994 года проводит авторские семинары, является автором 8 книг и 15 ста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форма работы интересна тем, что она подводит детей к пониманию двухголосия в целом, и в частности к пониманию двигательного двухголос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все участники делятся на «хор из двух голосов» и двух ведущих - «дирижеров»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Предварительно ребята прослушивают музыкальное произведение, высказываются о его характере, музыкальном образе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Затем детям предлагается изобразить музыкальный образ руками, поучаствовать в хоре рук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рвую двигательную партию» исполняют руками одна группа детей (сидящая в ряд на стульях), зеркально отражая движения сидящего первого ведущего - «дирижера», «вторую партию» - другая группа детей, стоящая позади первой группы, соответственно копируя движения стоящего второго «дирижера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395280" y="178920"/>
            <a:ext cx="842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более глубокого восприятия музыки и развития творческого воображения ребят, можно использовать дополнительные атрибуты, которые закрепляются на запястье детей, либо перчатки, к которым можно прикрепить: снежинки, листья, цветы, бабочек, птиц и т. д. В зависимости от музыкального образа, темы, сезона и сюжета получаются самые разные по настроению и характеру композиции («Осенний лес», «Снежный вальс», «Танец птиц», «Вальс цветов и бабочек» и д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642960" y="285840"/>
            <a:ext cx="777708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того, чтобы детям проще было вникнуть в процесс, я начала работу с  «одноголосия», где я выполняла роль дирижера, а ребята были моим хором и повторяли движения за мной. Затем место «дирижера» предлагается занять одному из детей. По мере накопления детьми двигательных навыков ребята с удовольствием берут на себя эту ро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admin\Desktop\хор\IMG_E6254.JPG"/>
          <p:cNvPicPr/>
          <p:nvPr/>
        </p:nvPicPr>
        <p:blipFill>
          <a:blip r:embed="rId1"/>
          <a:stretch/>
        </p:blipFill>
        <p:spPr>
          <a:xfrm>
            <a:off x="0" y="57240"/>
            <a:ext cx="91440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dmin</cp:lastModifiedBy>
  <dcterms:modified xsi:type="dcterms:W3CDTF">2019-08-16T09:45:29Z</dcterms:modified>
  <cp:revision>398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80b0000000000010282310207f7000400038000</vt:lpwstr>
  </property>
</Properties>
</file>