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5.jpeg" ContentType="image/jpeg"/>
  <Override PartName="/ppt/media/image124.jpeg" ContentType="image/jpeg"/>
  <Override PartName="/ppt/media/image122.jpeg" ContentType="image/jpeg"/>
  <Override PartName="/ppt/media/image121.jpeg" ContentType="image/jpeg"/>
  <Override PartName="/ppt/media/image120.gif" ContentType="image/gif"/>
  <Override PartName="/ppt/media/image47.jpeg" ContentType="image/jpeg"/>
  <Override PartName="/ppt/media/image114.jpeg" ContentType="image/jpeg"/>
  <Override PartName="/ppt/media/image102.gif" ContentType="image/gif"/>
  <Override PartName="/ppt/media/image118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9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14.gif" ContentType="image/gif"/>
  <Override PartName="/ppt/media/image98.jpeg" ContentType="image/jpeg"/>
  <Override PartName="/ppt/media/image39.jpeg" ContentType="image/jpeg"/>
  <Override PartName="/ppt/media/image82.png" ContentType="image/png"/>
  <Override PartName="/ppt/media/image51.jpeg" ContentType="image/jpeg"/>
  <Override PartName="/ppt/media/image13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8.jpeg" ContentType="image/jpeg"/>
  <Override PartName="/ppt/media/image45.gif" ContentType="image/gif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80.gif" ContentType="image/gif"/>
  <Override PartName="/ppt/media/image5.jpeg" ContentType="image/jpeg"/>
  <Override PartName="/ppt/media/image127.jpeg" ContentType="image/jpeg"/>
  <Override PartName="/ppt/media/image133.jpeg" ContentType="image/jpeg"/>
  <Override PartName="/ppt/media/image54.jpeg" ContentType="image/jpeg"/>
  <Override PartName="/ppt/media/image53.jpeg" ContentType="image/jpeg"/>
  <Override PartName="/ppt/media/image132.jpeg" ContentType="image/jpeg"/>
  <Override PartName="/ppt/media/image75.gif" ContentType="image/gif"/>
  <Override PartName="/ppt/media/image48.jpeg" ContentType="image/jpeg"/>
  <Override PartName="/ppt/media/image6.jpeg" ContentType="image/jpeg"/>
  <Override PartName="/ppt/media/image128.jpeg" ContentType="image/jpeg"/>
  <Override PartName="/ppt/media/image134.jpeg" ContentType="image/jpeg"/>
  <Override PartName="/ppt/media/image50.gif" ContentType="image/gif"/>
  <Override PartName="/ppt/media/image56.jpeg" ContentType="image/jpeg"/>
  <Override PartName="/ppt/media/image57.jpeg" ContentType="image/jpeg"/>
  <Override PartName="/ppt/media/image43.gif" ContentType="image/gif"/>
  <Override PartName="/ppt/media/image38.jpeg" ContentType="image/jpeg"/>
  <Override PartName="/ppt/media/image129.jpeg" ContentType="image/jpeg"/>
  <Override PartName="/ppt/media/image135.gif" ContentType="image/gif"/>
  <Override PartName="/ppt/media/image41.png" ContentType="image/png"/>
  <Override PartName="/ppt/media/image3.jpeg" ContentType="image/jpeg"/>
  <Override PartName="/ppt/media/image49.jpeg" ContentType="image/jpeg"/>
  <Override PartName="/ppt/media/image46.jpeg" ContentType="image/jpeg"/>
  <Override PartName="/ppt/media/image44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115.gif" ContentType="image/gif"/>
  <Override PartName="/ppt/media/image31.jpeg" ContentType="image/jpeg"/>
  <Override PartName="/ppt/media/image15.jpeg" ContentType="image/jpeg"/>
  <Override PartName="/ppt/media/image16.jpeg" ContentType="image/jpeg"/>
  <Override PartName="/ppt/media/image7.jpeg" ContentType="image/jpeg"/>
  <Override PartName="/ppt/media/chimes.wav" ContentType="audio/x-wav"/>
  <Override PartName="/ppt/media/image22.gif" ContentType="image/gif"/>
  <Override PartName="/ppt/media/image113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100.jpeg" ContentType="image/jpeg"/>
  <Override PartName="/ppt/media/image117.jpeg" ContentType="image/jpeg"/>
  <Override PartName="/ppt/media/image23.jpeg" ContentType="image/jpeg"/>
  <Override PartName="/ppt/media/image119.jpeg" ContentType="image/jpeg"/>
  <Override PartName="/ppt/media/image60.jpeg" ContentType="image/jpeg"/>
  <Override PartName="/ppt/media/image61.jpeg" ContentType="image/jpeg"/>
  <Override PartName="/ppt/media/image78.jpeg" ContentType="image/jpeg"/>
  <Override PartName="/ppt/media/image97.jpeg" ContentType="image/jpeg"/>
  <Override PartName="/ppt/media/image62.png" ContentType="image/pn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png" ContentType="image/png"/>
  <Override PartName="/ppt/media/image68.jpeg" ContentType="image/jpeg"/>
  <Override PartName="/ppt/media/image69.jpeg" ContentType="image/jpeg"/>
  <Override PartName="/ppt/media/image18.jpeg" ContentType="image/jpeg"/>
  <Override PartName="/ppt/media/image70.png" ContentType="image/png"/>
  <Override PartName="/ppt/media/image91.jpeg" ContentType="image/jpeg"/>
  <Override PartName="/ppt/media/image111.jpeg" ContentType="image/jpeg"/>
  <Override PartName="/ppt/media/image77.gif" ContentType="image/gif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79.jpeg" ContentType="image/jpeg"/>
  <Override PartName="/ppt/media/image81.gif" ContentType="image/gif"/>
  <Override PartName="/ppt/media/image37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126.gif" ContentType="image/gif"/>
  <Override PartName="/ppt/media/image94.jpeg" ContentType="image/jpeg"/>
  <Override PartName="/ppt/media/image95.jpeg" ContentType="image/jpeg"/>
  <Override PartName="/ppt/media/image55.jpeg" ContentType="image/jpeg"/>
  <Override PartName="/ppt/media/image96.png" ContentType="image/png"/>
  <Override PartName="/ppt/media/image123.jpeg" ContentType="image/jpeg"/>
  <Override PartName="/ppt/media/image99.png" ContentType="image/png"/>
  <Override PartName="/ppt/media/image10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DC1E-D260-4263-A602-C07BADD9E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BC14-30FE-4659-A557-C1E33A8FF2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7C59-2F0A-434E-B9D7-B98E5C0BFA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833-D560-42B5-BFDE-09F105432F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2D24-F7D5-4795-847C-E5E5C9BE40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D17-8431-46F5-9008-8E70370E01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21D-26D2-48B4-A483-59CDA9954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44B7-6143-4CE0-8CA9-0F5740BAB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8963-ECE3-4A62-A217-EA39D1F2A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585-7BC7-4CEA-AB09-E2AF0CE8AE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7D6-585E-4A37-9072-47463491D5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CE6-0899-4AEE-A590-E75ADA1C09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A4B-4D0F-47E2-9828-342F856AED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7F3-7EB8-4F79-A9AD-7CDFC1D337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675E-85E7-41C0-81DA-33C381AC28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56E-73C7-4FDD-B4A1-4FBF4FB6D1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2A2A-302C-48A7-8A39-08305071FC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D32-5F59-497D-BF67-2B7172EEFB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29A-2335-4DE7-AE7B-8EB7469C3E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643-6696-44F4-8572-30E68616A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D10E-7DFC-469A-B602-746C6132A9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31F-1DB9-4CB6-98F8-68984A99B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31F-FA4A-4CF5-99E0-5FB8CFD71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135-1433-4EA5-B71E-EE9EBD5C5E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6A4-176F-4844-8C25-EC9B838D6E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465B-9236-477A-B5FC-5A303FD361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6B8-B7F7-4A55-BA96-E859895855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03E3-9905-4CEA-AFF4-96FC94CA6E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D9E-EC9D-451A-BC81-0B9769765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842-F506-4B64-BADF-760F58ACBD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991-93D4-4198-8454-88183551FC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B9A7-3164-4B6A-89B0-25D4C3450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910-6418-4E7E-94A0-5EE1C1B9B0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B035-7987-4ECE-A061-874F409D4A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2671-BD74-4744-A501-851C790826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E096-B2D9-40DE-8EF5-7E870CF0C4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41B-D09F-4FD3-9BB0-F156EED8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C26-0A93-4100-9B82-98F0509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371-5FA5-493A-9348-F56C4C9A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89B-FE26-498D-B292-97C2ED3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880-3E87-4313-BCF6-364C831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B55-E724-45EF-8909-DCD0E5F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952-4FAB-488A-91FF-EA73785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36D-1C17-485C-9188-8DEC3ABD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ABA-5FA4-45E0-9F41-E1DE026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3B5-12A3-4E5D-A53B-255A778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3D6-487E-4B73-BE0A-0BFD021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2BC-3F8E-499E-8FA0-07A49ED9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E89-F583-4FEB-91B3-F58962D195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pn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image" Target="../media/image76.jpeg"/><Relationship Id="rId3" Type="http://schemas.openxmlformats.org/officeDocument/2006/relationships/image" Target="../media/image77.gif"/><Relationship Id="rId4" Type="http://schemas.openxmlformats.org/officeDocument/2006/relationships/image" Target="../media/image7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gif"/><Relationship Id="rId4" Type="http://schemas.openxmlformats.org/officeDocument/2006/relationships/image" Target="../media/image81.gif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pn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image" Target="../media/image10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image" Target="../media/image112.jpeg"/><Relationship Id="rId5" Type="http://schemas.openxmlformats.org/officeDocument/2006/relationships/image" Target="../media/image113.jpeg"/><Relationship Id="rId6" Type="http://schemas.openxmlformats.org/officeDocument/2006/relationships/image" Target="../media/image114.jpeg"/><Relationship Id="rId7" Type="http://schemas.openxmlformats.org/officeDocument/2006/relationships/image" Target="../media/image4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5.gif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gif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image" Target="../media/image128.jpeg"/><Relationship Id="rId3" Type="http://schemas.openxmlformats.org/officeDocument/2006/relationships/image" Target="../media/image1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image" Target="../media/image1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67200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4475160" cy="671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ежки Монтессор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1_01_01_JPG"/>
          <p:cNvPicPr/>
          <p:nvPr/>
        </p:nvPicPr>
        <p:blipFill>
          <a:blip r:embed="rId1"/>
          <a:stretch/>
        </p:blipFill>
        <p:spPr>
          <a:xfrm>
            <a:off x="468360" y="3429000"/>
            <a:ext cx="2663640" cy="2050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0" name="Picture 5" descr="1_01_02_JPG"/>
          <p:cNvPicPr/>
          <p:nvPr/>
        </p:nvPicPr>
        <p:blipFill>
          <a:blip r:embed="rId2"/>
          <a:stretch/>
        </p:blipFill>
        <p:spPr>
          <a:xfrm>
            <a:off x="2843280" y="4653000"/>
            <a:ext cx="2089080" cy="187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1" name="Picture 6" descr="1_01_06_JPG"/>
          <p:cNvPicPr/>
          <p:nvPr/>
        </p:nvPicPr>
        <p:blipFill>
          <a:blip r:embed="rId3"/>
          <a:stretch/>
        </p:blipFill>
        <p:spPr>
          <a:xfrm>
            <a:off x="4500720" y="2924280"/>
            <a:ext cx="2520720" cy="1930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2" name="Picture 7" descr="1_01_03_JPG"/>
          <p:cNvPicPr/>
          <p:nvPr/>
        </p:nvPicPr>
        <p:blipFill>
          <a:blip r:embed="rId4"/>
          <a:stretch/>
        </p:blipFill>
        <p:spPr>
          <a:xfrm>
            <a:off x="6588000" y="4724280"/>
            <a:ext cx="2376720" cy="1735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8" descr="1_01_08_JPG"/>
          <p:cNvPicPr/>
          <p:nvPr/>
        </p:nvPicPr>
        <p:blipFill>
          <a:blip r:embed="rId5"/>
          <a:stretch/>
        </p:blipFill>
        <p:spPr>
          <a:xfrm>
            <a:off x="900000" y="1628640"/>
            <a:ext cx="2521080" cy="20368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9" descr="1_01_07_JPG"/>
          <p:cNvPicPr/>
          <p:nvPr/>
        </p:nvPicPr>
        <p:blipFill>
          <a:blip r:embed="rId6"/>
          <a:stretch/>
        </p:blipFill>
        <p:spPr>
          <a:xfrm>
            <a:off x="6588000" y="1413000"/>
            <a:ext cx="2232000" cy="1806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5" name="Picture 10" descr="1_01_09_JPG"/>
          <p:cNvPicPr/>
          <p:nvPr/>
        </p:nvPicPr>
        <p:blipFill>
          <a:blip r:embed="rId7"/>
          <a:stretch/>
        </p:blipFill>
        <p:spPr>
          <a:xfrm>
            <a:off x="3708360" y="1413000"/>
            <a:ext cx="2376360" cy="1858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67200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Шнуров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11" descr="lem_riba"/>
          <p:cNvPicPr/>
          <p:nvPr/>
        </p:nvPicPr>
        <p:blipFill>
          <a:blip r:embed="rId1"/>
          <a:stretch/>
        </p:blipFill>
        <p:spPr>
          <a:xfrm>
            <a:off x="4716360" y="1989000"/>
            <a:ext cx="1584360" cy="12668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8" name="Picture 13" descr="pug_6_1"/>
          <p:cNvPicPr/>
          <p:nvPr/>
        </p:nvPicPr>
        <p:blipFill>
          <a:blip r:embed="rId2"/>
          <a:stretch/>
        </p:blipFill>
        <p:spPr>
          <a:xfrm>
            <a:off x="611280" y="2205000"/>
            <a:ext cx="1296720" cy="1279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9" name="Picture 15" descr="lem_babochka"/>
          <p:cNvPicPr/>
          <p:nvPr/>
        </p:nvPicPr>
        <p:blipFill>
          <a:blip r:embed="rId3"/>
          <a:stretch/>
        </p:blipFill>
        <p:spPr>
          <a:xfrm>
            <a:off x="7236000" y="4005360"/>
            <a:ext cx="1714320" cy="1417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0" name="Picture 17" descr="lem_mishka"/>
          <p:cNvPicPr/>
          <p:nvPr/>
        </p:nvPicPr>
        <p:blipFill>
          <a:blip r:embed="rId4"/>
          <a:stretch/>
        </p:blipFill>
        <p:spPr>
          <a:xfrm>
            <a:off x="826920" y="4005360"/>
            <a:ext cx="209232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1" name="Picture 18" descr="pugw"/>
          <p:cNvPicPr/>
          <p:nvPr/>
        </p:nvPicPr>
        <p:blipFill>
          <a:blip r:embed="rId5"/>
          <a:stretch/>
        </p:blipFill>
        <p:spPr>
          <a:xfrm>
            <a:off x="6804000" y="5661000"/>
            <a:ext cx="1224000" cy="938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9" descr="Bus"/>
          <p:cNvPicPr/>
          <p:nvPr/>
        </p:nvPicPr>
        <p:blipFill>
          <a:blip r:embed="rId6"/>
          <a:stretch/>
        </p:blipFill>
        <p:spPr>
          <a:xfrm>
            <a:off x="2411280" y="1628640"/>
            <a:ext cx="1871640" cy="187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3" name="Picture 20" descr="sh-1"/>
          <p:cNvPicPr/>
          <p:nvPr/>
        </p:nvPicPr>
        <p:blipFill>
          <a:blip r:embed="rId7"/>
          <a:stretch/>
        </p:blipFill>
        <p:spPr>
          <a:xfrm>
            <a:off x="3851280" y="4005360"/>
            <a:ext cx="2376360" cy="2376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4" name="Picture 21" descr="shnur"/>
          <p:cNvPicPr/>
          <p:nvPr/>
        </p:nvPicPr>
        <p:blipFill>
          <a:blip r:embed="rId8"/>
          <a:stretch/>
        </p:blipFill>
        <p:spPr>
          <a:xfrm>
            <a:off x="6948360" y="2133720"/>
            <a:ext cx="1800360" cy="1625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5" name="Picture 23" descr="malshikT"/>
          <p:cNvPicPr/>
          <p:nvPr/>
        </p:nvPicPr>
        <p:blipFill>
          <a:blip r:embed="rId9"/>
          <a:stretch/>
        </p:blipFill>
        <p:spPr>
          <a:xfrm>
            <a:off x="395280" y="260280"/>
            <a:ext cx="1338120" cy="1557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24" descr="devochkaT"/>
          <p:cNvPicPr/>
          <p:nvPr/>
        </p:nvPicPr>
        <p:blipFill>
          <a:blip r:embed="rId10"/>
          <a:stretch/>
        </p:blipFill>
        <p:spPr>
          <a:xfrm>
            <a:off x="7020000" y="260280"/>
            <a:ext cx="1655640" cy="1540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339408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Шнуров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84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Белочка-шнуров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та сюжетная шнуровка выполнена по идеям Марии Монтессори. Прикрепить яблочко или грибок при помощи тонкой веревочки к лапкам белки не так-то просто, особенно если тебе только 2 года. Однако научиться это делать - самый быстрый и веселый способ развить мелкую моторику, ту самую, которая пригодится потом для рисования и письма и которая напрямую связана с развитием мышления и способностью учиться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зраст: 2-5 лет.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AA01599"/>
          <p:cNvPicPr/>
          <p:nvPr/>
        </p:nvPicPr>
        <p:blipFill>
          <a:blip r:embed="rId1"/>
          <a:stretch/>
        </p:blipFill>
        <p:spPr>
          <a:xfrm>
            <a:off x="4788000" y="3284640"/>
            <a:ext cx="1890720" cy="2663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0" name="Picture 10" descr="titul_shnurovka"/>
          <p:cNvPicPr/>
          <p:nvPr/>
        </p:nvPicPr>
        <p:blipFill>
          <a:blip r:embed="rId2"/>
          <a:stretch/>
        </p:blipFill>
        <p:spPr>
          <a:xfrm>
            <a:off x="5651640" y="765000"/>
            <a:ext cx="2887560" cy="19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1" name="Picture 12" descr="09"/>
          <p:cNvPicPr/>
          <p:nvPr/>
        </p:nvPicPr>
        <p:blipFill>
          <a:blip r:embed="rId3"/>
          <a:stretch/>
        </p:blipFill>
        <p:spPr>
          <a:xfrm>
            <a:off x="8244000" y="61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herepaha"/>
          <p:cNvPicPr/>
          <p:nvPr/>
        </p:nvPicPr>
        <p:blipFill>
          <a:blip r:embed="rId4"/>
          <a:stretch/>
        </p:blipFill>
        <p:spPr>
          <a:xfrm>
            <a:off x="6948360" y="3429000"/>
            <a:ext cx="1944720" cy="16588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4535640" cy="792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Сенсор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28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области сенсорного развития малыш может использовать свои чувства при изучении окружающего мира - с помощью материалов, находящихся здесь, он развивает свое зрение, осязание, вкус, обоняние, слух, а также имеет возможность потренироваться в различении температур, ощутить разницу в весе предметов, и конечно развить мускульную памя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5" descr="r2"/>
          <p:cNvPicPr/>
          <p:nvPr/>
        </p:nvPicPr>
        <p:blipFill>
          <a:blip r:embed="rId1"/>
          <a:stretch/>
        </p:blipFill>
        <p:spPr>
          <a:xfrm>
            <a:off x="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vtobus"/>
          <p:cNvPicPr/>
          <p:nvPr/>
        </p:nvPicPr>
        <p:blipFill>
          <a:blip r:embed="rId2"/>
          <a:stretch/>
        </p:blipFill>
        <p:spPr>
          <a:xfrm>
            <a:off x="7164360" y="3500280"/>
            <a:ext cx="1655640" cy="1159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7" name="Picture 17" descr="soft_train"/>
          <p:cNvPicPr/>
          <p:nvPr/>
        </p:nvPicPr>
        <p:blipFill>
          <a:blip r:embed="rId3"/>
          <a:stretch/>
        </p:blipFill>
        <p:spPr>
          <a:xfrm>
            <a:off x="468360" y="4869000"/>
            <a:ext cx="3743280" cy="1377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8" name="Picture 18" descr="sumka_toy"/>
          <p:cNvPicPr/>
          <p:nvPr/>
        </p:nvPicPr>
        <p:blipFill>
          <a:blip r:embed="rId4"/>
          <a:stretch/>
        </p:blipFill>
        <p:spPr>
          <a:xfrm>
            <a:off x="4643280" y="1628640"/>
            <a:ext cx="18226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9" name="Picture 19" descr="kubik_1"/>
          <p:cNvPicPr/>
          <p:nvPr/>
        </p:nvPicPr>
        <p:blipFill>
          <a:blip r:embed="rId5"/>
          <a:stretch/>
        </p:blipFill>
        <p:spPr>
          <a:xfrm>
            <a:off x="7164360" y="1773360"/>
            <a:ext cx="1714680" cy="146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21" descr="d060"/>
          <p:cNvPicPr/>
          <p:nvPr/>
        </p:nvPicPr>
        <p:blipFill>
          <a:blip r:embed="rId6"/>
          <a:stretch/>
        </p:blipFill>
        <p:spPr>
          <a:xfrm>
            <a:off x="7164360" y="4762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gorodki"/>
          <p:cNvPicPr/>
          <p:nvPr/>
        </p:nvPicPr>
        <p:blipFill>
          <a:blip r:embed="rId7"/>
          <a:stretch/>
        </p:blipFill>
        <p:spPr>
          <a:xfrm>
            <a:off x="4572000" y="4076640"/>
            <a:ext cx="223200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23" descr="kovrkorz"/>
          <p:cNvPicPr/>
          <p:nvPr/>
        </p:nvPicPr>
        <p:blipFill>
          <a:blip r:embed="rId8"/>
          <a:stretch/>
        </p:blipFill>
        <p:spPr>
          <a:xfrm>
            <a:off x="7164360" y="5084640"/>
            <a:ext cx="1744560" cy="11858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5280" y="380520"/>
            <a:ext cx="4897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Сенсор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Picture 4" descr="210"/>
          <p:cNvPicPr/>
          <p:nvPr/>
        </p:nvPicPr>
        <p:blipFill>
          <a:blip r:embed="rId1"/>
          <a:stretch/>
        </p:blipFill>
        <p:spPr>
          <a:xfrm>
            <a:off x="179280" y="1341360"/>
            <a:ext cx="5445360" cy="3540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5" descr="212"/>
          <p:cNvPicPr/>
          <p:nvPr/>
        </p:nvPicPr>
        <p:blipFill>
          <a:blip r:embed="rId2"/>
          <a:stretch/>
        </p:blipFill>
        <p:spPr>
          <a:xfrm>
            <a:off x="3492360" y="1319040"/>
            <a:ext cx="5256360" cy="34578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6" name="Picture 6" descr="219"/>
          <p:cNvPicPr/>
          <p:nvPr/>
        </p:nvPicPr>
        <p:blipFill>
          <a:blip r:embed="rId3"/>
          <a:stretch/>
        </p:blipFill>
        <p:spPr>
          <a:xfrm>
            <a:off x="1042920" y="3068640"/>
            <a:ext cx="5111640" cy="3343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7" name="Picture 7" descr="222"/>
          <p:cNvPicPr/>
          <p:nvPr/>
        </p:nvPicPr>
        <p:blipFill>
          <a:blip r:embed="rId4"/>
          <a:stretch/>
        </p:blipFill>
        <p:spPr>
          <a:xfrm>
            <a:off x="4067280" y="3429000"/>
            <a:ext cx="4608360" cy="3013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476280"/>
            <a:ext cx="4392720" cy="792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звитие зр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4" descr="65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1220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0" name="Picture 9" descr="66"/>
          <p:cNvPicPr/>
          <p:nvPr/>
        </p:nvPicPr>
        <p:blipFill>
          <a:blip r:embed="rId2"/>
          <a:stretch/>
        </p:blipFill>
        <p:spPr>
          <a:xfrm>
            <a:off x="5796000" y="2133720"/>
            <a:ext cx="2921040" cy="1498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1" name="Picture 10" descr="kolpachki_1"/>
          <p:cNvPicPr/>
          <p:nvPr/>
        </p:nvPicPr>
        <p:blipFill>
          <a:blip r:embed="rId3"/>
          <a:stretch/>
        </p:blipFill>
        <p:spPr>
          <a:xfrm>
            <a:off x="250920" y="549360"/>
            <a:ext cx="1657080" cy="12920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14" descr="semey"/>
          <p:cNvPicPr/>
          <p:nvPr/>
        </p:nvPicPr>
        <p:blipFill>
          <a:blip r:embed="rId4"/>
          <a:stretch/>
        </p:blipFill>
        <p:spPr>
          <a:xfrm>
            <a:off x="6372360" y="4149720"/>
            <a:ext cx="2305080" cy="2019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3" name="Picture 18" descr="lukoshko_s"/>
          <p:cNvPicPr/>
          <p:nvPr/>
        </p:nvPicPr>
        <p:blipFill>
          <a:blip r:embed="rId5"/>
          <a:stretch/>
        </p:blipFill>
        <p:spPr>
          <a:xfrm>
            <a:off x="1042920" y="3860640"/>
            <a:ext cx="1714680" cy="2435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4" name="Picture 20" descr="mi'shka"/>
          <p:cNvPicPr/>
          <p:nvPr/>
        </p:nvPicPr>
        <p:blipFill>
          <a:blip r:embed="rId6"/>
          <a:stretch/>
        </p:blipFill>
        <p:spPr>
          <a:xfrm>
            <a:off x="7020000" y="549360"/>
            <a:ext cx="1944720" cy="1231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5" name="Picture 21" descr="piramida_1"/>
          <p:cNvPicPr/>
          <p:nvPr/>
        </p:nvPicPr>
        <p:blipFill>
          <a:blip r:embed="rId7"/>
          <a:stretch/>
        </p:blipFill>
        <p:spPr>
          <a:xfrm>
            <a:off x="3348000" y="3933720"/>
            <a:ext cx="2146320" cy="237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920" y="380880"/>
            <a:ext cx="417672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мки и вкладыш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ое действие: взрослый раскладывает рамки и вкладыши отдельно и предлагает малышу "закрыть окошки в домике" подходящими рамками. Это самое любимое задание у детей. Они его повторяют бесчисленное количество раз и когда они совсем еще малы, и когда станут постарше. Видимо, есть в этом процессе отыскивания что-то притягательное. Успехом для малыша будет даже выбрать правильный вкладыш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Mont3"/>
          <p:cNvPicPr/>
          <p:nvPr/>
        </p:nvPicPr>
        <p:blipFill>
          <a:blip r:embed="rId1"/>
          <a:stretch/>
        </p:blipFill>
        <p:spPr>
          <a:xfrm>
            <a:off x="4859280" y="2565360"/>
            <a:ext cx="2016360" cy="1789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9" name="Picture 7" descr="Mont2"/>
          <p:cNvPicPr/>
          <p:nvPr/>
        </p:nvPicPr>
        <p:blipFill>
          <a:blip r:embed="rId2"/>
          <a:stretch/>
        </p:blipFill>
        <p:spPr>
          <a:xfrm>
            <a:off x="6443640" y="4508640"/>
            <a:ext cx="2303640" cy="1823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0" name="Picture 12" descr="db"/>
          <p:cNvPicPr/>
          <p:nvPr/>
        </p:nvPicPr>
        <p:blipFill>
          <a:blip r:embed="rId3"/>
          <a:stretch/>
        </p:blipFill>
        <p:spPr>
          <a:xfrm>
            <a:off x="6588000" y="836640"/>
            <a:ext cx="2160720" cy="1576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10920" y="380520"/>
            <a:ext cx="49690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мки и вкладыш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Picture 5" descr="animals"/>
          <p:cNvPicPr/>
          <p:nvPr/>
        </p:nvPicPr>
        <p:blipFill>
          <a:blip r:embed="rId1"/>
          <a:stretch/>
        </p:blipFill>
        <p:spPr>
          <a:xfrm>
            <a:off x="611280" y="4221000"/>
            <a:ext cx="2806560" cy="1881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dogs"/>
          <p:cNvPicPr/>
          <p:nvPr/>
        </p:nvPicPr>
        <p:blipFill>
          <a:blip r:embed="rId2"/>
          <a:stretch/>
        </p:blipFill>
        <p:spPr>
          <a:xfrm>
            <a:off x="4500720" y="1773360"/>
            <a:ext cx="3357360" cy="104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4" name="Picture 11" descr="boots"/>
          <p:cNvPicPr/>
          <p:nvPr/>
        </p:nvPicPr>
        <p:blipFill>
          <a:blip r:embed="rId3"/>
          <a:stretch/>
        </p:blipFill>
        <p:spPr>
          <a:xfrm>
            <a:off x="5292720" y="3141720"/>
            <a:ext cx="3595680" cy="1019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5" name="Picture 14" descr="enot"/>
          <p:cNvPicPr/>
          <p:nvPr/>
        </p:nvPicPr>
        <p:blipFill>
          <a:blip r:embed="rId4"/>
          <a:stretch/>
        </p:blipFill>
        <p:spPr>
          <a:xfrm>
            <a:off x="4284720" y="4508640"/>
            <a:ext cx="2879640" cy="1942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6" name="Picture 16" descr="selxoz"/>
          <p:cNvPicPr/>
          <p:nvPr/>
        </p:nvPicPr>
        <p:blipFill>
          <a:blip r:embed="rId5"/>
          <a:stretch/>
        </p:blipFill>
        <p:spPr>
          <a:xfrm>
            <a:off x="826920" y="1773360"/>
            <a:ext cx="2808360" cy="202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68360" y="260280"/>
            <a:ext cx="4824720" cy="719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мки и вкладыш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0440" cy="4824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менее интересное занятие для ребенка постарше с рамками - обводить их контуры карандашами. Сначала лучше обводить контур по рамке, это намного легче, чем по вкладышу. А из фигур легче всего обводить круг и эллипс, очень трудно - звездочку. Пусть ребенок на чистый лист бумаги положит рамку "круг" и попробует обвести контур цветным карандашом. Покажите, как можно заштриховать фигурку. Пусть он попробует сделать это сам. Обводя разные рамки и закрашивая их разными цветами, можно создавать удивительные узоры. Эта игра помогает малышу усвоить основные геометрические понятия, "ставит руку", готовит к рисованию и письму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geom_fig_1"/>
          <p:cNvPicPr/>
          <p:nvPr/>
        </p:nvPicPr>
        <p:blipFill>
          <a:blip r:embed="rId1"/>
          <a:stretch/>
        </p:blipFill>
        <p:spPr>
          <a:xfrm>
            <a:off x="6516720" y="4941720"/>
            <a:ext cx="2160720" cy="161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0" name="Picture 9" descr="A03787"/>
          <p:cNvPicPr/>
          <p:nvPr/>
        </p:nvPicPr>
        <p:blipFill>
          <a:blip r:embed="rId2"/>
          <a:stretch/>
        </p:blipFill>
        <p:spPr>
          <a:xfrm>
            <a:off x="6877080" y="1197000"/>
            <a:ext cx="2016000" cy="1700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1" name="Picture 10" descr="576_400"/>
          <p:cNvPicPr/>
          <p:nvPr/>
        </p:nvPicPr>
        <p:blipFill>
          <a:blip r:embed="rId3"/>
          <a:stretch/>
        </p:blipFill>
        <p:spPr>
          <a:xfrm>
            <a:off x="4788000" y="3141720"/>
            <a:ext cx="2592360" cy="1652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26920" y="404640"/>
            <a:ext cx="360036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звитие слух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4186440" cy="4032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то упражнение на развитие слуха. Для него требуются пять колокольчиков, которые по-разному звенят: стеклянный, глиняный, 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ластмассовый и т.д. Колокольчики выставляются перед ребенком на стол. Ребенку завязывают глаза. Педагог берет один из колокольчиков, звенит им и ставит на место. Ребенок открывает глаза и по очереди звенит каждым колокольчиком. Требуется найти тот, которым звонил педаго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8" descr="bell1-a"/>
          <p:cNvPicPr/>
          <p:nvPr/>
        </p:nvPicPr>
        <p:blipFill>
          <a:blip r:embed="rId1"/>
          <a:stretch/>
        </p:blipFill>
        <p:spPr>
          <a:xfrm>
            <a:off x="6012000" y="2697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kid2"/>
          <p:cNvPicPr/>
          <p:nvPr/>
        </p:nvPicPr>
        <p:blipFill>
          <a:blip r:embed="rId2"/>
          <a:stretch/>
        </p:blipFill>
        <p:spPr>
          <a:xfrm>
            <a:off x="6659640" y="4221000"/>
            <a:ext cx="2000160" cy="1668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56" name="Picture 15" descr="musical_notes_bubbling_md_wht"/>
          <p:cNvPicPr/>
          <p:nvPr/>
        </p:nvPicPr>
        <p:blipFill>
          <a:blip r:embed="rId3"/>
          <a:stretch/>
        </p:blipFill>
        <p:spPr>
          <a:xfrm>
            <a:off x="971640" y="404640"/>
            <a:ext cx="1200240" cy="13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musical_notes_bubbling_md_wht"/>
          <p:cNvPicPr/>
          <p:nvPr/>
        </p:nvPicPr>
        <p:blipFill>
          <a:blip r:embed="rId4"/>
          <a:stretch/>
        </p:blipFill>
        <p:spPr>
          <a:xfrm>
            <a:off x="7308720" y="333360"/>
            <a:ext cx="1200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4535280" cy="671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витие слух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4110120" cy="3313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то еще одно упражнение на тренировку слуха. Для него понадобится несколько различных предметов, которые могут издавать какие-либо звуки: шуршание, стук, звон и т.д. Например, это могут быть колокольчик, баночка с орехами и газета. Все предметы кладут в корзинку. Педагог вынимает их и показывает ребенку, какие звуки они могут издавать: так шуршит бумага, так гремит коробочка, в которой лежат орехи, и т.д. Ребенок рассматривает предметы и внимательно прислушивается к их звучанию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03640" y="1125000"/>
            <a:ext cx="3889440" cy="3598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Затем педагог предлагает двум детям работать в пар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Один ребенок водящий. Ему завязывают глаза или он садится так, чтобы не видеть партнера. Партнер достает из корзины какой-нибудь предмет, звенит или гремит им, а водящий должен определить, какой из предметов издает звук. Потом они могут поменяться ролям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Это упражнение еще и очень способствует пополнению словарного запаса. В процессе манипуляции с предметами ребенок должен называть очень много слов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1"/>
          <p:cNvPicPr/>
          <p:nvPr/>
        </p:nvPicPr>
        <p:blipFill>
          <a:blip r:embed="rId1"/>
          <a:stretch/>
        </p:blipFill>
        <p:spPr>
          <a:xfrm>
            <a:off x="6227640" y="5013360"/>
            <a:ext cx="1584360" cy="1503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2" name="Picture 11" descr="Malysh+"/>
          <p:cNvPicPr/>
          <p:nvPr/>
        </p:nvPicPr>
        <p:blipFill>
          <a:blip r:embed="rId2"/>
          <a:stretch/>
        </p:blipFill>
        <p:spPr>
          <a:xfrm>
            <a:off x="2411280" y="1125360"/>
            <a:ext cx="2089440" cy="16718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3" name="Picture 12" descr="trumpet_trumpeting_md_wht"/>
          <p:cNvPicPr/>
          <p:nvPr/>
        </p:nvPicPr>
        <p:blipFill>
          <a:blip r:embed="rId3"/>
          <a:stretch/>
        </p:blipFill>
        <p:spPr>
          <a:xfrm>
            <a:off x="250920" y="189000"/>
            <a:ext cx="1800000" cy="105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208"/>
          <p:cNvPicPr/>
          <p:nvPr/>
        </p:nvPicPr>
        <p:blipFill>
          <a:blip r:embed="rId4"/>
          <a:stretch/>
        </p:blipFill>
        <p:spPr>
          <a:xfrm>
            <a:off x="324000" y="1628640"/>
            <a:ext cx="1439640" cy="960480"/>
          </a:xfrm>
          <a:prstGeom prst="rect">
            <a:avLst/>
          </a:prstGeom>
          <a:ln w="0">
            <a:noFill/>
          </a:ln>
        </p:spPr>
      </p:pic>
      <p:pic>
        <p:nvPicPr>
          <p:cNvPr id="165" name="ELPH4086.wav" descr=""/>
          <p:cNvPicPr/>
          <p:nvPr/>
        </p:nvPicPr>
        <p:blipFill>
          <a:blip r:embed="rId5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399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77080" cy="719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витие тактильных ощуще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590364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Ракушка» - круглая игрушка, в которой перекатывается один или несколько шариков или бусинок. Ребенок ощупывает их через ткань, перебирает пальчиками, сгоняя от центра к краю и наоборот, массируя активные зоны руки, что косвенно влияет на созревание зон коры головного мозга, ответственные за развитие мелкой моторики руки и реч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Божьи коровки» - просто круглые мешочки, заполненные разными материалами. Ребенок ощупывает наполнитель через ткань. Можно сделать несколько игрушек, различных по размеру и с разными наполнителями: в самой маленькой игрушке могут быть опилки, в средней - гречневая крупа, в более крупной - горох или фасоль. Игрушки можно использовать, как счетный материал, как пирамидку (укладывая одну коровку на другую)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Черепашка» - просто круглый мешочек, заполненный любым наполнителем. Ребенок ощупывает наполнитель через ткань. Наполнители могут быть разными. Игрушки можно использовать, как счетный материал, как пирамидку (укладывая одну черепашку на другую)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img_c127_1"/>
          <p:cNvPicPr/>
          <p:nvPr/>
        </p:nvPicPr>
        <p:blipFill>
          <a:blip r:embed="rId1"/>
          <a:stretch/>
        </p:blipFill>
        <p:spPr>
          <a:xfrm>
            <a:off x="7308720" y="1197000"/>
            <a:ext cx="1582920" cy="1582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69" name="Picture 6" descr="img_c123_1"/>
          <p:cNvPicPr/>
          <p:nvPr/>
        </p:nvPicPr>
        <p:blipFill>
          <a:blip r:embed="rId2"/>
          <a:stretch/>
        </p:blipFill>
        <p:spPr>
          <a:xfrm>
            <a:off x="6443640" y="2997360"/>
            <a:ext cx="1714680" cy="1714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70" name="Picture 9" descr="img_c125_1"/>
          <p:cNvPicPr/>
          <p:nvPr/>
        </p:nvPicPr>
        <p:blipFill>
          <a:blip r:embed="rId3"/>
          <a:stretch/>
        </p:blipFill>
        <p:spPr>
          <a:xfrm>
            <a:off x="7164360" y="4941720"/>
            <a:ext cx="1714680" cy="1714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840720" cy="6494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витие тактильных ощуще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5329080" cy="4968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Волшебный мешоч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Цель: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развитие сенсорики, речи, навыков абстрактного мышления (умения выделять существенные признаки), освоение понятия форма, знакомство с предметами окружающего мира.</a:t>
            </a:r>
            <a:br>
              <a:rPr sz="1400"/>
            </a:b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Задача игры: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на ощупь определить предмет, лежащий в мешочке, назвать и описать его. </a:t>
            </a:r>
            <a:br>
              <a:rPr sz="1400"/>
            </a:b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Ход игры: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003366"/>
                </a:solidFill>
                <a:latin typeface="Tahoma"/>
              </a:rPr>
              <a:t>Вариант 1.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Внимательно рассмотрите с малышом все предметы, назовите и опишите их назначение. Сложите предметы в мешочек. По очереди на ощупь, не заглядывая в мешочек, старайтесь угадать и назвать взятый из мешочка предмет. </a:t>
            </a:r>
            <a:br>
              <a:rPr sz="1400"/>
            </a:br>
            <a:r>
              <a:rPr b="0" i="1" lang="ru-RU" sz="1400" spc="-1" strike="noStrike">
                <a:solidFill>
                  <a:srgbClr val="003366"/>
                </a:solidFill>
                <a:latin typeface="Tahoma"/>
              </a:rPr>
              <a:t>Вариант 2.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Игрок, выбравший предмет в волшебном мешочке, описывает его, не называя. Цель другого игрока угадать, что именно было вынуто из мешочка. </a:t>
            </a:r>
            <a:br>
              <a:rPr sz="1400"/>
            </a:br>
            <a:r>
              <a:rPr b="0" i="1" lang="ru-RU" sz="1400" spc="-1" strike="noStrike">
                <a:solidFill>
                  <a:srgbClr val="003366"/>
                </a:solidFill>
                <a:latin typeface="Tahoma"/>
              </a:rPr>
              <a:t>Вариант 3.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Заколдованный мешочек. Чтобы достать все вещи нужно назвать их, не развязывая мешок. Ребенок ощупывает и называет предмет сквозь мешок. Если игрушка названа верно, она расколдовывается и достается из мешка. </a:t>
            </a:r>
            <a:br>
              <a:rPr sz="1400"/>
            </a:br>
            <a:r>
              <a:rPr b="0" i="1" lang="ru-RU" sz="1400" spc="-1" strike="noStrike">
                <a:solidFill>
                  <a:srgbClr val="003366"/>
                </a:solidFill>
                <a:latin typeface="Tahoma"/>
              </a:rPr>
              <a:t>Вариант 4.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Классификация. Ребенок раскладывает предметы по форме или назначению на несколько групп, объясняя, по какому признаку производилась группировка.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Всего 20 предметов размером от 2 до 4 см. 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 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Возраст: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 3-7 лет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VolshMesh"/>
          <p:cNvPicPr/>
          <p:nvPr/>
        </p:nvPicPr>
        <p:blipFill>
          <a:blip r:embed="rId1"/>
          <a:stretch/>
        </p:blipFill>
        <p:spPr>
          <a:xfrm>
            <a:off x="468360" y="1989000"/>
            <a:ext cx="2641680" cy="3816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6635880" cy="719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азвитие тактильных ощуще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248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ищеп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то хорошее упражнение для развития мелкой моторики, которое одновременно является и тактильным упражнением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дание состоит в том, чтобы на края корзинки нацепить обычные бельевые прищепки. Затем надо попросить ребенка снять эти прищепки тремя пальцами (теми, которыми он потом будет писать) и положить обратно в корзину. Вот и все упражнение. Оно кажется очень простым, но маленькому ребенку действительность открывается через ощупывание предметов и через механические действия с ними. Если кончикам пальцев малыша дать хорошую работу, то в будущем это скажется на формировании навыка письма: ребенок гораздо быстрее и легче научится держать карандаш и владеть им, как орудием письма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вы хотите усложнить задание, можно внести соревновательный элемент, предложив детям прикреплять прищепки на скорость: кто быстрее. Можно организовать маленькое состязание пар детей, когда двое партнеров должны будут прицеплять прищепки, а потом снимать их по очеред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0(2)"/>
          <p:cNvPicPr/>
          <p:nvPr/>
        </p:nvPicPr>
        <p:blipFill>
          <a:blip r:embed="rId1"/>
          <a:stretch/>
        </p:blipFill>
        <p:spPr>
          <a:xfrm>
            <a:off x="395280" y="189000"/>
            <a:ext cx="1344600" cy="180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4546440" cy="719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актильные книг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5221080" cy="4968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тильная книга –это разноцветная книга с рисунками, выполненными из различных материалов, которые на ощупь максимально приближены к оригиналу. Читая ее, ребенок знакомится со сказкой, животным, предметами домашнего обихода, инструментами, и т.д. Нащупывая мелкие предметы из различных материалов, ребенок ассоциативно связывает их с настоящими предметами. Некоторые объекты в книге могут издавать звуки: шуршать, звенеть, шелестеть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 ее помощью ребенок впервые получает представление об очень крупных или наоборот, очень мелких предметах, которые невозможно обследовать руками в реальных пропорциях. С помощью тактильных рисунков можно объяснить многие противоположные явления и понятия. Яркие цвета и четкие цветные контуры заставляют ребенка тренировать зрение и упражнять совместную работу глаз и рук. Наличие в книге пуговиц, шнурков, молний помогает детям развивать мелкую моторику рук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5" descr="tactbk6"/>
          <p:cNvPicPr/>
          <p:nvPr/>
        </p:nvPicPr>
        <p:blipFill>
          <a:blip r:embed="rId1"/>
          <a:stretch/>
        </p:blipFill>
        <p:spPr>
          <a:xfrm>
            <a:off x="5796000" y="476280"/>
            <a:ext cx="2171520" cy="1393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0" name="Picture 18" descr="tactbk5"/>
          <p:cNvPicPr/>
          <p:nvPr/>
        </p:nvPicPr>
        <p:blipFill>
          <a:blip r:embed="rId2"/>
          <a:stretch/>
        </p:blipFill>
        <p:spPr>
          <a:xfrm>
            <a:off x="6084720" y="2205000"/>
            <a:ext cx="2811600" cy="10638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1" name="Picture 21" descr="tactbk3"/>
          <p:cNvPicPr/>
          <p:nvPr/>
        </p:nvPicPr>
        <p:blipFill>
          <a:blip r:embed="rId3"/>
          <a:stretch/>
        </p:blipFill>
        <p:spPr>
          <a:xfrm>
            <a:off x="5867280" y="3645000"/>
            <a:ext cx="1863720" cy="1245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2" name="Picture 24" descr="tactbk4"/>
          <p:cNvPicPr/>
          <p:nvPr/>
        </p:nvPicPr>
        <p:blipFill>
          <a:blip r:embed="rId4"/>
          <a:stretch/>
        </p:blipFill>
        <p:spPr>
          <a:xfrm>
            <a:off x="6877080" y="5084640"/>
            <a:ext cx="1886040" cy="1451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3" name="Picture 27" descr="09"/>
          <p:cNvPicPr/>
          <p:nvPr/>
        </p:nvPicPr>
        <p:blipFill>
          <a:blip r:embed="rId5"/>
          <a:stretch/>
        </p:blipFill>
        <p:spPr>
          <a:xfrm>
            <a:off x="6084720" y="609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04836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атемат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64000" y="1557360"/>
            <a:ext cx="3533760" cy="439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ри составлении упражнений с математическим материалом следует выполнять следующие принципиальные правил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едоставлять детям математику не как готовый предмет, но как самостоятельную деятельность челове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 передавать идеи, а повторно открывать с ребенк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уть к познанию лежит через связи, а не через отдельные явл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нимание, а не навы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6" descr="0(1)"/>
          <p:cNvPicPr/>
          <p:nvPr/>
        </p:nvPicPr>
        <p:blipFill>
          <a:blip r:embed="rId1"/>
          <a:stretch/>
        </p:blipFill>
        <p:spPr>
          <a:xfrm>
            <a:off x="250920" y="1557360"/>
            <a:ext cx="2747880" cy="1981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7" name="Picture 8" descr="18_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286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8" name="Picture 13" descr=""/>
          <p:cNvPicPr/>
          <p:nvPr/>
        </p:nvPicPr>
        <p:blipFill>
          <a:blip r:embed="rId3"/>
          <a:stretch/>
        </p:blipFill>
        <p:spPr>
          <a:xfrm>
            <a:off x="2411280" y="4221000"/>
            <a:ext cx="2737080" cy="1951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9" name="Picture 15" descr="10"/>
          <p:cNvPicPr/>
          <p:nvPr/>
        </p:nvPicPr>
        <p:blipFill>
          <a:blip r:embed="rId4"/>
          <a:stretch/>
        </p:blipFill>
        <p:spPr>
          <a:xfrm>
            <a:off x="3348000" y="1557360"/>
            <a:ext cx="1725480" cy="244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561672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атемат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1" name="Picture 5" descr="slogkv2"/>
          <p:cNvPicPr/>
          <p:nvPr/>
        </p:nvPicPr>
        <p:blipFill>
          <a:blip r:embed="rId1"/>
          <a:stretch/>
        </p:blipFill>
        <p:spPr>
          <a:xfrm>
            <a:off x="539640" y="1413000"/>
            <a:ext cx="1386000" cy="1981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92" name="Picture 7" descr="kubiki_n"/>
          <p:cNvPicPr/>
          <p:nvPr/>
        </p:nvPicPr>
        <p:blipFill>
          <a:blip r:embed="rId2"/>
          <a:stretch/>
        </p:blipFill>
        <p:spPr>
          <a:xfrm>
            <a:off x="4284720" y="5013360"/>
            <a:ext cx="1371600" cy="148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93" name="Picture 12" descr="tetris_s"/>
          <p:cNvPicPr/>
          <p:nvPr/>
        </p:nvPicPr>
        <p:blipFill>
          <a:blip r:embed="rId3"/>
          <a:stretch/>
        </p:blipFill>
        <p:spPr>
          <a:xfrm>
            <a:off x="7164360" y="3573360"/>
            <a:ext cx="1513080" cy="1059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8480" cy="3024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Поработав с сенсорным материалом и научившись мыслить логично и точно, ребенок без труда переводит в математические термины уже хорошо знакомые ему понятия. Причем обучение математике проходит очень естественно: малыш просто живет в подготовленной среде, насквозь пропитанной математик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13" descr="sl_fig"/>
          <p:cNvPicPr/>
          <p:nvPr/>
        </p:nvPicPr>
        <p:blipFill>
          <a:blip r:embed="rId4"/>
          <a:stretch/>
        </p:blipFill>
        <p:spPr>
          <a:xfrm>
            <a:off x="250920" y="393372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469_200"/>
          <p:cNvPicPr/>
          <p:nvPr/>
        </p:nvPicPr>
        <p:blipFill>
          <a:blip r:embed="rId5"/>
          <a:stretch/>
        </p:blipFill>
        <p:spPr>
          <a:xfrm>
            <a:off x="7164360" y="1413000"/>
            <a:ext cx="1506600" cy="1944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97" name="Picture 16" descr="mon2s"/>
          <p:cNvPicPr/>
          <p:nvPr/>
        </p:nvPicPr>
        <p:blipFill>
          <a:blip r:embed="rId6"/>
          <a:stretch/>
        </p:blipFill>
        <p:spPr>
          <a:xfrm>
            <a:off x="6084720" y="4869000"/>
            <a:ext cx="2592720" cy="1663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98" name="Picture 17" descr="pupil"/>
          <p:cNvPicPr/>
          <p:nvPr/>
        </p:nvPicPr>
        <p:blipFill>
          <a:blip r:embed="rId7"/>
          <a:stretch/>
        </p:blipFill>
        <p:spPr>
          <a:xfrm>
            <a:off x="2195640" y="4940280"/>
            <a:ext cx="15159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380520"/>
            <a:ext cx="55436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атемат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4835520" cy="1879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она математического развития содержит все необходимые материалы для того, чтобы ребенок научился операциям сложения, вычитания, умножения и деления, освоил порядковый счет - все то, что считается важным критерием готовности ребенка к поступлению в школ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9" descr="montessori"/>
          <p:cNvPicPr/>
          <p:nvPr/>
        </p:nvPicPr>
        <p:blipFill>
          <a:blip r:embed="rId1"/>
          <a:stretch/>
        </p:blipFill>
        <p:spPr>
          <a:xfrm>
            <a:off x="5940360" y="4437000"/>
            <a:ext cx="2952720" cy="197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02" name="Picture 10" descr="montessori2"/>
          <p:cNvPicPr/>
          <p:nvPr/>
        </p:nvPicPr>
        <p:blipFill>
          <a:blip r:embed="rId2"/>
          <a:stretch/>
        </p:blipFill>
        <p:spPr>
          <a:xfrm>
            <a:off x="6588000" y="1341360"/>
            <a:ext cx="139392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03" name="Text Box 12"/>
          <p:cNvSpPr/>
          <p:nvPr/>
        </p:nvSpPr>
        <p:spPr>
          <a:xfrm>
            <a:off x="6088320" y="3716280"/>
            <a:ext cx="281124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Комната Монтессори в шко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Лохипато г. Оулу, Финлянд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4" descr="school_lohipato"/>
          <p:cNvPicPr/>
          <p:nvPr/>
        </p:nvPicPr>
        <p:blipFill>
          <a:blip r:embed="rId3"/>
          <a:stretch/>
        </p:blipFill>
        <p:spPr>
          <a:xfrm>
            <a:off x="1547640" y="3357720"/>
            <a:ext cx="3311640" cy="2046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05" name="Text Box 15"/>
          <p:cNvSpPr/>
          <p:nvPr/>
        </p:nvSpPr>
        <p:spPr>
          <a:xfrm>
            <a:off x="468360" y="5589720"/>
            <a:ext cx="5256000" cy="9464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Урок математики в школе Лохипато (г. Оулу, Финляндия). В этой школе учатся дети с тяжелыми нарушениями опорно-двигательного аппарата. В своей работе педагоги следуют методике М. Монтессор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27552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атемат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7" name="Picture 4" descr="pic1_jpg"/>
          <p:cNvPicPr/>
          <p:nvPr/>
        </p:nvPicPr>
        <p:blipFill>
          <a:blip r:embed="rId1"/>
          <a:stretch/>
        </p:blipFill>
        <p:spPr>
          <a:xfrm>
            <a:off x="468360" y="1773360"/>
            <a:ext cx="2320920" cy="35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08" name="Picture 5" descr="pic2_jpg"/>
          <p:cNvPicPr/>
          <p:nvPr/>
        </p:nvPicPr>
        <p:blipFill>
          <a:blip r:embed="rId2"/>
          <a:stretch/>
        </p:blipFill>
        <p:spPr>
          <a:xfrm>
            <a:off x="6491160" y="1916280"/>
            <a:ext cx="2454480" cy="367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09" name="Picture 6" descr="pic7_jpg"/>
          <p:cNvPicPr/>
          <p:nvPr/>
        </p:nvPicPr>
        <p:blipFill>
          <a:blip r:embed="rId3"/>
          <a:stretch/>
        </p:blipFill>
        <p:spPr>
          <a:xfrm>
            <a:off x="3348000" y="2421000"/>
            <a:ext cx="2524320" cy="37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584352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атемат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1" name="Picture 4" descr="401"/>
          <p:cNvPicPr/>
          <p:nvPr/>
        </p:nvPicPr>
        <p:blipFill>
          <a:blip r:embed="rId1"/>
          <a:stretch/>
        </p:blipFill>
        <p:spPr>
          <a:xfrm>
            <a:off x="539640" y="1484280"/>
            <a:ext cx="5672160" cy="3551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2" name="Picture 5" descr="439"/>
          <p:cNvPicPr/>
          <p:nvPr/>
        </p:nvPicPr>
        <p:blipFill>
          <a:blip r:embed="rId2"/>
          <a:stretch/>
        </p:blipFill>
        <p:spPr>
          <a:xfrm>
            <a:off x="3708360" y="1557360"/>
            <a:ext cx="5111640" cy="3213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3" name="Picture 6" descr="407_1"/>
          <p:cNvPicPr/>
          <p:nvPr/>
        </p:nvPicPr>
        <p:blipFill>
          <a:blip r:embed="rId3"/>
          <a:stretch/>
        </p:blipFill>
        <p:spPr>
          <a:xfrm>
            <a:off x="179280" y="3284640"/>
            <a:ext cx="4370400" cy="2869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4" name="Picture 7" descr="408"/>
          <p:cNvPicPr/>
          <p:nvPr/>
        </p:nvPicPr>
        <p:blipFill>
          <a:blip r:embed="rId4"/>
          <a:stretch/>
        </p:blipFill>
        <p:spPr>
          <a:xfrm>
            <a:off x="2771640" y="1773360"/>
            <a:ext cx="3041640" cy="4627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5" name="Picture 8" descr="441"/>
          <p:cNvPicPr/>
          <p:nvPr/>
        </p:nvPicPr>
        <p:blipFill>
          <a:blip r:embed="rId5"/>
          <a:stretch/>
        </p:blipFill>
        <p:spPr>
          <a:xfrm>
            <a:off x="3851280" y="3068640"/>
            <a:ext cx="4881600" cy="3036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6" name="Picture 9" descr="402"/>
          <p:cNvPicPr/>
          <p:nvPr/>
        </p:nvPicPr>
        <p:blipFill>
          <a:blip r:embed="rId6"/>
          <a:stretch/>
        </p:blipFill>
        <p:spPr>
          <a:xfrm>
            <a:off x="1835280" y="1916280"/>
            <a:ext cx="5400720" cy="3408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7" name="Picture 10" descr="09"/>
          <p:cNvPicPr/>
          <p:nvPr/>
        </p:nvPicPr>
        <p:blipFill>
          <a:blip r:embed="rId7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7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8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9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22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23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27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29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1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32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33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35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7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38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39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43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5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46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47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48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3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4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4537080" cy="5270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Монтессори-класс включает в себя множество з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Tahoma"/>
              </a:rPr>
              <a:t>зона реальной жизни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: ребенок учится самостоятельно одеваться, пересыпать и переливать, мыть, чистить перемешивать, вырезать, раскрашивать, рисовать и т.п. Здесь дети учатся концентрировать внимание и развивают крупную и мелкую моторику;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Tahoma"/>
              </a:rPr>
              <a:t>зона сенсорного развития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: изучение окружающего мира (различать высоту, длину, вес, цвет и др. свойства предметов). Здесь дети играют с предметами, изучая размер, форму и цвет. К примеру, малыш по порядку выставляет на стол цилиндры от самого большого до самого маленького. Детишки также учатся следить глазами слева направо, что помогает освоиться с чтением;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Tahoma"/>
              </a:rPr>
              <a:t>зоны языковая, географическая, математическая, естественно-научная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: умственное развитие ребенка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Tahoma"/>
              </a:rPr>
              <a:t>Двигательные упражнения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- в основном на линии. В большинстве Монтессори-классов на ковре или на полу нарисована ленточная линия в виде круга (овала), которая используется для физических упражнений по развитию равновесия и координации движений, а также вним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сам выбирает зону и конкретный Монтессори-материал, с которым хочет работать. Он может работать один или с другими детьми, этот выбор он тоже делает обычно сам. Ребенок работает в собственном темпе, </a:t>
            </a:r>
            <a:r>
              <a:rPr b="1" i="1" lang="ru-RU" sz="1600" spc="-1" strike="noStrike">
                <a:solidFill>
                  <a:srgbClr val="003366"/>
                </a:solidFill>
                <a:latin typeface="Tahoma"/>
              </a:rPr>
              <a:t>в методе Монтессори нет соревнования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. Многие Монтессори-школы дополняют Монтессори-материалы такими зонами, как музыкальная, искусства и танцев, иностранного языка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Жизненная 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енсорное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тематическое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вигательное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9" descr="montes"/>
          <p:cNvPicPr/>
          <p:nvPr/>
        </p:nvPicPr>
        <p:blipFill>
          <a:blip r:embed="rId1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0" name="Picture 17" descr="0(2)"/>
          <p:cNvPicPr/>
          <p:nvPr/>
        </p:nvPicPr>
        <p:blipFill>
          <a:blip r:embed="rId2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518472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Жизненная практи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038840" cy="3679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Упражнения жизненной практики имеют особое значение для маленьких детей (2,5-3,5 года). Здесь расположены материалы, с помощью которых ребенок учится следить за собой и своими вещами. Используя рамки с застежками (пуговицы, кнопки, молнии, пряжки, булавки, шнурки, банты и крючки), ребенок учится самостоятельно одеваться, пересыпать и переливать, мыть стол и даже полировать серебр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23" descr="mon3s"/>
          <p:cNvPicPr/>
          <p:nvPr/>
        </p:nvPicPr>
        <p:blipFill>
          <a:blip r:embed="rId1"/>
          <a:stretch/>
        </p:blipFill>
        <p:spPr>
          <a:xfrm>
            <a:off x="1042920" y="4437000"/>
            <a:ext cx="2952720" cy="1895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27" descr="197"/>
          <p:cNvPicPr/>
          <p:nvPr/>
        </p:nvPicPr>
        <p:blipFill>
          <a:blip r:embed="rId2"/>
          <a:stretch/>
        </p:blipFill>
        <p:spPr>
          <a:xfrm>
            <a:off x="7524720" y="549360"/>
            <a:ext cx="1193760" cy="126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8" descr="pic3_jpg"/>
          <p:cNvPicPr/>
          <p:nvPr/>
        </p:nvPicPr>
        <p:blipFill>
          <a:blip r:embed="rId3"/>
          <a:stretch/>
        </p:blipFill>
        <p:spPr>
          <a:xfrm>
            <a:off x="395280" y="1557360"/>
            <a:ext cx="1722600" cy="2592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6" name="Picture 31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619280" cy="2592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267520" cy="86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Жизненная практи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319640" cy="48974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нтессори предлагает ряд таких игр-действий вполне доступных маленькому ребенку: переливание воды, чистка металлических предметов и ботинок, завязывание бантов, уход за цветами, помощь в приготовлении завтрака, самостоятельное одевание и раздевание. Именно такая деятельность, полагала Монтессори, формирует у ребенка чувство собственного достоинства и независимости, ведь теперь многие полезные действия могут выполняться им совершенно самостоятельно. С увеличением независимости растет и уверенность в себе. Чем более независим ребенок от помощи взрослых, - считала Монтессори, - тем больше у него освобожденных творческих си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0(3)"/>
          <p:cNvPicPr/>
          <p:nvPr/>
        </p:nvPicPr>
        <p:blipFill>
          <a:blip r:embed="rId1"/>
          <a:stretch/>
        </p:blipFill>
        <p:spPr>
          <a:xfrm>
            <a:off x="4932360" y="3357720"/>
            <a:ext cx="1841400" cy="2663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0" name="Picture 6" descr="0(1)"/>
          <p:cNvPicPr/>
          <p:nvPr/>
        </p:nvPicPr>
        <p:blipFill>
          <a:blip r:embed="rId2"/>
          <a:stretch/>
        </p:blipFill>
        <p:spPr>
          <a:xfrm>
            <a:off x="7308720" y="3429000"/>
            <a:ext cx="1584360" cy="130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1" name="Picture 8" descr="0(2)"/>
          <p:cNvPicPr/>
          <p:nvPr/>
        </p:nvPicPr>
        <p:blipFill>
          <a:blip r:embed="rId3"/>
          <a:stretch/>
        </p:blipFill>
        <p:spPr>
          <a:xfrm>
            <a:off x="5867280" y="1628640"/>
            <a:ext cx="1231920" cy="1366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2" name="Picture 9" descr="0(3)"/>
          <p:cNvPicPr/>
          <p:nvPr/>
        </p:nvPicPr>
        <p:blipFill>
          <a:blip r:embed="rId4"/>
          <a:stretch/>
        </p:blipFill>
        <p:spPr>
          <a:xfrm>
            <a:off x="395280" y="549360"/>
            <a:ext cx="1023840" cy="576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3" name="Picture 10" descr="1"/>
          <p:cNvPicPr/>
          <p:nvPr/>
        </p:nvPicPr>
        <p:blipFill>
          <a:blip r:embed="rId5"/>
          <a:stretch/>
        </p:blipFill>
        <p:spPr>
          <a:xfrm>
            <a:off x="7524720" y="907920"/>
            <a:ext cx="1152720" cy="1106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4" name="Picture 11" descr="IMAGE001_1"/>
          <p:cNvPicPr/>
          <p:nvPr/>
        </p:nvPicPr>
        <p:blipFill>
          <a:blip r:embed="rId6"/>
          <a:stretch/>
        </p:blipFill>
        <p:spPr>
          <a:xfrm>
            <a:off x="7308720" y="5300640"/>
            <a:ext cx="15224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00360" y="189000"/>
            <a:ext cx="4465440" cy="576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Застежк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5410080" cy="5112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Терем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Описание: Пособие предназначено для обучения детей практическим навыкам использования застежек. Играя, малыши познакомятся с русскими сказками, ролевыми играми, театральной деятельностью, иностранными языками, научатся анализировать последовательность своих действий, координировать движения. Яркий, нарядный "Теремок" украсит детскую комнату или игровую комнату в детском са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Функциональное назначение: развитие мелкой моторики, развитие игровой деятельности, развитие театрализованной деятельности, развитие наглядно-действенного мышления, развитие речи, развитие внимания, развитие пространственного ориентиро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Состав: Теремок с застежками - 1 шт., фигурки зверей: волк - 2 шт., лиса - 2 шт., медведь - 2 шт., лягушка - 2 шт., мышь - 2 шт., комар - 2 шт., заяц - 2 шт., цветные таблички - 6 шт., шнурок - 1 шт., руководство со сценариями - 1 ш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teremok"/>
          <p:cNvPicPr/>
          <p:nvPr/>
        </p:nvPicPr>
        <p:blipFill>
          <a:blip r:embed="rId1"/>
          <a:stretch/>
        </p:blipFill>
        <p:spPr>
          <a:xfrm>
            <a:off x="6156360" y="2133720"/>
            <a:ext cx="2722680" cy="324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Natasha</cp:lastModifiedBy>
  <dcterms:modified xsi:type="dcterms:W3CDTF">2016-09-22T05:52:28Z</dcterms:modified>
  <cp:revision>93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