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6642-FB37-4625-8CAD-36EF91DA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8E20-DC99-48B3-94B8-C462396F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A68C-E49D-4B18-84AE-62D6BD0D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29B-03AD-429D-ADE5-5533BA0B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C5B8-FB8E-4A5E-AD9C-B92F449A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7681-3BCA-496E-85C7-D323FE57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68F8-0395-4186-ABC3-5412FA90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52EB-2C7F-40CD-85DB-10F44104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2C8D-CF58-4DE5-9940-A308CCD8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DB61-E196-4DB6-AFB9-176334E8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578D-E969-4128-8F51-4D4A6D66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E657-40FF-4E6C-A369-B91AF06F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633F-9B4A-4FFD-A8B0-8D890B78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1E4D-9C7C-48C2-BB97-052F84A6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9B59-CC9B-48AD-A333-C87A3C46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E1CC-5A9D-4950-BE1B-DCD242FC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1477-E3A0-4834-9A84-EC9226D5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D45-265F-442E-B780-F15D785F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803-B6C2-42B6-9522-479F7C0A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9EE7-9318-4045-8FCA-999D9310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359-A3B4-4264-8443-BB363DAB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300A-4E4E-4AB7-B133-CA6D1A2B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DB93-72BC-4CD4-A85B-1CE7B86E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45E-8CAF-4DA4-90E6-530569F5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18D1-D0D6-48B9-BF97-2AD0CD2E36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9A1C-B047-433F-A595-5B1CC66D9A1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Arial Black"/>
              </a:rPr>
              <a:t>Минутка чистописания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2707920"/>
            <a:ext cx="802944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развивающая и интересна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3500280"/>
            <a:ext cx="31017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1 группа упражнений -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3068640"/>
            <a:ext cx="800244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ставление характеристики искомой буквы и звуков, которые она обознача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2 группа упражнений -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2420640"/>
            <a:ext cx="814716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уществление неполного фонетического разбо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3 группа упражнений -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280" y="2636640"/>
            <a:ext cx="771516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уществление разбора слова по соста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4 группа упражнений -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2923920"/>
            <a:ext cx="771516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уществление неполного морфологического разбо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5 группа упражнений -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2997360"/>
            <a:ext cx="77868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уществление неполного фонетического разбора и разбора слова по соста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6 группа упражнений -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2565360"/>
            <a:ext cx="764388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уществление неполного фонетического разбора, анализа слова по составу, морфологического разбора в нетрадиционной фор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7 группа упражнений -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3141360"/>
            <a:ext cx="793116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повышение орфографической зорк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09:57Z</dcterms:created>
  <dc:creator>Loner-XP</dc:creator>
  <dc:description/>
  <dc:language>en-US</dc:language>
  <cp:lastModifiedBy>Loner-XP</cp:lastModifiedBy>
  <dcterms:modified xsi:type="dcterms:W3CDTF">2002-12-31T23:10:16Z</dcterms:modified>
  <cp:revision>3</cp:revision>
  <dc:subject/>
  <dc:title>Минутка чистописания</dc:title>
</cp:coreProperties>
</file>