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DA5-B8B5-4C61-8E38-877C8D96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E51-A8B6-4CDB-B505-690CB9B6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5E0-0245-4B10-9108-4E7BC8AE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810-EBB0-4C13-89DE-4D8DF15B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EF1-0DC9-45EA-B1F9-AF0A884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036-1B7D-4DB1-AA13-6BD2876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B8C-40B3-4926-90B9-49C3CC0E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86A-38FA-47CC-BF5C-AF6760D3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E7F-0E55-4C68-9B34-BE1D52FE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DDF-67E8-46E6-AD75-F1B9692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819-6250-400D-9062-383C04C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698-A2E6-4EDB-B752-0C0E351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E7B2-DE9D-4EA7-99CE-058BE0B7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31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аботы районного методического объедин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зыкальных руководител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школьных образовательных организаци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рцевского района Смоленской обла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2019-2020 учебный го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99440" y="4941720"/>
            <a:ext cx="174456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12040" y="5950080"/>
            <a:ext cx="831960" cy="915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76280"/>
            <a:ext cx="882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ма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Восприятие музыки как вид  деятельности, способствующий художественно-эстетическому развитию детей дошкольного возраст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художественно-эстетического сознания детей чере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риятие музыки в рамках образовательного процесса по музыкально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Создавать систему методического сопровождения музыкальных руководителей ДОО для эффективного развития художественно-эстетического сознания детей в ходе образовательного процесса по музыкально-худож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содержание образовательного воздействия для активного внедрения инновационных технологий, методов и средств восприятия музыки, способствующих обогащению художественно-эстетического развития детей в ходе музыкально-худож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Пополнять информационно- методическую базу педагогов по восприятию музыки и активно внедрять её в практическую 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Создавать условия для организации такого вида музыкальной деятельности как восприятие музыки с учетом индивидуальных творческих возможностей и способностей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мулировать педагогов к самообразованию, участию  самостоятельно и с воспитанниками в творческих конкурсах различного уровня, приобщать к методической работе профессиональных сообществ, практическому обмену передовым педагогическим опыт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жидаемы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итериями оценки работы РМО музыкальных руководителей будет  являться эффективное решение поставленных задач и ожидаемый конечный 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спешное освоение и осмысление педагогами содержания образовательного воздействия для активного внедрения инновационных технологий, методов и средств восприятия музыки, способствующих обогащению художественно-эстетического развития детей в ходе музыкально-художествен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ышение уровня профессиональной компетентности и педагогического мастерства педагогов на основе творческого обмена инновационным педагогическим опытом с коллегами в рамках темы годового плана работы Р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крытие творческого потенциала педагогов, формирование и пополнение личного банка педагогических достижений  через участие в работе РМО и других методических меропри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51760" y="5661000"/>
            <a:ext cx="10922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АН РАБОТЫ РМО МУЗЫКАЛЬНЫХ РУКОВОДИТЕЛЕЙ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2019-2020 УЧЕБНЫЙ ГОД    Август 2019 МБДОУ Д/С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74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м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«Восприятие музыки как вид деятельности, способствующ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му развитию детей дошкольног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рас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 проведения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актикум из опыта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 использования методов и средств восприят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зыки, способствующих обогащению музыкально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х образ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лан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кетирование музыкальных руководителей с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ю выявления и анализа личных запросов и инициатив педагогов по проблемам музыкально-художественного развития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ция и утверждение годового плана работы методического объединения музыкальных руководителей на 2019- 2020 учебн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ведение в годовую тему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Теоретический аспект в виде презентации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 РМО: музыкальный руководитель МБДОУ детского сада №1: Лейман 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«Хор рук» как музыкально-педагогическая технология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 методике А.Боровик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пособствующая художественно-эстетическому развитию детей дошкольного возраста»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актикум из опыта работ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ыкальные руководители МБДОУ детского сада №1: Лейман Е.Н., Мельникова С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«Хор рук» как метод восприятия музыкально-художественных образов»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стер-класс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 МБДОУ детского сада №6: Клименк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, подведение ито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-е заседание Январь 2020 МБДОУ детский сад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м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Видео-слушание» как один из методов музыкально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го восприят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а про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етодическая мастер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практическая консульт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восприятия и обогащение музыкаль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ечатлений детей через видео-слушание, как мет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ально-художественного вос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«Видео-слушание. Знакомство с музыкальными инструментами народов мира»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актикум из опы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Музыкальный руководитель МБДОУ детского сада №14 Евстафьева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«Видео-слушание. Знакомство детей с музыкальными инструментами симфонического оркестра»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актикум из опы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альные  руководители МБ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ого сада № 1: Лейман Е.Н.,  МельниковаС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Анализ, подведение ит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29400" y="5084640"/>
            <a:ext cx="16146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-е заседание Март 2020 МБДОУ детский сад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«Восприятие музыки как средство развития музыкально-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ворческих способностей дет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а проведения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рактикум 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тие музыкально-ритмических способностей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нительских умений детей через восприятие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ан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Творческое развитие дошкольников на музыкальных занятиях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Практикум из опыта рабо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узыкальный  руководитель МБДОУ детского сада № 13: Немцова Е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Развитие музыкально-ритмических умений детей через восприятие музыки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узыкальные руководители МБДОУ детского сада №1: Лейман Е.Н., Мельникова С.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, подведение ит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20000" y="5516640"/>
            <a:ext cx="122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4-е итоговое заседание Май 2020 МБДОУ детский сад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тоговое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ма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спользование материала по восприятию музык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ированного на обогащение музыкально-художествен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 детей дошкольного возраста »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еминар-практику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 проведе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етодическая мастерск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практическая консульт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ование  методики использования педагога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ального материала по восприятию музыки 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альных занятиях и в досугов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лан работы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еминар-Практику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Беседа у роял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пыт использования музыкального материала по восприятию музыки, ориентированного на обогащение музыкально-художественных образов детей дошкольного возраста 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актическая презентация музыкального материала по восприятию музыки от каждого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мастер-клас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взрослых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музыкальные руководители Ярцевского райо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и подведение итогов работы РМО за 2019-2020 учебный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спективы и направления работы РМО музыкальных руководителей на 2020-2021 учебный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мен мнениям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актуальность обсуждаемых тем РМО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96360" y="5157720"/>
            <a:ext cx="15476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0T08:58:23Z</dcterms:created>
  <dc:creator>Alex</dc:creator>
  <dc:description/>
  <dc:language>en-US</dc:language>
  <cp:lastModifiedBy>Alex</cp:lastModifiedBy>
  <dcterms:modified xsi:type="dcterms:W3CDTF">2019-08-25T12:15:44Z</dcterms:modified>
  <cp:revision>20</cp:revision>
  <dc:subject/>
  <dc:title>План  работы районного методического объединения  музыкальных руководителей  дошкольных образовательных организаций Ярцевского района Смоленской области На 2018-2019 учебный год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