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D8E-298D-41AA-AE85-5BB80943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2BC-633C-4224-BE64-AE72A1BC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31D-2D83-4B28-A49A-48FFCEA1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0EB-3CCF-4114-9377-5D75EDD4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D022-452D-46EA-B435-7BA10623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7A02-E853-4BB4-96B2-C1BC2057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B908-2963-4B39-A8BB-951F0F37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7236-3678-4A12-865A-132786E3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66C1-3AE3-431B-ACC7-4D00421E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3AFE-04F8-4FB4-B52B-35E3B633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E5F9-B39F-4DBF-8FD5-7E728753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AEE-0CC8-43D4-BC3F-A59B3157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BC0E-6F43-44C1-8980-3E2E3F95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374D-FA89-4F9B-8CBD-10CB9F9E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ADFF-C591-4D1B-964B-FFAF6F63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DEAA-A108-4663-967D-06045C84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C408-CFFF-4332-90ED-1B34BE35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A0C-CE13-4FB8-BBCB-E16E85D4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30D-5A8E-4FE3-93CD-43FCEF91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459-A89C-45B5-8683-441175C9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397-37CB-4AB8-B645-82407574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E2C-05D9-4B61-8244-2DA9964B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061-986F-4F3A-895C-891FB115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80A-E0FE-4ECA-B3A0-3973CFCD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91BB-4E34-4FB0-86F4-CEAA6A4C07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2AF8-0198-4AD9-8204-E7195243A1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ecff"/>
                </a:solidFill>
                <a:latin typeface="Times New Roman"/>
              </a:rPr>
              <a:t>В. Сухомлинский подчёркивал: «Если в раннем детстве донести до сердца красоту музыкального произведения, если в звуках ребёнок почувствует многогранные оттенки человеческих чувств, он поднимется на такую ступеньку культуры, которая не может быть достигнута никакими другими средствами».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Восприятие музыки как вид деятельности, способствующий художественно-эстетическому развитию дошкольнико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5013360"/>
            <a:ext cx="8317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ecff"/>
                </a:solidFill>
                <a:latin typeface="Times New Roman"/>
              </a:rPr>
              <a:t>Руководитель РМО музыкальных руководителей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ecff"/>
                </a:solidFill>
                <a:latin typeface="Times New Roman"/>
              </a:rPr>
              <a:t>Лейман Е.Н.-музыкальный руководитель МБДОУ детского сада №1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39640" y="1125360"/>
            <a:ext cx="83534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«Человек стал человеком, – когда услышал шепот листьев и песню кузнечика, журчание весеннего ручья и звон серебряных колокольчиков, жаворонка в бездонном летнем небе, шорох снежинок, ласковый плеск волны и торжественную тишину ночи, - услышал и, затаив дыхание, слушает сотни и тысячи лет чудесную музыку жизни. Умей и ты слушать эту музыку, умей наслаждаться красотой»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.Сухомлин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47640" y="476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СПОЛЬЗУЕМАЯ ЛИТЕРАТУ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134136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сильева М.А., Гербова В.В., Комарова Т.С. Программа воспитания и обучения в детском саду М.: Мозаика – Синтез 201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тлугина Н.А. Методика музыкального воспитания в детском саду М.: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зержинская И.Л. Музыкальное воспитание младших дошкольников. – М.: просвещение, 198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ловН.А. Музыка – детям М.: Просвещение 198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стетическое воспитание в детском саду/ Под ред. Н. А. Ветлугиной. – М.: Просвещение, 1978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АКТУАЛЬ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1052640"/>
            <a:ext cx="806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 искусстве, особенно в музыке, ребёнку необходимо эмоциональное воздействие, эмоциональный пример. Это один из основных музыкальных уроков детства. Сами взрослые должны не только любить музыку, знать её, обладать достаточным уровнем музыкальной культуры,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 и понимать самоценность дошкольного периода детства для вхождения ребёнка в мир музыки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. Музыкальное искусство, отражая жизнь в её многообразии, расширяет кругозор ребёнка, обогащает его духовный мир, а значит благотворно отразиться на его дальнейшем нравственном развит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ЦЕЛИ И ЗАДАЧ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1628640"/>
          <a:ext cx="8229600" cy="4775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Развитие эмоциональной сферы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Стимулировать активный интерес к музык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развивать правильное музыкальное восприятие, способность к эмоциональной отзывчивост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итие музыкальных способносте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Эмоциональная отзывчивость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Мелодический, ритмический, тембровый, динамический слух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Воспитание гуманного положительного отношения к произведениям музыкального наследия;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формировать художественную сферу чувств и отношений, нравственно-эстетических переживаний через обогащение музыкальных впечатлени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формирование музыкального вкуса, оценочное отношение к музык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68360" y="476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Цель:           Формирование у детей основ музыкальной культу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1052640"/>
            <a:ext cx="79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АДАЧИ ОБЩ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Times New Roman"/>
              </a:rPr>
              <a:t>ЭТАПЫ МУЗЫКАЛЬНОГО ВОСПРИЯТИЯ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8000" y="907920"/>
            <a:ext cx="5113440" cy="50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9810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ЦЕЛОСТНОЕ ВОСПРИЯ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186920" y="1628640"/>
            <a:ext cx="1081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88000" y="1628640"/>
            <a:ext cx="1152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213372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СЛУШ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2133720"/>
            <a:ext cx="20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УЗ. ВПЕЧАТ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7280" y="2421000"/>
            <a:ext cx="936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948360" y="2708280"/>
            <a:ext cx="936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3141720"/>
            <a:ext cx="511344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79640" y="3213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ИФФЕРЕНЦИРОВАННОЕ  ВОСПРИЯ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115640" y="3716280"/>
            <a:ext cx="1081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3716280"/>
            <a:ext cx="1152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22100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ОНИМ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4292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ОСМЫСЛ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87280" y="4581360"/>
            <a:ext cx="936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948360" y="4724280"/>
            <a:ext cx="936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5229360"/>
            <a:ext cx="511344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СОЗНАНАННОЕ  ВОСПРИЯ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410920" y="5805360"/>
            <a:ext cx="18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659640" y="5805360"/>
            <a:ext cx="14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165720"/>
            <a:ext cx="8893080" cy="50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6237360"/>
            <a:ext cx="88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ЗАКРЕПЛЕНИЕ СФОРМИРОВАВШИХСЯ ПРЕДСТАВЛЕНИЙ О МУЗЫК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МЕТОДЫ МУЗЫКАЛЬНОГО ВОСПРИЯТ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00200"/>
          <a:ext cx="8229600" cy="3892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ЛУХОВО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Внимание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Мышление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Сосредоточен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ГЛЯД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Конкретизация музыкально-художественного образа, отображаемом в прослушанном произведен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АКТИЧЕСКИЙ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Разбор выразительных средств музыки, закрепление, обобщ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ФОРМИРОВАНИЕ МУЗЫКАЛЬНЫХ СПОСОБНОСТЕЙ ЧЕРЕЗ ВОСПРИЯТИЕ МУЗЫКИ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907920"/>
            <a:ext cx="5113440" cy="50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59280" y="98100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ОСПРИЯТИЕ МУЗЫ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195640" y="1484280"/>
            <a:ext cx="433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2000" y="1413000"/>
            <a:ext cx="43164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76360" y="1700280"/>
            <a:ext cx="255600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1700280"/>
            <a:ext cx="255564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1700280"/>
            <a:ext cx="24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ЛУХОВАЯ СОСРЕДОТОЧЕННОС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92720" y="177336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МУЗ. ПАМЯ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92360" y="2205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92360" y="2205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2280"/>
            <a:ext cx="219564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40000" y="2492280"/>
            <a:ext cx="219564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65360"/>
            <a:ext cx="21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ЭМОЦИОНАЛЬНЫЙ  КОМПОНЕ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256536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ОЗНАВАТЕЛЬНЫЙ КОМПОНЕ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48360" y="2205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3280" y="2492280"/>
            <a:ext cx="219564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93080" y="2205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2492280"/>
            <a:ext cx="219564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2720" y="3141720"/>
            <a:ext cx="5745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596360" y="3068640"/>
            <a:ext cx="5745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429000"/>
            <a:ext cx="403200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7080" y="400536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88000" y="4365720"/>
            <a:ext cx="403200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3068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3068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429000"/>
            <a:ext cx="219564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3429000"/>
            <a:ext cx="219564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19640" y="407664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400536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5300640"/>
            <a:ext cx="878544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77080" y="494172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429000"/>
            <a:ext cx="21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ОЦЕНОЧНОЕ ОТНОШЕН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0000" y="3429000"/>
            <a:ext cx="21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РАЗВИТИЕ МУЗ. СПОСОБНОСТЕ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43280" y="2565360"/>
            <a:ext cx="21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НТЕЛЛЕК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48360" y="2565360"/>
            <a:ext cx="21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ООБРАЖЕН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3573360"/>
            <a:ext cx="31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МУЗЫКАЛЬНОЕ МЫШЛЕН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92720" y="4508640"/>
            <a:ext cx="31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5373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ФОРМИРОВАНИЕ МУЗЫКАЛЬНОГО ВКУС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587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77080" y="587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9280" y="6093000"/>
            <a:ext cx="878544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964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ФОРМИРОВАНИЕ ОСНОВ МУЗЫКАЛЬНОЙ КУЛЬТУР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СИНКВЕЙН «ВОСПРИЯТИЕ МУЗЫКИ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484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ВОСПРИЯТИЕ…СУЩ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19640" y="148428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ВНИМАНИЕ, МЫШЛЕНИЕ, ПАМЯТЬ, ВООБРАЖЕНИЕ, РАЗВИ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234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 КАКОЕ?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48000" y="2421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УВЛЕКАТЕЛЬНОЕ, ИНТЕРЕС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306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 ЧТО ДЕЛАЕТ?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3141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ФОРМИРУЕТ, РАЗВИВАЕТ, ВОСПИТЫТВ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3789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 ФРАЗА, ПРЕДЛОЖЕНИЕ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4076640"/>
            <a:ext cx="56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ФОРМИРОВАНИЕ ОСНОВ МУЗЫКАЛЬНОЙ КУЛЬ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5280" y="4869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 СИНОНИМ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494172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ОСМЫЛЕНИЕ МУЗЫКАЛЬНОГО ОБРАЗ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СИНКВЕЙН «МУЗЫКА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105264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МУЗЫКА…СУЩ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184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 КАКАЯ?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2637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 ЧТО ДЕЛАЕТ?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3357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 ФРАЗА, ПРЕДЛОЖЕНИЕ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5280" y="43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 СИНОНИМ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19640" y="1197000"/>
            <a:ext cx="57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РАДОСТЬ , ПОЛЕТ, МЫСЛИ, ВОЛ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0" y="184464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ЖИВАЯ, ИСК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2637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ФОРМИРУЕТ, РАЗВИВАЕТ, ВОСПИТЫТВ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3429000"/>
            <a:ext cx="56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«БЕЗ МУЗЫКИ НЕВОЗМОЖНОЕ ПОЛНОЦЕННОЕ ВОСПИТАНИЕ ЧЕЛОВЕКА» В. СУХОМЛИН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03640" y="443700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МУЗЫКА - ЭТО… ОБЛАГОРАЖИВАНИЕ ДУШИ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1T13:05:49Z</dcterms:created>
  <dc:creator>Alex</dc:creator>
  <dc:description/>
  <dc:language>en-US</dc:language>
  <cp:lastModifiedBy>Alex</cp:lastModifiedBy>
  <dcterms:modified xsi:type="dcterms:W3CDTF">2019-07-01T17:15:36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