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B6F8-976E-473F-9317-D19AD2BD5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C6EE-EB24-4EC5-8A5D-FB242081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0A37-BDC6-4A6F-B591-A1A2C0186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4781-846E-4419-A349-6A60B2F73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92CB-71A7-4B34-8C89-D01BFCF1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816B-68C2-4484-A76A-739B2D72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2B9F-2D71-4717-9862-8C2AD8AB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8A1C-E6AF-4728-BD30-F64FB5FE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3792-415B-4D08-95B8-70CB2583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0FDA-102B-45FD-B34F-35781533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89D6-4B53-4CB6-B78B-AF2D0B99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7CEF-3720-4D18-BC63-862B9487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6FEF-0295-4ECF-8FDD-7600D21A1C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Презентация проекта:</a:t>
            </a:r>
            <a:br>
              <a:rPr sz="4400"/>
            </a:b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«Космос глазами дете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743200" y="57909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зентацию подготов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спитатель средней группы «Дракончи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лгобородова Наталия Владимировна 2019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5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4572000" cy="32004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952880" y="0"/>
            <a:ext cx="4191120" cy="3200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4952880" y="3276720"/>
            <a:ext cx="4191120" cy="3581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152280" y="3276720"/>
            <a:ext cx="4572000" cy="3581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76520" y="0"/>
            <a:ext cx="74674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Физическое развитие: подвижные игры, игровые упражнения, пальчиковая гимнастика, релаксационная пауза с эффектом 3Д (брызги воды, прохладный ветеро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114800" y="228600"/>
            <a:ext cx="4800600" cy="2971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3556080" cy="29718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Заключительный этап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8377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вместная детско–родительская выставка творческих работ на тему «Космос глазами дете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09480" y="3276720"/>
            <a:ext cx="8077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Спасибо</a:t>
            </a:r>
            <a:br>
              <a:rPr sz="4400"/>
            </a:b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за </a:t>
            </a:r>
            <a:br>
              <a:rPr sz="4400"/>
            </a:b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вним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Цель:</a:t>
            </a: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 Систематизировать, обобщить и дополнить знания детей о космос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3352680"/>
            <a:ext cx="76201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Задачи:</a:t>
            </a:r>
            <a:br>
              <a:rPr sz="2000"/>
            </a:br>
            <a:r>
              <a:rPr b="1" lang="en-US" sz="2000" spc="-1" strike="noStrike">
                <a:solidFill>
                  <a:srgbClr val="cc00cc"/>
                </a:solidFill>
                <a:latin typeface="Times New Roman"/>
              </a:rPr>
              <a:t>Для детей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•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 Систематизировать детские представления о Вселенной, Солнечной системе и ее планетах;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• расширить знания детей о государственных праздниках, познакомить их со знаменательными датами;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• формировать понятие о себе, как о жителе планеты Земля;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• развитие познавательных и интеллектуальных способностей детей, их творческого потенциала;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• воспитание чувства гордости за достижения отечественных ученых и космонавтов;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• воспитание бережного отношения к тому, что есть на нашей планете;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• воспитание коммуникативных навыков, дружеских взаимоотношений.</a:t>
            </a:r>
            <a:br>
              <a:rPr sz="2000"/>
            </a:br>
            <a:r>
              <a:rPr b="1" lang="en-US" sz="2000" spc="-1" strike="noStrike">
                <a:solidFill>
                  <a:srgbClr val="cc00cc"/>
                </a:solidFill>
                <a:latin typeface="Times New Roman"/>
              </a:rPr>
              <a:t>Для родителей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• привлечь родителей к проблеме развития познавательной сферы ребенка через совместною деятельность, выставка творческих работ «Космос глазами детей» 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• способствовать установлению партнерских отношений родителей и педагогов в вопросах воспитания и образования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Этапы реализации проекта: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1.Подготовительный этап.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2.Основной этап.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3.Заключительный этап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жидаемый результ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632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ализация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ек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позволит сформировать у детей представления о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смо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планетах, летательных аппаратах,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смонавта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Данный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ек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позволит развить творческую активность детей и родителей, воспитать патриотические чувства у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этап - подготовите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57960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дбор художественной литературы по те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дбор демонстрационного материала по те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зработка 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«домашнего задания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для родителей и детей по те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пределение тематики бес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ланирование НОД в соответствии с темой 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4267080" cy="4190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724280" y="2362320"/>
            <a:ext cx="426744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343400" y="228600"/>
            <a:ext cx="4572000" cy="32004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6705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 этап – основной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4267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Познавательное развитие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: исследовательская деятельность,дидактические игры,рассматривание иллюстраций о космос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Речевое развитие: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еседы с детьми по те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28600" y="3429000"/>
            <a:ext cx="4419720" cy="3276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724280" y="3429000"/>
            <a:ext cx="41911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419720" y="3200400"/>
            <a:ext cx="4724280" cy="3657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3200400"/>
            <a:ext cx="4419720" cy="3657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419720" y="0"/>
            <a:ext cx="4724280" cy="3200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419720" cy="3200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0"/>
            <a:ext cx="52578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Художественно-эстетическое развитие: рисование. аппликации, прослушивание музыкальных произведений по теме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724280" y="3276720"/>
            <a:ext cx="4419720" cy="3581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3276720"/>
            <a:ext cx="4724280" cy="3581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3276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724280" cy="3276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677520" cy="70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14T08:30:33Z</dcterms:created>
  <dc:creator>user</dc:creator>
  <dc:description/>
  <dc:language>en-US</dc:language>
  <cp:lastModifiedBy>user</cp:lastModifiedBy>
  <dcterms:modified xsi:type="dcterms:W3CDTF">2020-01-05T21:57:07Z</dcterms:modified>
  <cp:revision>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