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C8B-5413-49EB-87C8-CE95C8C1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9C9-2F96-4722-8B29-44522FB9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6FC-C174-43E3-9422-013C06B7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1CB-74D0-434A-B47E-727CDB18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C7B1-58C5-4AB8-81E8-DAC7DC3E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00DE-1B72-4C71-A2D4-8691C0C0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60F7-A9B4-4720-A1B0-362304E6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51A1-5EB4-41FB-8828-30A372B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1D0C-1041-4FD6-90AC-576C0B25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3B45-2F9D-40AA-B984-AA5FEE09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515B-3A5C-4EA6-A06B-90BDB40A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EC8-ADA8-4E76-BCA2-684251D4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E176-0133-41B2-880C-8633B52A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64C-B1A0-4292-A7E9-453DC266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6E67-764B-4850-83B5-8FDC4575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0C20-DEC8-4A91-85DF-4AE02CFE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5E20-DF0B-4652-A44C-002A99C6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6737-7936-4B0C-81FB-4F8B1A7D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290D-AA35-41B2-8CEC-894FC533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FE26-A9DF-4FFC-959C-9E9AD67A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90ED-A9E3-4BFB-A942-4A85BADC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AE6B-3923-4148-8BD1-07AAB649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BFC-171A-4385-9B4D-326FCC10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EB19-79BD-4247-90A1-F83A2AA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C0B8-0795-4C7E-B2E8-6E5BC5E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7DE08-CD1C-403B-8135-BC82895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19B5-F2DF-4797-9394-CB01ADB1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8E80-E01A-4CA0-B465-FA46E080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367C-CC04-4504-A0DE-5BD27598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A820-0B32-4946-A5AD-84F80AD2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92B7E-BEC6-4BDA-860C-9074B438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CF4F8-62C7-46B6-8C09-8BC4E56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9C19-DB0E-43D7-9FEC-F52342FE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730-4A8E-4EC7-BF9E-06418658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109D-A369-46FC-A92A-E7459C01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99861-FBF5-422E-9EEF-3E2C13F6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5D27-8883-4318-8EAF-5B83B03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C4A2-2A46-4515-A26B-BB4508CB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B1F2-5789-4596-A043-93775531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DD49C-062D-4FC9-9137-F322A2C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3F3D-8F0D-4B5A-8691-90A68244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9DF2-C4B5-49EE-806C-FA76F104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D8F8-2506-48F1-A6B2-2932643F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E65-6FB3-4438-827A-759EDCDB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C1A-EF2E-4918-8085-5AB48F31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286-53F4-4F18-9325-7080B5E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C9D-2952-4C28-A65E-8030DAFE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F2E-ABAE-4664-8906-1B8D5354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72380F-90CE-4437-B97B-F914DADC746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48CA96-006F-4914-8ADD-98DE7192709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2BAB43-D7E6-48BB-8CEE-76A6464CFA1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8D97A5-CC0D-4613-83F0-8FB23382F28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304920" y="457200"/>
            <a:ext cx="807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Прямоугольник 4" descr=""/>
          <p:cNvPicPr/>
          <p:nvPr/>
        </p:nvPicPr>
        <p:blipFill>
          <a:blip r:embed="rId1"/>
          <a:stretch/>
        </p:blipFill>
        <p:spPr>
          <a:xfrm>
            <a:off x="506520" y="469800"/>
            <a:ext cx="8083440" cy="52610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3929040" y="4286160"/>
            <a:ext cx="47149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и  5 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еверомуйская СОШ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6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448200" y="785880"/>
            <a:ext cx="34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меры ст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71680" y="1714680"/>
            <a:ext cx="7000560" cy="2428560"/>
          </a:xfrm>
          <a:prstGeom prst="rect">
            <a:avLst/>
          </a:prstGeom>
          <a:solidFill>
            <a:srgbClr val="4fadf3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2214720" y="2857680"/>
            <a:ext cx="1071360" cy="12855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ве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8001000" y="2714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3214800" y="42861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2428920" y="22147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ая соединительная линия 8"/>
          <p:cNvSpPr/>
          <p:nvPr/>
        </p:nvSpPr>
        <p:spPr>
          <a:xfrm flipV="1">
            <a:off x="2214720" y="25718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ая соединительная линия 9"/>
          <p:cNvSpPr/>
          <p:nvPr/>
        </p:nvSpPr>
        <p:spPr>
          <a:xfrm flipV="1">
            <a:off x="3285360" y="2571840"/>
            <a:ext cx="18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3" name="Прямая со стрелкой 13"/>
          <p:cNvCxnSpPr/>
          <p:nvPr/>
        </p:nvCxnSpPr>
        <p:spPr>
          <a:xfrm>
            <a:off x="2214720" y="2642760"/>
            <a:ext cx="107208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4" name="Прямая соединительная линия 15"/>
          <p:cNvSpPr/>
          <p:nvPr/>
        </p:nvSpPr>
        <p:spPr>
          <a:xfrm>
            <a:off x="3286080" y="2857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ая соединительная линия 17"/>
          <p:cNvSpPr/>
          <p:nvPr/>
        </p:nvSpPr>
        <p:spPr>
          <a:xfrm>
            <a:off x="3286080" y="40719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6" name="Прямая со стрелкой 19"/>
          <p:cNvCxnSpPr/>
          <p:nvPr/>
        </p:nvCxnSpPr>
        <p:spPr>
          <a:xfrm flipH="1">
            <a:off x="3571560" y="2786040"/>
            <a:ext cx="2160" cy="12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7" name="TextBox 20"/>
          <p:cNvSpPr/>
          <p:nvPr/>
        </p:nvSpPr>
        <p:spPr>
          <a:xfrm>
            <a:off x="3571920" y="3214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1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Arial"/>
              </a:rPr>
              <a:t>Замеры подоконника и откосов око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428760" y="1357200"/>
            <a:ext cx="4557600" cy="5335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докон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5214960" y="14288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5 с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928880" y="207180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,3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оугольник 6"/>
          <p:cNvSpPr/>
          <p:nvPr/>
        </p:nvSpPr>
        <p:spPr>
          <a:xfrm>
            <a:off x="571680" y="3000240"/>
            <a:ext cx="928440" cy="3214800"/>
          </a:xfrm>
          <a:prstGeom prst="rect">
            <a:avLst/>
          </a:prstGeom>
          <a:solidFill>
            <a:srgbClr val="ffe6d3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кос сл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1571760" y="4143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1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571680" y="62866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5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3" descr=""/>
          <p:cNvPicPr/>
          <p:nvPr/>
        </p:nvPicPr>
        <p:blipFill>
          <a:blip r:embed="rId1"/>
          <a:stretch/>
        </p:blipFill>
        <p:spPr>
          <a:xfrm>
            <a:off x="426960" y="36360"/>
            <a:ext cx="8637840" cy="19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214200" y="1785960"/>
          <a:ext cx="8229600" cy="4043520"/>
        </p:xfrm>
        <a:graphic>
          <a:graphicData uri="http://schemas.openxmlformats.org/drawingml/2006/table">
            <a:tbl>
              <a:tblPr/>
              <a:tblGrid>
                <a:gridCol w="685800"/>
                <a:gridCol w="4143600"/>
                <a:gridCol w="3400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именование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ощадь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, потоло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м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ена с фотообо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- 3,4*1,95 =13,37 м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ена с дверь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2,1=24,9 м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ена  с окн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14,49=12,51м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ена  с  доск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*3=21м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оконники и откосы (с учетом 3-ёх окон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м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Пол, пото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Сте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отк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3м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8,78м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,6 м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7065720" cy="1931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Линолеум: (для пола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S=</a:t>
            </a:r>
            <a:r>
              <a:rPr b="0" lang="ru-RU" sz="3600" spc="-1" strike="noStrike">
                <a:solidFill>
                  <a:srgbClr val="404040"/>
                </a:solidFill>
                <a:latin typeface="Arial"/>
                <a:ea typeface="Arial"/>
              </a:rPr>
              <a:t>63 м²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  <a:ea typeface="Arial"/>
              </a:rPr>
              <a:t>Линолеум 1м²- 210 рубле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404040"/>
                </a:solidFill>
                <a:latin typeface="Arial"/>
                <a:ea typeface="Arial"/>
              </a:rPr>
              <a:t>210*63=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13230</a:t>
            </a:r>
            <a:r>
              <a:rPr b="0" lang="ru-RU" sz="3600" spc="-1" strike="noStrike">
                <a:solidFill>
                  <a:srgbClr val="404040"/>
                </a:solidFill>
                <a:latin typeface="Arial"/>
                <a:ea typeface="Arial"/>
              </a:rPr>
              <a:t>руб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7065720" cy="19317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Акриловая краска белая: (для стен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S=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68,78 м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Расход:100-150г/м² на один слой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(68,78*150):1000г=10,317кг=10,317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5л краски=430рублей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10,317*(430:5)=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887,262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 рубл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7065720" cy="19317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Мел строительный (для потолка)</a:t>
            </a: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=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63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м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Расход: 100-130г/м² на один сло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63*130:1000=8,190кг≈8 кг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1кг=120 рубле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8кг=120*8=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960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рубле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7065720" cy="1931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rebuchet MS"/>
              </a:rPr>
              <a:t>Краска белая: (для подоконников и откосов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</a:rPr>
              <a:t>S=6</a:t>
            </a: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en-US" sz="3000" spc="-1" strike="noStrike">
                <a:solidFill>
                  <a:srgbClr val="404040"/>
                </a:solidFill>
                <a:latin typeface="Trebuchet MS"/>
              </a:rPr>
              <a:t>6 </a:t>
            </a: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м²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Расход: 100-180 г/м² на один слой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6,6*180:1000=1,188кг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1 банка≈0,8 кг=155 рублей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Т.к 1,188кг-1,6кг=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310</a:t>
            </a:r>
            <a:r>
              <a:rPr b="0" lang="ru-RU" sz="3000" spc="-1" strike="noStrike">
                <a:solidFill>
                  <a:srgbClr val="404040"/>
                </a:solidFill>
                <a:latin typeface="Arial"/>
                <a:ea typeface="Arial"/>
              </a:rPr>
              <a:t> рублей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7065720" cy="19317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167760" algn="ctr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rebuchet MS"/>
              </a:rPr>
              <a:t>Прочее: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0240" indent="-1677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Растворитель: 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0240" indent="-1677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1 бут о,5л=85 рулей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0240" indent="-1677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Кисточки: 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0240" indent="-1677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Широкая 1 шт=80 рублей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0240" indent="-1677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100" spc="-1" strike="noStrike">
                <a:solidFill>
                  <a:srgbClr val="404040"/>
                </a:solidFill>
                <a:latin typeface="Trebuchet MS"/>
              </a:rPr>
              <a:t>узкая 2 шт по 50 рублей каждая           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10240" indent="-167760">
              <a:lnSpc>
                <a:spcPct val="90000"/>
              </a:lnSpc>
              <a:spcBef>
                <a:spcPts val="7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821a08"/>
                </a:solidFill>
                <a:latin typeface="Arial"/>
              </a:rPr>
              <a:t>III </a:t>
            </a:r>
            <a:r>
              <a:rPr b="0" lang="ru-RU" sz="4200" spc="-1" strike="noStrike">
                <a:solidFill>
                  <a:srgbClr val="821a08"/>
                </a:solidFill>
                <a:latin typeface="Arial"/>
              </a:rPr>
              <a:t>группа: Составление см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57120" y="1357200"/>
          <a:ext cx="8215560" cy="5002200"/>
        </p:xfrm>
        <a:graphic>
          <a:graphicData uri="http://schemas.openxmlformats.org/drawingml/2006/table">
            <a:tbl>
              <a:tblPr/>
              <a:tblGrid>
                <a:gridCol w="606600"/>
                <a:gridCol w="3322440"/>
                <a:gridCol w="2357640"/>
                <a:gridCol w="1928880"/>
              </a:tblGrid>
              <a:tr h="1098720">
                <a:tc>
                  <a:txBody>
                    <a:bodyPr lIns="90000" rIns="90000" tIns="579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9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ова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9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9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олеу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рулон 63 м 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230руб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ка акрил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банки по 5лит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0*2=860 руб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 крас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банка 0,8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0 руб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 стро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штук по 1 к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 руб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ут 0,5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руб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т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шт (1 широкая и 2 узки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*2+80=180 руб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6 руб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571680" y="28584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0"/>
          <p:cNvSpPr/>
          <p:nvPr/>
        </p:nvSpPr>
        <p:spPr>
          <a:xfrm>
            <a:off x="1929960" y="571680"/>
            <a:ext cx="43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одведение итог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285840" y="12859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, рассчитана необходимая сумма для ремонта класса в соответствии с площадями поверхностей,  которые нужно ремонтировать  и с учетом рекомендаций классных руководителей  по приобретению материал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полученных результатов позволит корректировать предполагаемые расходы с учетом материальных возможностей родителей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85"/>
          <p:cNvSpPr/>
          <p:nvPr/>
        </p:nvSpPr>
        <p:spPr>
          <a:xfrm>
            <a:off x="500040" y="142884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87"/>
          <p:cNvSpPr/>
          <p:nvPr/>
        </p:nvSpPr>
        <p:spPr>
          <a:xfrm>
            <a:off x="357120" y="92880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знаем формулы площадей прямоугольника, квадрата и имеем способности их находить, а значит можем применять  эти знания для того, чтобы рассчитать площади для ремонта, найти подходящие материалы для ремонта, рассчитать необходимое количество для его приобретения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357120" y="10000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ить  матема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я для расчета затрат на ремо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ь, как математика может помочь при самостоятельном ремонте класса.  (без помощи специалис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3021120" y="214200"/>
            <a:ext cx="365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1500120" y="78588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и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571680" y="178596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ить замер площадей, требующих ремон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оптимальных вариантов строительно-ремонтного материала для выполнения ремонтных раб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материальных затрат на ремонт (смета расходов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527760" y="642960"/>
            <a:ext cx="786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лан по осуществлению 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484280"/>
          <a:ext cx="7858440" cy="4808520"/>
        </p:xfrm>
        <a:graphic>
          <a:graphicData uri="http://schemas.openxmlformats.org/drawingml/2006/table">
            <a:tbl>
              <a:tblPr/>
              <a:tblGrid>
                <a:gridCol w="3929400"/>
                <a:gridCol w="3929040"/>
              </a:tblGrid>
              <a:tr h="372960"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ые материал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5960"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Измерение площади поверхностей комнаты    (потолок, стены и пол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летка, тетрадь, руч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 площадей  кабин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, руч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с классным руководителем по выбору материалов для ремон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, руч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28840"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материалов и их стоимость с использованием  посещения строительных  магазина на территории  с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, тетрадь, руч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960"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сметы расходов для ремон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, руч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357120" y="228600"/>
            <a:ext cx="765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Arial"/>
              </a:rPr>
              <a:t>Распределение работ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Таблица 22" descr=""/>
          <p:cNvPicPr/>
          <p:nvPr/>
        </p:nvPicPr>
        <p:blipFill>
          <a:blip r:embed="rId1"/>
          <a:stretch/>
        </p:blipFill>
        <p:spPr>
          <a:xfrm>
            <a:off x="334800" y="1085760"/>
            <a:ext cx="8583840" cy="57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 группа: Замеры пол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571680" y="1571760"/>
            <a:ext cx="4495680" cy="2666880"/>
          </a:xfrm>
          <a:prstGeom prst="rect">
            <a:avLst/>
          </a:prstGeom>
          <a:solidFill>
            <a:srgbClr val="95a4de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57880" y="2500200"/>
            <a:ext cx="533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143080" y="47149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Замеры стен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2714760" y="33577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7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505320" y="4114800"/>
            <a:ext cx="571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7000920" y="1857240"/>
            <a:ext cx="4572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267080" y="4075200"/>
            <a:ext cx="571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714240" y="1143000"/>
            <a:ext cx="6034320" cy="21430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928880" y="1714680"/>
            <a:ext cx="3276360" cy="91440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428920" y="20001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об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5214960" y="1714680"/>
            <a:ext cx="304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5214960" y="2571840"/>
            <a:ext cx="304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" name="AutoShape 13"/>
          <p:cNvCxnSpPr/>
          <p:nvPr/>
        </p:nvCxnSpPr>
        <p:spPr>
          <a:xfrm flipH="1">
            <a:off x="5500080" y="1714680"/>
            <a:ext cx="3960" cy="9151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2" name="Text Box 14"/>
          <p:cNvSpPr/>
          <p:nvPr/>
        </p:nvSpPr>
        <p:spPr>
          <a:xfrm>
            <a:off x="5643720" y="19288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5см=1,95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 flipH="1">
            <a:off x="1928520" y="2643120"/>
            <a:ext cx="4680" cy="381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 flipH="1">
            <a:off x="5214600" y="2571840"/>
            <a:ext cx="468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5" name="AutoShape 18"/>
          <p:cNvCxnSpPr>
            <a:endCxn id="244" idx="0"/>
          </p:cNvCxnSpPr>
          <p:nvPr/>
        </p:nvCxnSpPr>
        <p:spPr>
          <a:xfrm>
            <a:off x="1856880" y="2928960"/>
            <a:ext cx="3358440" cy="244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6" name="Text Box 19"/>
          <p:cNvSpPr/>
          <p:nvPr/>
        </p:nvSpPr>
        <p:spPr>
          <a:xfrm>
            <a:off x="2928960" y="2643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40см=3,4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2500200" y="3786120"/>
            <a:ext cx="6248520" cy="2438640"/>
          </a:xfrm>
          <a:prstGeom prst="rect">
            <a:avLst/>
          </a:prstGeom>
          <a:solidFill>
            <a:srgbClr val="a6a6a6"/>
          </a:solidFill>
          <a:ln cap="sq"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23"/>
          <p:cNvSpPr/>
          <p:nvPr/>
        </p:nvSpPr>
        <p:spPr>
          <a:xfrm>
            <a:off x="3786120" y="4500720"/>
            <a:ext cx="4214880" cy="92844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лассная до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24"/>
          <p:cNvSpPr/>
          <p:nvPr/>
        </p:nvSpPr>
        <p:spPr>
          <a:xfrm>
            <a:off x="1785960" y="4643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25"/>
          <p:cNvSpPr/>
          <p:nvPr/>
        </p:nvSpPr>
        <p:spPr>
          <a:xfrm>
            <a:off x="4714920" y="6286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1066680" y="1676520"/>
            <a:ext cx="7162920" cy="304776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2209680" y="2286000"/>
            <a:ext cx="1295640" cy="914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191120" y="2286000"/>
            <a:ext cx="1295280" cy="914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400800" y="2286000"/>
            <a:ext cx="1295280" cy="914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038480" y="4876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81952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7" name="AutoShape 7"/>
          <p:cNvCxnSpPr>
            <a:endCxn id="252" idx="1"/>
          </p:cNvCxnSpPr>
          <p:nvPr/>
        </p:nvCxnSpPr>
        <p:spPr>
          <a:xfrm>
            <a:off x="1066320" y="2743200"/>
            <a:ext cx="114372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58" name="Text Box 8"/>
          <p:cNvSpPr/>
          <p:nvPr/>
        </p:nvSpPr>
        <p:spPr>
          <a:xfrm>
            <a:off x="1219320" y="2362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AutoShape 9"/>
          <p:cNvCxnSpPr/>
          <p:nvPr/>
        </p:nvCxnSpPr>
        <p:spPr>
          <a:xfrm flipH="1">
            <a:off x="2514240" y="1676160"/>
            <a:ext cx="2160" cy="6102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0" name="Text Box 10"/>
          <p:cNvSpPr/>
          <p:nvPr/>
        </p:nvSpPr>
        <p:spPr>
          <a:xfrm>
            <a:off x="2514600" y="1828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AutoShape 11"/>
          <p:cNvCxnSpPr/>
          <p:nvPr/>
        </p:nvCxnSpPr>
        <p:spPr>
          <a:xfrm flipH="1">
            <a:off x="2590560" y="3200040"/>
            <a:ext cx="2160" cy="1523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2" name="Text Box 12"/>
          <p:cNvSpPr/>
          <p:nvPr/>
        </p:nvSpPr>
        <p:spPr>
          <a:xfrm>
            <a:off x="2666880" y="36576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5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AutoShape 13"/>
          <p:cNvCxnSpPr>
            <a:stCxn id="254" idx="3"/>
          </p:cNvCxnSpPr>
          <p:nvPr/>
        </p:nvCxnSpPr>
        <p:spPr>
          <a:xfrm>
            <a:off x="7696080" y="2743200"/>
            <a:ext cx="53568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4" name="Text Box 14"/>
          <p:cNvSpPr/>
          <p:nvPr/>
        </p:nvSpPr>
        <p:spPr>
          <a:xfrm>
            <a:off x="7696080" y="2362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AutoShape 15"/>
          <p:cNvCxnSpPr>
            <a:stCxn id="252" idx="3"/>
            <a:endCxn id="253" idx="1"/>
          </p:cNvCxnSpPr>
          <p:nvPr/>
        </p:nvCxnSpPr>
        <p:spPr>
          <a:xfrm>
            <a:off x="3504960" y="2743200"/>
            <a:ext cx="68652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6" name="AutoShape 16"/>
          <p:cNvCxnSpPr>
            <a:stCxn id="253" idx="3"/>
            <a:endCxn id="254" idx="1"/>
          </p:cNvCxnSpPr>
          <p:nvPr/>
        </p:nvCxnSpPr>
        <p:spPr>
          <a:xfrm>
            <a:off x="5486400" y="2743200"/>
            <a:ext cx="91512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7" name="Text Box 17"/>
          <p:cNvSpPr/>
          <p:nvPr/>
        </p:nvSpPr>
        <p:spPr>
          <a:xfrm>
            <a:off x="3581280" y="2438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5562720" y="2438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 flipH="1">
            <a:off x="4187520" y="3201840"/>
            <a:ext cx="6120" cy="304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 flipH="1">
            <a:off x="4188960" y="3200400"/>
            <a:ext cx="4680" cy="304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 flipH="1">
            <a:off x="5484600" y="3200400"/>
            <a:ext cx="4680" cy="304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AutoShape 22"/>
          <p:cNvCxnSpPr/>
          <p:nvPr/>
        </p:nvCxnSpPr>
        <p:spPr>
          <a:xfrm>
            <a:off x="4191120" y="3429000"/>
            <a:ext cx="129600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73" name="Text Box 23"/>
          <p:cNvSpPr/>
          <p:nvPr/>
        </p:nvSpPr>
        <p:spPr>
          <a:xfrm>
            <a:off x="4419720" y="35053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3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25"/>
          <p:cNvSpPr/>
          <p:nvPr/>
        </p:nvSpPr>
        <p:spPr>
          <a:xfrm>
            <a:off x="586800" y="500040"/>
            <a:ext cx="31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меры с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06:25Z</dcterms:created>
  <dc:creator>Z</dc:creator>
  <dc:description/>
  <dc:language>en-US</dc:language>
  <cp:lastModifiedBy>Home</cp:lastModifiedBy>
  <dcterms:modified xsi:type="dcterms:W3CDTF">2020-01-06T15:51:24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