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D2E-2EEC-4926-8136-A540DCE1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2BD-95A0-4A34-AA55-0EDA5C7D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3EFF3-A576-4584-907B-CAFC8E7D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6A9F7-9046-4CFD-8E85-34A6659C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BD1F2-0E5A-4A53-A49D-BA7ADFA7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34505-1086-45EA-BDC1-228B78F7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F5BFE-D058-4B76-A273-171BC3AD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72330-3A32-4B0D-8D30-EECA9EC2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9C97B-A318-4C77-95A5-6C35767E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6B95F-418B-4DF5-9FA6-767CD2F9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49F7E-798D-4EEB-9FBC-7688149C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4455E-DEF7-4B72-8AA3-EB6693AA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65E-C200-467F-A8E0-4288A045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4FDD3-AA1F-4633-B131-B86EA658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5F1D5-A07B-42F8-8A9A-09E4390B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92F0D-D1B3-49B2-BB8B-6DCA2221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6328D-980E-40BC-B3DE-4311D3D9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43A91-BA54-4BA3-A232-5854F39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96AF1-87C7-49C8-8D53-F4E640F6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09176-A12C-4FFF-AFE3-7D224F89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C4677-468A-421F-94C5-CA6A121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22184-8B36-4209-A07A-7FB5D396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6CB71-978F-4610-BB83-190A8AB5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CC2-892D-4D75-A8CD-D5D68E9E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BBEE1-05E3-42D6-B69D-31351864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B05E6-9257-4F9C-A192-3028D746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C66D3-E46F-448F-9722-3BEF3BEF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69007-6AE8-48DA-B3EF-30623EFF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2B363-7342-4F88-BBDA-28F46B42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8B490-389C-4088-B44D-58E653A8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C472B-F1F5-451C-B829-6B93E281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D3F12-C3CB-4AB7-9C9D-F54E385F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17953-E843-46E6-A935-27E499D3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7DFB0-637B-4170-9B50-1C092E85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A6F3-7F72-4AD8-AF99-AA882886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09060-6D45-4F43-9CCE-F0534BE5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3E666-DDD5-459C-89EA-16C23B6C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E26D9-F966-47A2-95C5-BDBEEEA0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A947C-6EC9-4E31-A12A-BF3D542B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F2979-714B-4F23-A139-FE74BE87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D760E-53A1-431D-AE5A-8ACDBBFC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AC964-C929-4AB9-9F16-49E3C257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E5E43-4A38-46C5-9954-7E042C6C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FE8E5-5F5F-4F88-A893-868978A0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8FB6E-8ED1-4025-9BD6-DD03BF9C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1FFD-6DCA-48CC-9880-ACB0319C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4B900-6326-4F17-94BD-21DC560F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FE148-DD22-45B4-93C3-EE4B88AC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E32A7-51B5-466D-BEFE-9037DD1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F3647-A6A0-4B64-A245-D23F89B7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DD124-CBAD-4B5D-BA08-1AC27BA7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42E9-4533-43DC-9DF5-63ABDBFE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848F-50A4-4DE4-83DF-8C9D7962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D7C1-6559-46C9-B2A8-750149D6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F441-2C1F-44C9-B779-8095CAFE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2025-B3DF-4781-B9A2-9C05F3BD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09D-AD1B-43A2-929B-3A5EB33B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FAE2-8604-4C79-94F9-DC27CA63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7546-F8E8-41EC-87FC-B91B1ED8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06DA-9A6D-40F1-8BF0-8481B490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6EA2-3847-41A9-9455-C957EA25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9806-4E75-482B-9300-B58CF336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CF6C-BE41-4E05-A77C-4F5D9A60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AD76-0D2D-4D56-B3C5-C9AA96E6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75A2-F698-4CB6-B815-CFAD4264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BF6E9-38D8-40AF-A885-34FA2BFD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4309-98DE-46C2-BEA4-9BD36BDA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A4C-F23E-4429-9540-5B806511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F348-869B-44AE-932E-60B8781C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FF796-4B17-4C22-B7CC-D0BF8007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90A8-7763-4DCB-84EA-D054997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7FF7-4F58-495A-9012-A8904E2B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DCC7-E604-40E5-AA77-F097DA15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F1C8-0F14-429E-B827-DC11B236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CCCF-1AED-4735-8D65-98E69AE9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2D498-2BA5-4BD6-9D39-6233E115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FC3B-2F0A-46F8-9349-7375F57B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D50B-CD0D-43CF-B830-F2AE6626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510-2201-4BD5-A52A-5271E349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8725-43C5-423F-803C-C97400A9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8FEE-3434-4787-8378-682F8143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F49A-A555-4CE4-AB28-0A3697DF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EDAAD-FC52-4E08-8D19-579C3C9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33915-BF90-4535-B581-21088796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F06B0-009D-4A6C-97F5-C5B568A8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823F5-70BA-47DD-862F-7D0647BA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9437F-1538-40A0-8600-CCF40E0F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56086-54B6-4590-97B4-9C713FFF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52AB-FD74-45B2-9C33-C9639142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4D4-EABE-4E78-A734-2DA85AB4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6A308-E88C-44E7-A2CF-18C71264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1AED-F9A6-4694-A5B9-4EEF17D5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D79B3-594D-46AC-894F-9CE9FB3D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E4CBE-223D-4261-AFEC-0046AD38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CB6C-DFD7-454F-8266-716977DB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9D978-D15C-4727-9617-E677BD4D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92FB-20FB-41E9-A968-345CEEFA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7AC6E-2A00-4B02-B1E8-FAA04B13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3D24-2EDB-439F-8757-32B4F2C8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BA525-7A3E-4FFA-BC17-C0206029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62C-2F81-4421-9E93-C38D9066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7548-C02D-46F3-B5BA-734BE398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6AA91-EEC6-4C93-AC88-6EFCAA24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30562-81AD-4B9E-AA3F-9D9966C0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1E012-7195-43B5-860A-D93DF498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EAAED-712D-4CCE-A476-70C028CB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490DF-97E3-47FC-8DE8-767574FA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E2F98-DBC2-407E-BC03-0816DA92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9ECBD-C908-4F58-A847-D870660D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8676E-480F-46DD-A254-11E425C7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E294A-6557-456B-9461-28D488D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6C0-369D-4A90-9D02-435F17B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52C7D-6650-497F-B4D9-9F8FCD8E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1F86-FD3F-4E88-A14B-85E76E69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D2AE5-594E-46FF-A697-BF77F592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BC6EB-2A37-455F-A250-59E93075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08F39-0B3A-4139-945E-376A7F4B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20886-4AAE-4189-95A2-8CF6148A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D613-0FF3-4487-B735-E970417B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A7A8B-FAA0-4BDA-BDB6-DACFCF76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0C474-620C-4550-8D40-A7C4A04E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40615-F47D-44E4-9473-F22D3B13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0FB-DC86-4405-82AE-8486878D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1C2CB-80A5-4023-AB3B-5DA4B266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DB56D-23F5-4F9E-A71B-975ADA5A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D7EC9-78EE-42A5-854F-42365817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D80F6-B7C9-4EB1-B1BA-721AD21F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D4C8D-6492-45F7-955C-EE2BA33B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A2C6E-1373-4573-ABF7-E6CA5101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67234-3D1C-4F09-AEAB-A1C9AAE9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9E9E4-F623-46A2-9074-179DF4B0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C0609-1027-4BD5-88C7-4663D40A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0310E-4261-49A4-912E-D5B9B4CF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CFF-F5DC-4787-AC33-ABCBC720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BC1BF-E3C0-4B9E-BF15-2B9D2B23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D990B-D6C6-40ED-A87B-0FEC48D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79465-477F-4D37-A06D-C9A98F7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CEBDE-FB1F-4B0B-A44B-AA644EAB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E9AAD-0D8D-41AE-A3CC-FEBF46E8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21132-71BA-4A1D-A18D-1ECCD9C1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A03D7-C0BA-47E1-AE09-8434C26D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D5E06-9D2C-4B9C-939E-281FD8CE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9DB71-D1F3-4C1A-9849-30E98EC5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65AD3-39FD-48B0-BDB2-2FCCB64C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D651-C669-4B3F-8A73-35CD00CD1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F70D-4ADE-4B6C-85D3-B23EC8A53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67F0-82A1-430F-82E9-38339450D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91F4-920D-4D0A-9E1C-A711C6DE4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C379-B1A5-41FD-91B9-91B84CDC1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AC67-83AC-4E56-83C4-A87B186CB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9DBF-11D8-4465-AF5C-E17D1035A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D3CA-5CFD-4627-9E9D-227460934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F83C-3C3B-4CA2-94C1-193524C21C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23EC-2BBD-4355-8138-BFD8224069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9CAB-3BCA-4E75-8257-B4B69C271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f5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DD4F-634D-459C-BC28-C0B086CC1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Arial"/>
              </a:rPr>
              <a:t>Игровой самомассаж</a:t>
            </a:r>
            <a:br>
              <a:rPr sz="3600"/>
            </a:br>
            <a:r>
              <a:rPr b="1" i="1" lang="ru-RU" sz="3600" spc="-1" strike="noStrike">
                <a:solidFill>
                  <a:srgbClr val="cc3399"/>
                </a:solidFill>
                <a:latin typeface="Arial"/>
              </a:rPr>
              <a:t>в работе с детьми старшего дошкольного возраста</a:t>
            </a:r>
            <a:br>
              <a:rPr sz="3600"/>
            </a:br>
            <a:r>
              <a:rPr b="1" i="1" lang="ru-RU" sz="3600" spc="-1" strike="noStrike">
                <a:solidFill>
                  <a:srgbClr val="cc3399"/>
                </a:solidFill>
                <a:latin typeface="Arial"/>
              </a:rPr>
              <a:t>группы «Морские звезд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3"/>
          <p:cNvSpPr/>
          <p:nvPr/>
        </p:nvSpPr>
        <p:spPr>
          <a:xfrm>
            <a:off x="755640" y="189000"/>
            <a:ext cx="7920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АДОУ Детский сад № 51 общеразвивающего вида г.Сыктывк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Прямоугольник 4"/>
          <p:cNvSpPr/>
          <p:nvPr/>
        </p:nvSpPr>
        <p:spPr>
          <a:xfrm>
            <a:off x="4140360" y="5589720"/>
            <a:ext cx="4746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оспитатели: Козлова Л.В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орлопова И 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Arial"/>
              </a:rPr>
              <a:t>Самомассаж с прище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RUKI"/>
          <p:cNvPicPr/>
          <p:nvPr/>
        </p:nvPicPr>
        <p:blipFill>
          <a:blip r:embed="rId1"/>
          <a:stretch/>
        </p:blipFill>
        <p:spPr>
          <a:xfrm>
            <a:off x="1538280" y="1341360"/>
            <a:ext cx="6191280" cy="431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щепка лежит на левой руке, любуемся ею, покачивая головой вправо-влево, накрываем её правой рукой и прокатываем между ладоня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Мы весёлые прищепки, 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Коль поймаем держим крепко!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Раз, два, три, четыре, пять!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рищепки будем мы кат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овим прищепкой большой палец левой руки и качаем пальчик с прищеп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Большой пальчик мы поймаем 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И немного покачае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овим указательный палец левой руки и кач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Указательный поймаем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И немного покачае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cc"/>
                </a:solidFill>
                <a:latin typeface="Arial"/>
              </a:rPr>
              <a:t>Ловим средний </a:t>
            </a:r>
            <a:r>
              <a:rPr b="0" i="1" lang="ru-RU" sz="1600" spc="-1" strike="noStrike">
                <a:solidFill>
                  <a:srgbClr val="0000cc"/>
                </a:solidFill>
                <a:latin typeface="Times New Roman"/>
              </a:rPr>
              <a:t>палец</a:t>
            </a:r>
            <a:r>
              <a:rPr b="0" i="1" lang="ru-RU" sz="1600" spc="-1" strike="noStrike">
                <a:solidFill>
                  <a:srgbClr val="0000cc"/>
                </a:solidFill>
                <a:latin typeface="Arial"/>
              </a:rPr>
              <a:t> левой руки и кач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Средний пальчик мы поймаем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И немного покачае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овим безымянный палец левой руки и кач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Безымянный мы поймаем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И немного покачае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овим мизинец  левой руки и кач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И мизинец мы поймаем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И немного покачае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щепка лежит на правой руке, накрываем её левой рукой и прокатываем между ладонями, затем выполняем аналогичные действия на правой ру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Раз, два, три, четыре, пять!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рищепки будем мы кат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единяем поочерёдно пальцы обеих рук, встряхиваем кисти рук, закрываем глаза, отдых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Мы закончили играть.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Пальчики свои встряхни 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И немного отдохн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Arial"/>
              </a:rPr>
              <a:t>Самомассаж с грецкими орех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94920" y="620280"/>
            <a:ext cx="8489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 движения выполняются в соответствии с текстом и инстру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 орешек непрост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волшебный, золот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решком будем мы игр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м ручкам помог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 орешком поиграем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равой ру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с горочки ката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рх и вниз, вверх и вниз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по пальчикам кат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ова весело играем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левой ру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ругой руке ката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рх и вниз, вверх и вниз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по пальчикам кат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альцы мы орех возьмем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равой ру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много поверн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пко пальцами держ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еще раз повер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ругую руку мы возьмем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левой ру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много поверн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пко пальцами держ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еще раз повер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,3,4,5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закончили игр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ьчики свои встряхн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много отдох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бенок закрывает глаза и отдыхает, положив голову на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713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ряду с пальчиковыми играми, мозаикой, штриховкой, лепкой, рисованием  су - джок терапия активизирует развитие речи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-джок терапия — это высокая эффективность, безопасность и простота, наилучший метод самопомощи, существующий в настоящее время. С помощью шариков («ежиков») и колец удобно массировать пальцы для благотворного влияния на весь организ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Arial"/>
              </a:rPr>
              <a:t>Самомассаж с помощью массажера Су-дж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0" y="69192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Arial"/>
              </a:rPr>
              <a:t>Самомассаж  с помощью шарика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Arial"/>
              </a:rPr>
              <a:t> Су-Дж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4643280" y="2421000"/>
            <a:ext cx="417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азка про «Маленького Ёжи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тится колючий ёжик, нет ни головы ни нож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ладошке он бежит и пыхтит, пыхтит, пыхти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шарик между ладошками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не по пальчикам бежит и пыхтит, пыхтит,   пыхт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гает туда-сюда, мне щекотно, да, да, 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движения по пальц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ходи колючий ёж в тёмный лес, где ты живёшь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ускаем по столу и ловим подушечками пальце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7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"/>
          <p:cNvPicPr/>
          <p:nvPr/>
        </p:nvPicPr>
        <p:blipFill>
          <a:blip r:embed="rId2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539640" y="620640"/>
            <a:ext cx="3456000" cy="585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66"/>
                </a:solidFill>
                <a:latin typeface="Arial"/>
              </a:rPr>
              <a:t>Самомассаж «Испандер кист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5" descr="P_20180326_160221"/>
          <p:cNvPicPr/>
          <p:nvPr/>
        </p:nvPicPr>
        <p:blipFill>
          <a:blip r:embed="rId1"/>
          <a:stretch/>
        </p:blipFill>
        <p:spPr>
          <a:xfrm>
            <a:off x="2916360" y="1700280"/>
            <a:ext cx="530856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66"/>
                </a:solidFill>
                <a:latin typeface="Arial"/>
              </a:rPr>
              <a:t>Самомассаж шишками сосны, кедра, 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новая шишка – это лучший массажер, подаренный нам матушкой-прир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а содержит множество рефлекторных зон. И если их разминать с помощью шишек, то можно и голове, и ногам и своему животу помочь. Недаром говорят, что кончики пальцев – «второй головной мозг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катывание шишек между ладо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жнения можно сопровождать веселыми, короткими стих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Раз, два, три, четыре, п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Шишку будем мы ка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Шишку будем мы кат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Раз, два, три, четыре, п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Сосновая шишка нам колет лад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Мы покатаем шишку немнож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23640" y="260280"/>
            <a:ext cx="4182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шку я в руке дер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сожму, то разож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играю с нею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дони разогре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сжимаю прав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сжимаю лево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ду шишки я сжим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ду руки укрепл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овые движения сосновой шишкой между ладо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учше раскрывшейся шиш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ёжик колется сос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ё мне шишка не страш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новую шишку в ладонях кат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сосновою шишкой сейчас я игр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24000" y="4724280"/>
            <a:ext cx="4038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Мишка с шишкою игр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Между лап её кат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Медвежата все хохочу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Шишки лапы им щекоч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Колются не боль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Дети все доволь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642920" y="188640"/>
            <a:ext cx="4038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Шишку я на пальчик став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И постукив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На другой переставляю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Поворачив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По всем пальцам пройду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Шишку перевер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Прокатывание шишки от кончиков пальцев до локтя и обра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От ладони до локт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Покатила шишку 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От локтя и до лад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Катит шишка по доро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Перебрасывание шиш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Белки с нами шут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Шишки в нас кид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С белкой поигр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Шишки мы пойм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Массаж шестигранным карандаш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2771640" y="981000"/>
            <a:ext cx="6121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ссажные движения выполняются с помощью хорошо знакомого детям предмета – карандаша. Все  знают, как дошкольники любят рисовать. А если перед рисованием предложить ребенку поиграть с карандашами,  помассировать ладони и пальцы, то процесс рисования станет еще интерес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граненых карандашей ребенок массирует запястья, кисти рук: пальцы, ладони, тыльные поверхности ладоней, межпальцевые зоны. Такой массаж и игры с карандашами будут стимулировать речевое развитие малыша,  способствовать овладению тонкими движениями пальцев, улучшат  кровоснабжение пальцев р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пускать карандаш между одним и двумя-тремя пальцами, удерживая его в определенном положении в правой и левой ру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Карандаш в руках катаю,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Между пальчиков верчу.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пременно каждый пальчик,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Быть послушным нау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6" descr="RUC"/>
          <p:cNvPicPr/>
          <p:nvPr/>
        </p:nvPicPr>
        <p:blipFill>
          <a:blip r:embed="rId1"/>
          <a:stretch/>
        </p:blipFill>
        <p:spPr>
          <a:xfrm>
            <a:off x="641520" y="1773360"/>
            <a:ext cx="1876320" cy="334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3" descr="P_20180326_160430"/>
          <p:cNvPicPr/>
          <p:nvPr/>
        </p:nvPicPr>
        <p:blipFill>
          <a:blip r:embed="rId1"/>
          <a:stretch/>
        </p:blipFill>
        <p:spPr>
          <a:xfrm>
            <a:off x="468360" y="1052640"/>
            <a:ext cx="4032360" cy="4005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1640" y="1628640"/>
            <a:ext cx="432108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катывание карандаша между двумя ладонями  в вертикальном положении карандаша.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Мы лягушки-попрыгушки, ква-ква-ква! 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Тренируем наши ручки, раз-два, раз-два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катывание карандаша тремя пальцами правой руки.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Мы лягушки-попрыгушки, ква-ква-ква! 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Тренируем наши ручки, раз-два, раз-два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катывание карандаша тремя пальцами левой руки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Мы лягушки-попрыгушки, ква-ква-ква! 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Тренируем наши ручки, раз-два, раз-два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катывание карандаша между двумя ладонями в горизонтальном положении карандаша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Мы лягушки-попрыгушки, ква-ква-ква! 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Тренируем наши ручки, раз-два, раз-два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Убираем карандаши-лягушки на край стола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Мы лягушечек возьмём</a:t>
            </a:r>
            <a:br>
              <a:rPr sz="1600"/>
            </a:b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На край стола уберё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482760" y="333360"/>
            <a:ext cx="86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79280" y="1746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395280" y="5418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Актуаль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очисленные исследования показывают: неблагоприятная экологическая ситуация, сложные социально-экономические условия способствуют тому, что здоровье детского населения не улучшается, а напротив, имеет тенденцию к ухудшению. И поэтому, оздоровительная работа с дошкольниками в последние годы приобрела особую актуальность. В настоящее время одной из важных задач, стоящих перед педагогами является сохранение здоровья детей в процессе воспитания и обу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24000" y="342468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Игровой самомассаж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традиционный вид упражнений, помогающий естественно развиваться организму ребенка, морфологически и функционально совершенствоваться его отдельным органам и систем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риемы самомассаж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водят в такой последовательности: поглаживание, растирание, разминание, вибрация (потряхивание) и поглаживание. Продолжительность самомассажа для детей 5-7 минут, в зависимости от поставленной задачи, ежедневно или в виде динамической паузы в процессе образо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5" descr="DSC0110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амомассаж рук и ног с помощью бума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7" descr="P_20180326_172654"/>
          <p:cNvPicPr/>
          <p:nvPr/>
        </p:nvPicPr>
        <p:blipFill>
          <a:blip r:embed="rId2"/>
          <a:stretch/>
        </p:blipFill>
        <p:spPr>
          <a:xfrm>
            <a:off x="2484360" y="3881520"/>
            <a:ext cx="5327640" cy="295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«ЛИС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3600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а лисонька просну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пкой вправо потяну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пкой влево потяну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цу нежно улыбну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Движения выполняются соответственно текс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улачок все пальцы сж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ирать все пальцы стал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ки, ножки и б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какая красо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все массирующие движения выполняются от периферии к центру: от кист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ечу, от ступни к бед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том ладо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шлепали немнож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а гладить ручки, 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ока совсем немнож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Движения выполняются соответственно текс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P_20180326_151051"/>
          <p:cNvPicPr/>
          <p:nvPr/>
        </p:nvPicPr>
        <p:blipFill>
          <a:blip r:embed="rId1"/>
          <a:stretch/>
        </p:blipFill>
        <p:spPr>
          <a:xfrm>
            <a:off x="4500720" y="1628640"/>
            <a:ext cx="4392360" cy="33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дьба по дорожке здоровья,закливание умы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468360" y="2924280"/>
            <a:ext cx="63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6" descr="P_20180326_151206"/>
          <p:cNvPicPr/>
          <p:nvPr/>
        </p:nvPicPr>
        <p:blipFill>
          <a:blip r:embed="rId1"/>
          <a:stretch/>
        </p:blipFill>
        <p:spPr>
          <a:xfrm>
            <a:off x="971640" y="1916280"/>
            <a:ext cx="5400720" cy="38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имическая заряд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35290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десь живёт Хмурил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десь живёт Дразнил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десь живёт Смешил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десь живёт Страшил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то носик Бибк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 где твоя улыбка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P_20180326_153145"/>
          <p:cNvPicPr/>
          <p:nvPr/>
        </p:nvPicPr>
        <p:blipFill>
          <a:blip r:embed="rId1"/>
          <a:stretch/>
        </p:blipFill>
        <p:spPr>
          <a:xfrm>
            <a:off x="3851280" y="2708280"/>
            <a:ext cx="5111640" cy="352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Череп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P_20180326_151645"/>
          <p:cNvPicPr/>
          <p:nvPr/>
        </p:nvPicPr>
        <p:blipFill>
          <a:blip r:embed="rId1"/>
          <a:stretch/>
        </p:blipFill>
        <p:spPr>
          <a:xfrm>
            <a:off x="395280" y="3141720"/>
            <a:ext cx="8209080" cy="34369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91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массаж тела. ( Дети выполняют легкое пощипыв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ла купаться черепаха И кусала всех со страха.Кусь! Кусь!Кусь!Кусь!Никого я не бою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паха Рура! Дети поглаживают себя ладон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зеро нырнула, выполняя круговые движени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ечера нырнула приговари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пала… Э-э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пашка Рура, Выгляни скор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оймай палочку нож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ираем ладонями стопы ног. Располагаем карандаши в межпальцевые каналы, зажав карандаш пальчиками ног. Сжимаем и разжимаем пальчики (3-4 раза). Карандаш зажимаем 2-мя стопами и прокатываем вперед назад (3-4 раза). Зажимаем пальчиками  карандаш, поднимаем  вверх и опускаем на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P_20180326_170944"/>
          <p:cNvPicPr/>
          <p:nvPr/>
        </p:nvPicPr>
        <p:blipFill>
          <a:blip r:embed="rId1"/>
          <a:stretch/>
        </p:blipFill>
        <p:spPr>
          <a:xfrm>
            <a:off x="1979640" y="3429000"/>
            <a:ext cx="3835440" cy="29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пражнения с использованием палки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"Су-Джу"для ног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P_20180326_170511"/>
          <p:cNvPicPr/>
          <p:nvPr/>
        </p:nvPicPr>
        <p:blipFill>
          <a:blip r:embed="rId1"/>
          <a:stretch/>
        </p:blipFill>
        <p:spPr>
          <a:xfrm>
            <a:off x="635040" y="1312920"/>
            <a:ext cx="487368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Самомассаж для ног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«Кана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P_20180326_171323"/>
          <p:cNvPicPr/>
          <p:nvPr/>
        </p:nvPicPr>
        <p:blipFill>
          <a:blip r:embed="rId1"/>
          <a:stretch/>
        </p:blipFill>
        <p:spPr>
          <a:xfrm>
            <a:off x="826920" y="1989000"/>
            <a:ext cx="4608720" cy="316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ынтарный В.В. Играем пальчиками и развиваем речь. СПб.,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.В. Узорова. Пальчиковая гимнастика. М.: Астрель,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А. Ткаченко. Веселые пальчики. Развиваем мелкую моторику. М.:Эксмо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В. Гордеева Пальчиковая гимнастика с предметами. Москва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4"/>
          <p:cNvSpPr/>
          <p:nvPr/>
        </p:nvSpPr>
        <p:spPr>
          <a:xfrm>
            <a:off x="227160" y="189000"/>
            <a:ext cx="8540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лечебное средство массаж был известен еще в глубокой древности. Как известно, массаж - это мощный биологический стимулятор, воздействующий на функции кожи, уровень снабжения организма кислородом и питательными веществами, на выведение продуктов распада, на сократительные способности и работоспособность мышц массируемой кисти руки, а также на эластичность суставов и связо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массаж кистей рук является к тому же средством повышения иммунитета, поскольку на ладонях расположены нервные окончания. Если их деятельность активизируется, улучшается функциональное состояние внутренних орган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гровой самомассаж - это уникальная тактильная гимнастика, благодаря которой в мозг поступает мощный поток импульсов от рецепторов, расположенных в коже. Одновременно с этим в кору головного мозга (в речеслуховые, зрительные, эмоциональные и творческие зоны) поступает информация, которая не только оказывает тонизирующее воздействие на центральную нервную систему, но и способствует увеличению резервных возможностей функционирования головного мозг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227160" y="4149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ссаж позволяет синхронизировать работу обоих полушарий мозг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ми были подобраны упражнения для детей дошкольного возраста, которые комплексно могут влиять на развитие речи и интеллектуальных способностей ребенка. Поскольку у дошкольников преобладает конкретно-образное мышление, ко многим массажным комплексам подобраны стихотворные тексты. Их содержание и ритм максимально приближены к характеру самого движения, чтобы у ребенка возникал конкретный образ. Вначале дети выполняют упражнения молча, по показу,  затем по мере запоминания  тоже проговаривают  текс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Цель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здание устойчивой мотивации и потребности в сохранении своего собственного здоровья и здоровья окружающ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учить детей ответственно и осознанно относиться к своему здоров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ъяснить, что человек в силах уберечь себя от болезн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формировать привычку к здоровому образу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витие навыков элементарного самомассажа рук, ног, головы, лица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учение детей приемам самомассажа в игровой фор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щеукрепляющее воздействие функциональные системы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ормализация тонуса и эластичности мышц, повышение работоспособ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лучшение функционального состояния центральной нервной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обилизация защитных и приспособительных сил орган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крепление здоровья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едполаг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нижение заболеваемости в группе и укрепление физического и психического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зитивные изменения в развити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знание себя через окружающий ми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ирование желания заботиться о сохранении своего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накомство с правилами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роки и этапы реализации проект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долгосрочный (январь - апр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онный эта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пределение цели и задач проекта, составление плана мероприя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едварительная работа по сбору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нкетирование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формление уголка для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сновной эта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учение детей приемам самомассажа в игровой фор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ормирование здорового образа жизни у детей, родителей и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ключительный эта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проведенной деятельности, создание фотовыставки «Сам себе массажист», анкетирование удовлетворенност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Участники проекта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ти старшего дошкольного возраста, родители,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ип проект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оминирующему методу (игровой, по количеству участников (групповой, продолжительности (долгосрочны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971640" y="835560"/>
            <a:ext cx="756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адиционная пальчиковая гимнастика </a:t>
            </a:r>
            <a:r>
              <a:rPr b="1" i="1" lang="ru-RU" sz="3200" spc="-1" strike="noStrike">
                <a:solidFill>
                  <a:srgbClr val="cc3399"/>
                </a:solidFill>
                <a:latin typeface="Arial"/>
              </a:rPr>
              <a:t>вызывает возбуждение локальных участков мозг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 игровой самомассаж оказывает </a:t>
            </a:r>
            <a:r>
              <a:rPr b="1" i="1" lang="ru-RU" sz="3200" spc="-1" strike="noStrike">
                <a:solidFill>
                  <a:srgbClr val="cc3399"/>
                </a:solidFill>
                <a:latin typeface="Arial"/>
              </a:rPr>
              <a:t>тотальное воздействие на кору головного мозга, что предохраняет отдельные ее зоны от переутомления, равномерно распределяя нагрузку на моз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Arial"/>
              </a:rPr>
              <a:t>Самомассаж рук без использования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250920" y="3716280"/>
            <a:ext cx="54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применении данного вида самомассажа используются  следующие прием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глаживание (круговое, спиралевидное, зигзагообразно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7" descr="RU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18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5564160" y="4134960"/>
            <a:ext cx="2665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Разми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780000" y="5805360"/>
            <a:ext cx="31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иб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0011"/>
          <p:cNvPicPr/>
          <p:nvPr/>
        </p:nvPicPr>
        <p:blipFill>
          <a:blip r:embed="rId1"/>
          <a:stretch/>
        </p:blipFill>
        <p:spPr>
          <a:xfrm>
            <a:off x="2843280" y="3429000"/>
            <a:ext cx="2628720" cy="13604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0079"/>
          <p:cNvPicPr/>
          <p:nvPr/>
        </p:nvPicPr>
        <p:blipFill>
          <a:blip r:embed="rId2"/>
          <a:stretch/>
        </p:blipFill>
        <p:spPr>
          <a:xfrm>
            <a:off x="438120" y="4941720"/>
            <a:ext cx="3181320" cy="15051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0007"/>
          <p:cNvPicPr/>
          <p:nvPr/>
        </p:nvPicPr>
        <p:blipFill>
          <a:blip r:embed="rId3"/>
          <a:stretch/>
        </p:blipFill>
        <p:spPr>
          <a:xfrm>
            <a:off x="380880" y="1844640"/>
            <a:ext cx="3067200" cy="13492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3484440" y="2614680"/>
            <a:ext cx="31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и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8" descr="0013"/>
          <p:cNvPicPr/>
          <p:nvPr/>
        </p:nvPicPr>
        <p:blipFill>
          <a:blip r:embed="rId4"/>
          <a:stretch/>
        </p:blipFill>
        <p:spPr>
          <a:xfrm>
            <a:off x="2171880" y="333360"/>
            <a:ext cx="2552400" cy="12906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4741920" y="1044720"/>
            <a:ext cx="31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Расти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Arial"/>
              </a:rPr>
              <a:t>Самомассаж с использованием предм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412920" y="2276640"/>
            <a:ext cx="811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омассаж ладоней и  пальцев   с помощью  бельевой прищепки, орехов, шишек, веточек ели,  шестигранных карандашей,  каучуковых мячей, бумаги, массажных шариков, ковриков «травка»,  фасоли, гороха и т.д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9:23:33Z</dcterms:created>
  <dc:creator>Игнат</dc:creator>
  <dc:description/>
  <dc:language>en-US</dc:language>
  <cp:lastModifiedBy>iiii1</cp:lastModifiedBy>
  <dcterms:modified xsi:type="dcterms:W3CDTF">2020-01-06T11:14:45Z</dcterms:modified>
  <cp:revision>98</cp:revision>
  <dc:subject/>
  <dc:title>Массаж карандашом</dc:title>
</cp:coreProperties>
</file>