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AAA-3154-49CE-99BF-061946DD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1FE-2290-4F1E-8901-C7EF15C1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BD6-D981-43B9-90B3-F6105F4C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CF6-38E2-4981-8982-8F12C7EE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291-6350-4A1E-BBA0-C4D050E2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325-BDD7-448B-AA4D-B5C5694C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0B9-87E3-41C0-8A04-E41C7979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195-109F-4E28-9ED6-D3D096D4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64F-D4BA-41D2-9DFA-1D26EB57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064-E3C3-424E-8F9E-5C37979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040-FB5A-410D-9719-475CF2D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B61-B622-4F70-988A-0510D195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7BB8-5AC8-4A10-A82D-61BAF8FA6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105;&#1090;&#1088;_I" TargetMode="External"/><Relationship Id="rId2" Type="http://schemas.openxmlformats.org/officeDocument/2006/relationships/hyperlink" Target="https://ru.wikipedia.org/wiki/&#1043;&#1086;&#1083;&#1080;&#1094;&#1099;&#1085;,_&#1041;&#1086;&#1088;&#1080;&#1089;_&#1040;&#1083;&#1077;&#1082;&#1089;&#1077;&#1077;&#1074;&#1080;&#1095;" TargetMode="External"/><Relationship Id="rId3" Type="http://schemas.openxmlformats.org/officeDocument/2006/relationships/hyperlink" Target="https://ru.wikipedia.org/wiki/&#1057;&#1090;&#1088;&#1077;&#1083;&#1077;&#1094;&#1082;&#1080;&#1081;_&#1073;&#1091;&#1085;&#1090;_(1682)" TargetMode="External"/><Relationship Id="rId4" Type="http://schemas.openxmlformats.org/officeDocument/2006/relationships/hyperlink" Target="https://ru.wikipedia.org/wiki/&#1043;&#1086;&#1083;&#1080;&#1094;&#1099;&#1085;&#1099;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694_&#1075;&#1086;&#1076;" TargetMode="External"/><Relationship Id="rId2" Type="http://schemas.openxmlformats.org/officeDocument/2006/relationships/hyperlink" Target="https://ru.wikipedia.org/wiki/&#1055;&#1105;&#1090;&#1088;_I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Голицынская средняя общеобразовательная школа №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Сборни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упражнений для устного счё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по теме  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Monotype Corsiva"/>
              </a:rPr>
              <a:t>Большие Вязёмы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-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8" descr="эмблема  школы 7 +++ (1)"/>
          <p:cNvPicPr/>
          <p:nvPr/>
        </p:nvPicPr>
        <p:blipFill>
          <a:blip r:embed="rId1"/>
          <a:srcRect l="0" t="5737" r="0" b="8634"/>
          <a:stretch/>
        </p:blipFill>
        <p:spPr>
          <a:xfrm>
            <a:off x="324000" y="260280"/>
            <a:ext cx="99036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:\Documents and Settings\ОКСАНА\Мои документы\Большие Вязёмы рисунок.png"/>
          <p:cNvPicPr/>
          <p:nvPr/>
        </p:nvPicPr>
        <p:blipFill>
          <a:blip r:embed="rId2"/>
          <a:stretch/>
        </p:blipFill>
        <p:spPr>
          <a:xfrm>
            <a:off x="3348000" y="4292640"/>
            <a:ext cx="2808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5.В каком  году была созда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танция Голицы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1870 – 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1905 – 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1941 – 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6  х  4 = ____                ____ х  3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 х 2 = ____             _____ + 16 =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_ : 4 = ____             _____ : 2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анция Голицыно названа так при строительстве в 1870 году железной дороги в честь участников Отечественной войны 1812 года Бориса Владимировича и Дмитирия Владимировича Голицы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6. Что находилось в усадьбе Большие Вязёмы в годы Великой Отечественной войны?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Штаб армии- 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спиталь – 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клад снарядов –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00 : 4 =___                  _____ : 2 =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 х 3 = ____             _____ : 2 =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_ - 15 = ____          ____ х 6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468360" y="162864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 1941 году Вязёмы оказались в прифронтовой полосе, и в усадьбе был срочно развёрнут эвакогоспиталь, куда поступали тяжелораненые, которых нельзя было перевози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:\Documents and Settings\ОКСАНА\Мои документы\Большие Вязёмы рисунок.png"/>
          <p:cNvPicPr/>
          <p:nvPr/>
        </p:nvPicPr>
        <p:blipFill>
          <a:blip r:embed="rId2"/>
          <a:stretch/>
        </p:blipFill>
        <p:spPr>
          <a:xfrm>
            <a:off x="3132000" y="3789360"/>
            <a:ext cx="28083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7. Что сейчас находится в усадьбе Большие Вязём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иблиотека - 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сударственный историко-литературный музей-заповедник А. С. Пушкина – 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сударственный исторический музей  князей Голицыных–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00 : 2 =___                  _____ х  2 =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 + 30 = ____             _____ -  14 =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_ : 5 = ____          ____ х  5 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усадьбе Большие Вязёмы находится Государственный историко-литературный музей-заповедник А. С. Пушки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. При  каком правители в Больших Вязёмах был построен Преображенский храм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 Иване Грозном –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 Петре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– 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 Борисе Годунове – 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64 : 8=  ____                      _____ : 7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 х 5 = ____                 _____ х 4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_ + 9 = ____               _____ + 6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33"/>
                </a:solidFill>
                <a:latin typeface="Monotype Corsiva"/>
              </a:rPr>
              <a:t>Борис Годун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moi-slovari.ru/images/slovari/166/0_001-119_(009-127)_img_306.jpg"/>
          <p:cNvPicPr/>
          <p:nvPr/>
        </p:nvPicPr>
        <p:blipFill>
          <a:blip r:embed="rId1"/>
          <a:stretch/>
        </p:blipFill>
        <p:spPr>
          <a:xfrm>
            <a:off x="2535120" y="1847880"/>
            <a:ext cx="4329360" cy="972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. За какие заслуги Петр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ари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орису Алексеевичу Голицыну Большие Вязё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 помощь во время стрелецкого бунту – 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 участие в Отечественной войне 1812 г. – 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46 – 22 = _____                    ____ х 9 =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 : 3 = _____                     ____ : 6 =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  : 2 = _____                    ____ х 9 =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местье было подарено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Петром 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 его воспитателю боярину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Борису Голицыну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 за спасение во время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стрелецкого бунт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С тех пор Вязёмы оставались вотчиной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Голицыных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C:\Documents and Settings\ОКСАНА\Мои документы\Большие Вязёмы рисунок.png"/>
          <p:cNvPicPr/>
          <p:nvPr/>
        </p:nvPicPr>
        <p:blipFill>
          <a:blip r:embed="rId5"/>
          <a:stretch/>
        </p:blipFill>
        <p:spPr>
          <a:xfrm>
            <a:off x="3132000" y="3860640"/>
            <a:ext cx="28083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В каком году царь Пётр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подари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ольшие Вязёмы князю Голицын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1600 –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•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1694 –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•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1700 –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6 : 8 = _                         _  :  6 = 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_  х  2 = _                         _  х  3 = _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_  +  22 = _                       _  :  2 = _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468360" y="1628640"/>
            <a:ext cx="82803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 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1694 году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 поместье было подарено 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Петром I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 его воспитателю боярину Борису Голицыну 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:\Documents and Settings\ОКСАНА\Мои документы\Большие Вязёмы рисунок.png"/>
          <p:cNvPicPr/>
          <p:nvPr/>
        </p:nvPicPr>
        <p:blipFill>
          <a:blip r:embed="rId3"/>
          <a:stretch/>
        </p:blipFill>
        <p:spPr>
          <a:xfrm>
            <a:off x="2987640" y="38098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. Какой знаменитый поэт бывал в Больших Вязёмах в детские год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ермонтов М.Ю. –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ушкин А.С. –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яковский В.В. –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9 х 5 = ____                         ____ : 4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 + 15 = ____                  ____ х  8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____ : 3 = _____                 _____ : 4 =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 период с 1805 по 1830 годы Пушкин часто приезжал в Большие Вязёмы из бабушкиного имения в Захаро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C:\Documents and Settings\ОКСАНА\Мои документы\Большие Вязёмы рисунок.png"/>
          <p:cNvPicPr/>
          <p:nvPr/>
        </p:nvPicPr>
        <p:blipFill>
          <a:blip r:embed="rId1"/>
          <a:stretch/>
        </p:blipFill>
        <p:spPr>
          <a:xfrm>
            <a:off x="3348000" y="4292640"/>
            <a:ext cx="2808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9T08:21:05Z</dcterms:created>
  <dc:creator>Оксана</dc:creator>
  <dc:description/>
  <dc:language>en-US</dc:language>
  <cp:lastModifiedBy>home</cp:lastModifiedBy>
  <dcterms:modified xsi:type="dcterms:W3CDTF">2020-01-06T18:40:11Z</dcterms:modified>
  <cp:revision>33</cp:revision>
  <dc:subject/>
  <dc:title>Голицыно</dc:title>
</cp:coreProperties>
</file>