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D7F-D741-48C7-AD8E-75C96EFE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AE4-5F5A-4A06-99CF-402C1FA2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933-277D-4A0E-AB9E-7689BD01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6FF-480C-4C02-8FE8-59AB36EF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5B0F-D306-448B-884A-545CBD1E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70FB-29F3-4F05-967B-152C763C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7E9C-E1DD-42F0-90DE-76BA3A4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DEBC-6D89-4EBD-9B52-9E7F6698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CAD3-5BB0-496E-AB8D-36DE3A3B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E181-B04C-4804-883A-8D8395D0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5DB6-052D-4795-832C-CC108F20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7B4-7430-4DBD-A142-E463C710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474B-E3BD-4E9F-9F42-863B95F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717B-C632-4E4F-A28A-DA74CCD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6E57-B533-42D0-B312-450B1009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97C5-F7DF-4B0F-A4ED-0DACE356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BE03-94C1-4E29-B111-E81C02EC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1D4-65F4-4A1D-9107-565474AB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3E7-20F5-425F-9A2B-712E590F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A7C-266A-437B-9010-4DCB3F7B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5CD-29AF-4100-9D15-0370A2B1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B5F-38A2-4997-8B9E-5FA21C0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702-5993-4E3B-BC87-69FF4D70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905-D784-43DD-AFF5-4DD5DCFF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D07B-6376-4582-896A-6C9B249D84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13CC-78F4-4489-83B1-E9E943F5E04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3"/>
          <p:cNvSpPr/>
          <p:nvPr/>
        </p:nvSpPr>
        <p:spPr>
          <a:xfrm>
            <a:off x="304920" y="457200"/>
            <a:ext cx="76197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АДОУ «Детский сад № 51 общеразвивающего вида»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. Сыктывкар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4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ТЕХНОЛОГИЯ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ГРУППОВОГО СБОРА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 организации воспитательно-образовательного процесса в соответствии с требованиями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ФГОС Д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Прямоугольник 4"/>
          <p:cNvSpPr/>
          <p:nvPr/>
        </p:nvSpPr>
        <p:spPr>
          <a:xfrm>
            <a:off x="3124080" y="5105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спитатель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категории 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рлопов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нна Алексеевна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Обмен новостя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Picture 4" descr="images (2)"/>
          <p:cNvPicPr/>
          <p:nvPr/>
        </p:nvPicPr>
        <p:blipFill>
          <a:blip r:embed="rId1"/>
          <a:stretch/>
        </p:blipFill>
        <p:spPr>
          <a:xfrm>
            <a:off x="4343400" y="1143000"/>
            <a:ext cx="3473280" cy="255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IMG_20171201_081744"/>
          <p:cNvPicPr/>
          <p:nvPr/>
        </p:nvPicPr>
        <p:blipFill>
          <a:blip r:embed="rId2"/>
          <a:stretch/>
        </p:blipFill>
        <p:spPr>
          <a:xfrm>
            <a:off x="380880" y="1143000"/>
            <a:ext cx="368964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images (3)"/>
          <p:cNvPicPr/>
          <p:nvPr/>
        </p:nvPicPr>
        <p:blipFill>
          <a:blip r:embed="rId3"/>
          <a:stretch/>
        </p:blipFill>
        <p:spPr>
          <a:xfrm>
            <a:off x="2514600" y="38098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ланирование дн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Picture 4" descr="IMG_20171201_081701"/>
          <p:cNvPicPr/>
          <p:nvPr/>
        </p:nvPicPr>
        <p:blipFill>
          <a:blip r:embed="rId1"/>
          <a:stretch/>
        </p:blipFill>
        <p:spPr>
          <a:xfrm>
            <a:off x="457200" y="1219320"/>
            <a:ext cx="6797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одушки - подруж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Picture 4" descr="IMG_20171201_065840"/>
          <p:cNvPicPr/>
          <p:nvPr/>
        </p:nvPicPr>
        <p:blipFill>
          <a:blip r:embed="rId1"/>
          <a:stretch/>
        </p:blipFill>
        <p:spPr>
          <a:xfrm>
            <a:off x="609480" y="1219320"/>
            <a:ext cx="64929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Сигнал - колокольч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1" name="Picture 4" descr="IMG_20171201_065949"/>
          <p:cNvPicPr/>
          <p:nvPr/>
        </p:nvPicPr>
        <p:blipFill>
          <a:blip r:embed="rId1"/>
          <a:stretch/>
        </p:blipFill>
        <p:spPr>
          <a:xfrm>
            <a:off x="4800600" y="1143000"/>
            <a:ext cx="3794040" cy="3886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IMG_20171201_081601"/>
          <p:cNvPicPr/>
          <p:nvPr/>
        </p:nvPicPr>
        <p:blipFill>
          <a:blip r:embed="rId2"/>
          <a:stretch/>
        </p:blipFill>
        <p:spPr>
          <a:xfrm>
            <a:off x="457200" y="3048120"/>
            <a:ext cx="43434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Опознавательный значок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Picture 4" descr="IMG_20171201_070333"/>
          <p:cNvPicPr/>
          <p:nvPr/>
        </p:nvPicPr>
        <p:blipFill>
          <a:blip r:embed="rId1"/>
          <a:stretch/>
        </p:blipFill>
        <p:spPr>
          <a:xfrm>
            <a:off x="1905120" y="990720"/>
            <a:ext cx="55054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IMG_20171201_070418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6400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IMG_20171201_070400"/>
          <p:cNvPicPr/>
          <p:nvPr/>
        </p:nvPicPr>
        <p:blipFill>
          <a:blip r:embed="rId2"/>
          <a:stretch/>
        </p:blipFill>
        <p:spPr>
          <a:xfrm>
            <a:off x="4724280" y="228600"/>
            <a:ext cx="4191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Нет больше радости в жизни, чем радость человеческого общения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. Де Сент-Экзюпер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 Формирование доброжелательных отношений между детьми, создание атмосферы поддержки и сотрудничества между детьми и взрослыми, создание общего положительного эмоционального фона, ощущения психологического комфорта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Обмен информацией о прошедших или предстоящих событиях, выявление детских интересов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 Решение некоторых обучающих задач: расширение представлений об окружающем, развитие речи, логического мышления и т.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. Формирование мотивации к предстоящей деятельности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. Представление информации о материалах в центрах активности на текущий день и планирование деятельности в центрах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6. Осуществление выбора деятельности на основе собственных интересов и потребностей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 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6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99" name="_s1028"/>
            <p:cNvCxnSpPr>
              <a:stCxn id="200" idx="0"/>
              <a:endCxn id="201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2" name="_s1029"/>
            <p:cNvCxnSpPr>
              <a:stCxn id="203" idx="0"/>
              <a:endCxn id="201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4" name="_s1030"/>
            <p:cNvCxnSpPr>
              <a:stCxn id="205" idx="0"/>
              <a:endCxn id="201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01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2f1311"/>
                  </a:solidFill>
                  <a:latin typeface="Arial"/>
                </a:rPr>
                <a:t>Предназначение</a:t>
              </a:r>
              <a:endParaRPr b="0" lang="en-US" sz="23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обеспечить возможность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конструктивного, 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познавательно-делового 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развития детей в ситуации 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естественного социально-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эмоционального 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общения со сверстниками 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и взрослыми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1033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для формирования навыков 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2f1311"/>
                  </a:solidFill>
                  <a:latin typeface="Arial"/>
                </a:rPr>
                <a:t>понимания себя и других</a:t>
              </a: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мотивирует детей к инициативной,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активной самостоятельной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деятельности, обращаясь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к таким человеческим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потребностям как: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чувствовать себя значимым,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управлять собой своим временем,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деятельностью, отношениями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с другими людьми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Ежедневный круг общ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IMG_20171201_081649"/>
          <p:cNvPicPr/>
          <p:nvPr/>
        </p:nvPicPr>
        <p:blipFill>
          <a:blip r:embed="rId1"/>
          <a:stretch/>
        </p:blipFill>
        <p:spPr>
          <a:xfrm>
            <a:off x="533520" y="1486080"/>
            <a:ext cx="691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Diagram 6"/>
          <p:cNvGrpSpPr/>
          <p:nvPr/>
        </p:nvGrpSpPr>
        <p:grpSpPr>
          <a:xfrm>
            <a:off x="1821960" y="319320"/>
            <a:ext cx="5497920" cy="5176440"/>
            <a:chOff x="1821960" y="319320"/>
            <a:chExt cx="5497920" cy="5176440"/>
          </a:xfrm>
        </p:grpSpPr>
        <p:sp>
          <p:nvSpPr>
            <p:cNvPr id="210" name="_s2052"/>
            <p:cNvSpPr/>
            <p:nvPr/>
          </p:nvSpPr>
          <p:spPr>
            <a:xfrm flipH="1">
              <a:off x="3249000" y="3900240"/>
              <a:ext cx="660960" cy="4003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_s2053"/>
            <p:cNvSpPr/>
            <p:nvPr/>
          </p:nvSpPr>
          <p:spPr>
            <a:xfrm>
              <a:off x="1821960" y="3902040"/>
              <a:ext cx="1527480" cy="15915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открытость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2054"/>
            <p:cNvSpPr/>
            <p:nvPr/>
          </p:nvSpPr>
          <p:spPr>
            <a:xfrm>
              <a:off x="5231520" y="3902040"/>
              <a:ext cx="663120" cy="398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2055"/>
            <p:cNvSpPr/>
            <p:nvPr/>
          </p:nvSpPr>
          <p:spPr>
            <a:xfrm>
              <a:off x="5792760" y="3903840"/>
              <a:ext cx="1527120" cy="1591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диалогичность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2056"/>
            <p:cNvSpPr/>
            <p:nvPr/>
          </p:nvSpPr>
          <p:spPr>
            <a:xfrm flipV="1">
              <a:off x="4571640" y="1911240"/>
              <a:ext cx="0" cy="7977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2057"/>
            <p:cNvSpPr/>
            <p:nvPr/>
          </p:nvSpPr>
          <p:spPr>
            <a:xfrm>
              <a:off x="3808080" y="319320"/>
              <a:ext cx="1527120" cy="1591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2f1311"/>
                  </a:solidFill>
                  <a:latin typeface="Arial"/>
                </a:rPr>
                <a:t>рефлексивность.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2058"/>
            <p:cNvSpPr/>
            <p:nvPr/>
          </p:nvSpPr>
          <p:spPr>
            <a:xfrm>
              <a:off x="3808080" y="2709000"/>
              <a:ext cx="1527120" cy="15915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Принципы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организации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и проведения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группового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2f1311"/>
                  </a:solidFill>
                  <a:latin typeface="Arial"/>
                </a:rPr>
                <a:t>сбора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Organization Chart 6"/>
          <p:cNvGrpSpPr/>
          <p:nvPr/>
        </p:nvGrpSpPr>
        <p:grpSpPr>
          <a:xfrm>
            <a:off x="219240" y="257040"/>
            <a:ext cx="7476480" cy="5807160"/>
            <a:chOff x="219240" y="257040"/>
            <a:chExt cx="7476480" cy="5807160"/>
          </a:xfrm>
        </p:grpSpPr>
        <p:cxnSp>
          <p:nvCxnSpPr>
            <p:cNvPr id="218" name="_s3076"/>
            <p:cNvCxnSpPr>
              <a:stCxn id="219" idx="0"/>
              <a:endCxn id="220" idx="2"/>
            </p:cNvCxnSpPr>
            <p:nvPr/>
          </p:nvCxnSpPr>
          <p:spPr>
            <a:xfrm flipV="1" rot="16200000">
              <a:off x="4830480" y="1706040"/>
              <a:ext cx="1162080" cy="2908080"/>
            </a:xfrm>
            <a:prstGeom prst="bentConnector3">
              <a:avLst>
                <a:gd name="adj1" fmla="val 9854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1" name="_s3077"/>
            <p:cNvCxnSpPr>
              <a:stCxn id="222" idx="0"/>
              <a:endCxn id="220" idx="2"/>
            </p:cNvCxnSpPr>
            <p:nvPr/>
          </p:nvCxnSpPr>
          <p:spPr>
            <a:xfrm flipV="1" rot="16200000">
              <a:off x="3861000" y="2675520"/>
              <a:ext cx="1162080" cy="969480"/>
            </a:xfrm>
            <a:prstGeom prst="bentConnector3">
              <a:avLst>
                <a:gd name="adj1" fmla="val 9854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3" name="_s3078"/>
            <p:cNvCxnSpPr>
              <a:stCxn id="224" idx="0"/>
              <a:endCxn id="220" idx="2"/>
            </p:cNvCxnSpPr>
            <p:nvPr/>
          </p:nvCxnSpPr>
          <p:spPr>
            <a:xfrm flipH="1" flipV="1" rot="5400000">
              <a:off x="2891880" y="2675520"/>
              <a:ext cx="1162080" cy="969840"/>
            </a:xfrm>
            <a:prstGeom prst="bentConnector3">
              <a:avLst>
                <a:gd name="adj1" fmla="val 9854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5" name="_s3079"/>
            <p:cNvCxnSpPr>
              <a:stCxn id="226" idx="0"/>
              <a:endCxn id="220" idx="2"/>
            </p:cNvCxnSpPr>
            <p:nvPr/>
          </p:nvCxnSpPr>
          <p:spPr>
            <a:xfrm flipH="1" flipV="1" rot="5400000">
              <a:off x="1922400" y="1706040"/>
              <a:ext cx="1162080" cy="2908440"/>
            </a:xfrm>
            <a:prstGeom prst="bentConnector3">
              <a:avLst>
                <a:gd name="adj1" fmla="val 9854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20" name="_s3080"/>
            <p:cNvSpPr/>
            <p:nvPr/>
          </p:nvSpPr>
          <p:spPr>
            <a:xfrm>
              <a:off x="3126960" y="257040"/>
              <a:ext cx="1661400" cy="2322720"/>
            </a:xfrm>
            <a:custGeom>
              <a:avLst/>
              <a:gdLst>
                <a:gd name="textAreaLeft" fmla="*/ 81000 w 1661400"/>
                <a:gd name="textAreaRight" fmla="*/ 1580400 w 1661400"/>
                <a:gd name="textAreaTop" fmla="*/ 81000 h 2322720"/>
                <a:gd name="textAreaBottom" fmla="*/ 2241720 h 2322720"/>
              </a:gdLst>
              <a:ahLst/>
              <a:rect l="textAreaLeft" t="textAreaTop" r="textAreaRight" b="textAreaBottom"/>
              <a:pathLst>
                <a:path w="21600" h="30196">
                  <a:moveTo>
                    <a:pt x="3600" y="0"/>
                  </a:moveTo>
                  <a:arcTo wR="3600" hR="3600" stAng="16200000" swAng="-5400000"/>
                  <a:lnTo>
                    <a:pt x="0" y="26596"/>
                  </a:lnTo>
                  <a:arcTo wR="3600" hR="3600" stAng="10800000" swAng="-5400000"/>
                  <a:lnTo>
                    <a:pt x="18000" y="30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Структура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группового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2f1311"/>
                  </a:solidFill>
                  <a:latin typeface="Arial"/>
                </a:rPr>
                <a:t>сбора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6" name="_s3081"/>
            <p:cNvSpPr/>
            <p:nvPr/>
          </p:nvSpPr>
          <p:spPr>
            <a:xfrm>
              <a:off x="219240" y="3741480"/>
              <a:ext cx="1661400" cy="2322720"/>
            </a:xfrm>
            <a:custGeom>
              <a:avLst/>
              <a:gdLst>
                <a:gd name="textAreaLeft" fmla="*/ 81000 w 1661400"/>
                <a:gd name="textAreaRight" fmla="*/ 1580400 w 1661400"/>
                <a:gd name="textAreaTop" fmla="*/ 81000 h 2322720"/>
                <a:gd name="textAreaBottom" fmla="*/ 2241720 h 2322720"/>
              </a:gdLst>
              <a:ahLst/>
              <a:rect l="textAreaLeft" t="textAreaTop" r="textAreaRight" b="textAreaBottom"/>
              <a:pathLst>
                <a:path w="21600" h="30196">
                  <a:moveTo>
                    <a:pt x="3600" y="0"/>
                  </a:moveTo>
                  <a:arcTo wR="3600" hR="3600" stAng="16200000" swAng="-5400000"/>
                  <a:lnTo>
                    <a:pt x="0" y="26596"/>
                  </a:lnTo>
                  <a:arcTo wR="3600" hR="3600" stAng="10800000" swAng="-5400000"/>
                  <a:lnTo>
                    <a:pt x="18000" y="30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Arial"/>
                </a:rPr>
                <a:t>Приветствие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3082"/>
            <p:cNvSpPr/>
            <p:nvPr/>
          </p:nvSpPr>
          <p:spPr>
            <a:xfrm>
              <a:off x="2157480" y="3741480"/>
              <a:ext cx="1661400" cy="2322720"/>
            </a:xfrm>
            <a:custGeom>
              <a:avLst/>
              <a:gdLst>
                <a:gd name="textAreaLeft" fmla="*/ 81000 w 1661400"/>
                <a:gd name="textAreaRight" fmla="*/ 1580400 w 1661400"/>
                <a:gd name="textAreaTop" fmla="*/ 81000 h 2322720"/>
                <a:gd name="textAreaBottom" fmla="*/ 2241720 h 2322720"/>
              </a:gdLst>
              <a:ahLst/>
              <a:rect l="textAreaLeft" t="textAreaTop" r="textAreaRight" b="textAreaBottom"/>
              <a:pathLst>
                <a:path w="21600" h="30196">
                  <a:moveTo>
                    <a:pt x="3600" y="0"/>
                  </a:moveTo>
                  <a:arcTo wR="3600" hR="3600" stAng="16200000" swAng="-5400000"/>
                  <a:lnTo>
                    <a:pt x="0" y="26596"/>
                  </a:lnTo>
                  <a:arcTo wR="3600" hR="3600" stAng="10800000" swAng="-5400000"/>
                  <a:lnTo>
                    <a:pt x="18000" y="30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Arial"/>
                </a:rPr>
                <a:t>Игра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3083"/>
            <p:cNvSpPr/>
            <p:nvPr/>
          </p:nvSpPr>
          <p:spPr>
            <a:xfrm>
              <a:off x="4096080" y="3741480"/>
              <a:ext cx="1661400" cy="2322720"/>
            </a:xfrm>
            <a:custGeom>
              <a:avLst/>
              <a:gdLst>
                <a:gd name="textAreaLeft" fmla="*/ 81000 w 1661400"/>
                <a:gd name="textAreaRight" fmla="*/ 1580400 w 1661400"/>
                <a:gd name="textAreaTop" fmla="*/ 81000 h 2322720"/>
                <a:gd name="textAreaBottom" fmla="*/ 2241720 h 2322720"/>
              </a:gdLst>
              <a:ahLst/>
              <a:rect l="textAreaLeft" t="textAreaTop" r="textAreaRight" b="textAreaBottom"/>
              <a:pathLst>
                <a:path w="21600" h="30196">
                  <a:moveTo>
                    <a:pt x="3600" y="0"/>
                  </a:moveTo>
                  <a:arcTo wR="3600" hR="3600" stAng="16200000" swAng="-5400000"/>
                  <a:lnTo>
                    <a:pt x="0" y="26596"/>
                  </a:lnTo>
                  <a:arcTo wR="3600" hR="3600" stAng="10800000" swAng="-5400000"/>
                  <a:lnTo>
                    <a:pt x="18000" y="30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Arial"/>
                </a:rPr>
                <a:t>Обмен 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Arial"/>
                </a:rPr>
                <a:t>новостями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3084"/>
            <p:cNvSpPr/>
            <p:nvPr/>
          </p:nvSpPr>
          <p:spPr>
            <a:xfrm>
              <a:off x="6034320" y="3741480"/>
              <a:ext cx="1661400" cy="2322720"/>
            </a:xfrm>
            <a:custGeom>
              <a:avLst/>
              <a:gdLst>
                <a:gd name="textAreaLeft" fmla="*/ 81000 w 1661400"/>
                <a:gd name="textAreaRight" fmla="*/ 1580400 w 1661400"/>
                <a:gd name="textAreaTop" fmla="*/ 81000 h 2322720"/>
                <a:gd name="textAreaBottom" fmla="*/ 2241720 h 2322720"/>
              </a:gdLst>
              <a:ahLst/>
              <a:rect l="textAreaLeft" t="textAreaTop" r="textAreaRight" b="textAreaBottom"/>
              <a:pathLst>
                <a:path w="21600" h="30196">
                  <a:moveTo>
                    <a:pt x="3600" y="0"/>
                  </a:moveTo>
                  <a:arcTo wR="3600" hR="3600" stAng="16200000" swAng="-5400000"/>
                  <a:lnTo>
                    <a:pt x="0" y="26596"/>
                  </a:lnTo>
                  <a:arcTo wR="3600" hR="3600" stAng="10800000" swAng="-5400000"/>
                  <a:lnTo>
                    <a:pt x="18000" y="30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Arial"/>
                </a:rPr>
                <a:t>Планирование 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f1311"/>
                  </a:solidFill>
                  <a:latin typeface="Arial"/>
                </a:rPr>
                <a:t>дня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риветств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4" descr="images"/>
          <p:cNvPicPr/>
          <p:nvPr/>
        </p:nvPicPr>
        <p:blipFill>
          <a:blip r:embed="rId1"/>
          <a:stretch/>
        </p:blipFill>
        <p:spPr>
          <a:xfrm>
            <a:off x="685800" y="1447920"/>
            <a:ext cx="66214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Игр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4" descr="IMG_20171201_081643"/>
          <p:cNvPicPr/>
          <p:nvPr/>
        </p:nvPicPr>
        <p:blipFill>
          <a:blip r:embed="rId1"/>
          <a:stretch/>
        </p:blipFill>
        <p:spPr>
          <a:xfrm>
            <a:off x="3505320" y="990720"/>
            <a:ext cx="4271760" cy="3203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4e5f2b23942041fdfc0bb1806bkr--suveniry-i-podarki-podarochnaya-korobka-detskaya"/>
          <p:cNvPicPr/>
          <p:nvPr/>
        </p:nvPicPr>
        <p:blipFill>
          <a:blip r:embed="rId2"/>
          <a:stretch/>
        </p:blipFill>
        <p:spPr>
          <a:xfrm>
            <a:off x="609480" y="3276720"/>
            <a:ext cx="3764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2T12:52:04Z</dcterms:created>
  <dc:creator>Даша</dc:creator>
  <dc:description/>
  <dc:language>en-US</dc:language>
  <cp:lastModifiedBy>iiii1</cp:lastModifiedBy>
  <dcterms:modified xsi:type="dcterms:W3CDTF">2019-11-11T19:50:4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