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3967-82FC-4BCB-8D1D-6E656A749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A6FC-3A32-40ED-97E4-6AA552DB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34E9-FB5C-4F59-8BB6-A4434DB35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0ED2-DF50-462A-8606-D5D5F2A62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4044-06F0-4596-920F-BE3FBB19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306C-2C33-4120-9312-B489F98F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1E59-CC55-4140-8F8B-4CD61221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82BA-9EF1-479D-80CE-9E170FEA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046D-9F78-43CC-9287-97370D71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8073-D312-4A91-8B4E-A66A7CE8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4D5E-B058-454B-B224-B3CCAAF9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60A7-0101-4006-B0B6-06B067C4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E9AB-0DC3-4C14-8264-913B350DD0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4575240" y="3860640"/>
            <a:ext cx="353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а - тренажёр по матема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ычитание в пределах 10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845440" y="2205000"/>
            <a:ext cx="455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cc00"/>
                </a:solidFill>
                <a:latin typeface="Arial"/>
              </a:rPr>
              <a:t>Крошка Ено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7">
            <a:hlinkClick r:id="" action="ppaction://hlinkshowjump?jump=nextslide"/>
          </p:cNvPr>
          <p:cNvSpPr/>
          <p:nvPr/>
        </p:nvSpPr>
        <p:spPr>
          <a:xfrm>
            <a:off x="8244000" y="5950080"/>
            <a:ext cx="718920" cy="7207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54">
                <a:moveTo>
                  <a:pt x="0" y="0"/>
                </a:moveTo>
                <a:lnTo>
                  <a:pt x="21600" y="0"/>
                </a:lnTo>
                <a:lnTo>
                  <a:pt x="21600" y="21654"/>
                </a:lnTo>
                <a:lnTo>
                  <a:pt x="0" y="21654"/>
                </a:lnTo>
                <a:close/>
              </a:path>
              <a:path fill="lightenLess" w="21600" h="216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4">
                <a:moveTo>
                  <a:pt x="21600" y="0"/>
                </a:moveTo>
                <a:lnTo>
                  <a:pt x="21600" y="21654"/>
                </a:lnTo>
                <a:lnTo>
                  <a:pt x="20200" y="20254"/>
                </a:lnTo>
                <a:lnTo>
                  <a:pt x="20200" y="1400"/>
                </a:lnTo>
                <a:close/>
              </a:path>
              <a:path fill="darkenLess" w="21600" h="21654">
                <a:moveTo>
                  <a:pt x="21600" y="21654"/>
                </a:moveTo>
                <a:lnTo>
                  <a:pt x="0" y="21654"/>
                </a:lnTo>
                <a:lnTo>
                  <a:pt x="1400" y="20254"/>
                </a:lnTo>
                <a:lnTo>
                  <a:pt x="20200" y="20254"/>
                </a:lnTo>
                <a:close/>
              </a:path>
              <a:path fill="lighten" w="21600" h="21654">
                <a:moveTo>
                  <a:pt x="0" y="216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4"/>
                </a:lnTo>
                <a:close/>
              </a:path>
              <a:path fill="darken" w="21600" h="21654">
                <a:moveTo>
                  <a:pt x="3794" y="3821"/>
                </a:moveTo>
                <a:lnTo>
                  <a:pt x="17806" y="10827"/>
                </a:lnTo>
                <a:lnTo>
                  <a:pt x="3794" y="1783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8">
            <a:hlinkClick r:id="" action="ppaction://hlinkshowjump?jump=previousslide"/>
          </p:cNvPr>
          <p:cNvSpPr/>
          <p:nvPr/>
        </p:nvSpPr>
        <p:spPr>
          <a:xfrm>
            <a:off x="7380360" y="5950080"/>
            <a:ext cx="720720" cy="709560"/>
          </a:xfrm>
          <a:custGeom>
            <a:avLst/>
            <a:gdLst>
              <a:gd name="textAreaLeft" fmla="*/ 45720 w 720720"/>
              <a:gd name="textAreaRight" fmla="*/ 675000 w 720720"/>
              <a:gd name="textAreaTop" fmla="*/ 45720 h 709560"/>
              <a:gd name="textAreaBottom" fmla="*/ 663840 h 709560"/>
            </a:gdLst>
            <a:ahLst/>
            <a:rect l="textAreaLeft" t="textAreaTop" r="textAreaRight" b="textAreaBottom"/>
            <a:pathLst>
              <a:path w="21940" h="21600">
                <a:moveTo>
                  <a:pt x="0" y="0"/>
                </a:moveTo>
                <a:lnTo>
                  <a:pt x="21940" y="0"/>
                </a:lnTo>
                <a:lnTo>
                  <a:pt x="21940" y="21600"/>
                </a:lnTo>
                <a:lnTo>
                  <a:pt x="0" y="21600"/>
                </a:lnTo>
                <a:close/>
              </a:path>
              <a:path fill="lightenLess" w="21940" h="21600">
                <a:moveTo>
                  <a:pt x="0" y="0"/>
                </a:moveTo>
                <a:lnTo>
                  <a:pt x="21940" y="0"/>
                </a:lnTo>
                <a:lnTo>
                  <a:pt x="20540" y="1400"/>
                </a:lnTo>
                <a:lnTo>
                  <a:pt x="1400" y="1400"/>
                </a:lnTo>
                <a:close/>
              </a:path>
              <a:path fill="darken" w="21940" h="21600">
                <a:moveTo>
                  <a:pt x="21940" y="0"/>
                </a:moveTo>
                <a:lnTo>
                  <a:pt x="21940" y="21600"/>
                </a:lnTo>
                <a:lnTo>
                  <a:pt x="20540" y="20200"/>
                </a:lnTo>
                <a:lnTo>
                  <a:pt x="20540" y="1400"/>
                </a:lnTo>
                <a:close/>
              </a:path>
              <a:path fill="darkenLess" w="21940" h="21600">
                <a:moveTo>
                  <a:pt x="219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40" y="20200"/>
                </a:lnTo>
                <a:close/>
              </a:path>
              <a:path fill="lighten" w="219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40" h="21600">
                <a:moveTo>
                  <a:pt x="1097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940" h="21600">
                <a:moveTo>
                  <a:pt x="12075" y="14281"/>
                </a:moveTo>
                <a:lnTo>
                  <a:pt x="12075" y="12323"/>
                </a:lnTo>
                <a:cubicBezTo>
                  <a:pt x="12075" y="11496"/>
                  <a:pt x="12406" y="10800"/>
                  <a:pt x="13006" y="10800"/>
                </a:cubicBezTo>
                <a:cubicBezTo>
                  <a:pt x="14138" y="10800"/>
                  <a:pt x="15034" y="9434"/>
                  <a:pt x="15034" y="7849"/>
                </a:cubicBezTo>
                <a:cubicBezTo>
                  <a:pt x="15034" y="5534"/>
                  <a:pt x="13181" y="3794"/>
                  <a:pt x="10970" y="3794"/>
                </a:cubicBezTo>
                <a:cubicBezTo>
                  <a:pt x="8759" y="3794"/>
                  <a:pt x="7088" y="5534"/>
                  <a:pt x="7088" y="7849"/>
                </a:cubicBezTo>
                <a:lnTo>
                  <a:pt x="8942" y="7849"/>
                </a:lnTo>
                <a:cubicBezTo>
                  <a:pt x="8942" y="6709"/>
                  <a:pt x="9864" y="5821"/>
                  <a:pt x="10970" y="5821"/>
                </a:cubicBezTo>
                <a:cubicBezTo>
                  <a:pt x="12075" y="5821"/>
                  <a:pt x="13006" y="6709"/>
                  <a:pt x="13006" y="7849"/>
                </a:cubicBezTo>
                <a:cubicBezTo>
                  <a:pt x="13006" y="8589"/>
                  <a:pt x="12536" y="9320"/>
                  <a:pt x="12075" y="9320"/>
                </a:cubicBezTo>
                <a:cubicBezTo>
                  <a:pt x="10970" y="9320"/>
                  <a:pt x="9864" y="10800"/>
                  <a:pt x="9864" y="12323"/>
                </a:cubicBezTo>
                <a:lnTo>
                  <a:pt x="9864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5796000" y="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-181080" y="2637000"/>
            <a:ext cx="1594080" cy="226512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4"/>
          <p:cNvGrpSpPr/>
          <p:nvPr/>
        </p:nvGrpSpPr>
        <p:grpSpPr>
          <a:xfrm>
            <a:off x="4284720" y="3068640"/>
            <a:ext cx="1417320" cy="2066760"/>
            <a:chOff x="4284720" y="3068640"/>
            <a:chExt cx="1417320" cy="2066760"/>
          </a:xfrm>
        </p:grpSpPr>
        <p:pic>
          <p:nvPicPr>
            <p:cNvPr id="178" name="Picture 5" descr="flower26"/>
            <p:cNvPicPr/>
            <p:nvPr/>
          </p:nvPicPr>
          <p:blipFill>
            <a:blip r:embed="rId3"/>
            <a:stretch/>
          </p:blipFill>
          <p:spPr>
            <a:xfrm>
              <a:off x="4284720" y="3068640"/>
              <a:ext cx="11700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Oval 6"/>
            <p:cNvSpPr/>
            <p:nvPr/>
          </p:nvSpPr>
          <p:spPr>
            <a:xfrm>
              <a:off x="4787640" y="422100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7"/>
          <p:cNvGrpSpPr/>
          <p:nvPr/>
        </p:nvGrpSpPr>
        <p:grpSpPr>
          <a:xfrm>
            <a:off x="7164360" y="2708280"/>
            <a:ext cx="1008000" cy="1584360"/>
            <a:chOff x="7164360" y="2708280"/>
            <a:chExt cx="1008000" cy="1584360"/>
          </a:xfrm>
        </p:grpSpPr>
        <p:pic>
          <p:nvPicPr>
            <p:cNvPr id="181" name="Picture 8" descr=""/>
            <p:cNvPicPr/>
            <p:nvPr/>
          </p:nvPicPr>
          <p:blipFill>
            <a:blip r:embed="rId4"/>
            <a:stretch/>
          </p:blipFill>
          <p:spPr>
            <a:xfrm>
              <a:off x="7164360" y="3645000"/>
              <a:ext cx="10080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Oval 9"/>
            <p:cNvSpPr/>
            <p:nvPr/>
          </p:nvSpPr>
          <p:spPr>
            <a:xfrm>
              <a:off x="7236000" y="270828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0"/>
          <p:cNvGrpSpPr/>
          <p:nvPr/>
        </p:nvGrpSpPr>
        <p:grpSpPr>
          <a:xfrm>
            <a:off x="7308720" y="4365720"/>
            <a:ext cx="1403280" cy="2307960"/>
            <a:chOff x="7308720" y="4365720"/>
            <a:chExt cx="1403280" cy="2307960"/>
          </a:xfrm>
        </p:grpSpPr>
        <p:pic>
          <p:nvPicPr>
            <p:cNvPr id="184" name="Picture 11" descr="f76"/>
            <p:cNvPicPr/>
            <p:nvPr/>
          </p:nvPicPr>
          <p:blipFill>
            <a:blip r:embed="rId5"/>
            <a:stretch/>
          </p:blipFill>
          <p:spPr>
            <a:xfrm>
              <a:off x="7308720" y="5445000"/>
              <a:ext cx="94284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Oval 12"/>
            <p:cNvSpPr/>
            <p:nvPr/>
          </p:nvSpPr>
          <p:spPr>
            <a:xfrm>
              <a:off x="7797600" y="436572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Rectangle 13"/>
          <p:cNvSpPr/>
          <p:nvPr/>
        </p:nvSpPr>
        <p:spPr>
          <a:xfrm>
            <a:off x="900000" y="2133720"/>
            <a:ext cx="719280" cy="647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5293080" y="587700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крошка енот.mp3" descr=""/>
          <p:cNvPicPr/>
          <p:nvPr/>
        </p:nvPicPr>
        <p:blipFill>
          <a:blip r:embed="rId6"/>
          <a:stretch/>
        </p:blipFill>
        <p:spPr>
          <a:xfrm>
            <a:off x="7956720" y="7101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16">
            <a:hlinkClick r:id="" action="ppaction://hlinkshowjump?jump=nextslide"/>
          </p:cNvPr>
          <p:cNvSpPr/>
          <p:nvPr/>
        </p:nvSpPr>
        <p:spPr>
          <a:xfrm>
            <a:off x="0" y="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3815"/>
                </a:moveTo>
                <a:lnTo>
                  <a:pt x="17806" y="10822"/>
                </a:lnTo>
                <a:lnTo>
                  <a:pt x="3794" y="178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2195640" y="227664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307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2" dur="127144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3" nodeType="with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-0.06736 0.15792 C -0.06059 0.16994 -0.05243 0.18197 -0.03559 0.19098 C -0.0184 0.2 -0.00052 0.20902 0.03038 0.21503 C 0.06077 0.22405 0.1125 0.23307 0.14844 0.23885 C 0.18559 0.24185 0.20139 0.24486 0.25 0.24786 C 0.29879 0.25087 0.38924 0.2652 0.44184 0.2652 C 0.49445 0.25989 0.53733 0.24486 0.56476 0.23307 C 0.5934 0.22104 0.59983 0.20301 0.61077 0.19098 C 0.62118 0.17596 0.62292 0.15792 0.62899 0.1489 C 0.63611 0.13688 0.64757 0.12879 0.65313 0.12879 E">
                                      <p:cBhvr>
                                        <p:cTn id="314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31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2"/>
          <a:stretch/>
        </p:blipFill>
        <p:spPr>
          <a:xfrm>
            <a:off x="-181080" y="2637000"/>
            <a:ext cx="1594080" cy="2265120"/>
          </a:xfrm>
          <a:prstGeom prst="rect">
            <a:avLst/>
          </a:prstGeom>
          <a:ln w="0">
            <a:noFill/>
          </a:ln>
        </p:spPr>
      </p:pic>
      <p:grpSp>
        <p:nvGrpSpPr>
          <p:cNvPr id="193" name="Group 4"/>
          <p:cNvGrpSpPr/>
          <p:nvPr/>
        </p:nvGrpSpPr>
        <p:grpSpPr>
          <a:xfrm>
            <a:off x="4284720" y="3068640"/>
            <a:ext cx="1417320" cy="2066760"/>
            <a:chOff x="4284720" y="3068640"/>
            <a:chExt cx="1417320" cy="2066760"/>
          </a:xfrm>
        </p:grpSpPr>
        <p:pic>
          <p:nvPicPr>
            <p:cNvPr id="194" name="Picture 5" descr="flower26"/>
            <p:cNvPicPr/>
            <p:nvPr/>
          </p:nvPicPr>
          <p:blipFill>
            <a:blip r:embed="rId3"/>
            <a:stretch/>
          </p:blipFill>
          <p:spPr>
            <a:xfrm>
              <a:off x="4284720" y="3068640"/>
              <a:ext cx="11700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Oval 6"/>
            <p:cNvSpPr/>
            <p:nvPr/>
          </p:nvSpPr>
          <p:spPr>
            <a:xfrm>
              <a:off x="4787640" y="422100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7"/>
          <p:cNvGrpSpPr/>
          <p:nvPr/>
        </p:nvGrpSpPr>
        <p:grpSpPr>
          <a:xfrm>
            <a:off x="7164360" y="2708280"/>
            <a:ext cx="1008000" cy="1584360"/>
            <a:chOff x="7164360" y="2708280"/>
            <a:chExt cx="1008000" cy="1584360"/>
          </a:xfrm>
        </p:grpSpPr>
        <p:pic>
          <p:nvPicPr>
            <p:cNvPr id="197" name="Picture 8" descr=""/>
            <p:cNvPicPr/>
            <p:nvPr/>
          </p:nvPicPr>
          <p:blipFill>
            <a:blip r:embed="rId4"/>
            <a:stretch/>
          </p:blipFill>
          <p:spPr>
            <a:xfrm>
              <a:off x="7164360" y="3645000"/>
              <a:ext cx="10080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Oval 9"/>
            <p:cNvSpPr/>
            <p:nvPr/>
          </p:nvSpPr>
          <p:spPr>
            <a:xfrm>
              <a:off x="7236000" y="270828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10"/>
          <p:cNvGrpSpPr/>
          <p:nvPr/>
        </p:nvGrpSpPr>
        <p:grpSpPr>
          <a:xfrm>
            <a:off x="7308720" y="4365720"/>
            <a:ext cx="1403280" cy="2307960"/>
            <a:chOff x="7308720" y="4365720"/>
            <a:chExt cx="1403280" cy="2307960"/>
          </a:xfrm>
        </p:grpSpPr>
        <p:pic>
          <p:nvPicPr>
            <p:cNvPr id="200" name="Picture 11" descr="f76"/>
            <p:cNvPicPr/>
            <p:nvPr/>
          </p:nvPicPr>
          <p:blipFill>
            <a:blip r:embed="rId5"/>
            <a:stretch/>
          </p:blipFill>
          <p:spPr>
            <a:xfrm>
              <a:off x="7308720" y="5445000"/>
              <a:ext cx="94284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Oval 12"/>
            <p:cNvSpPr/>
            <p:nvPr/>
          </p:nvSpPr>
          <p:spPr>
            <a:xfrm>
              <a:off x="7797600" y="436572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Rectangle 13"/>
          <p:cNvSpPr/>
          <p:nvPr/>
        </p:nvSpPr>
        <p:spPr>
          <a:xfrm>
            <a:off x="900000" y="2133720"/>
            <a:ext cx="719280" cy="647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 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5293080" y="587700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крошка енот.mp3" descr=""/>
          <p:cNvPicPr/>
          <p:nvPr/>
        </p:nvPicPr>
        <p:blipFill>
          <a:blip r:embed="rId6"/>
          <a:stretch/>
        </p:blipFill>
        <p:spPr>
          <a:xfrm>
            <a:off x="7956720" y="7101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6">
            <a:hlinkClick r:id="" action="ppaction://hlinkshowjump?jump=nextslide"/>
          </p:cNvPr>
          <p:cNvSpPr/>
          <p:nvPr/>
        </p:nvSpPr>
        <p:spPr>
          <a:xfrm>
            <a:off x="0" y="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3815"/>
                </a:moveTo>
                <a:lnTo>
                  <a:pt x="17806" y="10822"/>
                </a:lnTo>
                <a:lnTo>
                  <a:pt x="3794" y="178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2051280" y="234936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45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27144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-0.06736 0.10035 C -0.06059 0.11885 -0.05278 0.13734 -0.03594 0.15098 C -0.01875 0.16486 -0.00121 0.17873 0.02934 0.18798 C 0.05955 0.20185 0.11042 0.21572 0.14618 0.22428 C 0.18264 0.2289 0.19844 0.23353 0.24653 0.23815 C 0.29497 0.24278 0.3842 0.2652 0.43629 0.2652 C 0.4882 0.25665 0.53073 0.23353 0.55781 0.21572 C 0.58629 0.19723 0.59271 0.16948 0.6033 0.15098 C 0.61372 0.12809 0.61528 0.10035 0.6217 0.08648 C 0.62847 0.06798 0.63993 0.05549 0.64531 0.05549 E">
                                      <p:cBhvr>
                                        <p:cTn id="352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56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369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2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2"/>
          <a:stretch/>
        </p:blipFill>
        <p:spPr>
          <a:xfrm>
            <a:off x="-181080" y="2637000"/>
            <a:ext cx="1594080" cy="2265120"/>
          </a:xfrm>
          <a:prstGeom prst="rect">
            <a:avLst/>
          </a:prstGeom>
          <a:ln w="0">
            <a:noFill/>
          </a:ln>
        </p:spPr>
      </p:pic>
      <p:grpSp>
        <p:nvGrpSpPr>
          <p:cNvPr id="209" name="Group 4"/>
          <p:cNvGrpSpPr/>
          <p:nvPr/>
        </p:nvGrpSpPr>
        <p:grpSpPr>
          <a:xfrm>
            <a:off x="4284720" y="3068640"/>
            <a:ext cx="1417320" cy="2066760"/>
            <a:chOff x="4284720" y="3068640"/>
            <a:chExt cx="1417320" cy="2066760"/>
          </a:xfrm>
        </p:grpSpPr>
        <p:pic>
          <p:nvPicPr>
            <p:cNvPr id="210" name="Picture 5" descr="flower26"/>
            <p:cNvPicPr/>
            <p:nvPr/>
          </p:nvPicPr>
          <p:blipFill>
            <a:blip r:embed="rId3"/>
            <a:stretch/>
          </p:blipFill>
          <p:spPr>
            <a:xfrm>
              <a:off x="4284720" y="3068640"/>
              <a:ext cx="11700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Oval 6"/>
            <p:cNvSpPr/>
            <p:nvPr/>
          </p:nvSpPr>
          <p:spPr>
            <a:xfrm>
              <a:off x="4787640" y="422100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7"/>
          <p:cNvGrpSpPr/>
          <p:nvPr/>
        </p:nvGrpSpPr>
        <p:grpSpPr>
          <a:xfrm>
            <a:off x="7164360" y="2708280"/>
            <a:ext cx="1008000" cy="1584360"/>
            <a:chOff x="7164360" y="2708280"/>
            <a:chExt cx="1008000" cy="1584360"/>
          </a:xfrm>
        </p:grpSpPr>
        <p:pic>
          <p:nvPicPr>
            <p:cNvPr id="213" name="Picture 8" descr=""/>
            <p:cNvPicPr/>
            <p:nvPr/>
          </p:nvPicPr>
          <p:blipFill>
            <a:blip r:embed="rId4"/>
            <a:stretch/>
          </p:blipFill>
          <p:spPr>
            <a:xfrm>
              <a:off x="7164360" y="3645000"/>
              <a:ext cx="10080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Oval 9"/>
            <p:cNvSpPr/>
            <p:nvPr/>
          </p:nvSpPr>
          <p:spPr>
            <a:xfrm>
              <a:off x="7236000" y="270828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0"/>
          <p:cNvGrpSpPr/>
          <p:nvPr/>
        </p:nvGrpSpPr>
        <p:grpSpPr>
          <a:xfrm>
            <a:off x="7308720" y="4365720"/>
            <a:ext cx="1403280" cy="2307960"/>
            <a:chOff x="7308720" y="4365720"/>
            <a:chExt cx="1403280" cy="2307960"/>
          </a:xfrm>
        </p:grpSpPr>
        <p:pic>
          <p:nvPicPr>
            <p:cNvPr id="216" name="Picture 11" descr="f76"/>
            <p:cNvPicPr/>
            <p:nvPr/>
          </p:nvPicPr>
          <p:blipFill>
            <a:blip r:embed="rId5"/>
            <a:stretch/>
          </p:blipFill>
          <p:spPr>
            <a:xfrm>
              <a:off x="7308720" y="5445000"/>
              <a:ext cx="94284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Oval 12"/>
            <p:cNvSpPr/>
            <p:nvPr/>
          </p:nvSpPr>
          <p:spPr>
            <a:xfrm>
              <a:off x="7797600" y="436572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Rectangle 13"/>
          <p:cNvSpPr/>
          <p:nvPr/>
        </p:nvSpPr>
        <p:spPr>
          <a:xfrm>
            <a:off x="900000" y="2133720"/>
            <a:ext cx="719280" cy="647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5293080" y="587700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крошка енот.mp3" descr=""/>
          <p:cNvPicPr/>
          <p:nvPr/>
        </p:nvPicPr>
        <p:blipFill>
          <a:blip r:embed="rId6"/>
          <a:stretch/>
        </p:blipFill>
        <p:spPr>
          <a:xfrm>
            <a:off x="7956720" y="7101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16">
            <a:hlinkClick r:id="" action="ppaction://hlinkshowjump?jump=nextslide"/>
          </p:cNvPr>
          <p:cNvSpPr/>
          <p:nvPr/>
        </p:nvSpPr>
        <p:spPr>
          <a:xfrm>
            <a:off x="0" y="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3815"/>
                </a:moveTo>
                <a:lnTo>
                  <a:pt x="17806" y="10822"/>
                </a:lnTo>
                <a:lnTo>
                  <a:pt x="3794" y="178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7"/>
          <p:cNvSpPr/>
          <p:nvPr/>
        </p:nvSpPr>
        <p:spPr>
          <a:xfrm>
            <a:off x="6732720" y="184464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383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396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1" dur="127144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2" nodeType="with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-0.06736 0.14682 C -0.06354 0.15422 -0.0592 0.16162 -0.05 0.16717 C -0.04045 0.17272 -0.03073 0.17827 -0.01389 0.18197 C 0.00278 0.18752 0.0309 0.19307 0.0507 0.19653 C 0.07083 0.19838 0.07952 0.20023 0.10608 0.20208 C 0.13281 0.20393 0.18212 0.21272 0.21094 0.21272 C 0.23958 0.20948 0.26302 0.20023 0.27795 0.19307 C 0.29375 0.18567 0.29722 0.17457 0.30313 0.16717 C 0.30886 0.15792 0.30972 0.14682 0.3132 0.14127 C 0.31702 0.13387 0.32327 0.12879 0.32622 0.12879 E">
                                      <p:cBhvr>
                                        <p:cTn id="403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6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407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0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-181080" y="2637000"/>
            <a:ext cx="1594080" cy="226512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4"/>
          <p:cNvGrpSpPr/>
          <p:nvPr/>
        </p:nvGrpSpPr>
        <p:grpSpPr>
          <a:xfrm>
            <a:off x="4067280" y="3141720"/>
            <a:ext cx="1417320" cy="2066760"/>
            <a:chOff x="4067280" y="3141720"/>
            <a:chExt cx="1417320" cy="2066760"/>
          </a:xfrm>
        </p:grpSpPr>
        <p:pic>
          <p:nvPicPr>
            <p:cNvPr id="226" name="Picture 5" descr="flower26"/>
            <p:cNvPicPr/>
            <p:nvPr/>
          </p:nvPicPr>
          <p:blipFill>
            <a:blip r:embed="rId3"/>
            <a:stretch/>
          </p:blipFill>
          <p:spPr>
            <a:xfrm>
              <a:off x="4067280" y="3141720"/>
              <a:ext cx="11700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Oval 6"/>
            <p:cNvSpPr/>
            <p:nvPr/>
          </p:nvSpPr>
          <p:spPr>
            <a:xfrm>
              <a:off x="4570200" y="429408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7"/>
          <p:cNvGrpSpPr/>
          <p:nvPr/>
        </p:nvGrpSpPr>
        <p:grpSpPr>
          <a:xfrm>
            <a:off x="6804000" y="2492280"/>
            <a:ext cx="1008000" cy="1584360"/>
            <a:chOff x="6804000" y="2492280"/>
            <a:chExt cx="1008000" cy="1584360"/>
          </a:xfrm>
        </p:grpSpPr>
        <p:pic>
          <p:nvPicPr>
            <p:cNvPr id="229" name="Picture 8" descr=""/>
            <p:cNvPicPr/>
            <p:nvPr/>
          </p:nvPicPr>
          <p:blipFill>
            <a:blip r:embed="rId4"/>
            <a:stretch/>
          </p:blipFill>
          <p:spPr>
            <a:xfrm>
              <a:off x="6804000" y="3429000"/>
              <a:ext cx="10080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Oval 9"/>
            <p:cNvSpPr/>
            <p:nvPr/>
          </p:nvSpPr>
          <p:spPr>
            <a:xfrm>
              <a:off x="6875640" y="249228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10"/>
          <p:cNvGrpSpPr/>
          <p:nvPr/>
        </p:nvGrpSpPr>
        <p:grpSpPr>
          <a:xfrm>
            <a:off x="7308720" y="4365720"/>
            <a:ext cx="1403280" cy="2307960"/>
            <a:chOff x="7308720" y="4365720"/>
            <a:chExt cx="1403280" cy="2307960"/>
          </a:xfrm>
        </p:grpSpPr>
        <p:pic>
          <p:nvPicPr>
            <p:cNvPr id="232" name="Picture 11" descr="f76"/>
            <p:cNvPicPr/>
            <p:nvPr/>
          </p:nvPicPr>
          <p:blipFill>
            <a:blip r:embed="rId5"/>
            <a:stretch/>
          </p:blipFill>
          <p:spPr>
            <a:xfrm>
              <a:off x="7308720" y="5445000"/>
              <a:ext cx="94284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Oval 12"/>
            <p:cNvSpPr/>
            <p:nvPr/>
          </p:nvSpPr>
          <p:spPr>
            <a:xfrm>
              <a:off x="7797600" y="436572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Rectangle 13"/>
          <p:cNvSpPr/>
          <p:nvPr/>
        </p:nvSpPr>
        <p:spPr>
          <a:xfrm>
            <a:off x="900000" y="2133720"/>
            <a:ext cx="719280" cy="647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 -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4"/>
          <p:cNvSpPr/>
          <p:nvPr/>
        </p:nvSpPr>
        <p:spPr>
          <a:xfrm>
            <a:off x="2124360" y="234936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крошка енот.mp3" descr=""/>
          <p:cNvPicPr/>
          <p:nvPr/>
        </p:nvPicPr>
        <p:blipFill>
          <a:blip r:embed="rId6"/>
          <a:stretch/>
        </p:blipFill>
        <p:spPr>
          <a:xfrm>
            <a:off x="7956720" y="7101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16">
            <a:hlinkClick r:id="" action="ppaction://hlinkshowjump?jump=nextslide"/>
          </p:cNvPr>
          <p:cNvSpPr/>
          <p:nvPr/>
        </p:nvSpPr>
        <p:spPr>
          <a:xfrm>
            <a:off x="0" y="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3815"/>
                </a:moveTo>
                <a:lnTo>
                  <a:pt x="17806" y="10822"/>
                </a:lnTo>
                <a:lnTo>
                  <a:pt x="3794" y="178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6732720" y="184464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421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434" nodeType="clickEffect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7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447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2" dur="127144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3" nodeType="with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-0.03194 0.27885 C -0.02569 0.28902 -0.0184 0.29919 -0.00243 0.30682 C 0.01337 0.31468 0.03021 0.32231 0.05868 0.3274 C 0.08698 0.33503 0.1349 0.34266 0.1684 0.34728 C 0.20278 0.34983 0.21736 0.35237 0.26267 0.35492 C 0.30799 0.35746 0.39184 0.36994 0.4408 0.36994 C 0.48958 0.36509 0.52934 0.35237 0.55504 0.34266 C 0.5816 0.33249 0.58785 0.31723 0.59792 0.30682 C 0.60747 0.29411 0.60886 0.27885 0.61476 0.27122 C 0.62136 0.26104 0.63212 0.25457 0.63733 0.25457 E">
                                      <p:cBhvr>
                                        <p:cTn id="454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"/>
          <p:cNvPicPr/>
          <p:nvPr/>
        </p:nvPicPr>
        <p:blipFill>
          <a:blip r:embed="rId2"/>
          <a:stretch/>
        </p:blipFill>
        <p:spPr>
          <a:xfrm>
            <a:off x="-181080" y="2637000"/>
            <a:ext cx="1594080" cy="2265120"/>
          </a:xfrm>
          <a:prstGeom prst="rect">
            <a:avLst/>
          </a:prstGeom>
          <a:ln w="0">
            <a:noFill/>
          </a:ln>
        </p:spPr>
      </p:pic>
      <p:grpSp>
        <p:nvGrpSpPr>
          <p:cNvPr id="241" name="Group 4"/>
          <p:cNvGrpSpPr/>
          <p:nvPr/>
        </p:nvGrpSpPr>
        <p:grpSpPr>
          <a:xfrm>
            <a:off x="3995640" y="2924280"/>
            <a:ext cx="1417320" cy="2066760"/>
            <a:chOff x="3995640" y="2924280"/>
            <a:chExt cx="1417320" cy="2066760"/>
          </a:xfrm>
        </p:grpSpPr>
        <p:pic>
          <p:nvPicPr>
            <p:cNvPr id="242" name="Picture 5" descr="flower26"/>
            <p:cNvPicPr/>
            <p:nvPr/>
          </p:nvPicPr>
          <p:blipFill>
            <a:blip r:embed="rId3"/>
            <a:stretch/>
          </p:blipFill>
          <p:spPr>
            <a:xfrm>
              <a:off x="3995640" y="2924280"/>
              <a:ext cx="11700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Oval 6"/>
            <p:cNvSpPr/>
            <p:nvPr/>
          </p:nvSpPr>
          <p:spPr>
            <a:xfrm>
              <a:off x="4498560" y="407664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7"/>
          <p:cNvGrpSpPr/>
          <p:nvPr/>
        </p:nvGrpSpPr>
        <p:grpSpPr>
          <a:xfrm>
            <a:off x="6804000" y="2492280"/>
            <a:ext cx="1008000" cy="1584360"/>
            <a:chOff x="6804000" y="2492280"/>
            <a:chExt cx="1008000" cy="1584360"/>
          </a:xfrm>
        </p:grpSpPr>
        <p:pic>
          <p:nvPicPr>
            <p:cNvPr id="245" name="Picture 8" descr=""/>
            <p:cNvPicPr/>
            <p:nvPr/>
          </p:nvPicPr>
          <p:blipFill>
            <a:blip r:embed="rId4"/>
            <a:stretch/>
          </p:blipFill>
          <p:spPr>
            <a:xfrm>
              <a:off x="6804000" y="3429000"/>
              <a:ext cx="10080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Oval 9"/>
            <p:cNvSpPr/>
            <p:nvPr/>
          </p:nvSpPr>
          <p:spPr>
            <a:xfrm>
              <a:off x="6875640" y="249228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0"/>
          <p:cNvGrpSpPr/>
          <p:nvPr/>
        </p:nvGrpSpPr>
        <p:grpSpPr>
          <a:xfrm>
            <a:off x="7308720" y="4365720"/>
            <a:ext cx="1403280" cy="2307960"/>
            <a:chOff x="7308720" y="4365720"/>
            <a:chExt cx="1403280" cy="2307960"/>
          </a:xfrm>
        </p:grpSpPr>
        <p:pic>
          <p:nvPicPr>
            <p:cNvPr id="248" name="Picture 11" descr="f76"/>
            <p:cNvPicPr/>
            <p:nvPr/>
          </p:nvPicPr>
          <p:blipFill>
            <a:blip r:embed="rId5"/>
            <a:stretch/>
          </p:blipFill>
          <p:spPr>
            <a:xfrm>
              <a:off x="7308720" y="5445000"/>
              <a:ext cx="94284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Oval 12"/>
            <p:cNvSpPr/>
            <p:nvPr/>
          </p:nvSpPr>
          <p:spPr>
            <a:xfrm>
              <a:off x="7797600" y="436572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Rectangle 13"/>
          <p:cNvSpPr/>
          <p:nvPr/>
        </p:nvSpPr>
        <p:spPr>
          <a:xfrm>
            <a:off x="900000" y="2133720"/>
            <a:ext cx="719280" cy="647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2124360" y="234936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крошка енот.mp3" descr=""/>
          <p:cNvPicPr/>
          <p:nvPr/>
        </p:nvPicPr>
        <p:blipFill>
          <a:blip r:embed="rId6"/>
          <a:stretch/>
        </p:blipFill>
        <p:spPr>
          <a:xfrm>
            <a:off x="7956720" y="7101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16">
            <a:hlinkClick r:id="" action="ppaction://hlinkshowjump?jump=nextslide"/>
          </p:cNvPr>
          <p:cNvSpPr/>
          <p:nvPr/>
        </p:nvSpPr>
        <p:spPr>
          <a:xfrm>
            <a:off x="0" y="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3815"/>
                </a:moveTo>
                <a:lnTo>
                  <a:pt x="17806" y="10822"/>
                </a:lnTo>
                <a:lnTo>
                  <a:pt x="3794" y="178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7"/>
          <p:cNvSpPr/>
          <p:nvPr/>
        </p:nvSpPr>
        <p:spPr>
          <a:xfrm>
            <a:off x="5293080" y="609300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459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127144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5" nodeType="with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-0.03194 0.12139 C -0.02604 0.14913 -0.01892 0.17688 -0.00312 0.19769 C 0.01215 0.21896 0.02847 0.23977 0.05642 0.25364 C 0.08403 0.27445 0.1309 0.29526 0.16354 0.30798 C 0.19705 0.31492 0.21129 0.32185 0.25573 0.32879 C 0.29983 0.33572 0.38177 0.36994 0.42952 0.36994 C 0.47726 0.35653 0.51597 0.32185 0.54115 0.29526 C 0.56702 0.26752 0.57327 0.2259 0.58316 0.19769 C 0.59236 0.16301 0.59375 0.12139 0.59948 0.10058 C 0.6059 0.07307 0.61649 0.05549 0.6217 0.05549 E">
                                      <p:cBhvr>
                                        <p:cTn id="466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9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470" nodeType="clickEffect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3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483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6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2"/>
          <a:stretch/>
        </p:blipFill>
        <p:spPr>
          <a:xfrm>
            <a:off x="-181080" y="2637000"/>
            <a:ext cx="1594080" cy="2265120"/>
          </a:xfrm>
          <a:prstGeom prst="rect">
            <a:avLst/>
          </a:prstGeom>
          <a:ln w="0">
            <a:noFill/>
          </a:ln>
        </p:spPr>
      </p:pic>
      <p:grpSp>
        <p:nvGrpSpPr>
          <p:cNvPr id="257" name="Group 4"/>
          <p:cNvGrpSpPr/>
          <p:nvPr/>
        </p:nvGrpSpPr>
        <p:grpSpPr>
          <a:xfrm>
            <a:off x="4067280" y="3141720"/>
            <a:ext cx="1417320" cy="2066760"/>
            <a:chOff x="4067280" y="3141720"/>
            <a:chExt cx="1417320" cy="2066760"/>
          </a:xfrm>
        </p:grpSpPr>
        <p:pic>
          <p:nvPicPr>
            <p:cNvPr id="258" name="Picture 5" descr="flower26"/>
            <p:cNvPicPr/>
            <p:nvPr/>
          </p:nvPicPr>
          <p:blipFill>
            <a:blip r:embed="rId3"/>
            <a:stretch/>
          </p:blipFill>
          <p:spPr>
            <a:xfrm>
              <a:off x="4067280" y="3141720"/>
              <a:ext cx="11700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Oval 6"/>
            <p:cNvSpPr/>
            <p:nvPr/>
          </p:nvSpPr>
          <p:spPr>
            <a:xfrm>
              <a:off x="4570200" y="429408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7"/>
          <p:cNvGrpSpPr/>
          <p:nvPr/>
        </p:nvGrpSpPr>
        <p:grpSpPr>
          <a:xfrm>
            <a:off x="6804000" y="2492280"/>
            <a:ext cx="1008000" cy="1584360"/>
            <a:chOff x="6804000" y="2492280"/>
            <a:chExt cx="1008000" cy="1584360"/>
          </a:xfrm>
        </p:grpSpPr>
        <p:pic>
          <p:nvPicPr>
            <p:cNvPr id="261" name="Picture 8" descr=""/>
            <p:cNvPicPr/>
            <p:nvPr/>
          </p:nvPicPr>
          <p:blipFill>
            <a:blip r:embed="rId4"/>
            <a:stretch/>
          </p:blipFill>
          <p:spPr>
            <a:xfrm>
              <a:off x="6804000" y="3429000"/>
              <a:ext cx="10080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Oval 9"/>
            <p:cNvSpPr/>
            <p:nvPr/>
          </p:nvSpPr>
          <p:spPr>
            <a:xfrm>
              <a:off x="6875640" y="249228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10"/>
          <p:cNvGrpSpPr/>
          <p:nvPr/>
        </p:nvGrpSpPr>
        <p:grpSpPr>
          <a:xfrm>
            <a:off x="7308720" y="4365720"/>
            <a:ext cx="1403280" cy="2307960"/>
            <a:chOff x="7308720" y="4365720"/>
            <a:chExt cx="1403280" cy="2307960"/>
          </a:xfrm>
        </p:grpSpPr>
        <p:pic>
          <p:nvPicPr>
            <p:cNvPr id="264" name="Picture 11" descr="f76"/>
            <p:cNvPicPr/>
            <p:nvPr/>
          </p:nvPicPr>
          <p:blipFill>
            <a:blip r:embed="rId5"/>
            <a:stretch/>
          </p:blipFill>
          <p:spPr>
            <a:xfrm>
              <a:off x="7308720" y="5445000"/>
              <a:ext cx="94284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Oval 12"/>
            <p:cNvSpPr/>
            <p:nvPr/>
          </p:nvSpPr>
          <p:spPr>
            <a:xfrm>
              <a:off x="7797600" y="436572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Rectangle 13"/>
          <p:cNvSpPr/>
          <p:nvPr/>
        </p:nvSpPr>
        <p:spPr>
          <a:xfrm>
            <a:off x="900000" y="2133720"/>
            <a:ext cx="719280" cy="647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 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2124360" y="234936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крошка енот.mp3" descr=""/>
          <p:cNvPicPr/>
          <p:nvPr/>
        </p:nvPicPr>
        <p:blipFill>
          <a:blip r:embed="rId6"/>
          <a:stretch/>
        </p:blipFill>
        <p:spPr>
          <a:xfrm>
            <a:off x="7956720" y="7101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16">
            <a:hlinkClick r:id="" action="ppaction://hlinkshowjump?jump=nextslide"/>
          </p:cNvPr>
          <p:cNvSpPr/>
          <p:nvPr/>
        </p:nvSpPr>
        <p:spPr>
          <a:xfrm>
            <a:off x="0" y="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3815"/>
                </a:moveTo>
                <a:lnTo>
                  <a:pt x="17806" y="10822"/>
                </a:lnTo>
                <a:lnTo>
                  <a:pt x="3794" y="178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6732720" y="184464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497" nodeType="clickEffect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0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9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510" nodeType="clickEffect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2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523" nodeType="clickEffect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8" dur="127144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9" nodeType="with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-0.03194 0.27885 C -0.02552 0.28902 -0.01805 0.29919 -0.00156 0.30682 C 0.01493 0.31468 0.03229 0.32231 0.06181 0.3274 C 0.09115 0.33503 0.14063 0.34266 0.17535 0.34728 C 0.21094 0.34983 0.22604 0.35237 0.27292 0.35492 C 0.31997 0.35746 0.40677 0.36994 0.45747 0.36994 C 0.50781 0.36509 0.54913 0.35237 0.5757 0.34266 C 0.60313 0.33249 0.60955 0.31723 0.61997 0.30682 C 0.62986 0.29411 0.63142 0.27885 0.6375 0.27122 C 0.64427 0.26104 0.65538 0.25457 0.66094 0.25457 E">
                                      <p:cBhvr>
                                        <p:cTn id="530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"/>
          <p:cNvPicPr/>
          <p:nvPr/>
        </p:nvPicPr>
        <p:blipFill>
          <a:blip r:embed="rId2"/>
          <a:stretch/>
        </p:blipFill>
        <p:spPr>
          <a:xfrm>
            <a:off x="-181080" y="2637000"/>
            <a:ext cx="1594080" cy="2265120"/>
          </a:xfrm>
          <a:prstGeom prst="rect">
            <a:avLst/>
          </a:prstGeom>
          <a:ln w="0">
            <a:noFill/>
          </a:ln>
        </p:spPr>
      </p:pic>
      <p:grpSp>
        <p:nvGrpSpPr>
          <p:cNvPr id="273" name="Group 4"/>
          <p:cNvGrpSpPr/>
          <p:nvPr/>
        </p:nvGrpSpPr>
        <p:grpSpPr>
          <a:xfrm>
            <a:off x="4067280" y="3141720"/>
            <a:ext cx="1417320" cy="2066760"/>
            <a:chOff x="4067280" y="3141720"/>
            <a:chExt cx="1417320" cy="2066760"/>
          </a:xfrm>
        </p:grpSpPr>
        <p:pic>
          <p:nvPicPr>
            <p:cNvPr id="274" name="Picture 5" descr="flower26"/>
            <p:cNvPicPr/>
            <p:nvPr/>
          </p:nvPicPr>
          <p:blipFill>
            <a:blip r:embed="rId3"/>
            <a:stretch/>
          </p:blipFill>
          <p:spPr>
            <a:xfrm>
              <a:off x="4067280" y="3141720"/>
              <a:ext cx="11700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Oval 6"/>
            <p:cNvSpPr/>
            <p:nvPr/>
          </p:nvSpPr>
          <p:spPr>
            <a:xfrm>
              <a:off x="4570200" y="429408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7"/>
          <p:cNvGrpSpPr/>
          <p:nvPr/>
        </p:nvGrpSpPr>
        <p:grpSpPr>
          <a:xfrm>
            <a:off x="6804000" y="2492280"/>
            <a:ext cx="1008000" cy="1584360"/>
            <a:chOff x="6804000" y="2492280"/>
            <a:chExt cx="1008000" cy="1584360"/>
          </a:xfrm>
        </p:grpSpPr>
        <p:pic>
          <p:nvPicPr>
            <p:cNvPr id="277" name="Picture 8" descr=""/>
            <p:cNvPicPr/>
            <p:nvPr/>
          </p:nvPicPr>
          <p:blipFill>
            <a:blip r:embed="rId4"/>
            <a:stretch/>
          </p:blipFill>
          <p:spPr>
            <a:xfrm>
              <a:off x="6804000" y="3429000"/>
              <a:ext cx="10080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Oval 9"/>
            <p:cNvSpPr/>
            <p:nvPr/>
          </p:nvSpPr>
          <p:spPr>
            <a:xfrm>
              <a:off x="6875640" y="249228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10"/>
          <p:cNvGrpSpPr/>
          <p:nvPr/>
        </p:nvGrpSpPr>
        <p:grpSpPr>
          <a:xfrm>
            <a:off x="7308720" y="4365720"/>
            <a:ext cx="1403280" cy="2307960"/>
            <a:chOff x="7308720" y="4365720"/>
            <a:chExt cx="1403280" cy="2307960"/>
          </a:xfrm>
        </p:grpSpPr>
        <p:pic>
          <p:nvPicPr>
            <p:cNvPr id="280" name="Picture 11" descr="f76"/>
            <p:cNvPicPr/>
            <p:nvPr/>
          </p:nvPicPr>
          <p:blipFill>
            <a:blip r:embed="rId5"/>
            <a:stretch/>
          </p:blipFill>
          <p:spPr>
            <a:xfrm>
              <a:off x="7308720" y="5445000"/>
              <a:ext cx="94284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Oval 12"/>
            <p:cNvSpPr/>
            <p:nvPr/>
          </p:nvSpPr>
          <p:spPr>
            <a:xfrm>
              <a:off x="7797600" y="436572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Rectangle 13"/>
          <p:cNvSpPr/>
          <p:nvPr/>
        </p:nvSpPr>
        <p:spPr>
          <a:xfrm>
            <a:off x="755640" y="2133720"/>
            <a:ext cx="936720" cy="647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-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5077080" y="602136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крошка енот.mp3" descr=""/>
          <p:cNvPicPr/>
          <p:nvPr/>
        </p:nvPicPr>
        <p:blipFill>
          <a:blip r:embed="rId6"/>
          <a:stretch/>
        </p:blipFill>
        <p:spPr>
          <a:xfrm>
            <a:off x="7956720" y="7101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85" name="AutoShape 16">
            <a:hlinkClick r:id="" action="ppaction://hlinkshowjump?jump=nextslide"/>
          </p:cNvPr>
          <p:cNvSpPr/>
          <p:nvPr/>
        </p:nvSpPr>
        <p:spPr>
          <a:xfrm>
            <a:off x="0" y="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3815"/>
                </a:moveTo>
                <a:lnTo>
                  <a:pt x="17806" y="10822"/>
                </a:lnTo>
                <a:lnTo>
                  <a:pt x="3794" y="178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7"/>
          <p:cNvSpPr/>
          <p:nvPr/>
        </p:nvSpPr>
        <p:spPr>
          <a:xfrm>
            <a:off x="6732720" y="184464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535" nodeType="clickEffect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8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548" nodeType="clickEffect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3" dur="127144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4" nodeType="with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-0.03194 0.1133 C -0.02917 0.12902 -0.02535 0.14474 -0.01701 0.15653 C -0.00903 0.16902 -0.00017 0.18012 0.01458 0.18798 C 0.02934 0.19977 0.05399 0.21156 0.07136 0.21919 C 0.08941 0.22312 0.09688 0.22705 0.12031 0.23052 C 0.14358 0.23468 0.18698 0.25457 0.2125 0.25457 C 0.23785 0.24648 0.25851 0.22705 0.2717 0.21156 C 0.28542 0.19584 0.28872 0.17272 0.2941 0.15653 C 0.29896 0.13688 0.29948 0.1133 0.30278 0.1015 C 0.30608 0.08578 0.31181 0.0763 0.31458 0.0763 E">
                                      <p:cBhvr>
                                        <p:cTn id="555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8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559" nodeType="clickEffect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2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2"/>
          <a:stretch/>
        </p:blipFill>
        <p:spPr>
          <a:xfrm>
            <a:off x="-181080" y="2637000"/>
            <a:ext cx="1594080" cy="226512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4"/>
          <p:cNvGrpSpPr/>
          <p:nvPr/>
        </p:nvGrpSpPr>
        <p:grpSpPr>
          <a:xfrm>
            <a:off x="4067280" y="3141720"/>
            <a:ext cx="1417320" cy="2066760"/>
            <a:chOff x="4067280" y="3141720"/>
            <a:chExt cx="1417320" cy="2066760"/>
          </a:xfrm>
        </p:grpSpPr>
        <p:pic>
          <p:nvPicPr>
            <p:cNvPr id="290" name="Picture 5" descr="flower26"/>
            <p:cNvPicPr/>
            <p:nvPr/>
          </p:nvPicPr>
          <p:blipFill>
            <a:blip r:embed="rId3"/>
            <a:stretch/>
          </p:blipFill>
          <p:spPr>
            <a:xfrm>
              <a:off x="4067280" y="3141720"/>
              <a:ext cx="11700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6"/>
            <p:cNvSpPr/>
            <p:nvPr/>
          </p:nvSpPr>
          <p:spPr>
            <a:xfrm>
              <a:off x="4570200" y="429408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7"/>
          <p:cNvGrpSpPr/>
          <p:nvPr/>
        </p:nvGrpSpPr>
        <p:grpSpPr>
          <a:xfrm>
            <a:off x="6804000" y="2492280"/>
            <a:ext cx="1008000" cy="1584360"/>
            <a:chOff x="6804000" y="2492280"/>
            <a:chExt cx="1008000" cy="1584360"/>
          </a:xfrm>
        </p:grpSpPr>
        <p:pic>
          <p:nvPicPr>
            <p:cNvPr id="293" name="Picture 8" descr=""/>
            <p:cNvPicPr/>
            <p:nvPr/>
          </p:nvPicPr>
          <p:blipFill>
            <a:blip r:embed="rId4"/>
            <a:stretch/>
          </p:blipFill>
          <p:spPr>
            <a:xfrm>
              <a:off x="6804000" y="3429000"/>
              <a:ext cx="10080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Oval 9"/>
            <p:cNvSpPr/>
            <p:nvPr/>
          </p:nvSpPr>
          <p:spPr>
            <a:xfrm>
              <a:off x="6875640" y="249228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10"/>
          <p:cNvGrpSpPr/>
          <p:nvPr/>
        </p:nvGrpSpPr>
        <p:grpSpPr>
          <a:xfrm>
            <a:off x="7308720" y="4365720"/>
            <a:ext cx="1403280" cy="2307960"/>
            <a:chOff x="7308720" y="4365720"/>
            <a:chExt cx="1403280" cy="2307960"/>
          </a:xfrm>
        </p:grpSpPr>
        <p:pic>
          <p:nvPicPr>
            <p:cNvPr id="296" name="Picture 11" descr="f76"/>
            <p:cNvPicPr/>
            <p:nvPr/>
          </p:nvPicPr>
          <p:blipFill>
            <a:blip r:embed="rId5"/>
            <a:stretch/>
          </p:blipFill>
          <p:spPr>
            <a:xfrm>
              <a:off x="7308720" y="5445000"/>
              <a:ext cx="94284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Oval 12"/>
            <p:cNvSpPr/>
            <p:nvPr/>
          </p:nvSpPr>
          <p:spPr>
            <a:xfrm>
              <a:off x="7797600" y="436572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Rectangle 13"/>
          <p:cNvSpPr/>
          <p:nvPr/>
        </p:nvSpPr>
        <p:spPr>
          <a:xfrm>
            <a:off x="755640" y="2133720"/>
            <a:ext cx="863640" cy="647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4"/>
          <p:cNvSpPr/>
          <p:nvPr/>
        </p:nvSpPr>
        <p:spPr>
          <a:xfrm>
            <a:off x="2124360" y="234936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крошка енот.mp3" descr=""/>
          <p:cNvPicPr/>
          <p:nvPr/>
        </p:nvPicPr>
        <p:blipFill>
          <a:blip r:embed="rId6"/>
          <a:stretch/>
        </p:blipFill>
        <p:spPr>
          <a:xfrm>
            <a:off x="7956720" y="7101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16">
            <a:hlinkClick r:id="" action="ppaction://hlinkshowjump?jump=nextslide"/>
          </p:cNvPr>
          <p:cNvSpPr/>
          <p:nvPr/>
        </p:nvSpPr>
        <p:spPr>
          <a:xfrm>
            <a:off x="0" y="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3815"/>
                </a:moveTo>
                <a:lnTo>
                  <a:pt x="17806" y="10822"/>
                </a:lnTo>
                <a:lnTo>
                  <a:pt x="3794" y="178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7"/>
          <p:cNvSpPr/>
          <p:nvPr/>
        </p:nvSpPr>
        <p:spPr>
          <a:xfrm>
            <a:off x="6732720" y="184464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573" nodeType="clickEffect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6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5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586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9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8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599" nodeType="clickEffect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4" dur="127144" fill="hold"/>
                                        <p:tgtEl>
                                          <p:spTgt spid="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5" nodeType="with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-0.03194 0.27885 C -0.02552 0.28902 -0.01805 0.29919 -0.00156 0.30682 C 0.01493 0.31468 0.03229 0.32231 0.06181 0.3274 C 0.09115 0.33503 0.14063 0.34266 0.17535 0.34728 C 0.21094 0.34983 0.22604 0.35237 0.27292 0.35492 C 0.31997 0.35746 0.40677 0.36994 0.45747 0.36994 C 0.50781 0.36509 0.54913 0.35237 0.5757 0.34266 C 0.60313 0.33249 0.60955 0.31723 0.61997 0.30682 C 0.62986 0.29411 0.63142 0.27885 0.6375 0.27122 C 0.64427 0.26104 0.65538 0.25457 0.66094 0.25457 E">
                                      <p:cBhvr>
                                        <p:cTn id="606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"/>
          <p:cNvPicPr/>
          <p:nvPr/>
        </p:nvPicPr>
        <p:blipFill>
          <a:blip r:embed="rId2"/>
          <a:stretch/>
        </p:blipFill>
        <p:spPr>
          <a:xfrm>
            <a:off x="-181080" y="2637000"/>
            <a:ext cx="1594080" cy="2265120"/>
          </a:xfrm>
          <a:prstGeom prst="rect">
            <a:avLst/>
          </a:prstGeom>
          <a:ln w="0">
            <a:noFill/>
          </a:ln>
        </p:spPr>
      </p:pic>
      <p:grpSp>
        <p:nvGrpSpPr>
          <p:cNvPr id="305" name="Group 4"/>
          <p:cNvGrpSpPr/>
          <p:nvPr/>
        </p:nvGrpSpPr>
        <p:grpSpPr>
          <a:xfrm>
            <a:off x="4067280" y="3141720"/>
            <a:ext cx="1417320" cy="2066760"/>
            <a:chOff x="4067280" y="3141720"/>
            <a:chExt cx="1417320" cy="2066760"/>
          </a:xfrm>
        </p:grpSpPr>
        <p:pic>
          <p:nvPicPr>
            <p:cNvPr id="306" name="Picture 5" descr="flower26"/>
            <p:cNvPicPr/>
            <p:nvPr/>
          </p:nvPicPr>
          <p:blipFill>
            <a:blip r:embed="rId3"/>
            <a:stretch/>
          </p:blipFill>
          <p:spPr>
            <a:xfrm>
              <a:off x="4067280" y="3141720"/>
              <a:ext cx="11700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Oval 6"/>
            <p:cNvSpPr/>
            <p:nvPr/>
          </p:nvSpPr>
          <p:spPr>
            <a:xfrm>
              <a:off x="4570200" y="429408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7"/>
          <p:cNvGrpSpPr/>
          <p:nvPr/>
        </p:nvGrpSpPr>
        <p:grpSpPr>
          <a:xfrm>
            <a:off x="6804000" y="2492280"/>
            <a:ext cx="1008000" cy="1584360"/>
            <a:chOff x="6804000" y="2492280"/>
            <a:chExt cx="1008000" cy="1584360"/>
          </a:xfrm>
        </p:grpSpPr>
        <p:pic>
          <p:nvPicPr>
            <p:cNvPr id="309" name="Picture 8" descr=""/>
            <p:cNvPicPr/>
            <p:nvPr/>
          </p:nvPicPr>
          <p:blipFill>
            <a:blip r:embed="rId4"/>
            <a:stretch/>
          </p:blipFill>
          <p:spPr>
            <a:xfrm>
              <a:off x="6804000" y="3429000"/>
              <a:ext cx="10080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Oval 9"/>
            <p:cNvSpPr/>
            <p:nvPr/>
          </p:nvSpPr>
          <p:spPr>
            <a:xfrm>
              <a:off x="6875640" y="249228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10"/>
          <p:cNvGrpSpPr/>
          <p:nvPr/>
        </p:nvGrpSpPr>
        <p:grpSpPr>
          <a:xfrm>
            <a:off x="7308720" y="4365720"/>
            <a:ext cx="1403280" cy="2307960"/>
            <a:chOff x="7308720" y="4365720"/>
            <a:chExt cx="1403280" cy="2307960"/>
          </a:xfrm>
        </p:grpSpPr>
        <p:pic>
          <p:nvPicPr>
            <p:cNvPr id="312" name="Picture 11" descr="f76"/>
            <p:cNvPicPr/>
            <p:nvPr/>
          </p:nvPicPr>
          <p:blipFill>
            <a:blip r:embed="rId5"/>
            <a:stretch/>
          </p:blipFill>
          <p:spPr>
            <a:xfrm>
              <a:off x="7308720" y="5445000"/>
              <a:ext cx="94284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Oval 12"/>
            <p:cNvSpPr/>
            <p:nvPr/>
          </p:nvSpPr>
          <p:spPr>
            <a:xfrm>
              <a:off x="7797600" y="436572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Rectangle 13"/>
          <p:cNvSpPr/>
          <p:nvPr/>
        </p:nvSpPr>
        <p:spPr>
          <a:xfrm>
            <a:off x="900000" y="2133720"/>
            <a:ext cx="719280" cy="647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4"/>
          <p:cNvSpPr/>
          <p:nvPr/>
        </p:nvSpPr>
        <p:spPr>
          <a:xfrm>
            <a:off x="2124360" y="234936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крошка енот.mp3" descr=""/>
          <p:cNvPicPr/>
          <p:nvPr/>
        </p:nvPicPr>
        <p:blipFill>
          <a:blip r:embed="rId6"/>
          <a:stretch/>
        </p:blipFill>
        <p:spPr>
          <a:xfrm>
            <a:off x="7956720" y="7101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17" name="AutoShape 16">
            <a:hlinkClick r:id="" action="ppaction://hlinkshowjump?jump=nextslide"/>
          </p:cNvPr>
          <p:cNvSpPr/>
          <p:nvPr/>
        </p:nvSpPr>
        <p:spPr>
          <a:xfrm>
            <a:off x="0" y="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3815"/>
                </a:moveTo>
                <a:lnTo>
                  <a:pt x="17806" y="10822"/>
                </a:lnTo>
                <a:lnTo>
                  <a:pt x="3794" y="178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7"/>
          <p:cNvSpPr/>
          <p:nvPr/>
        </p:nvSpPr>
        <p:spPr>
          <a:xfrm>
            <a:off x="5220000" y="609300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611" nodeType="clickEffect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6" dur="127144" fill="hold"/>
                                        <p:tgtEl>
                                          <p:spTgt spid="3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-0.03194 0.08833 C -0.02621 0.11977 -0.01927 0.15122 -0.00417 0.1748 C 0.01059 0.19908 0.02656 0.22266 0.0533 0.23838 C 0.07986 0.26197 0.125 0.28555 0.1566 0.29989 C 0.18889 0.30775 0.20261 0.31561 0.24531 0.32347 C 0.28802 0.33133 0.36684 0.36994 0.41302 0.36994 C 0.45886 0.35492 0.49636 0.31561 0.52049 0.28555 C 0.54549 0.25411 0.55139 0.20694 0.56094 0.1748 C 0.56997 0.13549 0.57118 0.08833 0.57674 0.06474 C 0.58299 0.0333 0.59306 0.01341 0.59809 0.01341 E">
                                      <p:cBhvr>
                                        <p:cTn id="620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1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622" nodeType="clickEffect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5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635" nodeType="clickEffect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8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3" descr=""/>
          <p:cNvPicPr/>
          <p:nvPr/>
        </p:nvPicPr>
        <p:blipFill>
          <a:blip r:embed="rId2"/>
          <a:stretch/>
        </p:blipFill>
        <p:spPr>
          <a:xfrm>
            <a:off x="-181080" y="2637000"/>
            <a:ext cx="1594080" cy="2265120"/>
          </a:xfrm>
          <a:prstGeom prst="rect">
            <a:avLst/>
          </a:prstGeom>
          <a:ln w="0">
            <a:noFill/>
          </a:ln>
        </p:spPr>
      </p:pic>
      <p:grpSp>
        <p:nvGrpSpPr>
          <p:cNvPr id="321" name="Group 4"/>
          <p:cNvGrpSpPr/>
          <p:nvPr/>
        </p:nvGrpSpPr>
        <p:grpSpPr>
          <a:xfrm>
            <a:off x="4067280" y="3141720"/>
            <a:ext cx="1417320" cy="2066760"/>
            <a:chOff x="4067280" y="3141720"/>
            <a:chExt cx="1417320" cy="2066760"/>
          </a:xfrm>
        </p:grpSpPr>
        <p:pic>
          <p:nvPicPr>
            <p:cNvPr id="322" name="Picture 5" descr="flower26"/>
            <p:cNvPicPr/>
            <p:nvPr/>
          </p:nvPicPr>
          <p:blipFill>
            <a:blip r:embed="rId3"/>
            <a:stretch/>
          </p:blipFill>
          <p:spPr>
            <a:xfrm>
              <a:off x="4067280" y="3141720"/>
              <a:ext cx="11700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Oval 6"/>
            <p:cNvSpPr/>
            <p:nvPr/>
          </p:nvSpPr>
          <p:spPr>
            <a:xfrm>
              <a:off x="4570200" y="429408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7"/>
          <p:cNvGrpSpPr/>
          <p:nvPr/>
        </p:nvGrpSpPr>
        <p:grpSpPr>
          <a:xfrm>
            <a:off x="6804000" y="2492280"/>
            <a:ext cx="1008000" cy="1584360"/>
            <a:chOff x="6804000" y="2492280"/>
            <a:chExt cx="1008000" cy="1584360"/>
          </a:xfrm>
        </p:grpSpPr>
        <p:pic>
          <p:nvPicPr>
            <p:cNvPr id="325" name="Picture 8" descr=""/>
            <p:cNvPicPr/>
            <p:nvPr/>
          </p:nvPicPr>
          <p:blipFill>
            <a:blip r:embed="rId4"/>
            <a:stretch/>
          </p:blipFill>
          <p:spPr>
            <a:xfrm>
              <a:off x="6804000" y="3429000"/>
              <a:ext cx="10080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Oval 9"/>
            <p:cNvSpPr/>
            <p:nvPr/>
          </p:nvSpPr>
          <p:spPr>
            <a:xfrm>
              <a:off x="6875640" y="249228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10"/>
          <p:cNvGrpSpPr/>
          <p:nvPr/>
        </p:nvGrpSpPr>
        <p:grpSpPr>
          <a:xfrm>
            <a:off x="7308720" y="4365720"/>
            <a:ext cx="1403280" cy="2307960"/>
            <a:chOff x="7308720" y="4365720"/>
            <a:chExt cx="1403280" cy="2307960"/>
          </a:xfrm>
        </p:grpSpPr>
        <p:pic>
          <p:nvPicPr>
            <p:cNvPr id="328" name="Picture 11" descr="f76"/>
            <p:cNvPicPr/>
            <p:nvPr/>
          </p:nvPicPr>
          <p:blipFill>
            <a:blip r:embed="rId5"/>
            <a:stretch/>
          </p:blipFill>
          <p:spPr>
            <a:xfrm>
              <a:off x="7308720" y="5445000"/>
              <a:ext cx="94284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Oval 12"/>
            <p:cNvSpPr/>
            <p:nvPr/>
          </p:nvSpPr>
          <p:spPr>
            <a:xfrm>
              <a:off x="7797600" y="436572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Rectangle 13"/>
          <p:cNvSpPr/>
          <p:nvPr/>
        </p:nvSpPr>
        <p:spPr>
          <a:xfrm>
            <a:off x="900000" y="2133720"/>
            <a:ext cx="719280" cy="647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 -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4"/>
          <p:cNvSpPr/>
          <p:nvPr/>
        </p:nvSpPr>
        <p:spPr>
          <a:xfrm>
            <a:off x="2124360" y="234936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крошка енот.mp3" descr=""/>
          <p:cNvPicPr/>
          <p:nvPr/>
        </p:nvPicPr>
        <p:blipFill>
          <a:blip r:embed="rId6"/>
          <a:stretch/>
        </p:blipFill>
        <p:spPr>
          <a:xfrm>
            <a:off x="7956720" y="7101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33" name="AutoShape 16">
            <a:hlinkClick r:id="" action="ppaction://hlinkshowjump?jump=nextslide"/>
          </p:cNvPr>
          <p:cNvSpPr/>
          <p:nvPr/>
        </p:nvSpPr>
        <p:spPr>
          <a:xfrm>
            <a:off x="0" y="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3815"/>
                </a:moveTo>
                <a:lnTo>
                  <a:pt x="17806" y="10822"/>
                </a:lnTo>
                <a:lnTo>
                  <a:pt x="3794" y="178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7"/>
          <p:cNvSpPr/>
          <p:nvPr/>
        </p:nvSpPr>
        <p:spPr>
          <a:xfrm>
            <a:off x="5148360" y="609300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7" dur="indefinite" restart="never" nodeType="tmRoot">
          <p:childTnLst>
            <p:seq>
              <p:cTn id="648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649" nodeType="clickEffect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4" dur="127144" fill="hold"/>
                                        <p:tgtEl>
                                          <p:spTgt spid="3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5" nodeType="with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-0.03194 0.08 C -0.02587 0.11237 -0.01858 0.14474 -0.00278 0.16902 C 0.01267 0.19399 0.02934 0.21827 0.05747 0.23445 C 0.08559 0.25873 0.13281 0.28301 0.16597 0.29781 C 0.2 0.3059 0.21441 0.31399 0.2592 0.32208 C 0.30399 0.33018 0.38681 0.36994 0.43524 0.36994 C 0.48333 0.35445 0.52274 0.31399 0.54809 0.28301 C 0.57431 0.25064 0.58056 0.20208 0.59045 0.16902 C 0.6 0.12856 0.60122 0.08 0.60712 0.05572 C 0.61372 0.02359 0.62431 0.00301 0.62952 0.00301 E">
                                      <p:cBhvr>
                                        <p:cTn id="656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9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660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3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2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673" nodeType="clickEffect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3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2"/>
          <a:stretch/>
        </p:blipFill>
        <p:spPr>
          <a:xfrm>
            <a:off x="-181080" y="2637000"/>
            <a:ext cx="1594080" cy="226512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15"/>
          <p:cNvGrpSpPr/>
          <p:nvPr/>
        </p:nvGrpSpPr>
        <p:grpSpPr>
          <a:xfrm>
            <a:off x="4284720" y="3068640"/>
            <a:ext cx="1417320" cy="2066760"/>
            <a:chOff x="4284720" y="3068640"/>
            <a:chExt cx="1417320" cy="2066760"/>
          </a:xfrm>
        </p:grpSpPr>
        <p:pic>
          <p:nvPicPr>
            <p:cNvPr id="50" name="Picture 9" descr="flower26"/>
            <p:cNvPicPr/>
            <p:nvPr/>
          </p:nvPicPr>
          <p:blipFill>
            <a:blip r:embed="rId3"/>
            <a:stretch/>
          </p:blipFill>
          <p:spPr>
            <a:xfrm>
              <a:off x="4284720" y="3068640"/>
              <a:ext cx="11700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Oval 12"/>
            <p:cNvSpPr/>
            <p:nvPr/>
          </p:nvSpPr>
          <p:spPr>
            <a:xfrm>
              <a:off x="4787640" y="422100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7"/>
          <p:cNvGrpSpPr/>
          <p:nvPr/>
        </p:nvGrpSpPr>
        <p:grpSpPr>
          <a:xfrm>
            <a:off x="7164360" y="2708280"/>
            <a:ext cx="1008000" cy="1584360"/>
            <a:chOff x="7164360" y="2708280"/>
            <a:chExt cx="1008000" cy="1584360"/>
          </a:xfrm>
        </p:grpSpPr>
        <p:pic>
          <p:nvPicPr>
            <p:cNvPr id="53" name="Picture 11" descr=""/>
            <p:cNvPicPr/>
            <p:nvPr/>
          </p:nvPicPr>
          <p:blipFill>
            <a:blip r:embed="rId4"/>
            <a:stretch/>
          </p:blipFill>
          <p:spPr>
            <a:xfrm>
              <a:off x="7164360" y="3645000"/>
              <a:ext cx="10080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Oval 13"/>
            <p:cNvSpPr/>
            <p:nvPr/>
          </p:nvSpPr>
          <p:spPr>
            <a:xfrm>
              <a:off x="7236000" y="270828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7308720" y="4365720"/>
            <a:ext cx="1403280" cy="2307960"/>
            <a:chOff x="7308720" y="4365720"/>
            <a:chExt cx="1403280" cy="2307960"/>
          </a:xfrm>
        </p:grpSpPr>
        <p:pic>
          <p:nvPicPr>
            <p:cNvPr id="56" name="Picture 8" descr="f76"/>
            <p:cNvPicPr/>
            <p:nvPr/>
          </p:nvPicPr>
          <p:blipFill>
            <a:blip r:embed="rId5"/>
            <a:stretch/>
          </p:blipFill>
          <p:spPr>
            <a:xfrm>
              <a:off x="7308720" y="5445000"/>
              <a:ext cx="94284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Oval 14"/>
            <p:cNvSpPr/>
            <p:nvPr/>
          </p:nvSpPr>
          <p:spPr>
            <a:xfrm>
              <a:off x="7797600" y="436572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ectangle 20"/>
          <p:cNvSpPr/>
          <p:nvPr/>
        </p:nvSpPr>
        <p:spPr>
          <a:xfrm>
            <a:off x="900000" y="2133720"/>
            <a:ext cx="719280" cy="647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4212000" y="191628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крошка енот.mp3" descr=""/>
          <p:cNvPicPr/>
          <p:nvPr/>
        </p:nvPicPr>
        <p:blipFill>
          <a:blip r:embed="rId6"/>
          <a:stretch/>
        </p:blipFill>
        <p:spPr>
          <a:xfrm>
            <a:off x="7956720" y="7101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26">
            <a:hlinkClick r:id="" action="ppaction://hlinkshowjump?jump=nextslide"/>
          </p:cNvPr>
          <p:cNvSpPr/>
          <p:nvPr/>
        </p:nvSpPr>
        <p:spPr>
          <a:xfrm>
            <a:off x="0" y="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3815"/>
                </a:moveTo>
                <a:lnTo>
                  <a:pt x="17806" y="10822"/>
                </a:lnTo>
                <a:lnTo>
                  <a:pt x="3794" y="178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5"/>
          <p:cNvSpPr/>
          <p:nvPr/>
        </p:nvSpPr>
        <p:spPr>
          <a:xfrm>
            <a:off x="5077080" y="587700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" dur="127144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.00886 0.13572 C 0.01649 0.1711 0.02431 0.20671 0.03906 0.23538 C 0.05382 0.26405 0.06979 0.28578 0.09688 0.30821 C 0.12396 0.33041 0.16927 0.35353 0.20156 0.36902 C 0.23403 0.38451 0.24809 0.3889 0.29115 0.4007 C 0.3342 0.41226 0.41424 0.44671 0.46059 0.43931 C 0.50712 0.43214 0.54479 0.39168 0.56945 0.35676 C 0.5941 0.32185 0.6 0.27145 0.60938 0.23052 C 0.61875 0.1896 0.61997 0.14058 0.62587 0.11145 C 0.63195 0.08231 0.64219 0.06474 0.64531 0.05549 E">
                                      <p:cBhvr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" descr=""/>
          <p:cNvPicPr/>
          <p:nvPr/>
        </p:nvPicPr>
        <p:blipFill>
          <a:blip r:embed="rId2"/>
          <a:stretch/>
        </p:blipFill>
        <p:spPr>
          <a:xfrm>
            <a:off x="-181080" y="2637000"/>
            <a:ext cx="1594080" cy="226512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4"/>
          <p:cNvGrpSpPr/>
          <p:nvPr/>
        </p:nvGrpSpPr>
        <p:grpSpPr>
          <a:xfrm>
            <a:off x="4067280" y="3141720"/>
            <a:ext cx="1417320" cy="2066760"/>
            <a:chOff x="4067280" y="3141720"/>
            <a:chExt cx="1417320" cy="2066760"/>
          </a:xfrm>
        </p:grpSpPr>
        <p:pic>
          <p:nvPicPr>
            <p:cNvPr id="338" name="Picture 5" descr="flower26"/>
            <p:cNvPicPr/>
            <p:nvPr/>
          </p:nvPicPr>
          <p:blipFill>
            <a:blip r:embed="rId3"/>
            <a:stretch/>
          </p:blipFill>
          <p:spPr>
            <a:xfrm>
              <a:off x="4067280" y="3141720"/>
              <a:ext cx="11700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Oval 6"/>
            <p:cNvSpPr/>
            <p:nvPr/>
          </p:nvSpPr>
          <p:spPr>
            <a:xfrm>
              <a:off x="4570200" y="429408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7"/>
          <p:cNvGrpSpPr/>
          <p:nvPr/>
        </p:nvGrpSpPr>
        <p:grpSpPr>
          <a:xfrm>
            <a:off x="6804000" y="2492280"/>
            <a:ext cx="1008000" cy="1584360"/>
            <a:chOff x="6804000" y="2492280"/>
            <a:chExt cx="1008000" cy="1584360"/>
          </a:xfrm>
        </p:grpSpPr>
        <p:pic>
          <p:nvPicPr>
            <p:cNvPr id="341" name="Picture 8" descr=""/>
            <p:cNvPicPr/>
            <p:nvPr/>
          </p:nvPicPr>
          <p:blipFill>
            <a:blip r:embed="rId4"/>
            <a:stretch/>
          </p:blipFill>
          <p:spPr>
            <a:xfrm>
              <a:off x="6804000" y="3429000"/>
              <a:ext cx="10080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Oval 9"/>
            <p:cNvSpPr/>
            <p:nvPr/>
          </p:nvSpPr>
          <p:spPr>
            <a:xfrm>
              <a:off x="6875640" y="249228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0"/>
          <p:cNvGrpSpPr/>
          <p:nvPr/>
        </p:nvGrpSpPr>
        <p:grpSpPr>
          <a:xfrm>
            <a:off x="7308720" y="4365720"/>
            <a:ext cx="1403280" cy="2307960"/>
            <a:chOff x="7308720" y="4365720"/>
            <a:chExt cx="1403280" cy="2307960"/>
          </a:xfrm>
        </p:grpSpPr>
        <p:pic>
          <p:nvPicPr>
            <p:cNvPr id="344" name="Picture 11" descr="f76"/>
            <p:cNvPicPr/>
            <p:nvPr/>
          </p:nvPicPr>
          <p:blipFill>
            <a:blip r:embed="rId5"/>
            <a:stretch/>
          </p:blipFill>
          <p:spPr>
            <a:xfrm>
              <a:off x="7308720" y="5445000"/>
              <a:ext cx="94284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Oval 12"/>
            <p:cNvSpPr/>
            <p:nvPr/>
          </p:nvSpPr>
          <p:spPr>
            <a:xfrm>
              <a:off x="7797600" y="436572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Rectangle 13"/>
          <p:cNvSpPr/>
          <p:nvPr/>
        </p:nvSpPr>
        <p:spPr>
          <a:xfrm>
            <a:off x="755640" y="2133720"/>
            <a:ext cx="863640" cy="647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-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4"/>
          <p:cNvSpPr/>
          <p:nvPr/>
        </p:nvSpPr>
        <p:spPr>
          <a:xfrm>
            <a:off x="5148360" y="609300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крошка енот.mp3" descr=""/>
          <p:cNvPicPr/>
          <p:nvPr/>
        </p:nvPicPr>
        <p:blipFill>
          <a:blip r:embed="rId6"/>
          <a:stretch/>
        </p:blipFill>
        <p:spPr>
          <a:xfrm>
            <a:off x="7956720" y="7101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49" name="AutoShape 16">
            <a:hlinkClick r:id="" action="ppaction://hlinkshowjump?jump=nextslide"/>
          </p:cNvPr>
          <p:cNvSpPr/>
          <p:nvPr/>
        </p:nvSpPr>
        <p:spPr>
          <a:xfrm>
            <a:off x="0" y="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3815"/>
                </a:moveTo>
                <a:lnTo>
                  <a:pt x="17806" y="10822"/>
                </a:lnTo>
                <a:lnTo>
                  <a:pt x="3794" y="178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7"/>
          <p:cNvSpPr/>
          <p:nvPr/>
        </p:nvSpPr>
        <p:spPr>
          <a:xfrm>
            <a:off x="6732720" y="184464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7" dur="indefinite" restart="never" nodeType="tmRoot">
          <p:childTnLst>
            <p:seq>
              <p:cTn id="688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689" nodeType="clickEffect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2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1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702" nodeType="clickEffect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7" dur="127144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08" nodeType="with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-0.03194 0.09665 C -0.02882 0.12717 -0.02517 0.15769 -0.01719 0.18058 C -0.00903 0.20416 -0.00052 0.22705 0.01389 0.24231 C 0.02813 0.2652 0.05243 0.28809 0.06927 0.30197 C 0.08663 0.3096 0.0941 0.31723 0.11702 0.32486 C 0.13993 0.33249 0.18229 0.36994 0.20712 0.36994 C 0.23177 0.35538 0.25191 0.31723 0.26493 0.28809 C 0.2783 0.25757 0.28142 0.21179 0.28663 0.18058 C 0.29132 0.14243 0.29219 0.09665 0.29514 0.07376 C 0.29844 0.04324 0.30382 0.02405 0.3066 0.02405 E">
                                      <p:cBhvr>
                                        <p:cTn id="709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2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713" nodeType="clickEffect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6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"/>
          <p:cNvPicPr/>
          <p:nvPr/>
        </p:nvPicPr>
        <p:blipFill>
          <a:blip r:embed="rId2"/>
          <a:stretch/>
        </p:blipFill>
        <p:spPr>
          <a:xfrm>
            <a:off x="-181080" y="2637000"/>
            <a:ext cx="1594080" cy="2265120"/>
          </a:xfrm>
          <a:prstGeom prst="rect">
            <a:avLst/>
          </a:prstGeom>
          <a:ln w="0">
            <a:noFill/>
          </a:ln>
        </p:spPr>
      </p:pic>
      <p:grpSp>
        <p:nvGrpSpPr>
          <p:cNvPr id="353" name="Group 4"/>
          <p:cNvGrpSpPr/>
          <p:nvPr/>
        </p:nvGrpSpPr>
        <p:grpSpPr>
          <a:xfrm>
            <a:off x="4067280" y="3141720"/>
            <a:ext cx="1417320" cy="2066760"/>
            <a:chOff x="4067280" y="3141720"/>
            <a:chExt cx="1417320" cy="2066760"/>
          </a:xfrm>
        </p:grpSpPr>
        <p:pic>
          <p:nvPicPr>
            <p:cNvPr id="354" name="Picture 5" descr="flower26"/>
            <p:cNvPicPr/>
            <p:nvPr/>
          </p:nvPicPr>
          <p:blipFill>
            <a:blip r:embed="rId3"/>
            <a:stretch/>
          </p:blipFill>
          <p:spPr>
            <a:xfrm>
              <a:off x="4067280" y="3141720"/>
              <a:ext cx="11700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Oval 6"/>
            <p:cNvSpPr/>
            <p:nvPr/>
          </p:nvSpPr>
          <p:spPr>
            <a:xfrm>
              <a:off x="4570200" y="429408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7"/>
          <p:cNvGrpSpPr/>
          <p:nvPr/>
        </p:nvGrpSpPr>
        <p:grpSpPr>
          <a:xfrm>
            <a:off x="6804000" y="2492280"/>
            <a:ext cx="1008000" cy="1584360"/>
            <a:chOff x="6804000" y="2492280"/>
            <a:chExt cx="1008000" cy="1584360"/>
          </a:xfrm>
        </p:grpSpPr>
        <p:pic>
          <p:nvPicPr>
            <p:cNvPr id="357" name="Picture 8" descr=""/>
            <p:cNvPicPr/>
            <p:nvPr/>
          </p:nvPicPr>
          <p:blipFill>
            <a:blip r:embed="rId4"/>
            <a:stretch/>
          </p:blipFill>
          <p:spPr>
            <a:xfrm>
              <a:off x="6804000" y="3429000"/>
              <a:ext cx="10080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Oval 9"/>
            <p:cNvSpPr/>
            <p:nvPr/>
          </p:nvSpPr>
          <p:spPr>
            <a:xfrm>
              <a:off x="6875640" y="249228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10"/>
          <p:cNvGrpSpPr/>
          <p:nvPr/>
        </p:nvGrpSpPr>
        <p:grpSpPr>
          <a:xfrm>
            <a:off x="7308720" y="4365720"/>
            <a:ext cx="1403280" cy="2307960"/>
            <a:chOff x="7308720" y="4365720"/>
            <a:chExt cx="1403280" cy="2307960"/>
          </a:xfrm>
        </p:grpSpPr>
        <p:pic>
          <p:nvPicPr>
            <p:cNvPr id="360" name="Picture 11" descr="f76"/>
            <p:cNvPicPr/>
            <p:nvPr/>
          </p:nvPicPr>
          <p:blipFill>
            <a:blip r:embed="rId5"/>
            <a:stretch/>
          </p:blipFill>
          <p:spPr>
            <a:xfrm>
              <a:off x="7308720" y="5445000"/>
              <a:ext cx="94284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Oval 12"/>
            <p:cNvSpPr/>
            <p:nvPr/>
          </p:nvSpPr>
          <p:spPr>
            <a:xfrm>
              <a:off x="7797600" y="436572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Rectangle 13"/>
          <p:cNvSpPr/>
          <p:nvPr/>
        </p:nvSpPr>
        <p:spPr>
          <a:xfrm>
            <a:off x="900000" y="2133720"/>
            <a:ext cx="719280" cy="647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 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2124360" y="234936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крошка енот.mp3" descr=""/>
          <p:cNvPicPr/>
          <p:nvPr/>
        </p:nvPicPr>
        <p:blipFill>
          <a:blip r:embed="rId6"/>
          <a:stretch/>
        </p:blipFill>
        <p:spPr>
          <a:xfrm>
            <a:off x="7956720" y="7101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65" name="AutoShape 16">
            <a:hlinkClick r:id="" action="ppaction://hlinkshowjump?jump=nextslide"/>
          </p:cNvPr>
          <p:cNvSpPr/>
          <p:nvPr/>
        </p:nvSpPr>
        <p:spPr>
          <a:xfrm>
            <a:off x="0" y="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3815"/>
                </a:moveTo>
                <a:lnTo>
                  <a:pt x="17806" y="10822"/>
                </a:lnTo>
                <a:lnTo>
                  <a:pt x="3794" y="178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6732720" y="184464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5" dur="indefinite" restart="never" nodeType="tmRoot">
          <p:childTnLst>
            <p:seq>
              <p:cTn id="726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727" nodeType="clickEffect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0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9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740" nodeType="clickEffect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3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2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753" nodeType="clickEffect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8" dur="127144" fill="hold"/>
                                        <p:tgtEl>
                                          <p:spTgt spid="3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9" nodeType="with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-0.03194 0.27885 C -0.02569 0.28902 -0.0184 0.29919 -0.00243 0.30682 C 0.01337 0.31468 0.03021 0.32231 0.05868 0.3274 C 0.08698 0.33503 0.1349 0.34266 0.1684 0.34728 C 0.20278 0.34983 0.21736 0.35237 0.26267 0.35492 C 0.30799 0.35746 0.39184 0.36994 0.4408 0.36994 C 0.48958 0.36509 0.52934 0.35237 0.55504 0.34266 C 0.5816 0.33249 0.58785 0.31723 0.59792 0.30682 C 0.60747 0.29411 0.60886 0.27885 0.61476 0.27122 C 0.62136 0.26104 0.63212 0.25457 0.63733 0.25457 E">
                                      <p:cBhvr>
                                        <p:cTn id="760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"/>
          <p:cNvPicPr/>
          <p:nvPr/>
        </p:nvPicPr>
        <p:blipFill>
          <a:blip r:embed="rId2"/>
          <a:stretch/>
        </p:blipFill>
        <p:spPr>
          <a:xfrm>
            <a:off x="-181080" y="2637000"/>
            <a:ext cx="1594080" cy="2265120"/>
          </a:xfrm>
          <a:prstGeom prst="rect">
            <a:avLst/>
          </a:prstGeom>
          <a:ln w="0">
            <a:noFill/>
          </a:ln>
        </p:spPr>
      </p:pic>
      <p:grpSp>
        <p:nvGrpSpPr>
          <p:cNvPr id="369" name="Group 4"/>
          <p:cNvGrpSpPr/>
          <p:nvPr/>
        </p:nvGrpSpPr>
        <p:grpSpPr>
          <a:xfrm>
            <a:off x="4067280" y="3141720"/>
            <a:ext cx="1417320" cy="2066760"/>
            <a:chOff x="4067280" y="3141720"/>
            <a:chExt cx="1417320" cy="2066760"/>
          </a:xfrm>
        </p:grpSpPr>
        <p:pic>
          <p:nvPicPr>
            <p:cNvPr id="370" name="Picture 5" descr="flower26"/>
            <p:cNvPicPr/>
            <p:nvPr/>
          </p:nvPicPr>
          <p:blipFill>
            <a:blip r:embed="rId3"/>
            <a:stretch/>
          </p:blipFill>
          <p:spPr>
            <a:xfrm>
              <a:off x="4067280" y="3141720"/>
              <a:ext cx="11700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Oval 6"/>
            <p:cNvSpPr/>
            <p:nvPr/>
          </p:nvSpPr>
          <p:spPr>
            <a:xfrm>
              <a:off x="4570200" y="429408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7"/>
          <p:cNvGrpSpPr/>
          <p:nvPr/>
        </p:nvGrpSpPr>
        <p:grpSpPr>
          <a:xfrm>
            <a:off x="6804000" y="2492280"/>
            <a:ext cx="1008000" cy="1584360"/>
            <a:chOff x="6804000" y="2492280"/>
            <a:chExt cx="1008000" cy="1584360"/>
          </a:xfrm>
        </p:grpSpPr>
        <p:pic>
          <p:nvPicPr>
            <p:cNvPr id="373" name="Picture 8" descr=""/>
            <p:cNvPicPr/>
            <p:nvPr/>
          </p:nvPicPr>
          <p:blipFill>
            <a:blip r:embed="rId4"/>
            <a:stretch/>
          </p:blipFill>
          <p:spPr>
            <a:xfrm>
              <a:off x="6804000" y="3429000"/>
              <a:ext cx="10080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Oval 9"/>
            <p:cNvSpPr/>
            <p:nvPr/>
          </p:nvSpPr>
          <p:spPr>
            <a:xfrm>
              <a:off x="6875640" y="249228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0"/>
          <p:cNvGrpSpPr/>
          <p:nvPr/>
        </p:nvGrpSpPr>
        <p:grpSpPr>
          <a:xfrm>
            <a:off x="7308720" y="4365720"/>
            <a:ext cx="1403280" cy="2307960"/>
            <a:chOff x="7308720" y="4365720"/>
            <a:chExt cx="1403280" cy="2307960"/>
          </a:xfrm>
        </p:grpSpPr>
        <p:pic>
          <p:nvPicPr>
            <p:cNvPr id="376" name="Picture 11" descr="f76"/>
            <p:cNvPicPr/>
            <p:nvPr/>
          </p:nvPicPr>
          <p:blipFill>
            <a:blip r:embed="rId5"/>
            <a:stretch/>
          </p:blipFill>
          <p:spPr>
            <a:xfrm>
              <a:off x="7308720" y="5445000"/>
              <a:ext cx="94284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Oval 12"/>
            <p:cNvSpPr/>
            <p:nvPr/>
          </p:nvSpPr>
          <p:spPr>
            <a:xfrm>
              <a:off x="7797600" y="436572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Rectangle 13"/>
          <p:cNvSpPr/>
          <p:nvPr/>
        </p:nvSpPr>
        <p:spPr>
          <a:xfrm>
            <a:off x="684360" y="2133720"/>
            <a:ext cx="934920" cy="647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-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4"/>
          <p:cNvSpPr/>
          <p:nvPr/>
        </p:nvSpPr>
        <p:spPr>
          <a:xfrm>
            <a:off x="2124360" y="234936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крошка енот.mp3" descr=""/>
          <p:cNvPicPr/>
          <p:nvPr/>
        </p:nvPicPr>
        <p:blipFill>
          <a:blip r:embed="rId6"/>
          <a:stretch/>
        </p:blipFill>
        <p:spPr>
          <a:xfrm>
            <a:off x="7956720" y="7101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81" name="AutoShape 16">
            <a:hlinkClick r:id="" action="ppaction://hlinkshowjump?jump=nextslide"/>
          </p:cNvPr>
          <p:cNvSpPr/>
          <p:nvPr/>
        </p:nvSpPr>
        <p:spPr>
          <a:xfrm>
            <a:off x="0" y="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3815"/>
                </a:moveTo>
                <a:lnTo>
                  <a:pt x="17806" y="10822"/>
                </a:lnTo>
                <a:lnTo>
                  <a:pt x="3794" y="178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7"/>
          <p:cNvSpPr/>
          <p:nvPr/>
        </p:nvSpPr>
        <p:spPr>
          <a:xfrm>
            <a:off x="5220000" y="602136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3" dur="indefinite" restart="never" nodeType="tmRoot">
          <p:childTnLst>
            <p:seq>
              <p:cTn id="764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765" nodeType="clickEffect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0" dur="127144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71" nodeType="with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-0.03194 0.07168 C -0.02604 0.10497 -0.0191 0.13827 -0.00364 0.16301 C 0.01163 0.1889 0.02795 0.21387 0.05538 0.23052 C 0.08264 0.25549 0.12882 0.28046 0.16111 0.29549 C 0.19445 0.30382 0.20851 0.31214 0.25208 0.32046 C 0.29583 0.32879 0.37674 0.36994 0.42396 0.36994 C 0.47101 0.35376 0.50938 0.31214 0.5342 0.28046 C 0.5599 0.24717 0.5658 0.19723 0.57552 0.16301 C 0.58472 0.12162 0.58611 0.07168 0.59184 0.04671 C 0.59809 0.01341 0.60851 -0.00763 0.61372 -0.00763 E">
                                      <p:cBhvr>
                                        <p:cTn id="772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5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776" nodeType="clickEffect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9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8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789" nodeType="clickEffect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2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-181080" y="2637000"/>
            <a:ext cx="1594080" cy="2265120"/>
          </a:xfrm>
          <a:prstGeom prst="rect">
            <a:avLst/>
          </a:prstGeom>
          <a:ln w="0">
            <a:noFill/>
          </a:ln>
        </p:spPr>
      </p:pic>
      <p:grpSp>
        <p:nvGrpSpPr>
          <p:cNvPr id="385" name="Group 4"/>
          <p:cNvGrpSpPr/>
          <p:nvPr/>
        </p:nvGrpSpPr>
        <p:grpSpPr>
          <a:xfrm>
            <a:off x="4067280" y="3141720"/>
            <a:ext cx="1417320" cy="2066760"/>
            <a:chOff x="4067280" y="3141720"/>
            <a:chExt cx="1417320" cy="2066760"/>
          </a:xfrm>
        </p:grpSpPr>
        <p:pic>
          <p:nvPicPr>
            <p:cNvPr id="386" name="Picture 5" descr="flower26"/>
            <p:cNvPicPr/>
            <p:nvPr/>
          </p:nvPicPr>
          <p:blipFill>
            <a:blip r:embed="rId3"/>
            <a:stretch/>
          </p:blipFill>
          <p:spPr>
            <a:xfrm>
              <a:off x="4067280" y="3141720"/>
              <a:ext cx="11700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Oval 6"/>
            <p:cNvSpPr/>
            <p:nvPr/>
          </p:nvSpPr>
          <p:spPr>
            <a:xfrm>
              <a:off x="4570200" y="429408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7"/>
          <p:cNvGrpSpPr/>
          <p:nvPr/>
        </p:nvGrpSpPr>
        <p:grpSpPr>
          <a:xfrm>
            <a:off x="6804000" y="2492280"/>
            <a:ext cx="1008000" cy="1584360"/>
            <a:chOff x="6804000" y="2492280"/>
            <a:chExt cx="1008000" cy="1584360"/>
          </a:xfrm>
        </p:grpSpPr>
        <p:pic>
          <p:nvPicPr>
            <p:cNvPr id="389" name="Picture 8" descr=""/>
            <p:cNvPicPr/>
            <p:nvPr/>
          </p:nvPicPr>
          <p:blipFill>
            <a:blip r:embed="rId4"/>
            <a:stretch/>
          </p:blipFill>
          <p:spPr>
            <a:xfrm>
              <a:off x="6804000" y="3429000"/>
              <a:ext cx="10080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Oval 9"/>
            <p:cNvSpPr/>
            <p:nvPr/>
          </p:nvSpPr>
          <p:spPr>
            <a:xfrm>
              <a:off x="6875640" y="249228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0"/>
          <p:cNvGrpSpPr/>
          <p:nvPr/>
        </p:nvGrpSpPr>
        <p:grpSpPr>
          <a:xfrm>
            <a:off x="7308720" y="4365720"/>
            <a:ext cx="1403280" cy="2307960"/>
            <a:chOff x="7308720" y="4365720"/>
            <a:chExt cx="1403280" cy="2307960"/>
          </a:xfrm>
        </p:grpSpPr>
        <p:pic>
          <p:nvPicPr>
            <p:cNvPr id="392" name="Picture 11" descr="f76"/>
            <p:cNvPicPr/>
            <p:nvPr/>
          </p:nvPicPr>
          <p:blipFill>
            <a:blip r:embed="rId5"/>
            <a:stretch/>
          </p:blipFill>
          <p:spPr>
            <a:xfrm>
              <a:off x="7308720" y="5445000"/>
              <a:ext cx="94284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Oval 12"/>
            <p:cNvSpPr/>
            <p:nvPr/>
          </p:nvSpPr>
          <p:spPr>
            <a:xfrm>
              <a:off x="7797600" y="436572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Rectangle 13"/>
          <p:cNvSpPr/>
          <p:nvPr/>
        </p:nvSpPr>
        <p:spPr>
          <a:xfrm>
            <a:off x="900000" y="2133720"/>
            <a:ext cx="719280" cy="647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 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5293080" y="602136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крошка енот.mp3" descr=""/>
          <p:cNvPicPr/>
          <p:nvPr/>
        </p:nvPicPr>
        <p:blipFill>
          <a:blip r:embed="rId6"/>
          <a:stretch/>
        </p:blipFill>
        <p:spPr>
          <a:xfrm>
            <a:off x="7956720" y="7101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97" name="AutoShape 16">
            <a:hlinkClick r:id="" action="ppaction://hlinkshowjump?jump=nextslide"/>
          </p:cNvPr>
          <p:cNvSpPr/>
          <p:nvPr/>
        </p:nvSpPr>
        <p:spPr>
          <a:xfrm>
            <a:off x="0" y="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3815"/>
                </a:moveTo>
                <a:lnTo>
                  <a:pt x="17806" y="10822"/>
                </a:lnTo>
                <a:lnTo>
                  <a:pt x="3794" y="178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7"/>
          <p:cNvSpPr/>
          <p:nvPr/>
        </p:nvSpPr>
        <p:spPr>
          <a:xfrm>
            <a:off x="6732720" y="184464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803" nodeType="clickEffect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6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5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816" nodeType="clickEffect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-0.03194 0.09665 C -0.02864 0.12717 -0.02483 0.15769 -0.01632 0.18058 C -0.00798 0.20416 0.000869999999999999 0.22705 0.01597 0.24231 C 0.0309 0.2652 0.05625 0.28809 0.07396 0.30197 C 0.09219 0.3096 0.1 0.31723 0.12396 0.32486 C 0.14792 0.33249 0.19236 0.36994 0.21823 0.36994 C 0.2441 0.35538 0.26511 0.31723 0.27882 0.28809 C 0.29288 0.25757 0.29618 0.21179 0.30139 0.18058 C 0.30642 0.14243 0.30729 0.09665 0.31042 0.07376 C 0.31389 0.04324 0.31962 0.02405 0.3224 0.02405 E">
                                      <p:cBhvr>
                                        <p:cTn id="821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3" dur="127144" fill="hold"/>
                                        <p:tgtEl>
                                          <p:spTgt spid="3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827" nodeType="clickEffect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0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" descr=""/>
          <p:cNvPicPr/>
          <p:nvPr/>
        </p:nvPicPr>
        <p:blipFill>
          <a:blip r:embed="rId2"/>
          <a:stretch/>
        </p:blipFill>
        <p:spPr>
          <a:xfrm>
            <a:off x="-181080" y="2637000"/>
            <a:ext cx="1594080" cy="2265120"/>
          </a:xfrm>
          <a:prstGeom prst="rect">
            <a:avLst/>
          </a:prstGeom>
          <a:ln w="0">
            <a:noFill/>
          </a:ln>
        </p:spPr>
      </p:pic>
      <p:grpSp>
        <p:nvGrpSpPr>
          <p:cNvPr id="401" name="Group 4"/>
          <p:cNvGrpSpPr/>
          <p:nvPr/>
        </p:nvGrpSpPr>
        <p:grpSpPr>
          <a:xfrm>
            <a:off x="4067280" y="3141720"/>
            <a:ext cx="1417320" cy="2066760"/>
            <a:chOff x="4067280" y="3141720"/>
            <a:chExt cx="1417320" cy="2066760"/>
          </a:xfrm>
        </p:grpSpPr>
        <p:pic>
          <p:nvPicPr>
            <p:cNvPr id="402" name="Picture 5" descr="flower26"/>
            <p:cNvPicPr/>
            <p:nvPr/>
          </p:nvPicPr>
          <p:blipFill>
            <a:blip r:embed="rId3"/>
            <a:stretch/>
          </p:blipFill>
          <p:spPr>
            <a:xfrm>
              <a:off x="4067280" y="3141720"/>
              <a:ext cx="11700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Oval 6"/>
            <p:cNvSpPr/>
            <p:nvPr/>
          </p:nvSpPr>
          <p:spPr>
            <a:xfrm>
              <a:off x="4570200" y="429408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7"/>
          <p:cNvGrpSpPr/>
          <p:nvPr/>
        </p:nvGrpSpPr>
        <p:grpSpPr>
          <a:xfrm>
            <a:off x="6804000" y="2492280"/>
            <a:ext cx="1008000" cy="1584360"/>
            <a:chOff x="6804000" y="2492280"/>
            <a:chExt cx="1008000" cy="1584360"/>
          </a:xfrm>
        </p:grpSpPr>
        <p:pic>
          <p:nvPicPr>
            <p:cNvPr id="405" name="Picture 8" descr=""/>
            <p:cNvPicPr/>
            <p:nvPr/>
          </p:nvPicPr>
          <p:blipFill>
            <a:blip r:embed="rId4"/>
            <a:stretch/>
          </p:blipFill>
          <p:spPr>
            <a:xfrm>
              <a:off x="6804000" y="3429000"/>
              <a:ext cx="10080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Oval 9"/>
            <p:cNvSpPr/>
            <p:nvPr/>
          </p:nvSpPr>
          <p:spPr>
            <a:xfrm>
              <a:off x="6875640" y="249228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10"/>
          <p:cNvGrpSpPr/>
          <p:nvPr/>
        </p:nvGrpSpPr>
        <p:grpSpPr>
          <a:xfrm>
            <a:off x="7308720" y="4365720"/>
            <a:ext cx="1403280" cy="2307960"/>
            <a:chOff x="7308720" y="4365720"/>
            <a:chExt cx="1403280" cy="2307960"/>
          </a:xfrm>
        </p:grpSpPr>
        <p:pic>
          <p:nvPicPr>
            <p:cNvPr id="408" name="Picture 11" descr="f76"/>
            <p:cNvPicPr/>
            <p:nvPr/>
          </p:nvPicPr>
          <p:blipFill>
            <a:blip r:embed="rId5"/>
            <a:stretch/>
          </p:blipFill>
          <p:spPr>
            <a:xfrm>
              <a:off x="7308720" y="5445000"/>
              <a:ext cx="94284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Oval 12"/>
            <p:cNvSpPr/>
            <p:nvPr/>
          </p:nvSpPr>
          <p:spPr>
            <a:xfrm>
              <a:off x="7797600" y="436572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Rectangle 13"/>
          <p:cNvSpPr/>
          <p:nvPr/>
        </p:nvSpPr>
        <p:spPr>
          <a:xfrm>
            <a:off x="755640" y="2133720"/>
            <a:ext cx="863640" cy="647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-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4"/>
          <p:cNvSpPr/>
          <p:nvPr/>
        </p:nvSpPr>
        <p:spPr>
          <a:xfrm>
            <a:off x="2124360" y="234936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крошка енот.mp3" descr=""/>
          <p:cNvPicPr/>
          <p:nvPr/>
        </p:nvPicPr>
        <p:blipFill>
          <a:blip r:embed="rId6"/>
          <a:stretch/>
        </p:blipFill>
        <p:spPr>
          <a:xfrm>
            <a:off x="7956720" y="7101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13" name="AutoShape 16">
            <a:hlinkClick r:id="" action="ppaction://hlinkshowjump?jump=nextslide"/>
          </p:cNvPr>
          <p:cNvSpPr/>
          <p:nvPr/>
        </p:nvSpPr>
        <p:spPr>
          <a:xfrm>
            <a:off x="0" y="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3815"/>
                </a:moveTo>
                <a:lnTo>
                  <a:pt x="17806" y="10822"/>
                </a:lnTo>
                <a:lnTo>
                  <a:pt x="3794" y="178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7"/>
          <p:cNvSpPr/>
          <p:nvPr/>
        </p:nvSpPr>
        <p:spPr>
          <a:xfrm>
            <a:off x="5077080" y="602136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9" dur="indefinite" restart="never" nodeType="tmRoot">
          <p:childTnLst>
            <p:seq>
              <p:cTn id="840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841" nodeType="clickEffect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6" dur="127144" fill="hold"/>
                                        <p:tgtEl>
                                          <p:spTgt spid="4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47" nodeType="with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-1.11111E-006 -0.00092 C 0.00573 0.03723 0.01267 0.07515 0.02761 0.10335 C 0.04254 0.13295 0.05833 0.16139 0.08507 0.18035 C 0.11181 0.20879 0.15677 0.23746 0.18837 0.25457 C 0.22066 0.26405 0.23438 0.27353 0.27708 0.28301 C 0.31962 0.29249 0.39844 0.33942 0.44462 0.33942 C 0.49045 0.32093 0.52778 0.27353 0.55208 0.23746 C 0.57708 0.19931 0.58281 0.14243 0.59236 0.10335 C 0.60139 0.05619 0.60261 -0.000920000000000001 0.60816 -0.02936 C 0.61441 -0.06728 0.62448 -0.09133 0.62952 -0.09133 E">
                                      <p:cBhvr>
                                        <p:cTn id="848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1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852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5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865" nodeType="clickEffect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8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" descr=""/>
          <p:cNvPicPr/>
          <p:nvPr/>
        </p:nvPicPr>
        <p:blipFill>
          <a:blip r:embed="rId2"/>
          <a:stretch/>
        </p:blipFill>
        <p:spPr>
          <a:xfrm>
            <a:off x="-181080" y="2637000"/>
            <a:ext cx="1594080" cy="2265120"/>
          </a:xfrm>
          <a:prstGeom prst="rect">
            <a:avLst/>
          </a:prstGeom>
          <a:ln w="0">
            <a:noFill/>
          </a:ln>
        </p:spPr>
      </p:pic>
      <p:grpSp>
        <p:nvGrpSpPr>
          <p:cNvPr id="417" name="Group 4"/>
          <p:cNvGrpSpPr/>
          <p:nvPr/>
        </p:nvGrpSpPr>
        <p:grpSpPr>
          <a:xfrm>
            <a:off x="4067280" y="3141720"/>
            <a:ext cx="1417320" cy="2066760"/>
            <a:chOff x="4067280" y="3141720"/>
            <a:chExt cx="1417320" cy="2066760"/>
          </a:xfrm>
        </p:grpSpPr>
        <p:pic>
          <p:nvPicPr>
            <p:cNvPr id="418" name="Picture 5" descr="flower26"/>
            <p:cNvPicPr/>
            <p:nvPr/>
          </p:nvPicPr>
          <p:blipFill>
            <a:blip r:embed="rId3"/>
            <a:stretch/>
          </p:blipFill>
          <p:spPr>
            <a:xfrm>
              <a:off x="4067280" y="3141720"/>
              <a:ext cx="11700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Oval 6"/>
            <p:cNvSpPr/>
            <p:nvPr/>
          </p:nvSpPr>
          <p:spPr>
            <a:xfrm>
              <a:off x="4570200" y="429408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7"/>
          <p:cNvGrpSpPr/>
          <p:nvPr/>
        </p:nvGrpSpPr>
        <p:grpSpPr>
          <a:xfrm>
            <a:off x="6804000" y="2492280"/>
            <a:ext cx="1008000" cy="1584360"/>
            <a:chOff x="6804000" y="2492280"/>
            <a:chExt cx="1008000" cy="1584360"/>
          </a:xfrm>
        </p:grpSpPr>
        <p:pic>
          <p:nvPicPr>
            <p:cNvPr id="421" name="Picture 8" descr=""/>
            <p:cNvPicPr/>
            <p:nvPr/>
          </p:nvPicPr>
          <p:blipFill>
            <a:blip r:embed="rId4"/>
            <a:stretch/>
          </p:blipFill>
          <p:spPr>
            <a:xfrm>
              <a:off x="6804000" y="3429000"/>
              <a:ext cx="10080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Oval 9"/>
            <p:cNvSpPr/>
            <p:nvPr/>
          </p:nvSpPr>
          <p:spPr>
            <a:xfrm>
              <a:off x="6875640" y="249228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Group 10"/>
          <p:cNvGrpSpPr/>
          <p:nvPr/>
        </p:nvGrpSpPr>
        <p:grpSpPr>
          <a:xfrm>
            <a:off x="7308720" y="4365720"/>
            <a:ext cx="1403280" cy="2307960"/>
            <a:chOff x="7308720" y="4365720"/>
            <a:chExt cx="1403280" cy="2307960"/>
          </a:xfrm>
        </p:grpSpPr>
        <p:pic>
          <p:nvPicPr>
            <p:cNvPr id="424" name="Picture 11" descr="f76"/>
            <p:cNvPicPr/>
            <p:nvPr/>
          </p:nvPicPr>
          <p:blipFill>
            <a:blip r:embed="rId5"/>
            <a:stretch/>
          </p:blipFill>
          <p:spPr>
            <a:xfrm>
              <a:off x="7308720" y="5445000"/>
              <a:ext cx="94284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Oval 12"/>
            <p:cNvSpPr/>
            <p:nvPr/>
          </p:nvSpPr>
          <p:spPr>
            <a:xfrm>
              <a:off x="7797600" y="436572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Rectangle 13"/>
          <p:cNvSpPr/>
          <p:nvPr/>
        </p:nvSpPr>
        <p:spPr>
          <a:xfrm>
            <a:off x="900000" y="2133720"/>
            <a:ext cx="719280" cy="647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 -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4"/>
          <p:cNvSpPr/>
          <p:nvPr/>
        </p:nvSpPr>
        <p:spPr>
          <a:xfrm>
            <a:off x="2124360" y="234936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крошка енот.mp3" descr=""/>
          <p:cNvPicPr/>
          <p:nvPr/>
        </p:nvPicPr>
        <p:blipFill>
          <a:blip r:embed="rId6"/>
          <a:stretch/>
        </p:blipFill>
        <p:spPr>
          <a:xfrm>
            <a:off x="7956720" y="7101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9" name="AutoShape 16">
            <a:hlinkClick r:id="" action="ppaction://hlinkshowjump?jump=nextslide"/>
          </p:cNvPr>
          <p:cNvSpPr/>
          <p:nvPr/>
        </p:nvSpPr>
        <p:spPr>
          <a:xfrm>
            <a:off x="0" y="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3815"/>
                </a:moveTo>
                <a:lnTo>
                  <a:pt x="17806" y="10822"/>
                </a:lnTo>
                <a:lnTo>
                  <a:pt x="3794" y="178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7"/>
          <p:cNvSpPr/>
          <p:nvPr/>
        </p:nvSpPr>
        <p:spPr>
          <a:xfrm>
            <a:off x="6732720" y="184464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7" dur="indefinite" restart="never" nodeType="tmRoot">
          <p:childTnLst>
            <p:seq>
              <p:cTn id="878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879" nodeType="clickEffect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2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1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892" nodeType="clickEffect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5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4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905" nodeType="clickEffect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0" dur="127144" fill="hold"/>
                                        <p:tgtEl>
                                          <p:spTgt spid="4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1" nodeType="with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-0.03194 0.27885 C -0.02569 0.28902 -0.0184 0.29919 -0.00243 0.30682 C 0.01337 0.31468 0.03021 0.32231 0.05868 0.3274 C 0.08698 0.33503 0.1349 0.34266 0.1684 0.34728 C 0.20278 0.34983 0.21736 0.35237 0.26267 0.35492 C 0.30799 0.35746 0.39184 0.36994 0.4408 0.36994 C 0.48958 0.36509 0.52934 0.35237 0.55504 0.34266 C 0.5816 0.33249 0.58785 0.31723 0.59792 0.30682 C 0.60747 0.29411 0.60886 0.27885 0.61476 0.27122 C 0.62136 0.26104 0.63212 0.25457 0.63733 0.25457 E">
                                      <p:cBhvr>
                                        <p:cTn id="912" dur="2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" descr=""/>
          <p:cNvPicPr/>
          <p:nvPr/>
        </p:nvPicPr>
        <p:blipFill>
          <a:blip r:embed="rId2"/>
          <a:stretch/>
        </p:blipFill>
        <p:spPr>
          <a:xfrm>
            <a:off x="-181080" y="2637000"/>
            <a:ext cx="1594080" cy="2265120"/>
          </a:xfrm>
          <a:prstGeom prst="rect">
            <a:avLst/>
          </a:prstGeom>
          <a:ln w="0">
            <a:noFill/>
          </a:ln>
        </p:spPr>
      </p:pic>
      <p:grpSp>
        <p:nvGrpSpPr>
          <p:cNvPr id="433" name="Group 4"/>
          <p:cNvGrpSpPr/>
          <p:nvPr/>
        </p:nvGrpSpPr>
        <p:grpSpPr>
          <a:xfrm>
            <a:off x="4067280" y="3141720"/>
            <a:ext cx="1417320" cy="2066760"/>
            <a:chOff x="4067280" y="3141720"/>
            <a:chExt cx="1417320" cy="2066760"/>
          </a:xfrm>
        </p:grpSpPr>
        <p:pic>
          <p:nvPicPr>
            <p:cNvPr id="434" name="Picture 5" descr="flower26"/>
            <p:cNvPicPr/>
            <p:nvPr/>
          </p:nvPicPr>
          <p:blipFill>
            <a:blip r:embed="rId3"/>
            <a:stretch/>
          </p:blipFill>
          <p:spPr>
            <a:xfrm>
              <a:off x="4067280" y="3141720"/>
              <a:ext cx="11700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Oval 6"/>
            <p:cNvSpPr/>
            <p:nvPr/>
          </p:nvSpPr>
          <p:spPr>
            <a:xfrm>
              <a:off x="4570200" y="429408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7"/>
          <p:cNvGrpSpPr/>
          <p:nvPr/>
        </p:nvGrpSpPr>
        <p:grpSpPr>
          <a:xfrm>
            <a:off x="6804000" y="2492280"/>
            <a:ext cx="1008000" cy="1584360"/>
            <a:chOff x="6804000" y="2492280"/>
            <a:chExt cx="1008000" cy="1584360"/>
          </a:xfrm>
        </p:grpSpPr>
        <p:pic>
          <p:nvPicPr>
            <p:cNvPr id="437" name="Picture 8" descr=""/>
            <p:cNvPicPr/>
            <p:nvPr/>
          </p:nvPicPr>
          <p:blipFill>
            <a:blip r:embed="rId4"/>
            <a:stretch/>
          </p:blipFill>
          <p:spPr>
            <a:xfrm>
              <a:off x="6804000" y="3429000"/>
              <a:ext cx="10080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Oval 9"/>
            <p:cNvSpPr/>
            <p:nvPr/>
          </p:nvSpPr>
          <p:spPr>
            <a:xfrm>
              <a:off x="6875640" y="249228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10"/>
          <p:cNvGrpSpPr/>
          <p:nvPr/>
        </p:nvGrpSpPr>
        <p:grpSpPr>
          <a:xfrm>
            <a:off x="7308720" y="4365720"/>
            <a:ext cx="1403280" cy="2307960"/>
            <a:chOff x="7308720" y="4365720"/>
            <a:chExt cx="1403280" cy="2307960"/>
          </a:xfrm>
        </p:grpSpPr>
        <p:pic>
          <p:nvPicPr>
            <p:cNvPr id="440" name="Picture 11" descr="f76"/>
            <p:cNvPicPr/>
            <p:nvPr/>
          </p:nvPicPr>
          <p:blipFill>
            <a:blip r:embed="rId5"/>
            <a:stretch/>
          </p:blipFill>
          <p:spPr>
            <a:xfrm>
              <a:off x="7308720" y="5445000"/>
              <a:ext cx="94284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Oval 12"/>
            <p:cNvSpPr/>
            <p:nvPr/>
          </p:nvSpPr>
          <p:spPr>
            <a:xfrm>
              <a:off x="7797600" y="436572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Rectangle 13"/>
          <p:cNvSpPr/>
          <p:nvPr/>
        </p:nvSpPr>
        <p:spPr>
          <a:xfrm>
            <a:off x="900000" y="2133720"/>
            <a:ext cx="719280" cy="647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 -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4"/>
          <p:cNvSpPr/>
          <p:nvPr/>
        </p:nvSpPr>
        <p:spPr>
          <a:xfrm>
            <a:off x="2124360" y="234936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крошка енот.mp3" descr=""/>
          <p:cNvPicPr/>
          <p:nvPr/>
        </p:nvPicPr>
        <p:blipFill>
          <a:blip r:embed="rId6"/>
          <a:stretch/>
        </p:blipFill>
        <p:spPr>
          <a:xfrm>
            <a:off x="7956720" y="7101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45" name="AutoShape 16">
            <a:hlinkClick r:id="" action="ppaction://hlinkshowjump?jump=nextslide"/>
          </p:cNvPr>
          <p:cNvSpPr/>
          <p:nvPr/>
        </p:nvSpPr>
        <p:spPr>
          <a:xfrm>
            <a:off x="0" y="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3815"/>
                </a:moveTo>
                <a:lnTo>
                  <a:pt x="17806" y="10822"/>
                </a:lnTo>
                <a:lnTo>
                  <a:pt x="3794" y="178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7"/>
          <p:cNvSpPr/>
          <p:nvPr/>
        </p:nvSpPr>
        <p:spPr>
          <a:xfrm>
            <a:off x="5148360" y="602136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5" dur="indefinite" restart="never" nodeType="tmRoot">
          <p:childTnLst>
            <p:seq>
              <p:cTn id="916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917" nodeType="clickEffect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0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2" dur="127144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23" nodeType="with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-1.11111E-006 0.0622 C 0.00573 0.09596 0.01267 0.12971 0.02761 0.15492 C 0.04236 0.18104 0.05833 0.20624 0.08507 0.22312 C 0.11163 0.24856 0.15677 0.27376 0.18837 0.28925 C 0.22066 0.29757 0.23438 0.3059 0.27708 0.31445 C 0.31945 0.32278 0.39844 0.36439 0.44445 0.36439 C 0.49045 0.34821 0.52778 0.3059 0.55191 0.27376 C 0.57691 0.24 0.58281 0.18937 0.59236 0.15492 C 0.60139 0.11283 0.60243 0.0622 0.60816 0.03676 C 0.61441 0.00324 0.62448 -0.01803 0.62952 -0.01803 E">
                                      <p:cBhvr>
                                        <p:cTn id="924" dur="2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7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928" nodeType="clickEffect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1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0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941" nodeType="clickEffect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4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3" descr=""/>
          <p:cNvPicPr/>
          <p:nvPr/>
        </p:nvPicPr>
        <p:blipFill>
          <a:blip r:embed="rId2"/>
          <a:stretch/>
        </p:blipFill>
        <p:spPr>
          <a:xfrm>
            <a:off x="-181080" y="2637000"/>
            <a:ext cx="1594080" cy="2265120"/>
          </a:xfrm>
          <a:prstGeom prst="rect">
            <a:avLst/>
          </a:prstGeom>
          <a:ln w="0">
            <a:noFill/>
          </a:ln>
        </p:spPr>
      </p:pic>
      <p:grpSp>
        <p:nvGrpSpPr>
          <p:cNvPr id="449" name="Group 4"/>
          <p:cNvGrpSpPr/>
          <p:nvPr/>
        </p:nvGrpSpPr>
        <p:grpSpPr>
          <a:xfrm>
            <a:off x="4067280" y="3141720"/>
            <a:ext cx="1417320" cy="2066760"/>
            <a:chOff x="4067280" y="3141720"/>
            <a:chExt cx="1417320" cy="2066760"/>
          </a:xfrm>
        </p:grpSpPr>
        <p:pic>
          <p:nvPicPr>
            <p:cNvPr id="450" name="Picture 5" descr="flower26"/>
            <p:cNvPicPr/>
            <p:nvPr/>
          </p:nvPicPr>
          <p:blipFill>
            <a:blip r:embed="rId3"/>
            <a:stretch/>
          </p:blipFill>
          <p:spPr>
            <a:xfrm>
              <a:off x="4067280" y="3141720"/>
              <a:ext cx="11700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6"/>
            <p:cNvSpPr/>
            <p:nvPr/>
          </p:nvSpPr>
          <p:spPr>
            <a:xfrm>
              <a:off x="4570200" y="429408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7"/>
          <p:cNvGrpSpPr/>
          <p:nvPr/>
        </p:nvGrpSpPr>
        <p:grpSpPr>
          <a:xfrm>
            <a:off x="6804000" y="2492280"/>
            <a:ext cx="1008000" cy="1584360"/>
            <a:chOff x="6804000" y="2492280"/>
            <a:chExt cx="1008000" cy="1584360"/>
          </a:xfrm>
        </p:grpSpPr>
        <p:pic>
          <p:nvPicPr>
            <p:cNvPr id="453" name="Picture 8" descr=""/>
            <p:cNvPicPr/>
            <p:nvPr/>
          </p:nvPicPr>
          <p:blipFill>
            <a:blip r:embed="rId4"/>
            <a:stretch/>
          </p:blipFill>
          <p:spPr>
            <a:xfrm>
              <a:off x="6804000" y="3429000"/>
              <a:ext cx="10080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Oval 9"/>
            <p:cNvSpPr/>
            <p:nvPr/>
          </p:nvSpPr>
          <p:spPr>
            <a:xfrm>
              <a:off x="6875640" y="249228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10"/>
          <p:cNvGrpSpPr/>
          <p:nvPr/>
        </p:nvGrpSpPr>
        <p:grpSpPr>
          <a:xfrm>
            <a:off x="7308720" y="4365720"/>
            <a:ext cx="1403280" cy="2307960"/>
            <a:chOff x="7308720" y="4365720"/>
            <a:chExt cx="1403280" cy="2307960"/>
          </a:xfrm>
        </p:grpSpPr>
        <p:pic>
          <p:nvPicPr>
            <p:cNvPr id="456" name="Picture 11" descr="f76"/>
            <p:cNvPicPr/>
            <p:nvPr/>
          </p:nvPicPr>
          <p:blipFill>
            <a:blip r:embed="rId5"/>
            <a:stretch/>
          </p:blipFill>
          <p:spPr>
            <a:xfrm>
              <a:off x="7308720" y="5445000"/>
              <a:ext cx="94284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Oval 12"/>
            <p:cNvSpPr/>
            <p:nvPr/>
          </p:nvSpPr>
          <p:spPr>
            <a:xfrm>
              <a:off x="7797600" y="436572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Rectangle 13"/>
          <p:cNvSpPr/>
          <p:nvPr/>
        </p:nvSpPr>
        <p:spPr>
          <a:xfrm>
            <a:off x="900000" y="2133720"/>
            <a:ext cx="719280" cy="647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-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4"/>
          <p:cNvSpPr/>
          <p:nvPr/>
        </p:nvSpPr>
        <p:spPr>
          <a:xfrm>
            <a:off x="5220000" y="602136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крошка енот.mp3" descr=""/>
          <p:cNvPicPr/>
          <p:nvPr/>
        </p:nvPicPr>
        <p:blipFill>
          <a:blip r:embed="rId6"/>
          <a:stretch/>
        </p:blipFill>
        <p:spPr>
          <a:xfrm>
            <a:off x="7956720" y="7101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61" name="AutoShape 16">
            <a:hlinkClick r:id="" action="ppaction://hlinkshowjump?jump=nextslide"/>
          </p:cNvPr>
          <p:cNvSpPr/>
          <p:nvPr/>
        </p:nvSpPr>
        <p:spPr>
          <a:xfrm>
            <a:off x="0" y="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3815"/>
                </a:moveTo>
                <a:lnTo>
                  <a:pt x="17806" y="10822"/>
                </a:lnTo>
                <a:lnTo>
                  <a:pt x="3794" y="178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7"/>
          <p:cNvSpPr/>
          <p:nvPr/>
        </p:nvSpPr>
        <p:spPr>
          <a:xfrm>
            <a:off x="6732720" y="184464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955" nodeType="clickEffect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8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7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968" nodeType="clickEffect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3" dur="127144" fill="hold"/>
                                        <p:tgtEl>
                                          <p:spTgt spid="4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74" nodeType="with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-0.03194 0.07168 C -0.02899 0.10497 -0.02552 0.13827 -0.01771 0.16324 C -0.01024 0.1889 -0.00208 0.21387 0.01163 0.23052 C 0.02535 0.25549 0.04844 0.28046 0.06458 0.29572 C 0.08125 0.30405 0.0882 0.31237 0.11007 0.3207 C 0.13195 0.32902 0.1724 0.36994 0.19601 0.36994 C 0.21962 0.35399 0.23872 0.31237 0.25122 0.28046 C 0.26406 0.24717 0.26702 0.19723 0.27188 0.16324 C 0.27656 0.12162 0.27708 0.07168 0.28004 0.04671 C 0.28316 0.01341 0.28837 -0.00763 0.29097 -0.00763 E">
                                      <p:cBhvr>
                                        <p:cTn id="975" dur="2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8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979" nodeType="clickEffect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82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3" descr=""/>
          <p:cNvPicPr/>
          <p:nvPr/>
        </p:nvPicPr>
        <p:blipFill>
          <a:blip r:embed="rId2"/>
          <a:stretch/>
        </p:blipFill>
        <p:spPr>
          <a:xfrm>
            <a:off x="-181080" y="2637000"/>
            <a:ext cx="1594080" cy="226512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4"/>
          <p:cNvGrpSpPr/>
          <p:nvPr/>
        </p:nvGrpSpPr>
        <p:grpSpPr>
          <a:xfrm>
            <a:off x="4067280" y="3141720"/>
            <a:ext cx="1417320" cy="2066760"/>
            <a:chOff x="4067280" y="3141720"/>
            <a:chExt cx="1417320" cy="2066760"/>
          </a:xfrm>
        </p:grpSpPr>
        <p:pic>
          <p:nvPicPr>
            <p:cNvPr id="466" name="Picture 5" descr="flower26"/>
            <p:cNvPicPr/>
            <p:nvPr/>
          </p:nvPicPr>
          <p:blipFill>
            <a:blip r:embed="rId3"/>
            <a:stretch/>
          </p:blipFill>
          <p:spPr>
            <a:xfrm>
              <a:off x="4067280" y="3141720"/>
              <a:ext cx="11700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Oval 6"/>
            <p:cNvSpPr/>
            <p:nvPr/>
          </p:nvSpPr>
          <p:spPr>
            <a:xfrm>
              <a:off x="4570200" y="429408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7"/>
          <p:cNvGrpSpPr/>
          <p:nvPr/>
        </p:nvGrpSpPr>
        <p:grpSpPr>
          <a:xfrm>
            <a:off x="6804000" y="2492280"/>
            <a:ext cx="1008000" cy="1584360"/>
            <a:chOff x="6804000" y="2492280"/>
            <a:chExt cx="1008000" cy="1584360"/>
          </a:xfrm>
        </p:grpSpPr>
        <p:pic>
          <p:nvPicPr>
            <p:cNvPr id="469" name="Picture 8" descr=""/>
            <p:cNvPicPr/>
            <p:nvPr/>
          </p:nvPicPr>
          <p:blipFill>
            <a:blip r:embed="rId4"/>
            <a:stretch/>
          </p:blipFill>
          <p:spPr>
            <a:xfrm>
              <a:off x="6804000" y="3429000"/>
              <a:ext cx="10080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Oval 9"/>
            <p:cNvSpPr/>
            <p:nvPr/>
          </p:nvSpPr>
          <p:spPr>
            <a:xfrm>
              <a:off x="6875640" y="249228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10"/>
          <p:cNvGrpSpPr/>
          <p:nvPr/>
        </p:nvGrpSpPr>
        <p:grpSpPr>
          <a:xfrm>
            <a:off x="7308720" y="4365720"/>
            <a:ext cx="1403280" cy="2307960"/>
            <a:chOff x="7308720" y="4365720"/>
            <a:chExt cx="1403280" cy="2307960"/>
          </a:xfrm>
        </p:grpSpPr>
        <p:pic>
          <p:nvPicPr>
            <p:cNvPr id="472" name="Picture 11" descr="f76"/>
            <p:cNvPicPr/>
            <p:nvPr/>
          </p:nvPicPr>
          <p:blipFill>
            <a:blip r:embed="rId5"/>
            <a:stretch/>
          </p:blipFill>
          <p:spPr>
            <a:xfrm>
              <a:off x="7308720" y="5445000"/>
              <a:ext cx="94284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Oval 12"/>
            <p:cNvSpPr/>
            <p:nvPr/>
          </p:nvSpPr>
          <p:spPr>
            <a:xfrm>
              <a:off x="7797600" y="436572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Rectangle 13"/>
          <p:cNvSpPr/>
          <p:nvPr/>
        </p:nvSpPr>
        <p:spPr>
          <a:xfrm>
            <a:off x="755640" y="2133720"/>
            <a:ext cx="863640" cy="647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4"/>
          <p:cNvSpPr/>
          <p:nvPr/>
        </p:nvSpPr>
        <p:spPr>
          <a:xfrm>
            <a:off x="2124360" y="234936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крошка енот.mp3" descr=""/>
          <p:cNvPicPr/>
          <p:nvPr/>
        </p:nvPicPr>
        <p:blipFill>
          <a:blip r:embed="rId6"/>
          <a:stretch/>
        </p:blipFill>
        <p:spPr>
          <a:xfrm>
            <a:off x="7956720" y="7101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77" name="AutoShape 16">
            <a:hlinkClick r:id="" action="ppaction://hlinkshowjump?jump=nextslide"/>
          </p:cNvPr>
          <p:cNvSpPr/>
          <p:nvPr/>
        </p:nvSpPr>
        <p:spPr>
          <a:xfrm>
            <a:off x="0" y="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3815"/>
                </a:moveTo>
                <a:lnTo>
                  <a:pt x="17806" y="10822"/>
                </a:lnTo>
                <a:lnTo>
                  <a:pt x="3794" y="178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7"/>
          <p:cNvSpPr/>
          <p:nvPr/>
        </p:nvSpPr>
        <p:spPr>
          <a:xfrm>
            <a:off x="5148360" y="609300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8"/>
          <p:cNvSpPr/>
          <p:nvPr/>
        </p:nvSpPr>
        <p:spPr>
          <a:xfrm>
            <a:off x="3517560" y="324576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xthnbxnjgjkexftnc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9"/>
          <p:cNvSpPr/>
          <p:nvPr/>
        </p:nvSpPr>
        <p:spPr>
          <a:xfrm>
            <a:off x="3517560" y="324576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xthnbxnjgjkexftnc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1" dur="indefinite" restart="never" nodeType="tmRoot">
          <p:childTnLst>
            <p:seq>
              <p:cTn id="992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993" nodeType="clickEffect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96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8" dur="127144" fill="hold"/>
                                        <p:tgtEl>
                                          <p:spTgt spid="4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99" nodeType="with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-1.11111E-006 0.02567 C 0.00573 0.0615 0.01267 0.09757 0.02761 0.12463 C 0.04236 0.15237 0.05833 0.17942 0.08507 0.19746 C 0.11163 0.22428 0.15677 0.25133 0.18837 0.26752 C 0.22066 0.27653 0.23438 0.28555 0.27708 0.29457 C 0.31945 0.30359 0.39844 0.34798 0.44445 0.34798 C 0.49045 0.33041 0.52778 0.28555 0.55191 0.25133 C 0.57691 0.21526 0.58281 0.16139 0.59236 0.12463 C 0.60139 0.07954 0.60243 0.02567 0.60816 -0.00139 C 0.61441 -0.03722 0.62448 -0.05988 0.62952 -0.05988 E">
                                      <p:cBhvr>
                                        <p:cTn id="1000" dur="2000" fill="hold"/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3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1004" nodeType="clickEffect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7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6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1017" nodeType="clickEffect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0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3" descr=""/>
          <p:cNvPicPr/>
          <p:nvPr/>
        </p:nvPicPr>
        <p:blipFill>
          <a:blip r:embed="rId2"/>
          <a:stretch/>
        </p:blipFill>
        <p:spPr>
          <a:xfrm>
            <a:off x="-181080" y="2637000"/>
            <a:ext cx="1594080" cy="2265120"/>
          </a:xfrm>
          <a:prstGeom prst="rect">
            <a:avLst/>
          </a:prstGeom>
          <a:ln w="0">
            <a:noFill/>
          </a:ln>
        </p:spPr>
      </p:pic>
      <p:grpSp>
        <p:nvGrpSpPr>
          <p:cNvPr id="483" name="Group 4"/>
          <p:cNvGrpSpPr/>
          <p:nvPr/>
        </p:nvGrpSpPr>
        <p:grpSpPr>
          <a:xfrm>
            <a:off x="4067280" y="3141720"/>
            <a:ext cx="1417320" cy="2066760"/>
            <a:chOff x="4067280" y="3141720"/>
            <a:chExt cx="1417320" cy="2066760"/>
          </a:xfrm>
        </p:grpSpPr>
        <p:pic>
          <p:nvPicPr>
            <p:cNvPr id="484" name="Picture 5" descr="flower26"/>
            <p:cNvPicPr/>
            <p:nvPr/>
          </p:nvPicPr>
          <p:blipFill>
            <a:blip r:embed="rId3"/>
            <a:stretch/>
          </p:blipFill>
          <p:spPr>
            <a:xfrm>
              <a:off x="4067280" y="3141720"/>
              <a:ext cx="11700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Oval 6"/>
            <p:cNvSpPr/>
            <p:nvPr/>
          </p:nvSpPr>
          <p:spPr>
            <a:xfrm>
              <a:off x="4570200" y="429408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Group 7"/>
          <p:cNvGrpSpPr/>
          <p:nvPr/>
        </p:nvGrpSpPr>
        <p:grpSpPr>
          <a:xfrm>
            <a:off x="6804000" y="2492280"/>
            <a:ext cx="1008000" cy="1584360"/>
            <a:chOff x="6804000" y="2492280"/>
            <a:chExt cx="1008000" cy="1584360"/>
          </a:xfrm>
        </p:grpSpPr>
        <p:pic>
          <p:nvPicPr>
            <p:cNvPr id="487" name="Picture 8" descr=""/>
            <p:cNvPicPr/>
            <p:nvPr/>
          </p:nvPicPr>
          <p:blipFill>
            <a:blip r:embed="rId4"/>
            <a:stretch/>
          </p:blipFill>
          <p:spPr>
            <a:xfrm>
              <a:off x="6804000" y="3429000"/>
              <a:ext cx="10080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Oval 9"/>
            <p:cNvSpPr/>
            <p:nvPr/>
          </p:nvSpPr>
          <p:spPr>
            <a:xfrm>
              <a:off x="6875640" y="249228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10"/>
          <p:cNvGrpSpPr/>
          <p:nvPr/>
        </p:nvGrpSpPr>
        <p:grpSpPr>
          <a:xfrm>
            <a:off x="7308720" y="4365720"/>
            <a:ext cx="1403280" cy="2307960"/>
            <a:chOff x="7308720" y="4365720"/>
            <a:chExt cx="1403280" cy="2307960"/>
          </a:xfrm>
        </p:grpSpPr>
        <p:pic>
          <p:nvPicPr>
            <p:cNvPr id="490" name="Picture 11" descr="f76"/>
            <p:cNvPicPr/>
            <p:nvPr/>
          </p:nvPicPr>
          <p:blipFill>
            <a:blip r:embed="rId5"/>
            <a:stretch/>
          </p:blipFill>
          <p:spPr>
            <a:xfrm>
              <a:off x="7308720" y="5445000"/>
              <a:ext cx="94284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Oval 12"/>
            <p:cNvSpPr/>
            <p:nvPr/>
          </p:nvSpPr>
          <p:spPr>
            <a:xfrm>
              <a:off x="7797600" y="436572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Rectangle 13"/>
          <p:cNvSpPr/>
          <p:nvPr/>
        </p:nvSpPr>
        <p:spPr>
          <a:xfrm>
            <a:off x="900000" y="2133720"/>
            <a:ext cx="719280" cy="647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 -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2195640" y="234936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крошка енот.mp3" descr=""/>
          <p:cNvPicPr/>
          <p:nvPr/>
        </p:nvPicPr>
        <p:blipFill>
          <a:blip r:embed="rId6"/>
          <a:stretch/>
        </p:blipFill>
        <p:spPr>
          <a:xfrm>
            <a:off x="7956720" y="7101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95" name="AutoShape 16">
            <a:hlinkClick r:id="" action="ppaction://hlinkshowjump?jump=nextslide"/>
          </p:cNvPr>
          <p:cNvSpPr/>
          <p:nvPr/>
        </p:nvSpPr>
        <p:spPr>
          <a:xfrm>
            <a:off x="0" y="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3815"/>
                </a:moveTo>
                <a:lnTo>
                  <a:pt x="17806" y="10822"/>
                </a:lnTo>
                <a:lnTo>
                  <a:pt x="3794" y="178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732720" y="184464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9" dur="indefinite" restart="never" nodeType="tmRoot">
          <p:childTnLst>
            <p:seq>
              <p:cTn id="1030" restart="whenNotActive" nodeType="interactiveSeq" fill="hold">
                <p:stCondLst>
                  <p:cond evt="onClick">
                    <p:tgtEl>
                      <p:spTgt spid="486"/>
                    </p:tgtEl>
                  </p:cond>
                </p:stCondLst>
                <p:childTnLst>
                  <p:par>
                    <p:cTn id="1031" nodeType="clickEffect" fill="hold">
                      <p:stCondLst>
                        <p:cond evt="onClick">
                          <p:tgtEl>
                            <p:spTgt spid="486"/>
                          </p:tgtEl>
                        </p:cond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4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3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1044" nodeType="clickEffect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7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6" restart="whenNotActive" nodeType="interactiveSeq" fill="hold">
                <p:stCondLst>
                  <p:cond evt="onClick">
                    <p:tgtEl>
                      <p:spTgt spid="489"/>
                    </p:tgtEl>
                  </p:cond>
                </p:stCondLst>
                <p:childTnLst>
                  <p:par>
                    <p:cTn id="1057" nodeType="clickEffect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nodeType="with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-0.01614 0.27746 C -0.01007 0.28786 -0.0026 0.29804 0.01389 0.30567 C 0.02969 0.31353 0.04705 0.32116 0.07604 0.32624 C 0.10521 0.33387 0.15417 0.34174 0.18837 0.34682 C 0.22396 0.34937 0.23854 0.35191 0.2849 0.35445 C 0.33125 0.357 0.41719 0.36994 0.46719 0.36994 C 0.51736 0.36463 0.55781 0.35191 0.58438 0.34174 C 0.61163 0.33133 0.61788 0.31607 0.6283 0.30567 C 0.6382 0.29295 0.63924 0.27746 0.64566 0.26983 C 0.65226 0.26081 0.6632 0.25457 0.66892 0.25457 E">
                                      <p:cBhvr>
                                        <p:cTn id="1062" dur="2000" fill="hold"/>
                                        <p:tgtEl>
                                          <p:spTgt spid="4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4" dur="127144" fill="hold"/>
                                        <p:tgtEl>
                                          <p:spTgt spid="4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-181080" y="2637000"/>
            <a:ext cx="1594080" cy="226512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4"/>
          <p:cNvGrpSpPr/>
          <p:nvPr/>
        </p:nvGrpSpPr>
        <p:grpSpPr>
          <a:xfrm>
            <a:off x="4284720" y="3068640"/>
            <a:ext cx="1417320" cy="2066760"/>
            <a:chOff x="4284720" y="3068640"/>
            <a:chExt cx="1417320" cy="2066760"/>
          </a:xfrm>
        </p:grpSpPr>
        <p:pic>
          <p:nvPicPr>
            <p:cNvPr id="66" name="Picture 5" descr="flower26"/>
            <p:cNvPicPr/>
            <p:nvPr/>
          </p:nvPicPr>
          <p:blipFill>
            <a:blip r:embed="rId3"/>
            <a:stretch/>
          </p:blipFill>
          <p:spPr>
            <a:xfrm>
              <a:off x="4284720" y="3068640"/>
              <a:ext cx="11700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Oval 6"/>
            <p:cNvSpPr/>
            <p:nvPr/>
          </p:nvSpPr>
          <p:spPr>
            <a:xfrm>
              <a:off x="4787640" y="422100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7"/>
          <p:cNvGrpSpPr/>
          <p:nvPr/>
        </p:nvGrpSpPr>
        <p:grpSpPr>
          <a:xfrm>
            <a:off x="7164360" y="2708280"/>
            <a:ext cx="1008000" cy="1584360"/>
            <a:chOff x="7164360" y="2708280"/>
            <a:chExt cx="1008000" cy="1584360"/>
          </a:xfrm>
        </p:grpSpPr>
        <p:pic>
          <p:nvPicPr>
            <p:cNvPr id="69" name="Picture 8" descr=""/>
            <p:cNvPicPr/>
            <p:nvPr/>
          </p:nvPicPr>
          <p:blipFill>
            <a:blip r:embed="rId4"/>
            <a:stretch/>
          </p:blipFill>
          <p:spPr>
            <a:xfrm>
              <a:off x="7164360" y="3645000"/>
              <a:ext cx="10080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Oval 9"/>
            <p:cNvSpPr/>
            <p:nvPr/>
          </p:nvSpPr>
          <p:spPr>
            <a:xfrm>
              <a:off x="7236000" y="270828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0"/>
          <p:cNvGrpSpPr/>
          <p:nvPr/>
        </p:nvGrpSpPr>
        <p:grpSpPr>
          <a:xfrm>
            <a:off x="7308720" y="4365720"/>
            <a:ext cx="1403280" cy="2307960"/>
            <a:chOff x="7308720" y="4365720"/>
            <a:chExt cx="1403280" cy="2307960"/>
          </a:xfrm>
        </p:grpSpPr>
        <p:pic>
          <p:nvPicPr>
            <p:cNvPr id="72" name="Picture 11" descr="f76"/>
            <p:cNvPicPr/>
            <p:nvPr/>
          </p:nvPicPr>
          <p:blipFill>
            <a:blip r:embed="rId5"/>
            <a:stretch/>
          </p:blipFill>
          <p:spPr>
            <a:xfrm>
              <a:off x="7308720" y="5445000"/>
              <a:ext cx="94284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Oval 12"/>
            <p:cNvSpPr/>
            <p:nvPr/>
          </p:nvSpPr>
          <p:spPr>
            <a:xfrm>
              <a:off x="7797600" y="436572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Rectangle 13"/>
          <p:cNvSpPr/>
          <p:nvPr/>
        </p:nvSpPr>
        <p:spPr>
          <a:xfrm>
            <a:off x="900000" y="2133720"/>
            <a:ext cx="719280" cy="647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6948720" y="191628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крошка енот.mp3" descr=""/>
          <p:cNvPicPr/>
          <p:nvPr/>
        </p:nvPicPr>
        <p:blipFill>
          <a:blip r:embed="rId6"/>
          <a:stretch/>
        </p:blipFill>
        <p:spPr>
          <a:xfrm>
            <a:off x="7956720" y="7101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16">
            <a:hlinkClick r:id="" action="ppaction://hlinkshowjump?jump=nextslide"/>
          </p:cNvPr>
          <p:cNvSpPr/>
          <p:nvPr/>
        </p:nvSpPr>
        <p:spPr>
          <a:xfrm>
            <a:off x="0" y="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3815"/>
                </a:moveTo>
                <a:lnTo>
                  <a:pt x="17806" y="10822"/>
                </a:lnTo>
                <a:lnTo>
                  <a:pt x="3794" y="178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5077080" y="587700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54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27144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-0.02413 0.14659 C -0.01979 0.16879 -0.01528 0.19098 -0.00642 0.20948 C 0.00226 0.22728 0.01198 0.24046 0.02795 0.25457 C 0.0441 0.26844 0.07083 0.28255 0.09011 0.29295 C 0.1092 0.30243 0.11736 0.30474 0.14323 0.31214 C 0.16875 0.31954 0.21649 0.34174 0.24375 0.33642 C 0.27136 0.33202 0.29375 0.30682 0.30833 0.28486 C 0.32309 0.26335 0.32674 0.23168 0.33212 0.20648 C 0.33767 0.18058 0.33872 0.1496 0.34202 0.13202 C 0.34549 0.11353 0.35174 0.10243 0.35382 0.09734 E">
                                      <p:cBhvr>
                                        <p:cTn id="61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65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3" descr=""/>
          <p:cNvPicPr/>
          <p:nvPr/>
        </p:nvPicPr>
        <p:blipFill>
          <a:blip r:embed="rId2"/>
          <a:stretch/>
        </p:blipFill>
        <p:spPr>
          <a:xfrm>
            <a:off x="-181080" y="2637000"/>
            <a:ext cx="1594080" cy="2265120"/>
          </a:xfrm>
          <a:prstGeom prst="rect">
            <a:avLst/>
          </a:prstGeom>
          <a:ln w="0">
            <a:noFill/>
          </a:ln>
        </p:spPr>
      </p:pic>
      <p:grpSp>
        <p:nvGrpSpPr>
          <p:cNvPr id="499" name="Group 4"/>
          <p:cNvGrpSpPr/>
          <p:nvPr/>
        </p:nvGrpSpPr>
        <p:grpSpPr>
          <a:xfrm>
            <a:off x="4067280" y="3141720"/>
            <a:ext cx="1417320" cy="2066760"/>
            <a:chOff x="4067280" y="3141720"/>
            <a:chExt cx="1417320" cy="2066760"/>
          </a:xfrm>
        </p:grpSpPr>
        <p:pic>
          <p:nvPicPr>
            <p:cNvPr id="500" name="Picture 5" descr="flower26"/>
            <p:cNvPicPr/>
            <p:nvPr/>
          </p:nvPicPr>
          <p:blipFill>
            <a:blip r:embed="rId3"/>
            <a:stretch/>
          </p:blipFill>
          <p:spPr>
            <a:xfrm>
              <a:off x="4067280" y="3141720"/>
              <a:ext cx="11700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Oval 6"/>
            <p:cNvSpPr/>
            <p:nvPr/>
          </p:nvSpPr>
          <p:spPr>
            <a:xfrm>
              <a:off x="4570200" y="429408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Group 7"/>
          <p:cNvGrpSpPr/>
          <p:nvPr/>
        </p:nvGrpSpPr>
        <p:grpSpPr>
          <a:xfrm>
            <a:off x="6804000" y="2492280"/>
            <a:ext cx="1008000" cy="1584360"/>
            <a:chOff x="6804000" y="2492280"/>
            <a:chExt cx="1008000" cy="1584360"/>
          </a:xfrm>
        </p:grpSpPr>
        <p:pic>
          <p:nvPicPr>
            <p:cNvPr id="503" name="Picture 8" descr=""/>
            <p:cNvPicPr/>
            <p:nvPr/>
          </p:nvPicPr>
          <p:blipFill>
            <a:blip r:embed="rId4"/>
            <a:stretch/>
          </p:blipFill>
          <p:spPr>
            <a:xfrm>
              <a:off x="6804000" y="3429000"/>
              <a:ext cx="10080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Oval 9"/>
            <p:cNvSpPr/>
            <p:nvPr/>
          </p:nvSpPr>
          <p:spPr>
            <a:xfrm>
              <a:off x="6875640" y="249228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10"/>
          <p:cNvGrpSpPr/>
          <p:nvPr/>
        </p:nvGrpSpPr>
        <p:grpSpPr>
          <a:xfrm>
            <a:off x="7308720" y="4365720"/>
            <a:ext cx="1403280" cy="2307960"/>
            <a:chOff x="7308720" y="4365720"/>
            <a:chExt cx="1403280" cy="2307960"/>
          </a:xfrm>
        </p:grpSpPr>
        <p:pic>
          <p:nvPicPr>
            <p:cNvPr id="506" name="Picture 11" descr="f76"/>
            <p:cNvPicPr/>
            <p:nvPr/>
          </p:nvPicPr>
          <p:blipFill>
            <a:blip r:embed="rId5"/>
            <a:stretch/>
          </p:blipFill>
          <p:spPr>
            <a:xfrm>
              <a:off x="7308720" y="5445000"/>
              <a:ext cx="94284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Oval 12"/>
            <p:cNvSpPr/>
            <p:nvPr/>
          </p:nvSpPr>
          <p:spPr>
            <a:xfrm>
              <a:off x="7797600" y="436572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13"/>
          <p:cNvSpPr/>
          <p:nvPr/>
        </p:nvSpPr>
        <p:spPr>
          <a:xfrm>
            <a:off x="900000" y="2133720"/>
            <a:ext cx="719280" cy="647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 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4"/>
          <p:cNvSpPr/>
          <p:nvPr/>
        </p:nvSpPr>
        <p:spPr>
          <a:xfrm>
            <a:off x="5220000" y="602136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крошка енот.mp3" descr=""/>
          <p:cNvPicPr/>
          <p:nvPr/>
        </p:nvPicPr>
        <p:blipFill>
          <a:blip r:embed="rId6"/>
          <a:stretch/>
        </p:blipFill>
        <p:spPr>
          <a:xfrm>
            <a:off x="7956720" y="7101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11" name="AutoShape 16">
            <a:hlinkClick r:id="" action="ppaction://hlinkshowjump?jump=nextslide"/>
          </p:cNvPr>
          <p:cNvSpPr/>
          <p:nvPr/>
        </p:nvSpPr>
        <p:spPr>
          <a:xfrm>
            <a:off x="0" y="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3815"/>
                </a:moveTo>
                <a:lnTo>
                  <a:pt x="17806" y="10822"/>
                </a:lnTo>
                <a:lnTo>
                  <a:pt x="3794" y="178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7"/>
          <p:cNvSpPr/>
          <p:nvPr/>
        </p:nvSpPr>
        <p:spPr>
          <a:xfrm>
            <a:off x="2627640" y="206064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1069" nodeType="clickEffect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2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4" dur="127144" fill="hold"/>
                                        <p:tgtEl>
                                          <p:spTgt spid="5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75" nodeType="with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-0.03194 0.05503 C -0.02569 0.09018 -0.0184 0.12532 -0.00191 0.15168 C 0.01406 0.17873 0.03125 0.20509 0.06042 0.22266 C 0.08958 0.24902 0.13854 0.27538 0.17274 0.29156 C 0.20816 0.30035 0.22292 0.30913 0.26927 0.31792 C 0.31563 0.32671 0.40156 0.36994 0.45156 0.36994 C 0.50174 0.35307 0.54219 0.30913 0.56875 0.27538 C 0.59601 0.24023 0.60226 0.18752 0.6125 0.15168 C 0.6224 0.10775 0.62361 0.05503 0.62986 0.02867 C 0.63646 -0.00624 0.64757 -0.02844 0.65313 -0.02844 E">
                                      <p:cBhvr>
                                        <p:cTn id="1076" dur="2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9" restart="whenNotActive" nodeType="interactiveSeq" fill="hold">
                <p:stCondLst>
                  <p:cond evt="onClick">
                    <p:tgtEl>
                      <p:spTgt spid="499"/>
                    </p:tgtEl>
                  </p:cond>
                </p:stCondLst>
                <p:childTnLst>
                  <p:par>
                    <p:cTn id="1080" nodeType="clickEffect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3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2" restart="whenNotActive" nodeType="interactiveSeq" fill="hold">
                <p:stCondLst>
                  <p:cond evt="onClick">
                    <p:tgtEl>
                      <p:spTgt spid="505"/>
                    </p:tgtEl>
                  </p:cond>
                </p:stCondLst>
                <p:childTnLst>
                  <p:par>
                    <p:cTn id="1093" nodeType="clickEffect" fill="hold">
                      <p:stCondLst>
                        <p:cond evt="onClick">
                          <p:tgtEl>
                            <p:spTgt spid="505"/>
                          </p:tgtEl>
                        </p:cond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6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3" descr=""/>
          <p:cNvPicPr/>
          <p:nvPr/>
        </p:nvPicPr>
        <p:blipFill>
          <a:blip r:embed="rId2"/>
          <a:stretch/>
        </p:blipFill>
        <p:spPr>
          <a:xfrm>
            <a:off x="0" y="2708280"/>
            <a:ext cx="1593720" cy="2265480"/>
          </a:xfrm>
          <a:prstGeom prst="rect">
            <a:avLst/>
          </a:prstGeom>
          <a:ln w="0">
            <a:noFill/>
          </a:ln>
        </p:spPr>
      </p:pic>
      <p:grpSp>
        <p:nvGrpSpPr>
          <p:cNvPr id="515" name="Group 4"/>
          <p:cNvGrpSpPr/>
          <p:nvPr/>
        </p:nvGrpSpPr>
        <p:grpSpPr>
          <a:xfrm>
            <a:off x="4067280" y="3141720"/>
            <a:ext cx="1417320" cy="2066760"/>
            <a:chOff x="4067280" y="3141720"/>
            <a:chExt cx="1417320" cy="2066760"/>
          </a:xfrm>
        </p:grpSpPr>
        <p:pic>
          <p:nvPicPr>
            <p:cNvPr id="516" name="Picture 5" descr="flower26"/>
            <p:cNvPicPr/>
            <p:nvPr/>
          </p:nvPicPr>
          <p:blipFill>
            <a:blip r:embed="rId3"/>
            <a:stretch/>
          </p:blipFill>
          <p:spPr>
            <a:xfrm>
              <a:off x="4067280" y="3141720"/>
              <a:ext cx="11700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Oval 6"/>
            <p:cNvSpPr/>
            <p:nvPr/>
          </p:nvSpPr>
          <p:spPr>
            <a:xfrm>
              <a:off x="4570200" y="429408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Group 7"/>
          <p:cNvGrpSpPr/>
          <p:nvPr/>
        </p:nvGrpSpPr>
        <p:grpSpPr>
          <a:xfrm>
            <a:off x="6804000" y="2492280"/>
            <a:ext cx="1008000" cy="1584360"/>
            <a:chOff x="6804000" y="2492280"/>
            <a:chExt cx="1008000" cy="1584360"/>
          </a:xfrm>
        </p:grpSpPr>
        <p:pic>
          <p:nvPicPr>
            <p:cNvPr id="519" name="Picture 8" descr=""/>
            <p:cNvPicPr/>
            <p:nvPr/>
          </p:nvPicPr>
          <p:blipFill>
            <a:blip r:embed="rId4"/>
            <a:stretch/>
          </p:blipFill>
          <p:spPr>
            <a:xfrm>
              <a:off x="6804000" y="3429000"/>
              <a:ext cx="10080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Oval 9"/>
            <p:cNvSpPr/>
            <p:nvPr/>
          </p:nvSpPr>
          <p:spPr>
            <a:xfrm>
              <a:off x="6875640" y="249228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 10"/>
          <p:cNvGrpSpPr/>
          <p:nvPr/>
        </p:nvGrpSpPr>
        <p:grpSpPr>
          <a:xfrm>
            <a:off x="7308720" y="4365720"/>
            <a:ext cx="1403280" cy="2307960"/>
            <a:chOff x="7308720" y="4365720"/>
            <a:chExt cx="1403280" cy="2307960"/>
          </a:xfrm>
        </p:grpSpPr>
        <p:pic>
          <p:nvPicPr>
            <p:cNvPr id="522" name="Picture 11" descr="f76"/>
            <p:cNvPicPr/>
            <p:nvPr/>
          </p:nvPicPr>
          <p:blipFill>
            <a:blip r:embed="rId5"/>
            <a:stretch/>
          </p:blipFill>
          <p:spPr>
            <a:xfrm>
              <a:off x="7308720" y="5445000"/>
              <a:ext cx="94284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Oval 12"/>
            <p:cNvSpPr/>
            <p:nvPr/>
          </p:nvSpPr>
          <p:spPr>
            <a:xfrm>
              <a:off x="7797600" y="436572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Rectangle 13"/>
          <p:cNvSpPr/>
          <p:nvPr/>
        </p:nvSpPr>
        <p:spPr>
          <a:xfrm>
            <a:off x="900000" y="2133720"/>
            <a:ext cx="719280" cy="647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4"/>
          <p:cNvSpPr/>
          <p:nvPr/>
        </p:nvSpPr>
        <p:spPr>
          <a:xfrm>
            <a:off x="3059280" y="220500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крошка енот.mp3" descr=""/>
          <p:cNvPicPr/>
          <p:nvPr/>
        </p:nvPicPr>
        <p:blipFill>
          <a:blip r:embed="rId6"/>
          <a:stretch/>
        </p:blipFill>
        <p:spPr>
          <a:xfrm>
            <a:off x="7956720" y="7101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27" name="AutoShape 16">
            <a:hlinkClick r:id="" action="ppaction://hlinkshowjump?jump=nextslide"/>
          </p:cNvPr>
          <p:cNvSpPr/>
          <p:nvPr/>
        </p:nvSpPr>
        <p:spPr>
          <a:xfrm>
            <a:off x="0" y="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3815"/>
                </a:moveTo>
                <a:lnTo>
                  <a:pt x="17806" y="10822"/>
                </a:lnTo>
                <a:lnTo>
                  <a:pt x="3794" y="178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7"/>
          <p:cNvSpPr/>
          <p:nvPr/>
        </p:nvSpPr>
        <p:spPr>
          <a:xfrm>
            <a:off x="6732720" y="184464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5" dur="indefinite" restart="never" nodeType="tmRoot">
          <p:childTnLst>
            <p:seq>
              <p:cTn id="1106" restart="whenNotActive" nodeType="interactiveSeq" fill="hold">
                <p:stCondLst>
                  <p:cond evt="onClick">
                    <p:tgtEl>
                      <p:spTgt spid="518"/>
                    </p:tgtEl>
                  </p:cond>
                </p:stCondLst>
                <p:childTnLst>
                  <p:par>
                    <p:cTn id="1107" nodeType="clickEffect" fill="hold">
                      <p:stCondLst>
                        <p:cond evt="onClick">
                          <p:tgtEl>
                            <p:spTgt spid="518"/>
                          </p:tgtEl>
                        </p:cond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0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9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1120" nodeType="clickEffect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23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2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1133" nodeType="clickEffect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6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8" dur="127144" fill="hold"/>
                                        <p:tgtEl>
                                          <p:spTgt spid="5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39" nodeType="with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-0.03194 0.3533 C -0.02552 0.35515 -0.01788 0.357 -0.00087 0.35838 C 0.01563 0.35977 0.03351 0.36116 0.06354 0.36208 C 0.09375 0.36347 0.14445 0.36486 0.17986 0.36578 C 0.21632 0.36624 0.2316 0.36671 0.27969 0.36717 C 0.32761 0.36763 0.41649 0.36994 0.46823 0.36994 C 0.52014 0.36902 0.56198 0.36671 0.58941 0.36486 C 0.61754 0.36301 0.62413 0.36023 0.63472 0.35838 C 0.64497 0.35607 0.64618 0.3533 0.65261 0.35191 C 0.65955 0.35029 0.67101 0.34913 0.67674 0.34913 E">
                                      <p:cBhvr>
                                        <p:cTn id="1140" dur="2000" fill="hold"/>
                                        <p:tgtEl>
                                          <p:spTgt spid="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content.foto.mail.ru/mail/allkaida/_blogs/i-355.jp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мочка на первом слай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i046.radikal.ru/1104/8f/96fdb0472f5f.jpg - Крошка Енот с пустой корзинкой http://cs5736.userapi.com/v5736034/4f1/g31t7nQnAOI.jpg - летний пейза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im7-tub-ru.yandex.net/i?id=304860920-19-72&amp;n=21 – лот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stream.get-tune.net/file/139673030/-31261939/622680075/caec4490e81e64e1/Pesnya_iz_multfilma_quot_Kroshka_enot_quot_-_Ulibka_(get-tune.net).mp3 - «Улыбка» муз. В. Шаинского, сл. М. Пляцковс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4">
            <a:hlinkClick r:id="" action="ppaction://hlinkshowjump?jump=firstslide"/>
          </p:cNvPr>
          <p:cNvSpPr/>
          <p:nvPr/>
        </p:nvSpPr>
        <p:spPr>
          <a:xfrm>
            <a:off x="8101080" y="5805360"/>
            <a:ext cx="682560" cy="82728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827280"/>
              <a:gd name="textAreaBottom" fmla="*/ 783360 h 827280"/>
            </a:gdLst>
            <a:ahLst/>
            <a:rect l="textAreaLeft" t="textAreaTop" r="textAreaRight" b="textAreaBottom"/>
            <a:pathLst>
              <a:path w="21600" h="26177">
                <a:moveTo>
                  <a:pt x="0" y="0"/>
                </a:moveTo>
                <a:lnTo>
                  <a:pt x="21600" y="0"/>
                </a:lnTo>
                <a:lnTo>
                  <a:pt x="21600" y="26177"/>
                </a:lnTo>
                <a:lnTo>
                  <a:pt x="0" y="26177"/>
                </a:lnTo>
                <a:close/>
              </a:path>
              <a:path fill="lightenLess" w="21600" h="261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177">
                <a:moveTo>
                  <a:pt x="21600" y="0"/>
                </a:moveTo>
                <a:lnTo>
                  <a:pt x="21600" y="26177"/>
                </a:lnTo>
                <a:lnTo>
                  <a:pt x="20200" y="24777"/>
                </a:lnTo>
                <a:lnTo>
                  <a:pt x="20200" y="1400"/>
                </a:lnTo>
                <a:close/>
              </a:path>
              <a:path fill="darkenLess" w="21600" h="26177">
                <a:moveTo>
                  <a:pt x="21600" y="26177"/>
                </a:moveTo>
                <a:lnTo>
                  <a:pt x="0" y="26177"/>
                </a:lnTo>
                <a:lnTo>
                  <a:pt x="1400" y="24777"/>
                </a:lnTo>
                <a:lnTo>
                  <a:pt x="20200" y="24777"/>
                </a:lnTo>
                <a:close/>
              </a:path>
              <a:path fill="lighten" w="21600" h="26177">
                <a:moveTo>
                  <a:pt x="0" y="261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4777"/>
                </a:lnTo>
                <a:close/>
              </a:path>
              <a:path fill="darken" w="21600" h="26177">
                <a:moveTo>
                  <a:pt x="10800" y="6126"/>
                </a:moveTo>
                <a:lnTo>
                  <a:pt x="13376" y="8737"/>
                </a:lnTo>
                <a:lnTo>
                  <a:pt x="13376" y="6996"/>
                </a:lnTo>
                <a:lnTo>
                  <a:pt x="15152" y="6996"/>
                </a:lnTo>
                <a:lnTo>
                  <a:pt x="15152" y="10512"/>
                </a:lnTo>
                <a:lnTo>
                  <a:pt x="17763" y="13089"/>
                </a:lnTo>
                <a:lnTo>
                  <a:pt x="16109" y="13089"/>
                </a:lnTo>
                <a:lnTo>
                  <a:pt x="16109" y="20278"/>
                </a:lnTo>
                <a:lnTo>
                  <a:pt x="5491" y="20278"/>
                </a:lnTo>
                <a:lnTo>
                  <a:pt x="5491" y="13089"/>
                </a:lnTo>
                <a:lnTo>
                  <a:pt x="3837" y="13089"/>
                </a:lnTo>
                <a:close/>
              </a:path>
              <a:path fill="darkenLess" w="21600" h="26177">
                <a:moveTo>
                  <a:pt x="13376" y="8737"/>
                </a:moveTo>
                <a:lnTo>
                  <a:pt x="13376" y="6996"/>
                </a:lnTo>
                <a:lnTo>
                  <a:pt x="15152" y="6996"/>
                </a:lnTo>
                <a:lnTo>
                  <a:pt x="15152" y="10512"/>
                </a:lnTo>
                <a:close/>
              </a:path>
              <a:path fill="darkenLess" w="21600" h="26177">
                <a:moveTo>
                  <a:pt x="9877" y="16588"/>
                </a:moveTo>
                <a:lnTo>
                  <a:pt x="11723" y="16588"/>
                </a:lnTo>
                <a:lnTo>
                  <a:pt x="11723" y="20278"/>
                </a:lnTo>
                <a:lnTo>
                  <a:pt x="16109" y="20278"/>
                </a:lnTo>
                <a:lnTo>
                  <a:pt x="16109" y="13089"/>
                </a:lnTo>
                <a:lnTo>
                  <a:pt x="5491" y="13089"/>
                </a:lnTo>
                <a:lnTo>
                  <a:pt x="5491" y="20278"/>
                </a:lnTo>
                <a:lnTo>
                  <a:pt x="9877" y="2027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5" descr=""/>
          <p:cNvPicPr/>
          <p:nvPr/>
        </p:nvPicPr>
        <p:blipFill>
          <a:blip r:embed="rId1"/>
          <a:stretch/>
        </p:blipFill>
        <p:spPr>
          <a:xfrm>
            <a:off x="3132000" y="3573360"/>
            <a:ext cx="2314800" cy="226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-181080" y="2637000"/>
            <a:ext cx="1594080" cy="226512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4"/>
          <p:cNvGrpSpPr/>
          <p:nvPr/>
        </p:nvGrpSpPr>
        <p:grpSpPr>
          <a:xfrm>
            <a:off x="4284720" y="3068640"/>
            <a:ext cx="1417320" cy="2066760"/>
            <a:chOff x="4284720" y="3068640"/>
            <a:chExt cx="1417320" cy="2066760"/>
          </a:xfrm>
        </p:grpSpPr>
        <p:pic>
          <p:nvPicPr>
            <p:cNvPr id="82" name="Picture 5" descr="flower26"/>
            <p:cNvPicPr/>
            <p:nvPr/>
          </p:nvPicPr>
          <p:blipFill>
            <a:blip r:embed="rId3"/>
            <a:stretch/>
          </p:blipFill>
          <p:spPr>
            <a:xfrm>
              <a:off x="4284720" y="3068640"/>
              <a:ext cx="11700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Oval 6"/>
            <p:cNvSpPr/>
            <p:nvPr/>
          </p:nvSpPr>
          <p:spPr>
            <a:xfrm>
              <a:off x="4787640" y="422100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7"/>
          <p:cNvGrpSpPr/>
          <p:nvPr/>
        </p:nvGrpSpPr>
        <p:grpSpPr>
          <a:xfrm>
            <a:off x="7164360" y="2708280"/>
            <a:ext cx="1008000" cy="1584360"/>
            <a:chOff x="7164360" y="2708280"/>
            <a:chExt cx="1008000" cy="1584360"/>
          </a:xfrm>
        </p:grpSpPr>
        <p:pic>
          <p:nvPicPr>
            <p:cNvPr id="85" name="Picture 8" descr=""/>
            <p:cNvPicPr/>
            <p:nvPr/>
          </p:nvPicPr>
          <p:blipFill>
            <a:blip r:embed="rId4"/>
            <a:stretch/>
          </p:blipFill>
          <p:spPr>
            <a:xfrm>
              <a:off x="7164360" y="3645000"/>
              <a:ext cx="10080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Oval 9"/>
            <p:cNvSpPr/>
            <p:nvPr/>
          </p:nvSpPr>
          <p:spPr>
            <a:xfrm>
              <a:off x="7236000" y="270828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0"/>
          <p:cNvGrpSpPr/>
          <p:nvPr/>
        </p:nvGrpSpPr>
        <p:grpSpPr>
          <a:xfrm>
            <a:off x="7308720" y="4365720"/>
            <a:ext cx="1403280" cy="2307960"/>
            <a:chOff x="7308720" y="4365720"/>
            <a:chExt cx="1403280" cy="2307960"/>
          </a:xfrm>
        </p:grpSpPr>
        <p:pic>
          <p:nvPicPr>
            <p:cNvPr id="88" name="Picture 11" descr="f76"/>
            <p:cNvPicPr/>
            <p:nvPr/>
          </p:nvPicPr>
          <p:blipFill>
            <a:blip r:embed="rId5"/>
            <a:stretch/>
          </p:blipFill>
          <p:spPr>
            <a:xfrm>
              <a:off x="7308720" y="5445000"/>
              <a:ext cx="94284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Oval 12"/>
            <p:cNvSpPr/>
            <p:nvPr/>
          </p:nvSpPr>
          <p:spPr>
            <a:xfrm>
              <a:off x="7797600" y="436572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Rectangle 13"/>
          <p:cNvSpPr/>
          <p:nvPr/>
        </p:nvSpPr>
        <p:spPr>
          <a:xfrm>
            <a:off x="900000" y="2133720"/>
            <a:ext cx="719280" cy="647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4212000" y="191628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крошка енот.mp3" descr=""/>
          <p:cNvPicPr/>
          <p:nvPr/>
        </p:nvPicPr>
        <p:blipFill>
          <a:blip r:embed="rId6"/>
          <a:stretch/>
        </p:blipFill>
        <p:spPr>
          <a:xfrm>
            <a:off x="7956720" y="7101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6">
            <a:hlinkClick r:id="" action="ppaction://hlinkshowjump?jump=nextslide"/>
          </p:cNvPr>
          <p:cNvSpPr/>
          <p:nvPr/>
        </p:nvSpPr>
        <p:spPr>
          <a:xfrm>
            <a:off x="0" y="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3815"/>
                </a:moveTo>
                <a:lnTo>
                  <a:pt x="17806" y="10822"/>
                </a:lnTo>
                <a:lnTo>
                  <a:pt x="3794" y="178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6732720" y="184464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05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-0.01614 0.31029 C -0.00955 0.31584 -0.00156 0.32139 0.01424 0.32555 C 0.03021 0.32971 0.04688 0.33387 0.07604 0.33665 C 0.10486 0.34081 0.15313 0.34497 0.18715 0.34752 C 0.22188 0.3489 0.23681 0.35029 0.28264 0.35168 C 0.32865 0.35307 0.41354 0.35954 0.46285 0.35954 C 0.51215 0.35723 0.55243 0.35029 0.5783 0.34497 C 0.60521 0.33942 0.61111 0.3311 0.62136 0.32555 C 0.63108 0.31861 0.63264 0.31029 0.63854 0.30613 C 0.64514 0.30058 0.6559 0.29665 0.66094 0.29665 E">
                                      <p:cBhvr>
                                        <p:cTn id="110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27144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-181080" y="2637000"/>
            <a:ext cx="1594080" cy="226512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4"/>
          <p:cNvGrpSpPr/>
          <p:nvPr/>
        </p:nvGrpSpPr>
        <p:grpSpPr>
          <a:xfrm>
            <a:off x="4284720" y="3068640"/>
            <a:ext cx="1417320" cy="2066760"/>
            <a:chOff x="4284720" y="3068640"/>
            <a:chExt cx="1417320" cy="2066760"/>
          </a:xfrm>
        </p:grpSpPr>
        <p:pic>
          <p:nvPicPr>
            <p:cNvPr id="98" name="Picture 5" descr="flower26"/>
            <p:cNvPicPr/>
            <p:nvPr/>
          </p:nvPicPr>
          <p:blipFill>
            <a:blip r:embed="rId3"/>
            <a:stretch/>
          </p:blipFill>
          <p:spPr>
            <a:xfrm>
              <a:off x="4284720" y="3068640"/>
              <a:ext cx="11700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Oval 6"/>
            <p:cNvSpPr/>
            <p:nvPr/>
          </p:nvSpPr>
          <p:spPr>
            <a:xfrm>
              <a:off x="4787640" y="422100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7164360" y="2708280"/>
            <a:ext cx="1008000" cy="1584360"/>
            <a:chOff x="7164360" y="2708280"/>
            <a:chExt cx="1008000" cy="1584360"/>
          </a:xfrm>
        </p:grpSpPr>
        <p:pic>
          <p:nvPicPr>
            <p:cNvPr id="101" name="Picture 8" descr=""/>
            <p:cNvPicPr/>
            <p:nvPr/>
          </p:nvPicPr>
          <p:blipFill>
            <a:blip r:embed="rId4"/>
            <a:stretch/>
          </p:blipFill>
          <p:spPr>
            <a:xfrm>
              <a:off x="7164360" y="3645000"/>
              <a:ext cx="10080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Oval 9"/>
            <p:cNvSpPr/>
            <p:nvPr/>
          </p:nvSpPr>
          <p:spPr>
            <a:xfrm>
              <a:off x="7236000" y="270828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0"/>
          <p:cNvGrpSpPr/>
          <p:nvPr/>
        </p:nvGrpSpPr>
        <p:grpSpPr>
          <a:xfrm>
            <a:off x="7308720" y="4365720"/>
            <a:ext cx="1403280" cy="2307960"/>
            <a:chOff x="7308720" y="4365720"/>
            <a:chExt cx="1403280" cy="2307960"/>
          </a:xfrm>
        </p:grpSpPr>
        <p:pic>
          <p:nvPicPr>
            <p:cNvPr id="104" name="Picture 11" descr="f76"/>
            <p:cNvPicPr/>
            <p:nvPr/>
          </p:nvPicPr>
          <p:blipFill>
            <a:blip r:embed="rId5"/>
            <a:stretch/>
          </p:blipFill>
          <p:spPr>
            <a:xfrm>
              <a:off x="7308720" y="5445000"/>
              <a:ext cx="94284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Oval 12"/>
            <p:cNvSpPr/>
            <p:nvPr/>
          </p:nvSpPr>
          <p:spPr>
            <a:xfrm>
              <a:off x="7797600" y="436572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Rectangle 13"/>
          <p:cNvSpPr/>
          <p:nvPr/>
        </p:nvSpPr>
        <p:spPr>
          <a:xfrm>
            <a:off x="900000" y="2133720"/>
            <a:ext cx="719280" cy="647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 -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5293080" y="587700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крошка енот.mp3" descr=""/>
          <p:cNvPicPr/>
          <p:nvPr/>
        </p:nvPicPr>
        <p:blipFill>
          <a:blip r:embed="rId6"/>
          <a:stretch/>
        </p:blipFill>
        <p:spPr>
          <a:xfrm>
            <a:off x="7956720" y="7101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16">
            <a:hlinkClick r:id="" action="ppaction://hlinkshowjump?jump=nextslide"/>
          </p:cNvPr>
          <p:cNvSpPr/>
          <p:nvPr/>
        </p:nvSpPr>
        <p:spPr>
          <a:xfrm>
            <a:off x="0" y="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3815"/>
                </a:moveTo>
                <a:lnTo>
                  <a:pt x="17806" y="10822"/>
                </a:lnTo>
                <a:lnTo>
                  <a:pt x="3794" y="178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6732720" y="184464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30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27144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" nodeType="with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-0.06736 0.14682 C -0.06354 0.15422 -0.0592 0.16162 -0.05 0.16717 C -0.04045 0.17272 -0.03073 0.17827 -0.01389 0.18197 C 0.00278 0.18752 0.0309 0.19307 0.0507 0.19653 C 0.07083 0.19838 0.07952 0.20023 0.10608 0.20208 C 0.13281 0.20393 0.18212 0.21272 0.21094 0.21272 C 0.23958 0.20948 0.26302 0.20023 0.27795 0.19307 C 0.29375 0.18567 0.29722 0.17457 0.30313 0.16717 C 0.30886 0.15792 0.30972 0.14682 0.3132 0.14127 C 0.31702 0.13387 0.32327 0.12879 0.32622 0.12879 E">
                                      <p:cBhvr>
                                        <p:cTn id="137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-181080" y="2637000"/>
            <a:ext cx="1594080" cy="226512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4"/>
          <p:cNvGrpSpPr/>
          <p:nvPr/>
        </p:nvGrpSpPr>
        <p:grpSpPr>
          <a:xfrm>
            <a:off x="4284720" y="3068640"/>
            <a:ext cx="1417320" cy="2066760"/>
            <a:chOff x="4284720" y="3068640"/>
            <a:chExt cx="1417320" cy="2066760"/>
          </a:xfrm>
        </p:grpSpPr>
        <p:pic>
          <p:nvPicPr>
            <p:cNvPr id="114" name="Picture 5" descr="flower26"/>
            <p:cNvPicPr/>
            <p:nvPr/>
          </p:nvPicPr>
          <p:blipFill>
            <a:blip r:embed="rId3"/>
            <a:stretch/>
          </p:blipFill>
          <p:spPr>
            <a:xfrm>
              <a:off x="4284720" y="3068640"/>
              <a:ext cx="11700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Oval 6"/>
            <p:cNvSpPr/>
            <p:nvPr/>
          </p:nvSpPr>
          <p:spPr>
            <a:xfrm>
              <a:off x="4787640" y="422100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7"/>
          <p:cNvGrpSpPr/>
          <p:nvPr/>
        </p:nvGrpSpPr>
        <p:grpSpPr>
          <a:xfrm>
            <a:off x="7164360" y="2708280"/>
            <a:ext cx="1008000" cy="1584360"/>
            <a:chOff x="7164360" y="2708280"/>
            <a:chExt cx="1008000" cy="1584360"/>
          </a:xfrm>
        </p:grpSpPr>
        <p:pic>
          <p:nvPicPr>
            <p:cNvPr id="117" name="Picture 8" descr=""/>
            <p:cNvPicPr/>
            <p:nvPr/>
          </p:nvPicPr>
          <p:blipFill>
            <a:blip r:embed="rId4"/>
            <a:stretch/>
          </p:blipFill>
          <p:spPr>
            <a:xfrm>
              <a:off x="7164360" y="3645000"/>
              <a:ext cx="10080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Oval 9"/>
            <p:cNvSpPr/>
            <p:nvPr/>
          </p:nvSpPr>
          <p:spPr>
            <a:xfrm>
              <a:off x="7236000" y="270828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10"/>
          <p:cNvGrpSpPr/>
          <p:nvPr/>
        </p:nvGrpSpPr>
        <p:grpSpPr>
          <a:xfrm>
            <a:off x="7308720" y="4365720"/>
            <a:ext cx="1403280" cy="2307960"/>
            <a:chOff x="7308720" y="4365720"/>
            <a:chExt cx="1403280" cy="2307960"/>
          </a:xfrm>
        </p:grpSpPr>
        <p:pic>
          <p:nvPicPr>
            <p:cNvPr id="120" name="Picture 11" descr="f76"/>
            <p:cNvPicPr/>
            <p:nvPr/>
          </p:nvPicPr>
          <p:blipFill>
            <a:blip r:embed="rId5"/>
            <a:stretch/>
          </p:blipFill>
          <p:spPr>
            <a:xfrm>
              <a:off x="7308720" y="5445000"/>
              <a:ext cx="94284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Oval 12"/>
            <p:cNvSpPr/>
            <p:nvPr/>
          </p:nvSpPr>
          <p:spPr>
            <a:xfrm>
              <a:off x="7797600" y="436572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3"/>
          <p:cNvSpPr/>
          <p:nvPr/>
        </p:nvSpPr>
        <p:spPr>
          <a:xfrm>
            <a:off x="900000" y="2133720"/>
            <a:ext cx="719280" cy="647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4212000" y="191628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крошка енот.mp3" descr=""/>
          <p:cNvPicPr/>
          <p:nvPr/>
        </p:nvPicPr>
        <p:blipFill>
          <a:blip r:embed="rId6"/>
          <a:stretch/>
        </p:blipFill>
        <p:spPr>
          <a:xfrm>
            <a:off x="7956720" y="7101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6">
            <a:hlinkClick r:id="" action="ppaction://hlinkshowjump?jump=nextslide"/>
          </p:cNvPr>
          <p:cNvSpPr/>
          <p:nvPr/>
        </p:nvSpPr>
        <p:spPr>
          <a:xfrm>
            <a:off x="0" y="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3815"/>
                </a:moveTo>
                <a:lnTo>
                  <a:pt x="17806" y="10822"/>
                </a:lnTo>
                <a:lnTo>
                  <a:pt x="3794" y="178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6732720" y="184464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55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68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81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-0.01614 0.31029 C -0.00955 0.31584 -0.00156 0.32139 0.01424 0.32555 C 0.03021 0.32971 0.04688 0.33387 0.07604 0.33665 C 0.10486 0.34081 0.15313 0.34497 0.18715 0.34752 C 0.22188 0.3489 0.23681 0.35029 0.28264 0.35168 C 0.32865 0.35307 0.41354 0.35954 0.46285 0.35954 C 0.51215 0.35723 0.55243 0.35029 0.5783 0.34497 C 0.60521 0.33942 0.61111 0.3311 0.62136 0.32555 C 0.63108 0.31861 0.63264 0.31029 0.63854 0.30613 C 0.64514 0.30058 0.6559 0.29665 0.66094 0.29665 E">
                                      <p:cBhvr>
                                        <p:cTn id="18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127144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-181080" y="2637000"/>
            <a:ext cx="1594080" cy="226512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4"/>
          <p:cNvGrpSpPr/>
          <p:nvPr/>
        </p:nvGrpSpPr>
        <p:grpSpPr>
          <a:xfrm>
            <a:off x="4284720" y="3068640"/>
            <a:ext cx="1417320" cy="2066760"/>
            <a:chOff x="4284720" y="3068640"/>
            <a:chExt cx="1417320" cy="2066760"/>
          </a:xfrm>
        </p:grpSpPr>
        <p:pic>
          <p:nvPicPr>
            <p:cNvPr id="130" name="Picture 5" descr="flower26"/>
            <p:cNvPicPr/>
            <p:nvPr/>
          </p:nvPicPr>
          <p:blipFill>
            <a:blip r:embed="rId3"/>
            <a:stretch/>
          </p:blipFill>
          <p:spPr>
            <a:xfrm>
              <a:off x="4284720" y="3068640"/>
              <a:ext cx="11700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Oval 6"/>
            <p:cNvSpPr/>
            <p:nvPr/>
          </p:nvSpPr>
          <p:spPr>
            <a:xfrm>
              <a:off x="4787640" y="422100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7"/>
          <p:cNvGrpSpPr/>
          <p:nvPr/>
        </p:nvGrpSpPr>
        <p:grpSpPr>
          <a:xfrm>
            <a:off x="7164360" y="2708280"/>
            <a:ext cx="1008000" cy="1584360"/>
            <a:chOff x="7164360" y="2708280"/>
            <a:chExt cx="1008000" cy="1584360"/>
          </a:xfrm>
        </p:grpSpPr>
        <p:pic>
          <p:nvPicPr>
            <p:cNvPr id="133" name="Picture 8" descr=""/>
            <p:cNvPicPr/>
            <p:nvPr/>
          </p:nvPicPr>
          <p:blipFill>
            <a:blip r:embed="rId4"/>
            <a:stretch/>
          </p:blipFill>
          <p:spPr>
            <a:xfrm>
              <a:off x="7164360" y="3645000"/>
              <a:ext cx="10080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Oval 9"/>
            <p:cNvSpPr/>
            <p:nvPr/>
          </p:nvSpPr>
          <p:spPr>
            <a:xfrm>
              <a:off x="7236000" y="270828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10"/>
          <p:cNvGrpSpPr/>
          <p:nvPr/>
        </p:nvGrpSpPr>
        <p:grpSpPr>
          <a:xfrm>
            <a:off x="7308720" y="4365720"/>
            <a:ext cx="1403280" cy="2307960"/>
            <a:chOff x="7308720" y="4365720"/>
            <a:chExt cx="1403280" cy="2307960"/>
          </a:xfrm>
        </p:grpSpPr>
        <p:pic>
          <p:nvPicPr>
            <p:cNvPr id="136" name="Picture 11" descr="f76"/>
            <p:cNvPicPr/>
            <p:nvPr/>
          </p:nvPicPr>
          <p:blipFill>
            <a:blip r:embed="rId5"/>
            <a:stretch/>
          </p:blipFill>
          <p:spPr>
            <a:xfrm>
              <a:off x="7308720" y="5445000"/>
              <a:ext cx="94284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Oval 12"/>
            <p:cNvSpPr/>
            <p:nvPr/>
          </p:nvSpPr>
          <p:spPr>
            <a:xfrm>
              <a:off x="7797600" y="436572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tangle 13"/>
          <p:cNvSpPr/>
          <p:nvPr/>
        </p:nvSpPr>
        <p:spPr>
          <a:xfrm>
            <a:off x="900000" y="2133720"/>
            <a:ext cx="719280" cy="647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5293080" y="587700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крошка енот.mp3" descr=""/>
          <p:cNvPicPr/>
          <p:nvPr/>
        </p:nvPicPr>
        <p:blipFill>
          <a:blip r:embed="rId6"/>
          <a:stretch/>
        </p:blipFill>
        <p:spPr>
          <a:xfrm>
            <a:off x="7956720" y="7101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16">
            <a:hlinkClick r:id="" action="ppaction://hlinkshowjump?jump=nextslide"/>
          </p:cNvPr>
          <p:cNvSpPr/>
          <p:nvPr/>
        </p:nvSpPr>
        <p:spPr>
          <a:xfrm>
            <a:off x="0" y="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3815"/>
                </a:moveTo>
                <a:lnTo>
                  <a:pt x="17806" y="10822"/>
                </a:lnTo>
                <a:lnTo>
                  <a:pt x="3794" y="178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2700720" y="220500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93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27144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-0.06736 0.15468 C -0.06076 0.17411 -0.0526 0.19353 -0.03559 0.20809 C -0.01858 0.22266 -0.00069 0.23723 0.03038 0.24694 C 0.06077 0.2615 0.11233 0.27607 0.14844 0.28532 C 0.18559 0.29018 0.20122 0.29503 0.24983 0.29989 C 0.29879 0.30474 0.38924 0.32809 0.44184 0.32809 C 0.49445 0.31931 0.53733 0.29503 0.56458 0.27607 C 0.59323 0.25665 0.59983 0.22752 0.61059 0.20809 C 0.62101 0.18382 0.62257 0.15468 0.62899 0.14012 C 0.63611 0.1207 0.64757 0.10775 0.65313 0.10775 E">
                                      <p:cBhvr>
                                        <p:cTn id="200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04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17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-181080" y="2637000"/>
            <a:ext cx="1594080" cy="226512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4"/>
          <p:cNvGrpSpPr/>
          <p:nvPr/>
        </p:nvGrpSpPr>
        <p:grpSpPr>
          <a:xfrm>
            <a:off x="4284720" y="3068640"/>
            <a:ext cx="1417320" cy="2066760"/>
            <a:chOff x="4284720" y="3068640"/>
            <a:chExt cx="1417320" cy="2066760"/>
          </a:xfrm>
        </p:grpSpPr>
        <p:pic>
          <p:nvPicPr>
            <p:cNvPr id="146" name="Picture 5" descr="flower26"/>
            <p:cNvPicPr/>
            <p:nvPr/>
          </p:nvPicPr>
          <p:blipFill>
            <a:blip r:embed="rId3"/>
            <a:stretch/>
          </p:blipFill>
          <p:spPr>
            <a:xfrm>
              <a:off x="4284720" y="3068640"/>
              <a:ext cx="11700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Oval 6"/>
            <p:cNvSpPr/>
            <p:nvPr/>
          </p:nvSpPr>
          <p:spPr>
            <a:xfrm>
              <a:off x="4787640" y="422100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7"/>
          <p:cNvGrpSpPr/>
          <p:nvPr/>
        </p:nvGrpSpPr>
        <p:grpSpPr>
          <a:xfrm>
            <a:off x="7164360" y="2708280"/>
            <a:ext cx="1008000" cy="1584360"/>
            <a:chOff x="7164360" y="2708280"/>
            <a:chExt cx="1008000" cy="1584360"/>
          </a:xfrm>
        </p:grpSpPr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164360" y="3645000"/>
              <a:ext cx="10080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Oval 9"/>
            <p:cNvSpPr/>
            <p:nvPr/>
          </p:nvSpPr>
          <p:spPr>
            <a:xfrm>
              <a:off x="7236000" y="270828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10"/>
          <p:cNvGrpSpPr/>
          <p:nvPr/>
        </p:nvGrpSpPr>
        <p:grpSpPr>
          <a:xfrm>
            <a:off x="7308720" y="4365720"/>
            <a:ext cx="1403280" cy="2307960"/>
            <a:chOff x="7308720" y="4365720"/>
            <a:chExt cx="1403280" cy="2307960"/>
          </a:xfrm>
        </p:grpSpPr>
        <p:pic>
          <p:nvPicPr>
            <p:cNvPr id="152" name="Picture 11" descr="f76"/>
            <p:cNvPicPr/>
            <p:nvPr/>
          </p:nvPicPr>
          <p:blipFill>
            <a:blip r:embed="rId5"/>
            <a:stretch/>
          </p:blipFill>
          <p:spPr>
            <a:xfrm>
              <a:off x="7308720" y="5445000"/>
              <a:ext cx="94284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Oval 12"/>
            <p:cNvSpPr/>
            <p:nvPr/>
          </p:nvSpPr>
          <p:spPr>
            <a:xfrm>
              <a:off x="7797600" y="436572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13"/>
          <p:cNvSpPr/>
          <p:nvPr/>
        </p:nvSpPr>
        <p:spPr>
          <a:xfrm>
            <a:off x="900000" y="2133720"/>
            <a:ext cx="863640" cy="5745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5293080" y="587700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крошка енот.mp3" descr=""/>
          <p:cNvPicPr/>
          <p:nvPr/>
        </p:nvPicPr>
        <p:blipFill>
          <a:blip r:embed="rId6"/>
          <a:stretch/>
        </p:blipFill>
        <p:spPr>
          <a:xfrm>
            <a:off x="7956720" y="7101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16">
            <a:hlinkClick r:id="" action="ppaction://hlinkshowjump?jump=nextslide"/>
          </p:cNvPr>
          <p:cNvSpPr/>
          <p:nvPr/>
        </p:nvSpPr>
        <p:spPr>
          <a:xfrm>
            <a:off x="0" y="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3815"/>
                </a:moveTo>
                <a:lnTo>
                  <a:pt x="17806" y="10822"/>
                </a:lnTo>
                <a:lnTo>
                  <a:pt x="3794" y="178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6732720" y="184464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31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44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127144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-0.06736 0.14682 C -0.06354 0.15422 -0.0592 0.16162 -0.05 0.16717 C -0.04045 0.17272 -0.03073 0.17827 -0.01389 0.18197 C 0.00278 0.18752 0.0309 0.19307 0.0507 0.19653 C 0.07083 0.19838 0.07952 0.20023 0.10608 0.20208 C 0.13281 0.20393 0.18212 0.21272 0.21094 0.21272 C 0.23958 0.20948 0.26302 0.20023 0.27795 0.19307 C 0.29375 0.18567 0.29722 0.17457 0.30313 0.16717 C 0.30886 0.15792 0.30972 0.14682 0.3132 0.14127 C 0.31702 0.13387 0.32327 0.12879 0.32622 0.12879 E">
                                      <p:cBhvr>
                                        <p:cTn id="251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55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-181080" y="2637000"/>
            <a:ext cx="1594080" cy="226512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4"/>
          <p:cNvGrpSpPr/>
          <p:nvPr/>
        </p:nvGrpSpPr>
        <p:grpSpPr>
          <a:xfrm>
            <a:off x="4284720" y="3068640"/>
            <a:ext cx="1417320" cy="2066760"/>
            <a:chOff x="4284720" y="3068640"/>
            <a:chExt cx="1417320" cy="2066760"/>
          </a:xfrm>
        </p:grpSpPr>
        <p:pic>
          <p:nvPicPr>
            <p:cNvPr id="162" name="Picture 5" descr="flower26"/>
            <p:cNvPicPr/>
            <p:nvPr/>
          </p:nvPicPr>
          <p:blipFill>
            <a:blip r:embed="rId3"/>
            <a:stretch/>
          </p:blipFill>
          <p:spPr>
            <a:xfrm>
              <a:off x="4284720" y="3068640"/>
              <a:ext cx="11700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Oval 6"/>
            <p:cNvSpPr/>
            <p:nvPr/>
          </p:nvSpPr>
          <p:spPr>
            <a:xfrm>
              <a:off x="4787640" y="422100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7"/>
          <p:cNvGrpSpPr/>
          <p:nvPr/>
        </p:nvGrpSpPr>
        <p:grpSpPr>
          <a:xfrm>
            <a:off x="7164360" y="2708280"/>
            <a:ext cx="1008000" cy="1584360"/>
            <a:chOff x="7164360" y="2708280"/>
            <a:chExt cx="1008000" cy="1584360"/>
          </a:xfrm>
        </p:grpSpPr>
        <p:pic>
          <p:nvPicPr>
            <p:cNvPr id="165" name="Picture 8" descr=""/>
            <p:cNvPicPr/>
            <p:nvPr/>
          </p:nvPicPr>
          <p:blipFill>
            <a:blip r:embed="rId4"/>
            <a:stretch/>
          </p:blipFill>
          <p:spPr>
            <a:xfrm>
              <a:off x="7164360" y="3645000"/>
              <a:ext cx="10080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Oval 9"/>
            <p:cNvSpPr/>
            <p:nvPr/>
          </p:nvSpPr>
          <p:spPr>
            <a:xfrm>
              <a:off x="7236000" y="270828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0"/>
          <p:cNvGrpSpPr/>
          <p:nvPr/>
        </p:nvGrpSpPr>
        <p:grpSpPr>
          <a:xfrm>
            <a:off x="7308720" y="4365720"/>
            <a:ext cx="1403280" cy="2307960"/>
            <a:chOff x="7308720" y="4365720"/>
            <a:chExt cx="1403280" cy="2307960"/>
          </a:xfrm>
        </p:grpSpPr>
        <p:pic>
          <p:nvPicPr>
            <p:cNvPr id="168" name="Picture 11" descr="f76"/>
            <p:cNvPicPr/>
            <p:nvPr/>
          </p:nvPicPr>
          <p:blipFill>
            <a:blip r:embed="rId5"/>
            <a:stretch/>
          </p:blipFill>
          <p:spPr>
            <a:xfrm>
              <a:off x="7308720" y="5445000"/>
              <a:ext cx="94284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Oval 12"/>
            <p:cNvSpPr/>
            <p:nvPr/>
          </p:nvSpPr>
          <p:spPr>
            <a:xfrm>
              <a:off x="7797600" y="4365720"/>
              <a:ext cx="914400" cy="9144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13"/>
          <p:cNvSpPr/>
          <p:nvPr/>
        </p:nvSpPr>
        <p:spPr>
          <a:xfrm>
            <a:off x="900000" y="2133720"/>
            <a:ext cx="719280" cy="647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 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2124360" y="227664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крошка енот.mp3" descr=""/>
          <p:cNvPicPr/>
          <p:nvPr/>
        </p:nvPicPr>
        <p:blipFill>
          <a:blip r:embed="rId6"/>
          <a:stretch/>
        </p:blipFill>
        <p:spPr>
          <a:xfrm>
            <a:off x="7956720" y="7101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16">
            <a:hlinkClick r:id="" action="ppaction://hlinkshowjump?jump=nextslide"/>
          </p:cNvPr>
          <p:cNvSpPr/>
          <p:nvPr/>
        </p:nvSpPr>
        <p:spPr>
          <a:xfrm>
            <a:off x="0" y="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3815"/>
                </a:moveTo>
                <a:lnTo>
                  <a:pt x="17806" y="10822"/>
                </a:lnTo>
                <a:lnTo>
                  <a:pt x="3794" y="178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6732720" y="184464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82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95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0" dur="127144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1" nodeType="with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-0.02413 0.35422 C -0.01823 0.3607 -0.01111 0.36856 0.00469 0.37341 C 0.02066 0.37827 0.03698 0.38312 0.06528 0.38636 C 0.09306 0.39098 0.14028 0.39584 0.17379 0.39908 C 0.20764 0.40046 0.2224 0.40208 0.26702 0.4037 C 0.31181 0.40532 0.39462 0.41202 0.4434 0.41202 C 0.49115 0.41018 0.53073 0.40208 0.5559 0.39584 C 0.58247 0.38937 0.5882 0.37989 0.59809 0.37341 C 0.60781 0.36532 0.6092 0.35422 0.61511 0.3496 C 0.62136 0.34312 0.63177 0.3385 0.63733 0.3385 E">
                                      <p:cBhvr>
                                        <p:cTn id="302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06:55:16Z</dcterms:created>
  <dc:creator>Admin</dc:creator>
  <dc:description/>
  <dc:language>en-US</dc:language>
  <cp:lastModifiedBy>1</cp:lastModifiedBy>
  <dcterms:modified xsi:type="dcterms:W3CDTF">2020-01-07T15:20:56Z</dcterms:modified>
  <cp:revision>9</cp:revision>
  <dc:subject/>
  <dc:title>Слайд 1</dc:title>
</cp:coreProperties>
</file>